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E597-8D00-4CFF-8D79-FADF518705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8BA7-96AD-4F46-85C3-C6D1A9964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5D56-1174-43F1-AEBD-C0D00CCBD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19D5-64AF-4DA4-9BF1-B1E859107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FE15-AD73-4A87-8797-BE72614AB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F4B0-80AF-4CB9-8823-C91CF1FDE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738B-423D-4429-8CAE-D614D23EA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8A04-8F3B-45BA-8A3C-44F3F2C3B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B360-E3A0-4607-9042-B06DE104B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2A67-2A0B-4446-B0E7-B2576BBD4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96C2-3E48-4F4D-BC2B-5DB9E0678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ABC7-FFA4-4F90-A2F8-8D15C02DD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HC Iowa Report c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F892-0A78-4A0D-92D2-A9D499440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399A-A00A-4FF8-B335-6115E5E70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“look” of AHRQ QI hospital-level table in Iowa Re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bols – no confidence interv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gregate multiple years of SID data to address “small n”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of comparison rates – Iowa, National from N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ing – engage hospitals in allowing them to comment on their performance/QI effo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8E0A-C33F-4F11-9B66-A3D16852E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5756-E2ED-42A0-9EB7-327FD009A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2228-D8FF-42AA-B5A8-417BA4AC5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A1B8-5FC0-4989-B9B5-640A4CB26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23C7-581F-4453-83A2-B383C176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A4FB-C9FC-4978-A19C-E27F864B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368B-2B8E-49E6-A3F1-1AB54AF2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CD7-785B-4A67-857E-5DD10D5F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6F5-FF0C-486F-AFDB-397A4266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633-7C24-4264-9D07-2D052541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D4B5-A97B-44CF-9E12-16E83416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B1F-D349-45DE-AADF-0891FFFE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1AD-AD77-4E97-8063-A71B7B07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FDE-6A50-485E-AD1B-581BEE02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70C-0F00-407F-A0F1-0C34C246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E8F-2387-43E7-BADB-24FC55B0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5EAC-56DE-4D27-9315-1F33E893A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2743200" y="1986120"/>
            <a:ext cx="7226280" cy="4871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IHC_Logo.jpg                                                   001BB7C9&#10;EA Art Volume                  BC5FC56E:"/>
          <p:cNvPicPr/>
          <p:nvPr/>
        </p:nvPicPr>
        <p:blipFill>
          <a:blip r:embed="rId2"/>
          <a:stretch/>
        </p:blipFill>
        <p:spPr>
          <a:xfrm>
            <a:off x="609480" y="0"/>
            <a:ext cx="7010640" cy="2971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52640" y="3809880"/>
            <a:ext cx="5181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owa Healthcare Collaborativ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Past, Present, and Future Use of AHRQ Quality Indicators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ance Robert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9 AHRQ Annual Conferenc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eptember 24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05320" y="6019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0 E. Grand Ave., Ste. 360 • Des Moines, IA 50309-1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ffice: 515.283.9330 • Fax: 515.698.51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http://www.ihconlie.org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-1440" y="380880"/>
            <a:ext cx="9145440" cy="1411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7"/>
          <p:cNvSpPr/>
          <p:nvPr/>
        </p:nvSpPr>
        <p:spPr>
          <a:xfrm>
            <a:off x="4114800" y="-1143000"/>
            <a:ext cx="479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llaborative Quality Improvement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llaborative Quality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vement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Stake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ergency Care – Aortic Aneurysm/Dis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olog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tion to media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in comparative private/public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-1440" y="380880"/>
            <a:ext cx="9145440" cy="141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performance meter with arrow pointing to very weak"/>
          <p:cNvPicPr/>
          <p:nvPr/>
        </p:nvPicPr>
        <p:blipFill>
          <a:blip r:embed="rId2"/>
          <a:stretch/>
        </p:blipFill>
        <p:spPr>
          <a:xfrm>
            <a:off x="5948280" y="5024520"/>
            <a:ext cx="3124440" cy="1739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Does Future Look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HRQ’s Tools that May Assist Collaboratives / St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sumer Reporting Tools - MONAHR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ilot - Adding clinical data to administrativ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R – PSIs, PQ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iciency measures (potentially all-payer readmiss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lth P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dicaid Home and Community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sed Services</a:t>
            </a:r>
            <a:r>
              <a:rPr b="0" lang="en-US" sz="1200" spc="-1" strike="noStrike">
                <a:solidFill>
                  <a:srgbClr val="f2f2f2"/>
                </a:solidFill>
                <a:latin typeface="Arial"/>
                <a:ea typeface="Arial"/>
              </a:rPr>
              <a:t>2007 State Snapshots: Methods. Derived from </a:t>
            </a:r>
            <a:r>
              <a:rPr b="0" i="1" lang="en-US" sz="1200" spc="-1" strike="noStrike">
                <a:solidFill>
                  <a:srgbClr val="f2f2f2"/>
                </a:solidFill>
                <a:latin typeface="Arial"/>
                <a:ea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2f2f2"/>
                </a:solidFill>
                <a:latin typeface="Arial"/>
                <a:ea typeface="Arial"/>
              </a:rPr>
              <a:t>National Healthcare Quality Report</a:t>
            </a:r>
            <a:r>
              <a:rPr b="0" lang="en-US" sz="1200" spc="-1" strike="noStrike">
                <a:solidFill>
                  <a:srgbClr val="f2f2f2"/>
                </a:solidFill>
                <a:latin typeface="Arial"/>
                <a:ea typeface="Arial"/>
              </a:rPr>
              <a:t>. March 2008. Rockville, MD: 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Arial"/>
                <a:ea typeface="Arial"/>
              </a:rPr>
              <a:t>for Healthcare Research and Quality. http://statesnapshots.ahrq.gov/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-1440" y="380880"/>
            <a:ext cx="9145440" cy="1411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Does Future Look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 – “Business Case” and “Value” of collaborative QI eff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6160" indent="-3326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ing with AHRQ researchers and tools - Iowa SID, NIS, HCUP Cost-to-Charge Ratio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680" indent="-3326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ing Software – match patients with adverse event to similar patients with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3200" indent="-3326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adverse events associated to excess …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06720" indent="-3326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? From 2004 to 2007 – Avoided approx.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929 d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06720" indent="-3326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tality ?  Avoided Approx.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0 – 16 dea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06720" indent="-3326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ges ?  Avoided Approx.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$3.9 m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06720" indent="-3326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st ?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06720" indent="-33264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any events are Present on Admission (POA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-1440" y="380880"/>
            <a:ext cx="9145440" cy="1411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HRQ Support / Tools W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RQ QI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4080" indent="-3358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efficient mode to receive help on use of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2280" indent="-3358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 – PSI 3 - Decubitus Ulc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2280" indent="-3358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RQ Quality Indicator Learning Institute (QI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4080" indent="-3358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effective collaborative for AHRQ QI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2280" indent="-3358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fected our Data Committee 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80120" indent="-3358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ring, NQF-endorsement, Coding issues,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2280" indent="-3358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d information in reports to Iowa legisl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-1440" y="380880"/>
            <a:ext cx="9145440" cy="1411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Else Can AHRQ Hel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care-Associated Infections – gaining a lot of att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-Diff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840" indent="-29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owa trend is similar to National t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840" indent="-29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tential 2008 attributable cost savings if Iowa C-Di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d by 10%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$1.5 - $2.2 Mill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4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Arial"/>
              </a:rPr>
              <a:t>Iowa IP’s – use SID/NIS if possibl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4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4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Arial"/>
              </a:rPr>
              <a:t>Research will help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0040" indent="-291600">
              <a:lnSpc>
                <a:spcPct val="100000"/>
              </a:lnSpc>
              <a:spcBef>
                <a:spcPts val="499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Arial"/>
              </a:rPr>
              <a:t>Iowa Statewide HAI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sts based on CDC Repor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cott, DR (CDC), </a:t>
            </a:r>
            <a:r>
              <a:rPr b="0" i="1" lang="en-US" sz="1000" spc="-1" strike="noStrike" u="sng">
                <a:solidFill>
                  <a:srgbClr val="ffffff"/>
                </a:solidFill>
                <a:uFillTx/>
                <a:latin typeface="Times New Roman"/>
              </a:rPr>
              <a:t>The Direct Medical Costs of Hais in US Hospitalls and the Benefits of Prevention. http://www.cdc.gov/ncidod/dhqp/pdf/Scott_CostPaper.pd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-1440" y="380880"/>
            <a:ext cx="9145440" cy="14115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Else Can AHRQ Hel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AHRQ Support Line may be reduced if documentation is impro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AHRQ Q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equipping users for responsible public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ight/integrate other supportive tools – HCUP software, statistical briefs, State Snapshots, AHRQ HAI web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9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" descr=""/>
          <p:cNvPicPr/>
          <p:nvPr/>
        </p:nvPicPr>
        <p:blipFill>
          <a:blip r:embed="rId1"/>
          <a:stretch/>
        </p:blipFill>
        <p:spPr>
          <a:xfrm>
            <a:off x="1917720" y="1986120"/>
            <a:ext cx="7226280" cy="4871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3" descr="IHC_Logo.jpg                                                   001BB7C9&#10;EA Art Volume                  BC5FC56E:"/>
          <p:cNvPicPr/>
          <p:nvPr/>
        </p:nvPicPr>
        <p:blipFill>
          <a:blip r:embed="rId2"/>
          <a:stretch/>
        </p:blipFill>
        <p:spPr>
          <a:xfrm>
            <a:off x="533520" y="0"/>
            <a:ext cx="7162560" cy="3276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990720" y="378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276720" y="5943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0 E. Grand Ave., Ste. 360 • Des Moines, IA 50309-1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ffice: 515.283.9330 • Fax: 515.698.51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http://www.ihconlie.org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-1440" y="380880"/>
            <a:ext cx="9145440" cy="1411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owa Hospital Association (hospitals) and the Iowa Medical Society (doctors) form IH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ners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44784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mote Responsible Public Reporting – “Iowa Repor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6720" indent="-22068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pportive State Policy – IHA collects data, IHC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447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gn and Equip Providers on Quality an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447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age the Community for Clinical 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447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se the Standard of 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st – Historical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0" y="343080"/>
            <a:ext cx="9145440" cy="1411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blic Reporting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ible Public Reporting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age stakeholders – Data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13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ce to measure and report - (STEEEP), variation, or overall poor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13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tific acceptability of measure proper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17040" indent="-213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QF – endor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17040" indent="-21384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HRQ Ti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13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bility – understandable, useful for decision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13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asibility – data are readily available, low bu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-1440" y="380880"/>
            <a:ext cx="9145440" cy="1411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IHC Annual Report 2008"/>
          <p:cNvPicPr/>
          <p:nvPr/>
        </p:nvPicPr>
        <p:blipFill>
          <a:blip r:embed="rId2"/>
          <a:stretch/>
        </p:blipFill>
        <p:spPr>
          <a:xfrm>
            <a:off x="6167520" y="3048120"/>
            <a:ext cx="2819160" cy="36939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storical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005 Iowa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AHRQ QIs – aggregate Iowa performance compared to US, Midwest, Low/High US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008 Iowa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 Hospital-level and 18 aggregate Q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0" y="73080"/>
            <a:ext cx="9145440" cy="1371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228600" y="1600200"/>
            <a:ext cx="8686800" cy="3200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ovider-focused Public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Calibri"/>
              </a:rPr>
              <a:t>Clinical Category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Calibri"/>
              </a:rPr>
              <a:t> Measure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ardiovascular Conditions – Heart Attac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ardiovascular Conditions – Heart Fail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ardiovascular Conditions – Strok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neumonia Cond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ip Frac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edical and Surgical – Patient Safe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ostoperative C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revention of Blood Clo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revention of Healthcare-Associated Infe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tiliz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Obstetric / Neonatal C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ediatric – Patient Safe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atient Experience in Hospital – HCAHPS Surv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5029200"/>
            <a:ext cx="1981080" cy="628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ovider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Privat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HRQ Quality Indic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990720" y="5867280"/>
            <a:ext cx="723888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Data / Research 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HRQ   CMS   Primary 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Data Sources: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CUP - Nationwide Inpatient Sample (NIS), Iowa State Inpatient Databases (SI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MS Hospital Compare – Hospital Quality Initi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owa Healthcare Collaborative - Primary Data Collection: Healthcare-Associated Infection (HAI) Preven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AutoShape 6"/>
          <p:cNvCxnSpPr/>
          <p:nvPr/>
        </p:nvCxnSpPr>
        <p:spPr>
          <a:xfrm flipH="1" flipV="1">
            <a:off x="3428280" y="4800240"/>
            <a:ext cx="11880" cy="52920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triangle" w="med"/>
          </a:ln>
        </p:spPr>
      </p:cxnSp>
      <p:cxnSp>
        <p:nvCxnSpPr>
          <p:cNvPr id="72" name="AutoShape 7"/>
          <p:cNvCxnSpPr/>
          <p:nvPr/>
        </p:nvCxnSpPr>
        <p:spPr>
          <a:xfrm flipH="1" flipV="1">
            <a:off x="4800240" y="4800240"/>
            <a:ext cx="23040" cy="5515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triangle" w="med"/>
          </a:ln>
        </p:spPr>
      </p:cxnSp>
      <p:cxnSp>
        <p:nvCxnSpPr>
          <p:cNvPr id="73" name="AutoShape 8"/>
          <p:cNvCxnSpPr/>
          <p:nvPr/>
        </p:nvCxnSpPr>
        <p:spPr>
          <a:xfrm flipV="1">
            <a:off x="6165720" y="4800240"/>
            <a:ext cx="7200" cy="5515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triangle" w="med"/>
          </a:ln>
        </p:spPr>
      </p:cxnSp>
      <p:sp>
        <p:nvSpPr>
          <p:cNvPr id="74" name="Text Box 9"/>
          <p:cNvSpPr/>
          <p:nvPr/>
        </p:nvSpPr>
        <p:spPr>
          <a:xfrm>
            <a:off x="2865600" y="5329080"/>
            <a:ext cx="1171440" cy="2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nical Categ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218120" y="5338800"/>
            <a:ext cx="118080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nical Categ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5589720" y="5329080"/>
            <a:ext cx="1162080" cy="2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nical Categ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2"/>
          <p:cNvSpPr/>
          <p:nvPr/>
        </p:nvSpPr>
        <p:spPr>
          <a:xfrm rot="16200000">
            <a:off x="3303720" y="5361120"/>
            <a:ext cx="285840" cy="720720"/>
          </a:xfrm>
          <a:custGeom>
            <a:avLst/>
            <a:gdLst>
              <a:gd name="textAreaLeft" fmla="*/ 0 w 285840"/>
              <a:gd name="textAreaRight" fmla="*/ 103320 w 2858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3"/>
          <p:cNvSpPr/>
          <p:nvPr/>
        </p:nvSpPr>
        <p:spPr>
          <a:xfrm rot="16200000">
            <a:off x="4680000" y="5357880"/>
            <a:ext cx="285840" cy="720720"/>
          </a:xfrm>
          <a:custGeom>
            <a:avLst/>
            <a:gdLst>
              <a:gd name="textAreaLeft" fmla="*/ 0 w 285840"/>
              <a:gd name="textAreaRight" fmla="*/ 103320 w 2858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4"/>
          <p:cNvSpPr/>
          <p:nvPr/>
        </p:nvSpPr>
        <p:spPr>
          <a:xfrm rot="16200000">
            <a:off x="6022800" y="5357880"/>
            <a:ext cx="285840" cy="720720"/>
          </a:xfrm>
          <a:custGeom>
            <a:avLst/>
            <a:gdLst>
              <a:gd name="textAreaLeft" fmla="*/ 0 w 285840"/>
              <a:gd name="textAreaRight" fmla="*/ 103320 w 2858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Straight Arrow Connector 37"/>
          <p:cNvCxnSpPr/>
          <p:nvPr/>
        </p:nvCxnSpPr>
        <p:spPr>
          <a:xfrm flipH="1" flipV="1">
            <a:off x="1370880" y="5637960"/>
            <a:ext cx="229320" cy="229320"/>
          </a:xfrm>
          <a:prstGeom prst="straightConnector1">
            <a:avLst/>
          </a:prstGeom>
          <a:ln w="9360">
            <a:solidFill>
              <a:srgbClr val="f2f2f2"/>
            </a:solidFill>
            <a:miter/>
            <a:tailEnd len="med" type="arrow" w="med"/>
          </a:ln>
        </p:spPr>
      </p:cxn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owa Report – From Data/Measure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Clinical Doma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-1440" y="380880"/>
            <a:ext cx="9145440" cy="14115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380880" y="1828800"/>
            <a:ext cx="8382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746280" y="1828800"/>
            <a:ext cx="7669080" cy="4800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HRQ Quality Indic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0" y="228600"/>
            <a:ext cx="9145440" cy="141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Private Report :&#13;&#10;Provided to all 117 Iowa hospitals – MS Access created with imported Excel tables from SAS AHRQ QI output.&#13;&#10;&#13;&#10;Provides hospitals with detail:&#13;&#10;&#9;Numerator (with brief description), denominator (with brief description), Observed rate, Confidence Intervals, Comparison rates,  Shading for “low” &#9;performance&#13;&#10;&#9;Guide on “How to Use Your Private AHRQ QI Report”&#13;&#10;&#9;AHRQ Technical Specs (PSIs, IQIs, PDIs) are also forwarded with this report to assist hospitals in in-depth QI analyses&#13;&#10;&#13;&#10;2009 – Collaborative work currently underway with Iowa Hospital Association to load this information on a web-accessible tool. &#13;&#10;&#13;&#10;&#13;&#10;&#13;&#10;&#13;&#10; &#13;&#10;"/>
          <p:cNvPicPr/>
          <p:nvPr/>
        </p:nvPicPr>
        <p:blipFill>
          <a:blip r:embed="rId2"/>
          <a:stretch/>
        </p:blipFill>
        <p:spPr>
          <a:xfrm>
            <a:off x="555480" y="1714680"/>
            <a:ext cx="8001000" cy="5143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vate Hospital Reports –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HRQ Quality Indic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-1440" y="380880"/>
            <a:ext cx="9145440" cy="1411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llaborative Quality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vement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Stake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000" indent="-30852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nal Birth-related Tra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08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year underperf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08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– Roberts, Ely, Ward;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actors Contributing to Maternal Birth-related Trau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08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convene an Obstetrical Trauma Work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08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s/Systems involved in QI – using hospital-level QI reports and our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57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4175280" y="409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6" descr="&#10;IHC_Logo2.jpg                                                  001BB7C9&#10;EA Art Volume                  BC5FC56E:"/>
          <p:cNvPicPr/>
          <p:nvPr/>
        </p:nvPicPr>
        <p:blipFill>
          <a:blip r:embed="rId1"/>
          <a:stretch/>
        </p:blipFill>
        <p:spPr>
          <a:xfrm>
            <a:off x="-1440" y="380880"/>
            <a:ext cx="9145440" cy="14115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llaborative Quality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vement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owa Stakehold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200" indent="-31536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esthesiologis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6680" indent="-31536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other specialty interested in measurement and Q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6680" indent="-31536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SI 1 Descriptive Statistics – 2002-2006 SI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77160" indent="-31536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scriptive study of adverse ev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77160" indent="-31536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9386 – “Peripheral Nerve and Plexus Blocking Anesthetics”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6680" indent="-31536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haring list of NQF-endorsed anesthesia-related meas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6680" indent="-31536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motion of PSI 1 – Complications of Anesthes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22:23:15Z</dcterms:created>
  <dc:creator>Roberts, Lance</dc:creator>
  <dc:description/>
  <dc:language>en-US</dc:language>
  <cp:lastModifiedBy>Rasa</cp:lastModifiedBy>
  <cp:lastPrinted>2008-02-19T19:53:48Z</cp:lastPrinted>
  <dcterms:modified xsi:type="dcterms:W3CDTF">2009-10-26T16:52:19Z</dcterms:modified>
  <cp:revision>347</cp:revision>
  <dc:subject/>
  <dc:title>Slide 1</dc:title>
</cp:coreProperties>
</file>