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6E82-7AC3-476A-99DB-B1649ED9E9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0805-9271-4F3D-9767-6D7835204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F4F9-51A3-4DAD-B839-225A925D8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B8E1-158F-4243-98CB-E81CD7FAD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31C1-4FC5-493E-A238-5445A9AB7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80DE-6264-4BF1-ABCE-B3C97D1E8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8FB7-85FE-42CF-84D9-07AEF6458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2E9C-B8D1-47A4-92F5-433DC57E9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1B13-59A6-4326-979A-433FD6849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BCD0-5584-469D-AD33-C0FCD910E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607F-8BE1-47CC-9649-38C142358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AEA5-54AC-45F0-AFF4-3FC0F0457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HC Iowa Report c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ADFA-254E-43BB-976A-7A3AFCD79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1036-71A5-483F-A81E-1260392AA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“look” of AHRQ QI hospital-level table in Iowa Re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bols – no confidence interv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gregate multiple years of SID data to address “small n”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of comparison rates – Iowa, National from N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nting – engage hospitals in allowing them to comment on their performance/QI effo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9481-0832-4232-A993-AD8124AE9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47DB-1DB9-44D0-8A99-524422D9B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393E-7C97-4C4A-BC8F-A9DF3FE44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3C21-4C15-4983-A11A-637C73A9E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C303-9F2E-4CF3-B57F-4B843A56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0A4F-39F0-46CC-962B-71719CE1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F79A-C5C0-402A-BA55-EEBAA5CD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1745-8EE1-4934-AEC1-CC530AA2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F59E-6AF3-482E-B30B-02F167C6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BCB4-0B1E-46E6-A858-9D75D8DD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D4C6-843F-4BF5-948A-4075B62A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8E14-9ABA-4C4D-983A-9793899C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26F9-6AB7-4C12-BCFA-7850C9C1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02E6-C6C6-47B1-AC3F-2A9915C1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357F-0679-46A3-999B-F7020668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33F1-85AA-4B75-A1EE-DFC3F809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843A-1BED-4F0D-802A-ECF64358E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2743200" y="1986120"/>
            <a:ext cx="7226280" cy="4871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IHC_Logo.jpg                                                   001BB7C9&#10;EA Art Volume                  BC5FC56E:"/>
          <p:cNvPicPr/>
          <p:nvPr/>
        </p:nvPicPr>
        <p:blipFill>
          <a:blip r:embed="rId2"/>
          <a:stretch/>
        </p:blipFill>
        <p:spPr>
          <a:xfrm>
            <a:off x="609480" y="0"/>
            <a:ext cx="7010640" cy="2971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152640" y="3809880"/>
            <a:ext cx="5181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owa Healthcare Collaborativ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Past, Present, and Future Use of AHRQ Quality Indicators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ance Robert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9 AHRQ Annual Conferenc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eptember 24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505320" y="601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00 E. Grand Ave., Ste. 360 • Des Moines, IA 50309-18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ffice: 515.283.9330 • Fax: 515.698.51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http://www.ihconlie.org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4175280" y="409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6" descr="&#10;IHC_Logo2.jpg                                                  001BB7C9&#10;EA Art Volume                  BC5FC56E:"/>
          <p:cNvPicPr/>
          <p:nvPr/>
        </p:nvPicPr>
        <p:blipFill>
          <a:blip r:embed="rId1"/>
          <a:stretch/>
        </p:blipFill>
        <p:spPr>
          <a:xfrm>
            <a:off x="-1440" y="380880"/>
            <a:ext cx="9145440" cy="1411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7"/>
          <p:cNvSpPr/>
          <p:nvPr/>
        </p:nvSpPr>
        <p:spPr>
          <a:xfrm>
            <a:off x="4114800" y="-1143000"/>
            <a:ext cx="479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llaborative Quality Improvement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llaborative Quality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rovement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Stakehol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ergency Care – Aortic Aneurysm/Dis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diolog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ction to media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t in comparative private/public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4175280" y="409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6" descr="&#10;IHC_Logo2.jpg                                                  001BB7C9&#10;EA Art Volume                  BC5FC56E:"/>
          <p:cNvPicPr/>
          <p:nvPr/>
        </p:nvPicPr>
        <p:blipFill>
          <a:blip r:embed="rId1"/>
          <a:stretch/>
        </p:blipFill>
        <p:spPr>
          <a:xfrm>
            <a:off x="-1440" y="380880"/>
            <a:ext cx="9145440" cy="141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performance meter with arrow pointing to very weak"/>
          <p:cNvPicPr/>
          <p:nvPr/>
        </p:nvPicPr>
        <p:blipFill>
          <a:blip r:embed="rId2"/>
          <a:stretch/>
        </p:blipFill>
        <p:spPr>
          <a:xfrm>
            <a:off x="5948280" y="5024520"/>
            <a:ext cx="3124440" cy="17398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Does Future Look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8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HRQ’s Tools that May Assist Collaboratives / St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sumer Reporting Tools - MONAHR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ilot - Adding clinical data to administrative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R – PSIs, PQ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fficiency measures (potentially all-payer readmiss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ealth P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edicaid Home and Community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sed Services</a:t>
            </a:r>
            <a:r>
              <a:rPr b="0" lang="en-US" sz="1200" spc="-1" strike="noStrike">
                <a:solidFill>
                  <a:srgbClr val="f2f2f2"/>
                </a:solidFill>
                <a:latin typeface="Arial"/>
                <a:ea typeface="Arial"/>
              </a:rPr>
              <a:t>2007 State Snapshots: Methods. Derived from </a:t>
            </a:r>
            <a:r>
              <a:rPr b="0" i="1" lang="en-US" sz="1200" spc="-1" strike="noStrike">
                <a:solidFill>
                  <a:srgbClr val="f2f2f2"/>
                </a:solidFill>
                <a:latin typeface="Arial"/>
                <a:ea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2f2f2"/>
                </a:solidFill>
                <a:latin typeface="Arial"/>
                <a:ea typeface="Arial"/>
              </a:rPr>
              <a:t>National Healthcare Quality Report</a:t>
            </a:r>
            <a:r>
              <a:rPr b="0" lang="en-US" sz="1200" spc="-1" strike="noStrike">
                <a:solidFill>
                  <a:srgbClr val="f2f2f2"/>
                </a:solidFill>
                <a:latin typeface="Arial"/>
                <a:ea typeface="Arial"/>
              </a:rPr>
              <a:t>. March 2008. Rockville, MD: Ag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f2f2"/>
                </a:solidFill>
                <a:latin typeface="Arial"/>
                <a:ea typeface="Arial"/>
              </a:rPr>
              <a:t>for Healthcare Research and Quality. http://statesnapshots.ahrq.gov/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4175280" y="409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6" descr="&#10;IHC_Logo2.jpg                                                  001BB7C9&#10;EA Art Volume                  BC5FC56E:"/>
          <p:cNvPicPr/>
          <p:nvPr/>
        </p:nvPicPr>
        <p:blipFill>
          <a:blip r:embed="rId1"/>
          <a:stretch/>
        </p:blipFill>
        <p:spPr>
          <a:xfrm>
            <a:off x="-1440" y="380880"/>
            <a:ext cx="9145440" cy="1411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Does Future Look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ue – “Business Case” and “Value” of collaborative QI eff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6160" indent="-3326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with AHRQ researchers and tools - Iowa SID, NIS, HCUP Cost-to-Charge Ratio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680" indent="-3326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ching Software – match patients with adverse event to similar patients with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3200" indent="-3326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adverse events associated to excess …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06720" indent="-3326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 ? From 2004 to 2007 – Avoided approx.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929 d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06720" indent="-3326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tality ?  Avoided Approx.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0 – 16 deat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06720" indent="-3326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ges ?  Avoided Approx.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$3.9 m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06720" indent="-3326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st ?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06720" indent="-3326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any events are Present on Admission (POA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4175280" y="409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6" descr="&#10;IHC_Logo2.jpg                                                  001BB7C9&#10;EA Art Volume                  BC5FC56E:"/>
          <p:cNvPicPr/>
          <p:nvPr/>
        </p:nvPicPr>
        <p:blipFill>
          <a:blip r:embed="rId1"/>
          <a:stretch/>
        </p:blipFill>
        <p:spPr>
          <a:xfrm>
            <a:off x="-1440" y="380880"/>
            <a:ext cx="9145440" cy="1411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HRQ Support / Tools We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RQ QI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4080" indent="-3358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efficient mode to receive help on use of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2280" indent="-3358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 – PSI 3 - Decubitus Ulc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2280" indent="-3358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RQ Quality Indicator Learning Institute (QIL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4080" indent="-3358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effective collaborative for AHRQ QI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2280" indent="-3358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fected our Data Committee Pol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80120" indent="-3358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ering, NQF-endorsement, Coding issues, 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2280" indent="-3358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ed information in reports to Iowa legisl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4175280" y="409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6" descr="&#10;IHC_Logo2.jpg                                                  001BB7C9&#10;EA Art Volume                  BC5FC56E:"/>
          <p:cNvPicPr/>
          <p:nvPr/>
        </p:nvPicPr>
        <p:blipFill>
          <a:blip r:embed="rId1"/>
          <a:stretch/>
        </p:blipFill>
        <p:spPr>
          <a:xfrm>
            <a:off x="-1440" y="380880"/>
            <a:ext cx="9145440" cy="14115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Else Can AHRQ Hel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care-Associated Infections – gaining a lot of att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-Diff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8840" indent="-2916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owa trend is similar to National t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8840" indent="-2916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tential 2008 attributable cost savings if Iowa C-Dif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d by 10%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$1.5 - $2.2 Mill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4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Arial"/>
              </a:rPr>
              <a:t>Iowa IP’s – use SID/NIS if possible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4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4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Arial"/>
              </a:rPr>
              <a:t>Research will help 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4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Arial"/>
              </a:rPr>
              <a:t>Iowa Statewide HAI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sts based on CDC Repor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cott, DR (CDC), </a:t>
            </a:r>
            <a:r>
              <a:rPr b="0" i="1" lang="en-US" sz="1000" spc="-1" strike="noStrike" u="sng">
                <a:solidFill>
                  <a:srgbClr val="ffffff"/>
                </a:solidFill>
                <a:uFillTx/>
                <a:latin typeface="Times New Roman"/>
              </a:rPr>
              <a:t>The Direct Medical Costs of Hais in US Hospitalls and the Benefits of Prevention. http://www.cdc.gov/ncidod/dhqp/pdf/Scott_CostPaper.pd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4175280" y="409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6" descr="&#10;IHC_Logo2.jpg                                                  001BB7C9&#10;EA Art Volume                  BC5FC56E:"/>
          <p:cNvPicPr/>
          <p:nvPr/>
        </p:nvPicPr>
        <p:blipFill>
          <a:blip r:embed="rId1"/>
          <a:stretch/>
        </p:blipFill>
        <p:spPr>
          <a:xfrm>
            <a:off x="-1440" y="380880"/>
            <a:ext cx="9145440" cy="14115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Else Can AHRQ Hel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of AHRQ Support Line may be reduced if documentation is impro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 AHRQ Q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on equipping users for responsible public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ight/integrate other supportive tools – HCUP software, statistical briefs, State Snapshots, AHRQ HAI web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9"/>
          <p:cNvSpPr/>
          <p:nvPr/>
        </p:nvSpPr>
        <p:spPr>
          <a:xfrm>
            <a:off x="4175280" y="409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" descr=""/>
          <p:cNvPicPr/>
          <p:nvPr/>
        </p:nvPicPr>
        <p:blipFill>
          <a:blip r:embed="rId1"/>
          <a:stretch/>
        </p:blipFill>
        <p:spPr>
          <a:xfrm>
            <a:off x="1917720" y="1986120"/>
            <a:ext cx="7226280" cy="4871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3" descr="IHC_Logo.jpg                                                   001BB7C9&#10;EA Art Volume                  BC5FC56E:"/>
          <p:cNvPicPr/>
          <p:nvPr/>
        </p:nvPicPr>
        <p:blipFill>
          <a:blip r:embed="rId2"/>
          <a:stretch/>
        </p:blipFill>
        <p:spPr>
          <a:xfrm>
            <a:off x="533520" y="0"/>
            <a:ext cx="7162560" cy="3276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9907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276720" y="5943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00 E. Grand Ave., Ste. 360 • Des Moines, IA 50309-18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ffice: 515.283.9330 • Fax: 515.698.51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http://www.ihconlie.org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4175280" y="409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6" descr="&#10;IHC_Logo2.jpg                                                  001BB7C9&#10;EA Art Volume                  BC5FC56E:"/>
          <p:cNvPicPr/>
          <p:nvPr/>
        </p:nvPicPr>
        <p:blipFill>
          <a:blip r:embed="rId1"/>
          <a:stretch/>
        </p:blipFill>
        <p:spPr>
          <a:xfrm>
            <a:off x="-1440" y="380880"/>
            <a:ext cx="9145440" cy="1411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owa Hospital Association (hospitals) and the Iowa Medical Society (doctors) form IH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ners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44784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mote Responsible Public Reporting – “Iowa Repor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6720" indent="-22068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upportive State Policy – IHA collects data, IHC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447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gn and Equip Providers on Quality and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447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age the Community for Clinical Impr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447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ise the Standard of C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st – Historical Persp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4175280" y="409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6" descr="&#10;IHC_Logo2.jpg                                                  001BB7C9&#10;EA Art Volume                  BC5FC56E:"/>
          <p:cNvPicPr/>
          <p:nvPr/>
        </p:nvPicPr>
        <p:blipFill>
          <a:blip r:embed="rId1"/>
          <a:stretch/>
        </p:blipFill>
        <p:spPr>
          <a:xfrm>
            <a:off x="0" y="343080"/>
            <a:ext cx="9145440" cy="1411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blic Reporting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nsible Public Reporting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age stakeholders – Data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2520" indent="-213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ance to measure and report - (STEEEP), variation, or overall poor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2520" indent="-213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tific acceptability of measure proper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17040" indent="-213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QF – endor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17040" indent="-21384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HRQ Ti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2520" indent="-213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ability – understandable, useful for decision 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2520" indent="-213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asibility – data are readily available, low bu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4175280" y="409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6" descr="&#10;IHC_Logo2.jpg                                                  001BB7C9&#10;EA Art Volume                  BC5FC56E:"/>
          <p:cNvPicPr/>
          <p:nvPr/>
        </p:nvPicPr>
        <p:blipFill>
          <a:blip r:embed="rId1"/>
          <a:stretch/>
        </p:blipFill>
        <p:spPr>
          <a:xfrm>
            <a:off x="-1440" y="380880"/>
            <a:ext cx="9145440" cy="1411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IHC Annual Report 2008"/>
          <p:cNvPicPr/>
          <p:nvPr/>
        </p:nvPicPr>
        <p:blipFill>
          <a:blip r:embed="rId2"/>
          <a:stretch/>
        </p:blipFill>
        <p:spPr>
          <a:xfrm>
            <a:off x="6167520" y="3048120"/>
            <a:ext cx="2819160" cy="36939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storical Persp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4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005 Iowa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AHRQ QIs – aggregate Iowa performance compared to US, Midwest, Low/High US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008 Iowa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 Hospital-level and 18 aggregate Q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4175280" y="409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6" descr="&#10;IHC_Logo2.jpg                                                  001BB7C9&#10;EA Art Volume                  BC5FC56E:"/>
          <p:cNvPicPr/>
          <p:nvPr/>
        </p:nvPicPr>
        <p:blipFill>
          <a:blip r:embed="rId1"/>
          <a:stretch/>
        </p:blipFill>
        <p:spPr>
          <a:xfrm>
            <a:off x="0" y="73080"/>
            <a:ext cx="9145440" cy="13716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228600" y="1600200"/>
            <a:ext cx="8686800" cy="3200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rovider-focused Public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Calibri"/>
              </a:rPr>
              <a:t>Clinical Category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Times New Roman"/>
              </a:rPr>
              <a:t>-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Calibri"/>
              </a:rPr>
              <a:t> Measure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ardiovascular Conditions – Heart Attac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ardiovascular Conditions – Heart Fail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ardiovascular Conditions – Strok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neumonia Condi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ip Frac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edical and Surgical – Patient Safe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ostoperative C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revention of Blood Clo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revention of Healthcare-Associated Infe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tiliz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Obstetric / Neonatal C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ediatric – Patient Safe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atient Experience in Hospital – HCAHPS Surve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28600" y="5029200"/>
            <a:ext cx="1981080" cy="628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rovider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Privat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HRQ Quality Indica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990720" y="5867280"/>
            <a:ext cx="7238880" cy="99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Data / Research 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HRQ   CMS   Primary 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Data Sources: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CUP - Nationwide Inpatient Sample (NIS), Iowa State Inpatient Databases (SI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MS Hospital Compare – Hospital Quality Initi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owa Healthcare Collaborative - Primary Data Collection: Healthcare-Associated Infection (HAI) Preven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AutoShape 6"/>
          <p:cNvCxnSpPr/>
          <p:nvPr/>
        </p:nvCxnSpPr>
        <p:spPr>
          <a:xfrm flipH="1" flipV="1">
            <a:off x="3428280" y="4800240"/>
            <a:ext cx="11880" cy="529200"/>
          </a:xfrm>
          <a:prstGeom prst="straightConnector1">
            <a:avLst/>
          </a:prstGeom>
          <a:ln w="9360">
            <a:solidFill>
              <a:srgbClr val="f2f2f2"/>
            </a:solidFill>
            <a:miter/>
            <a:tailEnd len="med" type="triangle" w="med"/>
          </a:ln>
        </p:spPr>
      </p:cxnSp>
      <p:cxnSp>
        <p:nvCxnSpPr>
          <p:cNvPr id="72" name="AutoShape 7"/>
          <p:cNvCxnSpPr/>
          <p:nvPr/>
        </p:nvCxnSpPr>
        <p:spPr>
          <a:xfrm flipH="1" flipV="1">
            <a:off x="4800240" y="4800240"/>
            <a:ext cx="23040" cy="551520"/>
          </a:xfrm>
          <a:prstGeom prst="straightConnector1">
            <a:avLst/>
          </a:prstGeom>
          <a:ln w="9360">
            <a:solidFill>
              <a:srgbClr val="f2f2f2"/>
            </a:solidFill>
            <a:miter/>
            <a:tailEnd len="med" type="triangle" w="med"/>
          </a:ln>
        </p:spPr>
      </p:cxnSp>
      <p:cxnSp>
        <p:nvCxnSpPr>
          <p:cNvPr id="73" name="AutoShape 8"/>
          <p:cNvCxnSpPr/>
          <p:nvPr/>
        </p:nvCxnSpPr>
        <p:spPr>
          <a:xfrm flipV="1">
            <a:off x="6165720" y="4800240"/>
            <a:ext cx="7200" cy="551520"/>
          </a:xfrm>
          <a:prstGeom prst="straightConnector1">
            <a:avLst/>
          </a:prstGeom>
          <a:ln w="9360">
            <a:solidFill>
              <a:srgbClr val="f2f2f2"/>
            </a:solidFill>
            <a:miter/>
            <a:tailEnd len="med" type="triangle" w="med"/>
          </a:ln>
        </p:spPr>
      </p:cxnSp>
      <p:sp>
        <p:nvSpPr>
          <p:cNvPr id="74" name="Text Box 9"/>
          <p:cNvSpPr/>
          <p:nvPr/>
        </p:nvSpPr>
        <p:spPr>
          <a:xfrm>
            <a:off x="2865600" y="5329080"/>
            <a:ext cx="1171440" cy="2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nical Catego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218120" y="5338800"/>
            <a:ext cx="1180800" cy="27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nical Catego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5589720" y="5329080"/>
            <a:ext cx="1162080" cy="2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nical Catego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2"/>
          <p:cNvSpPr/>
          <p:nvPr/>
        </p:nvSpPr>
        <p:spPr>
          <a:xfrm rot="16200000">
            <a:off x="3303720" y="5361120"/>
            <a:ext cx="285840" cy="720720"/>
          </a:xfrm>
          <a:custGeom>
            <a:avLst/>
            <a:gdLst>
              <a:gd name="textAreaLeft" fmla="*/ 0 w 285840"/>
              <a:gd name="textAreaRight" fmla="*/ 103320 w 2858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3"/>
          <p:cNvSpPr/>
          <p:nvPr/>
        </p:nvSpPr>
        <p:spPr>
          <a:xfrm rot="16200000">
            <a:off x="4680000" y="5357880"/>
            <a:ext cx="285840" cy="720720"/>
          </a:xfrm>
          <a:custGeom>
            <a:avLst/>
            <a:gdLst>
              <a:gd name="textAreaLeft" fmla="*/ 0 w 285840"/>
              <a:gd name="textAreaRight" fmla="*/ 103320 w 2858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4"/>
          <p:cNvSpPr/>
          <p:nvPr/>
        </p:nvSpPr>
        <p:spPr>
          <a:xfrm rot="16200000">
            <a:off x="6022800" y="5357880"/>
            <a:ext cx="285840" cy="720720"/>
          </a:xfrm>
          <a:custGeom>
            <a:avLst/>
            <a:gdLst>
              <a:gd name="textAreaLeft" fmla="*/ 0 w 285840"/>
              <a:gd name="textAreaRight" fmla="*/ 103320 w 2858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Straight Arrow Connector 37"/>
          <p:cNvCxnSpPr/>
          <p:nvPr/>
        </p:nvCxnSpPr>
        <p:spPr>
          <a:xfrm flipH="1" flipV="1">
            <a:off x="1370880" y="5637960"/>
            <a:ext cx="229320" cy="229320"/>
          </a:xfrm>
          <a:prstGeom prst="straightConnector1">
            <a:avLst/>
          </a:prstGeom>
          <a:ln w="9360">
            <a:solidFill>
              <a:srgbClr val="f2f2f2"/>
            </a:solidFill>
            <a:miter/>
            <a:tailEnd len="med" type="arrow" w="med"/>
          </a:ln>
        </p:spPr>
      </p:cxn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owa Report – From Data/Measures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Clinical Domai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4175280" y="409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6" descr="&#10;IHC_Logo2.jpg                                                  001BB7C9&#10;EA Art Volume                  BC5FC56E:"/>
          <p:cNvPicPr/>
          <p:nvPr/>
        </p:nvPicPr>
        <p:blipFill>
          <a:blip r:embed="rId1"/>
          <a:stretch/>
        </p:blipFill>
        <p:spPr>
          <a:xfrm>
            <a:off x="-1440" y="380880"/>
            <a:ext cx="9145440" cy="14115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380880" y="1828800"/>
            <a:ext cx="83822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746280" y="1828800"/>
            <a:ext cx="7669080" cy="4800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HRQ Quality Indic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4175280" y="409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6" descr="&#10;IHC_Logo2.jpg                                                  001BB7C9&#10;EA Art Volume                  BC5FC56E:"/>
          <p:cNvPicPr/>
          <p:nvPr/>
        </p:nvPicPr>
        <p:blipFill>
          <a:blip r:embed="rId1"/>
          <a:stretch/>
        </p:blipFill>
        <p:spPr>
          <a:xfrm>
            <a:off x="0" y="228600"/>
            <a:ext cx="9145440" cy="1411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Private Report :&#13;&#10;Provided to all 117 Iowa hospitals – MS Access created with imported Excel tables from SAS AHRQ QI output.&#13;&#10;&#13;&#10;Provides hospitals with detail:&#13;&#10;&#9;Numerator (with brief description), denominator (with brief description), Observed rate, Confidence Intervals, Comparison rates,  Shading for “low” &#9;performance&#13;&#10;&#9;Guide on “How to Use Your Private AHRQ QI Report”&#13;&#10;&#9;AHRQ Technical Specs (PSIs, IQIs, PDIs) are also forwarded with this report to assist hospitals in in-depth QI analyses&#13;&#10;&#13;&#10;2009 – Collaborative work currently underway with Iowa Hospital Association to load this information on a web-accessible tool. &#13;&#10;&#13;&#10;&#13;&#10;&#13;&#10;&#13;&#10; &#13;&#10;"/>
          <p:cNvPicPr/>
          <p:nvPr/>
        </p:nvPicPr>
        <p:blipFill>
          <a:blip r:embed="rId2"/>
          <a:stretch/>
        </p:blipFill>
        <p:spPr>
          <a:xfrm>
            <a:off x="555480" y="1714680"/>
            <a:ext cx="8001000" cy="5143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ivate Hospital Reports –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HRQ Quality Indic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4175280" y="409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6" descr="&#10;IHC_Logo2.jpg                                                  001BB7C9&#10;EA Art Volume                  BC5FC56E:"/>
          <p:cNvPicPr/>
          <p:nvPr/>
        </p:nvPicPr>
        <p:blipFill>
          <a:blip r:embed="rId1"/>
          <a:stretch/>
        </p:blipFill>
        <p:spPr>
          <a:xfrm>
            <a:off x="-1440" y="380880"/>
            <a:ext cx="9145440" cy="14115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llaborative Quality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rovement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Stakehol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000" indent="-30852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rnal Birth-related Tra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308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year underperfor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308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– Roberts, Ely, Ward;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actors Contributing to Maternal Birth-related Trau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308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to convene an Obstetrical Trauma Work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308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s/Systems involved in QI – using hospital-level QI reports and our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4175280" y="409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6" descr="&#10;IHC_Logo2.jpg                                                  001BB7C9&#10;EA Art Volume                  BC5FC56E:"/>
          <p:cNvPicPr/>
          <p:nvPr/>
        </p:nvPicPr>
        <p:blipFill>
          <a:blip r:embed="rId1"/>
          <a:stretch/>
        </p:blipFill>
        <p:spPr>
          <a:xfrm>
            <a:off x="-1440" y="380880"/>
            <a:ext cx="9145440" cy="14115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llaborative Quality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rovement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owa Stakehold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200" indent="-31536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nesthesiologis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6680" indent="-31536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nother specialty interested in measurement and Q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6680" indent="-31536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SI 1 Descriptive Statistics – 2002-2006 SI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577160" indent="-31536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scriptive study of adverse ev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577160" indent="-31536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9386 – “Peripheral Nerve and Plexus Blocking Anesthetics”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6680" indent="-31536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haring list of NQF-endorsed anesthesia-related meas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6680" indent="-31536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motion of PSI 1 – Complications of Anesthes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22:23:15Z</dcterms:created>
  <dc:creator>Roberts, Lance</dc:creator>
  <dc:description/>
  <dc:language>en-US</dc:language>
  <cp:lastModifiedBy>Rasa</cp:lastModifiedBy>
  <cp:lastPrinted>2008-02-19T19:53:48Z</cp:lastPrinted>
  <dcterms:modified xsi:type="dcterms:W3CDTF">2009-10-26T16:52:19Z</dcterms:modified>
  <cp:revision>347</cp:revision>
  <dc:subject/>
  <dc:title>Slide 1</dc:title>
</cp:coreProperties>
</file>