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360" rIns="9036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31160"/>
            <a:ext cx="2971800" cy="46368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31160"/>
            <a:ext cx="2971800" cy="463680"/>
          </a:xfrm>
          <a:prstGeom prst="rect">
            <a:avLst/>
          </a:prstGeom>
          <a:noFill/>
          <a:ln w="0">
            <a:noFill/>
          </a:ln>
        </p:spPr>
        <p:txBody>
          <a:bodyPr lIns="90360" rIns="9036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4E25-DBF8-43ED-82B7-5EFB17297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4F54-82AE-4082-916A-BB6360F90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02A8-BC9A-45D8-825B-1FC07D23A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17BF-9276-4F9C-A557-CE0DCC1CB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184D-4538-4A21-8528-9F60746B5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00FB-16D1-45AD-B12C-DC6768F9D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B29A-4E7A-4DB6-B858-705CD9B4B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5BBD-DD24-4B83-8F27-3E2EB5244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68AE-0252-4F2B-A86E-99104D8AC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271D-5E12-4502-AD40-C7B20667D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6180-B376-4433-9944-A0D6F76F4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7DA2-C0A0-461B-BD87-22CAF4A96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3AAC-AF04-4F97-B51D-2627EAA78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2611C4-CFBC-45DD-A3AE-F027170DC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7C3813-77D6-4349-88F7-270EDED9B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953C6C-0B08-445B-BE6C-4A57B3C6C0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071375-29CC-4D7B-9FC1-2E59B502E9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17801-C255-48C9-9412-C42024AEA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EF5F2-FC7A-4214-A529-BCC6C8378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3B8B4-7F5A-46B1-860A-F7B21182F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F4FD5-1B91-4D12-BF13-E1A01350E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1D79E-1A24-4BCE-8E9F-38EA41FC8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3EA28-D483-4F70-A1BC-1EECE981F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D8D88-3D85-43DE-861F-F48FB3AFC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4A9A8A-E281-484D-B1AF-C0B02BE45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D4F73-C791-468E-B758-9E1F937EE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7E886-AD87-4B8E-A755-F6DFA5727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6A685-D3E9-4416-98DB-A85D95D12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1BA90-A0C2-41B3-AAAB-2214B6CA8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B6FC4-3769-4264-9A30-B898A169E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5A217F-D340-4547-A84C-F851325CB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EAE5D6-A1F5-47DF-BCDC-794BAEA37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327478-5F71-4126-9210-9D07BD23E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901722-4A8D-4378-A43C-1E6F10E09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20AB7C-7E28-430D-9BB8-389203941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627F8F-9ED3-4CF9-9DE2-B840D1713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B87B3-6EFA-4CB8-BC37-D08D14E72E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D396-F761-4E40-8BBA-82E6921E55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DC12-44E2-4781-826B-937AC1BE0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hmamd.or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ispanics &amp; Health Services Research </a:t>
            </a:r>
            <a:endParaRPr b="0" lang="en-US" sz="48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na Rios, MD, MSP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Hispanic Medical Associat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Annual Confer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15,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 Recommendations</a:t>
            </a:r>
            <a:br>
              <a:rPr sz="4000"/>
            </a:br>
            <a:r>
              <a:rPr b="0" lang="en-US" sz="4000" spc="-1" strike="noStrike">
                <a:solidFill>
                  <a:srgbClr val="000000"/>
                </a:solidFill>
                <a:latin typeface="Arial"/>
              </a:rPr>
              <a:t>Education and Awareness</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 K-12 wellness progra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healthy foods in school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paren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munity coalition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green market penetr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skills, food pyram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s – increase diabetes and obesity focu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makers – effective policy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Recommendations</a:t>
            </a:r>
            <a:br>
              <a:rPr sz="4000"/>
            </a:br>
            <a:r>
              <a:rPr b="0" lang="en-US" sz="4000" spc="-1" strike="noStrike">
                <a:solidFill>
                  <a:srgbClr val="000000"/>
                </a:solidFill>
                <a:latin typeface="Arial"/>
              </a:rPr>
              <a:t>Health Care System</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mbursement/cpt codes for prevention (CMS to increase focus on diabetes and obe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 interventions (CDC, NI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food in hospit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E/cultural competence train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 community-based, particip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 teams – include nutritionists, educ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MA &amp; J. Macy Jr. Foundation – Diversity &amp;Title VII Summit </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Academy of Medicine, June 22, 2009</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ority health exper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s included presidents of MACY, NYAM, AAMC, HRSA BHPr, NHM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orkgroups: How to increase diversity i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edical Educ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ducation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ederal Poli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Summit Recommendations: </a:t>
            </a:r>
            <a:br>
              <a:rPr sz="3200"/>
            </a:br>
            <a:r>
              <a:rPr b="0" lang="en-US" sz="3200" spc="-1" strike="noStrike">
                <a:solidFill>
                  <a:srgbClr val="000000"/>
                </a:solidFill>
                <a:latin typeface="Arial"/>
              </a:rPr>
              <a:t>Medical Education (and Research)for Diversity</a:t>
            </a:r>
            <a:br>
              <a:rPr sz="3200"/>
            </a:br>
            <a:endParaRPr b="0" lang="en-US" sz="3200" spc="-1" strike="noStrike">
              <a:solidFill>
                <a:srgbClr val="000000"/>
              </a:solidFill>
              <a:latin typeface="Arial"/>
            </a:endParaRPr>
          </a:p>
        </p:txBody>
      </p:sp>
      <p:sp>
        <p:nvSpPr>
          <p:cNvPr id="139" name=""/>
          <p:cNvSpPr txBox="1"/>
          <p:nvPr/>
        </p:nvSpPr>
        <p:spPr>
          <a:xfrm>
            <a:off x="457200" y="213336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efine and implement benchmarks and incentives for institutional excellence that include diversity as a critical componen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CT - prioritize the core and implemen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rediting standards - LCME, ACGME, Joint Commission to develop achievable diversity benchmarks </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Federal programs and policies across the agencies that affect the health care workforce/research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dollars better and create a greater imp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457200" y="1980720"/>
            <a:ext cx="8229600" cy="4496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riteria for program funding eligibility that includes a baselin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 of diversity which fosters horizontal collaborations and applicatio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federal funding attention to faculty developmen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faculty development across all purposes, administration, research, education, practice,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continuum of the HCOP program – all educational levels, mentoring and team approach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1"/>
          <p:cNvSpPr>
            <a:spLocks noGrp="1"/>
          </p:cNvSpPr>
          <p:nvPr>
            <p:ph type="title"/>
          </p:nvPr>
        </p:nvSpPr>
        <p:spPr>
          <a:xfrm>
            <a:off x="457200" y="6350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Summit Recommendations: </a:t>
            </a:r>
            <a:br>
              <a:rPr sz="3200"/>
            </a:br>
            <a:r>
              <a:rPr b="0" lang="en-US" sz="3200" spc="-1" strike="noStrike">
                <a:solidFill>
                  <a:srgbClr val="000000"/>
                </a:solidFill>
                <a:latin typeface="Arial"/>
              </a:rPr>
              <a:t>Medical Education (and Research) for Divers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457200" y="182844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accountability at the highest levels of the university – leadership development focus need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s of Trustees, Deans and senior faculty need to mirror diversity and take on the agenda of diversit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panics as PIs in the regional area of the focus of the researc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Summit Recommendations: </a:t>
            </a:r>
            <a:br>
              <a:rPr sz="3200"/>
            </a:br>
            <a:r>
              <a:rPr b="0" lang="en-US" sz="3200" spc="-1" strike="noStrike">
                <a:solidFill>
                  <a:srgbClr val="000000"/>
                </a:solidFill>
                <a:latin typeface="Arial"/>
              </a:rPr>
              <a:t>Medical Education (Research) for Divers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MA Recommendation on Future AHRQ Training for Research</a:t>
            </a:r>
            <a:endParaRPr b="0" lang="en-US" sz="40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 a new training program for health research students with focus on society challenges:  primary care, aging and health disparities (culture and language training), prevention, medical home, patient centered care, leadership, communications, health IT, race/ethnic disparities research. Connect funding from the OMH, NCMHD, CDC, CMS, H-IT, VA, DOD with the Federal Health Disparities Research Committee at the OM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1371600" y="3943440"/>
            <a:ext cx="6400800" cy="1504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148" name="Picture 3" descr="Screen shot of Hispanic Health.inf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MA Health Reform Advocacy</a:t>
            </a:r>
            <a:br>
              <a:rPr sz="4000"/>
            </a:b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Legislative Alert on </a:t>
            </a:r>
            <a:r>
              <a:rPr b="0" lang="en-US" sz="3200" spc="-1" strike="noStrike" u="sng">
                <a:solidFill>
                  <a:srgbClr val="666699"/>
                </a:solidFill>
                <a:uFillTx/>
                <a:latin typeface="Arial"/>
                <a:hlinkClick r:id="rId1"/>
              </a:rPr>
              <a:t>http://www.nhmamd.org </a:t>
            </a:r>
            <a:r>
              <a:rPr b="0" lang="en-US" sz="3200" spc="-1" strike="noStrike">
                <a:solidFill>
                  <a:srgbClr val="000000"/>
                </a:solidFill>
                <a:latin typeface="Arial"/>
              </a:rPr>
              <a:t>and send your letters to your Congressmen and Senators TOD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MA 14</a:t>
            </a:r>
            <a:r>
              <a:rPr b="0" lang="en-US" sz="3200" spc="-1" strike="noStrike" baseline="30000">
                <a:solidFill>
                  <a:srgbClr val="000000"/>
                </a:solidFill>
                <a:latin typeface="Arial"/>
              </a:rPr>
              <a:t>th</a:t>
            </a:r>
            <a:r>
              <a:rPr b="0" lang="en-US" sz="3200" spc="-1" strike="noStrike">
                <a:solidFill>
                  <a:srgbClr val="000000"/>
                </a:solidFill>
                <a:latin typeface="Arial"/>
              </a:rPr>
              <a:t> Annual Conference – March 25-28, 2010, Washington, D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HMA – Who are We?</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1994 in DC, non-profit 501c6 association representing 36,000 Hispanic physicians in the U.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to improve the health of Hispanics and other underserv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MA Board of Director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ts foundation, National Hispanic Health Foundation, 501c3, for research and education activities – affiliated with NYU Wagner Graduate School of Public Serv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HMA Network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MA Council of Medical Societi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MA Council of Residen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ino Medical Student Associa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panic Health Professional Leadership Network – all national Hispanic health professional associati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Directors, Fe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panics &amp; Health Care </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ethnic group in America</a:t>
            </a:r>
            <a:endParaRPr b="0" lang="en-US" sz="2400" spc="-1" strike="noStrike">
              <a:solidFill>
                <a:srgbClr val="000000"/>
              </a:solidFill>
              <a:latin typeface="Arial"/>
            </a:endParaRPr>
          </a:p>
          <a:p>
            <a:pPr lvl="1" marL="705600" indent="-2714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42: one out of four Americans will be Hispanics</a:t>
            </a:r>
            <a:endParaRPr b="0" lang="en-US" sz="20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ates of uninsured &amp; problems with disparities in health care according to US DHHS Disparities Reports</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ultural competence, language services </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lacks Hispanic researchers, providers and leaders in public/private agencies</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for new approaches to increase Hispanics in primary care</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for cultural competence training about Hispanic populations and in research</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based research is a priority</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 Services Research &amp; Hispanics</a:t>
            </a: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merica will consist of populations who face severe lack of access to health care, lack of trust and knowledge, and are low-income, poorly educated with strong cultural and family values,  limited English proficiency, mainly living in urban areas, suffering from high rates of obesity, diabetes, infectious and chronic diseases, and demanding health care refor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IS NOW… YOU ARE THE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DHHS and NHMA Health Disparity Leadership Summits</a:t>
            </a:r>
            <a:endParaRPr b="0" lang="en-US" sz="40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gional Summits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 Academy of Medicine, 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ramento, 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in, Texa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7 – March 2008</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Committee of OMH hdqts/regional offices and NHMA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d Consensus Recommendations at NHMA Annual Conference, April 18</a:t>
            </a:r>
            <a:r>
              <a:rPr b="0" lang="en-US" sz="2400" spc="-1" strike="noStrike" baseline="30000">
                <a:solidFill>
                  <a:srgbClr val="000000"/>
                </a:solidFill>
                <a:latin typeface="Arial"/>
              </a:rPr>
              <a:t>th</a:t>
            </a:r>
            <a:r>
              <a:rPr b="0" lang="en-US" sz="2400" spc="-1" strike="noStrike">
                <a:solidFill>
                  <a:srgbClr val="000000"/>
                </a:solidFill>
                <a:latin typeface="Arial"/>
              </a:rPr>
              <a:t>, DC to the Health Policy Advisors of Obama, Clinton, McC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keholder Participant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s/Community agenc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choo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 Co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 Co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 Corp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panic Chambers of Commer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nt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1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 – Recommendations</a:t>
            </a:r>
            <a:br>
              <a:rPr sz="4000"/>
            </a:br>
            <a:r>
              <a:rPr b="0" lang="en-US" sz="4000" spc="-1" strike="noStrike">
                <a:solidFill>
                  <a:srgbClr val="000000"/>
                </a:solidFill>
                <a:latin typeface="Arial"/>
              </a:rPr>
              <a:t>Financing</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and affordable health insurance coverage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eligibility for public programs – families, undocumented, legal doc, FPL leve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 benefits - preventive, mental health, dental, educational servic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mandates, automatic for al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quality measures, accountabl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 – Recommendations</a:t>
            </a:r>
            <a:br>
              <a:rPr sz="4000"/>
            </a:br>
            <a:r>
              <a:rPr b="0" lang="en-US" sz="4000" spc="-1" strike="noStrike">
                <a:solidFill>
                  <a:srgbClr val="000000"/>
                </a:solidFill>
                <a:latin typeface="Arial"/>
              </a:rPr>
              <a:t>Health Care System</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 standards for Culturally and Linguistically Appropriate Services (Joint Commiss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ultural competency provider training (incentives, performance payments, Federal clearinghouse at the Office of Minority Health)</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services – interpreters, pooling of resources, federal laws on access to servic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ethnicity/Language data --mandato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oviders in underserved communiti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 DSH payment system to private practic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NHSC or similar progra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06:51Z</dcterms:created>
  <dc:creator>Elena Rios</dc:creator>
  <dc:description/>
  <dc:language>en-US</dc:language>
  <cp:lastModifiedBy>Rasa</cp:lastModifiedBy>
  <dcterms:modified xsi:type="dcterms:W3CDTF">2009-10-28T21:59:50Z</dcterms:modified>
  <cp:revision>107</cp:revision>
  <dc:subject/>
  <dc:title>Federal Health Policy 2006</dc:title>
</cp:coreProperties>
</file>