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2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064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6858000" cy="90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8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29"/>
          </p:nvPr>
        </p:nvSpPr>
        <p:spPr>
          <a:xfrm>
            <a:off x="-36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 type="sldNum" idx="30"/>
          </p:nvPr>
        </p:nvSpPr>
        <p:spPr>
          <a:xfrm>
            <a:off x="388584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3667-BE89-4B77-95BD-1D04D6FC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553-7EB6-439F-924F-CD4626F8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AFC9-BE57-4592-85C9-454F93CD8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C82E-4F0A-4F14-BFC7-D84E6E73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9225-DDC7-4035-928B-B99BC5F5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4A7-4584-415E-80D3-006C9984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A47A-950D-466E-AC78-EA6AF8D7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4B0-2FB9-4B89-A9E6-E2951103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EBF-573E-4280-99F5-267E1509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46B-56DB-4F00-8F8F-E4FCD8C6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9F34-06CB-41CD-B343-52D51A731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EF3-5D53-4A7D-88A1-CB4B0C83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15F-38EE-4D41-BDE5-57DCE3E4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D180-632E-435E-BB88-3FFBD9FB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97E0-5209-4D03-80CA-82CF296E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C9A-3B3C-4F43-9592-9B28E4F8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8EF-708D-4370-BF14-2C015284D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031"/>
          <p:cNvSpPr/>
          <p:nvPr/>
        </p:nvSpPr>
        <p:spPr>
          <a:xfrm>
            <a:off x="3886200" y="861048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EED-8C28-4DC3-8CC2-4FF80819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07040"/>
            <a:ext cx="502920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93F-1A94-4F2E-8624-F7942154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452-4FC7-4D21-A4FE-282C02F2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24E69-624F-450E-BEBB-C90EF8B17E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3A4CC-50E3-494B-8E64-7AC12023C3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1B86-A31B-4291-B734-F112340D7CA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76064-147B-4C77-AF16-FA1E0D680D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40A91-8252-4525-9B34-19114A2E2D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12470-2EFE-4963-9906-932B94BC7D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B31B1-D720-426B-AA69-8D05EDF0C0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CAE6F-2B1A-496B-B1B6-D3BFD7E8C2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8C8F3-DCD9-483B-A52A-BE6E4C967B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89258C-839B-4246-A930-BF9914F7F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CA7-AB09-42E8-8CA5-600ABFE2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8BAE7-9B42-4DBC-9680-A54C144721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49E0B5-6F44-4E2B-A065-2511879ED90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EF9328-EA4B-4A3A-9859-9888792C38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3D262A-B5AC-40AE-B76B-A6D0BD42C5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6F7A6-E23D-4968-AC78-C0BBEA483C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14C91B-D84C-46B1-9D50-5B1F8F8C3DA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5170D-6D39-49EA-BAC8-CFB368FC7B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D6623-1330-4A7B-9172-32BC108CD8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BE49A-5775-4F61-B6CC-F4A6791B2C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76E37-E004-4EDC-B823-45DDB8371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05B-FD55-48AA-94C6-23FEDDC8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92A921-DBCE-4B89-B928-56153B7107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7EE16-FFCC-4021-859D-28984F4481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6722E-E2A4-49D5-B0A7-E7E47FF8F16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C5AE6-38FE-4296-8D40-8F50954D027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947C-CE78-4DF6-8746-92E7A804DE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49FB1-A5DB-4ADF-9F82-9DBF84D1F21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66781-F1B5-430B-9D0F-C6872BFA91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6AA85-5D18-49B8-B4C9-787C32B42F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9620-DF82-4D0B-8438-14116C6C96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CDA24-D612-406F-B72D-83B8D8ECA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772B1-B404-46BC-99A0-A2068073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F3AD9-427E-47E8-8B2C-DBF97B0148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DCB0D-5B81-4B79-BEF7-95DDFF87A8F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D82B8-0AE2-4445-A83D-0AC426E892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209BA-E66E-4178-AF27-7BC78E2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CB1E6-9B52-4EF2-8270-4B89B996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E7688-AC10-4C43-AD96-B47E285F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EDA0-EF1D-4C26-804D-776F92B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44D60-60E4-4B2B-96FE-2347EAF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D7C7-E448-49DA-892E-0D5681A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14C-CF0E-47A8-8C8D-3104990A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8885-1248-45A1-B370-9C3F12C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A0317-6C26-40C1-98DF-EBBCDC4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B9F9-8695-477C-B380-AB62C63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0E7CF-7580-42D0-A408-1BAE3FC6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E06CA-5033-47BF-A491-198F691D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F0B3-69C7-4DE9-9D26-787D66B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1AB6-E11B-4DA6-966C-40904AD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8900-3F53-44D2-9CA7-A4F2459D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F5F5-7883-46B8-81BD-E2F4B2F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3199-5FB1-4751-B835-8983D8B8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B87-C518-49BD-8046-A9C337AD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F064-1586-47C9-87E5-CA81276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760F-B817-447E-B305-5EE186E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093E-3EC8-4138-969E-E7E70BE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9333-F525-4450-9008-0460576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1D7F-D7E1-4B5E-BFCE-98C0427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29C5-7DB9-4F08-A7E3-C86251E8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DAD9-E7E9-4E30-85B0-98669AF3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BD23-7F0B-4481-B8B7-E5068FEC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5CBA-6149-410A-A06E-5F841F9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67A56-6EAA-4BD8-BCE9-4D3CA75A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BA3-E0E2-4D9C-AE82-17BC936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873D-FCF9-41AC-BFAD-DCD5A5B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68ECE-DAEA-44BD-B3A5-C8E6A1C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5343-28A2-4630-9600-4ADB31C0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20B3-C493-44D2-8CA8-0964E1A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E0D7-10BE-4F51-8A7B-C6A5893A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309B-927C-4A97-98A9-63219FC4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D391-F52F-4592-BBC2-8EDF2200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8E91-58FE-45BF-B8EC-A6820121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C2C3-024C-4737-8618-C4D7CE95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AF4E-EFDB-4DB7-8C7D-78D48616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EDB-870A-447B-A69F-96190849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3D16-708C-4BA4-8FEB-79AA7545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0A2F-50E1-4B39-AC4C-8038B72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F051-A52E-44A7-B0CB-6655236D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0DC1-5393-4A6F-A9E0-2ECC57E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73D68-18B3-4BD3-B27F-C1BDBE23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CED7-85BB-464F-8224-BC6152B4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833F-F403-43E0-8DC2-E93B07D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DE93-35D1-421D-B949-69EFB69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3706-433D-4F06-A0E6-AFE6DAB1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6FE99-7F4E-499D-8A25-52FC806B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A6C-58E2-4D9E-A4C3-A275C5DF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D7B2-0418-4311-9579-93AB085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93F9-F5A6-4CEB-9E4D-E32242A2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2967-CBFB-4916-A1FF-EF43B29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D446-942F-4C4B-ACFA-D5813B4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DBC9-5563-4E8F-B7A3-6A69752A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D65F-DF4D-4B5D-B5ED-E38DDD9B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30310-A9C5-497D-AEF8-3C117DF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6DC8-6A34-45CC-8A98-3BD608F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CF757-70A7-48A3-B262-4E3F469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CD43-668E-4458-9293-EA80AC7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EB3-0329-4BE9-B0EB-B2226B5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D2AF-F5AC-40D6-BAB0-90FD140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FA30-33B9-4364-A6B0-CBB3E52A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48CD1-F24D-47AE-B3A8-1AB2FB17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37BD-EFF2-439B-96AC-F6EDFFA9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A31B9-D72C-4967-8E59-714E4B94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2213-B10E-4120-A96A-DFF9418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C5277-A8B0-45AE-96B4-BEF6A54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BB18-BA74-4706-89D6-352B3AA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C653-4047-4D4B-B7E6-870BCC9C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D074-2D0A-4486-9E8E-E05B1E5C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D0E-DFAE-486D-B5F6-0672029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9FDF-984D-4152-9066-E1E8265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A6B8-D0F4-4B2B-BC96-AE3853C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B5086-001C-448E-949A-0535374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8034-1F8B-4B98-B51F-4798B2F4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F892-770C-4B60-A11A-72D59B0A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3AED-4B2C-4074-AD20-6FE7259C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B0A22-F61E-4398-8A8D-C8E8AEA5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F9C0F-EDD2-443B-91FF-61181DB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6315A-0201-43B7-82B4-C8EEB07A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4A58-A298-4E49-9333-11EA06D5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A96-B809-4875-B46E-DF773598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5B7F9-2A32-4006-920B-708094AE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289D2-40EF-4DAA-A1BE-A482521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12AD-B1CB-4441-A53F-7437C98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EA1CE-A43B-46AB-80A4-EB20981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F06D4-723B-4481-8556-68A5CB9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530B-1ACD-417C-927D-3A4653F7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0C89B-69AE-4320-B536-1ADCF5B6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CD241-9E81-407F-AF8C-3040ED3DC7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7A75D-E2C5-4AA4-8245-F5AEC97C9B8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19380-39A6-4F7B-9060-323788DB5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70F-00C9-478C-870A-DA1B27D0DFC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B1B-5536-4F28-A094-9B4BEF671C9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5CA-688A-4823-803C-1D2AD01E034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7467480" y="6240600"/>
            <a:ext cx="1524240" cy="54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4218-3650-4EDE-9FE7-641381183A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2"/>
          <a:stretch/>
        </p:blipFill>
        <p:spPr>
          <a:xfrm>
            <a:off x="7543800" y="6248520"/>
            <a:ext cx="1523880" cy="54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2964-4387-450A-BA66-BFC2CDB0676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66D2-1B49-4A7F-9D0A-89B1C7885E7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7E5A-315F-4E94-9AAF-C93B9E44752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7452-6799-4C37-AAA4-4C49931A5F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AAA-5817-460F-BF1D-5F3D9C6057E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C18-3A7F-4372-BAC5-A0B336702E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1B53-92BD-43D3-A546-BC6172F3957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1794-4475-415B-9CDD-1FA51978584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9400" cy="4816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33520" y="528120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John G. Reil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President/CE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0" name="Picture 14" descr="safe by design logo"/>
          <p:cNvPicPr/>
          <p:nvPr/>
        </p:nvPicPr>
        <p:blipFill>
          <a:blip r:embed="rId2"/>
          <a:stretch/>
        </p:blipFill>
        <p:spPr>
          <a:xfrm>
            <a:off x="3886200" y="6172200"/>
            <a:ext cx="1523880" cy="541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7"/>
          <p:cNvSpPr/>
          <p:nvPr/>
        </p:nvSpPr>
        <p:spPr>
          <a:xfrm>
            <a:off x="7391520" y="6095880"/>
            <a:ext cx="1676160" cy="6858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EE0-8B62-49A7-BC13-0F460CE02C15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3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design environments, culture, and process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738-55C0-4DF8-B3F0-793FB248556C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 environments, processes, and culture on safety and quality 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ing risk of failu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idence-based medic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0F5-E4DE-471B-99FC-A726A2439877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idence-based medicine mee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saf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D52-9E94-447D-914E-BD066C264955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t Condit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ise Redu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, Adaptability, Flex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bility of Patients to Staff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Involved with Their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Where Possib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Fatigu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diate Accessibility of Information, Close to the Point of Servic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Handoff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Patient M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7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a6378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570-EA24-4FC0-8AB1-A345530FA73B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l vs. P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ize Wo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ntr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n Technolo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e of Stopping to Fix Problem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Quality Right the First Ti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D7B-09B2-4EE4-B378-3F679826E4BB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8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tive Failur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ve/Post-Op Complications/Infec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Relating to Medication Err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s of Patients in Restrai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atient Suicid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usion Related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Tube-Correct Connector-Correct Hol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 Fa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s Related to Surgery at Wrong Si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RI Hazard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593A-3628-45E5-9022-B9DFD1CFF701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rix Development (Post Learning Lab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MEA at Each Stage of Desig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/Families Involved in Design Proc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Planning Day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ck-ups Day 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for the Vulnerable Pati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culate a Set of Principles for Measur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Checklist for Current/Future Desig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3FBB-D318-4C17-852B-F8A16CBA9387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ared Values/Beliefs about Safety within the Organization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ways Anticipating Precarious Ev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ed Employees and Medical Staf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lture of Reporting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Cultur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st” Cultur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lame-Free Environment Recognizing Human Fallibilit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cian Team Wor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lture of Continuous Improvem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owering Families to Participate in Care of Pati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ed &amp; Activated Pati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2331-AD57-4C73-88F0-98C9752480A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latent conditions studied improved with the exception of fatigu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ise Redu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alability, Adaptability, Flex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bility of Patients to Staff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Involved with Their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 Where Possib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Fatigu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diate Accessibility of Information, Close to the Point of Servic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Handoff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Patient M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4EF7-1DBF-42B4-968C-A74DEE1C56E5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838080" y="2131920"/>
          <a:ext cx="7543800" cy="3659400"/>
        </p:xfrm>
        <a:graphic>
          <a:graphicData uri="http://schemas.openxmlformats.org/drawingml/2006/table">
            <a:tbl>
              <a:tblPr/>
              <a:tblGrid>
                <a:gridCol w="2428920"/>
                <a:gridCol w="2860920"/>
                <a:gridCol w="2253960"/>
              </a:tblGrid>
              <a:tr h="1447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Medication Errors Observation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004 (pre)  -  2009 (p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W/out Wro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W/Wro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+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2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1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63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26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1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29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CBE7-8CA5-4019-8D6F-3C50FF56394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2" descr="cartoon of 2 people on a bench.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1066680" y="1905120"/>
          <a:ext cx="6782040" cy="2073240"/>
        </p:xfrm>
        <a:graphic>
          <a:graphicData uri="http://schemas.openxmlformats.org/drawingml/2006/table">
            <a:tbl>
              <a:tblPr/>
              <a:tblGrid>
                <a:gridCol w="1857600"/>
                <a:gridCol w="1692000"/>
                <a:gridCol w="1708200"/>
                <a:gridCol w="1524240"/>
              </a:tblGrid>
              <a:tr h="760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dverse Drug Event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7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066680" y="4343400"/>
          <a:ext cx="6782040" cy="201132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766880"/>
                <a:gridCol w="1433520"/>
              </a:tblGrid>
              <a:tr h="759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Preventable Adverse Drug Event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6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Slide Number Placeholder 5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B05-5CE7-45C9-951F-2394FA02204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37" name="Rectangle 5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143000" y="1979640"/>
          <a:ext cx="6630840" cy="2287440"/>
        </p:xfrm>
        <a:graphic>
          <a:graphicData uri="http://schemas.openxmlformats.org/drawingml/2006/table">
            <a:tbl>
              <a:tblPr/>
              <a:tblGrid>
                <a:gridCol w="2382840"/>
                <a:gridCol w="2041560"/>
                <a:gridCol w="2206440"/>
              </a:tblGrid>
              <a:tr h="1055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cidence Report for 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Preven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All 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Medical/Sur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97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8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-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106-0715-4180-8948-D4D8DDB83039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41" name="Rectangle 25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79C4-227D-49BC-A2C8-0609B1E7041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952560" y="1714680"/>
          <a:ext cx="7124760" cy="50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line graph - medication safety reports greater than category &quot;d&quot; tallies (not including adrs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4680"/>
                    <a:ext cx="71247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8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088040" cy="992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ction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he only consistent data recorded for infections during the 5 years of this study were for ventilator pneumonia and surgical site infec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85800" y="3382920"/>
          <a:ext cx="7772400" cy="2225880"/>
        </p:xfrm>
        <a:graphic>
          <a:graphicData uri="http://schemas.openxmlformats.org/drawingml/2006/table">
            <a:tbl>
              <a:tblPr/>
              <a:tblGrid>
                <a:gridCol w="3276720"/>
                <a:gridCol w="1419120"/>
                <a:gridCol w="1731960"/>
                <a:gridCol w="1344600"/>
              </a:tblGrid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fec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- Surgical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2 (p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8 (po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%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urgical Site Infections (procedur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76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A4FB-E5E5-4669-ACDC-D3EBA1897306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51" name="Rectangle 25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8181-6025-4E0C-8F3B-231E3E4D3176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3" name="Object 6"/>
          <p:cNvGraphicFramePr/>
          <p:nvPr/>
        </p:nvGraphicFramePr>
        <p:xfrm>
          <a:off x="762120" y="1650960"/>
          <a:ext cx="731520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6" descr="graph - surgical site infection percentage by year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0960"/>
                    <a:ext cx="73152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56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088040" cy="992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ection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he only consistent data recorded for infections during the 5 years of this study were for ventilator pneumonia and surgical site infec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A0F-C3E8-4DBF-B003-D8AC9C8BC058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33520" y="3505320"/>
          <a:ext cx="7696080" cy="2468520"/>
        </p:xfrm>
        <a:graphic>
          <a:graphicData uri="http://schemas.openxmlformats.org/drawingml/2006/table">
            <a:tbl>
              <a:tblPr/>
              <a:tblGrid>
                <a:gridCol w="1676160"/>
                <a:gridCol w="860400"/>
                <a:gridCol w="858960"/>
                <a:gridCol w="860400"/>
                <a:gridCol w="860400"/>
                <a:gridCol w="860400"/>
                <a:gridCol w="858960"/>
                <a:gridCol w="860400"/>
              </a:tblGrid>
              <a:tr h="10087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fec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- Ventilator Pneum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Ventilator Pneumonia 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5.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0.9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1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2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바탕"/>
                        </a:rPr>
                        <a:t>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0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61" name="Rectangle 37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4D3-4D31-4A30-88A9-284ACCF3CC97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3" name="Object 6"/>
          <p:cNvGraphicFramePr/>
          <p:nvPr/>
        </p:nvGraphicFramePr>
        <p:xfrm>
          <a:off x="1295280" y="1725480"/>
          <a:ext cx="666756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6" descr="graph - ventilator pneumonia rate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25480"/>
                    <a:ext cx="666756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5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66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B899-E5B4-4CAF-B910-BECF33290E7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066680" y="2286000"/>
          <a:ext cx="6934320" cy="26640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Patient F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he number of patient falls steadily declined during the study period, from 149 to 31 (almost 80%), with one spike in 2006 of 115 falls (the new hospital opened in 2005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0" name="Rectangle 1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BB4F-0C5E-43FB-B78E-7CE9AF7F9FB5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2" name="Object 6"/>
          <p:cNvGraphicFramePr/>
          <p:nvPr/>
        </p:nvGraphicFramePr>
        <p:xfrm>
          <a:off x="1143000" y="1511280"/>
          <a:ext cx="6858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6" descr="graph - # of patient falls reported per year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11280"/>
                    <a:ext cx="6858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4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5" name="Rectangle 11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B512-C3B2-4D2A-803C-1302DB47818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066680" y="2209680"/>
          <a:ext cx="6934320" cy="26640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ransfusion Related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The number of transfusion events stayed consistent throughout the study period, at .3%.  Almost all of these were considered not preventabl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8" name="Picture 14" descr=""/>
          <p:cNvPicPr/>
          <p:nvPr/>
        </p:nvPicPr>
        <p:blipFill>
          <a:blip r:embed="rId1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79" name="Rectangle 13" descr=""/>
          <p:cNvPicPr/>
          <p:nvPr/>
        </p:nvPicPr>
        <p:blipFill>
          <a:blip r:embed="rId2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9D7-002B-4F46-89AE-F784A7600E6A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5" name="Picture 8" descr="book cover - to err is human"/>
          <p:cNvPicPr/>
          <p:nvPr/>
        </p:nvPicPr>
        <p:blipFill>
          <a:blip r:embed="rId1"/>
          <a:stretch/>
        </p:blipFill>
        <p:spPr>
          <a:xfrm>
            <a:off x="2819520" y="1676520"/>
            <a:ext cx="3276360" cy="49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30EC-810D-4D1D-B682-0CBD5D3EB84D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1219320" y="1636560"/>
          <a:ext cx="66294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4" descr="graph - # of transfusion related events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36560"/>
                    <a:ext cx="66294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3" name="Picture 14" descr=""/>
          <p:cNvPicPr/>
          <p:nvPr/>
        </p:nvPicPr>
        <p:blipFill>
          <a:blip r:embed="rId3"/>
          <a:stretch/>
        </p:blipFill>
        <p:spPr>
          <a:xfrm>
            <a:off x="7543800" y="624060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84" name="Rectangle 9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4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23EE-8C0D-439F-966D-AB642B8FCE60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990720" y="1600200"/>
          <a:ext cx="7184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5" descr="graph - % of transfusion related events 2002-2008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184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8" name="Picture 14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523880" cy="541080"/>
          </a:xfrm>
          <a:prstGeom prst="rect">
            <a:avLst/>
          </a:prstGeom>
          <a:ln w="0">
            <a:noFill/>
          </a:ln>
        </p:spPr>
      </p:pic>
      <p:pic>
        <p:nvPicPr>
          <p:cNvPr id="589" name="Rectangle 10" descr=""/>
          <p:cNvPicPr/>
          <p:nvPr/>
        </p:nvPicPr>
        <p:blipFill>
          <a:blip r:embed="rId4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BD04-7B03-48B7-BE29-0E2464600597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143000" y="1981080"/>
          <a:ext cx="7010280" cy="36547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205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eaths of Patients in Re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Inpatient Suic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orrect Tube-Correct Connector-Correct 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eaths Related to Surgery at Wro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MRI Haz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5d"/>
                    </a:solidFill>
                  </a:tcPr>
                </a:tc>
              </a:tr>
              <a:tr h="159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se adverse events had Zero occurrences in 2002 and the incidence rate stayed at Zero during the study period ending 200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2" name="Rectangle 13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2848-1E38-4866-8CFC-90A2942B3A0E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n/Six Sigma Process Re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l vs. P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ize Wor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Contro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en Technolo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e of stopping to fix problem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quality right the first ti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3"/>
          <p:cNvSpPr/>
          <p:nvPr/>
        </p:nvSpPr>
        <p:spPr>
          <a:xfrm>
            <a:off x="0" y="6477120"/>
            <a:ext cx="504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85B-B2E1-4E61-B8C4-A44B9B4CB213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553240" cy="142704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ty Cul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Values/Beliefs about Safety within the Organization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Anticipating Precarious Ev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ed Employees and Medical Staf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e of Reporting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Cultu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” Cultu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me-Free Environment Recognizing Human Infallibili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ian Team Work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e of Continuous Improvem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owering Families to Participate in Care of Pati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ed &amp; Activated Pati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F419-2549-47F2-86ED-E6A2B9E5591F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isk of dying as a result of medical error far surpasses the risk of dying in an airline acciden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on domestic flights: 1 in 8,000,000 fligh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4B84-1B90-4C3E-8D89-8E06330E0924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in hospitals from medical errors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in 343 admits  to  1 in 764 admi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erse Events in Hospit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in 27 admits to 1 in 34 admi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29AD-859C-4F52-BAB0-638DCA288EAF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3" name="Picture 2" descr="book cover - Managing the Risks of Organizational Accidents"/>
          <p:cNvPicPr/>
          <p:nvPr/>
        </p:nvPicPr>
        <p:blipFill>
          <a:blip r:embed="rId1"/>
          <a:stretch/>
        </p:blipFill>
        <p:spPr>
          <a:xfrm>
            <a:off x="2916360" y="1700280"/>
            <a:ext cx="3179520" cy="48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81ED-C087-4F79-8B04-E592479DA023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Rectangl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618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ipan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H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G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PSF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h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 for Pati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W-Milwauke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fety at 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versity of M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H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H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CAHO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6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im Adams, Exec. Director &amp; Fellow, IBM Center of Healthcare Managemen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nk T. Brogan, President, Florida Atlantic Univers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olyn Clancy, MD, MPH, Director of Agency for Healthcare Research &amp; Qual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F. Coyne, PhD., Former Senior VP for R&amp;D for 3M, Healthcare for 3M, and 3M Cana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 Flaherty, M.D., Past Chairman, NPSF &amp; Past Chair of American Medical Associatio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lee Smith Gelinas, RN, BSN, MSN, FAAN, Vice President &amp; Chief Nursing Officer of VHA, Inc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cal Goldschmidt, MD, Senior Vice President &amp; Dean, University of Miami Miller School of Medicin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nald Holmquest, M.D., Ph.D., J.D., President &amp; CEO of California Regional Health Information Org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verly Johnson, President &amp; CEO, Institute for Family Centered Healthcar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ucian L. Leape, MD, Adjunct Professor, Harvard Univ. School of Public Health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hy Malloch, PhD., MBA, RN, FAAN, Pres of Malloch &amp; Assoc &amp; Director of the MHI Program at ASU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vid Marx, J.D., President of Outcome Engineering, LLC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vid Nash, M.D., M.B.A., FACP, Chairman, Jefferson Medical College, Thomas Jefferson Universit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ard Norling, Chief Executive Officer and Director of Premier, Inc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nnis O’Leary, President Emeritus of Joint Commissio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ul O’Neill, Former Secretary of the U.S. Treasur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y A. Pittman, Ph.D., American Hospital Association &amp; Current President of the Public Health Institute &amp; Past President of the Health Research and Educational Trus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Rupp, MD, Past President of Luther Midelfort &amp; Immanuel St. Joseph’s-Mayo Health Systems &amp; Institute for Healthcare Improvemen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nna E. Shalala, Ph.D, President, University of Miami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il Warden, President Emeritus, Henry Ford Health System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nnet Waters, D.H.A., Chief of Staff for the US Dept. of Homeland Security, Office of Chief Medi Officer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0" y="6583320"/>
            <a:ext cx="73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F1A-277C-45A4-89C2-B69417199B82}" type="slidenum">
              <a:rPr b="0" lang="en-US" sz="1200" spc="-1" strike="noStrike">
                <a:solidFill>
                  <a:srgbClr val="3f3f3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Rectangle 5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nvironm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acilities, equipment, technology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fects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ocesses affect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ulture affects performa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23:28Z</dcterms:created>
  <dc:creator>Al Taylor</dc:creator>
  <dc:description/>
  <dc:language>en-US</dc:language>
  <cp:lastModifiedBy> </cp:lastModifiedBy>
  <cp:lastPrinted>2006-01-06T20:09:57Z</cp:lastPrinted>
  <dcterms:modified xsi:type="dcterms:W3CDTF">2010-03-02T15:46:54Z</dcterms:modified>
  <cp:revision>417</cp:revision>
  <dc:subject/>
  <dc:title>No Slide Title</dc:title>
</cp:coreProperties>
</file>