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2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064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0"/>
            <a:ext cx="6858000" cy="90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ftr" idx="29"/>
          </p:nvPr>
        </p:nvSpPr>
        <p:spPr>
          <a:xfrm>
            <a:off x="-36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 type="sldNum" idx="30"/>
          </p:nvPr>
        </p:nvSpPr>
        <p:spPr>
          <a:xfrm>
            <a:off x="388584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104D-B9BF-449B-BA95-E5C2A06D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1ABE-6C44-4AE9-9C38-377F27E4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4C2E-9007-43EA-8C32-7882B1FD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74B-BC4F-456C-8A68-3D1FB515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8885-667A-4525-8E3C-12F199B1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701D-DDAE-4EE0-A105-859C15DC2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5C1-09FF-42F9-A014-1950769FB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8E21-D52E-4EFC-A3F0-97038737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4C2F-41E4-4D6D-A50E-5E7E4C7D8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F094-4FA3-483B-B66E-F718A66F8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FFC3-99BD-4837-8395-C23AD2C68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6C02-DF10-457D-A400-9A2569316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BCC-8B0F-41CE-87CE-B92977F4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8AB-FAFA-4779-96BE-6C0AFC4E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B01-E431-491D-BFE3-E4ADCA574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C8B4-C28B-4497-8681-B9D1EA58B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3069-1C00-4F6A-AB64-27344C9EB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BAA-D83C-4F57-B5EA-ABA483772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63A-DA76-4B69-B137-3FE1A62A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02C-3BEC-4A63-B8F6-3B4F518F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ECA26-403F-4F22-82B5-C9331337D9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CBB22-9B75-42EC-BD63-5362A85F5B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0907E-4353-4795-B2FF-1FBE765DB3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BFF37-D01F-4F1A-B809-0559C767B2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8C858-73E8-487E-AEC8-9061385F23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D181F-FAB4-4638-94D4-6C64F5DA92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33FC9-5242-4BB8-AC78-7FB930BFC70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F49B5-A3ED-40B3-9D28-D771EF6E8F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FF116-C76B-4B63-B185-4F2BE4E7DB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3BB4CC-1C8F-4D3B-8802-97EFEDF38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9DB-512A-4CF0-95E1-EEDB61D1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E0B61-6691-4DAD-B928-2C4789EC44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F1134-197F-4851-82E0-3E88C41F644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58676A-3DFF-41CF-94AE-CB3B62FB1B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3DD500-7038-4325-AD7C-A696BD1AB41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50376D-AEB1-483A-BDCA-445CDD7DE9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480CB-08C1-4F5C-98CE-3F930268D3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A1141-A855-4A00-97BB-98B0A4F876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464AB-7FF4-4E99-A21A-506ADA32051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1F2F9B-8841-4D61-B9B8-39E84B51FC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661A9-10EF-4C05-9A3E-D82B0B66E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0C4-D6C2-464C-B95B-A0A2E4B5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5B729C-F4C8-448F-8F78-DADA315882F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531A-D71E-45F1-B3A0-6750983D826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B8F52-6211-4991-9C4D-873B042B2FB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2802F-5CB5-42BD-9F57-BC11B36BD9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509E4-1850-4566-BE1D-95B49AAC823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E8F19-E8AE-4969-8DC3-A631C5577E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190F0-D366-4307-878D-C8A0BC2245F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9332A-2781-43FF-BA2A-F56B357BBA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C5D1B-A6B2-4454-A856-40820A6B6B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3F2FF-FD4F-489F-9C17-25D313536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2BCE4-9340-43F2-9712-882A525F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D1FDF-7DFE-424B-9501-F26A897D0C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6547B-0535-4E5A-AE6A-863AC569E6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73AD7-AB56-42D9-8CA2-4A95A851AE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7DCF3-4BD3-43E1-8208-BFBF9FED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C7F1D-0C5C-4C59-8C66-6F077C0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A980C-CE83-427B-BE01-46070F04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6DA14-6EC2-481F-92AF-5FB8738B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B4840-7E5E-4567-9481-CB108717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82B13-DA24-427D-A14F-2B9BDB2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BF6-7971-45E9-B1FD-4BCE5689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D1844-969C-4346-AD20-84945E6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EF2BC-D332-4D01-B801-35D5F538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0C038-746A-4802-8FDF-ED6B85DC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00D3B-7428-4865-AD9E-47BB3E67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23AC0-27FC-4D53-81D3-AFD9D470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6D9B-FBFF-4D71-8529-80EC5E92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F304-5A7E-43CB-BF59-7E6075F2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BE46-9681-419E-9994-8D815F4C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CEC5-2252-47E5-8BBF-13EBC54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DEA7-0E13-4138-A14E-979C777A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EDF-B16C-4BEB-952B-0C912962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C079-CA6E-40BD-860C-D0A20A0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2850-D95B-47F2-83C9-C9F3F571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70E3-9D4F-4F10-9123-F52F4861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68B9-23E2-49B4-A330-6D7FF651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7091-BEF8-4CE5-B970-FAB6F075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CE75-7C21-49AC-AE0E-6D29F564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B201-0EB3-43B5-BB4E-4CFA8B91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0548-65F1-494A-8417-BA3F322C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EFCD-0E37-4868-822B-8EB98CC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76B0-1A68-490F-92D1-F6BF3E9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E6B-C49D-4870-A545-F8CF31D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E719-E458-4C86-B77F-138894F5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6FC2-325F-4EF2-AE56-90DCDB2E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7BB2-39DB-4384-9810-17CC1F72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3C30-E631-4732-8C4E-5A51AADF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1AC5-31F4-4DC0-BC12-5CF0CAAE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AB21-2919-4448-86C2-B1CB122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3C80-B0FD-49C4-A2BF-8DE32D6E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5918A-A154-4713-830E-24FE48A5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61D0-0084-4C74-BB00-3C54F8E7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5182-843A-4F6E-BD45-6B7A817B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A2B-6A07-4F4E-BA20-A2D26088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9B42-4316-4B90-ACBE-A20F8859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0676-6ADE-4CEB-8A74-96ECFB23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07C8-771B-4011-900F-0779468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E7568-5066-49EF-9E97-D24E6A07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4EBA-857E-47B3-92E4-10A7E616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BC2D-B3CE-4DE8-A2E6-8EFA50A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6EBD-3343-4D79-BA1C-34630475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7E2A-E5D1-450F-8ED7-ED37146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E6C1-1D49-4E7A-BC61-6E532102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8A52-3E48-4F18-A16F-A5EF797F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B85-F04F-4394-B01D-C701231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3466-525F-4283-A18A-D5832F98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D18B5-7E5C-464E-BA34-F87143EB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C7776-086F-4A1E-B81C-DD65E5F9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6444-11C4-434A-8808-53317944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CF39-70E8-4A99-BBB9-23F0A880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875B-D79A-47A6-9BE2-AC0A3F2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5D16-8004-4A92-A62D-0CA7999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A2E0-9548-4A07-AFC1-40D9581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C4FE2-89C5-4E6B-88A1-9656F7A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2500-3A2C-4844-9D8B-73D1554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425-4267-48EE-8ACE-0AA8881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B3E1-0740-45A9-9AB6-B1434029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462E-2447-45EC-B18C-3F092971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F0E73-C708-4CFE-B1F8-9CB65601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83AB-6984-4A87-9C8F-7004456E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6EE3-053C-4677-BFE1-24E51210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DD73-5B8F-4467-8575-160AF371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3E37-57A9-4895-9B52-F593ABC1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F05B2-4BC4-4310-91FE-D5BDB8FF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2ADB4-9310-4314-8A34-331700D4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B1246-2C9B-495A-8400-E7C5CBB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A79-CBBC-4D6F-8F63-E9B0A6F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E150E-6182-4CEE-8F98-17DFB4B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960A-EA7B-40A7-8BB9-52E3FA0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A3DC5-7552-4ACC-9598-7A212B30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9BE16-88B8-4481-BE3F-02F6A057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DDD64-1562-43D4-9BC6-B5429523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4F4C0-1232-4F99-A211-9E9C0D65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8D18E-1594-4892-A67F-ABD71045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235DC-535D-4A3C-A544-8D2A5BA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16C3-1E3B-46B6-95D8-8CD29E52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EF8F6-76DF-4B7C-B34C-608D437E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E3E-3F41-42C6-8AE1-024417D2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D967-7F98-471E-9D2C-2EBACF2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53F9-7802-4125-9326-91E3059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B1406-EC05-4D13-9714-0D96D55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7597-6158-448A-83B5-C5CABC4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6258-53F0-4017-9F46-C02E52C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067D3-0384-4AA3-94E8-C66DE7C6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5ED35-F69A-42C0-88C0-59950300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0F721-08AA-4C14-87D9-6685987F29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4D571-0B12-4E1D-B7E8-41CB771976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0D529-9159-4124-AE83-865D92204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C984-1F2B-416E-B8EB-82CFD98BCAA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7CE-B9A0-4D7B-BA08-B55D541399B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B57-7F81-4956-9507-F46600AEAC5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7467480" y="6240600"/>
            <a:ext cx="1524240" cy="54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8507-4662-472C-B489-38EB5E3BD44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2"/>
          <a:stretch/>
        </p:blipFill>
        <p:spPr>
          <a:xfrm>
            <a:off x="7543800" y="6248520"/>
            <a:ext cx="1523880" cy="541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4A5E-3C0D-4305-8F76-F6C45E67254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7F17-894E-4933-998F-33DCB2E2647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EDE-0A7F-460A-8DB6-05EFFEFB1A2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5FD-0C34-4FB3-AC05-C1E20A09902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0CEC-2ABB-456C-A32F-A1688832934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D372-C81D-4BAD-8A04-704F0D24841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B2F-5989-4CA0-BE1E-AC31F040812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D1B4-C7AE-466B-B948-FDFE21D1C09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9400" cy="48164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33520" y="528120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John G. Reil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President/CE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0" name="Picture 14" descr="safe by design logo"/>
          <p:cNvPicPr/>
          <p:nvPr/>
        </p:nvPicPr>
        <p:blipFill>
          <a:blip r:embed="rId2"/>
          <a:stretch/>
        </p:blipFill>
        <p:spPr>
          <a:xfrm>
            <a:off x="3886200" y="6172200"/>
            <a:ext cx="1523880" cy="5414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7"/>
          <p:cNvSpPr/>
          <p:nvPr/>
        </p:nvSpPr>
        <p:spPr>
          <a:xfrm>
            <a:off x="7391520" y="6095880"/>
            <a:ext cx="1676160" cy="6858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8F4-17E8-4980-84D0-AEF06608D458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3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can design environments, culture, and process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D2E-AD84-4198-B094-24DF54FDBEA2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6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 environments, processes, and culture on safety and quality b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ing risk of fail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-based medic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5F30-A3C9-4CA0-ADED-1C46BF4E7AF2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idence-based medicine mee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saf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9349-CFEE-42BE-877D-BE4A7F68A320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nt Conditi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ise Reduc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, Adaptability, Flexibili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bility of Patients to Staff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Involved with Their Ca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 Where Possibl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Fatigu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mediate Accessibility of Information, Close to the Point of Servic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Handoff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Patient Move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a6378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C45-DC5B-4ECD-AED2-41EFD3766A31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Fl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l vs. Pu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ize Wor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Contr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en Technolo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lture of Stopping to Fix Problem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Quality Right the First Ti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7A85-27D3-4292-8772-5FE998245AB9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8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tive Failur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ve/Post-Op Complications/Infec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s Relating to Medication Err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s of Patients in Restrai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atient Suicid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usion Related Ev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Tube-Correct Connector-Correct Hol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 Fa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s Related to Surgery at Wrong Sit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RI Hazard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B5D-008A-46DB-8CEF-5FE9224FBE7F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Development (Post Learning Lab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MEA at Each Stage of Desig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/Families Involved in Design Proc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Planning Day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ck-ups Day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for the Vulnerable Pati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ticulate a Set of Principles for Measure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Checklist for Current/Future Desig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F267-8DF5-4E4F-8480-B7A72E00C142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ared Values/Beliefs about Safety within the Organization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ways Anticipating Precarious Event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ed Employees and Medical Staff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lture of Reporting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Cultur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st” Cultur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lame-Free Environment Recognizing Human Fallibilit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cian Team Wor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lture of Continuous Improvemen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powering Families to Participate in Care of Patient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ed &amp; Activated Patien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9133-8B85-47DC-A53D-FE097C5B0C8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latent conditions studied improved with the exception of fatigu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ise Reduc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, Adaptability, Flexibili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bility of Patients to Staff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Involved with Their Ca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 Where Possibl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Fatigu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mediate Accessibility of Information, Close to the Point of Servic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Handoff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Patient Move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A396-DC9C-4F8E-B8F1-D2C54965C99B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838080" y="2131920"/>
          <a:ext cx="7543800" cy="3659400"/>
        </p:xfrm>
        <a:graphic>
          <a:graphicData uri="http://schemas.openxmlformats.org/drawingml/2006/table">
            <a:tbl>
              <a:tblPr/>
              <a:tblGrid>
                <a:gridCol w="2428920"/>
                <a:gridCol w="2860920"/>
                <a:gridCol w="2253960"/>
              </a:tblGrid>
              <a:tr h="1447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Medication Errors Observation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004 (pre)  -  2009 (p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W/out Wrong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W/Wrong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+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2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1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6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2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1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32" name="Rectangle 29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8214-F96D-4B1A-A1BA-AE7A675824D5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2" descr="cartoon of 2 people on a bench."/>
          <p:cNvPicPr/>
          <p:nvPr/>
        </p:nvPicPr>
        <p:blipFill>
          <a:blip r:embed="rId1"/>
          <a:stretch/>
        </p:blipFill>
        <p:spPr>
          <a:xfrm>
            <a:off x="762120" y="1828800"/>
            <a:ext cx="7696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1066680" y="1905120"/>
          <a:ext cx="6782040" cy="2073240"/>
        </p:xfrm>
        <a:graphic>
          <a:graphicData uri="http://schemas.openxmlformats.org/drawingml/2006/table">
            <a:tbl>
              <a:tblPr/>
              <a:tblGrid>
                <a:gridCol w="1857600"/>
                <a:gridCol w="1692000"/>
                <a:gridCol w="1708200"/>
                <a:gridCol w="1524240"/>
              </a:tblGrid>
              <a:tr h="760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dverse Drug Event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4 (p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7 (p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%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7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066680" y="4343400"/>
          <a:ext cx="6782040" cy="2011320"/>
        </p:xfrm>
        <a:graphic>
          <a:graphicData uri="http://schemas.openxmlformats.org/drawingml/2006/table">
            <a:tbl>
              <a:tblPr/>
              <a:tblGrid>
                <a:gridCol w="1981440"/>
                <a:gridCol w="1600200"/>
                <a:gridCol w="1766880"/>
                <a:gridCol w="1433520"/>
              </a:tblGrid>
              <a:tr h="759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Preventable Adverse Drug Even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4 (p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7 (p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%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6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Slide Number Placeholder 5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F6D5-9458-4648-8AF5-69E811550B68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37" name="Rectangle 53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143000" y="1979640"/>
          <a:ext cx="6630840" cy="2287440"/>
        </p:xfrm>
        <a:graphic>
          <a:graphicData uri="http://schemas.openxmlformats.org/drawingml/2006/table">
            <a:tbl>
              <a:tblPr/>
              <a:tblGrid>
                <a:gridCol w="2382840"/>
                <a:gridCol w="2041560"/>
                <a:gridCol w="2206440"/>
              </a:tblGrid>
              <a:tr h="1055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cidence Report for 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Preven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All 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97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8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96C9-6940-4B78-BF39-FC2DDEFD479E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0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41" name="Rectangle 25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3C1A-7E4A-4535-B0D7-809904E632B0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952560" y="1714680"/>
          <a:ext cx="7124760" cy="50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line graph - medication safety reports greater than category &quot;d&quot; tallies (not including adrs)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4680"/>
                    <a:ext cx="71247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5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46" name="Rectangle 8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088040" cy="992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ection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he only consistent data recorded for infections during the 5 years of this study were for ventilator pneumonia and surgical site infec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85800" y="3382920"/>
          <a:ext cx="7772400" cy="2225880"/>
        </p:xfrm>
        <a:graphic>
          <a:graphicData uri="http://schemas.openxmlformats.org/drawingml/2006/table">
            <a:tbl>
              <a:tblPr/>
              <a:tblGrid>
                <a:gridCol w="3276720"/>
                <a:gridCol w="1419120"/>
                <a:gridCol w="1731960"/>
                <a:gridCol w="1344600"/>
              </a:tblGrid>
              <a:tr h="100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fec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- Surgical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2 (p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8 (p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%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Surgical Site Infections (procedu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7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DBA-125E-42CB-84AA-34D1FA1C8BA7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51" name="Rectangle 25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2A1B-FE02-40F4-9164-8C1DFA1A341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3" name="Object 6"/>
          <p:cNvGraphicFramePr/>
          <p:nvPr/>
        </p:nvGraphicFramePr>
        <p:xfrm>
          <a:off x="762120" y="1650960"/>
          <a:ext cx="731520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6" descr="graph - surgical site infection percentage by year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0960"/>
                    <a:ext cx="731520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5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56" name="Rectangle 11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088040" cy="992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ection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he only consistent data recorded for infections during the 5 years of this study were for ventilator pneumonia and surgical site infec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AC31-6DF7-4F2F-8222-2A9A158FF290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3520" y="3505320"/>
          <a:ext cx="7696080" cy="2468520"/>
        </p:xfrm>
        <a:graphic>
          <a:graphicData uri="http://schemas.openxmlformats.org/drawingml/2006/table">
            <a:tbl>
              <a:tblPr/>
              <a:tblGrid>
                <a:gridCol w="1676160"/>
                <a:gridCol w="860400"/>
                <a:gridCol w="858960"/>
                <a:gridCol w="860400"/>
                <a:gridCol w="860400"/>
                <a:gridCol w="860400"/>
                <a:gridCol w="858960"/>
                <a:gridCol w="860400"/>
              </a:tblGrid>
              <a:tr h="10087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fec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- Ventilator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Ventilator Pneumonia 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5.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0.9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0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61" name="Rectangle 37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AA9-14F4-4283-B57E-9F8778ABB226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3" name="Object 6"/>
          <p:cNvGraphicFramePr/>
          <p:nvPr/>
        </p:nvGraphicFramePr>
        <p:xfrm>
          <a:off x="1295280" y="1725480"/>
          <a:ext cx="666756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6" descr="graph - ventilator pneumonia rate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25480"/>
                    <a:ext cx="666756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5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66" name="Rectangle 11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35DC-C39A-4FB8-A9DA-23B680E9B15D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066680" y="2286000"/>
          <a:ext cx="6934320" cy="26640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Patient F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</a:tr>
              <a:tr h="15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The number of patient falls steadily declined during the study period, from 149 to 31 (almost 80%), with one spike in 2006 of 115 falls (the new hospital opened in 2005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70" name="Rectangle 13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D269-C373-416F-AD89-CE8358AB9A8D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2" name="Object 6"/>
          <p:cNvGraphicFramePr/>
          <p:nvPr/>
        </p:nvGraphicFramePr>
        <p:xfrm>
          <a:off x="1143000" y="1511280"/>
          <a:ext cx="68580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Object 6" descr="graph - # of patient falls reported per year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11280"/>
                    <a:ext cx="6858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4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75" name="Rectangle 11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A87-2D03-4384-81AC-4A22C19C0A4D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066680" y="2209680"/>
          <a:ext cx="6934320" cy="26640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Transfusion Related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</a:tr>
              <a:tr h="159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The number of transfusion events stayed consistent throughout the study period, at .3%.  Almost all of these were considered not preventabl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8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79" name="Rectangle 13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1ADD-D249-4041-BFBC-B4364507A6E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8" descr="book cover - to err is human"/>
          <p:cNvPicPr/>
          <p:nvPr/>
        </p:nvPicPr>
        <p:blipFill>
          <a:blip r:embed="rId1"/>
          <a:stretch/>
        </p:blipFill>
        <p:spPr>
          <a:xfrm>
            <a:off x="2819520" y="1676520"/>
            <a:ext cx="327636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5880-91BF-46BD-84DD-D7A230F2B232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1219320" y="1636560"/>
          <a:ext cx="66294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4" descr="graph - # of transfusion related events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36560"/>
                    <a:ext cx="66294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3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84" name="Rectangle 9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50E-6C43-406D-97A6-7109AB0279BA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990720" y="1600200"/>
          <a:ext cx="71848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5" descr="graph - % of transfusion related events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1848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8" name="Picture 14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89" name="Rectangle 10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33D9-B651-455A-9D87-F5341FA2A998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143000" y="1981080"/>
          <a:ext cx="7010280" cy="365472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20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eaths of Patients in Restr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patient Suic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orrect Tube-Correct Connector-Correct 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eaths Related to Surgery at Wrong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MRI Haz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</a:tr>
              <a:tr h="15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se adverse events had Zero occurrences in 2002 and the incidence rate stayed at Zero during the study period ending 200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2" name="Rectangle 13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8D1-660A-473E-A9D2-5B886FA00FAC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n/Six Sigma Process Redesig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Fl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l vs. Pu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ize Wor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Contr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en Technolo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lture of stopping to fix problem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quality right the first ti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0" y="6477120"/>
            <a:ext cx="50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9FEF-B41B-4D62-8EE1-EBD751C86429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ty Cul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Values/Beliefs about Safety within the Organization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Anticipating Precarious Ev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ed Employees and Medical Staf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e of Reporting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 Cultu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” Cultu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ame-Free Environment Recognizing Human Infallibili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ian Team Work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e of Continuous Improve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owering Families to Participate in Care of Pati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ed &amp; Activated Pati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DB0-0CF4-42EF-8629-0776E75A5B3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isk of dying as a result of medical error far surpasses the risk of dying in an airline acciden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on domestic flights: 1 in 8,000,000 fligh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C44E-9231-4C1B-9AE2-076CCD47E98A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in hospitals from medical errors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in 343 admits  to  1 in 764 admi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erse Events in Hospita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in 27 admits to 1 in 34 admi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4238-B743-415C-8B90-260A3BC91E6E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Picture 2" descr="book cover - Managing the Risks of Organizational Accidents"/>
          <p:cNvPicPr/>
          <p:nvPr/>
        </p:nvPicPr>
        <p:blipFill>
          <a:blip r:embed="rId1"/>
          <a:stretch/>
        </p:blipFill>
        <p:spPr>
          <a:xfrm>
            <a:off x="2916360" y="1700280"/>
            <a:ext cx="3179520" cy="48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49E-947A-4974-A689-DECA30FAA43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ipant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H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GM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h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 for Pati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W-Milwauke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 at 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versity of M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H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H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M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CAHO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Rectangle 6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im Adams, Exec. Director &amp; Fellow, IBM Center of Healthcare Managemen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nk T. Brogan, President, Florida Atlantic Universit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olyn Clancy, MD, MPH, Director of Agency for Healthcare Research &amp; Qualit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F. Coyne, PhD., Former Senior VP for R&amp;D for 3M, Healthcare for 3M, and 3M Canad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 Flaherty, M.D., Past Chairman, NPSF &amp; Past Chair of American Medical Association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lee Smith Gelinas, RN, BSN, MSN, FAAN, Vice President &amp; Chief Nursing Officer of VHA, Inc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cal Goldschmidt, MD, Senior Vice President &amp; Dean, University of Miami Miller School of Medicin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nald Holmquest, M.D., Ph.D., J.D., President &amp; CEO of California Regional Health Information Org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verly Johnson, President &amp; CEO, Institute for Family Centered Healthcar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ucian L. Leape, MD, Adjunct Professor, Harvard Univ. School of Public Health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hy Malloch, PhD., MBA, RN, FAAN, Pres of Malloch &amp; Assoc &amp; Director of the MHI Program at ASU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vid Marx, J.D., President of Outcome Engineering, LLC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vid Nash, M.D., M.B.A., FACP, Chairman, Jefferson Medical College, Thomas Jefferson Universit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ard Norling, Chief Executive Officer and Director of Premier, Inc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nnis O’Leary, President Emeritus of Joint Commission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ul O’Neill, Former Secretary of the U.S. Treasur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y A. Pittman, Ph.D., American Hospital Association &amp; Current President of the Public Health Institute &amp; Past President of the Health Research and Educational Trus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Rupp, MD, Past President of Luther Midelfort &amp; Immanuel St. Joseph’s-Mayo Health Systems &amp; Institute for Healthcare Improvemen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nna E. Shalala, Ph.D, President, University of Miami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il Warden, President Emeritus, Henry Ford Health Systems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nnet Waters, D.H.A., Chief of Staff for the US Dept. of Homeland Security, Office of Chief Medi Officer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5FEC-DA9F-4303-A45C-D2CC14C29650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nvironm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acilities, equipment, technology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fects perform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ocesses affect perform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lture affects perform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23:28Z</dcterms:created>
  <dc:creator>Al Taylor</dc:creator>
  <dc:description/>
  <dc:language>en-US</dc:language>
  <cp:lastModifiedBy> </cp:lastModifiedBy>
  <cp:lastPrinted>2006-01-06T20:09:57Z</cp:lastPrinted>
  <dcterms:modified xsi:type="dcterms:W3CDTF">2010-03-02T15:46:54Z</dcterms:modified>
  <cp:revision>417</cp:revision>
  <dc:subject/>
  <dc:title>No Slide Title</dc:title>
</cp:coreProperties>
</file>