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5.png" ContentType="image/png"/>
  <Override PartName="/ppt/media/image16.jpeg" ContentType="image/jpeg"/>
  <Override PartName="/ppt/media/image15.wmf" ContentType="image/x-wmf"/>
  <Override PartName="/ppt/media/image1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8C06-AFBE-4A86-973B-70ECAF0305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DDB0-F081-4F09-A3AA-FDD86E754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NVBBVB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DFCF-1148-4563-9445-D8E1A68E1C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6AC5-6C78-4ED1-89FA-203891A844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C7A4-1A26-4219-BE4F-A6BC590384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model we used for learning change.    It recognizes the technical (science) part and the adaptive (emotional attitudes par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aging people is adaptive work done locally by telling stories and showing current evidence of ha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ucate is technical.  What is the evid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cute is adaptive and local.  Given my resources, how do I ensure all patients reliably receive the evid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e is technical.  We have to measure in a scientifically sound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30C9-F3A1-4830-BCF7-08818973CE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56D4-9BC8-47EC-A028-216BA865A4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vention we used to improve culture and learn from mistakes is the comprehensive unit based safety program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role in the csicu was as the executive who adopted that unit.    You can tell some of the defects you surfa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F481-6ED1-4D04-9AFF-1C8D61A80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A8D7-0FF1-40CF-BBED-C876A5AAF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05E5-2DFA-4C95-80A9-FF75EFD0895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1C9D-6209-45DE-82FF-CB2134FB4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65A2-2985-43F8-A9AF-E463473BE6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F82B-5C4A-4CBD-B211-3DFA90E75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C4C6-CFD9-4049-84C1-D9B4088F7C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891720" y="4346640"/>
            <a:ext cx="503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1EFE-5E8D-4FC7-A4F5-CE8E48AD26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891720" y="4346640"/>
            <a:ext cx="503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6DB0-A07C-455B-8804-DF717B397D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4861-DAD4-44B8-BF15-0D4BE56CD9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6935-1C4A-441C-8BFA-92F1E18EE4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C538C7-0B96-4D7A-91A6-A89A0422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810C49-AB69-4AEE-9726-97612647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483D80-D953-476F-9440-A711C97E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A85547-CF11-40B1-976D-9CEC5DFD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8DDF85-A3E8-4D8F-B963-5BC1E9B7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3037BF-B6F5-4C50-A78E-29C3D095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DF2097-2BC8-4A5E-9D8D-D12E59D6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AE2658-C67B-4576-99FC-19AB4C9FF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0F9F9B-3039-4E06-91BB-D1C913115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63CAE4-8D2D-42F9-9C01-4F4C0076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5C8E44-3351-4255-8012-F06751B7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1974E6-E0BE-4323-B240-C260030E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9D5BE2-8527-4391-A677-9A427091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2BCEBF-3AC7-4AE9-9D00-B0476C21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4EB5B4-013E-4DC2-93F9-3556098E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B3651D-185C-4CB0-942F-525F070E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B3B53B-71FE-4281-966B-FBD5EEB3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E4FBCD-F4D8-4FAD-B205-D6B22164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6FB20E-B154-40C8-AAF4-9A61E54E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819C5D-970B-4DF1-8254-CFDFD050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1A2FD7-1678-44C3-BEBA-E113EF76C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B7BE40-97F9-4D09-BB6D-CD64F571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4E0303-9D3D-4D47-B0E8-10337CAE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4395B4-AE69-4894-9013-668FCB2B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3F1B34-01DC-4D94-AF28-08CC5D0E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5990B9-7B99-4E25-9048-773C01B4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7A8AF6-5447-47AE-ADB7-6E366921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3A4EC4-FD95-41B9-BC2C-D74CBA73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27A6C1-4264-45BA-8678-6F4B0549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6039AC-F6A2-469C-9767-F67EB5DD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E6169B-BF0A-4503-B0BC-31BEFD63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ABAFB7-4367-4EE5-8E8C-34769378C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2001EE-A847-4F47-BCD7-5D89D6551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50D874-D273-4CE6-80E6-7D9E3655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79A965-F453-4395-8F45-BAA23C36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D7F9D5-DEFA-4030-A939-79128A7E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8CBD28-8394-47D6-8C85-FBA35A39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BA894E-AC91-4E27-93DF-976580AD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304663-6173-4EAB-BDB5-7E05A1FE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CF3EA1-838B-4FE1-ACD4-ABE12F28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754ABE-A170-4BEF-95D7-56BEF09A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D840E4-BC18-402D-A05D-B9B4A218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0D8A62-DDB5-4F38-9BFF-A11D7EFD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35124F-BA10-47DB-81B4-B621BD3A2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56CCAD-BBBB-40FE-9DD4-6223F637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8BBC69-FE40-4D54-8BC9-1940666E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9B2A59-5621-46D0-8B2A-D0D8B24A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AA9285-9574-41E0-A006-6B41A3BD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50C305-1919-4976-AE22-9F731177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00272E-6DEB-4AD2-996D-EC9D8649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8E1F8C-AF0A-409C-9E0A-7DB86737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84B0DD-7C43-493A-80C2-222B8885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7D33FB-25D7-4F08-B1FF-B3C8FFD1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5CE01F-263D-4126-B993-B49A7B1A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17037C-BB86-47C5-A900-7E46341F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6E2308-CE57-4451-8EB2-5D39BDE18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3FCB83-B8FA-4D01-AF57-4AF8F3141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D62180-D8F7-4F51-AA11-5468B1891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506C7E-45F8-4719-8E3F-9D895E84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54D721-434B-4F6C-8895-67D28049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A35057-B9E6-4AB6-87F4-54197864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BA3194-E647-4254-9889-B59E3C59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751313-3163-432D-BF7A-50F6DE1F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FBA081-3A4C-4FF9-B029-E935D409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E98F4C-9F40-4F5B-820F-0BD71932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E4828D-63C5-47EC-9A6A-4A09CBF7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38088B-710E-4DFE-ABB5-10110E56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251DE7-8A3A-4DF7-A6B3-1295EA03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2ECB96-EB54-49BC-A380-44326A90D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04674A-46ED-479B-94DB-56805B15B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389A86-581F-4D11-957A-2852DB3F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97D944-E2A5-40B3-8708-3DC0D566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CB38FB-B5F6-4FB4-8CA0-0514D235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4414B9-BB38-429E-AC90-98CB64BB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4409C1-9B55-48B6-8E84-30BD7DE0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0BFEF7-58DF-4412-9774-88094282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181AF8-355C-459A-AE1C-F7062139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AC2E6B-E5E5-4C96-A6AC-35A5D90C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774B63-1D4D-49A3-B40F-33D6655A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C6AE8C-3FA4-403E-B587-AB0F95EE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AB49FF-88BC-43FF-80F3-74E03CFA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1227B4-16E0-4250-B71A-496366D1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EBED4D-409C-458E-B5CB-192CBC4A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035F1B-DADA-4F4F-86D5-EBEB979F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903DF9-B7F4-4D11-8E65-D0A7EBCA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191FEB-A58D-49C8-A785-D27FD036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30EAD0-CF35-4A02-82BE-C1F9BB37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50A399-6717-4280-9DE7-FA29CBFD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C39C21-2EAD-4632-BB76-7134A52F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BC4BFC-3A1A-48DD-879B-2472DE90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5F7431-FDE8-4B9F-B353-A3984270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FE0BF0-3143-4873-91BB-2CF17214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7633E3-02F8-4805-9E72-05298B06D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D0EC9A-3B33-43EF-8165-FBAF3C1C3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FD40DC-AD90-416A-99BB-19D15121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11E841-73C2-4520-A1E7-FAFFDB59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BE0A-7679-4CBB-A62E-F285B81EC9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24DF-BDE2-4A70-B48C-0283B998FD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F2D3-1440-4161-94AD-9D9B186283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3491-7FBC-4245-87BB-8AADBA8463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3E02-1B9F-4061-B78D-38D07D60FB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Rounded Rectangle 4"/>
          <p:cNvGrpSpPr/>
          <p:nvPr/>
        </p:nvGrpSpPr>
        <p:grpSpPr>
          <a:xfrm>
            <a:off x="-6480" y="-6480"/>
            <a:ext cx="9156960" cy="1158840"/>
            <a:chOff x="-6480" y="-6480"/>
            <a:chExt cx="9156960" cy="1158840"/>
          </a:xfrm>
        </p:grpSpPr>
        <p:pic>
          <p:nvPicPr>
            <p:cNvPr id="456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0" y="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ftr" idx="29"/>
          </p:nvPr>
        </p:nvSpPr>
        <p:spPr>
          <a:xfrm>
            <a:off x="62481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ftr" idx="30"/>
          </p:nvPr>
        </p:nvSpPr>
        <p:spPr>
          <a:xfrm>
            <a:off x="62481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Rounded Rectangle 6"/>
          <p:cNvGrpSpPr/>
          <p:nvPr/>
        </p:nvGrpSpPr>
        <p:grpSpPr>
          <a:xfrm>
            <a:off x="-6480" y="2664000"/>
            <a:ext cx="9156960" cy="1152360"/>
            <a:chOff x="-6480" y="2664000"/>
            <a:chExt cx="9156960" cy="1152360"/>
          </a:xfrm>
        </p:grpSpPr>
        <p:pic>
          <p:nvPicPr>
            <p:cNvPr id="41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-6480" y="2664000"/>
              <a:ext cx="91569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" name=""/>
            <p:cNvSpPr/>
            <p:nvPr/>
          </p:nvSpPr>
          <p:spPr>
            <a:xfrm>
              <a:off x="0" y="266688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" name="Picture 9" descr="Z:\heon-jaejeong On My Mac\Desktop\Picture 12.png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636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76A7-603A-4331-B2C9-35754043EF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Rounded Rectangle 5"/>
          <p:cNvGrpSpPr/>
          <p:nvPr/>
        </p:nvGrpSpPr>
        <p:grpSpPr>
          <a:xfrm>
            <a:off x="-6480" y="-6480"/>
            <a:ext cx="9156960" cy="1158840"/>
            <a:chOff x="-6480" y="-6480"/>
            <a:chExt cx="9156960" cy="1158840"/>
          </a:xfrm>
        </p:grpSpPr>
        <p:pic>
          <p:nvPicPr>
            <p:cNvPr id="85" name="Rounded Rectangle 5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0" y="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9" descr="Z:\heon-jaejeong On My Mac\Desktop\Picture 12.png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63680"/>
          </a:xfrm>
          <a:prstGeom prst="rect">
            <a:avLst/>
          </a:prstGeom>
          <a:ln w="0">
            <a:noFill/>
          </a:ln>
        </p:spPr>
      </p:pic>
      <p:sp>
        <p:nvSpPr>
          <p:cNvPr id="88" name="TextBox 6"/>
          <p:cNvSpPr/>
          <p:nvPr/>
        </p:nvSpPr>
        <p:spPr>
          <a:xfrm>
            <a:off x="3886200" y="6488280"/>
            <a:ext cx="15238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76092"/>
                </a:solidFill>
                <a:latin typeface="Century Gothic"/>
              </a:rPr>
              <a:t>Slide </a:t>
            </a:r>
            <a:fld id="{B0B4D20E-9F85-4DA8-B994-B8C5DDDC7201}" type="slidenum">
              <a:rPr b="0" lang="en-US" sz="1600" spc="-1" strike="noStrike">
                <a:solidFill>
                  <a:srgbClr val="376092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1722-DE57-47E7-A3F6-A305A07621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54F4-386E-41EA-9FE9-E527A09A12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102E-4B64-425C-A083-E29F55230F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2851-D166-4F13-9239-55794F230D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B425-6911-4086-9A63-BDC79F06A9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9D52-FFCD-4F30-8D62-EAD08E7C9C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2D47-9F6A-484D-802B-85970A303F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C1C7-3221-48BD-A356-730CBB922F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E4C3-CA80-4B6E-9FAE-A672EF323A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93F9-24E1-4FEB-9CC9-851C94EF18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926B-2079-4429-8932-DF66880251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7492-7E96-40BA-98FA-015F60659E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afercare.net/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440" y="2690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Overview of STOP-BSI Program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Peter Pronovost, MD, Ph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4920" y="2492280"/>
            <a:ext cx="85341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Intervention to Eliminate CLABS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2" descr="flow chart"/>
          <p:cNvPicPr/>
          <p:nvPr/>
        </p:nvPicPr>
        <p:blipFill>
          <a:blip r:embed="rId1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610" name="TextBox 2"/>
          <p:cNvSpPr/>
          <p:nvPr/>
        </p:nvSpPr>
        <p:spPr>
          <a:xfrm>
            <a:off x="380880" y="64008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novost BMJ 20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Tahoma"/>
              </a:rPr>
              <a:t>Evidence-based Behavior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Tahoma"/>
              </a:rPr>
              <a:t>to Prevent CLABS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609588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Remove Unnecessary 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Wash Hands Prior to Proced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Use Maximal Barrier Preca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Clean Skin with Chlorhexid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Avoid Femoral 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 Box 3"/>
          <p:cNvSpPr/>
          <p:nvPr/>
        </p:nvSpPr>
        <p:spPr>
          <a:xfrm>
            <a:off x="5029200" y="59403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0253f"/>
                </a:solidFill>
                <a:latin typeface="Arial"/>
              </a:rPr>
              <a:t>MMWR. 2002;51:RR-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Tahoma"/>
              </a:rPr>
              <a:t>Identify Barr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Ask staff about knowledg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Tahoma"/>
              </a:rPr>
              <a:t>Use team check up to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Ask staff what is difficult about doing these behavi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Walk the process  of staff placing a central 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Observe staff placing central 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Tahoma"/>
              </a:rPr>
              <a:t>Ensure Patients Reliably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Tahoma"/>
              </a:rPr>
              <a:t>Receive Evid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 Box 26"/>
          <p:cNvSpPr/>
          <p:nvPr/>
        </p:nvSpPr>
        <p:spPr>
          <a:xfrm>
            <a:off x="3000240" y="580716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4061"/>
                </a:solidFill>
                <a:latin typeface="Arial"/>
              </a:rPr>
              <a:t>Pronovost: Health Services Research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576360" y="1573200"/>
          <a:ext cx="8001000" cy="4218120"/>
        </p:xfrm>
        <a:graphic>
          <a:graphicData uri="http://schemas.openxmlformats.org/drawingml/2006/table">
            <a:tbl>
              <a:tblPr/>
              <a:tblGrid>
                <a:gridCol w="2000160"/>
                <a:gridCol w="2000160"/>
                <a:gridCol w="2000160"/>
                <a:gridCol w="2000520"/>
              </a:tblGrid>
              <a:tr h="503280">
                <a:tc rowSpan="2"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75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enior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17375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Team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17375d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taff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75d"/>
                    </a:solidFill>
                  </a:tcPr>
                </a:tc>
              </a:tr>
              <a:tr h="52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leader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75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leader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75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1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ngag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452a"/>
                    </a:solidFill>
                  </a:tcPr>
                </a:tc>
                <a:tc gridSpan="3">
                  <a:txBody>
                    <a:bodyPr lIns="8352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does this make the world a better place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3520" marR="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1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ducat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452a"/>
                    </a:solidFill>
                  </a:tcPr>
                </a:tc>
                <a:tc gridSpan="3">
                  <a:txBody>
                    <a:bodyPr lIns="8352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do we need to do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3520" marR="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xecut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452a"/>
                    </a:solidFill>
                  </a:tcPr>
                </a:tc>
                <a:tc gridSpan="3">
                  <a:txBody>
                    <a:bodyPr lIns="8352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keeps me from doing i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3520" marR="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352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can we do it with my resources and culture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3520" marR="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7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valuat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4a452a"/>
                    </a:solidFill>
                  </a:tcPr>
                </a:tc>
                <a:tc gridSpan="3">
                  <a:txBody>
                    <a:bodyPr lIns="8352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do we know we improved safety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3520" marR="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Tahoma"/>
              </a:rPr>
              <a:t>Ideas for ensuring patients receive the interventions: the 4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Engage: stories, show baseline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Educate staff on evi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Execu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Tahoma"/>
              </a:rPr>
              <a:t>Standardize: Create line ca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Tahoma"/>
              </a:rPr>
              <a:t>Create independent checks: Create BSI check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Tahoma"/>
              </a:rPr>
              <a:t>Empower nurses to stop takeof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Tahoma"/>
              </a:rPr>
              <a:t>Learn from mistakes: review infe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Tahoma"/>
              </a:rPr>
              <a:t>Feedback 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Tahoma"/>
              </a:rPr>
              <a:t>View infections as def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Tahoma"/>
              </a:rPr>
              <a:t>Pre CUSP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Create an ICU te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Tahoma"/>
              </a:rPr>
              <a:t>Nurse, physician administrator, oth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Tahoma"/>
              </a:rPr>
              <a:t>Assign a team lea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Measure Culture in the IC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(discuss with hospital association l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Work with hospital quality leader to have a senior executive assigned to ICU te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-90720" y="-144720"/>
            <a:ext cx="9372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entury Gothic"/>
                <a:ea typeface="Tahoma"/>
              </a:rPr>
              <a:t>Comprehensive Unit-based Safety Program (CUSP) 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  <a:ea typeface="Tahoma"/>
              </a:rPr>
              <a:t>An Intervention to Learn from Mistakes and Improve Safety Cul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98160" y="1981080"/>
            <a:ext cx="73882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Educate staff on science of safety  </a:t>
            </a:r>
            <a:r>
              <a:rPr b="0" lang="en-US" sz="1800" spc="-1" strike="noStrike" u="sng">
                <a:solidFill>
                  <a:srgbClr val="558ed5"/>
                </a:solidFill>
                <a:uFillTx/>
                <a:latin typeface="Century Gothic"/>
                <a:ea typeface="Tahoma"/>
              </a:rPr>
              <a:t>http://www.safercare.net</a:t>
            </a:r>
            <a:br>
              <a:rPr sz="2000"/>
            </a:br>
            <a:r>
              <a:rPr b="0" lang="en-US" sz="2000" spc="-1" strike="noStrike" u="sng">
                <a:solidFill>
                  <a:srgbClr val="558ed5"/>
                </a:solidFill>
                <a:uFillTx/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Identify defec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Assign executive to adopt un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Learn from one defect per quar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Implement teamwork too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 Box 4"/>
          <p:cNvSpPr/>
          <p:nvPr/>
        </p:nvSpPr>
        <p:spPr>
          <a:xfrm>
            <a:off x="2438280" y="6477120"/>
            <a:ext cx="69343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26"/>
          <p:cNvSpPr/>
          <p:nvPr/>
        </p:nvSpPr>
        <p:spPr>
          <a:xfrm>
            <a:off x="2666880" y="563868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4061"/>
                </a:solidFill>
                <a:latin typeface="Arial"/>
              </a:rPr>
              <a:t>Pronovost J, </a:t>
            </a:r>
            <a:r>
              <a:rPr b="0" i="1" lang="en-US" sz="1400" spc="-1" strike="noStrike">
                <a:solidFill>
                  <a:srgbClr val="254061"/>
                </a:solidFill>
                <a:latin typeface="Arial"/>
              </a:rPr>
              <a:t>Patient Safety</a:t>
            </a:r>
            <a:r>
              <a:rPr b="0" lang="en-US" sz="1400" spc="-1" strike="noStrike">
                <a:solidFill>
                  <a:srgbClr val="254061"/>
                </a:solidFill>
                <a:latin typeface="Arial"/>
              </a:rPr>
              <a:t>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Tahoma"/>
              </a:rPr>
              <a:t>Identify De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Review error reports, liability claims, sentinel ev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or M and M confer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Ask staff how will the next patient be harm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Tahoma"/>
              </a:rPr>
              <a:t>Prioritize De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List all def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Discuss with staff what are the three greatest ri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josie, little girl"/>
          <p:cNvPicPr/>
          <p:nvPr/>
        </p:nvPicPr>
        <p:blipFill>
          <a:blip r:embed="rId1"/>
          <a:stretch/>
        </p:blipFill>
        <p:spPr>
          <a:xfrm>
            <a:off x="2252520" y="762120"/>
            <a:ext cx="4529160" cy="5553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Tahoma"/>
              </a:rPr>
              <a:t>Executive Partner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Tahoma"/>
              </a:rPr>
              <a:t>Executive should become a member of ICU 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Tahoma"/>
              </a:rPr>
              <a:t>Executive should meet monthly with ICU 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Tahoma"/>
              </a:rPr>
              <a:t>Executive should review defects, ensure ICU team has resources to reduce risks, and how team accountable for improving risks and central line associated blood steam infec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Tahoma"/>
              </a:rPr>
              <a:t>Learning from Mistak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828800" y="152388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What happen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Why did it happen (system lens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What could you do to reduce r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How to you know risk was redu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Create policy / process / proced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Ensure staff know poli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Evaluate if policy is used correct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 Box 26"/>
          <p:cNvSpPr/>
          <p:nvPr/>
        </p:nvSpPr>
        <p:spPr>
          <a:xfrm>
            <a:off x="2666880" y="593244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4061"/>
                </a:solidFill>
                <a:latin typeface="Arial"/>
              </a:rPr>
              <a:t>Pronovost 2005 JCJQ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Tahoma"/>
              </a:rPr>
              <a:t>Teamwork To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124080" y="1523520"/>
            <a:ext cx="4572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Call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Daily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AM brief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Shadow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Culture check 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TEAMSTep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 Box 26"/>
          <p:cNvSpPr/>
          <p:nvPr/>
        </p:nvSpPr>
        <p:spPr>
          <a:xfrm>
            <a:off x="4343400" y="588960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4061"/>
                </a:solidFill>
                <a:latin typeface="Arial"/>
              </a:rPr>
              <a:t>Pronovost JCC, JCJQ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4920" y="2492280"/>
            <a:ext cx="85341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an We Do th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Tahoma"/>
              </a:rPr>
              <a:t>Safety Score Car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  <a:ea typeface="Tahoma"/>
              </a:rPr>
              <a:t>Keystone ICU Safety Dashbo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Rounded Rectangle 8"/>
          <p:cNvSpPr/>
          <p:nvPr/>
        </p:nvSpPr>
        <p:spPr>
          <a:xfrm>
            <a:off x="2286000" y="4952880"/>
            <a:ext cx="5029200" cy="4572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entury Gothic"/>
              </a:rPr>
              <a:t>CUSP is intervention to improve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457200" y="1905120"/>
          <a:ext cx="8229600" cy="2793960"/>
        </p:xfrm>
        <a:graphic>
          <a:graphicData uri="http://schemas.openxmlformats.org/drawingml/2006/table">
            <a:tbl>
              <a:tblPr/>
              <a:tblGrid>
                <a:gridCol w="5278320"/>
                <a:gridCol w="1535400"/>
                <a:gridCol w="1415880"/>
              </a:tblGrid>
              <a:tr h="41904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17375d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17375d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17375d"/>
                    </a:solidFill>
                  </a:tcPr>
                </a:tc>
              </a:tr>
              <a:tr h="417600">
                <a:tc>
                  <a:txBody>
                    <a:bodyPr lIns="7236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ow often did we harm (BSI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36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8/1000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</a:tr>
              <a:tr h="419040">
                <a:tc>
                  <a:txBody>
                    <a:bodyPr lIns="7236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ow often do we do what we shoul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36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6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5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</a:tr>
              <a:tr h="419040">
                <a:tc>
                  <a:txBody>
                    <a:bodyPr lIns="7236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7375d"/>
                          </a:solidFill>
                          <a:latin typeface="Century Gothic"/>
                        </a:rPr>
                        <a:t>How often did we learn from mistakes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36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</a:tr>
              <a:tr h="526680">
                <a:tc>
                  <a:txBody>
                    <a:bodyPr lIns="7236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7375d"/>
                          </a:solidFill>
                          <a:latin typeface="Century Gothic"/>
                        </a:rPr>
                        <a:t>Have we created a safe cultu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7375d"/>
                          </a:solidFill>
                          <a:latin typeface="Century Gothic"/>
                        </a:rPr>
                        <a:t>% Needs improvement in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36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2d69a"/>
                    </a:solidFill>
                  </a:tcPr>
                </a:tc>
              </a:tr>
              <a:tr h="2966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7375d"/>
                          </a:solidFill>
                          <a:latin typeface="Century Gothic"/>
                        </a:rPr>
                        <a:t>                                </a:t>
                      </a:r>
                      <a:r>
                        <a:rPr b="1" lang="en-US" sz="1700" spc="-1" strike="noStrike">
                          <a:solidFill>
                            <a:srgbClr val="17375d"/>
                          </a:solidFill>
                          <a:latin typeface="Century Gothic"/>
                        </a:rPr>
                        <a:t>Safety clim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4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69a"/>
                    </a:solidFill>
                  </a:tcPr>
                </a:tc>
              </a:tr>
              <a:tr h="295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7375d"/>
                          </a:solidFill>
                          <a:latin typeface="Century Gothic"/>
                        </a:rPr>
                        <a:t>                                </a:t>
                      </a:r>
                      <a:r>
                        <a:rPr b="1" lang="en-US" sz="1700" spc="-1" strike="noStrike">
                          <a:solidFill>
                            <a:srgbClr val="17375d"/>
                          </a:solidFill>
                          <a:latin typeface="Century Gothic"/>
                        </a:rPr>
                        <a:t>Teamwork climate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RBSI Rate Summary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4" name="Object 1028"/>
          <p:cNvGraphicFramePr/>
          <p:nvPr/>
        </p:nvGraphicFramePr>
        <p:xfrm>
          <a:off x="228600" y="838080"/>
          <a:ext cx="891540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5" name="Object 1028" descr="table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38080"/>
                    <a:ext cx="89154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6" name="Rectangle 1029"/>
          <p:cNvSpPr/>
          <p:nvPr/>
        </p:nvSpPr>
        <p:spPr>
          <a:xfrm>
            <a:off x="5562720" y="1343160"/>
            <a:ext cx="3336840" cy="320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031"/>
          <p:cNvSpPr/>
          <p:nvPr/>
        </p:nvSpPr>
        <p:spPr>
          <a:xfrm>
            <a:off x="5562720" y="4191120"/>
            <a:ext cx="3336840" cy="320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032"/>
          <p:cNvSpPr/>
          <p:nvPr/>
        </p:nvSpPr>
        <p:spPr>
          <a:xfrm>
            <a:off x="5562720" y="6516720"/>
            <a:ext cx="3336840" cy="320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RBSI Rate Over 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0" name="Picture 5" descr="diagram of CRBSI rate over time"/>
          <p:cNvPicPr/>
          <p:nvPr/>
        </p:nvPicPr>
        <p:blipFill>
          <a:blip r:embed="rId1"/>
          <a:srcRect l="3409" t="4249" r="3203" b="2252"/>
          <a:stretch/>
        </p:blipFill>
        <p:spPr>
          <a:xfrm>
            <a:off x="314280" y="1300320"/>
            <a:ext cx="8140680" cy="5019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AP Rate Over 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2" name="Picture 4" descr="diagram of VAP rate over time"/>
          <p:cNvPicPr/>
          <p:nvPr/>
        </p:nvPicPr>
        <p:blipFill>
          <a:blip r:embed="rId1"/>
          <a:srcRect l="7685" t="1411" r="1499" b="2808"/>
          <a:stretch/>
        </p:blipFill>
        <p:spPr>
          <a:xfrm>
            <a:off x="303120" y="1444680"/>
            <a:ext cx="8534520" cy="5089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ichigan ICU Safety Climate</a:t>
            </a:r>
            <a:br>
              <a:rPr sz="44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mprov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4" name="Picture 7" descr="bar graph of ICU safety climate improvement"/>
          <p:cNvPicPr/>
          <p:nvPr/>
        </p:nvPicPr>
        <p:blipFill>
          <a:blip r:embed="rId1"/>
          <a:srcRect l="2518" t="2073" r="2353" b="2073"/>
          <a:stretch/>
        </p:blipFill>
        <p:spPr>
          <a:xfrm>
            <a:off x="1069920" y="1219320"/>
            <a:ext cx="6705720" cy="493524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8"/>
          <p:cNvSpPr/>
          <p:nvPr/>
        </p:nvSpPr>
        <p:spPr>
          <a:xfrm>
            <a:off x="380880" y="63244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</a:rPr>
              <a:t>* “Needs Improvement” - Safety Climate Score &lt;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8" name="Picture 4" descr="6 of 7 domains have shown statistically significant improvements since 2006.  &#10;"/>
          <p:cNvPicPr/>
          <p:nvPr/>
        </p:nvPicPr>
        <p:blipFill>
          <a:blip r:embed="rId1"/>
          <a:srcRect l="23096" t="23038" r="21222" b="7676"/>
          <a:stretch/>
        </p:blipFill>
        <p:spPr>
          <a:xfrm>
            <a:off x="147600" y="3240"/>
            <a:ext cx="9001080" cy="685332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5"/>
          <p:cNvSpPr/>
          <p:nvPr/>
        </p:nvSpPr>
        <p:spPr>
          <a:xfrm>
            <a:off x="1392120" y="1905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6"/>
          <p:cNvSpPr/>
          <p:nvPr/>
        </p:nvSpPr>
        <p:spPr>
          <a:xfrm>
            <a:off x="2535120" y="1905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7"/>
          <p:cNvSpPr/>
          <p:nvPr/>
        </p:nvSpPr>
        <p:spPr>
          <a:xfrm>
            <a:off x="3449520" y="1905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8"/>
          <p:cNvSpPr/>
          <p:nvPr/>
        </p:nvSpPr>
        <p:spPr>
          <a:xfrm>
            <a:off x="5430600" y="1905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9"/>
          <p:cNvSpPr/>
          <p:nvPr/>
        </p:nvSpPr>
        <p:spPr>
          <a:xfrm>
            <a:off x="6497640" y="1905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0"/>
          <p:cNvSpPr/>
          <p:nvPr/>
        </p:nvSpPr>
        <p:spPr>
          <a:xfrm>
            <a:off x="7564320" y="1905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1"/>
          <p:cNvSpPr/>
          <p:nvPr/>
        </p:nvSpPr>
        <p:spPr>
          <a:xfrm>
            <a:off x="6035400" y="602280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Statistically 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bar graph of wrong-site surgeries reviewed by yea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6" descr="diagram of ICU safety climate score distributions"/>
          <p:cNvPicPr/>
          <p:nvPr/>
        </p:nvPicPr>
        <p:blipFill>
          <a:blip r:embed="rId1"/>
          <a:stretch/>
        </p:blipFill>
        <p:spPr>
          <a:xfrm>
            <a:off x="0" y="1981080"/>
            <a:ext cx="4495680" cy="449604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7" descr="diagram of ICU safety climate score distributions"/>
          <p:cNvPicPr/>
          <p:nvPr/>
        </p:nvPicPr>
        <p:blipFill>
          <a:blip r:embed="rId2"/>
          <a:stretch/>
        </p:blipFill>
        <p:spPr>
          <a:xfrm>
            <a:off x="4648320" y="2590920"/>
            <a:ext cx="4495680" cy="41148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ichigan ICU Safety Climate</a:t>
            </a:r>
            <a:br>
              <a:rPr sz="44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core Distribu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2"/>
          <p:cNvSpPr/>
          <p:nvPr/>
        </p:nvSpPr>
        <p:spPr>
          <a:xfrm>
            <a:off x="0" y="22636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"/>
          <p:cNvSpPr/>
          <p:nvPr/>
        </p:nvSpPr>
        <p:spPr>
          <a:xfrm>
            <a:off x="13240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1" name="Object 4"/>
          <p:cNvGraphicFramePr/>
          <p:nvPr/>
        </p:nvGraphicFramePr>
        <p:xfrm>
          <a:off x="0" y="14400"/>
          <a:ext cx="9144000" cy="68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2" name="Object 4" descr="bar chart of medical errors 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0"/>
                    <a:ext cx="9144000" cy="68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Rectangle 5"/>
          <p:cNvSpPr/>
          <p:nvPr/>
        </p:nvSpPr>
        <p:spPr>
          <a:xfrm rot="16200000">
            <a:off x="-2365920" y="3661200"/>
            <a:ext cx="54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% of respondents within an ICU that a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457200" y="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#5.  “Medical Errors Are Handled Appropriately In This ICU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2"/>
          <p:cNvSpPr/>
          <p:nvPr/>
        </p:nvSpPr>
        <p:spPr>
          <a:xfrm>
            <a:off x="0" y="22636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3"/>
          <p:cNvSpPr/>
          <p:nvPr/>
        </p:nvSpPr>
        <p:spPr>
          <a:xfrm>
            <a:off x="13240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7" name="Object 4"/>
          <p:cNvGraphicFramePr/>
          <p:nvPr/>
        </p:nvGraphicFramePr>
        <p:xfrm>
          <a:off x="0" y="14400"/>
          <a:ext cx="9144000" cy="68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8" name="Object 4" descr="bar chart 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0"/>
                    <a:ext cx="9144000" cy="68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Rectangle 5"/>
          <p:cNvSpPr/>
          <p:nvPr/>
        </p:nvSpPr>
        <p:spPr>
          <a:xfrm rot="16200000">
            <a:off x="-2365920" y="3661200"/>
            <a:ext cx="54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% of respondents within an ICU that a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6"/>
          <p:cNvSpPr/>
          <p:nvPr/>
        </p:nvSpPr>
        <p:spPr>
          <a:xfrm>
            <a:off x="457200" y="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#4.  “I Would Feel Safe Being Treated Here As A Patient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cus and Execu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4" descr="fly_urinal"/>
          <p:cNvPicPr/>
          <p:nvPr/>
        </p:nvPicPr>
        <p:blipFill>
          <a:blip r:embed="rId1"/>
          <a:stretch/>
        </p:blipFill>
        <p:spPr>
          <a:xfrm>
            <a:off x="2666880" y="160020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2" descr="josie"/>
          <p:cNvPicPr/>
          <p:nvPr/>
        </p:nvPicPr>
        <p:blipFill>
          <a:blip r:embed="rId1"/>
          <a:stretch/>
        </p:blipFill>
        <p:spPr>
          <a:xfrm>
            <a:off x="2252520" y="762120"/>
            <a:ext cx="4529160" cy="5553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Tahoma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  <a:ea typeface="Tahoma"/>
              </a:rPr>
              <a:t>Measuring Saf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ahoma"/>
              </a:rPr>
              <a:t>Pronovost PJ, Goeschel CA, Wachter RM. The wisdom and justice of not paying for "preventable complications". JAMA. 2008; 299(18):2197-2199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ahoma"/>
              </a:rPr>
              <a:t>Pronovost PJ, Miller MR, Wachter RM. Tracking progress in patient safety: An elusive target. JAMA. 2006; 296(6):696-699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ahoma"/>
              </a:rPr>
              <a:t>Pronovost PJ, Sexton JB, Pham JC, Goeschel CA, Winters BD, Miller MR. Measurement of quality and assurance of safety in the critically ill. Clin Chest Med. 2008; in press.</a:t>
            </a:r>
            <a:br>
              <a:rPr sz="16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Tahoma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Translating Evidence into Pract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ahoma"/>
              </a:rPr>
              <a:t>Pronovost PJ, Berenholtz SM, Needham DM. Translating evidence into practice: A model for large scale knowledge translation. BMJ. 2008; 337:a1714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ahoma"/>
              </a:rPr>
              <a:t>Pronovost P, Needham D, Berenholtz S, et al. An intervention to decrease catheter-related bloodstream infections in the ICU. NEJM. 2006; 355(26):2725-2732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ahoma"/>
              </a:rPr>
              <a:t>Pronovost PJ, Berenholtz SM, Goeschel C, et al. Improving patient safety in intensive care units in michigan. J Crit Care. 2008; 23(2):207-221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Tahoma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ahoma"/>
              </a:rPr>
              <a:t>Pronovost P, Weast B, Rosenstein B, et al. Implementing and validating a comprehensive unit-based safety program. J Pat Safety. 2005; 1(1):33-40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ahoma"/>
              </a:rPr>
              <a:t>Pronovost P, Berenholtz S, Dorman T, Lipsett PA, Simmonds T, Haraden C. Improving communication in the ICU using daily goals. J Crit Care. 2003; 18(2):71-7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ahoma"/>
              </a:rPr>
              <a:t>Pronovost PJ, Weast B, Bishop K, et al. Senior executive adopt-a-work unit: A model for safety improvement. Jt Comm J Qual Saf. 2004; 30(2):59-68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Tahoma"/>
              </a:rPr>
              <a:t>Thompson DA, Holzmueller CG, Cafeo CL, Sexton JB, Pronovost PJ. A morning briefing: Setting the stage for a clinically and operationally good day. Jt Comm J Qual and Saf. 2005; 31(8):476-479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Tahoma"/>
              </a:rPr>
              <a:t>Please answer each question with a score of 1 to 5. 1 is below average, 3 is average and 5 is above averag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How smart am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How hard do I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How kind am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How tall am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How good is the quality of care we prov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Tahoma"/>
              </a:rPr>
              <a:t>Regula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7" name="AutoShape 3"/>
          <p:cNvCxnSpPr/>
          <p:nvPr/>
        </p:nvCxnSpPr>
        <p:spPr>
          <a:xfrm>
            <a:off x="4571640" y="1142640"/>
            <a:ext cx="1080" cy="304884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588" name="AutoShape 4"/>
          <p:cNvCxnSpPr/>
          <p:nvPr/>
        </p:nvCxnSpPr>
        <p:spPr>
          <a:xfrm>
            <a:off x="2590920" y="2819160"/>
            <a:ext cx="3962880" cy="108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sp>
        <p:nvSpPr>
          <p:cNvPr id="589" name="Rectangle 5"/>
          <p:cNvSpPr/>
          <p:nvPr/>
        </p:nvSpPr>
        <p:spPr>
          <a:xfrm>
            <a:off x="2362320" y="4160880"/>
            <a:ext cx="449568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Local Wisdom/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228600" y="1981080"/>
            <a:ext cx="2362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Scientifically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6095880" y="2286000"/>
            <a:ext cx="2819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Fea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8"/>
          <p:cNvSpPr/>
          <p:nvPr/>
        </p:nvSpPr>
        <p:spPr>
          <a:xfrm>
            <a:off x="4114800" y="236232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6477120" y="57168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ahoma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Tahoma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To work to eliminate central line associated blood stream infections (CLABSI); state mean &lt; 1/10000 catheter days, median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To improve safety cul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To learn from one defect per mon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Tahoma"/>
              </a:rPr>
              <a:t>Project Organiz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90320" y="175212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Tahoma"/>
              </a:rPr>
              <a:t>Partner with HRET, MHA, JHU, State Hospital Associ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Tahoma"/>
              </a:rPr>
              <a:t>State wide effort coordinated by Hospital Associ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Tahoma"/>
              </a:rPr>
              <a:t>Use collaborative model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Tahoma"/>
              </a:rPr>
              <a:t>(2 face to face meetings, monthly call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Tahoma"/>
              </a:rPr>
              <a:t>Standardized data collection tools and evid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Tahoma"/>
              </a:rPr>
              <a:t>Local ICU modification of how to implement interven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Tahoma"/>
              </a:rPr>
              <a:t>Safety Score Car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  <a:ea typeface="Tahoma"/>
              </a:rPr>
              <a:t>Keystone ICU Safety Dashbo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Rounded Rectangle 8"/>
          <p:cNvSpPr/>
          <p:nvPr/>
        </p:nvSpPr>
        <p:spPr>
          <a:xfrm>
            <a:off x="2286000" y="4952880"/>
            <a:ext cx="5029200" cy="4572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entury Gothic"/>
              </a:rPr>
              <a:t>CUSP is intervention to improve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457200" y="1905120"/>
          <a:ext cx="8229600" cy="2793960"/>
        </p:xfrm>
        <a:graphic>
          <a:graphicData uri="http://schemas.openxmlformats.org/drawingml/2006/table">
            <a:tbl>
              <a:tblPr/>
              <a:tblGrid>
                <a:gridCol w="5278320"/>
                <a:gridCol w="1535400"/>
                <a:gridCol w="1415880"/>
              </a:tblGrid>
              <a:tr h="41904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17375d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17375d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17375d"/>
                    </a:solidFill>
                  </a:tcPr>
                </a:tc>
              </a:tr>
              <a:tr h="417600">
                <a:tc>
                  <a:txBody>
                    <a:bodyPr lIns="7236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ow often did we harm (BSI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36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8/1000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</a:tr>
              <a:tr h="419040">
                <a:tc>
                  <a:txBody>
                    <a:bodyPr lIns="7236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ow often do we do what we shoul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36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6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5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</a:tr>
              <a:tr h="419040">
                <a:tc>
                  <a:txBody>
                    <a:bodyPr lIns="7236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7375d"/>
                          </a:solidFill>
                          <a:latin typeface="Century Gothic"/>
                        </a:rPr>
                        <a:t>How often did we learn from mistakes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36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</a:tr>
              <a:tr h="526680">
                <a:tc>
                  <a:txBody>
                    <a:bodyPr lIns="7236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7375d"/>
                          </a:solidFill>
                          <a:latin typeface="Century Gothic"/>
                        </a:rPr>
                        <a:t>Have we created a safe cultu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7375d"/>
                          </a:solidFill>
                          <a:latin typeface="Century Gothic"/>
                        </a:rPr>
                        <a:t>% Needs improvement in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36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2d69a"/>
                    </a:solidFill>
                  </a:tcPr>
                </a:tc>
              </a:tr>
              <a:tr h="2966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7375d"/>
                          </a:solidFill>
                          <a:latin typeface="Century Gothic"/>
                        </a:rPr>
                        <a:t>                                </a:t>
                      </a:r>
                      <a:r>
                        <a:rPr b="1" lang="en-US" sz="1700" spc="-1" strike="noStrike">
                          <a:solidFill>
                            <a:srgbClr val="17375d"/>
                          </a:solidFill>
                          <a:latin typeface="Century Gothic"/>
                        </a:rPr>
                        <a:t>Safety clim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4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69a"/>
                    </a:solidFill>
                  </a:tcPr>
                </a:tc>
              </a:tr>
              <a:tr h="295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7375d"/>
                          </a:solidFill>
                          <a:latin typeface="Century Gothic"/>
                        </a:rPr>
                        <a:t>                                </a:t>
                      </a:r>
                      <a:r>
                        <a:rPr b="1" lang="en-US" sz="1700" spc="-1" strike="noStrike">
                          <a:solidFill>
                            <a:srgbClr val="17375d"/>
                          </a:solidFill>
                          <a:latin typeface="Century Gothic"/>
                        </a:rPr>
                        <a:t>Teamwork climate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2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宋体"/>
              </a:rPr>
              <a:t>Improving C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2" name="Content Placeholder 3"/>
          <p:cNvGrpSpPr/>
          <p:nvPr/>
        </p:nvGrpSpPr>
        <p:grpSpPr>
          <a:xfrm>
            <a:off x="457200" y="1523880"/>
            <a:ext cx="8229600" cy="4776120"/>
            <a:chOff x="457200" y="1523880"/>
            <a:chExt cx="8229600" cy="4776120"/>
          </a:xfrm>
        </p:grpSpPr>
        <p:sp>
          <p:nvSpPr>
            <p:cNvPr id="603" name="Rectangle 4"/>
            <p:cNvSpPr/>
            <p:nvPr/>
          </p:nvSpPr>
          <p:spPr>
            <a:xfrm>
              <a:off x="457200" y="1523880"/>
              <a:ext cx="3657600" cy="69840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  <a:ea typeface="宋体"/>
                </a:rPr>
                <a:t>CU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5"/>
            <p:cNvSpPr/>
            <p:nvPr/>
          </p:nvSpPr>
          <p:spPr>
            <a:xfrm>
              <a:off x="457200" y="2301840"/>
              <a:ext cx="3657600" cy="3059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ducate staff on science of safe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Identify defect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Assign executive to adopt uni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Learn from one defect per quarter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Implement teamwork tool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6"/>
            <p:cNvSpPr/>
            <p:nvPr/>
          </p:nvSpPr>
          <p:spPr>
            <a:xfrm>
              <a:off x="4267080" y="1523880"/>
              <a:ext cx="4419720" cy="69840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rebuchet MS"/>
                  <a:ea typeface="宋体"/>
                </a:rPr>
                <a:t>Translating Evidence Into Practice (TRi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7"/>
            <p:cNvSpPr/>
            <p:nvPr/>
          </p:nvSpPr>
          <p:spPr>
            <a:xfrm>
              <a:off x="4267080" y="2301840"/>
              <a:ext cx="4419720" cy="3059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Summarize the  evidence  in a checkli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Identify local barriers to implement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Measure  perform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nsure all patients get the evide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Box 7"/>
            <p:cNvSpPr/>
            <p:nvPr/>
          </p:nvSpPr>
          <p:spPr>
            <a:xfrm>
              <a:off x="3118680" y="5596200"/>
              <a:ext cx="285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ff"/>
                  </a:solidFill>
                  <a:uFillTx/>
                  <a:latin typeface="Calibri"/>
                  <a:hlinkClick r:id="rId1"/>
                </a:rPr>
                <a:t>http://www.safercare.n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20:12:22Z</dcterms:created>
  <dc:creator>Heon-Jae Jeong, MD, MPH, MBA</dc:creator>
  <dc:description/>
  <dc:language>en-US</dc:language>
  <cp:lastModifiedBy> </cp:lastModifiedBy>
  <dcterms:modified xsi:type="dcterms:W3CDTF">2010-03-02T15:46:07Z</dcterms:modified>
  <cp:revision>345</cp:revision>
  <dc:subject/>
  <dc:title>Project Report - Lean Sigma</dc:title>
</cp:coreProperties>
</file>