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5.png" ContentType="image/png"/>
  <Override PartName="/ppt/media/image16.jpeg" ContentType="image/jpeg"/>
  <Override PartName="/ppt/media/image15.wmf" ContentType="image/x-wmf"/>
  <Override PartName="/ppt/media/image1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0576-6766-47A7-982A-175659A0A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DF23-AC5F-4963-941E-DBF618AE32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NVBBVB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2C9C-0E4C-49C2-968F-CBE695FCA2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EEDA-53D2-4F72-9202-B5D5590F10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3831-4A02-48E0-8221-64223F4FDF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model we used for learning change.    It recognizes the technical (science) part and the adaptive (emotional attitudes par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aging people is adaptive work done locally by telling stories and showing current evidence of ha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ucate is technical.  What is the evid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cute is adaptive and local.  Given my resources, how do I ensure all patients reliably receive the evid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e is technical.  We have to measure in a scientifically sound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46EF-C2D7-4F45-AE9A-A17673A4F0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D43C-E859-441E-B981-5FB49F026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vention we used to improve culture and learn from mistakes is the comprehensive unit based safety program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role in the csicu was as the executive who adopted that unit.    You can tell some of the defects you surfa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D2F1-5F2B-4102-B8E1-9E79D67886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EFA7-A02A-470A-B47F-19DDD5050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9733-0AC3-4108-9363-043C8773707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31AC-A65A-42CA-ABED-6FEFD590D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9767-094A-40EB-B450-EEDAD72C4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4FC9-BA65-4C32-BDE3-9EEE42107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CBBF-798A-4CE2-AF7C-CC9690619A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891720" y="4346640"/>
            <a:ext cx="503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1E4E-62D1-4F6F-98F9-32AC509648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891720" y="4346640"/>
            <a:ext cx="503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02F9-5B13-420B-B350-0612849E0E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3949-B909-4720-AE30-DAB2C4CABA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10FE-4546-497A-AA28-202CDE791F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7A4C28-A0F4-4D9E-BED1-91B38C84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58ADA2-7A16-4ED8-8560-278D51C1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9FCEDF-CCC5-4020-875A-DCF442E4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390E89-0E67-4EFB-BDED-AC6C9C46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CF3554-EF6F-406B-8BC0-A032CB71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595794-F2A6-4C4B-90F8-AB10BA83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F8E08B-339F-4D12-B6F9-FD819D8A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FC35A6-D5E0-488E-BA90-C8B23A95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6CB74D-2348-42C7-968E-096A9047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6DE2A3-2023-4F26-8994-BE3D39EA3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2C273D-113F-4923-80E9-3AEAFED2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3CE045-BCF8-4C8D-812C-473FB927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62FB92-B9EC-4CCC-810A-2CAF3A3C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87018E-9960-4857-9F67-2DA86514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77159B-E805-49ED-A489-6B378E90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556BB1-F400-4A0E-8ECD-7BC8CA15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B98D6A-B836-4933-8CA0-71098FA4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89022A-DEAE-42D4-8573-0E982C36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E7C56F-068D-45F7-BC87-9E09E753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3BDD87-9410-4B94-B042-C8467BCD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17D68B-D563-4ED7-9765-A04C107F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A37FED-6697-4F1E-BDBE-99011560B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34240F-0E2A-4825-8897-D38BF4DB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BBCF4E-56E2-42D9-98BF-14E95AA9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EE8CFD-1571-4E93-8518-7E27C943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A03CA1-1FDF-4994-9A4B-FE0A61EA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60256F-C41C-4BD1-BD49-01D548A8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F89011-8F93-41C8-BB6F-CDEA9C0E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DB7324-BC0B-4542-AB21-68FB48F8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C7C2F3-6278-4168-9EC8-728F6D5E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E6F643-D6C1-4D24-AE19-96BFBD58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FF92D1-293E-4F3B-982E-AFAFA0895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57381D-D5E4-4CE5-AF5F-EB6AAC4B4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5E7CFF-DC8D-4B89-AF51-EE8B1184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66F235-305A-47CF-94FF-E3723664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5AD6DC-53C2-42D6-B468-C08180CC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EF1C5E-3832-4587-B0C7-129056CA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9256DB-8743-4BF2-8731-8AD5FC82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58D2F3-5B7C-41A8-A557-45BFAA37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97B5AA-E0BA-4A68-A7ED-01569F2D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54F396-24D0-4942-8AF7-9B27086B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5A68C0-0875-4A6B-91E1-22CFD966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A2DF67-3574-4CCB-BB6F-29B44304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43CCBB-83CA-4D2F-9AEA-C58A4D8C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5C4BA8-CB81-439A-9F9F-5F8FFA571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3B94FB-90ED-487A-A113-0C771B02F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986580-A360-47C0-949F-5421A52F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C726D4-0962-4156-ACB9-99E2BD29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387FD8-7AC0-4D07-B672-675147F1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992B38-4E49-4AB8-9A86-EC6AAF48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6DA14A-7D85-486D-A86A-0D8E8314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7ECFDF-2A2B-4B6B-8E16-10811BC9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AAA4A6-392C-4698-9C63-094A77DA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A71FCB-D604-4CD6-9A01-6E1A4835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490E16-418C-4933-ABE9-DDDCBEDC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1E89D9-859F-409B-A3CE-582BF8CCE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D021A4-8E89-438F-AB79-A333A508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D1E745-485E-4C05-85FF-606F7393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9C4794-23E5-468A-BFAC-78B3BD12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5D3282-5E93-4370-9168-4A33D3CC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A27917-6067-47B6-A89C-35DC131F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EE143C-D4DA-41C5-9F1A-7FE33C9E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865D4D-91A4-4581-A77A-0DE285F9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C09758-3BE8-4DD5-A783-98D83AD0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D2BD0E-3BB2-4891-A973-CB49DF8C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EFD627-F77B-4CBC-84FF-5675A04D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F0C2E5-7CC9-485F-8903-621FBC8A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79B24C-1753-49D7-A7F0-5B1275ADD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CA6DC4-4921-421B-A4D4-51504C55C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F87A18-9AD5-471D-B903-2E211640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C437F6-128E-4A77-B140-C707C7FE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8BED8D-6A93-4392-8B6D-835AE62B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99AC00-3D56-4B4A-A0C3-C4676510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29BC62-E11F-44F8-A4C2-99C39506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15CA4D-B231-4EB4-A73F-918B0575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C84063-0A4C-4AE2-B056-C8D72FF1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F19C89-258F-4644-B1F5-B25F7114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8DD505-33CB-4442-825F-7A1162AF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D71953-EC14-4D91-8070-92333647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FF3848-F5A3-4017-BB96-EC287774D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4026F0-DF6B-42BC-B485-181D71E7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1EC342-9F99-44E2-84BC-4B1E46333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7AC5D1-D5E0-415C-B363-1537D1CE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64ED5F-9716-42A9-862C-42C59649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F6D2FF-E559-4904-BBC7-166AA8AA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6A9AC4-2E2A-4D07-BC57-37533F4B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138E0F-DE84-4984-B8A0-C96EC7FD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47B798-0CD5-419A-8E95-E8470E57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1FCA8B-1C47-48C0-90FF-630E1F8C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FF575B-CCB2-464E-8C64-40835E1E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AC1B43-6D57-4CD7-A5CE-2C2DC5DB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94C674-2527-4BBC-A0E6-9A7F351AA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B5439C-188B-4D3E-91A5-B3BC45C8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406839-F987-429B-BCC0-A91E4F72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9A86EB-9683-4DE5-A587-4AC2950E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DB2AE6-7100-460D-9384-E68F93D3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3756-DA23-476D-86A3-03F1AB36CD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E245-F7E9-41F2-B10E-F41D5EC74D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BECA-4539-4E0F-9FC0-2B25F0FD08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04E0-B941-4FED-912F-19895D999B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C67A-0F1E-43DB-A720-C68378E3A7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Rounded Rectangle 4"/>
          <p:cNvGrpSpPr/>
          <p:nvPr/>
        </p:nvGrpSpPr>
        <p:grpSpPr>
          <a:xfrm>
            <a:off x="-6480" y="-6480"/>
            <a:ext cx="9156960" cy="1158840"/>
            <a:chOff x="-6480" y="-6480"/>
            <a:chExt cx="9156960" cy="1158840"/>
          </a:xfrm>
        </p:grpSpPr>
        <p:pic>
          <p:nvPicPr>
            <p:cNvPr id="456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0" y="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ftr" idx="29"/>
          </p:nvPr>
        </p:nvSpPr>
        <p:spPr>
          <a:xfrm>
            <a:off x="62481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ftr" idx="30"/>
          </p:nvPr>
        </p:nvSpPr>
        <p:spPr>
          <a:xfrm>
            <a:off x="62481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Rounded Rectangle 6"/>
          <p:cNvGrpSpPr/>
          <p:nvPr/>
        </p:nvGrpSpPr>
        <p:grpSpPr>
          <a:xfrm>
            <a:off x="-6480" y="2664000"/>
            <a:ext cx="9156960" cy="1152360"/>
            <a:chOff x="-6480" y="2664000"/>
            <a:chExt cx="9156960" cy="1152360"/>
          </a:xfrm>
        </p:grpSpPr>
        <p:pic>
          <p:nvPicPr>
            <p:cNvPr id="41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-6480" y="2664000"/>
              <a:ext cx="91569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" name=""/>
            <p:cNvSpPr/>
            <p:nvPr/>
          </p:nvSpPr>
          <p:spPr>
            <a:xfrm>
              <a:off x="0" y="266688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" name="Picture 9" descr="Z:\heon-jaejeong On My Mac\Desktop\Picture 12.png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636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12C4-930C-4770-825E-2C6C7025A6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Rounded Rectangle 5"/>
          <p:cNvGrpSpPr/>
          <p:nvPr/>
        </p:nvGrpSpPr>
        <p:grpSpPr>
          <a:xfrm>
            <a:off x="-6480" y="-6480"/>
            <a:ext cx="9156960" cy="1158840"/>
            <a:chOff x="-6480" y="-6480"/>
            <a:chExt cx="9156960" cy="1158840"/>
          </a:xfrm>
        </p:grpSpPr>
        <p:pic>
          <p:nvPicPr>
            <p:cNvPr id="85" name="Rounded Rectangle 5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0" y="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9" descr="Z:\heon-jaejeong On My Mac\Desktop\Picture 12.png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63680"/>
          </a:xfrm>
          <a:prstGeom prst="rect">
            <a:avLst/>
          </a:prstGeom>
          <a:ln w="0">
            <a:noFill/>
          </a:ln>
        </p:spPr>
      </p:pic>
      <p:sp>
        <p:nvSpPr>
          <p:cNvPr id="88" name="TextBox 6"/>
          <p:cNvSpPr/>
          <p:nvPr/>
        </p:nvSpPr>
        <p:spPr>
          <a:xfrm>
            <a:off x="3886200" y="6488280"/>
            <a:ext cx="15238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76092"/>
                </a:solidFill>
                <a:latin typeface="Century Gothic"/>
              </a:rPr>
              <a:t>Slide </a:t>
            </a:r>
            <a:fld id="{11AA367F-55FC-4662-80C6-5D78C831CF3B}" type="slidenum">
              <a:rPr b="0" lang="en-US" sz="1600" spc="-1" strike="noStrike">
                <a:solidFill>
                  <a:srgbClr val="376092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49B6-9204-4F14-8ADE-5ECF1976D7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B8AB-764B-4C6D-ADF9-D30320CAD2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ADB4-2DEA-4530-B18A-23A0796D8F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432B-3A47-4C28-BC55-11C0AE4368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C571-943F-4EBE-A372-EDF9182A62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F7DF-8C10-482A-A92F-D2492E58D4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9F58-E619-4EB9-AECB-7DF101F038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CEE0-2C46-46B7-844E-14853086AA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4164-7D00-46B2-84F6-022FEB1B59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10D4-5D96-4822-A792-A3E0E67D9B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CEA4-3351-474D-95D8-1D11A15DEE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5525-E88A-4451-AAB0-3B5519F835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afercare.net/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440" y="2690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Overview of STOP-BSI Program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Peter Pronovost, MD, Ph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4920" y="2492280"/>
            <a:ext cx="85341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Intervention to Eliminate CLABS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2" descr="flow chart"/>
          <p:cNvPicPr/>
          <p:nvPr/>
        </p:nvPicPr>
        <p:blipFill>
          <a:blip r:embed="rId1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610" name="TextBox 2"/>
          <p:cNvSpPr/>
          <p:nvPr/>
        </p:nvSpPr>
        <p:spPr>
          <a:xfrm>
            <a:off x="380880" y="64008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novost BMJ 20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Tahoma"/>
              </a:rPr>
              <a:t>Evidence-based Behavior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Tahoma"/>
              </a:rPr>
              <a:t>to Prevent CLABS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09588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Remove Unnecessary 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Wash Hands Prior to Proced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Use Maximal Barrier Preca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Clean Skin with Chlorhexid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Avoid Femoral 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 Box 3"/>
          <p:cNvSpPr/>
          <p:nvPr/>
        </p:nvSpPr>
        <p:spPr>
          <a:xfrm>
            <a:off x="5029200" y="59403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253f"/>
                </a:solidFill>
                <a:latin typeface="Arial"/>
              </a:rPr>
              <a:t>MMWR. 2002;51:RR-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Tahoma"/>
              </a:rPr>
              <a:t>Identify Barr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Ask staff about knowledg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Tahoma"/>
              </a:rPr>
              <a:t>Use team check up to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Ask staff what is difficult about doing these behavi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Walk the process  of staff placing a central 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Observe staff placing central 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Tahoma"/>
              </a:rPr>
              <a:t>Ensure Patients Reliably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Tahoma"/>
              </a:rPr>
              <a:t>Receive Evid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 Box 26"/>
          <p:cNvSpPr/>
          <p:nvPr/>
        </p:nvSpPr>
        <p:spPr>
          <a:xfrm>
            <a:off x="3000240" y="580716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4061"/>
                </a:solidFill>
                <a:latin typeface="Arial"/>
              </a:rPr>
              <a:t>Pronovost: Health Services Research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576360" y="1573200"/>
          <a:ext cx="8001000" cy="4218120"/>
        </p:xfrm>
        <a:graphic>
          <a:graphicData uri="http://schemas.openxmlformats.org/drawingml/2006/table">
            <a:tbl>
              <a:tblPr/>
              <a:tblGrid>
                <a:gridCol w="2000160"/>
                <a:gridCol w="2000160"/>
                <a:gridCol w="2000160"/>
                <a:gridCol w="2000520"/>
              </a:tblGrid>
              <a:tr h="503280">
                <a:tc rowSpan="2"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75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enior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17375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Team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17375d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taff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75d"/>
                    </a:solidFill>
                  </a:tcPr>
                </a:tc>
              </a:tr>
              <a:tr h="52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leader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75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leader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75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1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ngag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452a"/>
                    </a:solidFill>
                  </a:tcPr>
                </a:tc>
                <a:tc gridSpan="3">
                  <a:txBody>
                    <a:bodyPr lIns="8352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does this make the world a better place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3520" marR="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1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ducat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452a"/>
                    </a:solidFill>
                  </a:tcPr>
                </a:tc>
                <a:tc gridSpan="3">
                  <a:txBody>
                    <a:bodyPr lIns="8352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do we need to do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3520" marR="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xecut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452a"/>
                    </a:solidFill>
                  </a:tcPr>
                </a:tc>
                <a:tc gridSpan="3">
                  <a:txBody>
                    <a:bodyPr lIns="8352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keeps me from doing i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3520" marR="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352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can we do it with my resources and culture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3520" marR="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7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valuat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4a452a"/>
                    </a:solidFill>
                  </a:tcPr>
                </a:tc>
                <a:tc gridSpan="3">
                  <a:txBody>
                    <a:bodyPr lIns="8352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do we know we improved safety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3520" marR="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Tahoma"/>
              </a:rPr>
              <a:t>Ideas for ensuring patients receive the interventions: the 4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Engage: stories, show baseline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Educate staff on evi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Execu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Tahoma"/>
              </a:rPr>
              <a:t>Standardize: Create line ca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Tahoma"/>
              </a:rPr>
              <a:t>Create independent checks: Create BSI check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Tahoma"/>
              </a:rPr>
              <a:t>Empower nurses to stop takeof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Tahoma"/>
              </a:rPr>
              <a:t>Learn from mistakes: review infe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Tahoma"/>
              </a:rPr>
              <a:t>Feedback 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Tahoma"/>
              </a:rPr>
              <a:t>View infections as def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Tahoma"/>
              </a:rPr>
              <a:t>Pre CUSP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Create an ICU te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Tahoma"/>
              </a:rPr>
              <a:t>Nurse, physician administrator, oth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Tahoma"/>
              </a:rPr>
              <a:t>Assign a team lea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Measure Culture in the IC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(discuss with hospital association l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Work with hospital quality leader to have a senior executive assigned to ICU te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-90720" y="-144720"/>
            <a:ext cx="9372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entury Gothic"/>
                <a:ea typeface="Tahoma"/>
              </a:rPr>
              <a:t>Comprehensive Unit-based Safety Program (CUSP) 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  <a:ea typeface="Tahoma"/>
              </a:rPr>
              <a:t>An Intervention to Learn from Mistakes and Improve Safety Cul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98160" y="1981080"/>
            <a:ext cx="73882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Educate staff on science of safety  </a:t>
            </a:r>
            <a:r>
              <a:rPr b="0" lang="en-US" sz="1800" spc="-1" strike="noStrike" u="sng">
                <a:solidFill>
                  <a:srgbClr val="558ed5"/>
                </a:solidFill>
                <a:uFillTx/>
                <a:latin typeface="Century Gothic"/>
                <a:ea typeface="Tahoma"/>
              </a:rPr>
              <a:t>http://www.safercare.net</a:t>
            </a:r>
            <a:br>
              <a:rPr sz="2000"/>
            </a:br>
            <a:r>
              <a:rPr b="0" lang="en-US" sz="2000" spc="-1" strike="noStrike" u="sng">
                <a:solidFill>
                  <a:srgbClr val="558ed5"/>
                </a:solidFill>
                <a:uFillTx/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Identify defec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Assign executive to adopt un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Learn from one defect per quar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Implement teamwork too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 Box 4"/>
          <p:cNvSpPr/>
          <p:nvPr/>
        </p:nvSpPr>
        <p:spPr>
          <a:xfrm>
            <a:off x="2438280" y="6477120"/>
            <a:ext cx="69343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26"/>
          <p:cNvSpPr/>
          <p:nvPr/>
        </p:nvSpPr>
        <p:spPr>
          <a:xfrm>
            <a:off x="2666880" y="563868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4061"/>
                </a:solidFill>
                <a:latin typeface="Arial"/>
              </a:rPr>
              <a:t>Pronovost J, </a:t>
            </a:r>
            <a:r>
              <a:rPr b="0" i="1" lang="en-US" sz="1400" spc="-1" strike="noStrike">
                <a:solidFill>
                  <a:srgbClr val="254061"/>
                </a:solidFill>
                <a:latin typeface="Arial"/>
              </a:rPr>
              <a:t>Patient Safety</a:t>
            </a:r>
            <a:r>
              <a:rPr b="0" lang="en-US" sz="1400" spc="-1" strike="noStrike">
                <a:solidFill>
                  <a:srgbClr val="254061"/>
                </a:solidFill>
                <a:latin typeface="Arial"/>
              </a:rPr>
              <a:t>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Tahoma"/>
              </a:rPr>
              <a:t>Identify De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Review error reports, liability claims, sentinel ev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or M and M confer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Ask staff how will the next patient be harm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Tahoma"/>
              </a:rPr>
              <a:t>Prioritize De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List all def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Discuss with staff what are the three greatest ri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josie, little girl"/>
          <p:cNvPicPr/>
          <p:nvPr/>
        </p:nvPicPr>
        <p:blipFill>
          <a:blip r:embed="rId1"/>
          <a:stretch/>
        </p:blipFill>
        <p:spPr>
          <a:xfrm>
            <a:off x="2252520" y="762120"/>
            <a:ext cx="4529160" cy="5553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Tahoma"/>
              </a:rPr>
              <a:t>Executive Partner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Tahoma"/>
              </a:rPr>
              <a:t>Executive should become a member of ICU 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Tahoma"/>
              </a:rPr>
              <a:t>Executive should meet monthly with ICU 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Tahoma"/>
              </a:rPr>
              <a:t>Executive should review defects, ensure ICU team has resources to reduce risks, and how team accountable for improving risks and central line associated blood steam infec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Tahoma"/>
              </a:rPr>
              <a:t>Learning from Mistak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828800" y="152388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What happen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Why did it happen (system lens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What could you do to reduce r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How to you know risk was redu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Create policy / process / proced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Ensure staff know poli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Evaluate if policy is used correct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 Box 26"/>
          <p:cNvSpPr/>
          <p:nvPr/>
        </p:nvSpPr>
        <p:spPr>
          <a:xfrm>
            <a:off x="2666880" y="593244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4061"/>
                </a:solidFill>
                <a:latin typeface="Arial"/>
              </a:rPr>
              <a:t>Pronovost 2005 JCJQ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Tahoma"/>
              </a:rPr>
              <a:t>Teamwork To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124080" y="1523520"/>
            <a:ext cx="4572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Call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Daily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AM brief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Shadow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Culture check 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TEAMSTep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 Box 26"/>
          <p:cNvSpPr/>
          <p:nvPr/>
        </p:nvSpPr>
        <p:spPr>
          <a:xfrm>
            <a:off x="4343400" y="588960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4061"/>
                </a:solidFill>
                <a:latin typeface="Arial"/>
              </a:rPr>
              <a:t>Pronovost JCC, JCJQ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4920" y="2492280"/>
            <a:ext cx="85341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an We Do th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Tahoma"/>
              </a:rPr>
              <a:t>Safety Score Car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  <a:ea typeface="Tahoma"/>
              </a:rPr>
              <a:t>Keystone ICU Safety Dashbo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Rounded Rectangle 8"/>
          <p:cNvSpPr/>
          <p:nvPr/>
        </p:nvSpPr>
        <p:spPr>
          <a:xfrm>
            <a:off x="2286000" y="4952880"/>
            <a:ext cx="5029200" cy="4572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entury Gothic"/>
              </a:rPr>
              <a:t>CUSP is intervention to improve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457200" y="1905120"/>
          <a:ext cx="8229600" cy="2793960"/>
        </p:xfrm>
        <a:graphic>
          <a:graphicData uri="http://schemas.openxmlformats.org/drawingml/2006/table">
            <a:tbl>
              <a:tblPr/>
              <a:tblGrid>
                <a:gridCol w="5278320"/>
                <a:gridCol w="1535400"/>
                <a:gridCol w="1415880"/>
              </a:tblGrid>
              <a:tr h="41904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17375d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17375d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17375d"/>
                    </a:solidFill>
                  </a:tcPr>
                </a:tc>
              </a:tr>
              <a:tr h="417600">
                <a:tc>
                  <a:txBody>
                    <a:bodyPr lIns="7236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ow often did we harm (BSI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36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8/1000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</a:tr>
              <a:tr h="419040">
                <a:tc>
                  <a:txBody>
                    <a:bodyPr lIns="7236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ow often do we do what we shoul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36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6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5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</a:tr>
              <a:tr h="419040">
                <a:tc>
                  <a:txBody>
                    <a:bodyPr lIns="7236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7375d"/>
                          </a:solidFill>
                          <a:latin typeface="Century Gothic"/>
                        </a:rPr>
                        <a:t>How often did we learn from mistakes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36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</a:tr>
              <a:tr h="526680">
                <a:tc>
                  <a:txBody>
                    <a:bodyPr lIns="7236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7375d"/>
                          </a:solidFill>
                          <a:latin typeface="Century Gothic"/>
                        </a:rPr>
                        <a:t>Have we created a safe cultu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7375d"/>
                          </a:solidFill>
                          <a:latin typeface="Century Gothic"/>
                        </a:rPr>
                        <a:t>% Needs improvement in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36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2d69a"/>
                    </a:solidFill>
                  </a:tcPr>
                </a:tc>
              </a:tr>
              <a:tr h="2966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7375d"/>
                          </a:solidFill>
                          <a:latin typeface="Century Gothic"/>
                        </a:rPr>
                        <a:t>                                </a:t>
                      </a:r>
                      <a:r>
                        <a:rPr b="1" lang="en-US" sz="1700" spc="-1" strike="noStrike">
                          <a:solidFill>
                            <a:srgbClr val="17375d"/>
                          </a:solidFill>
                          <a:latin typeface="Century Gothic"/>
                        </a:rPr>
                        <a:t>Safety clim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4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69a"/>
                    </a:solidFill>
                  </a:tcPr>
                </a:tc>
              </a:tr>
              <a:tr h="295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7375d"/>
                          </a:solidFill>
                          <a:latin typeface="Century Gothic"/>
                        </a:rPr>
                        <a:t>                                </a:t>
                      </a:r>
                      <a:r>
                        <a:rPr b="1" lang="en-US" sz="1700" spc="-1" strike="noStrike">
                          <a:solidFill>
                            <a:srgbClr val="17375d"/>
                          </a:solidFill>
                          <a:latin typeface="Century Gothic"/>
                        </a:rPr>
                        <a:t>Teamwork climate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RBSI Rate Summary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4" name="Object 1028"/>
          <p:cNvGraphicFramePr/>
          <p:nvPr/>
        </p:nvGraphicFramePr>
        <p:xfrm>
          <a:off x="228600" y="838080"/>
          <a:ext cx="891540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5" name="Object 1028" descr="table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38080"/>
                    <a:ext cx="89154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6" name="Rectangle 1029"/>
          <p:cNvSpPr/>
          <p:nvPr/>
        </p:nvSpPr>
        <p:spPr>
          <a:xfrm>
            <a:off x="5562720" y="1343160"/>
            <a:ext cx="3336840" cy="320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031"/>
          <p:cNvSpPr/>
          <p:nvPr/>
        </p:nvSpPr>
        <p:spPr>
          <a:xfrm>
            <a:off x="5562720" y="4191120"/>
            <a:ext cx="3336840" cy="320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032"/>
          <p:cNvSpPr/>
          <p:nvPr/>
        </p:nvSpPr>
        <p:spPr>
          <a:xfrm>
            <a:off x="5562720" y="6516720"/>
            <a:ext cx="3336840" cy="320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RBSI Rate Over 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0" name="Picture 5" descr="diagram of CRBSI rate over time"/>
          <p:cNvPicPr/>
          <p:nvPr/>
        </p:nvPicPr>
        <p:blipFill>
          <a:blip r:embed="rId1"/>
          <a:srcRect l="3409" t="4249" r="3203" b="2252"/>
          <a:stretch/>
        </p:blipFill>
        <p:spPr>
          <a:xfrm>
            <a:off x="314280" y="1300320"/>
            <a:ext cx="8140680" cy="5019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AP Rate Over 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2" name="Picture 4" descr="diagram of VAP rate over time"/>
          <p:cNvPicPr/>
          <p:nvPr/>
        </p:nvPicPr>
        <p:blipFill>
          <a:blip r:embed="rId1"/>
          <a:srcRect l="7685" t="1411" r="1499" b="2808"/>
          <a:stretch/>
        </p:blipFill>
        <p:spPr>
          <a:xfrm>
            <a:off x="303120" y="1444680"/>
            <a:ext cx="8534520" cy="5089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ichigan ICU Safety Climate</a:t>
            </a:r>
            <a:br>
              <a:rPr sz="44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mprov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4" name="Picture 7" descr="bar graph of ICU safety climate improvement"/>
          <p:cNvPicPr/>
          <p:nvPr/>
        </p:nvPicPr>
        <p:blipFill>
          <a:blip r:embed="rId1"/>
          <a:srcRect l="2518" t="2073" r="2353" b="2073"/>
          <a:stretch/>
        </p:blipFill>
        <p:spPr>
          <a:xfrm>
            <a:off x="1069920" y="1219320"/>
            <a:ext cx="6705720" cy="493524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8"/>
          <p:cNvSpPr/>
          <p:nvPr/>
        </p:nvSpPr>
        <p:spPr>
          <a:xfrm>
            <a:off x="380880" y="63244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</a:rPr>
              <a:t>* “Needs Improvement” - Safety Climate Score &lt;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8" name="Picture 4" descr="6 of 7 domains have shown statistically significant improvements since 2006.  &#10;"/>
          <p:cNvPicPr/>
          <p:nvPr/>
        </p:nvPicPr>
        <p:blipFill>
          <a:blip r:embed="rId1"/>
          <a:srcRect l="23096" t="23038" r="21222" b="7676"/>
          <a:stretch/>
        </p:blipFill>
        <p:spPr>
          <a:xfrm>
            <a:off x="147600" y="3240"/>
            <a:ext cx="9001080" cy="685332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5"/>
          <p:cNvSpPr/>
          <p:nvPr/>
        </p:nvSpPr>
        <p:spPr>
          <a:xfrm>
            <a:off x="1392120" y="1905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6"/>
          <p:cNvSpPr/>
          <p:nvPr/>
        </p:nvSpPr>
        <p:spPr>
          <a:xfrm>
            <a:off x="2535120" y="1905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7"/>
          <p:cNvSpPr/>
          <p:nvPr/>
        </p:nvSpPr>
        <p:spPr>
          <a:xfrm>
            <a:off x="3449520" y="1905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8"/>
          <p:cNvSpPr/>
          <p:nvPr/>
        </p:nvSpPr>
        <p:spPr>
          <a:xfrm>
            <a:off x="5430600" y="1905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9"/>
          <p:cNvSpPr/>
          <p:nvPr/>
        </p:nvSpPr>
        <p:spPr>
          <a:xfrm>
            <a:off x="6497640" y="1905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0"/>
          <p:cNvSpPr/>
          <p:nvPr/>
        </p:nvSpPr>
        <p:spPr>
          <a:xfrm>
            <a:off x="7564320" y="1905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1"/>
          <p:cNvSpPr/>
          <p:nvPr/>
        </p:nvSpPr>
        <p:spPr>
          <a:xfrm>
            <a:off x="6035400" y="602280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Statistically 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bar graph of wrong-site surgeries reviewed by yea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6" descr="diagram of ICU safety climate score distributions"/>
          <p:cNvPicPr/>
          <p:nvPr/>
        </p:nvPicPr>
        <p:blipFill>
          <a:blip r:embed="rId1"/>
          <a:stretch/>
        </p:blipFill>
        <p:spPr>
          <a:xfrm>
            <a:off x="0" y="1981080"/>
            <a:ext cx="4495680" cy="449604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7" descr="diagram of ICU safety climate score distributions"/>
          <p:cNvPicPr/>
          <p:nvPr/>
        </p:nvPicPr>
        <p:blipFill>
          <a:blip r:embed="rId2"/>
          <a:stretch/>
        </p:blipFill>
        <p:spPr>
          <a:xfrm>
            <a:off x="4648320" y="2590920"/>
            <a:ext cx="4495680" cy="41148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ichigan ICU Safety Climate</a:t>
            </a:r>
            <a:br>
              <a:rPr sz="44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core Distribu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2"/>
          <p:cNvSpPr/>
          <p:nvPr/>
        </p:nvSpPr>
        <p:spPr>
          <a:xfrm>
            <a:off x="0" y="22636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"/>
          <p:cNvSpPr/>
          <p:nvPr/>
        </p:nvSpPr>
        <p:spPr>
          <a:xfrm>
            <a:off x="13240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1" name="Object 4"/>
          <p:cNvGraphicFramePr/>
          <p:nvPr/>
        </p:nvGraphicFramePr>
        <p:xfrm>
          <a:off x="0" y="14400"/>
          <a:ext cx="9144000" cy="68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2" name="Object 4" descr="bar chart of medical errors 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0"/>
                    <a:ext cx="9144000" cy="68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Rectangle 5"/>
          <p:cNvSpPr/>
          <p:nvPr/>
        </p:nvSpPr>
        <p:spPr>
          <a:xfrm rot="16200000">
            <a:off x="-2365920" y="3661200"/>
            <a:ext cx="54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% of respondents within an ICU that a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457200" y="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#5.  “Medical Errors Are Handled Appropriately In This ICU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2"/>
          <p:cNvSpPr/>
          <p:nvPr/>
        </p:nvSpPr>
        <p:spPr>
          <a:xfrm>
            <a:off x="0" y="22636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3"/>
          <p:cNvSpPr/>
          <p:nvPr/>
        </p:nvSpPr>
        <p:spPr>
          <a:xfrm>
            <a:off x="13240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7" name="Object 4"/>
          <p:cNvGraphicFramePr/>
          <p:nvPr/>
        </p:nvGraphicFramePr>
        <p:xfrm>
          <a:off x="0" y="14400"/>
          <a:ext cx="9144000" cy="68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8" name="Object 4" descr="bar chart 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0"/>
                    <a:ext cx="9144000" cy="68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Rectangle 5"/>
          <p:cNvSpPr/>
          <p:nvPr/>
        </p:nvSpPr>
        <p:spPr>
          <a:xfrm rot="16200000">
            <a:off x="-2365920" y="3661200"/>
            <a:ext cx="54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% of respondents within an ICU that a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6"/>
          <p:cNvSpPr/>
          <p:nvPr/>
        </p:nvSpPr>
        <p:spPr>
          <a:xfrm>
            <a:off x="457200" y="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#4.  “I Would Feel Safe Being Treated Here As A Patient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cus and Execu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4" descr="fly_urinal"/>
          <p:cNvPicPr/>
          <p:nvPr/>
        </p:nvPicPr>
        <p:blipFill>
          <a:blip r:embed="rId1"/>
          <a:stretch/>
        </p:blipFill>
        <p:spPr>
          <a:xfrm>
            <a:off x="2666880" y="160020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2" descr="josie"/>
          <p:cNvPicPr/>
          <p:nvPr/>
        </p:nvPicPr>
        <p:blipFill>
          <a:blip r:embed="rId1"/>
          <a:stretch/>
        </p:blipFill>
        <p:spPr>
          <a:xfrm>
            <a:off x="2252520" y="762120"/>
            <a:ext cx="4529160" cy="5553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Tahoma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  <a:ea typeface="Tahoma"/>
              </a:rPr>
              <a:t>Measuring Saf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ahoma"/>
              </a:rPr>
              <a:t>Pronovost PJ, Goeschel CA, Wachter RM. The wisdom and justice of not paying for "preventable complications". JAMA. 2008; 299(18):2197-2199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ahoma"/>
              </a:rPr>
              <a:t>Pronovost PJ, Miller MR, Wachter RM. Tracking progress in patient safety: An elusive target. JAMA. 2006; 296(6):696-699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ahoma"/>
              </a:rPr>
              <a:t>Pronovost PJ, Sexton JB, Pham JC, Goeschel CA, Winters BD, Miller MR. Measurement of quality and assurance of safety in the critically ill. Clin Chest Med. 2008; in press.</a:t>
            </a:r>
            <a:br>
              <a:rPr sz="16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Tahoma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Translating Evidence into Pract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ahoma"/>
              </a:rPr>
              <a:t>Pronovost PJ, Berenholtz SM, Needham DM. Translating evidence into practice: A model for large scale knowledge translation. BMJ. 2008; 337:a1714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ahoma"/>
              </a:rPr>
              <a:t>Pronovost P, Needham D, Berenholtz S, et al. An intervention to decrease catheter-related bloodstream infections in the ICU. NEJM. 2006; 355(26):2725-2732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ahoma"/>
              </a:rPr>
              <a:t>Pronovost PJ, Berenholtz SM, Goeschel C, et al. Improving patient safety in intensive care units in michigan. J Crit Care. 2008; 23(2):207-221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Tahoma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ahoma"/>
              </a:rPr>
              <a:t>Pronovost P, Weast B, Rosenstein B, et al. Implementing and validating a comprehensive unit-based safety program. J Pat Safety. 2005; 1(1):33-40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ahoma"/>
              </a:rPr>
              <a:t>Pronovost P, Berenholtz S, Dorman T, Lipsett PA, Simmonds T, Haraden C. Improving communication in the ICU using daily goals. J Crit Care. 2003; 18(2):71-7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ahoma"/>
              </a:rPr>
              <a:t>Pronovost PJ, Weast B, Bishop K, et al. Senior executive adopt-a-work unit: A model for safety improvement. Jt Comm J Qual Saf. 2004; 30(2):59-68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ahoma"/>
              </a:rPr>
              <a:t>Thompson DA, Holzmueller CG, Cafeo CL, Sexton JB, Pronovost PJ. A morning briefing: Setting the stage for a clinically and operationally good day. Jt Comm J Qual and Saf. 2005; 31(8):476-479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Tahoma"/>
              </a:rPr>
              <a:t>Please answer each question with a score of 1 to 5. 1 is below average, 3 is average and 5 is above averag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How smart am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How hard do I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How kind am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How tall am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How good is the quality of care we prov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Tahoma"/>
              </a:rPr>
              <a:t>Regula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7" name="AutoShape 3"/>
          <p:cNvCxnSpPr/>
          <p:nvPr/>
        </p:nvCxnSpPr>
        <p:spPr>
          <a:xfrm>
            <a:off x="4571640" y="1142640"/>
            <a:ext cx="1080" cy="304884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588" name="AutoShape 4"/>
          <p:cNvCxnSpPr/>
          <p:nvPr/>
        </p:nvCxnSpPr>
        <p:spPr>
          <a:xfrm>
            <a:off x="2590920" y="2819160"/>
            <a:ext cx="3962880" cy="108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sp>
        <p:nvSpPr>
          <p:cNvPr id="589" name="Rectangle 5"/>
          <p:cNvSpPr/>
          <p:nvPr/>
        </p:nvSpPr>
        <p:spPr>
          <a:xfrm>
            <a:off x="2362320" y="4160880"/>
            <a:ext cx="449568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Local Wisdom/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228600" y="1981080"/>
            <a:ext cx="2362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Scientifically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6095880" y="2286000"/>
            <a:ext cx="2819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Fea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8"/>
          <p:cNvSpPr/>
          <p:nvPr/>
        </p:nvSpPr>
        <p:spPr>
          <a:xfrm>
            <a:off x="4114800" y="236232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6477120" y="57168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ahoma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Tahoma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To work to eliminate central line associated blood stream infections (CLABSI); state mean &lt; 1/10000 catheter days, median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To improve safety cul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To learn from one defect per mon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Tahoma"/>
              </a:rPr>
              <a:t>Project Organiz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90320" y="175212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Tahoma"/>
              </a:rPr>
              <a:t>Partner with HRET, MHA, JHU, State Hospital Associ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Tahoma"/>
              </a:rPr>
              <a:t>State wide effort coordinated by Hospital Associ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Tahoma"/>
              </a:rPr>
              <a:t>Use collaborative model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Tahoma"/>
              </a:rPr>
              <a:t>(2 face to face meetings, monthly call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Tahoma"/>
              </a:rPr>
              <a:t>Standardized data collection tools and evid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Tahoma"/>
              </a:rPr>
              <a:t>Local ICU modification of how to implement interven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Tahoma"/>
              </a:rPr>
              <a:t>Safety Score Car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  <a:ea typeface="Tahoma"/>
              </a:rPr>
              <a:t>Keystone ICU Safety Dashbo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Rounded Rectangle 8"/>
          <p:cNvSpPr/>
          <p:nvPr/>
        </p:nvSpPr>
        <p:spPr>
          <a:xfrm>
            <a:off x="2286000" y="4952880"/>
            <a:ext cx="5029200" cy="4572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entury Gothic"/>
              </a:rPr>
              <a:t>CUSP is intervention to improve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457200" y="1905120"/>
          <a:ext cx="8229600" cy="2793960"/>
        </p:xfrm>
        <a:graphic>
          <a:graphicData uri="http://schemas.openxmlformats.org/drawingml/2006/table">
            <a:tbl>
              <a:tblPr/>
              <a:tblGrid>
                <a:gridCol w="5278320"/>
                <a:gridCol w="1535400"/>
                <a:gridCol w="1415880"/>
              </a:tblGrid>
              <a:tr h="41904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17375d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17375d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17375d"/>
                    </a:solidFill>
                  </a:tcPr>
                </a:tc>
              </a:tr>
              <a:tr h="417600">
                <a:tc>
                  <a:txBody>
                    <a:bodyPr lIns="7236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ow often did we harm (BSI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36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8/1000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</a:tr>
              <a:tr h="419040">
                <a:tc>
                  <a:txBody>
                    <a:bodyPr lIns="7236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ow often do we do what we shoul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36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6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5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</a:tr>
              <a:tr h="419040">
                <a:tc>
                  <a:txBody>
                    <a:bodyPr lIns="7236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7375d"/>
                          </a:solidFill>
                          <a:latin typeface="Century Gothic"/>
                        </a:rPr>
                        <a:t>How often did we learn from mistakes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36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</a:tr>
              <a:tr h="526680">
                <a:tc>
                  <a:txBody>
                    <a:bodyPr lIns="7236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7375d"/>
                          </a:solidFill>
                          <a:latin typeface="Century Gothic"/>
                        </a:rPr>
                        <a:t>Have we created a safe cultu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7375d"/>
                          </a:solidFill>
                          <a:latin typeface="Century Gothic"/>
                        </a:rPr>
                        <a:t>% Needs improvement in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36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2d69a"/>
                    </a:solidFill>
                  </a:tcPr>
                </a:tc>
              </a:tr>
              <a:tr h="2966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7375d"/>
                          </a:solidFill>
                          <a:latin typeface="Century Gothic"/>
                        </a:rPr>
                        <a:t>                                </a:t>
                      </a:r>
                      <a:r>
                        <a:rPr b="1" lang="en-US" sz="1700" spc="-1" strike="noStrike">
                          <a:solidFill>
                            <a:srgbClr val="17375d"/>
                          </a:solidFill>
                          <a:latin typeface="Century Gothic"/>
                        </a:rPr>
                        <a:t>Safety clim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4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69a"/>
                    </a:solidFill>
                  </a:tcPr>
                </a:tc>
              </a:tr>
              <a:tr h="295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7375d"/>
                          </a:solidFill>
                          <a:latin typeface="Century Gothic"/>
                        </a:rPr>
                        <a:t>                                </a:t>
                      </a:r>
                      <a:r>
                        <a:rPr b="1" lang="en-US" sz="1700" spc="-1" strike="noStrike">
                          <a:solidFill>
                            <a:srgbClr val="17375d"/>
                          </a:solidFill>
                          <a:latin typeface="Century Gothic"/>
                        </a:rPr>
                        <a:t>Teamwork climate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宋体"/>
              </a:rPr>
              <a:t>Improving C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2" name="Content Placeholder 3"/>
          <p:cNvGrpSpPr/>
          <p:nvPr/>
        </p:nvGrpSpPr>
        <p:grpSpPr>
          <a:xfrm>
            <a:off x="457200" y="1523880"/>
            <a:ext cx="8229600" cy="4776120"/>
            <a:chOff x="457200" y="1523880"/>
            <a:chExt cx="8229600" cy="4776120"/>
          </a:xfrm>
        </p:grpSpPr>
        <p:sp>
          <p:nvSpPr>
            <p:cNvPr id="603" name="Rectangle 4"/>
            <p:cNvSpPr/>
            <p:nvPr/>
          </p:nvSpPr>
          <p:spPr>
            <a:xfrm>
              <a:off x="457200" y="1523880"/>
              <a:ext cx="3657600" cy="69840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  <a:ea typeface="宋体"/>
                </a:rPr>
                <a:t>CU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5"/>
            <p:cNvSpPr/>
            <p:nvPr/>
          </p:nvSpPr>
          <p:spPr>
            <a:xfrm>
              <a:off x="457200" y="2301840"/>
              <a:ext cx="3657600" cy="3059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ducate staff on science of safe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Identify defect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Assign executive to adopt uni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Learn from one defect per quarter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Implement teamwork tool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6"/>
            <p:cNvSpPr/>
            <p:nvPr/>
          </p:nvSpPr>
          <p:spPr>
            <a:xfrm>
              <a:off x="4267080" y="1523880"/>
              <a:ext cx="4419720" cy="69840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  <a:ea typeface="宋体"/>
                </a:rPr>
                <a:t>Translating Evidence Into Practice (TRi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7"/>
            <p:cNvSpPr/>
            <p:nvPr/>
          </p:nvSpPr>
          <p:spPr>
            <a:xfrm>
              <a:off x="4267080" y="2301840"/>
              <a:ext cx="4419720" cy="3059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Summarize the  evidence  in a checkli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Identify local barriers to implement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Measure  perform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nsure all patients get the evide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Box 7"/>
            <p:cNvSpPr/>
            <p:nvPr/>
          </p:nvSpPr>
          <p:spPr>
            <a:xfrm>
              <a:off x="3118680" y="5596200"/>
              <a:ext cx="285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ff"/>
                  </a:solidFill>
                  <a:uFillTx/>
                  <a:latin typeface="Calibri"/>
                  <a:hlinkClick r:id="rId1"/>
                </a:rPr>
                <a:t>http://www.safercare.n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20:12:22Z</dcterms:created>
  <dc:creator>Heon-Jae Jeong, MD, MPH, MBA</dc:creator>
  <dc:description/>
  <dc:language>en-US</dc:language>
  <cp:lastModifiedBy> </cp:lastModifiedBy>
  <dcterms:modified xsi:type="dcterms:W3CDTF">2010-03-02T15:46:07Z</dcterms:modified>
  <cp:revision>345</cp:revision>
  <dc:subject/>
  <dc:title>Project Report - Lean Sigma</dc:title>
</cp:coreProperties>
</file>