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D423-349C-4EA8-B0E0-C9021D892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E1B-459A-4D39-9FE9-3229275343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83A1-7C53-4977-9100-EDCB85830B6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9F3B-86A2-4162-86A6-590FFB76CD3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C1A8-3D63-4B50-ABCF-686483EAEDC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584B-F20A-41E2-A628-7DEAEAA8326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E359-782E-4423-87AA-EF423317D48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4270CF9-56E4-40B8-B40B-F57BDF851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C7F1-AEBD-44D9-A760-580CCE5DD4D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18D6C195-4215-41B8-AAF4-23420067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974-6FD6-4419-AA4B-52945337886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7401-AAEF-419D-82CB-60647B89DE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189-D99D-4E5A-8E00-2C2EEC8287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153280" cy="432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t">
            <a:normAutofit fontScale="99000"/>
          </a:bodyPr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162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4720" indent="-344160">
              <a:spcBef>
                <a:spcPts val="1624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3216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711360" y="1656360"/>
            <a:ext cx="7721280" cy="378540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marL="341280" indent="-341280">
              <a:spcBef>
                <a:spcPts val="119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9480">
              <a:spcBef>
                <a:spcPts val="11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4680">
              <a:spcBef>
                <a:spcPts val="1199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4760" indent="-171720"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0360" y="450360"/>
            <a:ext cx="81853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Univers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Univer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Univer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Univer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Univer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 fontScale="99000"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81160">
              <a:lnSpc>
                <a:spcPct val="90000"/>
              </a:lnSpc>
              <a:spcBef>
                <a:spcPts val="2276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43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29280" indent="-1699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1"/>
          </p:nvPr>
        </p:nvSpPr>
        <p:spPr>
          <a:xfrm>
            <a:off x="5454360" y="6156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328680" y="6194520"/>
            <a:ext cx="8486640" cy="0"/>
          </a:xfrm>
          <a:prstGeom prst="line">
            <a:avLst/>
          </a:prstGeom>
          <a:ln w="9360">
            <a:solidFill>
              <a:srgbClr val="6b6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dcri_forslide"/>
          <p:cNvPicPr/>
          <p:nvPr/>
        </p:nvPicPr>
        <p:blipFill>
          <a:blip r:embed="rId3"/>
          <a:stretch/>
        </p:blipFill>
        <p:spPr>
          <a:xfrm>
            <a:off x="252360" y="6248520"/>
            <a:ext cx="29368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 fontScale="99000"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81160">
              <a:lnSpc>
                <a:spcPct val="90000"/>
              </a:lnSpc>
              <a:spcBef>
                <a:spcPts val="2276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43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29280" indent="-1699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4"/>
          <p:cNvSpPr/>
          <p:nvPr/>
        </p:nvSpPr>
        <p:spPr>
          <a:xfrm>
            <a:off x="328680" y="6194520"/>
            <a:ext cx="8486640" cy="0"/>
          </a:xfrm>
          <a:prstGeom prst="line">
            <a:avLst/>
          </a:prstGeom>
          <a:ln w="9360">
            <a:solidFill>
              <a:srgbClr val="6b6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dcri_forslide"/>
          <p:cNvPicPr/>
          <p:nvPr/>
        </p:nvPicPr>
        <p:blipFill>
          <a:blip r:embed="rId3"/>
          <a:stretch/>
        </p:blipFill>
        <p:spPr>
          <a:xfrm>
            <a:off x="252360" y="6248520"/>
            <a:ext cx="2936880" cy="457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 fontScale="99000"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81160">
              <a:lnSpc>
                <a:spcPct val="90000"/>
              </a:lnSpc>
              <a:spcBef>
                <a:spcPts val="2276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43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29280" indent="-1699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nsholik.com/photos/medical/mech_valves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146.74.224.231/archives/prescription%20drugs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2.biocentrum.dtu.dk/norfa/img/test-tube.jpg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ec1.images-amazon.com/images/I/51NR6EXT3HL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cdc.gov/mmwr/preview/mmwrhtml/mm5539a9.htm" TargetMode="External"/><Relationship Id="rId4" Type="http://schemas.openxmlformats.org/officeDocument/2006/relationships/hyperlink" Target="http://www.cdc.gov/mmwr/preview/mmwrhtml/mm5539a9.htm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0360" y="450360"/>
            <a:ext cx="8185320" cy="143424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ba3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Maximizing Comparative Effectiveness Research</a:t>
            </a:r>
            <a:r>
              <a:rPr b="1" i="1" lang="en-US" sz="2800" spc="-1" strike="noStrike">
                <a:solidFill>
                  <a:srgbClr val="ffba3e"/>
                </a:solidFill>
                <a:latin typeface="Arial"/>
              </a:rPr>
              <a:t>  The DECIDE CV Consortia</a:t>
            </a:r>
            <a:br>
              <a:rPr sz="2400"/>
            </a:b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443600"/>
            <a:ext cx="7721280" cy="50313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>
            <a:normAutofit/>
          </a:bodyPr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ic D. Peterson, MD, MP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or of Medic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ce Chair for Quality, Duke D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e Director, Duke Clinical Research Institute (DCR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Magid, MD, MP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 of Research, Colorado Permanente Medical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e Professor, University of Colora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V Provider Led Clinical Registrie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818640"/>
            <a:ext cx="8381880" cy="5719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Society of Thoracic Surgery:  900+ cent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onary artery bypass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ve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genital heart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acic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National Cardiovascular Data Registry: 1600+ Hospita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h/Percutaneous coronary inter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antable cardiac defibrillators (IC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ute coronary syndromes (A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otid ste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 CV disease (launch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AHA-Get With The Guideline Program: 1500+ hospita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onary artery disease (C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fail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 module (launch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42520" cy="49680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These CV Clinical Registries are…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609560"/>
            <a:ext cx="8001000" cy="398952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and growing more representat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f US patients, providers, set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iled...with rich clinical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ing features, treatments, acute outco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standardized data el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th and among regis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high qu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lete, accura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di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Univers"/>
              </a:rPr>
              <a:t>CV Registries across the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Univers"/>
              </a:rPr>
              <a:t>Care Spectrum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Univers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49040" y="2595600"/>
            <a:ext cx="20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i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e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2592000" y="2584440"/>
            <a:ext cx="19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mit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5539320" y="2265480"/>
            <a:ext cx="348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ost-Ev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rdiac rehabil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ary 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150920" y="3489480"/>
            <a:ext cx="69087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>
            <a:off x="114300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311616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724680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3522600" y="3336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541800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2"/>
          <p:cNvSpPr/>
          <p:nvPr/>
        </p:nvSpPr>
        <p:spPr>
          <a:xfrm>
            <a:off x="4797720" y="2790720"/>
            <a:ext cx="13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3962520" y="3718080"/>
            <a:ext cx="17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 pt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2679480" y="3713040"/>
            <a:ext cx="15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m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5"/>
          <p:cNvSpPr/>
          <p:nvPr/>
        </p:nvSpPr>
        <p:spPr>
          <a:xfrm flipV="1" rot="5400000">
            <a:off x="4196520" y="1038960"/>
            <a:ext cx="304560" cy="2471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4440 h 2471760"/>
              <a:gd name="textAreaBottom" fmla="*/ 2407320 h 24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805120" y="166212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HF/Stroke AMI/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17"/>
          <p:cNvGrpSpPr/>
          <p:nvPr/>
        </p:nvGrpSpPr>
        <p:grpSpPr>
          <a:xfrm>
            <a:off x="2819520" y="4118040"/>
            <a:ext cx="2895120" cy="2380320"/>
            <a:chOff x="2819520" y="4118040"/>
            <a:chExt cx="2895120" cy="2380320"/>
          </a:xfrm>
        </p:grpSpPr>
        <p:sp>
          <p:nvSpPr>
            <p:cNvPr id="415" name="AutoShape 18"/>
            <p:cNvSpPr/>
            <p:nvPr/>
          </p:nvSpPr>
          <p:spPr>
            <a:xfrm rot="16200000">
              <a:off x="4114800" y="2822760"/>
              <a:ext cx="304560" cy="28951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5240 h 2895120"/>
                <a:gd name="textAreaBottom" fmla="*/ 2819880 h 28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9"/>
            <p:cNvSpPr/>
            <p:nvPr/>
          </p:nvSpPr>
          <p:spPr>
            <a:xfrm>
              <a:off x="3087000" y="4574880"/>
              <a:ext cx="2409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AC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GWTG HF, CV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ACC-PCI, ICD PVD, Congeni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STS-CABG, Valv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0"/>
          <p:cNvSpPr/>
          <p:nvPr/>
        </p:nvSpPr>
        <p:spPr>
          <a:xfrm rot="16200000">
            <a:off x="7121520" y="2936520"/>
            <a:ext cx="304920" cy="250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160 h 2508120"/>
              <a:gd name="textAreaBottom" fmla="*/ 2442960 h 25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5800680" y="4503600"/>
            <a:ext cx="334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CC IC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GWTG Out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RANSLATE A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ORBIT-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22"/>
          <p:cNvSpPr/>
          <p:nvPr/>
        </p:nvSpPr>
        <p:spPr>
          <a:xfrm rot="16200000">
            <a:off x="1807200" y="3297960"/>
            <a:ext cx="380880" cy="1709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44280 h 1709640"/>
              <a:gd name="textAreaBottom" fmla="*/ 1665360 h 17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60948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HA H3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4"/>
          <p:cNvSpPr/>
          <p:nvPr/>
        </p:nvSpPr>
        <p:spPr>
          <a:xfrm>
            <a:off x="2575080" y="473544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5"/>
          <p:cNvSpPr/>
          <p:nvPr/>
        </p:nvSpPr>
        <p:spPr>
          <a:xfrm>
            <a:off x="5241960" y="473544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04920" y="19051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1752480" y="3200400"/>
            <a:ext cx="1828800" cy="5842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i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304920" y="320040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04920" y="466884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7"/>
          <p:cNvSpPr/>
          <p:nvPr/>
        </p:nvSpPr>
        <p:spPr>
          <a:xfrm>
            <a:off x="3276720" y="4749840"/>
            <a:ext cx="1828800" cy="5842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812960" y="4952880"/>
            <a:ext cx="131112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/Dr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304920" y="60199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3505320" y="6121440"/>
            <a:ext cx="1828800" cy="5842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828800" y="6238800"/>
            <a:ext cx="144792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mark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ics S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12" descr="See full size image">
            <a:hlinkClick r:id="rId2"/>
          </p:cNvPr>
          <p:cNvPicPr/>
          <p:nvPr/>
        </p:nvPicPr>
        <p:blipFill>
          <a:blip r:embed="rId3"/>
          <a:srcRect l="9658" t="0" r="3387" b="0"/>
          <a:stretch/>
        </p:blipFill>
        <p:spPr>
          <a:xfrm>
            <a:off x="1752480" y="41148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See full size image">
            <a:hlinkClick r:id="rId4"/>
          </p:cNvPr>
          <p:cNvPicPr/>
          <p:nvPr/>
        </p:nvPicPr>
        <p:blipFill>
          <a:blip r:embed="rId5"/>
          <a:srcRect l="8998" t="0" r="10108" b="0"/>
          <a:stretch/>
        </p:blipFill>
        <p:spPr>
          <a:xfrm>
            <a:off x="2514600" y="41148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28800" y="5486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See full size image">
            <a:hlinkClick r:id="rId8"/>
          </p:cNvPr>
          <p:cNvPicPr/>
          <p:nvPr/>
        </p:nvPicPr>
        <p:blipFill>
          <a:blip r:embed="rId9"/>
          <a:srcRect l="24248" t="0" r="3044" b="20012"/>
          <a:stretch/>
        </p:blipFill>
        <p:spPr>
          <a:xfrm>
            <a:off x="2666880" y="548640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436" name="Line 16"/>
          <p:cNvSpPr/>
          <p:nvPr/>
        </p:nvSpPr>
        <p:spPr>
          <a:xfrm>
            <a:off x="1752480" y="2209680"/>
            <a:ext cx="3962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5928120" y="1981080"/>
            <a:ext cx="2526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 section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373392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19"/>
          <p:cNvSpPr/>
          <p:nvPr/>
        </p:nvSpPr>
        <p:spPr>
          <a:xfrm>
            <a:off x="5948280" y="3367080"/>
            <a:ext cx="21938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itudin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6016680" y="4890960"/>
            <a:ext cx="289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ative Effe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1"/>
          <p:cNvSpPr/>
          <p:nvPr/>
        </p:nvSpPr>
        <p:spPr>
          <a:xfrm>
            <a:off x="518148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6131880" y="6172200"/>
            <a:ext cx="255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lational 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5410080" y="6400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2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Clinical Registries as Engines for Evidence Development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Duke DEcIDE and FDA CV Work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(to Date)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28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t">
            <a:normAutofit fontScale="99000"/>
          </a:bodyPr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MR Evaluation (200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 vs BMS Comparative Effectiveness (200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 NCDR +CMS part 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 vs BMS Subgroups + Imaging (200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 NCDR +CMS part A +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ortic Valves (200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S + CMS part 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84960" cy="58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Diffusion of TMR into Clinical Practice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80880" y="914400"/>
          <a:ext cx="8229600" cy="556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9" name="" descr="bar char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Text Box 4"/>
          <p:cNvSpPr/>
          <p:nvPr/>
        </p:nvSpPr>
        <p:spPr>
          <a:xfrm>
            <a:off x="4689720" y="6172200"/>
            <a:ext cx="45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son E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C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3;42:1611-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4252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NCDR DES vs BMS Longitudinal Analysis 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3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Objective: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o examine comparative effectiveness and safety of DES vs BMS in a national PCI cohort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opulation: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ll NCDR PCI pts 1/04-12/06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437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ollow up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Linkage to CMS inpatient claims data using indirect identifiers; 76% matched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437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inal cohort: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262,700 pts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6760">
              <a:spcBef>
                <a:spcPts val="601"/>
              </a:spcBef>
              <a:buClr>
                <a:srgbClr val="6b6bce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% DES; 46% Cypher, 55% Tax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437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Analysis: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nverse propensity weighted model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6760">
              <a:spcBef>
                <a:spcPts val="601"/>
              </a:spcBef>
              <a:buClr>
                <a:srgbClr val="6b6bce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 covariates; Cox PH to verify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4554360" y="6156360"/>
            <a:ext cx="44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ouglas P JAC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2009 May 5;53(18):1629-4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642520" cy="1609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ACC 2009 LBCT: NCDR DES vs BMS 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30-Month Event Rates</a:t>
            </a:r>
            <a:br>
              <a:rPr sz="3200"/>
            </a:b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graphicFrame>
        <p:nvGraphicFramePr>
          <p:cNvPr id="455" name="Object 3"/>
          <p:cNvGraphicFramePr/>
          <p:nvPr/>
        </p:nvGraphicFramePr>
        <p:xfrm>
          <a:off x="0" y="1295280"/>
          <a:ext cx="9144000" cy="474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6" name="Object 3" descr="bar chart&#13;&#10;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4"/>
          <p:cNvSpPr/>
          <p:nvPr/>
        </p:nvSpPr>
        <p:spPr>
          <a:xfrm>
            <a:off x="559440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85,0.9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711864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= 0.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0.88,1.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946440" y="602604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73,0.7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247032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72,0.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407052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89,0.9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 rot="16200000">
            <a:off x="-970560" y="34308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 / 100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97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ortium of 15 Health Pla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lectively provide community-based healthcare to ~11 million pers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ad age, gender, and racial/ethnic diversity across si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patient retention ra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81520"/>
            <a:ext cx="7620120" cy="62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HMORN Centers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466" name="Picture 6" descr="map"/>
          <p:cNvPicPr/>
          <p:nvPr/>
        </p:nvPicPr>
        <p:blipFill>
          <a:blip r:embed="rId2"/>
          <a:stretch/>
        </p:blipFill>
        <p:spPr>
          <a:xfrm>
            <a:off x="152280" y="1371600"/>
            <a:ext cx="8839440" cy="533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"/>
          <p:cNvPicPr/>
          <p:nvPr/>
        </p:nvPicPr>
        <p:blipFill>
          <a:blip r:embed="rId2"/>
          <a:stretch/>
        </p:blipFill>
        <p:spPr>
          <a:xfrm>
            <a:off x="838080" y="1103400"/>
            <a:ext cx="6934320" cy="5045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493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omparative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Effectiveness Research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967560" y="63244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ensky G Health Affairs Nov 2006:w572-w5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52280" y="4191120"/>
            <a:ext cx="8763120" cy="1557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"There is a wealth of data available from large databa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at enable us to research important clinical questions,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"Robust methodology exists for comparing different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rapies through observational database analysi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 Health Plan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708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ed Research Center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ts val="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erse delivery settings (e.g. inpatient, outpatient) and care mode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longitudinal care (including prevention, diagnosis, and treatmen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ed lab, pharmacy, ambulatory care and hospital d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ts val="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4/15 sites have implemented an electronic medical record (EM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2640" y="80640"/>
            <a:ext cx="7620120" cy="102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Registry Data Standardization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 Virtual Data Warehouse (VDW) 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226160"/>
            <a:ext cx="7924680" cy="49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rmAutofit fontScale="99000"/>
          </a:bodyPr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data diction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2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arrayed using identical names, formats, and specific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2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S program written at one site can be run at other sit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1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s efficiency of multi-site stud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1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 Data Coordinating Center or  Centralized Data Warehous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103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 VDW Registry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Standardized Data Table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7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 Identification - Unique patient I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bership - Enrollment statu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graphics - Age, gender, race/ethnic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boratory -  Lab tests and 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tions - Name, dose, route, date, # pills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bulatory - Diagnoses, tests, and procedur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pital - Diagnoses and procedures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nefits - co-payments, co-insurance, deducti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tal Signs – BP, HR, B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tality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AHRQ Sponsored CV Research Projects - HMORN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685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-343080">
              <a:spcBef>
                <a:spcPts val="1301"/>
              </a:spcBef>
              <a:spcAft>
                <a:spcPts val="814"/>
              </a:spcAft>
              <a:buClr>
                <a:srgbClr val="ffba3e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ative Effectiveness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spcAft>
                <a:spcPts val="751"/>
              </a:spcAft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d-line Anti-hypertensiv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spcAft>
                <a:spcPts val="751"/>
              </a:spcAft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β-blockers in patients with heart fail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-343080">
              <a:spcBef>
                <a:spcPts val="1301"/>
              </a:spcBef>
              <a:buClr>
                <a:srgbClr val="ffba3e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nefit/Harms of Medications in Routine Prac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pidogrel duration vs MI, Death, and Bl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 of Clopidogrel and P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-343080">
              <a:spcBef>
                <a:spcPts val="1301"/>
              </a:spcBef>
              <a:buClr>
                <a:srgbClr val="ffba3e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s of Medical Devices in Routine Prac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DES in off-label in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and Effectiveness of of IC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39200"/>
            <a:ext cx="7772400" cy="103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ER of BB vs ACE as 2</a:t>
            </a:r>
            <a:r>
              <a:rPr b="1" lang="en-US" sz="2800" spc="-1" strike="noStrike" baseline="30000">
                <a:solidFill>
                  <a:srgbClr val="ffba3e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-line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Anti-Hypertensive Agents 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932120"/>
            <a:ext cx="8305920" cy="348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42360" indent="-342360">
              <a:lnSpc>
                <a:spcPct val="90000"/>
              </a:lnSpc>
              <a:spcBef>
                <a:spcPts val="1301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P Control usually requires &gt; 1 m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301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2nd-line agent for pts whose BP is not controlled on a thiazide is unknow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301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ive: To compare the effectiveness of ACE-inhibitors (ACE) vs. β-blockers (BB) for HTN patients who are started on a thiazide but whose BP is inadequately controlled on a thiazide alon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50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 HTN Registry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Unique Characteristics</a:t>
            </a:r>
            <a:br>
              <a:rPr sz="2800"/>
            </a:b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08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– Over 1 million pat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Assessment – properly identified and excluded patients receiving ACE or BB for reasons other than HT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lity to control for baseline BP (higher in patient receiving BB a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line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for confounding bias using both diagnostic and lab data (e.g. renal fun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BP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progression to renal dis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0940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BP control at 1 year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(adjusted model results)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5960" y="2238480"/>
            <a:ext cx="7772400" cy="3833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           70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β-bloc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69.0%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=0.09 for compari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consistent in subgroup analysis by site, gender and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7760"/>
            <a:ext cx="7772400" cy="112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ypertension S</a:t>
            </a: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equelae</a:t>
            </a: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000" spc="-1" strike="noStrike">
                <a:solidFill>
                  <a:srgbClr val="ffba3e"/>
                </a:solidFill>
                <a:latin typeface="Arial"/>
              </a:rPr>
              <a:t>Cox proportional hazards models</a:t>
            </a:r>
            <a:endParaRPr b="1" lang="en-US" sz="2000" spc="-1" strike="noStrike">
              <a:solidFill>
                <a:srgbClr val="ffba3e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01480" y="1752480"/>
          <a:ext cx="8148960" cy="3930840"/>
        </p:xfrm>
        <a:graphic>
          <a:graphicData uri="http://schemas.openxmlformats.org/drawingml/2006/table">
            <a:tbl>
              <a:tblPr/>
              <a:tblGrid>
                <a:gridCol w="2065680"/>
                <a:gridCol w="2028600"/>
                <a:gridCol w="2027160"/>
                <a:gridCol w="2027520"/>
              </a:tblGrid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 vs. B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69-1.58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k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68, 1.52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KD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tage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1, 1.13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Text Box 37"/>
          <p:cNvSpPr/>
          <p:nvPr/>
        </p:nvSpPr>
        <p:spPr>
          <a:xfrm>
            <a:off x="967680" y="639612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Additionally adjusted for eGFR</a:t>
            </a: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116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DEcIDE CV Consortium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Vision 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1904760"/>
            <a:ext cx="8153280" cy="3672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as part of the Effective Health Care program  with the Duke University and the HMO Research Network DEcIDE Cent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ng expertise in multiple scientific areas to provide comparative effectiveness resear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a framework that aligns interests from the clinical community, governmental agencies, payers, professional societ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V Consortium – Guiding Principal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5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duct and disseminate high-quality CV   research with potential to improve health outcomes and care delivery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age with Stakeholders group in setting research prioriti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 collaboratively to leverage our joint data resources and expertise 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ts val="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ively and transparently communicate with  external audiences to allow accountabil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27040"/>
            <a:ext cx="8540640" cy="3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a3e"/>
                </a:solidFill>
                <a:latin typeface="Arial"/>
              </a:rPr>
              <a:t>Elements Stimulating Comparative Effectiveness Research</a:t>
            </a:r>
            <a:endParaRPr b="1" lang="en-US" sz="24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2"/>
          <a:srcRect l="0" t="5383" r="-4442" b="8954"/>
          <a:stretch/>
        </p:blipFill>
        <p:spPr>
          <a:xfrm>
            <a:off x="0" y="152388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omparative-effectiveness"/>
          <p:cNvPicPr/>
          <p:nvPr/>
        </p:nvPicPr>
        <p:blipFill>
          <a:blip r:embed="rId3"/>
          <a:srcRect l="0" t="0" r="0" b="37268"/>
          <a:stretch/>
        </p:blipFill>
        <p:spPr>
          <a:xfrm>
            <a:off x="4343400" y="1371600"/>
            <a:ext cx="4572000" cy="2181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obama signing stimulas package"/>
          <p:cNvPicPr/>
          <p:nvPr/>
        </p:nvPicPr>
        <p:blipFill>
          <a:blip r:embed="rId4"/>
          <a:srcRect l="23077" t="0" r="0" b="0"/>
          <a:stretch/>
        </p:blipFill>
        <p:spPr>
          <a:xfrm>
            <a:off x="4648320" y="3657600"/>
            <a:ext cx="3962160" cy="2733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397080" y="6010200"/>
            <a:ext cx="81604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part of ARRA: $1.1 bill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aside for comparative effectiveness research (C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62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2008 Kick-off Meeting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828800"/>
            <a:ext cx="8153280" cy="3795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VC Stakeholder Committee had this initial meeting in October 14, 200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ct Investigators:  HMORN, Du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vernmental Agencies: AHRQ, FDA, NIH, C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essional Socities: ACC, AHA, S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Observers: Major pay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ics:  Coronary stenting, antiplatelet therapy and aortic valve diseas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2640" y="281520"/>
            <a:ext cx="7620120" cy="62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Future of CV Consortium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447560"/>
            <a:ext cx="8153280" cy="546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fine and Prioritize Topic Are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existing and emerging CV therapies and diagnostic technologies, including: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Cardiac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vular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rial Fibr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 and other risk factor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Va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2640" y="281520"/>
            <a:ext cx="7620120" cy="62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Future of CV Consortium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447920"/>
            <a:ext cx="8153280" cy="4439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roaden Stakehold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erican College of Phys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erican Association of Family Phys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rengthen Collabor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DE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essional Socie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Non-governmental agen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42640" y="12240"/>
            <a:ext cx="7620120" cy="116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Proposed CV Consortium Organization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495" name="Content Placeholder 4" descr=""/>
          <p:cNvPicPr/>
          <p:nvPr/>
        </p:nvPicPr>
        <p:blipFill>
          <a:blip r:embed="rId2"/>
          <a:stretch/>
        </p:blipFill>
        <p:spPr>
          <a:xfrm>
            <a:off x="450720" y="1579680"/>
            <a:ext cx="8242560" cy="46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At the End of the Day…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23972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marL="3459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V DEcIDE Consortium and Collaboration c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ture high quality clinical data effici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used for scientific discov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patients’ longitudin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drugs/dev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linked to biological/imag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ment/support traditional and practical R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drive new evidence into routine pract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ba3e"/>
                </a:solidFill>
                <a:latin typeface="Arial"/>
              </a:rPr>
              <a:t>Thank you</a:t>
            </a:r>
            <a:endParaRPr b="1" lang="en-US" sz="39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727080"/>
            <a:ext cx="6400800" cy="102564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853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IOM CER Priorities 2009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2860560"/>
            <a:ext cx="7721280" cy="137664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bar chart of IOM CER Priorities for 2009"/>
          <p:cNvPicPr/>
          <p:nvPr/>
        </p:nvPicPr>
        <p:blipFill>
          <a:blip r:embed="rId2"/>
          <a:srcRect l="4372" t="3586" r="4177" b="5709"/>
          <a:stretch/>
        </p:blipFill>
        <p:spPr>
          <a:xfrm>
            <a:off x="684360" y="917640"/>
            <a:ext cx="7926120" cy="5713200"/>
          </a:xfrm>
          <a:prstGeom prst="rect">
            <a:avLst/>
          </a:prstGeom>
          <a:ln w="0">
            <a:noFill/>
          </a:ln>
        </p:spPr>
      </p:pic>
      <p:sp>
        <p:nvSpPr>
          <p:cNvPr id="254" name="Oval 5"/>
          <p:cNvSpPr/>
          <p:nvPr/>
        </p:nvSpPr>
        <p:spPr>
          <a:xfrm rot="2400000">
            <a:off x="1371600" y="3429000"/>
            <a:ext cx="1084320" cy="32004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0360" y="450360"/>
            <a:ext cx="81853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Leading Causes of Death in U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11360" y="2860560"/>
            <a:ext cx="7721280" cy="137664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bar chart of leading caused of dealth in US"/>
          <p:cNvPicPr/>
          <p:nvPr/>
        </p:nvPicPr>
        <p:blipFill>
          <a:blip r:embed="rId2"/>
          <a:stretch/>
        </p:blipFill>
        <p:spPr>
          <a:xfrm>
            <a:off x="457200" y="1371600"/>
            <a:ext cx="7696080" cy="4856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139200" y="6324480"/>
            <a:ext cx="58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7a5"/>
                </a:solidFill>
                <a:uFillTx/>
                <a:latin typeface="Arial"/>
                <a:hlinkClick r:id="rId3"/>
              </a:rPr>
              <a:t>Htttp://www.cdc.gov</a:t>
            </a:r>
            <a:r>
              <a:rPr b="0" lang="en-US" sz="1600" spc="-1" strike="noStrike" u="sng">
                <a:solidFill>
                  <a:srgbClr val="00b7a5"/>
                </a:solidFill>
                <a:uFillTx/>
                <a:latin typeface="Arial"/>
                <a:hlinkClick r:id="rId4"/>
              </a:rPr>
              <a:t>/mmwr/preview/mmwrhtml/mm5539a9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Lack of Evidence in Guideline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commendation Based on RCT Data  </a:t>
            </a:r>
            <a:br>
              <a:rPr sz="2800"/>
            </a:b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-228600" y="1066680"/>
            <a:ext cx="7226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4911840" y="1176480"/>
            <a:ext cx="1440" cy="4781520"/>
          </a:xfrm>
          <a:prstGeom prst="line">
            <a:avLst/>
          </a:prstGeom>
          <a:ln w="0">
            <a:solidFill>
              <a:srgbClr val="00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6319800" y="1176480"/>
            <a:ext cx="1800" cy="4781520"/>
          </a:xfrm>
          <a:prstGeom prst="line">
            <a:avLst/>
          </a:prstGeom>
          <a:ln w="0">
            <a:solidFill>
              <a:srgbClr val="00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7719840" y="1176480"/>
            <a:ext cx="1800" cy="4781520"/>
          </a:xfrm>
          <a:prstGeom prst="line">
            <a:avLst/>
          </a:prstGeom>
          <a:ln w="0">
            <a:solidFill>
              <a:srgbClr val="00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49800" y="125244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3521160" y="1424160"/>
            <a:ext cx="1657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7215120" y="156672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3521160" y="1747800"/>
            <a:ext cx="37227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5654520" y="189072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3521160" y="2062080"/>
            <a:ext cx="21621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5407200" y="2205000"/>
            <a:ext cx="284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521160" y="2386080"/>
            <a:ext cx="191448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5197320" y="2529000"/>
            <a:ext cx="28800" cy="19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3521160" y="2700360"/>
            <a:ext cx="17049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6719760" y="284328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3521160" y="3024360"/>
            <a:ext cx="32274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4406760" y="316692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3521160" y="3338640"/>
            <a:ext cx="9144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368960" y="3481560"/>
            <a:ext cx="284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3521160" y="3662280"/>
            <a:ext cx="8762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6824520" y="380520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3521160" y="3976560"/>
            <a:ext cx="33321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3549600" y="411948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3521160" y="4300560"/>
            <a:ext cx="572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4873680" y="4443480"/>
            <a:ext cx="28440" cy="19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3521160" y="4614840"/>
            <a:ext cx="13809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5054760" y="4757760"/>
            <a:ext cx="284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3521160" y="4938840"/>
            <a:ext cx="1562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1"/>
          <p:cNvSpPr/>
          <p:nvPr/>
        </p:nvSpPr>
        <p:spPr>
          <a:xfrm>
            <a:off x="6176880" y="5081760"/>
            <a:ext cx="28800" cy="19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2"/>
          <p:cNvSpPr/>
          <p:nvPr/>
        </p:nvSpPr>
        <p:spPr>
          <a:xfrm>
            <a:off x="3521160" y="5253120"/>
            <a:ext cx="26845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3"/>
          <p:cNvSpPr/>
          <p:nvPr/>
        </p:nvSpPr>
        <p:spPr>
          <a:xfrm>
            <a:off x="4006800" y="539604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3521160" y="5576760"/>
            <a:ext cx="5144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5"/>
          <p:cNvSpPr/>
          <p:nvPr/>
        </p:nvSpPr>
        <p:spPr>
          <a:xfrm>
            <a:off x="4187880" y="5719680"/>
            <a:ext cx="2844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6"/>
          <p:cNvSpPr/>
          <p:nvPr/>
        </p:nvSpPr>
        <p:spPr>
          <a:xfrm>
            <a:off x="3521160" y="5891040"/>
            <a:ext cx="6951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7"/>
          <p:cNvSpPr/>
          <p:nvPr/>
        </p:nvSpPr>
        <p:spPr>
          <a:xfrm>
            <a:off x="3511440" y="1243080"/>
            <a:ext cx="163836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8"/>
          <p:cNvSpPr/>
          <p:nvPr/>
        </p:nvSpPr>
        <p:spPr>
          <a:xfrm>
            <a:off x="3511440" y="1557360"/>
            <a:ext cx="370368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9"/>
          <p:cNvSpPr/>
          <p:nvPr/>
        </p:nvSpPr>
        <p:spPr>
          <a:xfrm>
            <a:off x="3511440" y="1881360"/>
            <a:ext cx="2143080" cy="18072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511440" y="2195640"/>
            <a:ext cx="189576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1"/>
          <p:cNvSpPr/>
          <p:nvPr/>
        </p:nvSpPr>
        <p:spPr>
          <a:xfrm>
            <a:off x="3511440" y="2519280"/>
            <a:ext cx="168588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3511440" y="2833560"/>
            <a:ext cx="3208320" cy="19080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3511440" y="3157560"/>
            <a:ext cx="89532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4"/>
          <p:cNvSpPr/>
          <p:nvPr/>
        </p:nvSpPr>
        <p:spPr>
          <a:xfrm>
            <a:off x="3511440" y="3471840"/>
            <a:ext cx="85752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45"/>
          <p:cNvSpPr/>
          <p:nvPr/>
        </p:nvSpPr>
        <p:spPr>
          <a:xfrm>
            <a:off x="3511440" y="3795840"/>
            <a:ext cx="3313080" cy="18072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6"/>
          <p:cNvSpPr/>
          <p:nvPr/>
        </p:nvSpPr>
        <p:spPr>
          <a:xfrm>
            <a:off x="3511440" y="4110120"/>
            <a:ext cx="3816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7"/>
          <p:cNvSpPr/>
          <p:nvPr/>
        </p:nvSpPr>
        <p:spPr>
          <a:xfrm>
            <a:off x="3511440" y="4433760"/>
            <a:ext cx="136224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8"/>
          <p:cNvSpPr/>
          <p:nvPr/>
        </p:nvSpPr>
        <p:spPr>
          <a:xfrm>
            <a:off x="3511440" y="4748040"/>
            <a:ext cx="1543320" cy="19080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9"/>
          <p:cNvSpPr/>
          <p:nvPr/>
        </p:nvSpPr>
        <p:spPr>
          <a:xfrm>
            <a:off x="3511440" y="5072040"/>
            <a:ext cx="266544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50"/>
          <p:cNvSpPr/>
          <p:nvPr/>
        </p:nvSpPr>
        <p:spPr>
          <a:xfrm>
            <a:off x="3511440" y="5386320"/>
            <a:ext cx="49536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1"/>
          <p:cNvSpPr/>
          <p:nvPr/>
        </p:nvSpPr>
        <p:spPr>
          <a:xfrm>
            <a:off x="3511440" y="5710320"/>
            <a:ext cx="676440" cy="18072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3511440" y="5958000"/>
            <a:ext cx="420840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53"/>
          <p:cNvSpPr/>
          <p:nvPr/>
        </p:nvSpPr>
        <p:spPr>
          <a:xfrm flipV="1">
            <a:off x="3511440" y="5958000"/>
            <a:ext cx="180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54"/>
          <p:cNvSpPr/>
          <p:nvPr/>
        </p:nvSpPr>
        <p:spPr>
          <a:xfrm flipV="1">
            <a:off x="4911840" y="5958000"/>
            <a:ext cx="144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5"/>
          <p:cNvSpPr/>
          <p:nvPr/>
        </p:nvSpPr>
        <p:spPr>
          <a:xfrm flipV="1">
            <a:off x="6319800" y="5958000"/>
            <a:ext cx="180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56"/>
          <p:cNvSpPr/>
          <p:nvPr/>
        </p:nvSpPr>
        <p:spPr>
          <a:xfrm flipV="1">
            <a:off x="7719840" y="5958000"/>
            <a:ext cx="180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3511440" y="1176480"/>
            <a:ext cx="1800" cy="4781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3454560" y="117648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3454560" y="149076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3454560" y="181440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3454560" y="212868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3454560" y="245268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3454560" y="276696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454560" y="309096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3454560" y="340524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3454560" y="372888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3454560" y="404352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68"/>
          <p:cNvSpPr/>
          <p:nvPr/>
        </p:nvSpPr>
        <p:spPr>
          <a:xfrm>
            <a:off x="3454560" y="436716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69"/>
          <p:cNvSpPr/>
          <p:nvPr/>
        </p:nvSpPr>
        <p:spPr>
          <a:xfrm>
            <a:off x="3454560" y="468144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70"/>
          <p:cNvSpPr/>
          <p:nvPr/>
        </p:nvSpPr>
        <p:spPr>
          <a:xfrm>
            <a:off x="3454560" y="500544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71"/>
          <p:cNvSpPr/>
          <p:nvPr/>
        </p:nvSpPr>
        <p:spPr>
          <a:xfrm>
            <a:off x="3454560" y="531972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72"/>
          <p:cNvSpPr/>
          <p:nvPr/>
        </p:nvSpPr>
        <p:spPr>
          <a:xfrm>
            <a:off x="3454560" y="564372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73"/>
          <p:cNvSpPr/>
          <p:nvPr/>
        </p:nvSpPr>
        <p:spPr>
          <a:xfrm>
            <a:off x="3454560" y="595800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4"/>
          <p:cNvSpPr/>
          <p:nvPr/>
        </p:nvSpPr>
        <p:spPr>
          <a:xfrm>
            <a:off x="5269680" y="124308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1.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335000" y="156672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6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6"/>
          <p:cNvSpPr/>
          <p:nvPr/>
        </p:nvSpPr>
        <p:spPr>
          <a:xfrm>
            <a:off x="5774400" y="1881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5.3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7"/>
          <p:cNvSpPr/>
          <p:nvPr/>
        </p:nvSpPr>
        <p:spPr>
          <a:xfrm>
            <a:off x="5526720" y="220500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3.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8"/>
          <p:cNvSpPr/>
          <p:nvPr/>
        </p:nvSpPr>
        <p:spPr>
          <a:xfrm>
            <a:off x="5317200" y="251928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2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9"/>
          <p:cNvSpPr/>
          <p:nvPr/>
        </p:nvSpPr>
        <p:spPr>
          <a:xfrm>
            <a:off x="6839640" y="284328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2.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80"/>
          <p:cNvSpPr/>
          <p:nvPr/>
        </p:nvSpPr>
        <p:spPr>
          <a:xfrm>
            <a:off x="4525920" y="31575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6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1"/>
          <p:cNvSpPr/>
          <p:nvPr/>
        </p:nvSpPr>
        <p:spPr>
          <a:xfrm>
            <a:off x="4487760" y="34815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6.1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2"/>
          <p:cNvSpPr/>
          <p:nvPr/>
        </p:nvSpPr>
        <p:spPr>
          <a:xfrm>
            <a:off x="6944400" y="37958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3"/>
          <p:cNvSpPr/>
          <p:nvPr/>
        </p:nvSpPr>
        <p:spPr>
          <a:xfrm>
            <a:off x="3668760" y="41194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0.3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84"/>
          <p:cNvSpPr/>
          <p:nvPr/>
        </p:nvSpPr>
        <p:spPr>
          <a:xfrm>
            <a:off x="4992480" y="44337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9.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5"/>
          <p:cNvSpPr/>
          <p:nvPr/>
        </p:nvSpPr>
        <p:spPr>
          <a:xfrm>
            <a:off x="5174280" y="47577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1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6"/>
          <p:cNvSpPr/>
          <p:nvPr/>
        </p:nvSpPr>
        <p:spPr>
          <a:xfrm>
            <a:off x="6296760" y="50720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9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7"/>
          <p:cNvSpPr/>
          <p:nvPr/>
        </p:nvSpPr>
        <p:spPr>
          <a:xfrm>
            <a:off x="4125960" y="539604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3.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88"/>
          <p:cNvSpPr/>
          <p:nvPr/>
        </p:nvSpPr>
        <p:spPr>
          <a:xfrm>
            <a:off x="4306680" y="571032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4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9"/>
          <p:cNvSpPr/>
          <p:nvPr/>
        </p:nvSpPr>
        <p:spPr>
          <a:xfrm>
            <a:off x="3446640" y="61293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90"/>
          <p:cNvSpPr/>
          <p:nvPr/>
        </p:nvSpPr>
        <p:spPr>
          <a:xfrm>
            <a:off x="4791240" y="6129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91"/>
          <p:cNvSpPr/>
          <p:nvPr/>
        </p:nvSpPr>
        <p:spPr>
          <a:xfrm>
            <a:off x="6199200" y="6129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92"/>
          <p:cNvSpPr/>
          <p:nvPr/>
        </p:nvSpPr>
        <p:spPr>
          <a:xfrm>
            <a:off x="7599240" y="6129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93"/>
          <p:cNvGrpSpPr/>
          <p:nvPr/>
        </p:nvGrpSpPr>
        <p:grpSpPr>
          <a:xfrm>
            <a:off x="1194120" y="1224000"/>
            <a:ext cx="2198880" cy="4701240"/>
            <a:chOff x="1194120" y="1224000"/>
            <a:chExt cx="2198880" cy="4701240"/>
          </a:xfrm>
        </p:grpSpPr>
        <p:sp>
          <p:nvSpPr>
            <p:cNvPr id="351" name="Rectangle 94"/>
            <p:cNvSpPr/>
            <p:nvPr/>
          </p:nvSpPr>
          <p:spPr>
            <a:xfrm>
              <a:off x="3082680" y="12240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A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95"/>
            <p:cNvSpPr/>
            <p:nvPr/>
          </p:nvSpPr>
          <p:spPr>
            <a:xfrm>
              <a:off x="2197440" y="1538280"/>
              <a:ext cx="118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Heart fail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96"/>
            <p:cNvSpPr/>
            <p:nvPr/>
          </p:nvSpPr>
          <p:spPr>
            <a:xfrm>
              <a:off x="2934360" y="18622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7"/>
            <p:cNvSpPr/>
            <p:nvPr/>
          </p:nvSpPr>
          <p:spPr>
            <a:xfrm>
              <a:off x="2751120" y="21765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TE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98"/>
            <p:cNvSpPr/>
            <p:nvPr/>
          </p:nvSpPr>
          <p:spPr>
            <a:xfrm>
              <a:off x="2067840" y="2500200"/>
              <a:ext cx="128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erioperat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99"/>
            <p:cNvSpPr/>
            <p:nvPr/>
          </p:nvSpPr>
          <p:spPr>
            <a:xfrm>
              <a:off x="1194120" y="2814480"/>
              <a:ext cx="21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econdary pre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00"/>
            <p:cNvSpPr/>
            <p:nvPr/>
          </p:nvSpPr>
          <p:spPr>
            <a:xfrm>
              <a:off x="2044440" y="3138480"/>
              <a:ext cx="131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table angi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01"/>
            <p:cNvSpPr/>
            <p:nvPr/>
          </p:nvSpPr>
          <p:spPr>
            <a:xfrm>
              <a:off x="1874160" y="3452760"/>
              <a:ext cx="148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V arrhythmi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02"/>
            <p:cNvSpPr/>
            <p:nvPr/>
          </p:nvSpPr>
          <p:spPr>
            <a:xfrm>
              <a:off x="2276640" y="3767040"/>
              <a:ext cx="111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UA/NSTE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03"/>
            <p:cNvSpPr/>
            <p:nvPr/>
          </p:nvSpPr>
          <p:spPr>
            <a:xfrm>
              <a:off x="1763280" y="4091040"/>
              <a:ext cx="159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Valvular dis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104"/>
            <p:cNvSpPr/>
            <p:nvPr/>
          </p:nvSpPr>
          <p:spPr>
            <a:xfrm>
              <a:off x="2605680" y="440532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VA/SC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05"/>
            <p:cNvSpPr/>
            <p:nvPr/>
          </p:nvSpPr>
          <p:spPr>
            <a:xfrm>
              <a:off x="3033360" y="47293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C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6"/>
            <p:cNvSpPr/>
            <p:nvPr/>
          </p:nvSpPr>
          <p:spPr>
            <a:xfrm>
              <a:off x="2765520" y="504360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CAB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07"/>
            <p:cNvSpPr/>
            <p:nvPr/>
          </p:nvSpPr>
          <p:spPr>
            <a:xfrm>
              <a:off x="2273040" y="53672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acemak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08"/>
            <p:cNvSpPr/>
            <p:nvPr/>
          </p:nvSpPr>
          <p:spPr>
            <a:xfrm>
              <a:off x="1263960" y="5681520"/>
              <a:ext cx="210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adionuclide imag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Text Box 109"/>
          <p:cNvSpPr/>
          <p:nvPr/>
        </p:nvSpPr>
        <p:spPr>
          <a:xfrm>
            <a:off x="6180120" y="644508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icoci P et al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AM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rc 3"/>
          <p:cNvSpPr/>
          <p:nvPr/>
        </p:nvSpPr>
        <p:spPr>
          <a:xfrm flipH="1" flipV="1">
            <a:off x="2513880" y="3733920"/>
            <a:ext cx="1846440" cy="173664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518400" y="1004760"/>
            <a:ext cx="15066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218960" y="3138480"/>
            <a:ext cx="18007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822840" y="990720"/>
            <a:ext cx="196848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nical Evid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075720" y="2224080"/>
            <a:ext cx="18738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149880" y="3976560"/>
            <a:ext cx="22046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733920" y="5257800"/>
            <a:ext cx="2455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rc 10"/>
          <p:cNvSpPr/>
          <p:nvPr/>
        </p:nvSpPr>
        <p:spPr>
          <a:xfrm flipH="1" flipV="1">
            <a:off x="2486880" y="1430280"/>
            <a:ext cx="1846440" cy="180360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rc 11"/>
          <p:cNvSpPr/>
          <p:nvPr/>
        </p:nvSpPr>
        <p:spPr>
          <a:xfrm flipH="1" flipV="1">
            <a:off x="5358600" y="1289880"/>
            <a:ext cx="1554120" cy="183060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rc 12"/>
          <p:cNvSpPr/>
          <p:nvPr/>
        </p:nvSpPr>
        <p:spPr>
          <a:xfrm flipH="1" flipV="1">
            <a:off x="5541120" y="2682000"/>
            <a:ext cx="1846440" cy="129564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rc 13"/>
          <p:cNvSpPr/>
          <p:nvPr/>
        </p:nvSpPr>
        <p:spPr>
          <a:xfrm flipH="1" flipV="1">
            <a:off x="5391000" y="3674520"/>
            <a:ext cx="1409760" cy="167292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336760" y="1233360"/>
            <a:ext cx="1600200" cy="0"/>
          </a:xfrm>
          <a:prstGeom prst="line">
            <a:avLst/>
          </a:prstGeom>
          <a:ln w="38160">
            <a:solidFill>
              <a:srgbClr val="6b6b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16800" cy="9493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ycle of Evidence Development and Dissemination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3887640" y="2841480"/>
            <a:ext cx="1922760" cy="91476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5486400" y="6172200"/>
            <a:ext cx="330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Califf RM, Peterson 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 JACC 2002;40:1895-9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1219320" y="4419720"/>
            <a:ext cx="17524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I Initiativ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V="1">
            <a:off x="4800600" y="1905120"/>
            <a:ext cx="0" cy="76176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 flipV="1">
            <a:off x="6019920" y="2819160"/>
            <a:ext cx="685800" cy="53316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6019920" y="3429000"/>
            <a:ext cx="609480" cy="45720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4876920" y="4267080"/>
            <a:ext cx="0" cy="99072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23"/>
          <p:cNvSpPr/>
          <p:nvPr/>
        </p:nvSpPr>
        <p:spPr>
          <a:xfrm flipH="1">
            <a:off x="3047760" y="4038480"/>
            <a:ext cx="685800" cy="38124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 flipH="1">
            <a:off x="3047760" y="3352680"/>
            <a:ext cx="685800" cy="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 flipH="1" flipV="1">
            <a:off x="1828440" y="1599840"/>
            <a:ext cx="1981080" cy="121932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three men"/>
          <p:cNvPicPr/>
          <p:nvPr/>
        </p:nvPicPr>
        <p:blipFill>
          <a:blip r:embed="rId2"/>
          <a:srcRect l="4938" t="0" r="4938" b="0"/>
          <a:stretch/>
        </p:blipFill>
        <p:spPr>
          <a:xfrm>
            <a:off x="1440" y="1841400"/>
            <a:ext cx="4264200" cy="3549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Role of Clinical Registries for Evidence Development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Stead: Using the Past to Guide the Future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648320" cy="532440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diseases can be studied, but not by the methods of the past. If one wishes to create useful data … computer technology must be exploited.”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—Eugene Stead, M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d to the concept of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mputerized textbook of medic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ed foundation of the Duk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tabank for CV Dise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urred a generation of clinical and quantitative researc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620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Types of Multicenter Registrie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0320"/>
            <a:ext cx="8153280" cy="44031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 fontScale="99000"/>
          </a:bodyPr>
          <a:p>
            <a:pPr marL="337680" indent="-337680"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Claims:  eg. C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tages:  Comprehensive, longitudinal, cover in + out-p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dvantages:  Limited clinical data, age 65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Managed Care/EHR: eg. Kaiser/V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tages:  longitudinal, meds, labs, other clinical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dvantages:  select pts, miss out of coverag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Clinical Registries:  eg. </a:t>
            </a:r>
            <a:r>
              <a:rPr b="1" lang="en-US" sz="2000" spc="-1" strike="noStrike">
                <a:solidFill>
                  <a:srgbClr val="ffba3e"/>
                </a:solidFill>
                <a:latin typeface="Arial"/>
              </a:rPr>
              <a:t>ACC/STS/AH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tages:  targeted in-depth clinic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dvantages: selective participation, traditionally in-patient fo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38:13Z</dcterms:created>
  <dc:creator>DCRI</dc:creator>
  <dc:description/>
  <dc:language>en-US</dc:language>
  <cp:lastModifiedBy>Rasa</cp:lastModifiedBy>
  <dcterms:modified xsi:type="dcterms:W3CDTF">2009-10-26T03:34:08Z</dcterms:modified>
  <cp:revision>169</cp:revision>
  <dc:subject/>
  <dc:title>Slide 1</dc:title>
</cp:coreProperties>
</file>