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738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9732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225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948120" y="-360"/>
            <a:ext cx="30225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77560" y="691920"/>
            <a:ext cx="4616280" cy="34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98040" y="4386240"/>
            <a:ext cx="557532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8769240"/>
            <a:ext cx="30225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48120" y="8769240"/>
            <a:ext cx="30225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BF12-FD5D-4BF2-B62F-1E67A879F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48120" y="8769240"/>
            <a:ext cx="30225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7DC5-66FF-49A4-8B9E-EC269CEE1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79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98040" y="4386240"/>
            <a:ext cx="5575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79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98040" y="4386240"/>
            <a:ext cx="5575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948120" y="8769240"/>
            <a:ext cx="30225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AEBC-8D5C-4A4D-813E-FE414DAA7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48120" y="8769240"/>
            <a:ext cx="30225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2EB5-821A-48EA-84AD-B85BE0E71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98040" y="4386240"/>
            <a:ext cx="5575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48120" y="8769240"/>
            <a:ext cx="30225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8F80-7FFD-4840-BF92-8CF00E2BC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98040" y="4386240"/>
            <a:ext cx="5575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779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98040" y="4386240"/>
            <a:ext cx="5575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48120" y="8769240"/>
            <a:ext cx="30225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9726-5816-437A-B3CC-E4CE6F3F1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779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98040" y="4386240"/>
            <a:ext cx="5575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48120" y="8769240"/>
            <a:ext cx="30225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6699-9617-42D9-AAE3-132A7A2A7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48120" y="8769240"/>
            <a:ext cx="30225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2EBF-4799-477C-B593-4332CC831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7936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8040" y="4386240"/>
            <a:ext cx="5575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79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98040" y="4386240"/>
            <a:ext cx="5575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48120" y="8769240"/>
            <a:ext cx="30225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EE5C-BBFE-4C86-996C-D6D7D43A4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79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98040" y="4386240"/>
            <a:ext cx="5575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48120" y="8769240"/>
            <a:ext cx="30225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74B8-F134-4C5F-ADAA-738187D93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79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98040" y="4386240"/>
            <a:ext cx="5575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48120" y="8769240"/>
            <a:ext cx="30225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E96D-2200-4D32-8DAC-6D3EFD62F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lide_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title_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Masthead.png"/>
          <p:cNvPicPr/>
          <p:nvPr/>
        </p:nvPicPr>
        <p:blipFill>
          <a:blip r:embed="rId1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HIN_Logo"/>
          <p:cNvPicPr/>
          <p:nvPr/>
        </p:nvPicPr>
        <p:blipFill>
          <a:blip r:embed="rId2"/>
          <a:stretch/>
        </p:blipFill>
        <p:spPr>
          <a:xfrm>
            <a:off x="2514600" y="1523880"/>
            <a:ext cx="3832200" cy="22100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1752480" y="16002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495320"/>
            <a:ext cx="82296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HIN Customer Profile Webinar</a:t>
            </a:r>
            <a:br>
              <a:rPr sz="2400"/>
            </a:br>
            <a:br>
              <a:rPr sz="1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ptember 25, 2009</a:t>
            </a:r>
            <a:endParaRPr b="0" lang="en-US" sz="20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09480" y="3352680"/>
            <a:ext cx="81536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Better Communication for Better Health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380880" y="57913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ina B. Perez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HIN Executive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vances in Management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Meaningful Use: How HIEs Can Help</a:t>
            </a:r>
            <a:endParaRPr b="0" lang="en-US" sz="36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tient Access to Electronic Inform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 Access to Patient-Specific Education Resourc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nd Reminders to Patients for Preventative and Follow-Up Car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Exchange Key Clinical Inform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Clinical Summary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Public Health Report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Immunization  Registry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Electronic Syndromic Surveillanc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of of Compliance with HIPAA                     Privacy and Security Rul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8" name="Picture 4" descr="Image - 3 medical professionals looking at computer screen."/>
          <p:cNvPicPr/>
          <p:nvPr/>
        </p:nvPicPr>
        <p:blipFill>
          <a:blip r:embed="rId1"/>
          <a:stretch/>
        </p:blipFill>
        <p:spPr>
          <a:xfrm>
            <a:off x="6095880" y="4267080"/>
            <a:ext cx="290052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553080" y="4267080"/>
            <a:ext cx="221004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Arial"/>
              </a:rPr>
              <a:t>About DHIN</a:t>
            </a:r>
            <a:endParaRPr b="0" lang="en-US" sz="40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eated statutorily in 1997 as a public instrumentality of the State of Delaware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Nation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tatewide Clinical Health Information Exchang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 Designated Ent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blic – Private Partnershi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nded by Federal, State and               Private Resourc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eginning in 2005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nt live in May 2007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4" name="Picture 5" descr="Icon - cartoon of 2 PCs"/>
          <p:cNvPicPr/>
          <p:nvPr/>
        </p:nvPicPr>
        <p:blipFill>
          <a:blip r:embed="rId1"/>
          <a:stretch/>
        </p:blipFill>
        <p:spPr>
          <a:xfrm>
            <a:off x="6629400" y="4191120"/>
            <a:ext cx="228600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609480" y="533520"/>
            <a:ext cx="236232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Image - cartoon of 5 men holding a telescope"/>
          <p:cNvPicPr/>
          <p:nvPr/>
        </p:nvPicPr>
        <p:blipFill>
          <a:blip r:embed="rId1"/>
          <a:stretch/>
        </p:blipFill>
        <p:spPr>
          <a:xfrm>
            <a:off x="533520" y="457200"/>
            <a:ext cx="2359080" cy="1628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DHIN Vision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Develop a network to exchange real-time clinical information among all health care providers (office practices, hospitals, labs and diagnostic facilities, etc.) across the state to improve patient outcomes and patient-provider relationships, while reducing service duplication and the rate of increase in health care spending.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  <a:ea typeface="Arial"/>
              </a:rPr>
              <a:t>DHIN’s Success</a:t>
            </a: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itical Mas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 50% provider adop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s more than 85% of lab tests in D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48,000 unique patient recor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0 million transactions per year (and growing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y HIE with both LabCorp and Quest Diagnostics Participat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roved efficiency and quality of car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38"/>
          <p:cNvGrpSpPr/>
          <p:nvPr/>
        </p:nvGrpSpPr>
        <p:grpSpPr>
          <a:xfrm>
            <a:off x="380880" y="380880"/>
            <a:ext cx="8418600" cy="5793840"/>
            <a:chOff x="380880" y="380880"/>
            <a:chExt cx="8418600" cy="5793840"/>
          </a:xfrm>
        </p:grpSpPr>
        <p:pic>
          <p:nvPicPr>
            <p:cNvPr id="101" name="Picture 31" descr="delaware-road-map.gif"/>
            <p:cNvPicPr/>
            <p:nvPr/>
          </p:nvPicPr>
          <p:blipFill>
            <a:blip r:embed="rId1"/>
            <a:stretch/>
          </p:blipFill>
          <p:spPr>
            <a:xfrm>
              <a:off x="6248520" y="456840"/>
              <a:ext cx="2550960" cy="571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Rectangle 3"/>
            <p:cNvSpPr/>
            <p:nvPr/>
          </p:nvSpPr>
          <p:spPr>
            <a:xfrm>
              <a:off x="2895480" y="114264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ristiana Care Health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4572000" y="609480"/>
              <a:ext cx="2743200" cy="990000"/>
              <a:chOff x="4572000" y="609480"/>
              <a:chExt cx="2743200" cy="990000"/>
            </a:xfrm>
          </p:grpSpPr>
          <p:sp>
            <p:nvSpPr>
              <p:cNvPr id="104" name="Line 6"/>
              <p:cNvSpPr/>
              <p:nvPr/>
            </p:nvSpPr>
            <p:spPr>
              <a:xfrm flipV="1">
                <a:off x="4572000" y="914040"/>
                <a:ext cx="1828800" cy="68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7"/>
              <p:cNvSpPr/>
              <p:nvPr/>
            </p:nvSpPr>
            <p:spPr>
              <a:xfrm flipV="1">
                <a:off x="4572000" y="837720"/>
                <a:ext cx="2514600" cy="76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8"/>
              <p:cNvSpPr/>
              <p:nvPr/>
            </p:nvSpPr>
            <p:spPr>
              <a:xfrm>
                <a:off x="7010280" y="609480"/>
                <a:ext cx="304920" cy="304560"/>
              </a:xfrm>
              <a:custGeom>
                <a:avLst/>
                <a:gdLst>
                  <a:gd name="textAreaLeft" fmla="*/ 93600 w 304920"/>
                  <a:gd name="textAreaRight" fmla="*/ 211320 w 304920"/>
                  <a:gd name="textAreaTop" fmla="*/ 115920 h 304560"/>
                  <a:gd name="textAreaBottom" fmla="*/ 233280 h 304560"/>
                </a:gdLst>
                <a:ahLst/>
                <a:rect l="textAreaLeft" t="textAreaTop" r="textAreaRight" b="textAreaBottom"/>
                <a:pathLst>
                  <a:path w="192" h="192">
                    <a:moveTo>
                      <a:pt x="0" y="73"/>
                    </a:moveTo>
                    <a:lnTo>
                      <a:pt x="73" y="73"/>
                    </a:lnTo>
                    <a:lnTo>
                      <a:pt x="96" y="0"/>
                    </a:lnTo>
                    <a:lnTo>
                      <a:pt x="119" y="73"/>
                    </a:lnTo>
                    <a:lnTo>
                      <a:pt x="192" y="73"/>
                    </a:lnTo>
                    <a:lnTo>
                      <a:pt x="133" y="119"/>
                    </a:lnTo>
                    <a:lnTo>
                      <a:pt x="155" y="192"/>
                    </a:lnTo>
                    <a:lnTo>
                      <a:pt x="96" y="147"/>
                    </a:lnTo>
                    <a:lnTo>
                      <a:pt x="37" y="192"/>
                    </a:lnTo>
                    <a:lnTo>
                      <a:pt x="59" y="11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AutoShape 9"/>
              <p:cNvSpPr/>
              <p:nvPr/>
            </p:nvSpPr>
            <p:spPr>
              <a:xfrm>
                <a:off x="6400800" y="685440"/>
                <a:ext cx="304920" cy="304560"/>
              </a:xfrm>
              <a:custGeom>
                <a:avLst/>
                <a:gdLst>
                  <a:gd name="textAreaLeft" fmla="*/ 93600 w 304920"/>
                  <a:gd name="textAreaRight" fmla="*/ 211320 w 304920"/>
                  <a:gd name="textAreaTop" fmla="*/ 115920 h 304560"/>
                  <a:gd name="textAreaBottom" fmla="*/ 233280 h 304560"/>
                </a:gdLst>
                <a:ahLst/>
                <a:rect l="textAreaLeft" t="textAreaTop" r="textAreaRight" b="textAreaBottom"/>
                <a:pathLst>
                  <a:path w="192" h="192">
                    <a:moveTo>
                      <a:pt x="0" y="73"/>
                    </a:moveTo>
                    <a:lnTo>
                      <a:pt x="73" y="73"/>
                    </a:lnTo>
                    <a:lnTo>
                      <a:pt x="96" y="0"/>
                    </a:lnTo>
                    <a:lnTo>
                      <a:pt x="119" y="73"/>
                    </a:lnTo>
                    <a:lnTo>
                      <a:pt x="192" y="73"/>
                    </a:lnTo>
                    <a:lnTo>
                      <a:pt x="133" y="119"/>
                    </a:lnTo>
                    <a:lnTo>
                      <a:pt x="155" y="192"/>
                    </a:lnTo>
                    <a:lnTo>
                      <a:pt x="96" y="147"/>
                    </a:lnTo>
                    <a:lnTo>
                      <a:pt x="37" y="192"/>
                    </a:lnTo>
                    <a:lnTo>
                      <a:pt x="59" y="11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0"/>
            <p:cNvGrpSpPr/>
            <p:nvPr/>
          </p:nvGrpSpPr>
          <p:grpSpPr>
            <a:xfrm>
              <a:off x="2971800" y="2971800"/>
              <a:ext cx="4876920" cy="1371600"/>
              <a:chOff x="2971800" y="2971800"/>
              <a:chExt cx="4876920" cy="1371600"/>
            </a:xfrm>
          </p:grpSpPr>
          <p:sp>
            <p:nvSpPr>
              <p:cNvPr id="109" name="Rectangle 11"/>
              <p:cNvSpPr/>
              <p:nvPr/>
            </p:nvSpPr>
            <p:spPr>
              <a:xfrm>
                <a:off x="2971800" y="3200400"/>
                <a:ext cx="2057400" cy="50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Group 12"/>
              <p:cNvGrpSpPr/>
              <p:nvPr/>
            </p:nvGrpSpPr>
            <p:grpSpPr>
              <a:xfrm>
                <a:off x="5026320" y="2971800"/>
                <a:ext cx="2822400" cy="1371600"/>
                <a:chOff x="5026320" y="2971800"/>
                <a:chExt cx="2822400" cy="1371600"/>
              </a:xfrm>
            </p:grpSpPr>
            <p:grpSp>
              <p:nvGrpSpPr>
                <p:cNvPr id="111" name="Group 13"/>
                <p:cNvGrpSpPr/>
                <p:nvPr/>
              </p:nvGrpSpPr>
              <p:grpSpPr>
                <a:xfrm>
                  <a:off x="5026320" y="3200040"/>
                  <a:ext cx="2592000" cy="1067040"/>
                  <a:chOff x="5026320" y="3200040"/>
                  <a:chExt cx="2592000" cy="1067040"/>
                </a:xfrm>
              </p:grpSpPr>
              <p:sp>
                <p:nvSpPr>
                  <p:cNvPr id="112" name="Line 14"/>
                  <p:cNvSpPr/>
                  <p:nvPr/>
                </p:nvSpPr>
                <p:spPr>
                  <a:xfrm flipV="1">
                    <a:off x="5026320" y="3200040"/>
                    <a:ext cx="2055960" cy="304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Line 15"/>
                  <p:cNvSpPr/>
                  <p:nvPr/>
                </p:nvSpPr>
                <p:spPr>
                  <a:xfrm>
                    <a:off x="5028480" y="3505320"/>
                    <a:ext cx="2589840" cy="761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" name="AutoShape 16"/>
                <p:cNvSpPr/>
                <p:nvPr/>
              </p:nvSpPr>
              <p:spPr>
                <a:xfrm>
                  <a:off x="7086600" y="2971800"/>
                  <a:ext cx="304920" cy="304920"/>
                </a:xfrm>
                <a:custGeom>
                  <a:avLst/>
                  <a:gdLst>
                    <a:gd name="textAreaLeft" fmla="*/ 93600 w 304920"/>
                    <a:gd name="textAreaRight" fmla="*/ 211320 w 304920"/>
                    <a:gd name="textAreaTop" fmla="*/ 115920 h 304920"/>
                    <a:gd name="textAreaBottom" fmla="*/ 233640 h 304920"/>
                  </a:gdLst>
                  <a:ahLst/>
                  <a:rect l="textAreaLeft" t="textAreaTop" r="textAreaRight" b="textAreaBottom"/>
                  <a:pathLst>
                    <a:path w="192" h="192">
                      <a:moveTo>
                        <a:pt x="0" y="73"/>
                      </a:moveTo>
                      <a:lnTo>
                        <a:pt x="73" y="73"/>
                      </a:lnTo>
                      <a:lnTo>
                        <a:pt x="96" y="0"/>
                      </a:lnTo>
                      <a:lnTo>
                        <a:pt x="119" y="73"/>
                      </a:lnTo>
                      <a:lnTo>
                        <a:pt x="192" y="73"/>
                      </a:lnTo>
                      <a:lnTo>
                        <a:pt x="133" y="119"/>
                      </a:lnTo>
                      <a:lnTo>
                        <a:pt x="155" y="192"/>
                      </a:lnTo>
                      <a:lnTo>
                        <a:pt x="96" y="147"/>
                      </a:lnTo>
                      <a:lnTo>
                        <a:pt x="37" y="192"/>
                      </a:lnTo>
                      <a:lnTo>
                        <a:pt x="59" y="11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AutoShape 17"/>
                <p:cNvSpPr/>
                <p:nvPr/>
              </p:nvSpPr>
              <p:spPr>
                <a:xfrm>
                  <a:off x="7543800" y="4038480"/>
                  <a:ext cx="304920" cy="304920"/>
                </a:xfrm>
                <a:custGeom>
                  <a:avLst/>
                  <a:gdLst>
                    <a:gd name="textAreaLeft" fmla="*/ 93600 w 304920"/>
                    <a:gd name="textAreaRight" fmla="*/ 211320 w 304920"/>
                    <a:gd name="textAreaTop" fmla="*/ 115920 h 304920"/>
                    <a:gd name="textAreaBottom" fmla="*/ 233640 h 304920"/>
                  </a:gdLst>
                  <a:ahLst/>
                  <a:rect l="textAreaLeft" t="textAreaTop" r="textAreaRight" b="textAreaBottom"/>
                  <a:pathLst>
                    <a:path w="192" h="192">
                      <a:moveTo>
                        <a:pt x="0" y="73"/>
                      </a:moveTo>
                      <a:lnTo>
                        <a:pt x="73" y="73"/>
                      </a:lnTo>
                      <a:lnTo>
                        <a:pt x="96" y="0"/>
                      </a:lnTo>
                      <a:lnTo>
                        <a:pt x="119" y="73"/>
                      </a:lnTo>
                      <a:lnTo>
                        <a:pt x="192" y="73"/>
                      </a:lnTo>
                      <a:lnTo>
                        <a:pt x="133" y="119"/>
                      </a:lnTo>
                      <a:lnTo>
                        <a:pt x="155" y="192"/>
                      </a:lnTo>
                      <a:lnTo>
                        <a:pt x="96" y="147"/>
                      </a:lnTo>
                      <a:lnTo>
                        <a:pt x="37" y="192"/>
                      </a:lnTo>
                      <a:lnTo>
                        <a:pt x="59" y="11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" name="Group 18"/>
            <p:cNvGrpSpPr/>
            <p:nvPr/>
          </p:nvGrpSpPr>
          <p:grpSpPr>
            <a:xfrm>
              <a:off x="2971800" y="4876920"/>
              <a:ext cx="5562720" cy="901440"/>
              <a:chOff x="2971800" y="4876920"/>
              <a:chExt cx="5562720" cy="901440"/>
            </a:xfrm>
          </p:grpSpPr>
          <p:sp>
            <p:nvSpPr>
              <p:cNvPr id="117" name="Rectangle 19"/>
              <p:cNvSpPr/>
              <p:nvPr/>
            </p:nvSpPr>
            <p:spPr>
              <a:xfrm>
                <a:off x="2971800" y="5410080"/>
                <a:ext cx="266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eebe Medical Cent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Group 20"/>
              <p:cNvGrpSpPr/>
              <p:nvPr/>
            </p:nvGrpSpPr>
            <p:grpSpPr>
              <a:xfrm>
                <a:off x="5334120" y="4876920"/>
                <a:ext cx="3200400" cy="761400"/>
                <a:chOff x="5334120" y="4876920"/>
                <a:chExt cx="3200400" cy="761400"/>
              </a:xfrm>
            </p:grpSpPr>
            <p:sp>
              <p:nvSpPr>
                <p:cNvPr id="119" name="Line 21"/>
                <p:cNvSpPr/>
                <p:nvPr/>
              </p:nvSpPr>
              <p:spPr>
                <a:xfrm flipV="1">
                  <a:off x="5334120" y="5105160"/>
                  <a:ext cx="2971800" cy="533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AutoShape 22"/>
                <p:cNvSpPr/>
                <p:nvPr/>
              </p:nvSpPr>
              <p:spPr>
                <a:xfrm>
                  <a:off x="8229600" y="4876920"/>
                  <a:ext cx="304920" cy="304560"/>
                </a:xfrm>
                <a:custGeom>
                  <a:avLst/>
                  <a:gdLst>
                    <a:gd name="textAreaLeft" fmla="*/ 93600 w 304920"/>
                    <a:gd name="textAreaRight" fmla="*/ 211320 w 304920"/>
                    <a:gd name="textAreaTop" fmla="*/ 115920 h 304560"/>
                    <a:gd name="textAreaBottom" fmla="*/ 233280 h 304560"/>
                  </a:gdLst>
                  <a:ahLst/>
                  <a:rect l="textAreaLeft" t="textAreaTop" r="textAreaRight" b="textAreaBottom"/>
                  <a:pathLst>
                    <a:path w="192" h="192">
                      <a:moveTo>
                        <a:pt x="0" y="73"/>
                      </a:moveTo>
                      <a:lnTo>
                        <a:pt x="73" y="73"/>
                      </a:lnTo>
                      <a:lnTo>
                        <a:pt x="96" y="0"/>
                      </a:lnTo>
                      <a:lnTo>
                        <a:pt x="119" y="73"/>
                      </a:lnTo>
                      <a:lnTo>
                        <a:pt x="192" y="73"/>
                      </a:lnTo>
                      <a:lnTo>
                        <a:pt x="133" y="119"/>
                      </a:lnTo>
                      <a:lnTo>
                        <a:pt x="155" y="192"/>
                      </a:lnTo>
                      <a:lnTo>
                        <a:pt x="96" y="147"/>
                      </a:lnTo>
                      <a:lnTo>
                        <a:pt x="37" y="192"/>
                      </a:lnTo>
                      <a:lnTo>
                        <a:pt x="59" y="11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" name="AutoShape 25"/>
            <p:cNvSpPr/>
            <p:nvPr/>
          </p:nvSpPr>
          <p:spPr>
            <a:xfrm>
              <a:off x="6781680" y="609480"/>
              <a:ext cx="304560" cy="304560"/>
            </a:xfrm>
            <a:custGeom>
              <a:avLst/>
              <a:gdLst>
                <a:gd name="textAreaLeft" fmla="*/ 93960 w 304560"/>
                <a:gd name="textAreaRight" fmla="*/ 210600 w 304560"/>
                <a:gd name="textAreaTop" fmla="*/ 116280 h 304560"/>
                <a:gd name="textAreaBottom" fmla="*/ 232920 h 304560"/>
              </a:gdLst>
              <a:ahLst/>
              <a:rect l="textAreaLeft" t="textAreaTop" r="textAreaRight" b="textAreaBottom"/>
              <a:pathLst>
                <a:path w="304800" h="304800">
                  <a:moveTo>
                    <a:pt x="0" y="116423"/>
                  </a:moveTo>
                  <a:lnTo>
                    <a:pt x="116424" y="116424"/>
                  </a:lnTo>
                  <a:lnTo>
                    <a:pt x="152400" y="0"/>
                  </a:lnTo>
                  <a:lnTo>
                    <a:pt x="188376" y="116424"/>
                  </a:lnTo>
                  <a:lnTo>
                    <a:pt x="304800" y="116423"/>
                  </a:lnTo>
                  <a:lnTo>
                    <a:pt x="210611" y="188376"/>
                  </a:lnTo>
                  <a:lnTo>
                    <a:pt x="246588" y="304799"/>
                  </a:lnTo>
                  <a:lnTo>
                    <a:pt x="152400" y="232845"/>
                  </a:lnTo>
                  <a:lnTo>
                    <a:pt x="58212" y="304799"/>
                  </a:lnTo>
                  <a:lnTo>
                    <a:pt x="94189" y="188376"/>
                  </a:lnTo>
                  <a:close/>
                </a:path>
              </a:pathLst>
            </a:custGeom>
            <a:solidFill>
              <a:srgbClr val="00b050"/>
            </a:solidFill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380880" y="5257800"/>
              <a:ext cx="1676160" cy="916920"/>
            </a:xfrm>
            <a:prstGeom prst="rect">
              <a:avLst/>
            </a:prstGeom>
            <a:noFill/>
            <a:ln w="28440">
              <a:solidFill>
                <a:srgbClr val="00339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  <a:ea typeface="Arial"/>
                </a:rPr>
                <a:t>Nanticoke Memorial  Hospi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9"/>
            <p:cNvSpPr/>
            <p:nvPr/>
          </p:nvSpPr>
          <p:spPr>
            <a:xfrm flipV="1">
              <a:off x="2057040" y="5943600"/>
              <a:ext cx="4800600" cy="75960"/>
            </a:xfrm>
            <a:prstGeom prst="line">
              <a:avLst/>
            </a:prstGeom>
            <a:ln w="28440">
              <a:solidFill>
                <a:srgbClr val="00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30"/>
            <p:cNvSpPr/>
            <p:nvPr/>
          </p:nvSpPr>
          <p:spPr>
            <a:xfrm>
              <a:off x="6934320" y="5715360"/>
              <a:ext cx="304560" cy="304560"/>
            </a:xfrm>
            <a:custGeom>
              <a:avLst/>
              <a:gdLst>
                <a:gd name="textAreaLeft" fmla="*/ 93960 w 304560"/>
                <a:gd name="textAreaRight" fmla="*/ 210600 w 304560"/>
                <a:gd name="textAreaTop" fmla="*/ 116280 h 304560"/>
                <a:gd name="textAreaBottom" fmla="*/ 232920 h 304560"/>
              </a:gdLst>
              <a:ahLst/>
              <a:rect l="textAreaLeft" t="textAreaTop" r="textAreaRight" b="textAreaBottom"/>
              <a:pathLst>
                <a:path w="304800" h="304800">
                  <a:moveTo>
                    <a:pt x="0" y="116423"/>
                  </a:moveTo>
                  <a:lnTo>
                    <a:pt x="116424" y="116424"/>
                  </a:lnTo>
                  <a:lnTo>
                    <a:pt x="152400" y="0"/>
                  </a:lnTo>
                  <a:lnTo>
                    <a:pt x="188376" y="116424"/>
                  </a:lnTo>
                  <a:lnTo>
                    <a:pt x="304800" y="116423"/>
                  </a:lnTo>
                  <a:lnTo>
                    <a:pt x="210611" y="188376"/>
                  </a:lnTo>
                  <a:lnTo>
                    <a:pt x="246588" y="304799"/>
                  </a:lnTo>
                  <a:lnTo>
                    <a:pt x="152400" y="232845"/>
                  </a:lnTo>
                  <a:lnTo>
                    <a:pt x="58212" y="304799"/>
                  </a:lnTo>
                  <a:lnTo>
                    <a:pt x="94189" y="188376"/>
                  </a:lnTo>
                  <a:close/>
                </a:path>
              </a:pathLst>
            </a:cu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1"/>
            <p:cNvSpPr/>
            <p:nvPr/>
          </p:nvSpPr>
          <p:spPr>
            <a:xfrm>
              <a:off x="2971800" y="2819160"/>
              <a:ext cx="3276720" cy="23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yhealth Medical                   C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Cor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ctors Pathology Servic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st Diagno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4"/>
            <p:cNvSpPr/>
            <p:nvPr/>
          </p:nvSpPr>
          <p:spPr>
            <a:xfrm flipV="1">
              <a:off x="5257800" y="914040"/>
              <a:ext cx="1523880" cy="1371600"/>
            </a:xfrm>
            <a:prstGeom prst="line">
              <a:avLst/>
            </a:prstGeom>
            <a:ln w="28440">
              <a:solidFill>
                <a:srgbClr val="00b05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761760" y="1828800"/>
              <a:ext cx="1676160" cy="916920"/>
            </a:xfrm>
            <a:prstGeom prst="rect">
              <a:avLst/>
            </a:prstGeom>
            <a:noFill/>
            <a:ln w="28440">
              <a:solidFill>
                <a:srgbClr val="00339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  <a:ea typeface="Arial"/>
                </a:rPr>
                <a:t>DuPont Hospital for Childr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3"/>
            <p:cNvSpPr/>
            <p:nvPr/>
          </p:nvSpPr>
          <p:spPr>
            <a:xfrm>
              <a:off x="609480" y="3505320"/>
              <a:ext cx="1904760" cy="642600"/>
            </a:xfrm>
            <a:prstGeom prst="rect">
              <a:avLst/>
            </a:prstGeom>
            <a:noFill/>
            <a:ln w="28440">
              <a:solidFill>
                <a:srgbClr val="00339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  <a:ea typeface="Arial"/>
                </a:rPr>
                <a:t>VA Hospital (FedCONNEC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5"/>
            <p:cNvSpPr/>
            <p:nvPr/>
          </p:nvSpPr>
          <p:spPr>
            <a:xfrm>
              <a:off x="6934320" y="380880"/>
              <a:ext cx="304560" cy="304560"/>
            </a:xfrm>
            <a:custGeom>
              <a:avLst/>
              <a:gdLst>
                <a:gd name="textAreaLeft" fmla="*/ 93960 w 304560"/>
                <a:gd name="textAreaRight" fmla="*/ 210600 w 304560"/>
                <a:gd name="textAreaTop" fmla="*/ 116280 h 304560"/>
                <a:gd name="textAreaBottom" fmla="*/ 232920 h 304560"/>
              </a:gdLst>
              <a:ahLst/>
              <a:rect l="textAreaLeft" t="textAreaTop" r="textAreaRight" b="textAreaBottom"/>
              <a:pathLst>
                <a:path w="304800" h="304800">
                  <a:moveTo>
                    <a:pt x="0" y="116423"/>
                  </a:moveTo>
                  <a:lnTo>
                    <a:pt x="116424" y="116424"/>
                  </a:lnTo>
                  <a:lnTo>
                    <a:pt x="152400" y="0"/>
                  </a:lnTo>
                  <a:lnTo>
                    <a:pt x="188376" y="116424"/>
                  </a:lnTo>
                  <a:lnTo>
                    <a:pt x="304800" y="116423"/>
                  </a:lnTo>
                  <a:lnTo>
                    <a:pt x="210611" y="188376"/>
                  </a:lnTo>
                  <a:lnTo>
                    <a:pt x="246588" y="304799"/>
                  </a:lnTo>
                  <a:lnTo>
                    <a:pt x="152400" y="232845"/>
                  </a:lnTo>
                  <a:lnTo>
                    <a:pt x="58212" y="304799"/>
                  </a:lnTo>
                  <a:lnTo>
                    <a:pt x="94189" y="188376"/>
                  </a:lnTo>
                  <a:close/>
                </a:path>
              </a:pathLst>
            </a:cu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V="1">
              <a:off x="2438280" y="533160"/>
              <a:ext cx="4343400" cy="2209680"/>
            </a:xfrm>
            <a:prstGeom prst="line">
              <a:avLst/>
            </a:prstGeom>
            <a:ln w="28440">
              <a:solidFill>
                <a:srgbClr val="00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3"/>
            <p:cNvSpPr/>
            <p:nvPr/>
          </p:nvSpPr>
          <p:spPr>
            <a:xfrm>
              <a:off x="4190760" y="2286000"/>
              <a:ext cx="1676160" cy="642600"/>
            </a:xfrm>
            <a:prstGeom prst="rect">
              <a:avLst/>
            </a:prstGeom>
            <a:noFill/>
            <a:ln w="28440">
              <a:solidFill>
                <a:srgbClr val="00b05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050"/>
                  </a:solidFill>
                  <a:latin typeface="Arial"/>
                  <a:ea typeface="Arial"/>
                </a:rPr>
                <a:t>St. Francis Hospi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4"/>
            <p:cNvSpPr/>
            <p:nvPr/>
          </p:nvSpPr>
          <p:spPr>
            <a:xfrm flipV="1">
              <a:off x="1904760" y="532800"/>
              <a:ext cx="5105520" cy="2971800"/>
            </a:xfrm>
            <a:prstGeom prst="line">
              <a:avLst/>
            </a:prstGeom>
            <a:ln w="28440">
              <a:solidFill>
                <a:srgbClr val="00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5"/>
            <p:cNvSpPr/>
            <p:nvPr/>
          </p:nvSpPr>
          <p:spPr>
            <a:xfrm>
              <a:off x="6705720" y="380880"/>
              <a:ext cx="304560" cy="304560"/>
            </a:xfrm>
            <a:custGeom>
              <a:avLst/>
              <a:gdLst>
                <a:gd name="textAreaLeft" fmla="*/ 93960 w 304560"/>
                <a:gd name="textAreaRight" fmla="*/ 210600 w 304560"/>
                <a:gd name="textAreaTop" fmla="*/ 116280 h 304560"/>
                <a:gd name="textAreaBottom" fmla="*/ 232920 h 304560"/>
              </a:gdLst>
              <a:ahLst/>
              <a:rect l="textAreaLeft" t="textAreaTop" r="textAreaRight" b="textAreaBottom"/>
              <a:pathLst>
                <a:path w="304800" h="304800">
                  <a:moveTo>
                    <a:pt x="0" y="116423"/>
                  </a:moveTo>
                  <a:lnTo>
                    <a:pt x="116424" y="116424"/>
                  </a:lnTo>
                  <a:lnTo>
                    <a:pt x="152400" y="0"/>
                  </a:lnTo>
                  <a:lnTo>
                    <a:pt x="188376" y="116424"/>
                  </a:lnTo>
                  <a:lnTo>
                    <a:pt x="304800" y="116423"/>
                  </a:lnTo>
                  <a:lnTo>
                    <a:pt x="210611" y="188376"/>
                  </a:lnTo>
                  <a:lnTo>
                    <a:pt x="246588" y="304799"/>
                  </a:lnTo>
                  <a:lnTo>
                    <a:pt x="152400" y="232845"/>
                  </a:lnTo>
                  <a:lnTo>
                    <a:pt x="58212" y="304799"/>
                  </a:lnTo>
                  <a:lnTo>
                    <a:pt x="94189" y="188376"/>
                  </a:lnTo>
                  <a:close/>
                </a:path>
              </a:pathLst>
            </a:cu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4724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Arial"/>
              </a:rPr>
              <a:t>Data Senders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  <a:ea typeface="Arial"/>
              </a:rPr>
              <a:t>DHIN Functionality</a:t>
            </a: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ure Results Delivery with Standard Result Forma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since 2007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b and Pathology Resul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diology Repor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mission Face Shee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tient Record SearchInquiry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ive June 1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dication History Pilot (planned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lic Health Reporting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l-time reporting of data from hospitals to the Division of Public Health’s DERSS system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Delaware Electronic Reporting and Surveillance System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791320" y="3124080"/>
            <a:ext cx="146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724280" y="1981080"/>
            <a:ext cx="41148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0000"/>
              </a:lnSpc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Secure Inbox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(68%)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Auto-Print/Fax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(12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EMR Interface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(2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*Pending EMR Connection (26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  <a:ea typeface="Arial"/>
              </a:rPr>
              <a:t>EMR Connectivity</a:t>
            </a:r>
            <a:endParaRPr b="0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HIN Certified EM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scrip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Misy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I Computer Ser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eClinicalWork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MediNotes/Eclipsy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R Vendors in Negotia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expected to go live in 2010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GE/Centric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rn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McKess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vanced Data Systems Cor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gotiated Discount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Picture 4" descr="Graphic - laptop keyboard with stethoscope"/>
          <p:cNvPicPr/>
          <p:nvPr/>
        </p:nvPicPr>
        <p:blipFill>
          <a:blip r:embed="rId1"/>
          <a:stretch/>
        </p:blipFill>
        <p:spPr>
          <a:xfrm rot="783000">
            <a:off x="6609960" y="819000"/>
            <a:ext cx="20923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Electronic Order Entry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Incorporate Lab Results into EHRs as structured dat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Maintain an Active Medication List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form Medication Reconciliation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lement Drug-Allergy, Drug Formulary, Drug-Drug Interact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ndards-Based Transact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Meaningful Use: How HIEs Can Help</a:t>
            </a:r>
            <a:endParaRPr b="0" lang="en-US" sz="3600" spc="-1" strike="noStrike">
              <a:solidFill>
                <a:srgbClr val="00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Meaningful Use: How HIEs Can Help</a:t>
            </a:r>
            <a:endParaRPr b="0" lang="en-US" sz="36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Electronic Insurance Eligibility Verific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Electronic Claims Submiss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aintain an up-to-date “problem list” of current and active diagnoses based on ICD-9 and SNOMED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ecord Demographic Data (preferred language, insurance type, gender, race and ethnicity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Quality Report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Generate List of patients by specific conditions for outreach and quality improvemen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09:47:08Z</dcterms:created>
  <dc:creator>Perez</dc:creator>
  <dc:description/>
  <dc:language>en-US</dc:language>
  <cp:lastModifiedBy>Char</cp:lastModifiedBy>
  <dcterms:modified xsi:type="dcterms:W3CDTF">2009-10-27T21:50:50Z</dcterms:modified>
  <cp:revision>245</cp:revision>
  <dc:subject/>
  <dc:title>Better Communication for Better Healthcare</dc:title>
</cp:coreProperties>
</file>