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wmf" ContentType="image/x-wmf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9ED22-464F-471B-8341-5DBC9508514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DA1EC-B785-43BF-BAD2-E9C64A7C32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icture of cartoon smiling man in red, running, carrying small football.  Larger football behind him.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ABF7E-84FE-4A8D-8C16-E251FB817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AD979-BEF9-407A-AE35-7CCB48B88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CA18B-E934-4580-9C1A-EAA84EC76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F962D-49C3-4BE5-8F49-53904A6AF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BA181-9B0C-4E06-BB19-A6CC4FEC8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86F1A-1E2A-43C2-8CFB-E917735A8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B9CEA-A2CC-4F3A-B205-9E3751C8D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99F8A-7C77-4CC7-90FB-3C04DD199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57815-71D5-4765-8F0F-4F75C111E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50974-5EBA-4DD5-B079-794643766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273CB-39FD-4B32-8EBA-57321FC6F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5E1F8-F206-42C6-8B56-93BB515E9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6B95B-0B80-4271-AC40-F6F5649B7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D08EA-7881-42DE-BBA4-EA4F42264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D2BBF-520E-425B-88F7-8931404EF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6FD98-DC46-4E2B-830D-A22642F28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08D6E-0D71-4FB2-9831-9EA8C0262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BD3C1-7FBD-43EC-AA6D-4D9A60538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0E731-FD97-4965-9720-A7843D4A4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513CB-D923-4500-9AA3-5E5D816D7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E9A88-FFD6-44F8-A8F5-F9FFC8831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CC634-8655-48C6-A5E4-01DCFD2F6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70FEA-4510-4361-B32C-D2175D865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39099-509D-4E72-B240-66AD42555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32629-F748-4413-BFEE-91C81A07A41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9788D-228D-4140-8CFD-15D70449B05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SaintElizabethOnline.com/" TargetMode="External"/><Relationship Id="rId2" Type="http://schemas.openxmlformats.org/officeDocument/2006/relationships/hyperlink" Target="http://www.SaintElizabethOnline.com/" TargetMode="External"/><Relationship Id="rId3" Type="http://schemas.openxmlformats.org/officeDocument/2006/relationships/hyperlink" Target="http://www.SaintElizabethOnline.com/" TargetMode="External"/><Relationship Id="rId4" Type="http://schemas.openxmlformats.org/officeDocument/2006/relationships/hyperlink" Target="http://www.SaintElizabethOnline.com/" TargetMode="External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4560" y="1692360"/>
            <a:ext cx="84582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Verdana"/>
              </a:rPr>
              <a:t>Asthma Outcomes Pathway</a:t>
            </a:r>
            <a:br>
              <a:rPr sz="4000"/>
            </a:b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Lori Palensk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aint Elizabeth Foundati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Lincoln, N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9.14.09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ASTHMA PATHWAY CONTINUED</a:t>
            </a:r>
            <a:br>
              <a:rPr sz="2000"/>
            </a:b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Intervention Specific-Education &amp; Referral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Barrier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Barrier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        Barrier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eduction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Reduction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eductio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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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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Environmental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Medical Home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Medical Managemen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ssessment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         Review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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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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Outcome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Outcome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Outcom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nalize Asthma Action Pla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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llow-up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hort term – Output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        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Long term – Clinical method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Line 7"/>
          <p:cNvSpPr/>
          <p:nvPr/>
        </p:nvSpPr>
        <p:spPr>
          <a:xfrm>
            <a:off x="1143000" y="41148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Line 9"/>
          <p:cNvSpPr/>
          <p:nvPr/>
        </p:nvSpPr>
        <p:spPr>
          <a:xfrm>
            <a:off x="3809880" y="41148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Line 10"/>
          <p:cNvSpPr/>
          <p:nvPr/>
        </p:nvSpPr>
        <p:spPr>
          <a:xfrm flipH="1">
            <a:off x="5638680" y="4114800"/>
            <a:ext cx="152424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wheel spokes="8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Penelope”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Web-based case managemen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rovides connectivity for Head Start  school nurses and ED case manager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Utilizes customized care algorithm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rints vouchers and maintains inventory of fund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tores data for outcomes and reporting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wheel spokes="8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5" name="Picture 6" descr="Asthma Outcomes Pathway logo in circle.  In background shows a the anatomy of a person's neck, shoulders, arms, chest and abdomen to just above the navel.  A highlighted area shows the lungs.  In a circle around the top edges it states – Asthma Outcomes Pathway, then around the bottom edges it states Funded by Saint Elizabeth Foundation and Catholic Health Initiatives.  In the middle, through the highlighted lungs, it states FREE In-Home Asthma Education and Medication Assistance, below that the phone number and then below that the logo for Saint Elizabeth Foundation and Community Asthma Education Initiative.  &#13;&#10;"/>
          <p:cNvPicPr/>
          <p:nvPr/>
        </p:nvPicPr>
        <p:blipFill>
          <a:blip r:embed="rId1"/>
          <a:stretch/>
        </p:blipFill>
        <p:spPr>
          <a:xfrm>
            <a:off x="457200" y="228600"/>
            <a:ext cx="8229600" cy="662940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Case Manager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Outcomes Pathways streamlines their workload using algorithms for protocols and readily available vouchers for barrier reduct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12120" indent="-31212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ese “finders” are familiar and trusted by the target group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12120" indent="-31212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ese “finders” are invested in the target groups and in connections for barrier reduction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12120" indent="-31212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enelope connects Head Start, schools and Emergency Departments 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wheel spokes="8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How is this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improving access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e medical community becomes accountable to each other – ‘ it takes a village approach’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690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Bridges the communication gap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690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rovides an evidence based program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690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 kinder and gentler approach for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690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health care with the indigent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690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690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wheel spokes="8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Outcomes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Reduced duplication of servic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Unites at-risk population to evidence based intervent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dentify and overcome barriers to car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Reduces exacerbation through asthma management educat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Reduced number of sick days at school and work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Number of symptom free days increas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Decrease recurrent visits in Emergency Department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wheel spokes="8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Asthma Outcomes Pathway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Future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ontinue to add to the number of Outcomes Asthma Pathway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oster and maintain relationships with community partner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Once the pediatrics population is saturated develop the second pathway for the elderly populat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hare and mentor other communities in Nebraska. 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wheel spokes="8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Thank You,</a:t>
            </a:r>
            <a:br>
              <a:rPr sz="4000"/>
            </a:b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for your time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Verdana"/>
              </a:rPr>
              <a:t>For more information: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aint Elizabeth Foundati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6900 ‘L’ Street, Suite 100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Lincoln, NE  68510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402.219.7051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LPalensky@stez.or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en-US" sz="3200" spc="-1" strike="noStrike" u="sng">
                <a:solidFill>
                  <a:srgbClr val="ffffcc"/>
                </a:solidFill>
                <a:uFillTx/>
                <a:latin typeface="Verdana"/>
                <a:hlinkClick r:id="rId1"/>
              </a:rPr>
              <a:t>http://</a:t>
            </a:r>
            <a:r>
              <a:rPr b="0" lang="en-US" sz="3200" spc="-1" strike="noStrike" u="sng">
                <a:solidFill>
                  <a:srgbClr val="ffffcc"/>
                </a:solidFill>
                <a:uFillTx/>
                <a:latin typeface="Verdana"/>
                <a:hlinkClick r:id="rId2"/>
              </a:rPr>
              <a:t>www.SaintElizabeth</a:t>
            </a:r>
            <a:r>
              <a:rPr b="0" lang="en-US" sz="3200" spc="-1" strike="noStrike" u="sng">
                <a:solidFill>
                  <a:srgbClr val="ffffcc"/>
                </a:solidFill>
                <a:uFillTx/>
                <a:latin typeface="Verdana"/>
                <a:hlinkClick r:id="rId3"/>
              </a:rPr>
              <a:t>Online</a:t>
            </a:r>
            <a:r>
              <a:rPr b="0" lang="en-US" sz="3200" spc="-1" strike="noStrike" u="sng">
                <a:solidFill>
                  <a:srgbClr val="ffffcc"/>
                </a:solidFill>
                <a:uFillTx/>
                <a:latin typeface="Verdana"/>
                <a:hlinkClick r:id="rId4"/>
              </a:rPr>
              <a:t>.co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wheel spokes="8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4" descr="SEFoundation logo"/>
          <p:cNvPicPr/>
          <p:nvPr/>
        </p:nvPicPr>
        <p:blipFill>
          <a:blip r:embed="rId1"/>
          <a:stretch/>
        </p:blipFill>
        <p:spPr>
          <a:xfrm>
            <a:off x="1428840" y="2060640"/>
            <a:ext cx="6286320" cy="361008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Verdana"/>
              </a:rPr>
              <a:t>A-S-T-H-M-A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www.Bing.com says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sthma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is a predisposition to chronic inflammation of the lungs in which the airways (bronchi) are reversibly narrowed. Asthma affects 7% of the population, and 300 million worldwide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7" name="Picture 6" descr="Shadow of person showing respiratory system, about to use inhaler.&#13;&#10;To the right of picture an inhaler and multiple pills.&#13;&#10;"/>
          <p:cNvPicPr/>
          <p:nvPr/>
        </p:nvPicPr>
        <p:blipFill>
          <a:blip r:embed="rId1"/>
          <a:stretch/>
        </p:blipFill>
        <p:spPr>
          <a:xfrm>
            <a:off x="5791320" y="152388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BACKGROUND OF ASTHMA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evastating chronic diseas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ublic impact has increased over the last two decad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Qualifies as a public health epidemic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Nebraska-#2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       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1" name="Picture 8" descr="Picture of cartoon smiling man in red, running, carrying small football.  Larger football behind him.   "/>
          <p:cNvPicPr/>
          <p:nvPr/>
        </p:nvPicPr>
        <p:blipFill>
          <a:blip r:embed="rId1"/>
          <a:stretch/>
        </p:blipFill>
        <p:spPr>
          <a:xfrm>
            <a:off x="5638680" y="4191120"/>
            <a:ext cx="2133720" cy="163008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OMMUNITY ASTHMA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EDUCATION INITIATIVE</a:t>
            </a:r>
            <a:r>
              <a:rPr b="1" lang="en-US" sz="3200" spc="-1" strike="noStrike">
                <a:solidFill>
                  <a:srgbClr val="ccecff"/>
                </a:solidFill>
                <a:latin typeface="Verdana"/>
              </a:rPr>
              <a:t> -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Verdana"/>
              </a:rPr>
              <a:t>CAEI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AEI launched in 1998 at Saint Elizabeth Regional Medical Center-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unding-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sthma Coordinator    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30 Agencies -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4" name="Picture 5" descr="Picture of Asthma Manager holding peak flow and Asthma Coordinator holding a spacer.  "/>
          <p:cNvPicPr/>
          <p:nvPr/>
        </p:nvPicPr>
        <p:blipFill>
          <a:blip r:embed="rId1"/>
          <a:stretch/>
        </p:blipFill>
        <p:spPr>
          <a:xfrm>
            <a:off x="5867280" y="2819520"/>
            <a:ext cx="2138400" cy="296532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CAEI Management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of Asthma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1.  Healthcare Provider Education Pyrami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2.  Family Asthma Adventur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3.  Pharmacist Interventi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4.  Asthma Awarenes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5.  Asthma Surveillanc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           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eveloped to bridge the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atient-provider  communication gap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FUNDERS THROUGH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THE YEAR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aint Elizabeth Regional Medical Cente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harmaceutical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P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rivate and Community Based Organization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ASTHMA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OUTCOMES PATHWAY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atholic Health Initiative –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ission &amp; Ministry Fund through the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aint Elizabeth Foundation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1" name="Picture 5" descr="Cartoon of the back of a person knocking on the door and showing multiple color doors.&#13;&#10;"/>
          <p:cNvPicPr/>
          <p:nvPr/>
        </p:nvPicPr>
        <p:blipFill>
          <a:blip r:embed="rId1"/>
          <a:stretch/>
        </p:blipFill>
        <p:spPr>
          <a:xfrm>
            <a:off x="5638680" y="3200400"/>
            <a:ext cx="3144960" cy="286236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Asthma Outcomes Pathways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1.  Task Force formed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2.  AHRQ Face-to-Fac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3.  Recruit partners-form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liaison with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ED Connectio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4.   Work groups assemble pathway – technical assistance Dr. Redding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5.  Define barriers and embed into pathways process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572000" y="1599840"/>
            <a:ext cx="4114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Determine outcome measures specific to interventio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7. Finders and connectors trained with referral mechanism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8. Develop return on investment, and create audit system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9. Begin documenting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10. Build system for review and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quality assurance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ASTHMA PATHWAY</a:t>
            </a:r>
            <a:br>
              <a:rPr sz="3600"/>
            </a:br>
            <a:br>
              <a:rPr sz="3600"/>
            </a:br>
            <a:r>
              <a:rPr b="1" lang="en-US" sz="2800" spc="-1" strike="noStrike" u="sng">
                <a:solidFill>
                  <a:srgbClr val="ccecff"/>
                </a:solidFill>
                <a:uFillTx/>
                <a:latin typeface="Arial"/>
              </a:rPr>
              <a:t>Outreach</a:t>
            </a:r>
            <a:br>
              <a:rPr sz="2800"/>
            </a:br>
            <a:r>
              <a:rPr b="1" lang="en-US" sz="2000" spc="-1" strike="noStrike">
                <a:solidFill>
                  <a:srgbClr val="ccecff"/>
                </a:solidFill>
                <a:latin typeface="Arial"/>
              </a:rPr>
              <a:t>Identify Patients Most at Risk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ge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ensus Tract NESW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ocioeconomic Status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ace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umbers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 Medical Home</a:t>
            </a:r>
            <a:br>
              <a:rPr sz="1800"/>
            </a:br>
            <a:r>
              <a:rPr b="1" lang="en-US" sz="20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Symbol"/>
                <a:ea typeface="Symbol"/>
              </a:rPr>
              <a:t>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800" spc="-1" strike="noStrike" u="sng">
                <a:solidFill>
                  <a:srgbClr val="ccecff"/>
                </a:solidFill>
                <a:uFillTx/>
                <a:latin typeface="Arial"/>
              </a:rPr>
              <a:t>Assessment</a:t>
            </a:r>
            <a:br>
              <a:rPr sz="2800"/>
            </a:br>
            <a:r>
              <a:rPr b="0" lang="en-US" sz="2000" spc="-1" strike="noStrike">
                <a:solidFill>
                  <a:srgbClr val="ccecff"/>
                </a:solidFill>
                <a:latin typeface="Arial"/>
              </a:rPr>
              <a:t>Begin Asthma Action Plan</a:t>
            </a:r>
            <a:br>
              <a:rPr sz="2000"/>
            </a:br>
            <a:r>
              <a:rPr b="0" lang="en-US" sz="2000" spc="-1" strike="noStrike">
                <a:solidFill>
                  <a:srgbClr val="ccecff"/>
                </a:solidFill>
                <a:latin typeface="Arial"/>
              </a:rPr>
              <a:t>(Intervention/Identification)</a:t>
            </a:r>
            <a:br>
              <a:rPr sz="2000"/>
            </a:br>
            <a:r>
              <a:rPr b="0" lang="en-US" sz="20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Symbol"/>
                <a:ea typeface="Symbol"/>
              </a:rPr>
              <a:t>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30T18:17:50Z</dcterms:created>
  <dc:creator>lpalensky</dc:creator>
  <dc:description/>
  <dc:language>en-US</dc:language>
  <cp:lastModifiedBy>Rasa</cp:lastModifiedBy>
  <dcterms:modified xsi:type="dcterms:W3CDTF">2009-10-26T15:41:47Z</dcterms:modified>
  <cp:revision>95</cp:revision>
  <dc:subject/>
  <dc:title>Slide 1</dc:title>
</cp:coreProperties>
</file>