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9F6E-684E-4AC2-9B91-93D0A340B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6265-D050-4F27-BDE4-DD31C0369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of cartoon smiling man in red, running, carrying small football.  Larger football behind him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7F2-819D-4F1A-8D53-5AEBA8AD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2AA-2995-411A-B937-713BA16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242-D558-4604-9785-68FB9262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32A-8ED0-4CBA-9466-B7CD38CB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2BA-9F24-4FC9-8759-7DCB2569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CF3A-D09C-4112-81E2-8BCC6BB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99C-FAB8-4D1B-9E6C-8EF3F69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03C-4451-42D2-8B48-7521C50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38B2-D835-4BEA-9BF1-6938EEFD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9F5-B63C-4A03-AAA6-EC112EE4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F87-BDA4-4C1F-ACD3-CE50A75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CE0-37E2-4E30-95A0-90B1555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89BB-480A-4D7E-BA04-5612270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F90-BAD9-447A-BD88-33BFF34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53D5-0070-4328-AE5A-FCFFA55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795D-859B-440B-863F-8B54F4AE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D7B-A1DE-4962-B0D1-C9765465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850-F29A-4F46-BEA8-CB8D119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488-092C-41D4-A110-B9E24A2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814-6AA3-4EF0-951D-1D831B3E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0F4-D0A1-4F8C-B94A-A756B16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5AE-3545-4797-812F-7831F99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774-FEF2-4AA4-A514-CDEC2F5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839-A6A3-453E-8D21-ACD446B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118-2B92-483A-8F70-A32EFBDDE5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34C9-C643-4D76-8672-D2310B141C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intElizabethOnline.com/" TargetMode="External"/><Relationship Id="rId2" Type="http://schemas.openxmlformats.org/officeDocument/2006/relationships/hyperlink" Target="http://www.SaintElizabethOnline.com/" TargetMode="External"/><Relationship Id="rId3" Type="http://schemas.openxmlformats.org/officeDocument/2006/relationships/hyperlink" Target="http://www.SaintElizabethOnline.com/" TargetMode="External"/><Relationship Id="rId4" Type="http://schemas.openxmlformats.org/officeDocument/2006/relationships/hyperlink" Target="http://www.SaintElizabethOnline.com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69236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sthma Outcomes Pathway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ri Palens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int Elizabeth Found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coln, 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9.14.0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THMA PATHWAY CONTINUED</a:t>
            </a: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tervention Specific-Education &amp; Referr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rie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ri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Barri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duc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duc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d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vironment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cal Ho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cal Manag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ess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Revie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com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com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c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lize Asthma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-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 term – Outpu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ng term – Clinical metho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114300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8098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5638680" y="4114800"/>
            <a:ext cx="1524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enelope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-based case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connectivity for Head Start  school nurses and ED case manag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ilizes customized care algorith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ts vouchers and maintains inventory of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res data for outcomes and repor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6" descr="Asthma Outcomes Pathway logo in circle.  In background shows a the anatomy of a person's neck, shoulders, arms, chest and abdomen to just above the navel.  A highlighted area shows the lungs.  In a circle around the top edges it states – Asthma Outcomes Pathway, then around the bottom edges it states Funded by Saint Elizabeth Foundation and Catholic Health Initiatives.  In the middle, through the highlighted lungs, it states FREE In-Home Asthma Education and Medication Assistance, below that the phone number and then below that the logo for Saint Elizabeth Foundation and Community Asthma Education Initiative.  &#13;&#10;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ase Manag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comes Pathways streamlines their workload using algorithms for protocols and readily available vouchers for barrier re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“finders” are familiar and trusted by the target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“finders” are invested in the target groups and in connections for barrier reduc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nelope connects Head Start, schools and Emergency Department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ow is thi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mproving acces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edical community becomes accountable to each other – ‘ it takes a village approach’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idges the communication gap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an evidence based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kinder and gentler approach f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lth care with the indigen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Outcom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d duplication of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tes at-risk population to evidence based interven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and overcome barriers to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s exacerbation through asthma management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d number of sick days at school and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mber of symptom free days incr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rease recurrent visits in Emergency Depar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thma Outcomes Pathwa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add to the number of Outcomes Asthma Pathw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ster and maintain relationships with community part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ce the pediatrics population is saturated develop the second pathway for the elderly popu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e and mentor other communities in Nebraska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ank You,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or your tim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or more information: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nt Elizabeth Found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900 ‘L’ Street, Suite 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ncoln, NE  685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02.219.70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Palensky@stez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SaintElizabeth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Onlin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SEFoundation logo"/>
          <p:cNvPicPr/>
          <p:nvPr/>
        </p:nvPicPr>
        <p:blipFill>
          <a:blip r:embed="rId1"/>
          <a:stretch/>
        </p:blipFill>
        <p:spPr>
          <a:xfrm>
            <a:off x="1428840" y="2060640"/>
            <a:ext cx="6286320" cy="361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-S-T-H-M-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ww.Bing.com say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thm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predisposition to chronic inflammation of the lungs in which the airways (bronchi) are reversibly narrowed. Asthma affects 7% of the population, and 300 million worldwi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6" descr="Shadow of person showing respiratory system, about to use inhaler.&#13;&#10;To the right of picture an inhaler and multiple pills.&#13;&#10;"/>
          <p:cNvPicPr/>
          <p:nvPr/>
        </p:nvPicPr>
        <p:blipFill>
          <a:blip r:embed="rId1"/>
          <a:stretch/>
        </p:blipFill>
        <p:spPr>
          <a:xfrm>
            <a:off x="5791320" y="1523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ACKGROUND OF ASTHM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astating chronic dis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impact has increased over the last two deca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lifies as a public health epidem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braska-#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8" descr="Picture of cartoon smiling man in red, running, carrying small football.  Larger football behind him.   "/>
          <p:cNvPicPr/>
          <p:nvPr/>
        </p:nvPicPr>
        <p:blipFill>
          <a:blip r:embed="rId1"/>
          <a:stretch/>
        </p:blipFill>
        <p:spPr>
          <a:xfrm>
            <a:off x="5638680" y="4191120"/>
            <a:ext cx="2133720" cy="163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UNITY ASTHM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DUCATION INITIATIVE</a:t>
            </a: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 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AE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EI launched in 1998 at Saint Elizabeth Regional Medical Center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ding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thma Coordinator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0 Agencie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Picture of Asthma Manager holding peak flow and Asthma Coordinator holding a spacer.  "/>
          <p:cNvPicPr/>
          <p:nvPr/>
        </p:nvPicPr>
        <p:blipFill>
          <a:blip r:embed="rId1"/>
          <a:stretch/>
        </p:blipFill>
        <p:spPr>
          <a:xfrm>
            <a:off x="5867280" y="2819520"/>
            <a:ext cx="2138400" cy="296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EI Manag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of Asthm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Healthcare Provider Education Pyram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Family Asthma Adven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Pharmacist Interven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Asthma Aware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 Asthma Surveil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ed to bridge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-provider  communication gap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UNDERS THROUGH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HE YEA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nt Elizabeth Regional Medical Cen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armaceutic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vate and Community Based Organiz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THM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OUTCOMES PATHW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holic Health Initiative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sion &amp; Ministry Fund through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nt Elizabeth Found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Cartoon of the back of a person knocking on the door and showing multiple color doors.&#13;&#10;"/>
          <p:cNvPicPr/>
          <p:nvPr/>
        </p:nvPicPr>
        <p:blipFill>
          <a:blip r:embed="rId1"/>
          <a:stretch/>
        </p:blipFill>
        <p:spPr>
          <a:xfrm>
            <a:off x="5638680" y="3200400"/>
            <a:ext cx="3144960" cy="286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thma Outcomes Pathway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  Task Force form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 AHRQ Face-to-F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 Recruit partners-for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aison with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D Conn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   Work groups assemble pathway – technical assistance Dr. Red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.  Define barriers and embed into pathways proces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termine outcome measures specific to interven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. Finders and connectors trained with referral mechan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. Develop return on investment, and create audit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9. Begin documen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. Build system for review 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lity assura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THMA PATHWAY</a:t>
            </a:r>
            <a:br>
              <a:rPr sz="3600"/>
            </a:br>
            <a:br>
              <a:rPr sz="3600"/>
            </a:b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Outreach</a:t>
            </a:r>
            <a:br>
              <a:rPr sz="28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Identify Patients Most at Risk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sus Tract NESW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oeconomic Stat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Medical Home</a:t>
            </a:r>
            <a:br>
              <a:rPr sz="18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Assessment</a:t>
            </a:r>
            <a:br>
              <a:rPr sz="28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Begin Asthma Action Pla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Intervention/Identification)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17:50Z</dcterms:created>
  <dc:creator>lpalensky</dc:creator>
  <dc:description/>
  <dc:language>en-US</dc:language>
  <cp:lastModifiedBy>Rasa</cp:lastModifiedBy>
  <dcterms:modified xsi:type="dcterms:W3CDTF">2009-10-26T15:41:47Z</dcterms:modified>
  <cp:revision>95</cp:revision>
  <dc:subject/>
  <dc:title>Slide 1</dc:title>
</cp:coreProperties>
</file>