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96720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14A15A-40E8-40A1-9B04-AFB1409ACF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232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96720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6424BB-C1A3-4CBF-93FA-BB8348F9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E7D477-C81F-4959-9E1A-B64BC5F083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BF10D6-B3DD-49B3-B506-EA3F4C0460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D1FD39-645D-48D4-95A2-B086001F13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07E2DB-69BD-4794-93FB-93588C85B6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451CD1-D810-43D2-AA73-DBB9C03031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8A581D-A745-4012-AB2F-0769029385F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86B428-2990-4EF6-94EE-0905E2F3B5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8B504A-F27B-43DF-8711-EC5B312815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57A529-4CD1-4FE6-934B-0E26CA7A996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EF0CBD-B5F7-4841-81AB-DFABB62250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23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720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6F0A37-D93E-4510-80DF-A92DF8B7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D13869-6E20-4E22-977F-3D9AA22D943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23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720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2B0677-4231-4393-B93C-4B649671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6BE7D2-C3A1-4995-A2E1-3B64B3EC13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DC72B3-DBB7-4189-A253-4225C7F1BA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5EB057-27C7-4559-A25E-168DE820F4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507-5138-4106-8B97-BFAE3581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F0B-CB42-4D57-80C1-C0C9C9C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8CD-83B8-482F-B5D2-F17DA075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B44-8382-497A-906F-0AC100EC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BFE-ABC2-43B9-8DA5-C0BB25F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D73-4590-462B-BA8F-243C99CF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0DF-3E8D-423A-8775-087DF1F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A54-E1D0-4059-BB53-5199DD62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D95-077F-482D-BA17-66D27157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5A5-58B9-4649-963F-9C609DE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D39-1023-4FE0-AF0C-22BB6260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CBB-00AD-4E8E-86DF-C7720651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973-7B55-47C1-B04F-32A02486C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F168-0302-4FB6-9863-6F09B7C52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http://www.hsc.unt.edu/media/images/Graphics/UNTHSC_Inline_AtFW01.jpg"/>
          <p:cNvPicPr/>
          <p:nvPr/>
        </p:nvPicPr>
        <p:blipFill>
          <a:blip r:embed="rId2"/>
          <a:stretch/>
        </p:blipFill>
        <p:spPr>
          <a:xfrm>
            <a:off x="6934320" y="6280200"/>
            <a:ext cx="20574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http://www.hsc.unt.edu/media/images/Graphics/UNTHSC_Inline_AtFW01.jpg"/>
          <p:cNvPicPr/>
          <p:nvPr/>
        </p:nvPicPr>
        <p:blipFill>
          <a:blip r:embed="rId2"/>
          <a:stretch/>
        </p:blipFill>
        <p:spPr>
          <a:xfrm>
            <a:off x="6934320" y="6280200"/>
            <a:ext cx="2057400" cy="420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BD98-D6E7-45B7-B700-FE7787DEEF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anding insurance coverage: Financial and quality spillovers in local health care mark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 Pag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9/15/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16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met medical needs by community ranking and insurance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76360" y="1143000"/>
          <a:ext cx="856764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A 10%-point increment in the proportion of local uninsured adults was associated with a 29.3% increase in the likelihood that an insured adult would have had unmet medical needs within the last 12 months.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43000"/>
                    <a:ext cx="856764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3"/>
          <p:cNvSpPr/>
          <p:nvPr/>
        </p:nvSpPr>
        <p:spPr>
          <a:xfrm>
            <a:off x="228600" y="6119640"/>
            <a:ext cx="662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án JA, Pauly MV. (2006). “Community-level uninsurance and the unmet medical needs of insured and uninsured adults,”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ealth Services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41(3): 788-8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018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M framework: High uninsurance results in higher uncompensated care (bad debt and charity car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result: Insured people pay for this (10% higher premiums; higher prices; cost-shift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pecuniary community spillover (that is, a financial spillover that works its way through pric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pecuniary spillovers on the insured are likely to be small when money flows from the outside (e.g., Medicare DSP, state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80520" y="380880"/>
            <a:ext cx="8288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llovers and vulnerability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se of community uninsurance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uly and Pagán, Health Affairs 200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when the uninsured demand a lower quality and quantity of health care than the insu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externalities: “distinct groups of consumers who have substantially different preferences [from others]… bring forth products with more appeal to themselves but less appeal to others” (Waldfogel, 200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eat: Local health care markets must not be perfectly segmen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pecuniary or real spillov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nsured demand lower quality 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if the insured have differential access to health care (e.g., better facilities to go to), there are high fixed costs for quality different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pecuniary, real spillovers in partially insured mark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1: Uninsured never use charity care and can only pay for low quality c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qua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llo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2: Uninsured get charity care and do not skimp on qu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uniary spillo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Two communities of same size and number of unin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patronizing health care suppliers that do not provide care to the uninsured or who do not engage in cost shif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n only happen in large enough markets that can be segmented (e.g., in certain regions and for low-fixed-cost servic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spillovers are more likely in specialty care, care requiring expensive equipment (e.g., scanning)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the insured redu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se negative effec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 care access, utilization, and quality indicators of insured adults, by community uninsurance 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uninsurance and mammograph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J of Clinical Oncology April 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ges 40-69 from 2000-2001 CTS HS (n=12,59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 of mammography screening falls by 1.3% for every 10% increase in community uninsur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5975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 cov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insurance coverage tr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9 IOM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IOM report cover"/>
          <p:cNvPicPr/>
          <p:nvPr/>
        </p:nvPicPr>
        <p:blipFill>
          <a:blip r:embed="rId1"/>
          <a:stretch/>
        </p:blipFill>
        <p:spPr>
          <a:xfrm>
            <a:off x="4724280" y="228600"/>
            <a:ext cx="41911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uly &amp; Pagán: Spillov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uninsurance i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03 CTS Household Survey → Participants clustered in 60 communities (48 large metro areas, 3 small metro areas and 9 non-metro are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age population (N = 31,93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care measure = f(Community uninsurance, Charity care, X, C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RQ’s Minority Research Infrastructure Support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RQ’s M-RISP Program funded the Health Services Research Initiative at The University of Texas-Pan Americ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 Number R24HS0170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endent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tential and realized health care acces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1) Respondent has a place to go when si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 Visited do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3) Visited doctor for routine preventive c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essment of health care provider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1) Satisfaction with choice of PC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 Satisfaction with health care recei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3) Trust do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t variables (distinguishing pecuniary and real spillovers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unity uninsurance rate  → Proportion un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ity care → Proportio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ninsured respondents in a community with no cost-related problems obtaining medical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ity care proxy is correlated with different sources of free care (hospitals, doctors and FQCHCs; Herring, 200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75" descr="table of descriptive statistics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table of adjusted odds ratios of assessment of health care system providers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80880" y="914400"/>
          <a:ext cx="8610840" cy="6040440"/>
        </p:xfrm>
        <a:graphic>
          <a:graphicData uri="http://schemas.openxmlformats.org/drawingml/2006/table">
            <a:tbl>
              <a:tblPr/>
              <a:tblGrid>
                <a:gridCol w="3179880"/>
                <a:gridCol w="1407960"/>
                <a:gridCol w="1266840"/>
                <a:gridCol w="1346400"/>
                <a:gridCol w="1409760"/>
              </a:tblGrid>
              <a:tr h="114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d a place to go when si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d a doctor’s visit in the past 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d a visit for routine preventive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s seen specialist in the last 12 month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ommunity uninsur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Baseline=1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.9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New=2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.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.3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.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7.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harity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Baseline=6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.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New=7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149"/>
          <p:cNvSpPr/>
          <p:nvPr/>
        </p:nvSpPr>
        <p:spPr>
          <a:xfrm>
            <a:off x="0" y="64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d Effects of Changes in Community Uninsurance and Charity C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Potential and Realized Health Care Acces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52280" y="914400"/>
          <a:ext cx="8839440" cy="6040440"/>
        </p:xfrm>
        <a:graphic>
          <a:graphicData uri="http://schemas.openxmlformats.org/drawingml/2006/table">
            <a:tbl>
              <a:tblPr/>
              <a:tblGrid>
                <a:gridCol w="3264120"/>
                <a:gridCol w="1444680"/>
                <a:gridCol w="1301760"/>
                <a:gridCol w="1380960"/>
                <a:gridCol w="1447920"/>
              </a:tblGrid>
              <a:tr h="114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y satisfied with PCP cho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y satisfied with health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st docto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y satisfied with choice of specialist s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ommunity uninsur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Baseline=1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.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.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.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New=2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.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.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.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7.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harity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Baseline=6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.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.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New=7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.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.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.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149"/>
          <p:cNvSpPr/>
          <p:nvPr/>
        </p:nvSpPr>
        <p:spPr>
          <a:xfrm>
            <a:off x="0" y="63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d Effects of Changes in Community Uninsurance and Charity C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Assessment of Health Care System Provider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/cave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l predictions depend 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gree of market segmentation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mount of charity care (or below cost care),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ource of resources to cover the cost of charity or below cost ca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pirical evidence points to both real and pecuniary spillov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heory is value neutral → Insurance-related quality spillovers could be good or ba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pproaches to cover the uninsured will lead to different effects on the ins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 1: Increase support for safety net providers that cater to the uninsured (e.g., community health center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positive real spillover on the ins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 2: Tax credits for health insurance would have a positive real spillover on the ins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nch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ent-based model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 Damianov, JA Pagá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26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: Understand consequences of various health care reform propos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: Modeling incentives to purchase insurance and use services based on the quality of the service provided, price, and risk/preferen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useful to understand complex social dynamics and learning between micro/macro-level proc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respond to their social context, especially to the actions of other members in their community (local health care market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mericans are becoming more cynical as to what they will gain from health care reform.&#13;&#10;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26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care reform plans are constantly changing: How do we muddle through and get our message acro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king the individual, business or social case for reform, the answer to the “What’s in for me?” question should always consider the broader community/market eff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762120" y="5257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eople are more concerned about passing the wrong reform bill than about not reforming the health care system!&#13;&#10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care reform debate is confus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one wants to know: “What’s in for me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potential spillovers of insurance/ uninsurance on local health care markets is k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irical analyses based on data from the Community Tracking Study → Potential/realized access and assessment of health care provid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modeling and implic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ninsured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 million nonelderly uninsured in 200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4 million nonelderly uninsured by 201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5% are from low-income families (&lt;200% FPL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5% of Latinos, 29% of Native Americans and 20% of African Americans are uninsured compared to 12% of whi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s: Congressional Budget Office, 2009; Kaiser Family Foundation (2006) The Uninsured, A Prim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e for providing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26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but not fully convincing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right thing to do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lightened self-interest argu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you and me better off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332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ap with percent uninsured under age 65"/>
          <p:cNvPicPr/>
          <p:nvPr/>
        </p:nvPicPr>
        <p:blipFill>
          <a:blip r:embed="rId2"/>
          <a:stretch/>
        </p:blipFill>
        <p:spPr>
          <a:xfrm>
            <a:off x="-306360" y="-201600"/>
            <a:ext cx="9758160" cy="72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78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al communities and uninsur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36520" y="3200400"/>
            <a:ext cx="22780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Lower revenu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healthcar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014640" y="1676520"/>
            <a:ext cx="216684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ncreased publi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rivate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946240" y="3352680"/>
            <a:ext cx="231156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nancial instabil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roviders/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878200" y="4876920"/>
            <a:ext cx="23032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duce charit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uncompensate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715000" y="3276720"/>
            <a:ext cx="121932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5722920" y="4876920"/>
            <a:ext cx="166860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Access to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162920" y="3276720"/>
            <a:ext cx="198108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opulation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587920" y="1981080"/>
            <a:ext cx="233676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ublic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1"/>
          <p:cNvCxnSpPr/>
          <p:nvPr/>
        </p:nvCxnSpPr>
        <p:spPr>
          <a:xfrm flipV="1">
            <a:off x="1904760" y="1980360"/>
            <a:ext cx="1143720" cy="1220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2"/>
          <p:cNvCxnSpPr>
            <a:endCxn id="109" idx="1"/>
          </p:cNvCxnSpPr>
          <p:nvPr/>
        </p:nvCxnSpPr>
        <p:spPr>
          <a:xfrm>
            <a:off x="2514240" y="3504960"/>
            <a:ext cx="432360" cy="191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3"/>
          <p:cNvCxnSpPr>
            <a:stCxn id="110" idx="0"/>
            <a:endCxn id="109" idx="2"/>
          </p:cNvCxnSpPr>
          <p:nvPr/>
        </p:nvCxnSpPr>
        <p:spPr>
          <a:xfrm flipV="1">
            <a:off x="4030200" y="4037760"/>
            <a:ext cx="7236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4"/>
          <p:cNvCxnSpPr>
            <a:stCxn id="109" idx="3"/>
            <a:endCxn id="111" idx="1"/>
          </p:cNvCxnSpPr>
          <p:nvPr/>
        </p:nvCxnSpPr>
        <p:spPr>
          <a:xfrm flipV="1">
            <a:off x="5257800" y="3580920"/>
            <a:ext cx="457920" cy="115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5"/>
          <p:cNvCxnSpPr>
            <a:stCxn id="108" idx="3"/>
            <a:endCxn id="111" idx="1"/>
          </p:cNvCxnSpPr>
          <p:nvPr/>
        </p:nvCxnSpPr>
        <p:spPr>
          <a:xfrm>
            <a:off x="5181480" y="2018880"/>
            <a:ext cx="534240" cy="15627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6"/>
          <p:cNvCxnSpPr>
            <a:stCxn id="108" idx="3"/>
            <a:endCxn id="114" idx="1"/>
          </p:cNvCxnSpPr>
          <p:nvPr/>
        </p:nvCxnSpPr>
        <p:spPr>
          <a:xfrm>
            <a:off x="5181120" y="2018880"/>
            <a:ext cx="407160" cy="191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17"/>
          <p:cNvCxnSpPr>
            <a:endCxn id="110" idx="1"/>
          </p:cNvCxnSpPr>
          <p:nvPr/>
        </p:nvCxnSpPr>
        <p:spPr>
          <a:xfrm>
            <a:off x="1904760" y="3809880"/>
            <a:ext cx="97380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18"/>
          <p:cNvCxnSpPr>
            <a:stCxn id="110" idx="3"/>
            <a:endCxn id="112" idx="1"/>
          </p:cNvCxnSpPr>
          <p:nvPr/>
        </p:nvCxnSpPr>
        <p:spPr>
          <a:xfrm flipV="1">
            <a:off x="5181480" y="5104800"/>
            <a:ext cx="542160" cy="766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9"/>
          <p:cNvCxnSpPr>
            <a:stCxn id="112" idx="3"/>
            <a:endCxn id="113" idx="2"/>
          </p:cNvCxnSpPr>
          <p:nvPr/>
        </p:nvCxnSpPr>
        <p:spPr>
          <a:xfrm flipV="1">
            <a:off x="7391520" y="3809160"/>
            <a:ext cx="762480" cy="12963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20"/>
          <p:cNvCxnSpPr>
            <a:stCxn id="114" idx="2"/>
            <a:endCxn id="113" idx="0"/>
          </p:cNvCxnSpPr>
          <p:nvPr/>
        </p:nvCxnSpPr>
        <p:spPr>
          <a:xfrm>
            <a:off x="6756480" y="2437920"/>
            <a:ext cx="139752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21"/>
          <p:cNvCxnSpPr>
            <a:stCxn id="111" idx="3"/>
            <a:endCxn id="113" idx="1"/>
          </p:cNvCxnSpPr>
          <p:nvPr/>
        </p:nvCxnSpPr>
        <p:spPr>
          <a:xfrm flipV="1">
            <a:off x="6933960" y="3542760"/>
            <a:ext cx="229320" cy="38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6" name="Picture 22" descr="Rep4 Cover 20"/>
          <p:cNvPicPr/>
          <p:nvPr/>
        </p:nvPicPr>
        <p:blipFill>
          <a:blip r:embed="rId1"/>
          <a:stretch/>
        </p:blipFill>
        <p:spPr>
          <a:xfrm>
            <a:off x="507960" y="4114800"/>
            <a:ext cx="1354320" cy="2286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6:09:26Z</dcterms:created>
  <dc:creator/>
  <dc:description/>
  <dc:language>en-US</dc:language>
  <cp:lastModifiedBy>Rasa</cp:lastModifiedBy>
  <dcterms:modified xsi:type="dcterms:W3CDTF">2009-10-28T19:44:36Z</dcterms:modified>
  <cp:revision>60</cp:revision>
  <dc:subject/>
  <dc:title>Expanding insurance coverage: Financial and quality spillovers in local health care markets</dc:title>
</cp:coreProperties>
</file>