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96720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9DE31A-0DF8-4437-A4E6-6C47C24924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232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96720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D7A4B7-BFEF-4067-AD2C-0A1F75DF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A69086-A40B-4C74-AF13-8F074A69E6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7D8497-77DC-419F-AB9C-8319EF7BB2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928575-A911-4837-BB70-022B8C6497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3ADBDB-23C3-4931-8781-DAE7FC9EAC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1EF621-41E2-4994-B76C-4639594A9E3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EB94E5-2869-4CCA-8D2C-F13D9852B8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F5B36-A119-4368-89D0-EA650AE26C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F03096-5ACE-40DA-9325-F8195FB59E2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46C2F9-8CD7-44EC-BEDE-E006C0871C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E45E89-CDE7-416A-B128-7E8CBBA7942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23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720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13336D-472C-49E8-A044-1C815482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188E2D-0313-4459-BD0D-FCCBD09893D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23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7200" y="882324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82C6E4-AD0B-4D93-80B6-9FC60EC41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6597BB-BC83-44E8-9619-3B615243AF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DE1F84-326D-427E-BCBA-E27C6F168D5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892160" y="0"/>
            <a:ext cx="3303720" cy="247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0" y="2478240"/>
            <a:ext cx="7005600" cy="65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3240"/>
            <a:ext cx="3035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AAE324-D527-4384-AE4C-783B8D625B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890720" y="0"/>
            <a:ext cx="3301920" cy="2476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0960" y="4238640"/>
            <a:ext cx="550368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A82-1F79-4CFA-A521-D9C35AF0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65C-53C7-4000-B987-9C22BA4E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9DA-EFBE-4E65-8D2F-67A9C96E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2BD-9677-4649-AF37-12BDA927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E83-CC63-45A5-B800-537B1961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D7B-A8E8-48CF-B846-A8A681A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CF5-BDAD-4126-82F8-8F3CF57A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DA7-CE50-41E1-8DDF-803738C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F40-D031-4A4F-B6F2-E01228AB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5CE-B572-4CDE-ACD5-F6B53CBA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623-2579-49CE-A23E-9B3995BD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54F-0C9B-4D81-943F-909805F1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C30-CFF1-4558-B4DD-AE25BDBB1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56E-154E-4E2E-944F-875C2B5A2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http://www.hsc.unt.edu/media/images/Graphics/UNTHSC_Inline_AtFW01.jpg"/>
          <p:cNvPicPr/>
          <p:nvPr/>
        </p:nvPicPr>
        <p:blipFill>
          <a:blip r:embed="rId2"/>
          <a:stretch/>
        </p:blipFill>
        <p:spPr>
          <a:xfrm>
            <a:off x="6934320" y="6280200"/>
            <a:ext cx="20574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http://www.hsc.unt.edu/media/images/Graphics/UNTHSC_Inline_AtFW01.jpg"/>
          <p:cNvPicPr/>
          <p:nvPr/>
        </p:nvPicPr>
        <p:blipFill>
          <a:blip r:embed="rId2"/>
          <a:stretch/>
        </p:blipFill>
        <p:spPr>
          <a:xfrm>
            <a:off x="6934320" y="6280200"/>
            <a:ext cx="2057400" cy="420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7283-291E-4FE5-9925-63185970E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anding insurance coverage: Financial and quality spillovers in local health care mark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 Pag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9/15/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167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met medical needs by community ranking and insurance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76360" y="1143000"/>
          <a:ext cx="856764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3" descr="A 10%-point increment in the proportion of local uninsured adults was associated with a 29.3% increase in the likelihood that an insured adult would have had unmet medical needs within the last 12 months.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43000"/>
                    <a:ext cx="856764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3"/>
          <p:cNvSpPr/>
          <p:nvPr/>
        </p:nvSpPr>
        <p:spPr>
          <a:xfrm>
            <a:off x="228600" y="6119640"/>
            <a:ext cx="662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án JA, Pauly MV. (2006). “Community-level uninsurance and the unmet medical needs of insured and uninsured adults,”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ealth Services Rese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41(3): 788-8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018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M framework: High uninsurance results in higher uncompensated care (bad debt and charity care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result: Insured people pay for this (10% higher premiums; higher prices; cost-shift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pecuniary community spillover (that is, a financial spillover that works its way through pric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pecuniary spillovers on the insured are likely to be small when money flows from the outside (e.g., Medicare DSP, state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80520" y="380880"/>
            <a:ext cx="8288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llovers and vulnerability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se of community uninsurance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uly and Pagán, Health Affairs 200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when the uninsured demand a lower quality and quantity of health care than the insu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externalities: “distinct groups of consumers who have substantially different preferences [from others]… bring forth products with more appeal to themselves but less appeal to others” (Waldfogel, 200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eat: Local health care markets must not be perfectly segmen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pecuniary or real spillov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nsured demand lower quality 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if the insured have differential access to health care (e.g., better facilities to go to), there are high fixed costs for quality different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-pecuniary, real spillovers in partially insured mark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1: Uninsured never use charity care and can only pay for low quality c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qua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llo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2: Uninsured get charity care and do not skimp on qu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uniary spillo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Two communities of same size and number of unin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patronizing health care suppliers that do not provide care to the uninsured or who do not engage in cost shif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n only happen in large enough markets that can be segmented (e.g., in certain regions and for low-fixed-cost servic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spillovers are more likely in specialty care, care requiring expensive equipment (e.g., scanning)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the insured redu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se negative effec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 care access, utilization, and quality indicators of insured adults, by community uninsurance 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uninsurance and mammograph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J of Clinical Oncology April 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ges 40-69 from 2000-2001 CTS HS (n=12,59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 of mammography screening falls by 1.3% for every 10% increase in community uninsur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5975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 cov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insurance coverage tr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09 IOM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IOM report cover"/>
          <p:cNvPicPr/>
          <p:nvPr/>
        </p:nvPicPr>
        <p:blipFill>
          <a:blip r:embed="rId1"/>
          <a:stretch/>
        </p:blipFill>
        <p:spPr>
          <a:xfrm>
            <a:off x="4724280" y="228600"/>
            <a:ext cx="41911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uly &amp; Pagán: Spillov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uninsurance in commun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003 CTS Household Survey → Participants clustered in 60 communities (48 large metro areas, 3 small metro areas and 9 non-metro are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king age population (N = 31,93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care measure = f(Community uninsurance, Charity care, X, C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RQ’s Minority Research Infrastructure Support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RQ’s M-RISP Program funded the Health Services Research Initiative at The University of Texas-Pan Americ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 Number R24HS017003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endent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tential and realized health care acces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1) Respondent has a place to go when si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 Visited do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3) Visited doctor for routine preventive c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essment of health care provider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1) Satisfaction with choice of PC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 Satisfaction with health care recei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3) Trust do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t variables (distinguishing pecuniary and real spillovers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unity uninsurance rate  → Proportion un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ity care → Proportio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ninsured respondents in a community with no cost-related problems obtaining medical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ity care proxy is correlated with different sources of free care (hospitals, doctors and FQCHCs; Herring, 2005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75" descr="table of descriptive statistics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table of adjusted odds ratios of assessment of health care system providers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80880" y="914400"/>
          <a:ext cx="8610840" cy="6040440"/>
        </p:xfrm>
        <a:graphic>
          <a:graphicData uri="http://schemas.openxmlformats.org/drawingml/2006/table">
            <a:tbl>
              <a:tblPr/>
              <a:tblGrid>
                <a:gridCol w="3179880"/>
                <a:gridCol w="1407960"/>
                <a:gridCol w="1266840"/>
                <a:gridCol w="1346400"/>
                <a:gridCol w="1409760"/>
              </a:tblGrid>
              <a:tr h="114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d a place to go when si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d a doctor’s visit in the past ye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d a visit for routine preventive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s seen specialist in the last 12 month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ommunity uninsur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Baseline=1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.9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New=2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.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.3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.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7.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harity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Baseline=6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.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New=7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2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4.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149"/>
          <p:cNvSpPr/>
          <p:nvPr/>
        </p:nvSpPr>
        <p:spPr>
          <a:xfrm>
            <a:off x="0" y="64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d Effects of Changes in Community Uninsurance and Charity C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Potential and Realized Health Care Acces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52280" y="914400"/>
          <a:ext cx="8839440" cy="6040440"/>
        </p:xfrm>
        <a:graphic>
          <a:graphicData uri="http://schemas.openxmlformats.org/drawingml/2006/table">
            <a:tbl>
              <a:tblPr/>
              <a:tblGrid>
                <a:gridCol w="3264120"/>
                <a:gridCol w="1444680"/>
                <a:gridCol w="1301760"/>
                <a:gridCol w="1380960"/>
                <a:gridCol w="1447920"/>
              </a:tblGrid>
              <a:tr h="114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y satisfied with PCP cho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y satisfied with health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ust docto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ery satisfied with choice of specialist s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ommunity uninsur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Baseline=1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.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.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.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uninsured in community (New=25.15%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.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.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.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7.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Charity 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Baseline=6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.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.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 of uninsured population with no cost-related access difficulties (New=77.71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.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.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.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.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point 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.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149"/>
          <p:cNvSpPr/>
          <p:nvPr/>
        </p:nvSpPr>
        <p:spPr>
          <a:xfrm>
            <a:off x="0" y="63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imulated Effects of Changes in Community Uninsurance and Charity C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n Assessment of Health Care System Provider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/cave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l predictions depend 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egree of market segmentation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amount of charity care (or below cost care),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ource of resources to cover the cost of charity or below cost ca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pirical evidence points to both real and pecuniary spillov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heory is value neutral → Insurance-related quality spillovers could be good or ba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pproaches to cover the uninsured will lead to different effects on the ins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 1: Increase support for safety net providers that cater to the uninsured (e.g., community health center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positive real spillover on the ins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 2: Tax credits for health insurance would have a positive real spillover on the insu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767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nch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ent-based model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 Damianov, JA Pagá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26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: Understand consequences of various health care reform propos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: Modeling incentives to purchase insurance and use services based on the quality of the service provided, price, and risk/preferen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useful to understand complex social dynamics and learning between micro/macro-level proce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s respond to their social context, especially to the actions of other members in their community (local health care market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Americans are becoming more cynical as to what they will gain from health care reform.&#13;&#10;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26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care reform plans are constantly changing: How do we muddle through and get our message acro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king the individual, business or social case for reform, the answer to the “What’s in for me?” question should always consider the broader community/market eff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762120" y="5257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eople are more concerned about passing the wrong reform bill than about not reforming the health care system!&#13;&#10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care reform debate is confus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one wants to know: “What’s in for me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potential spillovers of insurance/ uninsurance on local health care markets is k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irical analyses based on data from the Community Tracking Study → Potential/realized access and assessment of health care provid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modeling and implic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uninsured 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5 million nonelderly uninsured in 200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4 million nonelderly uninsured by 201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5% are from low-income families (&lt;200% FPL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5% of Latinos, 29% of Native Americans and 20% of African Americans are uninsured compared to 12% of whi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s: Congressional Budget Office, 2009; Kaiser Family Foundation (2006) The Uninsured, A Prim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e for providing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26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but not fully convincing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right thing to do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lightened self-interest argu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you and me better off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610840" cy="6332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map with percent uninsured under age 65"/>
          <p:cNvPicPr/>
          <p:nvPr/>
        </p:nvPicPr>
        <p:blipFill>
          <a:blip r:embed="rId2"/>
          <a:stretch/>
        </p:blipFill>
        <p:spPr>
          <a:xfrm>
            <a:off x="-306360" y="-201600"/>
            <a:ext cx="9758160" cy="72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78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cal communities and uninsur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36520" y="3200400"/>
            <a:ext cx="22780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Lower revenu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healthcar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014640" y="1676520"/>
            <a:ext cx="216684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ncreased publi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rivate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946240" y="3352680"/>
            <a:ext cx="231156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nancial instabil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roviders/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878200" y="4876920"/>
            <a:ext cx="23032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duce charit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uncompensate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715000" y="3276720"/>
            <a:ext cx="121932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cono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5722920" y="4876920"/>
            <a:ext cx="166860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Access to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162920" y="3276720"/>
            <a:ext cx="198108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opulation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587920" y="1981080"/>
            <a:ext cx="233676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Public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1"/>
          <p:cNvCxnSpPr/>
          <p:nvPr/>
        </p:nvCxnSpPr>
        <p:spPr>
          <a:xfrm flipV="1">
            <a:off x="1904760" y="1980360"/>
            <a:ext cx="1143720" cy="1220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2"/>
          <p:cNvCxnSpPr>
            <a:endCxn id="109" idx="1"/>
          </p:cNvCxnSpPr>
          <p:nvPr/>
        </p:nvCxnSpPr>
        <p:spPr>
          <a:xfrm>
            <a:off x="2514240" y="3504960"/>
            <a:ext cx="432360" cy="191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3"/>
          <p:cNvCxnSpPr>
            <a:stCxn id="110" idx="0"/>
            <a:endCxn id="109" idx="2"/>
          </p:cNvCxnSpPr>
          <p:nvPr/>
        </p:nvCxnSpPr>
        <p:spPr>
          <a:xfrm flipV="1">
            <a:off x="4030200" y="4037760"/>
            <a:ext cx="7236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4"/>
          <p:cNvCxnSpPr>
            <a:stCxn id="109" idx="3"/>
            <a:endCxn id="111" idx="1"/>
          </p:cNvCxnSpPr>
          <p:nvPr/>
        </p:nvCxnSpPr>
        <p:spPr>
          <a:xfrm flipV="1">
            <a:off x="5257800" y="3580920"/>
            <a:ext cx="457920" cy="115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15"/>
          <p:cNvCxnSpPr>
            <a:stCxn id="108" idx="3"/>
            <a:endCxn id="111" idx="1"/>
          </p:cNvCxnSpPr>
          <p:nvPr/>
        </p:nvCxnSpPr>
        <p:spPr>
          <a:xfrm>
            <a:off x="5181480" y="2018880"/>
            <a:ext cx="534240" cy="15627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6"/>
          <p:cNvCxnSpPr>
            <a:stCxn id="108" idx="3"/>
            <a:endCxn id="114" idx="1"/>
          </p:cNvCxnSpPr>
          <p:nvPr/>
        </p:nvCxnSpPr>
        <p:spPr>
          <a:xfrm>
            <a:off x="5181120" y="2018880"/>
            <a:ext cx="407160" cy="191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17"/>
          <p:cNvCxnSpPr>
            <a:endCxn id="110" idx="1"/>
          </p:cNvCxnSpPr>
          <p:nvPr/>
        </p:nvCxnSpPr>
        <p:spPr>
          <a:xfrm>
            <a:off x="1904760" y="3809880"/>
            <a:ext cx="973800" cy="1372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18"/>
          <p:cNvCxnSpPr>
            <a:stCxn id="110" idx="3"/>
            <a:endCxn id="112" idx="1"/>
          </p:cNvCxnSpPr>
          <p:nvPr/>
        </p:nvCxnSpPr>
        <p:spPr>
          <a:xfrm flipV="1">
            <a:off x="5181480" y="5104800"/>
            <a:ext cx="542160" cy="766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9"/>
          <p:cNvCxnSpPr>
            <a:stCxn id="112" idx="3"/>
            <a:endCxn id="113" idx="2"/>
          </p:cNvCxnSpPr>
          <p:nvPr/>
        </p:nvCxnSpPr>
        <p:spPr>
          <a:xfrm flipV="1">
            <a:off x="7391520" y="3809160"/>
            <a:ext cx="762480" cy="12963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20"/>
          <p:cNvCxnSpPr>
            <a:stCxn id="114" idx="2"/>
            <a:endCxn id="113" idx="0"/>
          </p:cNvCxnSpPr>
          <p:nvPr/>
        </p:nvCxnSpPr>
        <p:spPr>
          <a:xfrm>
            <a:off x="6756480" y="2437920"/>
            <a:ext cx="1397520" cy="839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21"/>
          <p:cNvCxnSpPr>
            <a:stCxn id="111" idx="3"/>
            <a:endCxn id="113" idx="1"/>
          </p:cNvCxnSpPr>
          <p:nvPr/>
        </p:nvCxnSpPr>
        <p:spPr>
          <a:xfrm flipV="1">
            <a:off x="6933960" y="3542760"/>
            <a:ext cx="229320" cy="38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6" name="Picture 22" descr="Rep4 Cover 20"/>
          <p:cNvPicPr/>
          <p:nvPr/>
        </p:nvPicPr>
        <p:blipFill>
          <a:blip r:embed="rId1"/>
          <a:stretch/>
        </p:blipFill>
        <p:spPr>
          <a:xfrm>
            <a:off x="507960" y="4114800"/>
            <a:ext cx="1354320" cy="2286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6:09:26Z</dcterms:created>
  <dc:creator/>
  <dc:description/>
  <dc:language>en-US</dc:language>
  <cp:lastModifiedBy>Rasa</cp:lastModifiedBy>
  <dcterms:modified xsi:type="dcterms:W3CDTF">2009-10-28T19:44:36Z</dcterms:modified>
  <cp:revision>60</cp:revision>
  <dc:subject/>
  <dc:title>Expanding insurance coverage: Financial and quality spillovers in local health care markets</dc:title>
</cp:coreProperties>
</file>