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73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842459-59C8-444F-AF78-480EEE6176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0B318E-C4FD-4376-8ABA-70ACAB0B0B1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2080" y="4416120"/>
            <a:ext cx="514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46320" y="4492800"/>
            <a:ext cx="45957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ood afternoon – As Ryan suggested, I am going to talk about one important aspect of ED care – observation stay using data from HCUP – It is an exploratory analysis and really we are presenting to get your feedback on this topic and what it could mean for the emergency care communit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55A1BA-7C4A-4D08-8D42-38CA326BBC6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5C00FA-34D8-4AE3-B1B6-C056A101D5A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5791EB-2895-4979-B87F-33243BB2341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7E66A1-17A4-433E-A435-61E0797213D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E37719-CAD8-4D30-85D4-184BE3C78F4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D5E497-5FA2-4294-80E9-4314A53A63E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149EA5-DD2C-4F50-9CA3-CB64CB2D339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83B7FA-0B26-4861-AB7D-E0B4638789A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E74131-5DF2-41C6-85B5-FF845AF2970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B183E8-749F-47C6-8C98-92DAB2A3751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3D5872-C625-45D8-AE9C-3C98F0C1D60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4EF3A3-1CA4-4C60-B947-B59D89BC012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C816E4-6A80-4645-AE28-D7270F3BFC4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3DEE1D-5000-47F4-8ED2-383231B0646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25FC20-56A0-4CD6-91CC-5E16DEB5337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AE3653-345B-4D5E-B18B-1616CABB413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E8E60D-070E-4AE0-8922-9D73BD40465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012320" y="4417920"/>
            <a:ext cx="498492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7DAA-9135-413B-BD14-E7469E2E0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944C-EB3A-451A-B9E1-B8DE81967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8606-5CC9-4188-8EB7-063C3322A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5487-6FFA-489A-B74E-2BE258410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193CD-2A22-4EF9-BF04-32126F4D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9E64D-8FCC-4EA5-9FCA-361A2AD4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0C485-01C0-445B-B435-B54C80CD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74B24-D082-4431-9DEF-8693DC88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447BF-A4BF-48C9-8FB7-A86FD073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15D02-50D1-498D-A963-D44DF7AC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20BF2-D4C2-4839-A1DB-890EFF2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2D0A-F931-4A6D-A980-7EDD9EA09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B28C8-DC65-441D-A3CD-176E08A7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EC692-F532-4CF1-9D8F-2FE97B64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26B59-7FAB-4CFE-AF4E-92DE04A2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1AEA7-05DB-4E43-8F48-B6419A88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86C5E-E8BE-4861-85B7-9705D3E8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90B5-82F5-4D0B-AFBC-1128FDBB07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D1D1-9C29-4712-A75D-5ED7F1450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9727-D6DE-4A73-A291-5FD38614B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544A-0065-4C5E-81A6-74D19F393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0892-BA49-4C3C-B9FB-A0F0647FE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BDEB-AFED-4564-A1F5-ADCD6AB88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A7ED-CE27-4165-B87A-0957BFF64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04920" y="6400440"/>
            <a:ext cx="574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76CC-C921-4A23-8555-94CEFC66C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43"/>
          <p:cNvGrpSpPr/>
          <p:nvPr/>
        </p:nvGrpSpPr>
        <p:grpSpPr>
          <a:xfrm>
            <a:off x="0" y="1278000"/>
            <a:ext cx="9143640" cy="73440"/>
            <a:chOff x="0" y="1278000"/>
            <a:chExt cx="9143640" cy="73440"/>
          </a:xfrm>
        </p:grpSpPr>
        <p:sp>
          <p:nvSpPr>
            <p:cNvPr id="4" name="Line 44"/>
            <p:cNvSpPr/>
            <p:nvPr/>
          </p:nvSpPr>
          <p:spPr>
            <a:xfrm>
              <a:off x="6480" y="1351440"/>
              <a:ext cx="91371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Line 45"/>
            <p:cNvSpPr/>
            <p:nvPr/>
          </p:nvSpPr>
          <p:spPr>
            <a:xfrm>
              <a:off x="0" y="1278000"/>
              <a:ext cx="91371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" name="Picture 58" descr="HCUP Logo_lg"/>
          <p:cNvPicPr/>
          <p:nvPr/>
        </p:nvPicPr>
        <p:blipFill>
          <a:blip r:embed="rId2"/>
          <a:stretch/>
        </p:blipFill>
        <p:spPr>
          <a:xfrm>
            <a:off x="7742160" y="63360"/>
            <a:ext cx="1295640" cy="11480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63"/>
          <p:cNvGrpSpPr/>
          <p:nvPr/>
        </p:nvGrpSpPr>
        <p:grpSpPr>
          <a:xfrm>
            <a:off x="0" y="79200"/>
            <a:ext cx="1218960" cy="1154520"/>
            <a:chOff x="0" y="79200"/>
            <a:chExt cx="1218960" cy="1154520"/>
          </a:xfrm>
        </p:grpSpPr>
        <p:pic>
          <p:nvPicPr>
            <p:cNvPr id="8" name="Picture 64" descr="AHRQ Logo lg"/>
            <p:cNvPicPr/>
            <p:nvPr/>
          </p:nvPicPr>
          <p:blipFill>
            <a:blip r:embed="rId3"/>
            <a:stretch/>
          </p:blipFill>
          <p:spPr>
            <a:xfrm>
              <a:off x="86400" y="79200"/>
              <a:ext cx="11221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65"/>
            <p:cNvSpPr/>
            <p:nvPr/>
          </p:nvSpPr>
          <p:spPr>
            <a:xfrm>
              <a:off x="0" y="702360"/>
              <a:ext cx="12189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Line 66"/>
            <p:cNvSpPr/>
            <p:nvPr/>
          </p:nvSpPr>
          <p:spPr>
            <a:xfrm>
              <a:off x="86400" y="702360"/>
              <a:ext cx="11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6886-C21E-4C0A-B4D5-53DA6E791F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F847-D279-40A8-8103-6B4879719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 and use in 1 or 2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5092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subtitle style and use in 1 or more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55" name="Line 10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" name="Object 12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96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15"/>
          <p:cNvSpPr/>
          <p:nvPr/>
        </p:nvSpPr>
        <p:spPr>
          <a:xfrm>
            <a:off x="79088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18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00" name="Line 19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2" name="Object 2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160" y="2590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xploratory Analysis of Observation Stay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19040" y="40381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mela Owens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yan Mutter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ptember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HRQ Annual Mee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5D96-230D-4DEC-9946-C12F5B95D2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ults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7924680" cy="3047760"/>
          </a:xfrm>
          <a:prstGeom prst="rect">
            <a:avLst/>
          </a:prstGeom>
          <a:ln w="0">
            <a:noFill/>
          </a:ln>
        </p:spPr>
      </p:pic>
      <p:pic>
        <p:nvPicPr>
          <p:cNvPr id="177" name="Chart 11" descr="This shows the absolute number of inpatient stays and observation stays – as you can see there is not a lot of change between 2005 and 2007&#13;&#10;Between 2005 and 2007 the number of inpatient stays by only 23,00 (a relative increase of &lt; .4%)&#13;&#10;And, the number of observation stays increased by 17,000 (a relative increase of 3.8%). &#13;&#10;"/>
          <p:cNvPicPr/>
          <p:nvPr/>
        </p:nvPicPr>
        <p:blipFill>
          <a:blip r:embed="rId2"/>
          <a:stretch/>
        </p:blipFill>
        <p:spPr>
          <a:xfrm>
            <a:off x="0" y="0"/>
            <a:ext cx="8912160" cy="658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4822-C96E-4311-AAD0-0DA9B5CF60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ults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" name="Content Placeholder 12" descr="Focusing on ED visits we see that the &#13;&#10;Number of ED visits resulting in admission without observation increased by 106,000 from 2.97 million to 3.08 million  (a relative increase of 3.5%)&#13;&#10;Number of ED visits with observation resulting in admission decreased by 23,000 from 168,000 to 145,000 (a relative decrease of 12.9%)&#13;&#10;Number of ED visits with observation resulting in discharge increased by 39,000 from 268,000 to 307,000 ( a relative increase of 13.4%)&#13;&#10;Not shown, the number of ED visits resulting in discharge increased by 2.7%&#13;&#10;At a crude level, it does begin to suggest that EDs are increasingly able to use observation stay to prevent admission&#13;&#10;"/>
          <p:cNvPicPr/>
          <p:nvPr/>
        </p:nvPicPr>
        <p:blipFill>
          <a:blip r:embed="rId1"/>
          <a:stretch/>
        </p:blipFill>
        <p:spPr>
          <a:xfrm>
            <a:off x="0" y="0"/>
            <a:ext cx="8693280" cy="625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6532-5862-4C9B-9B3E-F5180CAA8D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ults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7924680" cy="3047760"/>
          </a:xfrm>
          <a:prstGeom prst="rect">
            <a:avLst/>
          </a:prstGeom>
          <a:ln w="0">
            <a:noFill/>
          </a:ln>
        </p:spPr>
      </p:pic>
      <p:pic>
        <p:nvPicPr>
          <p:cNvPr id="184" name="Chart 8" descr="So, is their variation across states in any given year in the use of observation stay and the answer is yes&#13;&#10;  You can see that in State A, D and F there is a greater use of observation stay, regardless of whether it results in admission and that more ED visits with observation stay result in discharge than admission&#13;&#10;In state C, where 1.6% of ED visits utilized observation stay, 60% of those ended up in admission&#13;&#10; State E does not appear to use observation stay that frequently (&lt; 1% of ED visits)&#13;&#10;"/>
          <p:cNvPicPr/>
          <p:nvPr/>
        </p:nvPicPr>
        <p:blipFill>
          <a:blip r:embed="rId2"/>
          <a:stretch/>
        </p:blipFill>
        <p:spPr>
          <a:xfrm>
            <a:off x="0" y="0"/>
            <a:ext cx="8912160" cy="655956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 9" descr=""/>
          <p:cNvPicPr/>
          <p:nvPr/>
        </p:nvPicPr>
        <p:blipFill>
          <a:blip r:embed="rId3"/>
          <a:stretch/>
        </p:blipFill>
        <p:spPr>
          <a:xfrm>
            <a:off x="-6480" y="2889360"/>
            <a:ext cx="414360" cy="2146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9F39-79A8-4D4E-9543-42F2D7310B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45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nly slight variation is evident during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light increase in inpatient stays (.4%) and slightly greater increase in observation stays (3.8%) between 2005 and 200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light increase in ED visits resulting in admission (3.5%) between 2005 and 2007, bu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eater increase in ED visits resulting in discharge following observation (12.9%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eater decrease in ED visits resulting in admission following observation (13.4%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7333-C70F-4374-81E2-CFB10FFCD3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45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rastic variation by st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D visits resulting in admission (no obs), 200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.6% to 21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D visits resulting in admission (with obs), 200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1% to 1.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D visits resulting in discharge (with obs), 200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4% to 3.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EB5E-3E5C-4A81-9957-ABAC5BE6C2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sis only explor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 period of time due to data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states can provide necessary data acros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n variability of coding by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icated reimbursement structure makes billing more diffic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ication of observation stays dependent on line item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44EE-B722-41E9-911C-3E936D0A29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thy of additional analy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research – Data 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ing variation across p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ing variation across 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ing variation across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4EF1-26BC-4429-BA8F-3766CABFD5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research – Quality and Value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and value of observation sta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and value of observation stay relative to inpatient ad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tient perspect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alth care system perspect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CC11-A321-4607-B1BA-57BC510D85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research – Quality and Value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 of observation stay utilization on ED overcrowding or ED revisit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 Zhao’s HCFO-funded analysis examining on how observation stays are used in Medicare program and how they affect beneficiary cost sharing and hospital payments. 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Lan Zhao, Ph.D., S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73E6-C264-41B8-ACD2-A54F8C19CC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88 – American College of Emergency Physicians (ACEP) creates first Observation Unit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1 - ACEP creates specialty section of Observatio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3 - CMS institutes reimbursement for observation stays related to chest pain, heart failure,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08 – CMS removed diagnostic criteria for reimburs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301D-BA5A-42B0-B45C-00E8F4B6A4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bservation Stay Defined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ell-defined set of specific, clinically appropriate services, which include ongoing short-term treatment, assessment, and reassessment before a decision can be made regarding whether the patients will require further treatment as hospital inpatients or if they are able to be discharged from the hospi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CMS, Pub. 100-02, Chapter 6, Section 20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6A50-651E-4951-974A-D11247C743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ly ordered for patients who present to the ED and who require a significant period of treatment or monitoring in order to make a decision about admission o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lso occur as a direct admission to observation from the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prevent unnecessary hospital ad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impact access to skilled nursing facilities (SNFs) for Medicare benefici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 stay does not count toward three-day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BF77-EB4F-4014-B79C-AB5D684F15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may be influenced by expected p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allowed in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dicare (Part B) minimum of 8 hours; up to 4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dicaid; up to 48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vate; varies considerably; up to 23 hou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imbursement in conjunction with inpatient st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66BF-5988-438C-90FD-CDDFAB5982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453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xamine if the use of observation stays decreases the use of inpatient ad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1C57-5ABC-453C-867C-B0BFC90F6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Methods: Data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453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care Cost and Utilization Project (HCUP) State Emergency Department Databases (SEDD) and State Inpatient Databases (SI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ata Years: 2005-200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7 states (GA, MN, MO, NE, NY, TN, VT) with sufficient line-item detail for all yea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1.6 million inpatient and ED records for 200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2.0 million inpatient and ED records for 2006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2.1 million inpatient and ED records for 200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ditional information on the HCUP at www.hcup-us.ahrq.gov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A4C9-B04A-46D5-B696-8733A7F906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Method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453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asur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Observation st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venue code of 76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ositive observation stay charg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PT code of 99217-99220, 99234-9923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D visi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venue code of 450-459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ositive emergency department charg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PT code of 99281-99285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oint of origin or admission source = 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6750-043B-497D-A9EA-9FDAA6E20E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5480" y="152280"/>
            <a:ext cx="608796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453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UP analysis - unit of analysis is the vi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nalyses are performed using S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scriptive analysis aggregate and by stat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3:26:58Z</dcterms:created>
  <dc:creator>des33518</dc:creator>
  <dc:description/>
  <dc:language>en-US</dc:language>
  <cp:lastModifiedBy>Chettra.Chhiet</cp:lastModifiedBy>
  <dcterms:modified xsi:type="dcterms:W3CDTF">2009-12-04T14:25:53Z</dcterms:modified>
  <cp:revision>709</cp:revision>
  <dc:subject/>
  <dc:title>The Healthcare Cost and Utilization Project (HCUP):</dc:title>
</cp:coreProperties>
</file>