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73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C674EC-A0AC-4943-AC04-AB28BA68B0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04014E-DC53-4FA9-A31C-F37A652C36B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2080" y="4416120"/>
            <a:ext cx="514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46320" y="4492800"/>
            <a:ext cx="45957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ood afternoon – As Ryan suggested, I am going to talk about one important aspect of ED care – observation stay using data from HCUP – It is an exploratory analysis and really we are presenting to get your feedback on this topic and what it could mean for the emergency care communit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1C81C3-1418-4501-A541-B47F0EB131B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3E8F15-C369-4C3A-9B56-8F1ABFAB0C8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71E302-4EB3-42CD-BEA5-68F26746536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F27B44-068A-416F-BF36-558E219536F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F5ADD7-A905-4628-B318-22EBDE0C86C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913E0B-ACF0-4FC7-BC80-540FB60A7D8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91D2DE-343E-4948-AED5-AAF862B6C99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6C2F35-95D8-459C-8443-833FE4AAE1C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5E29D9-3285-43FA-B588-3B2600A3D7A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AF6D60-5CB7-4010-90C4-A3DE0C293AE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863586-F231-4F32-B09F-B7E23566309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237EED-26B7-4F35-BA4F-2E25A04EF97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566B8B-6080-42F1-BD62-E60CB37561F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D4D663-EC2E-4FBE-BF23-F33F9F1DAB1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7A6AB5-2110-45A5-9EC6-B948652B16F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253CCB-7349-407F-BD5C-FD1C6DBC666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59231B-EE21-4885-8270-FFDE693A1BA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5005-3E0B-410B-9297-CB7882316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5445-A2FB-4F13-87C1-9CDB9EC73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B318-3667-435D-A7F3-CBFD70532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E313-7D56-4CAE-B2F8-32800FAA4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47C61-4820-46DB-A513-C097DF7E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9F586-71FE-4B73-98FD-E8C4BF48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0B3EA-095A-4ECF-B0FC-054DB322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78C2D-DC38-4740-9BA0-D6A672BF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19EFB-C440-44F9-9C6B-40147777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48379-FFFC-468A-A288-FAFDE0DE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B784C-D4F2-42AA-8105-C159DE9A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447F-676E-40E4-839F-40A41A6A8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028AA-FE26-45C1-AAE4-EE04A74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0C3EE-30D4-4995-800B-3F037C46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7DD92-8DDE-481A-92C3-ABE06BB8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2411B-EE76-48DE-BC97-9ED5C5FC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DCB7C-8BBE-4918-AC45-687E6F65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2791-E5C7-4E42-A2B0-83CC13F345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CC98-9148-40B2-8137-BA91A0AC8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4390-D7E2-4EFA-9A46-22B54780D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1B7B-8C2E-4709-ABB8-88B5F78A0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58F4-E680-4D3C-8475-012A77B32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8432-3F8A-4962-9B11-4E4129B3C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D152-A41D-49E1-B74D-898D20373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04920" y="6400440"/>
            <a:ext cx="574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BF6D-41B8-4EC6-B03C-B41AE08E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43"/>
          <p:cNvGrpSpPr/>
          <p:nvPr/>
        </p:nvGrpSpPr>
        <p:grpSpPr>
          <a:xfrm>
            <a:off x="0" y="1278000"/>
            <a:ext cx="9143640" cy="73440"/>
            <a:chOff x="0" y="1278000"/>
            <a:chExt cx="9143640" cy="73440"/>
          </a:xfrm>
        </p:grpSpPr>
        <p:sp>
          <p:nvSpPr>
            <p:cNvPr id="4" name="Line 44"/>
            <p:cNvSpPr/>
            <p:nvPr/>
          </p:nvSpPr>
          <p:spPr>
            <a:xfrm>
              <a:off x="6480" y="1351440"/>
              <a:ext cx="91371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Line 45"/>
            <p:cNvSpPr/>
            <p:nvPr/>
          </p:nvSpPr>
          <p:spPr>
            <a:xfrm>
              <a:off x="0" y="1278000"/>
              <a:ext cx="91371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" name="Picture 58" descr="HCUP Logo_lg"/>
          <p:cNvPicPr/>
          <p:nvPr/>
        </p:nvPicPr>
        <p:blipFill>
          <a:blip r:embed="rId2"/>
          <a:stretch/>
        </p:blipFill>
        <p:spPr>
          <a:xfrm>
            <a:off x="7742160" y="63360"/>
            <a:ext cx="1295640" cy="11480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63"/>
          <p:cNvGrpSpPr/>
          <p:nvPr/>
        </p:nvGrpSpPr>
        <p:grpSpPr>
          <a:xfrm>
            <a:off x="0" y="79200"/>
            <a:ext cx="1218960" cy="1154520"/>
            <a:chOff x="0" y="79200"/>
            <a:chExt cx="1218960" cy="1154520"/>
          </a:xfrm>
        </p:grpSpPr>
        <p:pic>
          <p:nvPicPr>
            <p:cNvPr id="8" name="Picture 64" descr="AHRQ Logo lg"/>
            <p:cNvPicPr/>
            <p:nvPr/>
          </p:nvPicPr>
          <p:blipFill>
            <a:blip r:embed="rId3"/>
            <a:stretch/>
          </p:blipFill>
          <p:spPr>
            <a:xfrm>
              <a:off x="86400" y="79200"/>
              <a:ext cx="11221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65"/>
            <p:cNvSpPr/>
            <p:nvPr/>
          </p:nvSpPr>
          <p:spPr>
            <a:xfrm>
              <a:off x="0" y="702360"/>
              <a:ext cx="12189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Line 66"/>
            <p:cNvSpPr/>
            <p:nvPr/>
          </p:nvSpPr>
          <p:spPr>
            <a:xfrm>
              <a:off x="86400" y="702360"/>
              <a:ext cx="11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5970-42D6-46F2-9754-1D7445B177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49C0-A182-4954-8E4C-E74CBAB6A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 and use in 1 or 2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5092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subtitle style and use in 1 or more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55" name="Line 10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" name="Object 12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96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15"/>
          <p:cNvSpPr/>
          <p:nvPr/>
        </p:nvSpPr>
        <p:spPr>
          <a:xfrm>
            <a:off x="79088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18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00" name="Line 19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2" name="Object 2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160" y="2590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xploratory Analysis of Observation Stay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19040" y="40381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mela Owens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yan Mutter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ptember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HRQ Annual Mee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D0D9-3101-4CD8-9725-A5D70C71F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ults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7924680" cy="3047760"/>
          </a:xfrm>
          <a:prstGeom prst="rect">
            <a:avLst/>
          </a:prstGeom>
          <a:ln w="0">
            <a:noFill/>
          </a:ln>
        </p:spPr>
      </p:pic>
      <p:pic>
        <p:nvPicPr>
          <p:cNvPr id="177" name="Chart 11" descr="This shows the absolute number of inpatient stays and observation stays – as you can see there is not a lot of change between 2005 and 2007&#13;&#10;Between 2005 and 2007 the number of inpatient stays by only 23,00 (a relative increase of &lt; .4%)&#13;&#10;And, the number of observation stays increased by 17,000 (a relative increase of 3.8%). &#13;&#10;"/>
          <p:cNvPicPr/>
          <p:nvPr/>
        </p:nvPicPr>
        <p:blipFill>
          <a:blip r:embed="rId2"/>
          <a:stretch/>
        </p:blipFill>
        <p:spPr>
          <a:xfrm>
            <a:off x="0" y="0"/>
            <a:ext cx="8912160" cy="658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1B54-0BF8-4759-84A0-9B5AEA91A7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ults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" name="Content Placeholder 12" descr="Focusing on ED visits we see that the &#13;&#10;Number of ED visits resulting in admission without observation increased by 106,000 from 2.97 million to 3.08 million  (a relative increase of 3.5%)&#13;&#10;Number of ED visits with observation resulting in admission decreased by 23,000 from 168,000 to 145,000 (a relative decrease of 12.9%)&#13;&#10;Number of ED visits with observation resulting in discharge increased by 39,000 from 268,000 to 307,000 ( a relative increase of 13.4%)&#13;&#10;Not shown, the number of ED visits resulting in discharge increased by 2.7%&#13;&#10;At a crude level, it does begin to suggest that EDs are increasingly able to use observation stay to prevent admission&#13;&#10;"/>
          <p:cNvPicPr/>
          <p:nvPr/>
        </p:nvPicPr>
        <p:blipFill>
          <a:blip r:embed="rId1"/>
          <a:stretch/>
        </p:blipFill>
        <p:spPr>
          <a:xfrm>
            <a:off x="0" y="0"/>
            <a:ext cx="8693280" cy="625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9463-D831-485F-8DE2-81F5CC5EAF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ults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7924680" cy="3047760"/>
          </a:xfrm>
          <a:prstGeom prst="rect">
            <a:avLst/>
          </a:prstGeom>
          <a:ln w="0">
            <a:noFill/>
          </a:ln>
        </p:spPr>
      </p:pic>
      <p:pic>
        <p:nvPicPr>
          <p:cNvPr id="184" name="Chart 8" descr="So, is their variation across states in any given year in the use of observation stay and the answer is yes&#13;&#10;  You can see that in State A, D and F there is a greater use of observation stay, regardless of whether it results in admission and that more ED visits with observation stay result in discharge than admission&#13;&#10;In state C, where 1.6% of ED visits utilized observation stay, 60% of those ended up in admission&#13;&#10; State E does not appear to use observation stay that frequently (&lt; 1% of ED visits)&#13;&#10;"/>
          <p:cNvPicPr/>
          <p:nvPr/>
        </p:nvPicPr>
        <p:blipFill>
          <a:blip r:embed="rId2"/>
          <a:stretch/>
        </p:blipFill>
        <p:spPr>
          <a:xfrm>
            <a:off x="0" y="0"/>
            <a:ext cx="8912160" cy="655956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 9" descr=""/>
          <p:cNvPicPr/>
          <p:nvPr/>
        </p:nvPicPr>
        <p:blipFill>
          <a:blip r:embed="rId3"/>
          <a:stretch/>
        </p:blipFill>
        <p:spPr>
          <a:xfrm>
            <a:off x="-6480" y="2889360"/>
            <a:ext cx="414360" cy="2146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ACAB-AF7B-4766-AEB6-C63603C58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45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ly slight variation is evident during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light increase in inpatient stays (.4%) and slightly greater increase in observation stays (3.8%) between 2005 and 200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light increase in ED visits resulting in admission (3.5%) between 2005 and 2007, bu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eater increase in ED visits resulting in discharge following observation (12.9%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eater decrease in ED visits resulting in admission following observation (13.4%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BFB2-EF68-4011-A17C-982BBAFBC3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45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rastic variation by st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D visits resulting in admission (no obs), 200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.6% to 21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D visits resulting in admission (with obs), 200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1% to 1.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D visits resulting in discharge (with obs), 200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4% to 3.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6F9A-08BD-486B-A345-9AEDFF2A01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sis only explor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 period of time due to data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states can provide necessary data acros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n variability of coding by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icated reimbursement structure makes billing more diffic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cation of observation stays dependent on line item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8DBD-FFFC-4A83-B923-779367ECDF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thy of additional analy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research – Data 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ing variation across p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ing variation across 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ing variation across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BEA3-482D-44BA-BF38-CDCF458DAB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research – Quality and Value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and value of observation sta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and value of observation stay relative to inpatient ad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tient perspect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alth care system perspect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7932-FC15-476D-9F3F-AFB2011983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research – Quality and Value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 of observation stay utilization on ED overcrowding or ED revisit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 Zhao’s HCFO-funded analysis examining on how observation stays are used in Medicare program and how they affect beneficiary cost sharing and hospital payments. 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Lan Zhao, Ph.D., S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7C5B-F854-4BBC-B51E-D7A17B7E63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88 – American College of Emergency Physicians (ACEP) creates first Observation Unit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1 - ACEP creates specialty section of Observatio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3 - CMS institutes reimbursement for observation stays related to chest pain, heart failure,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– CMS removed diagnostic criteria for reimburs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DC1D-B9BE-487F-B1CA-0E84981AB6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bservation Stay Defined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ell-defined set of specific, clinically appropriate services, which include ongoing short-term treatment, assessment, and reassessment before a decision can be made regarding whether the patients will require further treatment as hospital inpatients or if they are able to be discharged from the hosp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CMS, Pub. 100-02, Chapter 6, Section 20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F7D2-71AB-484F-AF36-0526DDAEAB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ly ordered for patients who present to the ED and who require a significant period of treatment or monitoring in order to make a decision about admission o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lso occur as a direct admission to observation from the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prevent unnecessary hospital ad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impact access to skilled nursing facilities (SNFs) for Medicare benefici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 stay does not count toward three-day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6A82-6EF9-4A66-BB37-68D134552A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may be influenced by expected p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allowed in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dicare (Part B) minimum of 8 hours; up to 4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dicaid; up to 48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vate; varies considerably; up to 23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imbursement in conjunction with inpatient st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392E-8EF1-440C-AE0A-4D9FA3752B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xamine if the use of observation stays decreases the use of inpatient ad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B536-7039-4E19-B2EA-EDCC47D0B2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Methods: Data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453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care Cost and Utilization Project (HCUP) State Emergency Department Databases (SEDD) and State Inpatient Databases (SI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ata Years: 2005-200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7 states (GA, MN, MO, NE, NY, TN, VT) with sufficient line-item detail for all yea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1.6 million inpatient and ED records for 200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2.0 million inpatient and ED records for 2006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2.1 million inpatient and ED records for 200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ditional information on the HCUP at www.hcup-us.ahrq.gov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978A-AFFB-46DD-B70D-4B9962B3C2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Method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453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asur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bservation st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venue code of 76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ositive observation stay charg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PT code of 99217-99220, 99234-9923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D visi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venue code of 450-459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ositive emergency department charg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PT code of 99281-99285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oint of origin or admission source = 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DE67-03C4-4DDC-AE60-C8FD3080A5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453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UP analysis - unit of analysis is the vi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nalyses are performed using S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scriptive analysis aggregate and by stat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3:26:58Z</dcterms:created>
  <dc:creator>des33518</dc:creator>
  <dc:description/>
  <dc:language>en-US</dc:language>
  <cp:lastModifiedBy>Chettra.Chhiet</cp:lastModifiedBy>
  <dcterms:modified xsi:type="dcterms:W3CDTF">2009-12-04T14:25:53Z</dcterms:modified>
  <cp:revision>709</cp:revision>
  <dc:subject/>
  <dc:title>The Healthcare Cost and Utilization Project (HCUP):</dc:title>
</cp:coreProperties>
</file>