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457200"/>
            <a:ext cx="91440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0" y="6400800"/>
            <a:ext cx="91440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Utilization by Fee-for-Service and Medicare Advantage Enrollees</a:t>
            </a:r>
            <a:br>
              <a:rPr sz="4000"/>
            </a:b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ren Hersch Nicholas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Michiga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Advantage and Fee-for-Service Enrollees are Demographically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Table graphic - Variable. MMC. FFS. 7 subtopics. Source: Medicare Denominator File 1999-2005."/>
          <p:cNvPicPr/>
          <p:nvPr/>
        </p:nvPicPr>
        <p:blipFill>
          <a:blip r:embed="rId1"/>
          <a:srcRect l="6776" t="33399" r="23310" b="14576"/>
          <a:stretch/>
        </p:blipFill>
        <p:spPr>
          <a:xfrm>
            <a:off x="1076400" y="2133720"/>
            <a:ext cx="6394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xplains differences in hospital uti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dvantage plans attract healthier enrollees, otherwise provide the same care as Fee-for-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dvantage plans manage care to limit utilization, → reduce elective procedu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dvantage plans manage care to preserve beneficiary health, → reduce potentially preventable 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pirical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Type-Country-Year level regressions of rate of hospitalization on Medicare coverage type and 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y and Year fixed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tage estimation procedure using ratio of observed to expected marker hospitalizations to control for unobserved health status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s-Cluster Bootstrap used to calculate standar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Managed Care on Rates of Hospitalization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Table - Difference in Rates of Hospitalization per 1,000 Enrollees. ACS, Acute ACS, Chronic ACS, Referral. MMC."/>
          <p:cNvPicPr/>
          <p:nvPr/>
        </p:nvPicPr>
        <p:blipFill>
          <a:blip r:embed="rId1"/>
          <a:srcRect l="6758" t="28892" r="11726" b="26774"/>
          <a:stretch/>
        </p:blipFill>
        <p:spPr>
          <a:xfrm>
            <a:off x="617400" y="1982880"/>
            <a:ext cx="745812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Managed Care on Rates of Hospitalizatio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care significantly reduces potentially preventable hospita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reductions primarily from Pneumonia and Urinary Tract Infection → earlier access to antibiot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verall managed care effect for referral-sensitive hospitalizations, but significant reduction in elective joint replacement (3.5 per 1,000 enrollees) and pacemaker insertion (0.9 per 1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election into Medicare Advantage plans accounts for between 25 and 35 percent of risk-adjuste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 in Ambulatory Care Sensitive Admissions in Medicare Advantage and Fee-for-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Line graph - Trends ambulatory care sensitive admissions rates per 1,000 enrollees in Medicare Advantage and Fee-for-Service.  Medicare Advantage: 1999: 31.6, 2000: 34, 2001: 37.3, 2002: 40.3, 2003: 40.3, 2004: 39.3, 2005: 37.6.  Fee-for-Service: 1999: 63.6, 2000: 62.9, 2001: 62.4, 2002: 62.4, 2003: 64.2, 2004: 63.5, 2005: 51.5"/>
          <p:cNvPicPr/>
          <p:nvPr/>
        </p:nvPicPr>
        <p:blipFill>
          <a:blip r:embed="rId1"/>
          <a:srcRect l="16693" t="37840" r="27417" b="7937"/>
          <a:stretch/>
        </p:blipFill>
        <p:spPr>
          <a:xfrm>
            <a:off x="1982880" y="1913040"/>
            <a:ext cx="5111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Advantage and Medicar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1% increase in Medicare Advantage enrollment increases average Medicare spending between 0.3 and 1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tra spending on managed care cost-effective way to reduce ACS admi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lan payment rates by $600 per enrollee per year would reduce ACS admissions rate by 1 per 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and Policy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dvantage plans have lower rates of ambulatory care sensitive 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verall difference in referral-sensitive 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ositive selection and true “managed care effect” explain observed differences in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payments to plans concentrate enrollment on healthier enrollees, hospitalizations primarily reduced by low-cost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to reduce total spending by improving access to acute care in FF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policy interest in expanding Medicare benefits while reducing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dvantage plans provide a voluntary, managed care alternative to Fee-for-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to plans now exceed average FFS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is known about quality or cost implications of increasing enrollment in Medicare Advantag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managed care affect hospital utilization for Medicare beneficia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outpatient care: Ambulatory Care Sensitive 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elective procedures: Referral-Sensitive 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managed care enrollment affect total Medicare spe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quality and utilization literature indicates quality problems in early Medicare managed car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managed care consistently better at preventive servic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spillovers from managed care believed to hold down FFS spending, but higher payments to plans raise total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care plans historically attract healthier enroll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mostly from 1990s, don’t identify casu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 Inpatient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harge abstracts from hospitalizations in AZ, FL, NJ, and 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 of Medicare beneficiaries and 25% of Medicare Advantage enrollees live in one of these 4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-state hospitalizations from 1990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Medicare Advantage and Fee-for-Service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D-9 diagnostics and procedure codes used to identify ambulatory care sensitive (AHRQ Prevention Quality Indicators) and referral-sensitive ad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hospitalizations, which are not affected by medical care, provide compariso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enrollment date → demographic information for all benefici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bulatory Care Sensitive Ad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ly avoided with effective 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Table graphic - Hospitalizations per 1,000. MMC. FFS. Acute with 4 subtopics. Chronic with 9 subtopics."/>
          <p:cNvPicPr/>
          <p:nvPr/>
        </p:nvPicPr>
        <p:blipFill>
          <a:blip r:embed="rId1"/>
          <a:srcRect l="9948" t="28841" r="34221" b="10322"/>
          <a:stretch/>
        </p:blipFill>
        <p:spPr>
          <a:xfrm>
            <a:off x="909720" y="2058840"/>
            <a:ext cx="51051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al-Sensitive Ad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-intensive procedures, require refer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ates of procedures may suggest barriers to servic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Table graphic - Hospitalizations per 1,000. MMC. FFS. 4 subtopics"/>
          <p:cNvPicPr/>
          <p:nvPr/>
        </p:nvPicPr>
        <p:blipFill>
          <a:blip r:embed="rId1"/>
          <a:srcRect l="19122" t="46651" r="19922" b="23320"/>
          <a:stretch/>
        </p:blipFill>
        <p:spPr>
          <a:xfrm>
            <a:off x="1752480" y="3200400"/>
            <a:ext cx="5573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r Ad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izations which are unrelated to recent medical care, reflect underlying health status, private information influencing insurance choice and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Table graphic - Hospitalizations per 1,000. MMC. FFS. 3 subtopics"/>
          <p:cNvPicPr/>
          <p:nvPr/>
        </p:nvPicPr>
        <p:blipFill>
          <a:blip r:embed="rId1"/>
          <a:srcRect l="19096" t="51068" r="19096" b="24602"/>
          <a:stretch/>
        </p:blipFill>
        <p:spPr>
          <a:xfrm>
            <a:off x="1752480" y="3505320"/>
            <a:ext cx="565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djusted Rates of Hospitalization for Medicare Advantage and Fee-for-Service Enroll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Bar graph - Referral Hospitalization Type, ACS, Marker (Managed Care vs. Fee for Service). Rate per 1000."/>
          <p:cNvPicPr/>
          <p:nvPr/>
        </p:nvPicPr>
        <p:blipFill>
          <a:blip r:embed="rId1"/>
          <a:srcRect l="16693" t="37896" r="27620" b="7690"/>
          <a:stretch/>
        </p:blipFill>
        <p:spPr>
          <a:xfrm>
            <a:off x="1984320" y="1990800"/>
            <a:ext cx="50943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16:38Z</dcterms:created>
  <dc:creator>cglenden</dc:creator>
  <dc:description/>
  <dc:language>en-US</dc:language>
  <cp:lastModifiedBy>Steve</cp:lastModifiedBy>
  <dcterms:modified xsi:type="dcterms:W3CDTF">2009-11-30T19:27:18Z</dcterms:modified>
  <cp:revision>18</cp:revision>
  <dc:subject/>
  <dc:title>Hospital Utilization by Fee-for-Service and Medicare Advantage Enrollees  Lauren Hersch Nicholas  University of Michigan  September 15, 2009</dc:title>
</cp:coreProperties>
</file>