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aphicFrame>
        <p:nvGraphicFramePr>
          <p:cNvPr id="46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64357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yan Mutter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ckvill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hael Rosko, Ph.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ol of Business Adminis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dener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Chester, P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ptember 14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Stochastic Frontier Analysis to Measure Hospital Inefficien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pr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 of l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 of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admission inpatient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ary variables for member of Council of Teaching Hospitals (COTH) and non-COTH hospital with at least one full-time equivalent (FTE) medical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tr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y challenge in applying SFA to health care settings is controlling for heterogene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m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care beds / total b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s / total ad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visits / total outpatient vi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atient surgical operations / total outpatient vi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measures of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m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Case Mix 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rbidity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amily of health care databases and related software tools and products developed through a Federal-State-Industry partnership and sponsored by AHR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te Inpatient Databases (SID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contain the universe of inpatient discharge abstracts from participating states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from 24 states available to the public through the HCUP Central Distrib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HRQ Quality Indicators (QIs) are measures of health care quality that make use of readily available hospital inpatient administrative data, such as HC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oftware tools available on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patient Quality Indicators (IQI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quality of care inside hospitals including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patient morta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medical conditions and surgical proced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ient Safety Indicators (PSI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reflect quality of care inside hospitals, but focus on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otentially avoidable complic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atrogenic ev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measured by the application of the QI software to HCUP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includes the following, risk-adjusted, in-hospital r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tality for the follow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 myocardial infarction (AMI), congestive heart failure (CHF), stroke, gastrointestinal hemorrhage, pneumo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resc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rogenic pneumothor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ction due to medical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dental puncture / lac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orbidity Software assigns variables that identify comorbidities in hospital discharge records using the diagnosis coding of ICD-9-C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for free on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79930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190440" indent="-19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burden of illness controlled by the inclusion of hospital-level rates per discharge of the following comorbidities identified by the Comorbidity Softw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gestive heart fail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rdiac arrhythmia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lvular dise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lmonary circulation disorder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ipheral vascular disorder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alys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her neurological disorder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ronic pulmonary dise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betes, uncomplicat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betes, complicat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ypothyroid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nal fail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ver diseas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ptic ul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D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ymphom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tastatic ul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id tumor without metastas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heumatoid arthrit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agulo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esit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t lo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uid and electrolyte disor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ood loss anemi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ficiency anemia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cohol abu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ug abus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sychos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ress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Mutter et al. (2008) for detail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fficiency effects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 share of dis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share of dis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 HMO penetrat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tr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osko (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riable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FA in the NHQ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FA is used to provide trends in hospital efficien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easure from the provider perspe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asure first appeared in the 2007 NHQR, the first year there was an efficiency chap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FA became an endorsed measure in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interest in estimating inefficiency arises out of concerns about excessive expenditures in health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fficiency measurement also adds perspective to quality measurement and highlights trade-offs in quality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improvement can increase costs by reducing overuse and expensive medical err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quality improvement can also result in higher levels of resource use and higher cost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potential applications for accurate provider-level estimates of inefficiency (e.g., organizational improvement, public reportin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efficiency Estim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1,368 urban, general, community hospitals from 26 states providing SI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 53% of all urban, general community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1 –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estimation approach recommended by Rosko and Mutter (200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 Year’s Analys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iciency estimates converted to index numbers with a base of 100 for the year 2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s less emphasis on the specific magnitude of estimated cost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523520" y="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 Year’s Analysi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 Year’s Analysi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8" name="Picture 6" descr="Provider example: Average estimated relative hospital cost efficiency index for a selected sample of urban general, community hospitals, 2001-2005. Bar chart. Relative index. 2001, 100, 2002, 100.03, 2003, 100.39, 2004, 100.48, 2005, 100.06."/>
          <p:cNvPicPr/>
          <p:nvPr/>
        </p:nvPicPr>
        <p:blipFill>
          <a:blip r:embed="rId1"/>
          <a:stretch/>
        </p:blipFill>
        <p:spPr>
          <a:xfrm>
            <a:off x="2286000" y="1523880"/>
            <a:ext cx="4456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1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s have relied on ratios that convey straightforward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ng SFA estimates with these ratios yields valuable insights into organizational perform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 Year’s Analysi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-457200" y="1828440"/>
            <a:ext cx="9601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Measure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Estimate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    Std. dev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st per case-mix-adjusted admiss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p quartile of hospital cost efficienc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4,34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1,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ttom quartile of hospital cost efficienc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6,24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2,3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ull-time equivalent employees per case-mix-adjusted admiss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p quartile of hospital cost efficienc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04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0.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ttom quartile of hospital cost efficienc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05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0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verage length of stay (days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p quartile of hospital cost efficienc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8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1.3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ttom quartile of hospital cost efficienc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2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1.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perating margi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p quartile of hospital cost efficienc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03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0.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ttom quartile of hospital cost efficienc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-.06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 Year’s Analysis (continued)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1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findings from the parameter estim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TH hospitals are about 12 percent more expensive than non-teaching hospitals; minor teaching hospitals are nearly 4 percent more expens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efficients on infection due to medical care and accidental puncture / laceration were positive and signific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-345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rences of these patient safety events are costly to hospi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5600" indent="-345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han and Miller (2003) estimate they are associated with excess costs of $38,656 and $8,271, respectivel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 Year’s Analysi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findings from the parameter estima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-profit ownership, greater hospital competition, greater Medicare HMO penetration, and a higher share of Medicare discharges associated with increased cost-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ownership associated with reduced cost-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 Year’s Analysis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oking ahea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FA estimates will appear in the 2009 NHQ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ies of Rosko and Mutter (2008) and Mutter et al. (2008) are available in the back of the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information on HCUP data, the Quality Indicator Software, and the Comorbidity Software are available at the HCUP and QI boo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095480" y="1828800"/>
            <a:ext cx="1584360" cy="64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819520" y="2819520"/>
            <a:ext cx="554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895480" y="19810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ulti-dimensional Approach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343480" y="247824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3903840" y="2765520"/>
            <a:ext cx="338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895480" y="2981160"/>
            <a:ext cx="2664000" cy="4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776920" y="2981160"/>
            <a:ext cx="2663640" cy="4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3903840" y="276552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7288200" y="276552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3040200" y="3052800"/>
            <a:ext cx="360360" cy="32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"/>
          <p:cNvPicPr/>
          <p:nvPr/>
        </p:nvPicPr>
        <p:blipFill>
          <a:blip r:embed="rId2"/>
          <a:stretch/>
        </p:blipFill>
        <p:spPr>
          <a:xfrm>
            <a:off x="5848200" y="305280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01" name="Line 17"/>
          <p:cNvSpPr/>
          <p:nvPr/>
        </p:nvSpPr>
        <p:spPr>
          <a:xfrm>
            <a:off x="3903840" y="34131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7288200" y="341316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3400560" y="362916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3400560" y="362916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4911840" y="362916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7286760" y="36306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4419720" y="3962520"/>
            <a:ext cx="21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on-parametric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2438280" y="3962520"/>
            <a:ext cx="216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rametric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48520" y="3962520"/>
            <a:ext cx="21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arametric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29"/>
          <p:cNvSpPr/>
          <p:nvPr/>
        </p:nvSpPr>
        <p:spPr>
          <a:xfrm>
            <a:off x="7515360" y="43448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30"/>
          <p:cNvSpPr/>
          <p:nvPr/>
        </p:nvSpPr>
        <p:spPr>
          <a:xfrm>
            <a:off x="5762520" y="43448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31"/>
          <p:cNvSpPr/>
          <p:nvPr/>
        </p:nvSpPr>
        <p:spPr>
          <a:xfrm>
            <a:off x="1419120" y="2487600"/>
            <a:ext cx="0" cy="230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AutoShape 32"/>
          <p:cNvSpPr/>
          <p:nvPr/>
        </p:nvSpPr>
        <p:spPr>
          <a:xfrm rot="16200000">
            <a:off x="3260520" y="39132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4" name="Group 43"/>
          <p:cNvGrpSpPr/>
          <p:nvPr/>
        </p:nvGrpSpPr>
        <p:grpSpPr>
          <a:xfrm>
            <a:off x="374760" y="1828800"/>
            <a:ext cx="8281800" cy="4465800"/>
            <a:chOff x="374760" y="1828800"/>
            <a:chExt cx="8281800" cy="4465800"/>
          </a:xfrm>
        </p:grpSpPr>
        <p:sp>
          <p:nvSpPr>
            <p:cNvPr id="115" name="Rectangle 3"/>
            <p:cNvSpPr/>
            <p:nvPr/>
          </p:nvSpPr>
          <p:spPr>
            <a:xfrm>
              <a:off x="2895480" y="1828800"/>
              <a:ext cx="5545080" cy="649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6" name="Text Box 4"/>
            <p:cNvSpPr/>
            <p:nvPr/>
          </p:nvSpPr>
          <p:spPr>
            <a:xfrm>
              <a:off x="1066680" y="1828800"/>
              <a:ext cx="158400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One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Dimensional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Approache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3124080" y="3048120"/>
              <a:ext cx="266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Frontier Approache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5992920" y="3004920"/>
              <a:ext cx="266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Average Approache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9" name="Rectangle 23"/>
            <p:cNvSpPr/>
            <p:nvPr/>
          </p:nvSpPr>
          <p:spPr>
            <a:xfrm>
              <a:off x="2895480" y="3845160"/>
              <a:ext cx="1295280" cy="504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0" name="Rectangle 24"/>
            <p:cNvSpPr/>
            <p:nvPr/>
          </p:nvSpPr>
          <p:spPr>
            <a:xfrm>
              <a:off x="4695840" y="3845160"/>
              <a:ext cx="1562040" cy="504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1" name="Rectangle 25"/>
            <p:cNvSpPr/>
            <p:nvPr/>
          </p:nvSpPr>
          <p:spPr>
            <a:xfrm>
              <a:off x="6639120" y="3845160"/>
              <a:ext cx="1295280" cy="504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2" name="Rectangle 33"/>
            <p:cNvSpPr/>
            <p:nvPr/>
          </p:nvSpPr>
          <p:spPr>
            <a:xfrm>
              <a:off x="2028960" y="4773600"/>
              <a:ext cx="1295280" cy="1512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3629160" y="4773600"/>
              <a:ext cx="1295280" cy="1512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35"/>
            <p:cNvSpPr/>
            <p:nvPr/>
          </p:nvSpPr>
          <p:spPr>
            <a:xfrm>
              <a:off x="5267520" y="4773600"/>
              <a:ext cx="1514160" cy="1512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5" name="Rectangle 36"/>
            <p:cNvSpPr/>
            <p:nvPr/>
          </p:nvSpPr>
          <p:spPr>
            <a:xfrm>
              <a:off x="374760" y="4781880"/>
              <a:ext cx="1311120" cy="1512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7058160" y="4773600"/>
              <a:ext cx="1295280" cy="1512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7" name="Text Box 38"/>
          <p:cNvSpPr/>
          <p:nvPr/>
        </p:nvSpPr>
        <p:spPr>
          <a:xfrm>
            <a:off x="231840" y="5213520"/>
            <a:ext cx="1619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dicator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1905120" y="4800600"/>
            <a:ext cx="139860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ochastic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rontie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SFA) 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3657600" y="4724280"/>
            <a:ext cx="12240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rrected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rdinary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east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quar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COLS) 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5257800" y="4800600"/>
            <a:ext cx="15127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nvelopment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DEA) 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7058160" y="4844880"/>
            <a:ext cx="129528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rdinary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east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quar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OL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roaches to Inefficiency Estim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2976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etric techniq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s provider-level (i.e., hospital-level) estimates of in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fficiency estimates are measured as departures from a statistically derived, theoretical best-practice frontier that takes input prices, outputs, product mix, quality, case mix, and market forces into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ochastic Frontier Analysis (SFA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533520" y="1523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Expens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019920" y="6338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6294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A Frontie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281952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cy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819520" y="4724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ndom Error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962520" y="4419720"/>
            <a:ext cx="75960" cy="30456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1" name="Group 21"/>
          <p:cNvGrpSpPr/>
          <p:nvPr/>
        </p:nvGrpSpPr>
        <p:grpSpPr>
          <a:xfrm>
            <a:off x="2362320" y="1752480"/>
            <a:ext cx="4724280" cy="4419720"/>
            <a:chOff x="2362320" y="1752480"/>
            <a:chExt cx="4724280" cy="4419720"/>
          </a:xfrm>
        </p:grpSpPr>
        <p:sp>
          <p:nvSpPr>
            <p:cNvPr id="142" name="Line 3"/>
            <p:cNvSpPr/>
            <p:nvPr/>
          </p:nvSpPr>
          <p:spPr>
            <a:xfrm>
              <a:off x="2362320" y="1752480"/>
              <a:ext cx="0" cy="441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3" name="Line 4"/>
            <p:cNvSpPr/>
            <p:nvPr/>
          </p:nvSpPr>
          <p:spPr>
            <a:xfrm>
              <a:off x="2362320" y="6172200"/>
              <a:ext cx="4724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2666880" y="4724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 rot="21397200">
              <a:off x="2514600" y="4114800"/>
              <a:ext cx="3962520" cy="914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541044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5943600" y="40384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200400" y="51055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00600" y="45720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5715000" y="46483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3962520" y="4267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6477120" y="396216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3" name="AutoShape 20"/>
            <p:cNvSpPr/>
            <p:nvPr/>
          </p:nvSpPr>
          <p:spPr>
            <a:xfrm>
              <a:off x="3962520" y="4724280"/>
              <a:ext cx="75960" cy="2286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FA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3915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FA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cost inefficiency (i.e., the percentage by which observed costs exceed minimum costs predicted for a given level of outputs, input price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ly useful for determining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lative perform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A is among the top 40 percent most efficient hospitals in it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er grou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and and Hofler (2001) demonstrate its usefulness fo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ar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efficiency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FA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ed generally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= f(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W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 + 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presents total costs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vector of outputs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vector of input prices;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error term, which can be decomposed as fol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+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statistical noise ~ N(0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positive departures from the cost-fro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product of the analysis is information about hospital-level variables on cost and environmental pressure variables on in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FA 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Hospital Association (AHA) Annual Survey of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 Cost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Healthcare Cost and Utilization Project (HC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4:19:20Z</dcterms:created>
  <dc:creator>Sandy K. Cummings</dc:creator>
  <dc:description>6/24/04</dc:description>
  <cp:keywords/>
  <dc:language>en-US</dc:language>
  <cp:lastModifiedBy>Chettra.Chhiet</cp:lastModifiedBy>
  <cp:lastPrinted>2009-10-03T20:10:58Z</cp:lastPrinted>
  <dcterms:modified xsi:type="dcterms:W3CDTF">2009-12-04T14:13:24Z</dcterms:modified>
  <cp:revision>367</cp:revision>
  <dc:subject/>
  <dc:title>AHRQ Slide Template 2004</dc:title>
</cp:coreProperties>
</file>