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3.jpeg" ContentType="image/jpeg"/>
  <Override PartName="/ppt/media/image4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33.wmf" ContentType="image/x-wmf"/>
  <Override PartName="/ppt/media/image48.png" ContentType="image/png"/>
  <Override PartName="/ppt/media/image51.wmf" ContentType="image/x-wmf"/>
  <Override PartName="/ppt/media/image34.wmf" ContentType="image/x-wmf"/>
  <Override PartName="/ppt/media/image41.png" ContentType="image/png"/>
  <Override PartName="/ppt/media/image49.png" ContentType="image/png"/>
  <Override PartName="/ppt/media/image52.wmf" ContentType="image/x-wmf"/>
  <Override PartName="/ppt/media/image47.png" ContentType="image/png"/>
  <Override PartName="/ppt/media/image42.png" ContentType="image/png"/>
  <Override PartName="/ppt/media/image53.wmf" ContentType="image/x-wmf"/>
  <Override PartName="/ppt/media/image54.jpeg" ContentType="image/jpeg"/>
  <Override PartName="/ppt/media/image36.wmf" ContentType="image/x-wmf"/>
  <Override PartName="/ppt/media/image40.png" ContentType="image/png"/>
  <Override PartName="/ppt/media/image11.jpeg" ContentType="image/jpeg"/>
  <Override PartName="/ppt/media/image23.wmf" ContentType="image/x-wmf"/>
  <Override PartName="/ppt/media/image37.wmf" ContentType="image/x-wmf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A83-3BCA-49A0-B69C-BB744DE3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350-A335-4EE3-8041-DB0760531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1D2-B883-4632-BB46-0AC6E25BE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143-B13F-4E60-9177-62D692779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8FB-1739-4CD8-ABB9-C26C4605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011-A3EE-4C17-8EC4-CCC21DE3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591-682A-473B-ACD4-244426DE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817-F27B-4A30-83B9-8986AC7A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5C5-CF84-46AD-A612-A70FB53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509-090D-4BEA-9048-54A2165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FF9-95AE-4D58-A151-582AB52C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086-C664-415A-B990-1A8A3E8A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987-23B0-4816-AC2F-BBB7885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B04-066D-41C6-92E8-93FE92B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A8F-D6C8-4A42-AD14-7947E41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C75-B03B-4F67-B3C3-034CED2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6AE-4166-4FFF-BCB6-3640490A1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untitled"/>
          <p:cNvPicPr/>
          <p:nvPr/>
        </p:nvPicPr>
        <p:blipFill>
          <a:blip r:embed="rId2"/>
          <a:stretch/>
        </p:blipFill>
        <p:spPr>
          <a:xfrm>
            <a:off x="0" y="6210360"/>
            <a:ext cx="53352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untitled"/>
          <p:cNvPicPr/>
          <p:nvPr/>
        </p:nvPicPr>
        <p:blipFill>
          <a:blip r:embed="rId2"/>
          <a:stretch/>
        </p:blipFill>
        <p:spPr>
          <a:xfrm>
            <a:off x="0" y="6210360"/>
            <a:ext cx="53352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lbertus MT"/>
              </a:rPr>
              <a:t>Using AHRQ Patient Safety Indicators to Improve Quality: The Stanford Hospital Experi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800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John M. Morton, MD, MPH, F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Director of Surgic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28600" y="1219320"/>
            <a:ext cx="8915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990720"/>
          <a:ext cx="8839440" cy="5035320"/>
        </p:xfrm>
        <a:graphic>
          <a:graphicData uri="http://schemas.openxmlformats.org/drawingml/2006/table">
            <a:tbl>
              <a:tblPr/>
              <a:tblGrid>
                <a:gridCol w="4467240"/>
                <a:gridCol w="437220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VT/PE:  Reduce the rate of DVT &amp; PE by 25% by December 2008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crease Monitor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vide Feedback to Physician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rove Compliance to order se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epsis: Reduce hospital mortality of severe sepsis &amp; septic shock            from 50% to 40% by Jan 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pdate Sepsis Guidelin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lement processes for early identification of sepsis and aggressive treatmen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tablish ICU/ED task force and spread learn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IAP:  Reduce the rate of iatrogenic pneumothorax (IAP) from central venous catheterization (CVC) by 50% by December 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mote ultrasound-guided internal jugular (IJ) catheterization as the method of choice for CV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quire all medical &amp; surgical interns to complete CVC Website Curriculum &amp; Simulation Program during orient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quire that the first 5 CVCs by a house staff member be supervised by a more senior physician who has successfully inserted &amp; documented the placement of 5 CVC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op Priority PI Action Pl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HC DVT/PE Mea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Diagram of post operative DVT or PE"/>
          <p:cNvPicPr/>
          <p:nvPr/>
        </p:nvPicPr>
        <p:blipFill>
          <a:blip r:embed="rId1"/>
          <a:stretch/>
        </p:blipFill>
        <p:spPr>
          <a:xfrm>
            <a:off x="104760" y="762120"/>
            <a:ext cx="89251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idence of DVT/PE by DR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4" descr="bar graph of DCT/PE by DRG"/>
          <p:cNvPicPr/>
          <p:nvPr/>
        </p:nvPicPr>
        <p:blipFill>
          <a:blip r:embed="rId1"/>
          <a:stretch/>
        </p:blipFill>
        <p:spPr>
          <a:xfrm>
            <a:off x="139680" y="1601640"/>
            <a:ext cx="884232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DVT Prophylaxis &quot;Fix it Ticket&quot;"/>
          <p:cNvPicPr/>
          <p:nvPr/>
        </p:nvPicPr>
        <p:blipFill>
          <a:blip r:embed="rId1"/>
          <a:stretch/>
        </p:blipFill>
        <p:spPr>
          <a:xfrm>
            <a:off x="6386400" y="3049560"/>
            <a:ext cx="2754360" cy="3587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urrent Surgical Aud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urrent audit started in Feb 08; conducted by Quality Specialist 24 hours after surgery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thopedic surge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surgery pat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2514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 level” of patient is assessed by Quality Specialist &amp; compliance determined based on current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gical DVT Prophylaxis must be ordered and 1st drug dose given within  24 hours after 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no order or inadequate order, a “fix-it” ticket is placed in medical record so MD can order or revise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ology DVT/PE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4" descr="diagram of radiology DVT/PE report"/>
          <p:cNvPicPr/>
          <p:nvPr/>
        </p:nvPicPr>
        <p:blipFill>
          <a:blip r:embed="rId1"/>
          <a:stretch/>
        </p:blipFill>
        <p:spPr>
          <a:xfrm>
            <a:off x="241200" y="1417680"/>
            <a:ext cx="8659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T/PE Risk Assessment in Ep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7" descr="Screen shot of DVT/PE Rist assesment in Epic"/>
          <p:cNvPicPr/>
          <p:nvPr/>
        </p:nvPicPr>
        <p:blipFill>
          <a:blip r:embed="rId1"/>
          <a:srcRect l="0" t="8159" r="0" b="7441"/>
          <a:stretch/>
        </p:blipFill>
        <p:spPr>
          <a:xfrm>
            <a:off x="0" y="1771560"/>
            <a:ext cx="9144000" cy="4702320"/>
          </a:xfrm>
          <a:prstGeom prst="rect">
            <a:avLst/>
          </a:prstGeom>
          <a:ln w="0">
            <a:noFill/>
          </a:ln>
        </p:spPr>
      </p:pic>
      <p:sp>
        <p:nvSpPr>
          <p:cNvPr id="134" name="Line 11"/>
          <p:cNvSpPr/>
          <p:nvPr/>
        </p:nvSpPr>
        <p:spPr>
          <a:xfrm>
            <a:off x="1609560" y="450540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1619280" y="538164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1609560" y="379080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571760" y="3238560"/>
            <a:ext cx="51408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trospectiv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rg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udi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adiology test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838080" y="2438280"/>
          <a:ext cx="784872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2" descr="bar graph of ordered drug agent, dose and frequency to patients risk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848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0"/>
          <p:cNvSpPr/>
          <p:nvPr/>
        </p:nvSpPr>
        <p:spPr>
          <a:xfrm>
            <a:off x="5715000" y="2895480"/>
            <a:ext cx="3048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724280" y="4402080"/>
            <a:ext cx="434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trospective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urgic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udi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762120" y="2133720"/>
          <a:ext cx="77724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2" descr="bar graph of postoperative drug prophylaxis ordered and 1st drug dose administed within 24 hours of surgery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228600" y="1219320"/>
            <a:ext cx="8915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duce the rate of DVT &amp; PE by 25% by December 200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71600"/>
          <a:ext cx="8458200" cy="4691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  <a:gridCol w="12189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g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Time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concurrent MD ordering practices of DVT prophylaxis &amp; educate/reinforce Epic order se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Specialist to audit 10 charts/wk of General &amp; Ortho Surgery pts &amp; educate MD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 Feb 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concurrent DVT/PE cases for adherence to DVT prophylaxis guidelines monthly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Specialist to perform audit based on monthly report of + radiology tes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e &amp; present results from concurrent monitoring &amp; audit &amp; NSQIP data to providers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Pilotin &amp; K. Bashaw to discuss results with Chairs of General &amp; Orthopedic Surgery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physicians to DVT guidelines and order se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Pilotin to develop/distribute materials of DVT guidelines &amp; screen shots of Epic DVT order set.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blish rules &amp; rates for DVT/PE cases for individual MD profile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Dept to establish rules &amp; rates in Mida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3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ine DVT prophylaxis guidelines for medical patien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. Posley to review/revise guideline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2"/>
          <p:cNvSpPr/>
          <p:nvPr/>
        </p:nvSpPr>
        <p:spPr>
          <a:xfrm>
            <a:off x="2670120" y="602784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-TIM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VT/PE Concurrent Review By Action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Plan for DVT/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VT/PE Rates with SCIP VTE Compliance Comparison by Quart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Picture 4" descr="DVT-PE rate overlayed with SCIP VTE Compliance"/>
          <p:cNvPicPr/>
          <p:nvPr/>
        </p:nvPicPr>
        <p:blipFill>
          <a:blip r:embed="rId1"/>
          <a:stretch/>
        </p:blipFill>
        <p:spPr>
          <a:xfrm>
            <a:off x="3240" y="1293840"/>
            <a:ext cx="8983440" cy="52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Err is Human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1600200"/>
            <a:ext cx="7905600" cy="5257800"/>
            <a:chOff x="990720" y="1600200"/>
            <a:chExt cx="7905600" cy="5257800"/>
          </a:xfrm>
        </p:grpSpPr>
        <p:pic>
          <p:nvPicPr>
            <p:cNvPr id="92" name="Picture 3" descr="collage of logo's and health care images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21430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collage of logo's and health care images"/>
            <p:cNvPicPr/>
            <p:nvPr/>
          </p:nvPicPr>
          <p:blipFill>
            <a:blip r:embed="rId2"/>
            <a:stretch/>
          </p:blipFill>
          <p:spPr>
            <a:xfrm>
              <a:off x="3505320" y="2590920"/>
              <a:ext cx="53910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collage of logo's and health care images"/>
            <p:cNvPicPr/>
            <p:nvPr/>
          </p:nvPicPr>
          <p:blipFill>
            <a:blip r:embed="rId3"/>
            <a:stretch/>
          </p:blipFill>
          <p:spPr>
            <a:xfrm>
              <a:off x="3733920" y="1676520"/>
              <a:ext cx="31147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collage of logo's and health care images"/>
            <p:cNvPicPr/>
            <p:nvPr/>
          </p:nvPicPr>
          <p:blipFill>
            <a:blip r:embed="rId4"/>
            <a:stretch/>
          </p:blipFill>
          <p:spPr>
            <a:xfrm>
              <a:off x="2819520" y="3429000"/>
              <a:ext cx="3962160" cy="26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7" descr="collage of logo's and health care images"/>
            <p:cNvPicPr/>
            <p:nvPr/>
          </p:nvPicPr>
          <p:blipFill>
            <a:blip r:embed="rId5"/>
            <a:stretch/>
          </p:blipFill>
          <p:spPr>
            <a:xfrm>
              <a:off x="1676520" y="5989680"/>
              <a:ext cx="666756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Box 7"/>
          <p:cNvSpPr/>
          <p:nvPr/>
        </p:nvSpPr>
        <p:spPr>
          <a:xfrm>
            <a:off x="6871680" y="106668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90520" y="65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idence of Medical and Surgical Ca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5495760"/>
          <a:ext cx="8763120" cy="102888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cidence of hospital-acquired DVT/PE of both medical and surgical cases decreased in Qtr 3 2008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62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rst quarter 2008 rate 8.37/1000          Second quarter 2008 rate 14.28/1000          Third quarter 2008 rate 8.59/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ective auditing of cases identified b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logy test is being conducted to assess adherence to guidelines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Process for this is under consideration to move to a concurrent audit to improve patient care and outcom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4" descr="bar graph of incidence of medical and surgical cases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HC Benchmark: I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5800" y="6019920"/>
            <a:ext cx="80010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2" descr="diagram of AHRQ patient safety indicators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VC related Iatrogenic Pneumothorax to all Iatrogenic Pneumothorax ca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7607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xt steps: focus on other causes of IAP: thorascopic lung biopsy, feeding tube placement and EP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0" descr="bar graph of CVC related Iatrogenic Pneumothorax to all Iatrogenic Pneumothorx cases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6314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C Insertion Si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46" descr="bar graph of insertion site of CVC related iatrogenic pneuothoraces in medical cases&#13;&#10;bar graph of insertion site of CVC related iatrogenic pneumothoraces in surgical patients"/>
          <p:cNvPicPr/>
          <p:nvPr/>
        </p:nvPicPr>
        <p:blipFill>
          <a:blip r:embed="rId1"/>
          <a:stretch/>
        </p:blipFill>
        <p:spPr>
          <a:xfrm>
            <a:off x="119160" y="1790640"/>
            <a:ext cx="8905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38120" y="2335320"/>
          <a:ext cx="8315280" cy="3963960"/>
        </p:xfrm>
        <a:graphic>
          <a:graphicData uri="http://schemas.openxmlformats.org/drawingml/2006/table">
            <a:tbl>
              <a:tblPr/>
              <a:tblGrid>
                <a:gridCol w="3579840"/>
                <a:gridCol w="3603600"/>
                <a:gridCol w="11318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g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 ultrasound-guided internal jugular (IJ) catheterization as the method of choice for C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 use of subclavian approach to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the neck is limited (e.g.,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uma/code resuscit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ith suspected neck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k of other available 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. Shieh to revise CVC Website Curriculum &amp; Simulation Program to further promote IJ approa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s. Maggio, Williams, Mihm &amp; Lee to educate ED, OR &amp; General Surgery.  Drs. Mihm, Riskin and Daniels to educate ICU.  Dr. Shieh to educate B2 &amp; D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Tokareva to develop &amp; distribute educational materials to reinfor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        Jan 22 &amp; ongo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 all medical &amp; surgical interns to complete CVC Website Curriculum &amp; Simulation Program during orientation (“Bootcamp” for surgical intern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s. Shieh, Maggio, Williams, Mihm &amp; L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quarterly IAP rates for impa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AutoShape 49"/>
          <p:cNvSpPr/>
          <p:nvPr/>
        </p:nvSpPr>
        <p:spPr>
          <a:xfrm>
            <a:off x="533520" y="1219320"/>
            <a:ext cx="7772400" cy="109440"/>
          </a:xfrm>
          <a:prstGeom prst="pie">
            <a:avLst/>
          </a:prstGeom>
          <a:solidFill>
            <a:srgbClr val="5f5f5f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438120" y="1467000"/>
            <a:ext cx="8915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:  Reduce the rate of iatrogenic pneumothorax (IAP) from central venous catheterization (CVC) by 50% by December 08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09480" y="241200"/>
            <a:ext cx="8067960" cy="6616800"/>
            <a:chOff x="609480" y="241200"/>
            <a:chExt cx="8067960" cy="6616800"/>
          </a:xfrm>
        </p:grpSpPr>
        <p:pic>
          <p:nvPicPr>
            <p:cNvPr id="168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3859200" cy="62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"/>
            <p:cNvPicPr/>
            <p:nvPr/>
          </p:nvPicPr>
          <p:blipFill>
            <a:blip r:embed="rId2"/>
            <a:srcRect l="0" t="2944" r="0" b="3187"/>
            <a:stretch/>
          </p:blipFill>
          <p:spPr>
            <a:xfrm>
              <a:off x="4648320" y="241200"/>
              <a:ext cx="4029120" cy="661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78880" cy="115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Goal-Direct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on of Appropriate Antimicrobi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with Hydrocortis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Protei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co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Protective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9" descr=""/>
          <p:cNvPicPr/>
          <p:nvPr/>
        </p:nvPicPr>
        <p:blipFill>
          <a:blip r:embed="rId1"/>
          <a:stretch/>
        </p:blipFill>
        <p:spPr>
          <a:xfrm>
            <a:off x="706320" y="29844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85280" y="2133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l of 2008 SHC Quality Initiative on Severe Sepsis and Septic Shock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 Reduce hospital mortality by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0%</a:t>
            </a:r>
            <a:r>
              <a:rPr b="1" lang="en-US" sz="2400" spc="-1" strike="noStrike">
                <a:solidFill>
                  <a:srgbClr val="cc000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rom Jan 08 to Jan 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ay 2008: Initial education of ICU Guidelines for Severe Sepsis &amp; Septic Sh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cember 2008:Epic order sets revised to reflect changes in guide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28600" y="228600"/>
            <a:ext cx="8555040" cy="6553080"/>
            <a:chOff x="228600" y="228600"/>
            <a:chExt cx="8555040" cy="6553080"/>
          </a:xfrm>
        </p:grpSpPr>
        <p:pic>
          <p:nvPicPr>
            <p:cNvPr id="175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4222800" cy="65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211640" cy="647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screen shot of order set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ministrativ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nical Inp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e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search where there is light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24220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35080" y="5572080"/>
          <a:ext cx="8086680" cy="914400"/>
        </p:xfrm>
        <a:graphic>
          <a:graphicData uri="http://schemas.openxmlformats.org/drawingml/2006/table">
            <a:tbl>
              <a:tblPr/>
              <a:tblGrid>
                <a:gridCol w="808668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25% of cases received antibiotics within one hour of identification. Appropriate antibiotics were given in nearly all of the cases. In 40% of the cases, antibiotic were given &gt;120 minutes, in 60% antibiotics were given within 64 minutes on aver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process indicators in context of when SS/SS management guideline algorithm started. Map process to determine areas for improveme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8"/>
          <p:cNvSpPr/>
          <p:nvPr/>
        </p:nvSpPr>
        <p:spPr>
          <a:xfrm>
            <a:off x="6172200" y="26668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4714920" y="1639800"/>
          <a:ext cx="3959280" cy="39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Object 2" descr="bar graph of appropriate antibiotic administered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4920" y="1639800"/>
                    <a:ext cx="39592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235080" y="1639800"/>
          <a:ext cx="4479840" cy="3932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4" name="Object 3" descr="bar graph of antibiotic received within 1 hr of identification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5080" y="1639800"/>
                    <a:ext cx="447984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23608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2"/>
          <p:cNvGraphicFramePr/>
          <p:nvPr/>
        </p:nvGraphicFramePr>
        <p:xfrm>
          <a:off x="466560" y="1758960"/>
          <a:ext cx="4172040" cy="38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2" descr="bar graph of steroids received within 24 hrs for cases whose MAP &lt;65 mm despite adequate fluid resuscitation and vasopressor administration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1758960"/>
                    <a:ext cx="417204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09560" y="5781600"/>
          <a:ext cx="7858080" cy="73188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compliance in ordering steroids for cases failing therapy. Steroids were given only 25% of the time.  Glucose control was reached in 65% of the cases. Of the 35% of cases with  BG &gt; 150,  mean BG  was 17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 Educate physicians  to document rationale for not giving steroids in next quarterly audit.  Work with ICU team, nursing groups to determine root causes for elevated BG&gt;150 after 24 h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18"/>
          <p:cNvSpPr/>
          <p:nvPr/>
        </p:nvSpPr>
        <p:spPr>
          <a:xfrm>
            <a:off x="1981080" y="2819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4638600" y="1754280"/>
          <a:ext cx="4133880" cy="3824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1" name="Object 3" descr="bar graph of blood glucose &lt; 150 mg/dl within 24 hrs of ICU admission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38600" y="1754280"/>
                    <a:ext cx="413388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surgery"/>
          <p:cNvPicPr/>
          <p:nvPr/>
        </p:nvPicPr>
        <p:blipFill>
          <a:blip r:embed="rId1"/>
          <a:stretch/>
        </p:blipFill>
        <p:spPr>
          <a:xfrm>
            <a:off x="4498920" y="3279600"/>
            <a:ext cx="4469040" cy="340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building with water fountain in front"/>
          <p:cNvPicPr/>
          <p:nvPr/>
        </p:nvPicPr>
        <p:blipFill>
          <a:blip r:embed="rId2"/>
          <a:stretch/>
        </p:blipFill>
        <p:spPr>
          <a:xfrm>
            <a:off x="228600" y="3049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5" name="Picture 2" descr="Deparmental Quality Structure article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2" descr="standford hospital and clinics headline"/>
          <p:cNvPicPr/>
          <p:nvPr/>
        </p:nvPicPr>
        <p:blipFill>
          <a:blip r:embed="rId1"/>
          <a:stretch/>
        </p:blipFill>
        <p:spPr>
          <a:xfrm>
            <a:off x="533520" y="457200"/>
            <a:ext cx="7981920" cy="1419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Specific responsibilities clipping"/>
          <p:cNvPicPr/>
          <p:nvPr/>
        </p:nvPicPr>
        <p:blipFill>
          <a:blip r:embed="rId2"/>
          <a:stretch/>
        </p:blipFill>
        <p:spPr>
          <a:xfrm>
            <a:off x="533520" y="21337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2" descr="accountable outcomes"/>
          <p:cNvPicPr/>
          <p:nvPr/>
        </p:nvPicPr>
        <p:blipFill>
          <a:blip r:embed="rId1"/>
          <a:stretch/>
        </p:blipFill>
        <p:spPr>
          <a:xfrm>
            <a:off x="700200" y="2362320"/>
            <a:ext cx="77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2" descr="accountable outcomes SCIP"/>
          <p:cNvPicPr/>
          <p:nvPr/>
        </p:nvPicPr>
        <p:blipFill>
          <a:blip r:embed="rId1"/>
          <a:stretch/>
        </p:blipFill>
        <p:spPr>
          <a:xfrm>
            <a:off x="709560" y="2133720"/>
            <a:ext cx="7724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2" descr="accountable outcomes PSIs"/>
          <p:cNvPicPr/>
          <p:nvPr/>
        </p:nvPicPr>
        <p:blipFill>
          <a:blip r:embed="rId1"/>
          <a:stretch/>
        </p:blipFill>
        <p:spPr>
          <a:xfrm>
            <a:off x="762120" y="2090880"/>
            <a:ext cx="8119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 of PSI in PPEC: Post-op Hemat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380880" y="2381400"/>
            <a:ext cx="8305920" cy="409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Event data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 of PSI in PPEC: Accidental Puncture or Lac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4114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event data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ministrativ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ist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nchma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ri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ersistent Pursuit of Excell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dicated Monthly Grand Rounds on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QIP based Morbidity and Mortality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 Award for Quality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l Quality Improvement/Patient Safety Resident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umentation Improvement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gery Quality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Initiatives: DVT, Sepsis, Iatrogenic Pneumothorax,Vent &gt;48 hours, Colo-rectal Wound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nding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Check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atching you illustration"/>
          <p:cNvPicPr/>
          <p:nvPr/>
        </p:nvPicPr>
        <p:blipFill>
          <a:blip r:embed="rId1"/>
          <a:stretch/>
        </p:blipFill>
        <p:spPr>
          <a:xfrm>
            <a:off x="3276720" y="1371600"/>
            <a:ext cx="2793960" cy="4114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WTHORNE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PSI Rat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on 2009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838080" y="1905120"/>
          <a:ext cx="69343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2" descr="diagram of PSI rat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6934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3"/>
          <p:cNvSpPr/>
          <p:nvPr/>
        </p:nvSpPr>
        <p:spPr>
          <a:xfrm>
            <a:off x="501012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934520" y="2971800"/>
            <a:ext cx="27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ubit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top Res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Clinical Outcomes Report:  Product Line Mortality Comparison</a:t>
            </a:r>
            <a:br>
              <a:rPr sz="1700"/>
            </a:b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October 2006 – September 2007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1" name="Picture 3" descr="bar graph of surgical death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776880" y="838080"/>
            <a:ext cx="62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5 Surgical Deaths, Dept of Surgery 71, 2.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=110, Oakland=1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0" y="2666880"/>
            <a:ext cx="4191120" cy="5335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28600" y="4419720"/>
            <a:ext cx="3962520" cy="228600"/>
          </a:xfrm>
          <a:prstGeom prst="roundRect">
            <a:avLst>
              <a:gd name="adj" fmla="val 16667"/>
            </a:avLst>
          </a:prstGeom>
          <a:solidFill>
            <a:srgbClr val="ff99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80880" y="49528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ff99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762120" y="617220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neral Surge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380880" y="914400"/>
          <a:ext cx="842976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2" descr="bar graph of UHC mortality index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297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14400" y="5791320"/>
          <a:ext cx="7772400" cy="1074600"/>
        </p:xfrm>
        <a:graphic>
          <a:graphicData uri="http://schemas.openxmlformats.org/drawingml/2006/table">
            <a:tbl>
              <a:tblPr/>
              <a:tblGrid>
                <a:gridCol w="3112920"/>
                <a:gridCol w="1070280"/>
                <a:gridCol w="1366560"/>
                <a:gridCol w="2222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July 2007 to June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General Surgery UHC 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/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4/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/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tanford UHC 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0/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0/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6/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almDrive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partment of Surgery Quality Plan P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rative from SHC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s of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2" descr="news clippings"/>
          <p:cNvPicPr/>
          <p:nvPr/>
        </p:nvPicPr>
        <p:blipFill>
          <a:blip r:embed="rId1"/>
          <a:stretch/>
        </p:blipFill>
        <p:spPr>
          <a:xfrm>
            <a:off x="685800" y="2610000"/>
            <a:ext cx="7772400" cy="28573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520" y="685800"/>
            <a:ext cx="7972200" cy="5581800"/>
            <a:chOff x="533520" y="685800"/>
            <a:chExt cx="7972200" cy="5581800"/>
          </a:xfrm>
        </p:grpSpPr>
        <p:pic>
          <p:nvPicPr>
            <p:cNvPr id="107" name="Picture 3" descr=""/>
            <p:cNvPicPr/>
            <p:nvPr/>
          </p:nvPicPr>
          <p:blipFill>
            <a:blip r:embed="rId2"/>
            <a:stretch/>
          </p:blipFill>
          <p:spPr>
            <a:xfrm>
              <a:off x="533520" y="685800"/>
              <a:ext cx="7972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"/>
            <p:cNvPicPr/>
            <p:nvPr/>
          </p:nvPicPr>
          <p:blipFill>
            <a:blip r:embed="rId3"/>
            <a:stretch/>
          </p:blipFill>
          <p:spPr>
            <a:xfrm>
              <a:off x="2438280" y="5943600"/>
              <a:ext cx="421956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creen shot of UHC"/>
          <p:cNvPicPr/>
          <p:nvPr/>
        </p:nvPicPr>
        <p:blipFill>
          <a:blip r:embed="rId1"/>
          <a:stretch/>
        </p:blipFill>
        <p:spPr>
          <a:xfrm>
            <a:off x="304920" y="76320"/>
            <a:ext cx="8534160" cy="6476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981240" y="7254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G Drill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267080" y="2743200"/>
            <a:ext cx="4648320" cy="914400"/>
          </a:xfrm>
          <a:prstGeom prst="roundRect">
            <a:avLst>
              <a:gd name="adj" fmla="val 16667"/>
            </a:avLst>
          </a:prstGeom>
          <a:solidFill>
            <a:srgbClr val="ffff00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595120" y="59436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CHM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80880" y="4572000"/>
            <a:ext cx="595440" cy="152280"/>
          </a:xfrm>
          <a:prstGeom prst="rightArrow">
            <a:avLst>
              <a:gd name="adj1" fmla="val 50000"/>
              <a:gd name="adj2" fmla="val 977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1066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oshiba_ct_scanner"/>
          <p:cNvPicPr/>
          <p:nvPr/>
        </p:nvPicPr>
        <p:blipFill>
          <a:blip r:embed="rId1"/>
          <a:stretch/>
        </p:blipFill>
        <p:spPr>
          <a:xfrm>
            <a:off x="1752480" y="1676520"/>
            <a:ext cx="6000840" cy="4178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SIs: Quality Diagnostic To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iagram for 2007 Quality Improvement and Patient Safety Scorecard"/>
          <p:cNvPicPr/>
          <p:nvPr/>
        </p:nvPicPr>
        <p:blipFill>
          <a:blip r:embed="rId1"/>
          <a:stretch/>
        </p:blipFill>
        <p:spPr>
          <a:xfrm>
            <a:off x="685800" y="228600"/>
            <a:ext cx="8116920" cy="64008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838080" y="49528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ff9900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2:57Z</dcterms:created>
  <dc:creator>john morton</dc:creator>
  <dc:description/>
  <dc:language>en-US</dc:language>
  <cp:lastModifiedBy>Chettra.Chhiet</cp:lastModifiedBy>
  <dcterms:modified xsi:type="dcterms:W3CDTF">2009-12-04T13:52:14Z</dcterms:modified>
  <cp:revision>439</cp:revision>
  <dc:subject/>
  <dc:title>PowerPoint Presentation</dc:title>
</cp:coreProperties>
</file>