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17.png" ContentType="image/png"/>
  <Override PartName="/ppt/media/image16.jpeg" ContentType="image/jpeg"/>
  <Override PartName="/ppt/media/image15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13.jpeg" ContentType="image/jpeg"/>
  <Override PartName="/ppt/media/image44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43.png" ContentType="image/png"/>
  <Override PartName="/ppt/media/image45.png" ContentType="image/png"/>
  <Override PartName="/ppt/media/image46.png" ContentType="image/png"/>
  <Override PartName="/ppt/media/image50.jpeg" ContentType="image/jpeg"/>
  <Override PartName="/ppt/media/image33.wmf" ContentType="image/x-wmf"/>
  <Override PartName="/ppt/media/image48.png" ContentType="image/png"/>
  <Override PartName="/ppt/media/image51.wmf" ContentType="image/x-wmf"/>
  <Override PartName="/ppt/media/image34.wmf" ContentType="image/x-wmf"/>
  <Override PartName="/ppt/media/image41.png" ContentType="image/png"/>
  <Override PartName="/ppt/media/image49.png" ContentType="image/png"/>
  <Override PartName="/ppt/media/image52.wmf" ContentType="image/x-wmf"/>
  <Override PartName="/ppt/media/image47.png" ContentType="image/png"/>
  <Override PartName="/ppt/media/image42.png" ContentType="image/png"/>
  <Override PartName="/ppt/media/image53.wmf" ContentType="image/x-wmf"/>
  <Override PartName="/ppt/media/image54.jpeg" ContentType="image/jpeg"/>
  <Override PartName="/ppt/media/image36.wmf" ContentType="image/x-wmf"/>
  <Override PartName="/ppt/media/image40.png" ContentType="image/png"/>
  <Override PartName="/ppt/media/image11.jpeg" ContentType="image/jpeg"/>
  <Override PartName="/ppt/media/image23.wmf" ContentType="image/x-wmf"/>
  <Override PartName="/ppt/media/image37.wmf" ContentType="image/x-wmf"/>
  <Override PartName="/ppt/media/image10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30.wmf" ContentType="image/x-wmf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0C02-BD6C-4AF8-AA35-D6DA5AE4F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BF24-9911-4BDB-8102-C8B8FD7E0E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F3CC-47F3-4651-927F-E3FB638328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E891-9C0C-4747-A1F8-7219277590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093-0EA6-4362-8653-8EA0F87B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413-302A-47A2-B5B3-BD86B703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D62D-5AFB-4B2D-B520-5EE884AF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B5F4-E90C-49E5-BB75-4E7C08A6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414-CF6F-46F1-AC8C-576CBA74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19B1-3DEC-45AA-8B18-74CE0FEE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50C-6F9C-43F2-B58C-FD329D9A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14E-695F-473B-81CD-AE1A0C56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616-DE05-4B70-8688-5D75542A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0E7-C789-4C18-B637-5E23BCD3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FC1-EC0A-4EFD-97D3-4E6BE426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54B-0238-4F79-BD2B-F98DC80B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A2A7-30B9-4BD6-A876-E0E05D1DB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untitled"/>
          <p:cNvPicPr/>
          <p:nvPr/>
        </p:nvPicPr>
        <p:blipFill>
          <a:blip r:embed="rId2"/>
          <a:stretch/>
        </p:blipFill>
        <p:spPr>
          <a:xfrm>
            <a:off x="0" y="6210360"/>
            <a:ext cx="53352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untitled"/>
          <p:cNvPicPr/>
          <p:nvPr/>
        </p:nvPicPr>
        <p:blipFill>
          <a:blip r:embed="rId2"/>
          <a:stretch/>
        </p:blipFill>
        <p:spPr>
          <a:xfrm>
            <a:off x="0" y="6210360"/>
            <a:ext cx="533520" cy="647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lbertus MT"/>
              </a:rPr>
              <a:t>Using AHRQ Patient Safety Indicators to Improve Quality: The Stanford Hospital Experi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48002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 MT"/>
              </a:rPr>
              <a:t>John M. Morton, MD, MPH, F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 MT"/>
              </a:rPr>
              <a:t>Associate Profes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lbertus MT"/>
              </a:rPr>
              <a:t>Director of Surgical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28600" y="1219320"/>
            <a:ext cx="89154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990720"/>
          <a:ext cx="8839440" cy="5035320"/>
        </p:xfrm>
        <a:graphic>
          <a:graphicData uri="http://schemas.openxmlformats.org/drawingml/2006/table">
            <a:tbl>
              <a:tblPr/>
              <a:tblGrid>
                <a:gridCol w="4467240"/>
                <a:gridCol w="4372200"/>
              </a:tblGrid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0000"/>
                          </a:solidFill>
                          <a:latin typeface="Arial"/>
                        </a:rPr>
                        <a:t>Go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00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VT/PE:  Reduce the rate of DVT &amp; PE by 25% by December 2008</a:t>
                      </a: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crease Monitorin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vide Feedback to Physician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mprove Compliance to order se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Sepsis: Reduce hospital mortality of severe sepsis &amp; septic shock            from 50% to 40% by Jan 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Update Sepsis Guidelin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mplement processes for early identification of sepsis and aggressive treatmen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stablish ICU/ED task force and spread learnin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IAP:  Reduce the rate of iatrogenic pneumothorax (IAP) from central venous catheterization (CVC) by 50% by December 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mote ultrasound-guided internal jugular (IJ) catheterization as the method of choice for CV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quire all medical &amp; surgical interns to complete CVC Website Curriculum &amp; Simulation Program during orientat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quire that the first 5 CVCs by a house staff member be supervised by a more senior physician who has successfully inserted &amp; documented the placement of 5 CVC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op Priority PI Action Pla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HC DVT/PE Meas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4" descr="Diagram of post operative DVT or PE"/>
          <p:cNvPicPr/>
          <p:nvPr/>
        </p:nvPicPr>
        <p:blipFill>
          <a:blip r:embed="rId1"/>
          <a:stretch/>
        </p:blipFill>
        <p:spPr>
          <a:xfrm>
            <a:off x="104760" y="762120"/>
            <a:ext cx="892512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cidence of DVT/PE by DRG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Picture 4" descr="bar graph of DCT/PE by DRG"/>
          <p:cNvPicPr/>
          <p:nvPr/>
        </p:nvPicPr>
        <p:blipFill>
          <a:blip r:embed="rId1"/>
          <a:stretch/>
        </p:blipFill>
        <p:spPr>
          <a:xfrm>
            <a:off x="139680" y="1601640"/>
            <a:ext cx="8842320" cy="48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DVT Prophylaxis &quot;Fix it Ticket&quot;"/>
          <p:cNvPicPr/>
          <p:nvPr/>
        </p:nvPicPr>
        <p:blipFill>
          <a:blip r:embed="rId1"/>
          <a:stretch/>
        </p:blipFill>
        <p:spPr>
          <a:xfrm>
            <a:off x="6386400" y="3049560"/>
            <a:ext cx="2754360" cy="35877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urrent Surgical Aud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current audit started in Feb 08; conducted by Quality Specialist 24 hours after surgery 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thopedic surge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 surgery pati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62120" y="25146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sk level” of patient is assessed by Quality Specialist &amp; compliance determined based on current 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gical DVT Prophylaxis must be ordered and 1st drug dose given within  24 hours after surg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no order or inadequate order, a “fix-it” ticket is placed in medical record so MD can order or revise prophylax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ology DVT/PE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4" descr="diagram of radiology DVT/PE report"/>
          <p:cNvPicPr/>
          <p:nvPr/>
        </p:nvPicPr>
        <p:blipFill>
          <a:blip r:embed="rId1"/>
          <a:stretch/>
        </p:blipFill>
        <p:spPr>
          <a:xfrm>
            <a:off x="241200" y="1417680"/>
            <a:ext cx="8659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62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VT/PE Risk Assessment in Ep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Picture 7" descr="Screen shot of DVT/PE Rist assesment in Epic"/>
          <p:cNvPicPr/>
          <p:nvPr/>
        </p:nvPicPr>
        <p:blipFill>
          <a:blip r:embed="rId1"/>
          <a:srcRect l="0" t="8159" r="0" b="7441"/>
          <a:stretch/>
        </p:blipFill>
        <p:spPr>
          <a:xfrm>
            <a:off x="0" y="1771560"/>
            <a:ext cx="9144000" cy="4702320"/>
          </a:xfrm>
          <a:prstGeom prst="rect">
            <a:avLst/>
          </a:prstGeom>
          <a:ln w="0">
            <a:noFill/>
          </a:ln>
        </p:spPr>
      </p:pic>
      <p:sp>
        <p:nvSpPr>
          <p:cNvPr id="134" name="Line 11"/>
          <p:cNvSpPr/>
          <p:nvPr/>
        </p:nvSpPr>
        <p:spPr>
          <a:xfrm>
            <a:off x="1609560" y="4505400"/>
            <a:ext cx="514440" cy="0"/>
          </a:xfrm>
          <a:prstGeom prst="line">
            <a:avLst/>
          </a:prstGeom>
          <a:ln w="57240">
            <a:solidFill>
              <a:srgbClr val="cc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1619280" y="5381640"/>
            <a:ext cx="514440" cy="0"/>
          </a:xfrm>
          <a:prstGeom prst="line">
            <a:avLst/>
          </a:prstGeom>
          <a:ln w="57240">
            <a:solidFill>
              <a:srgbClr val="cc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1609560" y="3790800"/>
            <a:ext cx="514440" cy="0"/>
          </a:xfrm>
          <a:prstGeom prst="line">
            <a:avLst/>
          </a:prstGeom>
          <a:ln w="57240">
            <a:solidFill>
              <a:srgbClr val="cc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1571760" y="3238560"/>
            <a:ext cx="514080" cy="0"/>
          </a:xfrm>
          <a:prstGeom prst="line">
            <a:avLst/>
          </a:prstGeom>
          <a:ln w="57240">
            <a:solidFill>
              <a:srgbClr val="cc00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trospectiv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urgica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udi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radiology test)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9" name="Object 2"/>
          <p:cNvGraphicFramePr/>
          <p:nvPr/>
        </p:nvGraphicFramePr>
        <p:xfrm>
          <a:off x="838080" y="2438280"/>
          <a:ext cx="784872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Object 2" descr="bar graph of ordered drug agent, dose and frequency to patients risk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38280"/>
                    <a:ext cx="78487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10"/>
          <p:cNvSpPr/>
          <p:nvPr/>
        </p:nvSpPr>
        <p:spPr>
          <a:xfrm>
            <a:off x="5715000" y="2895480"/>
            <a:ext cx="3048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724280" y="4402080"/>
            <a:ext cx="434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trospective </a:t>
            </a: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urgical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Audi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4" name="Object 2"/>
          <p:cNvGraphicFramePr/>
          <p:nvPr/>
        </p:nvGraphicFramePr>
        <p:xfrm>
          <a:off x="762120" y="2133720"/>
          <a:ext cx="777240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Object 2" descr="bar graph of postoperative drug prophylaxis ordered and 1st drug dose administed within 24 hours of surgery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7724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228600" y="1219320"/>
            <a:ext cx="8915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educe the rate of DVT &amp; PE by 25% by December 200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371600"/>
          <a:ext cx="8458200" cy="4691160"/>
        </p:xfrm>
        <a:graphic>
          <a:graphicData uri="http://schemas.openxmlformats.org/drawingml/2006/table">
            <a:tbl>
              <a:tblPr/>
              <a:tblGrid>
                <a:gridCol w="3657600"/>
                <a:gridCol w="3581640"/>
                <a:gridCol w="12189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c80000"/>
                          </a:solidFill>
                          <a:latin typeface="Arial"/>
                        </a:rPr>
                        <a:t>Ac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0000"/>
                          </a:solidFill>
                          <a:latin typeface="Arial"/>
                        </a:rPr>
                        <a:t>Ag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80000"/>
                          </a:solidFill>
                          <a:latin typeface="Arial"/>
                        </a:rPr>
                        <a:t>Time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itor concurrent MD ordering practices of DVT prophylaxis &amp; educate/reinforce Epic order set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Specialist to audit 10 charts/wk of General &amp; Ortho Surgery pts &amp; educate MD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gin Feb 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view concurrent DVT/PE cases for adherence to DVT prophylaxis guidelines monthly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Specialist to perform audit based on monthly report of + radiology test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 1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e &amp; present results from concurrent monitoring &amp; audit &amp; NSQIP data to providers.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. Pilotin &amp; K. Bashaw to discuss results with Chairs of General &amp; Orthopedic Surgery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 2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ucate physicians to DVT guidelines and order set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. Pilotin to develop/distribute materials of DVT guidelines &amp; screen shots of Epic DVT order set. 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 1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blish rules &amp; rates for DVT/PE cases for individual MD profile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Dept to establish rules &amp; rates in Mida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 3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ine DVT prophylaxis guidelines for medical patient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. Posley to review/revise guidelines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 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42"/>
          <p:cNvSpPr/>
          <p:nvPr/>
        </p:nvSpPr>
        <p:spPr>
          <a:xfrm>
            <a:off x="2670120" y="6027840"/>
            <a:ext cx="611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L-TIME Asses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VT/PE Concurrent Review By Action T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Plan for DVT/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VT/PE Rates with SCIP VTE Compliance Comparison by Quarte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1" name="Picture 4" descr="DVT-PE rate overlayed with SCIP VTE Compliance"/>
          <p:cNvPicPr/>
          <p:nvPr/>
        </p:nvPicPr>
        <p:blipFill>
          <a:blip r:embed="rId1"/>
          <a:stretch/>
        </p:blipFill>
        <p:spPr>
          <a:xfrm>
            <a:off x="3240" y="1293840"/>
            <a:ext cx="8983440" cy="52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Err is Human”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90720" y="1600200"/>
            <a:ext cx="7905600" cy="5257800"/>
            <a:chOff x="990720" y="1600200"/>
            <a:chExt cx="7905600" cy="5257800"/>
          </a:xfrm>
        </p:grpSpPr>
        <p:pic>
          <p:nvPicPr>
            <p:cNvPr id="92" name="Picture 3" descr="collage of logo's and health care images"/>
            <p:cNvPicPr/>
            <p:nvPr/>
          </p:nvPicPr>
          <p:blipFill>
            <a:blip r:embed="rId1"/>
            <a:stretch/>
          </p:blipFill>
          <p:spPr>
            <a:xfrm>
              <a:off x="990720" y="1600200"/>
              <a:ext cx="214308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4" descr="collage of logo's and health care images"/>
            <p:cNvPicPr/>
            <p:nvPr/>
          </p:nvPicPr>
          <p:blipFill>
            <a:blip r:embed="rId2"/>
            <a:stretch/>
          </p:blipFill>
          <p:spPr>
            <a:xfrm>
              <a:off x="3505320" y="2590920"/>
              <a:ext cx="53910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5" descr="collage of logo's and health care images"/>
            <p:cNvPicPr/>
            <p:nvPr/>
          </p:nvPicPr>
          <p:blipFill>
            <a:blip r:embed="rId3"/>
            <a:stretch/>
          </p:blipFill>
          <p:spPr>
            <a:xfrm>
              <a:off x="3733920" y="1676520"/>
              <a:ext cx="311472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6" descr="collage of logo's and health care images"/>
            <p:cNvPicPr/>
            <p:nvPr/>
          </p:nvPicPr>
          <p:blipFill>
            <a:blip r:embed="rId4"/>
            <a:stretch/>
          </p:blipFill>
          <p:spPr>
            <a:xfrm>
              <a:off x="2819520" y="3429000"/>
              <a:ext cx="3962160" cy="26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7" descr="collage of logo's and health care images"/>
            <p:cNvPicPr/>
            <p:nvPr/>
          </p:nvPicPr>
          <p:blipFill>
            <a:blip r:embed="rId5"/>
            <a:stretch/>
          </p:blipFill>
          <p:spPr>
            <a:xfrm>
              <a:off x="1676520" y="5989680"/>
              <a:ext cx="6667560" cy="86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TextBox 7"/>
          <p:cNvSpPr/>
          <p:nvPr/>
        </p:nvSpPr>
        <p:spPr>
          <a:xfrm>
            <a:off x="6871680" y="1066680"/>
            <a:ext cx="19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NF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90520" y="650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idence of Medical and Surgical Ca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5495760"/>
          <a:ext cx="8763120" cy="102888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IS: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incidence of hospital-acquired DVT/PE of both medical and surgical cases decreased in Qtr 3 2008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62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irst quarter 2008 rate 8.37/1000          Second quarter 2008 rate 14.28/1000          Third quarter 2008 rate 8.59/10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: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rospective auditing of cases identified b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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diology test is being conducted to assess adherence to guidelines.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Process for this is under consideration to move to a concurrent audit to improve patient care and outcom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54" descr="bar graph of incidence of medical and surgical cases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HC Benchmark: IA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685800" y="6019920"/>
            <a:ext cx="800100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1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42" descr="diagram of AHRQ patient safety indicators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VC related Iatrogenic Pneumothorax to all Iatrogenic Pneumothorax cas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57607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xt steps: focus on other causes of IAP: thorascopic lung biopsy, feeding tube placement and EP proced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10" descr="bar graph of CVC related Iatrogenic Pneumothorax to all Iatrogenic Pneumothorx cases"/>
          <p:cNvPicPr/>
          <p:nvPr/>
        </p:nvPicPr>
        <p:blipFill>
          <a:blip r:embed="rId1"/>
          <a:stretch/>
        </p:blipFill>
        <p:spPr>
          <a:xfrm>
            <a:off x="457200" y="14176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6314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C Insertion Sit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" name="Picture 46" descr="bar graph of insertion site of CVC related iatrogenic pneuothoraces in medical cases&#13;&#10;bar graph of insertion site of CVC related iatrogenic pneumothoraces in surgical patients"/>
          <p:cNvPicPr/>
          <p:nvPr/>
        </p:nvPicPr>
        <p:blipFill>
          <a:blip r:embed="rId1"/>
          <a:stretch/>
        </p:blipFill>
        <p:spPr>
          <a:xfrm>
            <a:off x="119160" y="1790640"/>
            <a:ext cx="89056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38120" y="2335320"/>
          <a:ext cx="8315280" cy="3963960"/>
        </p:xfrm>
        <a:graphic>
          <a:graphicData uri="http://schemas.openxmlformats.org/drawingml/2006/table">
            <a:tbl>
              <a:tblPr/>
              <a:tblGrid>
                <a:gridCol w="3579840"/>
                <a:gridCol w="3603600"/>
                <a:gridCol w="113184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80000"/>
                          </a:solidFill>
                          <a:latin typeface="Arial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80000"/>
                          </a:solidFill>
                          <a:latin typeface="Arial"/>
                        </a:rPr>
                        <a:t>Ag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8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ote ultrasound-guided internal jugular (IJ) catheterization as the method of choice for CV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 use of subclavian approach to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0001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the neck is limited (e.g.,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uma/code resuscitation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0001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s with suspected neck injur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0001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ck of other available si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Aft>
                          <a:spcPts val="876"/>
                        </a:spcAft>
                        <a:buClr>
                          <a:srgbClr val="cc0001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. Shieh to revise CVC Website Curriculum &amp; Simulation Program to further promote IJ approach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Aft>
                          <a:spcPts val="876"/>
                        </a:spcAft>
                        <a:buClr>
                          <a:srgbClr val="cc0001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s. Maggio, Williams, Mihm &amp; Lee to educate ED, OR &amp; General Surgery.  Drs. Mihm, Riskin and Daniels to educate ICU.  Dr. Shieh to educate B2 &amp; D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Aft>
                          <a:spcPts val="876"/>
                        </a:spcAft>
                        <a:buClr>
                          <a:srgbClr val="cc0001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. Tokareva to develop &amp; distribute educational materials to reinfor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t         Jan 22 &amp; ongo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quire all medical &amp; surgical interns to complete CVC Website Curriculum &amp; Simulation Program during orientation (“Bootcamp” for surgical interns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437"/>
                        </a:spcBef>
                        <a:spcAft>
                          <a:spcPts val="876"/>
                        </a:spcAft>
                        <a:buClr>
                          <a:srgbClr val="cc0001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s. Shieh, Maggio, Williams, Mihm &amp; L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437"/>
                        </a:spcBef>
                        <a:spcAft>
                          <a:spcPts val="876"/>
                        </a:spcAft>
                        <a:buClr>
                          <a:srgbClr val="cc0001"/>
                        </a:buClr>
                        <a:buSzPct val="11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itor quarterly IAP rates for impac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e 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AutoShape 49"/>
          <p:cNvSpPr/>
          <p:nvPr/>
        </p:nvSpPr>
        <p:spPr>
          <a:xfrm>
            <a:off x="533520" y="1219320"/>
            <a:ext cx="7772400" cy="109440"/>
          </a:xfrm>
          <a:prstGeom prst="pie">
            <a:avLst/>
          </a:prstGeom>
          <a:solidFill>
            <a:srgbClr val="5f5f5f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50"/>
          <p:cNvSpPr/>
          <p:nvPr/>
        </p:nvSpPr>
        <p:spPr>
          <a:xfrm>
            <a:off x="438120" y="1467000"/>
            <a:ext cx="8915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AL:  Reduce the rate of iatrogenic pneumothorax (IAP) from central venous catheterization (CVC) by 50% by December 08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609480" y="241200"/>
            <a:ext cx="8067960" cy="6616800"/>
            <a:chOff x="609480" y="241200"/>
            <a:chExt cx="8067960" cy="6616800"/>
          </a:xfrm>
        </p:grpSpPr>
        <p:pic>
          <p:nvPicPr>
            <p:cNvPr id="168" name="Picture 5" descr=""/>
            <p:cNvPicPr/>
            <p:nvPr/>
          </p:nvPicPr>
          <p:blipFill>
            <a:blip r:embed="rId1"/>
            <a:stretch/>
          </p:blipFill>
          <p:spPr>
            <a:xfrm>
              <a:off x="609480" y="380880"/>
              <a:ext cx="3859200" cy="623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6" descr=""/>
            <p:cNvPicPr/>
            <p:nvPr/>
          </p:nvPicPr>
          <p:blipFill>
            <a:blip r:embed="rId2"/>
            <a:srcRect l="0" t="2944" r="0" b="3187"/>
            <a:stretch/>
          </p:blipFill>
          <p:spPr>
            <a:xfrm>
              <a:off x="4648320" y="241200"/>
              <a:ext cx="4029120" cy="6616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itle 1" descr=""/>
          <p:cNvPicPr/>
          <p:nvPr/>
        </p:nvPicPr>
        <p:blipFill>
          <a:blip r:embed="rId1"/>
          <a:stretch/>
        </p:blipFill>
        <p:spPr>
          <a:xfrm>
            <a:off x="682560" y="603360"/>
            <a:ext cx="7778880" cy="1152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Goal-Directed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ion of Appropriate Antimicrobial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 with Hydrocortis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ated Protein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ucose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ng Protective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Rectangle 9" descr=""/>
          <p:cNvPicPr/>
          <p:nvPr/>
        </p:nvPicPr>
        <p:blipFill>
          <a:blip r:embed="rId1"/>
          <a:stretch/>
        </p:blipFill>
        <p:spPr>
          <a:xfrm>
            <a:off x="706320" y="298440"/>
            <a:ext cx="8242560" cy="1195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85280" y="2133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al of 2008 SHC Quality Initiative on Severe Sepsis and Septic Shock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 Reduce hospital mortality by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10%</a:t>
            </a:r>
            <a:r>
              <a:rPr b="1" lang="en-US" sz="2400" spc="-1" strike="noStrike">
                <a:solidFill>
                  <a:srgbClr val="cc0001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rom Jan 08 to Jan 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May 2008: Initial education of ICU Guidelines for Severe Sepsis &amp; Septic Shoc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ecember 2008:Epic order sets revised to reflect changes in guideli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228600" y="228600"/>
            <a:ext cx="8555040" cy="6553080"/>
            <a:chOff x="228600" y="228600"/>
            <a:chExt cx="8555040" cy="6553080"/>
          </a:xfrm>
        </p:grpSpPr>
        <p:pic>
          <p:nvPicPr>
            <p:cNvPr id="175" name="Picture 2" descr=""/>
            <p:cNvPicPr/>
            <p:nvPr/>
          </p:nvPicPr>
          <p:blipFill>
            <a:blip r:embed="rId1"/>
            <a:stretch/>
          </p:blipFill>
          <p:spPr>
            <a:xfrm>
              <a:off x="228600" y="228600"/>
              <a:ext cx="4222800" cy="655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3" descr=""/>
            <p:cNvPicPr/>
            <p:nvPr/>
          </p:nvPicPr>
          <p:blipFill>
            <a:blip r:embed="rId2"/>
            <a:stretch/>
          </p:blipFill>
          <p:spPr>
            <a:xfrm>
              <a:off x="4572000" y="228600"/>
              <a:ext cx="4211640" cy="647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screen shot of order set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ministrative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nanci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nical Inp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oe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search where there is light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ctangle 2" descr=""/>
          <p:cNvPicPr/>
          <p:nvPr/>
        </p:nvPicPr>
        <p:blipFill>
          <a:blip r:embed="rId1"/>
          <a:stretch/>
        </p:blipFill>
        <p:spPr>
          <a:xfrm>
            <a:off x="298440" y="298440"/>
            <a:ext cx="8242200" cy="8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235080" y="5572080"/>
          <a:ext cx="8086680" cy="914400"/>
        </p:xfrm>
        <a:graphic>
          <a:graphicData uri="http://schemas.openxmlformats.org/drawingml/2006/table">
            <a:tbl>
              <a:tblPr/>
              <a:tblGrid>
                <a:gridCol w="808668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IS: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25% of cases received antibiotics within one hour of identification. Appropriate antibiotics were given in nearly all of the cases. In 40% of the cases, antibiotic were given &gt;120 minutes, in 60% antibiotics were given within 64 minutes on averag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: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 process indicators in context of when SS/SS management guideline algorithm started. Map process to determine areas for improvement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18"/>
          <p:cNvSpPr/>
          <p:nvPr/>
        </p:nvSpPr>
        <p:spPr>
          <a:xfrm>
            <a:off x="6172200" y="266688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= 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Object 2"/>
          <p:cNvGraphicFramePr/>
          <p:nvPr/>
        </p:nvGraphicFramePr>
        <p:xfrm>
          <a:off x="4714920" y="1639800"/>
          <a:ext cx="3959280" cy="3932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2" name="Object 2" descr="bar graph of appropriate antibiotic administered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4920" y="1639800"/>
                    <a:ext cx="39592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3"/>
          <p:cNvGraphicFramePr/>
          <p:nvPr/>
        </p:nvGraphicFramePr>
        <p:xfrm>
          <a:off x="235080" y="1639800"/>
          <a:ext cx="4479840" cy="3932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84" name="Object 3" descr="bar graph of antibiotic received within 1 hr of identification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5080" y="1639800"/>
                    <a:ext cx="447984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682560" y="682560"/>
            <a:ext cx="823608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Object 2"/>
          <p:cNvGraphicFramePr/>
          <p:nvPr/>
        </p:nvGraphicFramePr>
        <p:xfrm>
          <a:off x="466560" y="1758960"/>
          <a:ext cx="4172040" cy="381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7" name="Object 2" descr="bar graph of steroids received within 24 hrs for cases whose MAP &lt;65 mm despite adequate fluid resuscitation and vasopressor administration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6560" y="1758960"/>
                    <a:ext cx="417204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709560" y="5781600"/>
          <a:ext cx="7858080" cy="731880"/>
        </p:xfrm>
        <a:graphic>
          <a:graphicData uri="http://schemas.openxmlformats.org/drawingml/2006/table">
            <a:tbl>
              <a:tblPr/>
              <a:tblGrid>
                <a:gridCol w="7858080"/>
              </a:tblGrid>
              <a:tr h="365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LYSIS: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or compliance in ordering steroids for cases failing therapy. Steroids were given only 25% of the time.  Glucose control was reached in 65% of the cases. Of the 35% of cases with  BG &gt; 150,  mean BG  was 176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:  Educate physicians  to document rationale for not giving steroids in next quarterly audit.  Work with ICU team, nursing groups to determine root causes for elevated BG&gt;150 after 24 hr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18"/>
          <p:cNvSpPr/>
          <p:nvPr/>
        </p:nvSpPr>
        <p:spPr>
          <a:xfrm>
            <a:off x="1981080" y="28195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=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3"/>
          <p:cNvGraphicFramePr/>
          <p:nvPr/>
        </p:nvGraphicFramePr>
        <p:xfrm>
          <a:off x="4638600" y="1754280"/>
          <a:ext cx="4133880" cy="3824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91" name="Object 3" descr="bar graph of blood glucose &lt; 150 mg/dl within 24 hrs of ICU admission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38600" y="1754280"/>
                    <a:ext cx="4133880" cy="38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" descr="surgery"/>
          <p:cNvPicPr/>
          <p:nvPr/>
        </p:nvPicPr>
        <p:blipFill>
          <a:blip r:embed="rId1"/>
          <a:stretch/>
        </p:blipFill>
        <p:spPr>
          <a:xfrm>
            <a:off x="4498920" y="3279600"/>
            <a:ext cx="4469040" cy="3402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building with water fountain in front"/>
          <p:cNvPicPr/>
          <p:nvPr/>
        </p:nvPicPr>
        <p:blipFill>
          <a:blip r:embed="rId2"/>
          <a:stretch/>
        </p:blipFill>
        <p:spPr>
          <a:xfrm>
            <a:off x="228600" y="304920"/>
            <a:ext cx="4343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5" name="Picture 2" descr="Deparmental Quality Structure article"/>
          <p:cNvPicPr/>
          <p:nvPr/>
        </p:nvPicPr>
        <p:blipFill>
          <a:blip r:embed="rId1"/>
          <a:stretch/>
        </p:blipFill>
        <p:spPr>
          <a:xfrm>
            <a:off x="60948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2" descr="standford hospital and clinics headline"/>
          <p:cNvPicPr/>
          <p:nvPr/>
        </p:nvPicPr>
        <p:blipFill>
          <a:blip r:embed="rId1"/>
          <a:stretch/>
        </p:blipFill>
        <p:spPr>
          <a:xfrm>
            <a:off x="533520" y="457200"/>
            <a:ext cx="7981920" cy="1419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Specific responsibilities clipping"/>
          <p:cNvPicPr/>
          <p:nvPr/>
        </p:nvPicPr>
        <p:blipFill>
          <a:blip r:embed="rId2"/>
          <a:stretch/>
        </p:blipFill>
        <p:spPr>
          <a:xfrm>
            <a:off x="533520" y="2133720"/>
            <a:ext cx="822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PEC: Accountable Outco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Picture 2" descr="accountable outcomes"/>
          <p:cNvPicPr/>
          <p:nvPr/>
        </p:nvPicPr>
        <p:blipFill>
          <a:blip r:embed="rId1"/>
          <a:stretch/>
        </p:blipFill>
        <p:spPr>
          <a:xfrm>
            <a:off x="700200" y="2362320"/>
            <a:ext cx="774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PEC: Accountable Outcom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2" name="Picture 2" descr="accountable outcomes SCIP"/>
          <p:cNvPicPr/>
          <p:nvPr/>
        </p:nvPicPr>
        <p:blipFill>
          <a:blip r:embed="rId1"/>
          <a:stretch/>
        </p:blipFill>
        <p:spPr>
          <a:xfrm>
            <a:off x="709560" y="2133720"/>
            <a:ext cx="7724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PEC: Accountable Outcom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2" descr="accountable outcomes PSIs"/>
          <p:cNvPicPr/>
          <p:nvPr/>
        </p:nvPicPr>
        <p:blipFill>
          <a:blip r:embed="rId1"/>
          <a:stretch/>
        </p:blipFill>
        <p:spPr>
          <a:xfrm>
            <a:off x="762120" y="2090880"/>
            <a:ext cx="81198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se of PSI in PPEC: Post-op Hemato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380880" y="2381400"/>
            <a:ext cx="8305920" cy="4095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Event data"/>
          <p:cNvPicPr/>
          <p:nvPr/>
        </p:nvPicPr>
        <p:blipFill>
          <a:blip r:embed="rId2"/>
          <a:stretch/>
        </p:blipFill>
        <p:spPr>
          <a:xfrm>
            <a:off x="1066680" y="2971800"/>
            <a:ext cx="716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se of PSI in PPEC: Accidental Puncture or Lac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381880" cy="4114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event data"/>
          <p:cNvPicPr/>
          <p:nvPr/>
        </p:nvPicPr>
        <p:blipFill>
          <a:blip r:embed="rId2"/>
          <a:stretch/>
        </p:blipFill>
        <p:spPr>
          <a:xfrm>
            <a:off x="838080" y="2514600"/>
            <a:ext cx="7467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ministrative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ist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nchma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ioriti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ari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ersistent Pursuit of Excell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dicated Monthly Grand Rounds on 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SQIP based Morbidity and Mortality Con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dent Award for Quality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el Quality Improvement/Patient Safety Resident Curricul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cumentation Improvement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er 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gery Quality Counc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ty Initiatives: DVT, Sepsis, Iatrogenic Pneumothorax,Vent &gt;48 hours, Colo-rectal Wound Inf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nding 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 Check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watching you illustration"/>
          <p:cNvPicPr/>
          <p:nvPr/>
        </p:nvPicPr>
        <p:blipFill>
          <a:blip r:embed="rId1"/>
          <a:stretch/>
        </p:blipFill>
        <p:spPr>
          <a:xfrm>
            <a:off x="3276720" y="1371600"/>
            <a:ext cx="2793960" cy="41148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AWTHORNE EFFE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ational PSI Rat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ton 2009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838080" y="1905120"/>
          <a:ext cx="693432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Object 2" descr="diagram of PSI rate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69343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Box 3"/>
          <p:cNvSpPr/>
          <p:nvPr/>
        </p:nvSpPr>
        <p:spPr>
          <a:xfrm>
            <a:off x="501012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4934520" y="2971800"/>
            <a:ext cx="270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ubit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p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top Res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/DV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Times New Roman"/>
              </a:rPr>
              <a:t>Clinical Outcomes Report:  Product Line Mortality Comparison</a:t>
            </a:r>
            <a:br>
              <a:rPr sz="1700"/>
            </a:br>
            <a:r>
              <a:rPr b="0" lang="en-US" sz="1700" spc="-1" strike="noStrike">
                <a:solidFill>
                  <a:srgbClr val="ffff00"/>
                </a:solidFill>
                <a:latin typeface="Times New Roman"/>
              </a:rPr>
              <a:t>October 2006 – September 2007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1" name="Picture 3" descr="bar graph of surgical deaths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776880" y="838080"/>
            <a:ext cx="62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5 Surgical Deaths, Dept of Surgery 71, 2.1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F=110, Oakland=1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0" y="2666880"/>
            <a:ext cx="4191120" cy="53352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228600" y="4419720"/>
            <a:ext cx="3962520" cy="228600"/>
          </a:xfrm>
          <a:prstGeom prst="roundRect">
            <a:avLst>
              <a:gd name="adj" fmla="val 16667"/>
            </a:avLst>
          </a:prstGeom>
          <a:solidFill>
            <a:srgbClr val="ff9900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80880" y="4952880"/>
            <a:ext cx="3810240" cy="914400"/>
          </a:xfrm>
          <a:prstGeom prst="roundRect">
            <a:avLst>
              <a:gd name="adj" fmla="val 16667"/>
            </a:avLst>
          </a:prstGeom>
          <a:solidFill>
            <a:srgbClr val="ff9900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762120" y="617220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5029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eneral Surger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8" name="Object 2"/>
          <p:cNvGraphicFramePr/>
          <p:nvPr/>
        </p:nvGraphicFramePr>
        <p:xfrm>
          <a:off x="380880" y="914400"/>
          <a:ext cx="8429760" cy="468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Object 2" descr="bar graph of UHC mortality index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4297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914400" y="5791320"/>
          <a:ext cx="7772400" cy="1074600"/>
        </p:xfrm>
        <a:graphic>
          <a:graphicData uri="http://schemas.openxmlformats.org/drawingml/2006/table">
            <a:tbl>
              <a:tblPr/>
              <a:tblGrid>
                <a:gridCol w="3112920"/>
                <a:gridCol w="1070280"/>
                <a:gridCol w="1366560"/>
                <a:gridCol w="2222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July 2007 to June 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General Surgery UHC Rank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0/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4/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/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Stanford UHC Rank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40/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30/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26/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PalmDrive"/>
          <p:cNvPicPr/>
          <p:nvPr/>
        </p:nvPicPr>
        <p:blipFill>
          <a:blip r:embed="rId1"/>
          <a:stretch/>
        </p:blipFill>
        <p:spPr>
          <a:xfrm>
            <a:off x="457200" y="68580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partment of Surgery Quality Plan Pre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erative from SHC Bo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eas of F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2" descr="news clippings"/>
          <p:cNvPicPr/>
          <p:nvPr/>
        </p:nvPicPr>
        <p:blipFill>
          <a:blip r:embed="rId1"/>
          <a:stretch/>
        </p:blipFill>
        <p:spPr>
          <a:xfrm>
            <a:off x="685800" y="2610000"/>
            <a:ext cx="7772400" cy="285732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33520" y="685800"/>
            <a:ext cx="7972200" cy="5581800"/>
            <a:chOff x="533520" y="685800"/>
            <a:chExt cx="7972200" cy="5581800"/>
          </a:xfrm>
        </p:grpSpPr>
        <p:pic>
          <p:nvPicPr>
            <p:cNvPr id="107" name="Picture 3" descr=""/>
            <p:cNvPicPr/>
            <p:nvPr/>
          </p:nvPicPr>
          <p:blipFill>
            <a:blip r:embed="rId2"/>
            <a:stretch/>
          </p:blipFill>
          <p:spPr>
            <a:xfrm>
              <a:off x="533520" y="685800"/>
              <a:ext cx="79722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" descr=""/>
            <p:cNvPicPr/>
            <p:nvPr/>
          </p:nvPicPr>
          <p:blipFill>
            <a:blip r:embed="rId3"/>
            <a:stretch/>
          </p:blipFill>
          <p:spPr>
            <a:xfrm>
              <a:off x="2438280" y="5943600"/>
              <a:ext cx="421956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screen shot of UHC"/>
          <p:cNvPicPr/>
          <p:nvPr/>
        </p:nvPicPr>
        <p:blipFill>
          <a:blip r:embed="rId1"/>
          <a:stretch/>
        </p:blipFill>
        <p:spPr>
          <a:xfrm>
            <a:off x="304920" y="76320"/>
            <a:ext cx="8534160" cy="64767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981240" y="72540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G Drill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4267080" y="2743200"/>
            <a:ext cx="4648320" cy="914400"/>
          </a:xfrm>
          <a:prstGeom prst="roundRect">
            <a:avLst>
              <a:gd name="adj" fmla="val 16667"/>
            </a:avLst>
          </a:prstGeom>
          <a:solidFill>
            <a:srgbClr val="ffff00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595120" y="594360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NCHMA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380880" y="4572000"/>
            <a:ext cx="595440" cy="152280"/>
          </a:xfrm>
          <a:prstGeom prst="rightArrow">
            <a:avLst>
              <a:gd name="adj1" fmla="val 50000"/>
              <a:gd name="adj2" fmla="val 977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0" y="1066680"/>
            <a:ext cx="3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toshiba_ct_scanner"/>
          <p:cNvPicPr/>
          <p:nvPr/>
        </p:nvPicPr>
        <p:blipFill>
          <a:blip r:embed="rId1"/>
          <a:stretch/>
        </p:blipFill>
        <p:spPr>
          <a:xfrm>
            <a:off x="1752480" y="1676520"/>
            <a:ext cx="6000840" cy="41781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SIs: Quality Diagnostic To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diagram for 2007 Quality Improvement and Patient Safety Scorecard"/>
          <p:cNvPicPr/>
          <p:nvPr/>
        </p:nvPicPr>
        <p:blipFill>
          <a:blip r:embed="rId1"/>
          <a:stretch/>
        </p:blipFill>
        <p:spPr>
          <a:xfrm>
            <a:off x="685800" y="228600"/>
            <a:ext cx="8116920" cy="640080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4"/>
          <p:cNvSpPr/>
          <p:nvPr/>
        </p:nvSpPr>
        <p:spPr>
          <a:xfrm>
            <a:off x="838080" y="4952880"/>
            <a:ext cx="2514600" cy="838440"/>
          </a:xfrm>
          <a:prstGeom prst="roundRect">
            <a:avLst>
              <a:gd name="adj" fmla="val 16667"/>
            </a:avLst>
          </a:prstGeom>
          <a:solidFill>
            <a:srgbClr val="ff9900">
              <a:alpha val="2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22:22:57Z</dcterms:created>
  <dc:creator>john morton</dc:creator>
  <dc:description/>
  <dc:language>en-US</dc:language>
  <cp:lastModifiedBy>Chettra.Chhiet</cp:lastModifiedBy>
  <dcterms:modified xsi:type="dcterms:W3CDTF">2009-12-04T13:52:14Z</dcterms:modified>
  <cp:revision>439</cp:revision>
  <dc:subject/>
  <dc:title>PowerPoint Presentation</dc:title>
</cp:coreProperties>
</file>