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1.jpeg" ContentType="image/jpeg"/>
  <Override PartName="/ppt/media/image19.png" ContentType="image/png"/>
  <Override PartName="/ppt/media/image28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7.wmf" ContentType="image/x-wmf"/>
  <Override PartName="/ppt/media/image11.jpeg" ContentType="image/jpeg"/>
  <Override PartName="/ppt/media/image29.jpeg" ContentType="image/jpeg"/>
  <Override PartName="/ppt/media/image10.jpeg" ContentType="image/jpeg"/>
  <Override PartName="/ppt/media/image13.wmf" ContentType="image/x-wmf"/>
  <Override PartName="/ppt/media/image9.wmf" ContentType="image/x-wmf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3.png" ContentType="image/png"/>
  <Override PartName="/ppt/media/image3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7F0-42A4-4434-B164-ABB94C92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44E-C61C-46F2-A66F-90C29B11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499-6DCB-451D-B00B-AE2798BF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AD1C-9ACC-4723-9796-BE8B3B91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2F2-FF17-40FC-9231-AC5B70C52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CCF-4843-4644-ADF1-27F26EDC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952-2CBA-4D1F-A811-9D860AC4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257C-7A0F-4DE0-8235-83BA0EE8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3C6-B119-4BAE-9A59-A85D9C8B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FDF9-C363-4A0C-A172-440D699F9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4724-A6B2-48BC-8C2F-7D890EE3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FE1-5D3A-4772-A9B8-3370FE79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44E-E590-4DD2-B74E-D29E5B82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5870-71BA-49D6-96DA-F9CA25F6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A90-280C-4C30-A477-69320288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4638-F48E-46CA-9FB7-5117F4E8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5E4-7906-42A6-9DCA-B9C86CD3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2BF-F1F2-409E-A3C2-27CB04E7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9F3-3E0A-4494-8F4B-B9F0FB33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DDC-106D-445F-8AF1-31E3C69C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47F1B-F5F0-41F5-9FC2-C6D01BD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5A610-ED61-4743-93F2-8ABAD8BF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F52E1-F0E9-4973-9B7F-1851C51F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036CC-3068-448B-BD55-384EE9D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8C617-4A00-4218-B4CC-B7D37B0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FE951-B34E-42D4-9C14-541058C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4040F-C6C8-46E3-A5B5-7661009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DF26-F02B-4AAF-916C-408B0C03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1D90-EDC0-4FEB-B39F-6009E3FD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D59B1-0CDF-4AC8-86BB-170AD699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5A5-0AF5-4E8E-947E-458D2F84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62E01-B3B8-4FD3-ACBF-46E4BE27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BA9D-D964-4930-876D-5F3B4B68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A66ED-5502-46E8-A669-4EC1CA3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17B1-D2CF-4315-A6DF-821D1440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D3739-B9F3-415C-AFBD-C6EB9B6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EE930-1341-4549-B594-74628A1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D1CE-340B-4146-8B70-578F823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6510-0E8F-4259-93D2-A394593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54EC9-FAD4-42CF-A3E1-59D5DAA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FCF49-C968-4602-B51B-A3988991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DC6-134B-4306-AF89-2B842724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05ACF-FE3E-4842-AEAA-0D5A37D9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BCE4-E802-4834-AF74-BF390537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9F0FD-9B8A-462B-AB45-1D85A4C2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2254E-1761-4B23-A1DA-8BFF9C10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B7C1A-0CDF-4C2E-8434-786B65E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F860-680B-48ED-9ADE-45076C2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CB243-8C4E-4196-94BF-10E02EF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74D2-CFF9-4D9C-B7D5-1FF7707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89C8B-78BF-4879-ACD7-B068E48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28F4-D832-4353-9361-28EAC0E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C037-0103-4767-8786-CCFE3C58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F2E5-81C0-4729-AD36-6DC68D4F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8C088-5160-4FA3-9ADA-9DFCFDE8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1440-2540-419A-965D-5A055ABA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C96BE-E08F-4508-867A-272EF93A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E8598-95FF-41F5-AE06-D9116ABA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2E02A-6070-4F71-B307-3214675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B039B-5B47-450E-882E-05F41CA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FEE8E-FFD8-48C2-A920-47A974D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9BB29-07F8-4AEB-931D-4CE0A3A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A891B-ECA6-4BB2-8C91-2D71357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14F-D654-4154-A0C6-3A2D115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F9877-CC1B-4E42-B222-F23A07C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B3924-0FC4-41F5-BA01-FF43B59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E63EB-F466-4A20-919F-A85D8E0D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561F8-5B61-43B6-98BB-D258EC2A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82658-43B8-471A-BEB5-40A532C1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CA2-0B16-453D-B64B-E641DD3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0043-C3A7-47E7-8876-F5FAE4E7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027-5B4F-47B8-94A8-F01FE1E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E726-11E2-40AE-A1BC-5A65F95B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6E75-4FF3-4B22-BB16-AAB019F8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C3D-AC63-4C15-9335-04D75B9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1811-1D07-4070-AF81-63657B3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6DDF-2D2B-45C9-B55B-525D7DD5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C62-3384-479A-BC2B-26BB2EBC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5088-964E-49F3-9F6C-D1FB1E61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801-ED37-4B39-8229-A2C55B6C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25B1-D69C-4C11-BB71-7FFF19B8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ADC0-CBD5-4486-8C56-123A6116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BA42-C648-4446-A70B-C0203C73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095A-7876-441F-AD87-710FF56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0A14-8AE3-4F77-A0CB-89F4836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E20-3BCD-473E-90FC-284ED9F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B5EDC-747F-4D01-A7BB-E18171D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AF93-6CA9-41FD-9E95-E4928DD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1B8F-840B-4C4F-8D26-2E7B449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004A-C625-4509-8693-A53A4713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65ED-A4B8-41D6-A84F-AC46F91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F977-6B7A-4A77-A10C-57050641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0A44-FDAC-4424-AB6E-F03349CB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E4C3-5B16-423C-8CB7-601B3A98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5B54-F68E-4A95-A9E1-D32225B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088F-95CE-4298-9A63-A07E9A94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E02-DBA6-4E60-9CD4-E63C6E7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05DD-872D-497F-B424-5585015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A0E7-2F23-4AA2-8228-C5CAFD99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6E10-756A-4AAF-8B78-BFEF1BB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0366-87CD-45A0-B17D-EB6053A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4174-9566-4638-8435-C05F824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6AD5-0062-4EE7-9171-4C29CC8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33F8-EFBD-4C24-B99D-EE54B37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4DEE-6065-44B8-A071-712F5DF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3AC9-F22B-4757-9DB0-E7F792A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0BFA-BD7B-4E54-AB9E-DF27D2F5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20E-5FDA-4812-B7E8-F51F706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34D5-3A8D-4B44-BB01-99EF75BF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96DB-2964-434F-9AF0-38F83687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35AE-CD96-4CCA-9507-634AED9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1790-8E2F-40E8-80F4-B3081B5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F792-6171-4DED-B248-8FC90DE5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18DB-6B0F-4B66-A440-A108343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9ADC-A780-4014-B8EA-5071457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0F0A-AC63-435D-884A-FADF5F7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14D7-E52E-4B3A-874F-5938A55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7A34-8773-4AC9-97E7-C5232C9B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81A-4626-40DB-9964-F339EB6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C05C-FEBB-4329-9348-D1AEB994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E386-E3E2-4D37-8554-3BBF4B4E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08EA-1BA7-4BF6-B39C-96B862B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1099-1695-427A-8495-9DB633B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D357-B535-4D89-9F2F-8CCD22E6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F8E1-BBF5-435C-8F17-A9104C6A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FF88-6222-4747-AF28-9F17C87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5ECC-3784-470B-A425-BF6E51D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500D-6854-4861-AC8A-51AFC56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674B-5E1B-4957-AA21-F18CC49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83C-99BB-4B64-81B6-EDC3C61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8B7C-1E0D-4E95-BBB9-C7F17D89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476B2-2660-4DA7-A3B6-ED58071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10DE-3C66-4AB6-BDEE-2E28C7D4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BB34-1A69-4B50-9CD6-5F502769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471E-1CE5-41B5-A22F-FB0C34EA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E470-8979-4EF7-892D-665114A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F95C-B222-4B41-94ED-EDF1250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1A599-EEE0-48D1-8B16-945E033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157B4-AEB6-4DA8-9B8B-659CF548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F01B-E996-4152-8200-8AF6E95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2D1-C8FC-42E3-9A5E-F1652AD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EF483-7D4D-4337-8D21-57ABB4E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F03E-FF2B-4ED3-9B83-60BEC5B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1C2E-4A9D-4AA8-84B1-0D0D7D67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95E6C-07C1-450A-B8BC-0ADC7009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E56E-B154-427A-BFC1-F30A4D6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F076-4E28-41A9-929C-3520BEC6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8C136-23C1-4123-AA3E-B54AFDAC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C55F-1D0F-4FD7-A4A7-FFB5FE9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5F04-C1E2-4049-A8CD-DA21DA9F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BE64-AF9E-4DC6-8D81-8F30C3A7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2CC-DB80-4C8E-A006-4BFCA44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A3CAD-AF9E-4A92-A066-35E643A4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B6E6-4F92-4EEF-B690-8B1FC2D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2D28-8A45-435F-8FD1-70E4A13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A07A-E876-444B-8942-8DC08E7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76EB0-A109-4C1F-8D75-7160167A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B0ED7-F302-4787-9848-B8E42CCB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39ED-992D-4693-9F31-CAA06FDC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7C154-8E7C-4AE4-BDF4-6D45172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EF9AE-3BC2-4DCB-876D-0EF42CB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E7BE9-192E-4CE2-807E-D4C81FB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C9BE-3E18-4F0A-BBBD-F9E6737131F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pyright: Chilmark Researc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C079-27B4-43D3-ABC9-0586B4DDC9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0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0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7A77-75FF-48E4-92DD-EC0EF30FEA3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F15-A904-4610-BD94-EA7EB8EAC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5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5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380-2B97-421C-8748-99AE935B785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0A6-8C46-468F-9721-06F756AE15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9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9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22A-FA62-402F-94BF-1FC72E636FE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552-B70D-454C-A467-FCF712EAED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E05-EADD-4C55-9CEB-80F055CCA3C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A64-AE48-4871-B73C-5A146C5419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9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97B7-B78D-4AFE-ADDE-04670A8F1F1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9EA-D685-496F-8D47-1F3E7729B9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3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3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C50B-7892-49B7-AC4F-EAF56AAC592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2FC-4BD4-4BBD-9A8A-0D233B6467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8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8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29BD-FCEB-4CFA-B964-E7E81F1129E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4D8D-1CC0-4D22-9808-2B4DFF9DE6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22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D9D-252D-4163-85B6-9292C980C55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0DE-55EF-4B5A-BC9F-A6DFA6FB9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27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7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F8E0-0BA7-4155-A202-E7159FA1D6F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B79-DA6F-4CAF-8589-3F9BABCCDD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31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2D1-8B68-437E-A752-F0699E9E5D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C275-5C95-4D92-B11F-1097F45BB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36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6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DE2-1E1E-4D7B-80A0-BFD8CAAE90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755-C09D-4E41-AC33-0430E085E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hn@ChilmarkResearch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25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AB0-63C3-4892-9974-5A3360DECF4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03BE-2124-43E2-99D8-A4ACC8281C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00412"/>
                </a:solidFill>
                <a:uFillTx/>
                <a:latin typeface="Verdana"/>
              </a:rPr>
              <a:t>PHRs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br>
              <a:rPr sz="1400"/>
            </a:b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Where We’ve Been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Where We’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: John Moore, Managing Partn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dobe Caslon Pro SmBd"/>
                <a:hlinkClick r:id="rId1"/>
              </a:rPr>
              <a:t>John@ChilmarkResearch.com</a:t>
            </a:r>
            <a:r>
              <a:rPr b="0" i="1" lang="en-US" sz="1800" spc="-1" strike="noStrike">
                <a:solidFill>
                  <a:srgbClr val="000000"/>
                </a:solidFill>
                <a:latin typeface="Adobe Caslon Pro SmBd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5CD-BCE4-470E-B29E-9F07803115BE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03A-B38C-42D5-A26B-BC65E463BC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 Clouds” on the Horiz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8" name="Group 1092"/>
          <p:cNvGrpSpPr/>
          <p:nvPr/>
        </p:nvGrpSpPr>
        <p:grpSpPr>
          <a:xfrm>
            <a:off x="792000" y="1371600"/>
            <a:ext cx="7437240" cy="2700000"/>
            <a:chOff x="792000" y="1371600"/>
            <a:chExt cx="7437240" cy="2700000"/>
          </a:xfrm>
        </p:grpSpPr>
        <p:grpSp>
          <p:nvGrpSpPr>
            <p:cNvPr id="619" name="Group 1066"/>
            <p:cNvGrpSpPr/>
            <p:nvPr/>
          </p:nvGrpSpPr>
          <p:grpSpPr>
            <a:xfrm>
              <a:off x="792000" y="1371600"/>
              <a:ext cx="1791000" cy="2700000"/>
              <a:chOff x="792000" y="1371600"/>
              <a:chExt cx="1791000" cy="2700000"/>
            </a:xfrm>
          </p:grpSpPr>
          <p:pic>
            <p:nvPicPr>
              <p:cNvPr id="620" name="Picture 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1846080" y="1371600"/>
                <a:ext cx="71964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Picture 1068" descr=""/>
              <p:cNvPicPr/>
              <p:nvPr/>
            </p:nvPicPr>
            <p:blipFill>
              <a:blip r:embed="rId2"/>
              <a:stretch/>
            </p:blipFill>
            <p:spPr>
              <a:xfrm>
                <a:off x="1818720" y="2301120"/>
                <a:ext cx="764280" cy="70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Picture 1069" descr="filecab1"/>
              <p:cNvPicPr/>
              <p:nvPr/>
            </p:nvPicPr>
            <p:blipFill>
              <a:blip r:embed="rId3"/>
              <a:stretch/>
            </p:blipFill>
            <p:spPr>
              <a:xfrm>
                <a:off x="1365840" y="1671120"/>
                <a:ext cx="682560" cy="69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Picture 1070" descr="eRx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2862720"/>
                <a:ext cx="84096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4" name="Group 1071"/>
              <p:cNvGrpSpPr/>
              <p:nvPr/>
            </p:nvGrpSpPr>
            <p:grpSpPr>
              <a:xfrm>
                <a:off x="1674000" y="3274560"/>
                <a:ext cx="900720" cy="797040"/>
                <a:chOff x="1674000" y="3274560"/>
                <a:chExt cx="900720" cy="797040"/>
              </a:xfrm>
            </p:grpSpPr>
            <p:pic>
              <p:nvPicPr>
                <p:cNvPr id="625" name="Picture 8" descr="Forerunner 305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29880" y="3274560"/>
                  <a:ext cx="58536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2" descr="New Abacus Microsoft SPOT Watches Announced New SPOT Watches Wristwatch Watch Wristwatch Watches Wristwatches timepiece watch clock wrist Future Tech wrist watch geek wrist watch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74000" y="3526560"/>
                  <a:ext cx="326880" cy="44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257" descr="780N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103120" y="3621600"/>
                  <a:ext cx="471600" cy="45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8" name="Text Box 1075"/>
              <p:cNvSpPr/>
              <p:nvPr/>
            </p:nvSpPr>
            <p:spPr>
              <a:xfrm rot="18604800">
                <a:off x="617400" y="2361240"/>
                <a:ext cx="1704240" cy="337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a Sources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29" name="Group 1076"/>
            <p:cNvGrpSpPr/>
            <p:nvPr/>
          </p:nvGrpSpPr>
          <p:grpSpPr>
            <a:xfrm>
              <a:off x="4028400" y="1603440"/>
              <a:ext cx="1569960" cy="2085120"/>
              <a:chOff x="4028400" y="1603440"/>
              <a:chExt cx="1569960" cy="2085120"/>
            </a:xfrm>
          </p:grpSpPr>
          <p:grpSp>
            <p:nvGrpSpPr>
              <p:cNvPr id="630" name="Group 1077"/>
              <p:cNvGrpSpPr/>
              <p:nvPr/>
            </p:nvGrpSpPr>
            <p:grpSpPr>
              <a:xfrm>
                <a:off x="4176000" y="1603440"/>
                <a:ext cx="1356120" cy="1611720"/>
                <a:chOff x="4176000" y="1603440"/>
                <a:chExt cx="1356120" cy="1611720"/>
              </a:xfrm>
            </p:grpSpPr>
            <p:pic>
              <p:nvPicPr>
                <p:cNvPr id="631" name="Picture 107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76000" y="2096280"/>
                  <a:ext cx="1032480" cy="111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1079" descr="typewrit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67920" y="1603440"/>
                  <a:ext cx="664200" cy="67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3" name="Text Box 1080"/>
              <p:cNvSpPr/>
              <p:nvPr/>
            </p:nvSpPr>
            <p:spPr>
              <a:xfrm rot="21572400">
                <a:off x="4030560" y="3101400"/>
                <a:ext cx="1565280" cy="580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cure Repository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34" name="Group 1081"/>
            <p:cNvGrpSpPr/>
            <p:nvPr/>
          </p:nvGrpSpPr>
          <p:grpSpPr>
            <a:xfrm>
              <a:off x="6696000" y="1765800"/>
              <a:ext cx="1533240" cy="1495800"/>
              <a:chOff x="6696000" y="1765800"/>
              <a:chExt cx="1533240" cy="1495800"/>
            </a:xfrm>
          </p:grpSpPr>
          <p:pic>
            <p:nvPicPr>
              <p:cNvPr id="635" name="Picture 1082" descr="SWapps"/>
              <p:cNvPicPr/>
              <p:nvPr/>
            </p:nvPicPr>
            <p:blipFill>
              <a:blip r:embed="rId10"/>
              <a:stretch/>
            </p:blipFill>
            <p:spPr>
              <a:xfrm>
                <a:off x="6696000" y="1787400"/>
                <a:ext cx="759240" cy="66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1083" descr="SWapps"/>
              <p:cNvPicPr/>
              <p:nvPr/>
            </p:nvPicPr>
            <p:blipFill>
              <a:blip r:embed="rId11"/>
              <a:stretch/>
            </p:blipFill>
            <p:spPr>
              <a:xfrm>
                <a:off x="6850440" y="194868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Picture 1084" descr="SWapps"/>
              <p:cNvPicPr/>
              <p:nvPr/>
            </p:nvPicPr>
            <p:blipFill>
              <a:blip r:embed="rId12"/>
              <a:stretch/>
            </p:blipFill>
            <p:spPr>
              <a:xfrm>
                <a:off x="7005600" y="210996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Picture 1085" descr="SWapps"/>
              <p:cNvPicPr/>
              <p:nvPr/>
            </p:nvPicPr>
            <p:blipFill>
              <a:blip r:embed="rId13"/>
              <a:stretch/>
            </p:blipFill>
            <p:spPr>
              <a:xfrm>
                <a:off x="7160040" y="2271600"/>
                <a:ext cx="759240" cy="66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Picture 1086" descr="SWapps"/>
              <p:cNvPicPr/>
              <p:nvPr/>
            </p:nvPicPr>
            <p:blipFill>
              <a:blip r:embed="rId14"/>
              <a:stretch/>
            </p:blipFill>
            <p:spPr>
              <a:xfrm>
                <a:off x="7314840" y="243288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Picture 1087" descr="SWapps"/>
              <p:cNvPicPr/>
              <p:nvPr/>
            </p:nvPicPr>
            <p:blipFill>
              <a:blip r:embed="rId15"/>
              <a:stretch/>
            </p:blipFill>
            <p:spPr>
              <a:xfrm>
                <a:off x="7470000" y="259416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088"/>
              <p:cNvSpPr/>
              <p:nvPr/>
            </p:nvSpPr>
            <p:spPr>
              <a:xfrm rot="18486600">
                <a:off x="6630480" y="2299680"/>
                <a:ext cx="1521720" cy="337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42" name="AutoShape 1089"/>
            <p:cNvSpPr/>
            <p:nvPr/>
          </p:nvSpPr>
          <p:spPr>
            <a:xfrm>
              <a:off x="2743200" y="2286000"/>
              <a:ext cx="1116000" cy="757080"/>
            </a:xfrm>
            <a:prstGeom prst="rightArrow">
              <a:avLst>
                <a:gd name="adj1" fmla="val 50000"/>
                <a:gd name="adj2" fmla="val 3685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efe5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AutoShape 1090"/>
            <p:cNvSpPr/>
            <p:nvPr/>
          </p:nvSpPr>
          <p:spPr>
            <a:xfrm>
              <a:off x="5510160" y="2305080"/>
              <a:ext cx="1150920" cy="714240"/>
            </a:xfrm>
            <a:prstGeom prst="leftRightArrow">
              <a:avLst>
                <a:gd name="adj1" fmla="val 56130"/>
                <a:gd name="adj2" fmla="val 3227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44" name="Group 1096"/>
          <p:cNvGrpSpPr/>
          <p:nvPr/>
        </p:nvGrpSpPr>
        <p:grpSpPr>
          <a:xfrm>
            <a:off x="3962520" y="1295280"/>
            <a:ext cx="4724280" cy="2882880"/>
            <a:chOff x="3962520" y="1295280"/>
            <a:chExt cx="4724280" cy="2882880"/>
          </a:xfrm>
        </p:grpSpPr>
        <p:pic>
          <p:nvPicPr>
            <p:cNvPr id="645" name="Picture 1091" descr="cloud-computing"/>
            <p:cNvPicPr/>
            <p:nvPr/>
          </p:nvPicPr>
          <p:blipFill>
            <a:blip r:embed="rId16"/>
            <a:stretch/>
          </p:blipFill>
          <p:spPr>
            <a:xfrm>
              <a:off x="3962520" y="1295280"/>
              <a:ext cx="47242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93" descr=" ghealth"/>
            <p:cNvPicPr/>
            <p:nvPr/>
          </p:nvPicPr>
          <p:blipFill>
            <a:blip r:embed="rId17"/>
            <a:stretch/>
          </p:blipFill>
          <p:spPr>
            <a:xfrm>
              <a:off x="4495680" y="1752480"/>
              <a:ext cx="11430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1094" descr="HVlogo"/>
            <p:cNvPicPr/>
            <p:nvPr/>
          </p:nvPicPr>
          <p:blipFill>
            <a:blip r:embed="rId18"/>
            <a:srcRect l="-964" t="27387" r="0" b="32955"/>
            <a:stretch/>
          </p:blipFill>
          <p:spPr>
            <a:xfrm>
              <a:off x="6705720" y="1600200"/>
              <a:ext cx="13716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095" descr="dossialogo"/>
            <p:cNvPicPr/>
            <p:nvPr/>
          </p:nvPicPr>
          <p:blipFill>
            <a:blip r:embed="rId19"/>
            <a:stretch/>
          </p:blipFill>
          <p:spPr>
            <a:xfrm>
              <a:off x="5562720" y="3429000"/>
              <a:ext cx="761760" cy="412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49" name=""/>
          <p:cNvGraphicFramePr/>
          <p:nvPr/>
        </p:nvGraphicFramePr>
        <p:xfrm>
          <a:off x="0" y="4118040"/>
          <a:ext cx="9144000" cy="2743200"/>
        </p:xfrm>
        <a:graphic>
          <a:graphicData uri="http://schemas.openxmlformats.org/drawingml/2006/table">
            <a:tbl>
              <a:tblPr/>
              <a:tblGrid>
                <a:gridCol w="2130480"/>
                <a:gridCol w="1751040"/>
                <a:gridCol w="526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trib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nt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 Source(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rtually any pertinent data sour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ong consumer control of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oper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option of Open Systems and standar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under develop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ry Go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ltiple tools/widgets, communications??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ther down the ro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o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ived valu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2C01-D4EA-4502-8803-CA2BDA1D317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D70B-C4A0-4E05-A445-2FAC7B1F71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 is Mobile!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790960" y="1371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losive Growth in U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 1B AppStore Downlo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hone Rep. 0.7% of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et Traf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ver 30K App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ly 1.5K are Health Foc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very Major Mobile OS Now has App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00412"/>
                </a:solidFill>
                <a:latin typeface="Verdana"/>
              </a:rPr>
              <a:t>And Still Only mHealth1.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5" name="Picture 4" descr=" iTunes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447920"/>
            <a:ext cx="5715000" cy="447516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8"/>
          <p:cNvGrpSpPr/>
          <p:nvPr/>
        </p:nvGrpSpPr>
        <p:grpSpPr>
          <a:xfrm>
            <a:off x="1755000" y="2449440"/>
            <a:ext cx="2720520" cy="3292560"/>
            <a:chOff x="1755000" y="2449440"/>
            <a:chExt cx="2720520" cy="3292560"/>
          </a:xfrm>
        </p:grpSpPr>
        <p:pic>
          <p:nvPicPr>
            <p:cNvPr id="657" name="Picture 7" descr=""/>
            <p:cNvPicPr/>
            <p:nvPr/>
          </p:nvPicPr>
          <p:blipFill>
            <a:blip r:embed="rId2"/>
            <a:stretch/>
          </p:blipFill>
          <p:spPr>
            <a:xfrm rot="1517400">
              <a:off x="2285640" y="2666520"/>
              <a:ext cx="16588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5" descr=" iPhWebMD"/>
            <p:cNvPicPr/>
            <p:nvPr/>
          </p:nvPicPr>
          <p:blipFill>
            <a:blip r:embed="rId3"/>
            <a:stretch/>
          </p:blipFill>
          <p:spPr>
            <a:xfrm rot="1517400">
              <a:off x="2405880" y="3075480"/>
              <a:ext cx="1464480" cy="204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90D5-5785-4D05-B760-4946C190BBC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6B5-ABCA-41B9-8ED7-98819C713E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volution Accelerates PHR Adop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3" name="Group 50"/>
          <p:cNvGrpSpPr/>
          <p:nvPr/>
        </p:nvGrpSpPr>
        <p:grpSpPr>
          <a:xfrm>
            <a:off x="228240" y="1523880"/>
            <a:ext cx="8915760" cy="4406400"/>
            <a:chOff x="228240" y="1523880"/>
            <a:chExt cx="8915760" cy="4406400"/>
          </a:xfrm>
        </p:grpSpPr>
        <p:sp>
          <p:nvSpPr>
            <p:cNvPr id="664" name="Rectangle 4"/>
            <p:cNvSpPr/>
            <p:nvPr/>
          </p:nvSpPr>
          <p:spPr>
            <a:xfrm>
              <a:off x="5486400" y="2133720"/>
              <a:ext cx="2286000" cy="3200400"/>
            </a:xfrm>
            <a:prstGeom prst="rect">
              <a:avLst/>
            </a:prstGeom>
            <a:gradFill rotWithShape="0">
              <a:gsLst>
                <a:gs pos="0">
                  <a:srgbClr val="fff789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" name="Rectangle 5"/>
            <p:cNvSpPr/>
            <p:nvPr/>
          </p:nvSpPr>
          <p:spPr>
            <a:xfrm>
              <a:off x="4876920" y="3352680"/>
              <a:ext cx="2895480" cy="1981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b8d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743200" y="4191120"/>
              <a:ext cx="3886200" cy="1143000"/>
            </a:xfrm>
            <a:prstGeom prst="rect">
              <a:avLst/>
            </a:prstGeom>
            <a:gradFill rotWithShape="0">
              <a:gsLst>
                <a:gs pos="0">
                  <a:srgbClr val="cb8de3"/>
                </a:gs>
                <a:gs pos="100000">
                  <a:srgbClr val="e5ff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Rectangle 7"/>
            <p:cNvSpPr/>
            <p:nvPr/>
          </p:nvSpPr>
          <p:spPr>
            <a:xfrm>
              <a:off x="1371600" y="4876920"/>
              <a:ext cx="4191120" cy="457200"/>
            </a:xfrm>
            <a:prstGeom prst="rect">
              <a:avLst/>
            </a:prstGeom>
            <a:gradFill rotWithShape="0">
              <a:gsLst>
                <a:gs pos="0">
                  <a:srgbClr val="e5ff82"/>
                </a:gs>
                <a:gs pos="100000">
                  <a:srgbClr val="bfde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8"/>
            <p:cNvSpPr/>
            <p:nvPr/>
          </p:nvSpPr>
          <p:spPr>
            <a:xfrm flipV="1">
              <a:off x="1371600" y="5256720"/>
              <a:ext cx="6959520" cy="745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Line 9"/>
            <p:cNvSpPr/>
            <p:nvPr/>
          </p:nvSpPr>
          <p:spPr>
            <a:xfrm flipV="1">
              <a:off x="1371600" y="1600200"/>
              <a:ext cx="0" cy="3733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0" name="Group 10"/>
            <p:cNvGrpSpPr/>
            <p:nvPr/>
          </p:nvGrpSpPr>
          <p:grpSpPr>
            <a:xfrm>
              <a:off x="4343400" y="5334120"/>
              <a:ext cx="838080" cy="413280"/>
              <a:chOff x="4343400" y="5334120"/>
              <a:chExt cx="838080" cy="413280"/>
            </a:xfrm>
          </p:grpSpPr>
          <p:sp>
            <p:nvSpPr>
              <p:cNvPr id="671" name="Text Box 11"/>
              <p:cNvSpPr/>
              <p:nvPr/>
            </p:nvSpPr>
            <p:spPr>
              <a:xfrm>
                <a:off x="43434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08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Line 12"/>
              <p:cNvSpPr/>
              <p:nvPr/>
            </p:nvSpPr>
            <p:spPr>
              <a:xfrm>
                <a:off x="47242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3" name="Freeform 13"/>
            <p:cNvSpPr/>
            <p:nvPr/>
          </p:nvSpPr>
          <p:spPr>
            <a:xfrm>
              <a:off x="1371600" y="1523880"/>
              <a:ext cx="6553080" cy="38102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" name="Text Box 14"/>
            <p:cNvSpPr/>
            <p:nvPr/>
          </p:nvSpPr>
          <p:spPr>
            <a:xfrm>
              <a:off x="4952880" y="3429000"/>
              <a:ext cx="297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3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Data Aggreg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(Health Clouds Form)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Text Box 15"/>
            <p:cNvSpPr/>
            <p:nvPr/>
          </p:nvSpPr>
          <p:spPr>
            <a:xfrm>
              <a:off x="5486400" y="21337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4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Personal, Actionable &amp; Mobil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" name="Text Box 16"/>
            <p:cNvSpPr/>
            <p:nvPr/>
          </p:nvSpPr>
          <p:spPr>
            <a:xfrm>
              <a:off x="2819520" y="4267080"/>
              <a:ext cx="167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2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Online &amp; Connected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7" name="Group 17"/>
            <p:cNvGrpSpPr/>
            <p:nvPr/>
          </p:nvGrpSpPr>
          <p:grpSpPr>
            <a:xfrm>
              <a:off x="5257800" y="5334120"/>
              <a:ext cx="838080" cy="413280"/>
              <a:chOff x="5257800" y="5334120"/>
              <a:chExt cx="838080" cy="413280"/>
            </a:xfrm>
          </p:grpSpPr>
          <p:sp>
            <p:nvSpPr>
              <p:cNvPr id="678" name="Text Box 18"/>
              <p:cNvSpPr/>
              <p:nvPr/>
            </p:nvSpPr>
            <p:spPr>
              <a:xfrm>
                <a:off x="52578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11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Line 19"/>
              <p:cNvSpPr/>
              <p:nvPr/>
            </p:nvSpPr>
            <p:spPr>
              <a:xfrm>
                <a:off x="56386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0" name="Text Box 20"/>
            <p:cNvSpPr/>
            <p:nvPr/>
          </p:nvSpPr>
          <p:spPr>
            <a:xfrm>
              <a:off x="1523880" y="48769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1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Isolated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1" name="Group 21"/>
            <p:cNvGrpSpPr/>
            <p:nvPr/>
          </p:nvGrpSpPr>
          <p:grpSpPr>
            <a:xfrm>
              <a:off x="3200400" y="5334120"/>
              <a:ext cx="838080" cy="413280"/>
              <a:chOff x="3200400" y="5334120"/>
              <a:chExt cx="838080" cy="413280"/>
            </a:xfrm>
          </p:grpSpPr>
          <p:sp>
            <p:nvSpPr>
              <p:cNvPr id="682" name="Text Box 22"/>
              <p:cNvSpPr/>
              <p:nvPr/>
            </p:nvSpPr>
            <p:spPr>
              <a:xfrm>
                <a:off x="32004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03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Line 23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4" name="Group 24"/>
            <p:cNvGrpSpPr/>
            <p:nvPr/>
          </p:nvGrpSpPr>
          <p:grpSpPr>
            <a:xfrm>
              <a:off x="990720" y="5334120"/>
              <a:ext cx="838080" cy="413280"/>
              <a:chOff x="990720" y="5334120"/>
              <a:chExt cx="838080" cy="413280"/>
            </a:xfrm>
          </p:grpSpPr>
          <p:sp>
            <p:nvSpPr>
              <p:cNvPr id="685" name="Text Box 25"/>
              <p:cNvSpPr/>
              <p:nvPr/>
            </p:nvSpPr>
            <p:spPr>
              <a:xfrm>
                <a:off x="99072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992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Line 26"/>
              <p:cNvSpPr/>
              <p:nvPr/>
            </p:nvSpPr>
            <p:spPr>
              <a:xfrm>
                <a:off x="13716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7" name="Text Box 27"/>
            <p:cNvSpPr/>
            <p:nvPr/>
          </p:nvSpPr>
          <p:spPr>
            <a:xfrm>
              <a:off x="7620120" y="54100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Tim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Text Box 28"/>
            <p:cNvSpPr/>
            <p:nvPr/>
          </p:nvSpPr>
          <p:spPr>
            <a:xfrm rot="16198800">
              <a:off x="-1325160" y="3210840"/>
              <a:ext cx="35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00412"/>
                  </a:solidFill>
                  <a:latin typeface="Arial Black"/>
                </a:rPr>
                <a:t>User Value Proposi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791320" y="15238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 Italic"/>
                </a:rPr>
                <a:t>Adoption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Line 30"/>
            <p:cNvSpPr/>
            <p:nvPr/>
          </p:nvSpPr>
          <p:spPr>
            <a:xfrm>
              <a:off x="6781680" y="17524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1" name="Group 31"/>
            <p:cNvGrpSpPr/>
            <p:nvPr/>
          </p:nvGrpSpPr>
          <p:grpSpPr>
            <a:xfrm>
              <a:off x="2362320" y="5334120"/>
              <a:ext cx="914040" cy="596160"/>
              <a:chOff x="2362320" y="5334120"/>
              <a:chExt cx="914040" cy="596160"/>
            </a:xfrm>
          </p:grpSpPr>
          <p:sp>
            <p:nvSpPr>
              <p:cNvPr id="692" name="Text Box 32"/>
              <p:cNvSpPr/>
              <p:nvPr/>
            </p:nvSpPr>
            <p:spPr>
              <a:xfrm>
                <a:off x="2362320" y="5410080"/>
                <a:ext cx="914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990000"/>
                    </a:solidFill>
                    <a:latin typeface="Arial Black"/>
                  </a:rPr>
                  <a:t>2000</a:t>
                </a:r>
                <a:br>
                  <a:rPr sz="1400"/>
                </a:br>
                <a:r>
                  <a:rPr b="0" i="1" lang="en-US" sz="1400" spc="-1" strike="noStrike">
                    <a:solidFill>
                      <a:srgbClr val="990000"/>
                    </a:solidFill>
                    <a:latin typeface="Arial"/>
                  </a:rPr>
                  <a:t>(Online)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Line 33"/>
              <p:cNvSpPr/>
              <p:nvPr/>
            </p:nvSpPr>
            <p:spPr>
              <a:xfrm>
                <a:off x="277776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4" name="Group 34"/>
            <p:cNvGrpSpPr/>
            <p:nvPr/>
          </p:nvGrpSpPr>
          <p:grpSpPr>
            <a:xfrm>
              <a:off x="7772400" y="4724280"/>
              <a:ext cx="533520" cy="307080"/>
              <a:chOff x="7772400" y="4724280"/>
              <a:chExt cx="533520" cy="307080"/>
            </a:xfrm>
          </p:grpSpPr>
          <p:sp>
            <p:nvSpPr>
              <p:cNvPr id="695" name="Line 35"/>
              <p:cNvSpPr/>
              <p:nvPr/>
            </p:nvSpPr>
            <p:spPr>
              <a:xfrm>
                <a:off x="7772400" y="4896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Text Box 36"/>
              <p:cNvSpPr/>
              <p:nvPr/>
            </p:nvSpPr>
            <p:spPr>
              <a:xfrm>
                <a:off x="7848720" y="47242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37"/>
            <p:cNvGrpSpPr/>
            <p:nvPr/>
          </p:nvGrpSpPr>
          <p:grpSpPr>
            <a:xfrm>
              <a:off x="990720" y="5334120"/>
              <a:ext cx="838080" cy="413280"/>
              <a:chOff x="990720" y="5334120"/>
              <a:chExt cx="838080" cy="413280"/>
            </a:xfrm>
          </p:grpSpPr>
          <p:sp>
            <p:nvSpPr>
              <p:cNvPr id="698" name="Text Box 38"/>
              <p:cNvSpPr/>
              <p:nvPr/>
            </p:nvSpPr>
            <p:spPr>
              <a:xfrm>
                <a:off x="99072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992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9"/>
              <p:cNvSpPr/>
              <p:nvPr/>
            </p:nvSpPr>
            <p:spPr>
              <a:xfrm>
                <a:off x="13716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40"/>
            <p:cNvGrpSpPr/>
            <p:nvPr/>
          </p:nvGrpSpPr>
          <p:grpSpPr>
            <a:xfrm>
              <a:off x="7772400" y="4267080"/>
              <a:ext cx="533520" cy="307080"/>
              <a:chOff x="7772400" y="4267080"/>
              <a:chExt cx="533520" cy="307080"/>
            </a:xfrm>
          </p:grpSpPr>
          <p:sp>
            <p:nvSpPr>
              <p:cNvPr id="701" name="Line 41"/>
              <p:cNvSpPr/>
              <p:nvPr/>
            </p:nvSpPr>
            <p:spPr>
              <a:xfrm>
                <a:off x="7772400" y="44388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2" name="Text Box 42"/>
              <p:cNvSpPr/>
              <p:nvPr/>
            </p:nvSpPr>
            <p:spPr>
              <a:xfrm>
                <a:off x="7848720" y="4267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03" name="Group 43"/>
            <p:cNvGrpSpPr/>
            <p:nvPr/>
          </p:nvGrpSpPr>
          <p:grpSpPr>
            <a:xfrm>
              <a:off x="7772400" y="3352680"/>
              <a:ext cx="533520" cy="307080"/>
              <a:chOff x="7772400" y="3352680"/>
              <a:chExt cx="533520" cy="307080"/>
            </a:xfrm>
          </p:grpSpPr>
          <p:sp>
            <p:nvSpPr>
              <p:cNvPr id="704" name="Line 44"/>
              <p:cNvSpPr/>
              <p:nvPr/>
            </p:nvSpPr>
            <p:spPr>
              <a:xfrm>
                <a:off x="7772400" y="3524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5" name="Text Box 45"/>
              <p:cNvSpPr/>
              <p:nvPr/>
            </p:nvSpPr>
            <p:spPr>
              <a:xfrm>
                <a:off x="7848720" y="3352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8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6" name="Text Box 46"/>
            <p:cNvSpPr/>
            <p:nvPr/>
          </p:nvSpPr>
          <p:spPr>
            <a:xfrm>
              <a:off x="7620120" y="2209680"/>
              <a:ext cx="1218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Text Box 47"/>
            <p:cNvSpPr/>
            <p:nvPr/>
          </p:nvSpPr>
          <p:spPr>
            <a:xfrm>
              <a:off x="7848720" y="228600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Users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(Millions)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" name="Text Box 48"/>
            <p:cNvSpPr/>
            <p:nvPr/>
          </p:nvSpPr>
          <p:spPr>
            <a:xfrm>
              <a:off x="609480" y="5029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" name="Text Box 49"/>
            <p:cNvSpPr/>
            <p:nvPr/>
          </p:nvSpPr>
          <p:spPr>
            <a:xfrm>
              <a:off x="609480" y="1828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098-F11B-4062-912D-258062411E5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97E-7EBF-4503-A098-750609FB5C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3" name="Picture 8" descr="white male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81280" y="1143000"/>
            <a:ext cx="1890720" cy="25542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dice"/>
          <p:cNvPicPr/>
          <p:nvPr/>
        </p:nvPicPr>
        <p:blipFill>
          <a:blip r:embed="rId2"/>
          <a:stretch/>
        </p:blipFill>
        <p:spPr>
          <a:xfrm rot="768000">
            <a:off x="6171840" y="1600200"/>
            <a:ext cx="1879560" cy="2819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iphone"/>
          <p:cNvPicPr/>
          <p:nvPr/>
        </p:nvPicPr>
        <p:blipFill>
          <a:blip r:embed="rId3"/>
          <a:stretch/>
        </p:blipFill>
        <p:spPr>
          <a:xfrm rot="20722200">
            <a:off x="846000" y="1703160"/>
            <a:ext cx="1743120" cy="20574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Generation 4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“Convergence”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ersonal, Actionable, Connecte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563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Value: About Me, By Me, With Me, For 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8" name="Picture 7" descr="patients like me screen shot"/>
          <p:cNvPicPr/>
          <p:nvPr/>
        </p:nvPicPr>
        <p:blipFill>
          <a:blip r:embed="rId4"/>
          <a:stretch/>
        </p:blipFill>
        <p:spPr>
          <a:xfrm>
            <a:off x="2362320" y="3505320"/>
            <a:ext cx="4190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C52-BED5-47B5-AA20-E489DC81846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32E-81AE-458B-A829-8BF7F57F7C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to Wat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ction of Platform Pl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Sources (agree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.g., Cleveland-Google, KP-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w HIPAA Extension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umer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b-group typ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r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pular apps/servic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er Succe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ble R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hings mHealt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rtphones change eq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ometrics play key ro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4" descr="man looking through a piece of art that has a magnifiying glass"/>
          <p:cNvPicPr/>
          <p:nvPr/>
        </p:nvPicPr>
        <p:blipFill>
          <a:blip r:embed="rId1"/>
          <a:stretch/>
        </p:blipFill>
        <p:spPr>
          <a:xfrm rot="503400">
            <a:off x="5334120" y="1371240"/>
            <a:ext cx="34956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8B7D-DD3A-45D8-978E-D25854859BDC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B345-5061-4DEE-AC3A-DC130441ED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Into the Future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etric Devices Become a Critical Data Sour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IEs will Serve Citizens as W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Liquidity &amp; Quality wi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 Challeng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ingful Use Requirement May Backfi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4" descr="crystal-ball"/>
          <p:cNvPicPr/>
          <p:nvPr/>
        </p:nvPicPr>
        <p:blipFill>
          <a:blip r:embed="rId1"/>
          <a:stretch/>
        </p:blipFill>
        <p:spPr>
          <a:xfrm rot="1088400">
            <a:off x="6170400" y="1979640"/>
            <a:ext cx="2535120" cy="33494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6"/>
          <p:cNvSpPr/>
          <p:nvPr/>
        </p:nvSpPr>
        <p:spPr>
          <a:xfrm>
            <a:off x="380880" y="548640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Biggest Challenge: Sourcing Quality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3D7-FAF5-4DE4-A416-6B0C51A7CF97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9D2-D6F4-4430-A86C-8AA61BB8FC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nal Thoughts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ime to Ditch PHR Ter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umers NOT Interested i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igital File Cabi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rsonal Health Platform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PHP) are Fu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al, Actionabl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ucation Critic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’s in it for 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ithout Consumer Engagement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IT Adoption may be DO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imulus Funding is Not Enough to Move Need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7" name="Picture 4" descr="brain-imag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3DE-287B-4D44-8B7F-0A5251F4B86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A2B9-1489-4DA3-8080-2BE1F9F531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The First Wealth is Health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-Ralph Waldo Emers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The Best Way to Predict the 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Future is to Create it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- Peter Drucker</a:t>
            </a:r>
            <a:r>
              <a:rPr b="1" lang="en-US" sz="40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D02-F336-4DED-A64C-46DE89739A5E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ACDF-0EA0-4142-B0CB-6A7F63B3ED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5" name="Picture 9" descr="cloud-computing"/>
          <p:cNvPicPr/>
          <p:nvPr/>
        </p:nvPicPr>
        <p:blipFill>
          <a:blip r:embed="rId1"/>
          <a:stretch/>
        </p:blipFill>
        <p:spPr>
          <a:xfrm>
            <a:off x="4191120" y="3581280"/>
            <a:ext cx="3124080" cy="16542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e Take-Away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lthcare in Transition &amp; the Move Onli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Rs Tod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ption/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Rs Tomorrow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of PH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7315200" y="3962520"/>
            <a:ext cx="990720" cy="1143000"/>
          </a:xfrm>
          <a:prstGeom prst="upArrow">
            <a:avLst>
              <a:gd name="adj1" fmla="val 50000"/>
              <a:gd name="adj2" fmla="val 28843"/>
            </a:avLst>
          </a:prstGeom>
          <a:gradFill rotWithShape="0">
            <a:gsLst>
              <a:gs pos="0">
                <a:srgbClr val="489173"/>
              </a:gs>
              <a:gs pos="100000">
                <a:srgbClr val="fff78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8001000" y="4648320"/>
            <a:ext cx="990720" cy="1218960"/>
          </a:xfrm>
          <a:prstGeom prst="downArrow">
            <a:avLst>
              <a:gd name="adj1" fmla="val 50000"/>
              <a:gd name="adj2" fmla="val 30759"/>
            </a:avLst>
          </a:prstGeom>
          <a:gradFill rotWithShape="0">
            <a:gsLst>
              <a:gs pos="0">
                <a:srgbClr val="fff789"/>
              </a:gs>
              <a:gs pos="100000">
                <a:srgbClr val="ff00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0" name="Picture 6" descr="picture of two men at a computer"/>
          <p:cNvPicPr/>
          <p:nvPr/>
        </p:nvPicPr>
        <p:blipFill>
          <a:blip r:embed="rId2"/>
          <a:stretch/>
        </p:blipFill>
        <p:spPr>
          <a:xfrm>
            <a:off x="4724280" y="160020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picture of a road"/>
          <p:cNvPicPr/>
          <p:nvPr/>
        </p:nvPicPr>
        <p:blipFill>
          <a:blip r:embed="rId3"/>
          <a:stretch/>
        </p:blipFill>
        <p:spPr>
          <a:xfrm>
            <a:off x="6553080" y="1295280"/>
            <a:ext cx="1752840" cy="11750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picture of web address"/>
          <p:cNvPicPr/>
          <p:nvPr/>
        </p:nvPicPr>
        <p:blipFill>
          <a:blip r:embed="rId4"/>
          <a:stretch/>
        </p:blipFill>
        <p:spPr>
          <a:xfrm>
            <a:off x="5867280" y="2895480"/>
            <a:ext cx="30481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539-D774-4C10-AA66-54A79D4DA24E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8CC-FC2A-44CA-BBB7-BA3F7531CA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cro Trends Reshaping Healthc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wing Consumerism in Healthc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Accountability &amp; Cost Sha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t of Pocket Expense Yr’00: $200B, Yr’07: $267B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rmediation of 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ail Clinics, eVisits, MedTourism, Virtual Lab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Lib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: PubMed, Mayo, Web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wd-sourced: Wiki(s), Blogs, Twitter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imulus Bill &amp; Healthcare Refor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precedented $$$ to Digitize Health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Effec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5" descr="  hcmacro3"/>
          <p:cNvPicPr/>
          <p:nvPr/>
        </p:nvPicPr>
        <p:blipFill>
          <a:blip r:embed="rId1"/>
          <a:stretch/>
        </p:blipFill>
        <p:spPr>
          <a:xfrm>
            <a:off x="6705720" y="335268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775-D69D-42C0-9F39-A8AE003375E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F974-0B8E-4A0F-8F4D-9414FDADEE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ile Consumers Increasingly Go Online for Health Info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85800" y="1523880"/>
          <a:ext cx="807732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bar graph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73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1029"/>
          <p:cNvSpPr/>
          <p:nvPr/>
        </p:nvSpPr>
        <p:spPr>
          <a:xfrm>
            <a:off x="6922800" y="43434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Pew Research 2006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74% of all adults are onlin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Rectangle 1030"/>
          <p:cNvSpPr/>
          <p:nvPr/>
        </p:nvSpPr>
        <p:spPr>
          <a:xfrm>
            <a:off x="0" y="5562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Now One of the Top Activities on the 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E88-BC90-4399-9C08-5BF92F87A2E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41E8-1A08-498C-9BA9-A967C2DEC1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w Manage Health Records on Ne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-1600200" y="1752480"/>
          <a:ext cx="73915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pie char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752480"/>
                    <a:ext cx="73915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2666880" y="914400"/>
          <a:ext cx="8775720" cy="513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914400"/>
                    <a:ext cx="877572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Line 5"/>
          <p:cNvSpPr/>
          <p:nvPr/>
        </p:nvSpPr>
        <p:spPr>
          <a:xfrm flipV="1">
            <a:off x="2133720" y="2133360"/>
            <a:ext cx="4572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3200400" y="4114800"/>
            <a:ext cx="3352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6344640" y="502920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Forrester Research Q2’08 Survey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= 5,242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0" y="5562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Today, Meager 3.3% iManage PH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F402-B40E-4C17-8F5F-A07183E3291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B3B-333F-417A-959C-F375A5DA69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e Dominate PHR Model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 to Consumer =&gt; Manage Recor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Full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umer self-populates, disconnec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ISVs with Little Market Influ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pMed, Medikeeper, PassportM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yer/Employer Sponsored =&gt; Lower ML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Limited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ust issues, portability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HRAs, Health &amp; Wellness, Disease 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centives common to drive adoptio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ider Sponsored =&gt; Customer Reten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Limited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ittle portability, modest tools, incomplete longitudinal recor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Labs, Meds, Dis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cilitate transactional processe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0348-52A7-4522-B331-81DBC21396A6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91E3-188D-45E6-AD53-8C10B9B8DB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HR Adoption is Widely Disperse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1371600"/>
          <a:ext cx="9144000" cy="5281560"/>
        </p:xfrm>
        <a:graphic>
          <a:graphicData uri="http://schemas.openxmlformats.org/drawingml/2006/table">
            <a:tbl>
              <a:tblPr/>
              <a:tblGrid>
                <a:gridCol w="2023920"/>
                <a:gridCol w="1100160"/>
                <a:gridCol w="1219320"/>
                <a:gridCol w="1600200"/>
                <a:gridCol w="320040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. of Us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R Plat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iser-Perman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M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h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R portal w/email &amp; transaction services</a:t>
                      </a:r>
                      <a:br>
                        <a:rPr sz="14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teran’s Ad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O (Vist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R portal,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porta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M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M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 defined, claims-based HRA &amp; alerts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rely portab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et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78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Heal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on HRA, DM, aggressive build-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ed Health Gr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2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lthAto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ms-based, part of new OptumHealth Div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veland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h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ilar to K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Goog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DM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ng portal w/email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Google &amp; 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Oth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ly variable, most simple templates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tle portabil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47AF-FE8F-40B9-B813-B8F7FFCD894D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E3E-5BD4-4387-8FF6-4320B86434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HRs: What Are They Good For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50% of Employ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wer MLRs = Lower Healthcar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T: $50M in 4 year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aiser-Permanen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50% of Members with Internet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st Savings via Fewer Office Vis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ana Univers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40% of Entering Cla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wer Admin Costs, Student Eng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80880" y="55627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All Depends on Who You Ask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208B-4064-4594-95A9-91A55F6C629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6DF-4C84-45CE-946B-6ACC8DCCD3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op 3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Challenges to Adop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it, Cleansing i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ing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cy &amp; Secu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80880" y="5638680"/>
            <a:ext cx="861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Consumer Engagement Begins 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1" name="Picture 5" descr="  matrix2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3390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 hand with trust written on it"/>
          <p:cNvPicPr/>
          <p:nvPr/>
        </p:nvPicPr>
        <p:blipFill>
          <a:blip r:embed="rId2"/>
          <a:stretch/>
        </p:blipFill>
        <p:spPr>
          <a:xfrm>
            <a:off x="3657600" y="2743200"/>
            <a:ext cx="3124080" cy="2341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  relevance"/>
          <p:cNvPicPr/>
          <p:nvPr/>
        </p:nvPicPr>
        <p:blipFill>
          <a:blip r:embed="rId3"/>
          <a:stretch/>
        </p:blipFill>
        <p:spPr>
          <a:xfrm>
            <a:off x="6418440" y="2438280"/>
            <a:ext cx="2725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18:50Z</dcterms:created>
  <dc:creator>John Moore</dc:creator>
  <dc:description/>
  <dc:language>en-US</dc:language>
  <cp:lastModifiedBy>Chettra.Chhiet</cp:lastModifiedBy>
  <cp:lastPrinted>2009-03-18T19:17:53Z</cp:lastPrinted>
  <dcterms:modified xsi:type="dcterms:W3CDTF">2009-12-04T13:48:27Z</dcterms:modified>
  <cp:revision>92</cp:revision>
  <dc:subject/>
  <dc:title>What’s Really Going On? or PHRs, Platforms, &amp; Consumer Trends</dc:title>
</cp:coreProperties>
</file>