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1.jpeg" ContentType="image/jpeg"/>
  <Override PartName="/ppt/media/image19.png" ContentType="image/png"/>
  <Override PartName="/ppt/media/image28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7.wmf" ContentType="image/x-wmf"/>
  <Override PartName="/ppt/media/image11.jpeg" ContentType="image/jpeg"/>
  <Override PartName="/ppt/media/image29.jpeg" ContentType="image/jpeg"/>
  <Override PartName="/ppt/media/image10.jpeg" ContentType="image/jpeg"/>
  <Override PartName="/ppt/media/image13.wmf" ContentType="image/x-wmf"/>
  <Override PartName="/ppt/media/image9.wmf" ContentType="image/x-wmf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3.png" ContentType="image/png"/>
  <Override PartName="/ppt/media/image3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0A67-D4D7-4AF9-AD15-317342A2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3A26-17D7-4018-85EF-C556FAC9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EDB-93CE-40D0-B727-2637FB879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47FD-47C5-4E1C-9D9B-51DB9A29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6DA-51FF-402C-BFE1-34C8BF6B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5F13-60E0-4626-BDB6-C81CC97F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E39C-10C4-490C-AF86-890C73B5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7BE8-E0CC-400E-9EF6-866502331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BD34-ADF0-4BB0-8508-759785C0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A2E-AD39-4F03-830B-B55513B9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B56-FB86-48E5-B25B-7B3CA18F5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AC3E-68D0-46A7-8BF2-C4AA6701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480D-1760-4C39-89C5-C2A65767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8527-B974-4672-B23F-8F145C7E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A327-0E9B-412C-8174-CA0C679CE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56B-9181-4C08-AE05-F6E4CFAB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606D-3780-4935-A5B7-B3CA161B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FB80-4089-4FF3-B4E3-92B39BF3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EA4-9630-4049-ACB1-34D0568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372-BB70-4B08-A7A6-D3B868DE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A4CD7-6938-46D0-8898-30A847A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BC56-D05E-4B6A-9B38-1217B90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BBC55-05FC-4F6C-A832-61A32EC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5BC8-043B-4568-B9F9-5AA91FA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7226C-05C9-460F-9698-ADA6DAF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4BEEC-17CC-4665-BC2A-AC1D99B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7B54C-393A-4616-9FE3-5557BE4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52CFE-B58B-4890-85C4-633224C5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8D340-B16F-43BD-9348-806AA0AD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33445-186B-4F7B-9326-3A71419F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F62-DD12-4A59-96D7-B4EE1B59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C73D2-4E51-43D5-B9DD-03BC991A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29AF-EC96-4701-8F4F-9429E27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F3391-D5B1-4FD7-9971-A64AC47C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71C7-309D-4B24-9248-16CD25B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F5CC5-860D-40FE-B61F-2CD909E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53263-D9E9-402B-BA52-4AF28367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F9E1D-F4FB-4D90-8726-134D052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B1FEF-0BF3-44A4-A66B-1EAAE261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8EEF1-32D7-4E24-8D95-A1DB763D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03B3A-B42B-450C-8C60-12666713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8D3-9B92-40AE-9C29-A0228C43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0EC5-AE75-423D-9112-CE8B412E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8F57-115B-4017-B7AA-C67FED1F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BF83-4AC7-4DC5-ADD7-F5574888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C7F36-1579-4710-A48E-668ACCC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A5F3F-664D-4830-8DCC-05A6FED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F4A74-5B29-4228-B143-2AE4F63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49175-E7D6-47D1-B507-70449C57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4B129-8EF6-4D71-862A-3D2AC3F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EE6A4-5EEE-43DF-B44D-15ECC37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791D7-0D11-49B2-A004-6EA11AA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3715-39FF-4DE9-AE84-14DE9937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891E-699B-4AAA-B364-5EEAD84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E7A4-DC66-4996-9FED-CB11C84A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08360-BCB9-49F2-A23C-D40E1FB5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1CB3B-3C2A-493F-B2D0-10C84EEC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0EB32-1CC3-4BCC-B24E-5F8F35D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644B9-9AEF-44AE-ABF1-380C6A20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0978C-6F4E-4200-B80D-026B0B8E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4B60A-AE19-41EF-88A4-74834996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72D5F-1325-4CE1-8C8B-2440DAB5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19BFE-1622-46A0-BE06-E4CF719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12D-8CC6-46F8-8E98-099054BA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F88C4-6782-404B-83B5-32DD147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6475F-BACF-42AC-9D8A-4A3EC6E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36A3C-AA29-4D75-A575-C11BB890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2AC77-1010-4DAF-AF07-C889A915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854AC-0574-409A-BEE9-ACCC462C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BD53-E189-4FD8-9582-4371DDDE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2FBA-2709-409E-9732-00E5FD7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781-896C-4080-9828-CA702D2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686-C6DF-432A-80BE-36A76C9A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201-45CE-47E8-BDEF-15C3042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774-271C-4081-9208-0DE646D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A06-D253-4821-A3CA-E9CCB0C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4551-94A4-4135-A593-8A2EB52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F7F3-E100-4558-99E8-433F2AC9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CA7A-D2AE-440A-AC84-759DC716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1484-1B89-4DBA-8C34-55070A9A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F1E0-A6DF-4D5D-9DA8-103B94E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8C7A-0117-4DB6-A8C5-52B3F2BA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0CEE-8291-4CE3-9F50-DF22F4A4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6EAC-F808-4D9F-80CF-3D68B10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3EA4-31B6-42C6-BA2D-EEFE1F07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8AB-8F31-49FD-81B4-74DB92D7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B08E-A742-492E-96CF-8746FD53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9734-9C82-4F89-B8ED-947AC7E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CC0E-8DB8-444E-96C5-6ECB3F3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1275-EFF5-42A2-8AB4-3078F2E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4094-56BF-4F60-A87B-FA9B9D0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A454-DD30-46FA-8AC8-0F0F00E4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93FE-2769-4013-B2B2-38B062C0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2933-A3EC-4485-AD88-64ECD9A0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E5E3-6041-432D-AF9D-6575B2C8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7B7C-2ADA-42CB-8CF4-3423C0E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24A-5FE3-4F7D-A73A-F15BC0FC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65B6-4965-403A-BD27-AFEDFCF8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8CF3-51AB-46C0-B88A-A334451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B1AD-616B-4BDD-9BB0-BF56A5E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75A1D-A8B2-4BD1-8C56-CA903C26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F20E-E929-4A0B-BEB8-88BADF95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0D14-CFF7-4EB6-BBB6-F6B5997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70C7-76F5-4787-9256-C2CC393C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6DC1-E309-4237-B06E-1DC1BFEB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3D58-5775-4046-8F54-318BD9E2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A13C-6AA7-4DB7-96D6-102605FB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0AE-700E-4A91-AD50-5CD3BBC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03453-AAD5-40B4-A291-A6E46744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B4B6-82A1-48C7-A83E-0D977092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8030-5103-4A8E-8387-0B2F9379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0884-AC74-4BA8-8F12-8E57F6D6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F4140-5EE3-4FB9-A14A-CD080CF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721D-C8F2-4369-B600-E329B65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AA38-A094-463C-A084-FA57145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38B5-98EE-481E-BD9B-15CC520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301F-EA27-4569-B829-25C3A22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CEF1-473E-45E7-99C8-95FA579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37A-A9A5-406B-8B58-540FB3D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16DB-45BC-44A1-9BBD-8F01D79F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F114-F20A-45D3-9D38-08576BAC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963AD-F8D2-466E-9E37-F2810ECD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EFDF-9EEA-4CC1-971A-81C34527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047B-2FA3-4512-B49D-6109992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59B0-15C4-4D4B-BBF6-51C48A2E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3C42A-7D4C-46DB-A3DA-A65FD22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1BE1-1CC3-4E03-AFFD-187211DD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8239-F523-4289-B8EB-7CFF683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F6AC-EEB8-4F51-86CC-4AF4DA5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D3B-9DFB-48D7-92D3-7ACC008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A6B5-E2ED-4B8C-818D-EA5626B7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7EC76-3BF8-4E99-AB59-87E6343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EE54-8FF2-4805-8C22-197AC537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A8E8-AB6A-4FB7-9588-1778ADE8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29BF-DB37-4E4E-9134-1B83A2F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4BEA-08E3-4089-B962-6461715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8A00-E773-4C90-804E-AD2966B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EB6FC-A8D5-4651-9E1B-0309CCB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5A05C-4594-46A9-9C0D-5D7A6946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F34B-6E99-4118-9DFA-30C7E68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458-99F2-4C64-8966-636B08F3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BE2D5-82DF-4164-B39C-6DBE7AC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CE30-DCEA-4648-A7EB-108891EC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7DA03-BDD9-4DCE-A293-EFB2DCD0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71DB-5288-49AF-8826-6B94B525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76B9-3909-4980-86A8-F2B9A414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81B38-F9C0-4221-B04E-35FF3E54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FBAD7-E005-4740-9DE5-0504DFC7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78F5-ACF0-4A96-881F-6206E9E8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226A-1514-4C18-80CD-58D82D7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3A79-D70D-4563-8197-646507B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C5C-379A-4CA1-933F-E219291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26DB9-EC37-42DB-A79D-AC1CF04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2A8AF-D92A-4C0C-90C4-9F9CBE4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7917E-222A-4666-909E-66321C3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F8D7-B145-4540-A1E2-8E3CE2A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543D-5261-4FDB-A8D8-A2AE59C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A56C8-A5BA-45C3-ABEA-3E2FF30B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8507E-AC6E-401D-9834-9EB4F7FF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13C3E-DDEA-4C50-A125-3F2A5FFF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4AF8D-CF87-4351-9C57-3B557794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A7684-98C9-42F9-8ED7-A290752A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8A19-02B4-4809-88BF-FD22E1AEBF3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pyright: Chilmark Researc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3E0-3466-4181-87C7-5D98C4377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0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0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DD9F-F652-4B4D-B969-5507C768877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0A4-2052-456D-8F84-A2EFD99A67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5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5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1EE-0512-49BA-9863-4C957B6E6E9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41B-B302-4E80-A14D-4640A3B58D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9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9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B70A-A95D-4735-94E9-E1ED7A37A6E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789B-B872-4334-9704-872596CD40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4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4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16C-FA02-4E1E-BA2B-087431416CE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0B9-4464-4E2E-BABD-B6D4F2F2E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9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51B-F83B-47E8-AE65-9CD7E483F2D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139-E8E5-41C8-88F6-BFAED2373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3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3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17BE-1F93-4AA9-8459-39D969D5B54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D351-A216-4283-8D59-0C42177557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18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8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F00-A908-4AAF-9098-A53D2C57B33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FBC2-3881-42CC-B32A-7F89AE72C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22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EB85-1E3E-4A28-968A-5A17AAD22D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FF62-6B89-496B-9678-6AD41C8FD5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27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7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4366-4070-467E-91A7-806F075C14D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D3DC-C83B-4117-BA76-FC6D672D05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316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18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AAFD-5EDC-4291-8306-5D5DEAE4CEF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71B-485F-4D38-8B7D-B29C3FA85A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pic>
          <p:nvPicPr>
            <p:cNvPr id="361" name="Picture 7" descr="HITanalyst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Line 9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63" name="Picture 8" descr="HITanalyst2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00412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18A-84B6-48A1-A777-0FB71123599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: Chilmark Research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D1C-3861-431B-A45E-2B5D6E472B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hn@ChilmarkResearch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wmf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image" Target="../media/image22.jpeg"/><Relationship Id="rId16" Type="http://schemas.openxmlformats.org/officeDocument/2006/relationships/image" Target="../media/image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slideLayout" Target="../slideLayouts/slideLayout25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8AC-1AA4-479C-9C57-341BCB1AFFFF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4699-0392-4288-ADAD-952E8DF8E1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00412"/>
                </a:solidFill>
                <a:uFillTx/>
                <a:latin typeface="Verdana"/>
              </a:rPr>
              <a:t>PHRs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br>
              <a:rPr sz="1400"/>
            </a:b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Where We’ve Been,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Where We’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: John Moore, Managing Partn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dobe Caslon Pro SmBd"/>
                <a:hlinkClick r:id="rId1"/>
              </a:rPr>
              <a:t>John@ChilmarkResearch.com</a:t>
            </a:r>
            <a:r>
              <a:rPr b="0" i="1" lang="en-US" sz="1800" spc="-1" strike="noStrike">
                <a:solidFill>
                  <a:srgbClr val="000000"/>
                </a:solidFill>
                <a:latin typeface="Adobe Caslon Pro SmBd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A70-7C77-4698-8C9C-2B29566A9A1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55B-BE1B-4A78-83B9-6087EA81C8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 Clouds” on the Horiz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8" name="Group 1092"/>
          <p:cNvGrpSpPr/>
          <p:nvPr/>
        </p:nvGrpSpPr>
        <p:grpSpPr>
          <a:xfrm>
            <a:off x="792000" y="1371600"/>
            <a:ext cx="7437240" cy="2700000"/>
            <a:chOff x="792000" y="1371600"/>
            <a:chExt cx="7437240" cy="2700000"/>
          </a:xfrm>
        </p:grpSpPr>
        <p:grpSp>
          <p:nvGrpSpPr>
            <p:cNvPr id="619" name="Group 1066"/>
            <p:cNvGrpSpPr/>
            <p:nvPr/>
          </p:nvGrpSpPr>
          <p:grpSpPr>
            <a:xfrm>
              <a:off x="792000" y="1371600"/>
              <a:ext cx="1791000" cy="2700000"/>
              <a:chOff x="792000" y="1371600"/>
              <a:chExt cx="1791000" cy="2700000"/>
            </a:xfrm>
          </p:grpSpPr>
          <p:pic>
            <p:nvPicPr>
              <p:cNvPr id="620" name="Picture 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1846080" y="1371600"/>
                <a:ext cx="71964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Picture 1068" descr=""/>
              <p:cNvPicPr/>
              <p:nvPr/>
            </p:nvPicPr>
            <p:blipFill>
              <a:blip r:embed="rId2"/>
              <a:stretch/>
            </p:blipFill>
            <p:spPr>
              <a:xfrm>
                <a:off x="1818720" y="2301120"/>
                <a:ext cx="764280" cy="70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Picture 1069" descr="filecab1"/>
              <p:cNvPicPr/>
              <p:nvPr/>
            </p:nvPicPr>
            <p:blipFill>
              <a:blip r:embed="rId3"/>
              <a:stretch/>
            </p:blipFill>
            <p:spPr>
              <a:xfrm>
                <a:off x="1365840" y="1671120"/>
                <a:ext cx="682560" cy="69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Picture 1070" descr="eRx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2862720"/>
                <a:ext cx="840960" cy="654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4" name="Group 1071"/>
              <p:cNvGrpSpPr/>
              <p:nvPr/>
            </p:nvGrpSpPr>
            <p:grpSpPr>
              <a:xfrm>
                <a:off x="1674000" y="3274560"/>
                <a:ext cx="900720" cy="797040"/>
                <a:chOff x="1674000" y="3274560"/>
                <a:chExt cx="900720" cy="797040"/>
              </a:xfrm>
            </p:grpSpPr>
            <p:pic>
              <p:nvPicPr>
                <p:cNvPr id="625" name="Picture 8" descr="Forerunner 305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29880" y="3274560"/>
                  <a:ext cx="58536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Picture 2" descr="New Abacus Microsoft SPOT Watches Announced New SPOT Watches Wristwatch Watch Wristwatch Watches Wristwatches timepiece watch clock wrist Future Tech wrist watch geek wrist watch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74000" y="3526560"/>
                  <a:ext cx="326880" cy="44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Picture 257" descr="780N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103120" y="3621600"/>
                  <a:ext cx="471600" cy="45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28" name="Text Box 1075"/>
              <p:cNvSpPr/>
              <p:nvPr/>
            </p:nvSpPr>
            <p:spPr>
              <a:xfrm rot="18604800">
                <a:off x="617400" y="2361240"/>
                <a:ext cx="1704240" cy="337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ata Sources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29" name="Group 1076"/>
            <p:cNvGrpSpPr/>
            <p:nvPr/>
          </p:nvGrpSpPr>
          <p:grpSpPr>
            <a:xfrm>
              <a:off x="4028400" y="1603440"/>
              <a:ext cx="1569960" cy="2085120"/>
              <a:chOff x="4028400" y="1603440"/>
              <a:chExt cx="1569960" cy="2085120"/>
            </a:xfrm>
          </p:grpSpPr>
          <p:grpSp>
            <p:nvGrpSpPr>
              <p:cNvPr id="630" name="Group 1077"/>
              <p:cNvGrpSpPr/>
              <p:nvPr/>
            </p:nvGrpSpPr>
            <p:grpSpPr>
              <a:xfrm>
                <a:off x="4176000" y="1603440"/>
                <a:ext cx="1356120" cy="1611720"/>
                <a:chOff x="4176000" y="1603440"/>
                <a:chExt cx="1356120" cy="1611720"/>
              </a:xfrm>
            </p:grpSpPr>
            <p:pic>
              <p:nvPicPr>
                <p:cNvPr id="631" name="Picture 107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176000" y="2096280"/>
                  <a:ext cx="1032480" cy="111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Picture 1079" descr="typewrit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67920" y="1603440"/>
                  <a:ext cx="664200" cy="67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3" name="Text Box 1080"/>
              <p:cNvSpPr/>
              <p:nvPr/>
            </p:nvSpPr>
            <p:spPr>
              <a:xfrm rot="21572400">
                <a:off x="4030560" y="3101400"/>
                <a:ext cx="1565280" cy="580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cure Repository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34" name="Group 1081"/>
            <p:cNvGrpSpPr/>
            <p:nvPr/>
          </p:nvGrpSpPr>
          <p:grpSpPr>
            <a:xfrm>
              <a:off x="6696000" y="1765800"/>
              <a:ext cx="1533240" cy="1495800"/>
              <a:chOff x="6696000" y="1765800"/>
              <a:chExt cx="1533240" cy="1495800"/>
            </a:xfrm>
          </p:grpSpPr>
          <p:pic>
            <p:nvPicPr>
              <p:cNvPr id="635" name="Picture 1082" descr="SWapps"/>
              <p:cNvPicPr/>
              <p:nvPr/>
            </p:nvPicPr>
            <p:blipFill>
              <a:blip r:embed="rId10"/>
              <a:stretch/>
            </p:blipFill>
            <p:spPr>
              <a:xfrm>
                <a:off x="6696000" y="1787400"/>
                <a:ext cx="759240" cy="66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1083" descr="SWapps"/>
              <p:cNvPicPr/>
              <p:nvPr/>
            </p:nvPicPr>
            <p:blipFill>
              <a:blip r:embed="rId11"/>
              <a:stretch/>
            </p:blipFill>
            <p:spPr>
              <a:xfrm>
                <a:off x="6850440" y="194868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Picture 1084" descr="SWapps"/>
              <p:cNvPicPr/>
              <p:nvPr/>
            </p:nvPicPr>
            <p:blipFill>
              <a:blip r:embed="rId12"/>
              <a:stretch/>
            </p:blipFill>
            <p:spPr>
              <a:xfrm>
                <a:off x="7005600" y="210996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Picture 1085" descr="SWapps"/>
              <p:cNvPicPr/>
              <p:nvPr/>
            </p:nvPicPr>
            <p:blipFill>
              <a:blip r:embed="rId13"/>
              <a:stretch/>
            </p:blipFill>
            <p:spPr>
              <a:xfrm>
                <a:off x="7160040" y="2271600"/>
                <a:ext cx="759240" cy="66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Picture 1086" descr="SWapps"/>
              <p:cNvPicPr/>
              <p:nvPr/>
            </p:nvPicPr>
            <p:blipFill>
              <a:blip r:embed="rId14"/>
              <a:stretch/>
            </p:blipFill>
            <p:spPr>
              <a:xfrm>
                <a:off x="7314840" y="243288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Picture 1087" descr="SWapps"/>
              <p:cNvPicPr/>
              <p:nvPr/>
            </p:nvPicPr>
            <p:blipFill>
              <a:blip r:embed="rId15"/>
              <a:stretch/>
            </p:blipFill>
            <p:spPr>
              <a:xfrm>
                <a:off x="7470000" y="2594160"/>
                <a:ext cx="759240" cy="66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088"/>
              <p:cNvSpPr/>
              <p:nvPr/>
            </p:nvSpPr>
            <p:spPr>
              <a:xfrm rot="18486600">
                <a:off x="6630480" y="2299680"/>
                <a:ext cx="1521720" cy="337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42" name="AutoShape 1089"/>
            <p:cNvSpPr/>
            <p:nvPr/>
          </p:nvSpPr>
          <p:spPr>
            <a:xfrm>
              <a:off x="2743200" y="2286000"/>
              <a:ext cx="1116000" cy="757080"/>
            </a:xfrm>
            <a:prstGeom prst="rightArrow">
              <a:avLst>
                <a:gd name="adj1" fmla="val 50000"/>
                <a:gd name="adj2" fmla="val 3685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efe5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AutoShape 1090"/>
            <p:cNvSpPr/>
            <p:nvPr/>
          </p:nvSpPr>
          <p:spPr>
            <a:xfrm>
              <a:off x="5510160" y="2305080"/>
              <a:ext cx="1150920" cy="714240"/>
            </a:xfrm>
            <a:prstGeom prst="leftRightArrow">
              <a:avLst>
                <a:gd name="adj1" fmla="val 56130"/>
                <a:gd name="adj2" fmla="val 3227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44" name="Group 1096"/>
          <p:cNvGrpSpPr/>
          <p:nvPr/>
        </p:nvGrpSpPr>
        <p:grpSpPr>
          <a:xfrm>
            <a:off x="3962520" y="1295280"/>
            <a:ext cx="4724280" cy="2882880"/>
            <a:chOff x="3962520" y="1295280"/>
            <a:chExt cx="4724280" cy="2882880"/>
          </a:xfrm>
        </p:grpSpPr>
        <p:pic>
          <p:nvPicPr>
            <p:cNvPr id="645" name="Picture 1091" descr="cloud-computing"/>
            <p:cNvPicPr/>
            <p:nvPr/>
          </p:nvPicPr>
          <p:blipFill>
            <a:blip r:embed="rId16"/>
            <a:stretch/>
          </p:blipFill>
          <p:spPr>
            <a:xfrm>
              <a:off x="3962520" y="1295280"/>
              <a:ext cx="47242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093" descr=" ghealth"/>
            <p:cNvPicPr/>
            <p:nvPr/>
          </p:nvPicPr>
          <p:blipFill>
            <a:blip r:embed="rId17"/>
            <a:stretch/>
          </p:blipFill>
          <p:spPr>
            <a:xfrm>
              <a:off x="4495680" y="1752480"/>
              <a:ext cx="11430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1094" descr="HVlogo"/>
            <p:cNvPicPr/>
            <p:nvPr/>
          </p:nvPicPr>
          <p:blipFill>
            <a:blip r:embed="rId18"/>
            <a:srcRect l="-964" t="27387" r="0" b="32955"/>
            <a:stretch/>
          </p:blipFill>
          <p:spPr>
            <a:xfrm>
              <a:off x="6705720" y="1600200"/>
              <a:ext cx="13716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1095" descr="dossialogo"/>
            <p:cNvPicPr/>
            <p:nvPr/>
          </p:nvPicPr>
          <p:blipFill>
            <a:blip r:embed="rId19"/>
            <a:stretch/>
          </p:blipFill>
          <p:spPr>
            <a:xfrm>
              <a:off x="5562720" y="3429000"/>
              <a:ext cx="761760" cy="412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49" name=""/>
          <p:cNvGraphicFramePr/>
          <p:nvPr/>
        </p:nvGraphicFramePr>
        <p:xfrm>
          <a:off x="0" y="4118040"/>
          <a:ext cx="9144000" cy="2743200"/>
        </p:xfrm>
        <a:graphic>
          <a:graphicData uri="http://schemas.openxmlformats.org/drawingml/2006/table">
            <a:tbl>
              <a:tblPr/>
              <a:tblGrid>
                <a:gridCol w="2130480"/>
                <a:gridCol w="1751040"/>
                <a:gridCol w="526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ttrib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nt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a Source(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rtually any pertinent data sour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ong consumer control of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oper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option of Open Systems and standar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under develop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5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ry Go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ltiple tools/widgets, communications??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ther down the ro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o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ceived value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1F1-3A70-426E-8F8F-1DC8391B06F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3E1-7503-4AC4-B2AD-6838A118A9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ealth is Mobile!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790960" y="1371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losive Growth in U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 1B AppStore Downloa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hone Rep. 0.7% of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et Traff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ver 30K App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ly 1.5K are Health Foc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very Major Mobile OS Now has App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00412"/>
                </a:solidFill>
                <a:latin typeface="Verdana"/>
              </a:rPr>
              <a:t>And Still Only mHealth1.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5" name="Picture 4" descr=" iTunes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447920"/>
            <a:ext cx="5715000" cy="447516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8"/>
          <p:cNvGrpSpPr/>
          <p:nvPr/>
        </p:nvGrpSpPr>
        <p:grpSpPr>
          <a:xfrm>
            <a:off x="1755000" y="2449440"/>
            <a:ext cx="2720520" cy="3292560"/>
            <a:chOff x="1755000" y="2449440"/>
            <a:chExt cx="2720520" cy="3292560"/>
          </a:xfrm>
        </p:grpSpPr>
        <p:pic>
          <p:nvPicPr>
            <p:cNvPr id="657" name="Picture 7" descr=""/>
            <p:cNvPicPr/>
            <p:nvPr/>
          </p:nvPicPr>
          <p:blipFill>
            <a:blip r:embed="rId2"/>
            <a:stretch/>
          </p:blipFill>
          <p:spPr>
            <a:xfrm rot="1517400">
              <a:off x="2285640" y="2666520"/>
              <a:ext cx="16588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5" descr=" iPhWebMD"/>
            <p:cNvPicPr/>
            <p:nvPr/>
          </p:nvPicPr>
          <p:blipFill>
            <a:blip r:embed="rId3"/>
            <a:stretch/>
          </p:blipFill>
          <p:spPr>
            <a:xfrm rot="1517400">
              <a:off x="2405880" y="3075480"/>
              <a:ext cx="1464480" cy="204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E138-B130-4102-B3CD-5EC76EEC280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EC2F-AD77-4D6F-B306-0EE600B5B8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volution Accelerates PHR Adop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3" name="Group 50"/>
          <p:cNvGrpSpPr/>
          <p:nvPr/>
        </p:nvGrpSpPr>
        <p:grpSpPr>
          <a:xfrm>
            <a:off x="228240" y="1523880"/>
            <a:ext cx="8915760" cy="4406400"/>
            <a:chOff x="228240" y="1523880"/>
            <a:chExt cx="8915760" cy="4406400"/>
          </a:xfrm>
        </p:grpSpPr>
        <p:sp>
          <p:nvSpPr>
            <p:cNvPr id="664" name="Rectangle 4"/>
            <p:cNvSpPr/>
            <p:nvPr/>
          </p:nvSpPr>
          <p:spPr>
            <a:xfrm>
              <a:off x="5486400" y="2133720"/>
              <a:ext cx="2286000" cy="3200400"/>
            </a:xfrm>
            <a:prstGeom prst="rect">
              <a:avLst/>
            </a:prstGeom>
            <a:gradFill rotWithShape="0">
              <a:gsLst>
                <a:gs pos="0">
                  <a:srgbClr val="fff789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5" name="Rectangle 5"/>
            <p:cNvSpPr/>
            <p:nvPr/>
          </p:nvSpPr>
          <p:spPr>
            <a:xfrm>
              <a:off x="4876920" y="3352680"/>
              <a:ext cx="2895480" cy="1981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b8d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743200" y="4191120"/>
              <a:ext cx="3886200" cy="1143000"/>
            </a:xfrm>
            <a:prstGeom prst="rect">
              <a:avLst/>
            </a:prstGeom>
            <a:gradFill rotWithShape="0">
              <a:gsLst>
                <a:gs pos="0">
                  <a:srgbClr val="cb8de3"/>
                </a:gs>
                <a:gs pos="100000">
                  <a:srgbClr val="e5ff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Rectangle 7"/>
            <p:cNvSpPr/>
            <p:nvPr/>
          </p:nvSpPr>
          <p:spPr>
            <a:xfrm>
              <a:off x="1371600" y="4876920"/>
              <a:ext cx="4191120" cy="457200"/>
            </a:xfrm>
            <a:prstGeom prst="rect">
              <a:avLst/>
            </a:prstGeom>
            <a:gradFill rotWithShape="0">
              <a:gsLst>
                <a:gs pos="0">
                  <a:srgbClr val="e5ff82"/>
                </a:gs>
                <a:gs pos="100000">
                  <a:srgbClr val="bfde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8"/>
            <p:cNvSpPr/>
            <p:nvPr/>
          </p:nvSpPr>
          <p:spPr>
            <a:xfrm flipV="1">
              <a:off x="1371600" y="5256720"/>
              <a:ext cx="6959520" cy="745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Line 9"/>
            <p:cNvSpPr/>
            <p:nvPr/>
          </p:nvSpPr>
          <p:spPr>
            <a:xfrm flipV="1">
              <a:off x="1371600" y="1600200"/>
              <a:ext cx="0" cy="3733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0" name="Group 10"/>
            <p:cNvGrpSpPr/>
            <p:nvPr/>
          </p:nvGrpSpPr>
          <p:grpSpPr>
            <a:xfrm>
              <a:off x="4343400" y="5334120"/>
              <a:ext cx="838080" cy="413280"/>
              <a:chOff x="4343400" y="5334120"/>
              <a:chExt cx="838080" cy="413280"/>
            </a:xfrm>
          </p:grpSpPr>
          <p:sp>
            <p:nvSpPr>
              <p:cNvPr id="671" name="Text Box 11"/>
              <p:cNvSpPr/>
              <p:nvPr/>
            </p:nvSpPr>
            <p:spPr>
              <a:xfrm>
                <a:off x="43434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08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Line 12"/>
              <p:cNvSpPr/>
              <p:nvPr/>
            </p:nvSpPr>
            <p:spPr>
              <a:xfrm>
                <a:off x="47242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73" name="Freeform 13"/>
            <p:cNvSpPr/>
            <p:nvPr/>
          </p:nvSpPr>
          <p:spPr>
            <a:xfrm>
              <a:off x="1371600" y="1523880"/>
              <a:ext cx="6553080" cy="38102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4" name="Text Box 14"/>
            <p:cNvSpPr/>
            <p:nvPr/>
          </p:nvSpPr>
          <p:spPr>
            <a:xfrm>
              <a:off x="4952880" y="3429000"/>
              <a:ext cx="297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3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Data Aggregatio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(Health Clouds Form)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Text Box 15"/>
            <p:cNvSpPr/>
            <p:nvPr/>
          </p:nvSpPr>
          <p:spPr>
            <a:xfrm>
              <a:off x="5486400" y="2133720"/>
              <a:ext cx="228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4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Personal, Actionable &amp; Mobil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" name="Text Box 16"/>
            <p:cNvSpPr/>
            <p:nvPr/>
          </p:nvSpPr>
          <p:spPr>
            <a:xfrm>
              <a:off x="2819520" y="4267080"/>
              <a:ext cx="167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2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Online &amp; Connected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7" name="Group 17"/>
            <p:cNvGrpSpPr/>
            <p:nvPr/>
          </p:nvGrpSpPr>
          <p:grpSpPr>
            <a:xfrm>
              <a:off x="5257800" y="5334120"/>
              <a:ext cx="838080" cy="413280"/>
              <a:chOff x="5257800" y="5334120"/>
              <a:chExt cx="838080" cy="413280"/>
            </a:xfrm>
          </p:grpSpPr>
          <p:sp>
            <p:nvSpPr>
              <p:cNvPr id="678" name="Text Box 18"/>
              <p:cNvSpPr/>
              <p:nvPr/>
            </p:nvSpPr>
            <p:spPr>
              <a:xfrm>
                <a:off x="52578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11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Line 19"/>
              <p:cNvSpPr/>
              <p:nvPr/>
            </p:nvSpPr>
            <p:spPr>
              <a:xfrm>
                <a:off x="56386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0" name="Text Box 20"/>
            <p:cNvSpPr/>
            <p:nvPr/>
          </p:nvSpPr>
          <p:spPr>
            <a:xfrm>
              <a:off x="1523880" y="48769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Gen 1: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Isolated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81" name="Group 21"/>
            <p:cNvGrpSpPr/>
            <p:nvPr/>
          </p:nvGrpSpPr>
          <p:grpSpPr>
            <a:xfrm>
              <a:off x="3200400" y="5334120"/>
              <a:ext cx="838080" cy="413280"/>
              <a:chOff x="3200400" y="5334120"/>
              <a:chExt cx="838080" cy="413280"/>
            </a:xfrm>
          </p:grpSpPr>
          <p:sp>
            <p:nvSpPr>
              <p:cNvPr id="682" name="Text Box 22"/>
              <p:cNvSpPr/>
              <p:nvPr/>
            </p:nvSpPr>
            <p:spPr>
              <a:xfrm>
                <a:off x="320040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003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3" name="Line 23"/>
              <p:cNvSpPr/>
              <p:nvPr/>
            </p:nvSpPr>
            <p:spPr>
              <a:xfrm>
                <a:off x="358128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4" name="Group 24"/>
            <p:cNvGrpSpPr/>
            <p:nvPr/>
          </p:nvGrpSpPr>
          <p:grpSpPr>
            <a:xfrm>
              <a:off x="990720" y="5334120"/>
              <a:ext cx="838080" cy="413280"/>
              <a:chOff x="990720" y="5334120"/>
              <a:chExt cx="838080" cy="413280"/>
            </a:xfrm>
          </p:grpSpPr>
          <p:sp>
            <p:nvSpPr>
              <p:cNvPr id="685" name="Text Box 25"/>
              <p:cNvSpPr/>
              <p:nvPr/>
            </p:nvSpPr>
            <p:spPr>
              <a:xfrm>
                <a:off x="99072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992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Line 26"/>
              <p:cNvSpPr/>
              <p:nvPr/>
            </p:nvSpPr>
            <p:spPr>
              <a:xfrm>
                <a:off x="13716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7" name="Text Box 27"/>
            <p:cNvSpPr/>
            <p:nvPr/>
          </p:nvSpPr>
          <p:spPr>
            <a:xfrm>
              <a:off x="7620120" y="54100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Time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Text Box 28"/>
            <p:cNvSpPr/>
            <p:nvPr/>
          </p:nvSpPr>
          <p:spPr>
            <a:xfrm rot="16198800">
              <a:off x="-1325160" y="3210840"/>
              <a:ext cx="35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00412"/>
                  </a:solidFill>
                  <a:latin typeface="Arial Black"/>
                </a:rPr>
                <a:t>User Value Proposi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791320" y="15238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old Italic"/>
                </a:rPr>
                <a:t>Adoption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Line 30"/>
            <p:cNvSpPr/>
            <p:nvPr/>
          </p:nvSpPr>
          <p:spPr>
            <a:xfrm>
              <a:off x="6781680" y="175248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1" name="Group 31"/>
            <p:cNvGrpSpPr/>
            <p:nvPr/>
          </p:nvGrpSpPr>
          <p:grpSpPr>
            <a:xfrm>
              <a:off x="2362320" y="5334120"/>
              <a:ext cx="914040" cy="596160"/>
              <a:chOff x="2362320" y="5334120"/>
              <a:chExt cx="914040" cy="596160"/>
            </a:xfrm>
          </p:grpSpPr>
          <p:sp>
            <p:nvSpPr>
              <p:cNvPr id="692" name="Text Box 32"/>
              <p:cNvSpPr/>
              <p:nvPr/>
            </p:nvSpPr>
            <p:spPr>
              <a:xfrm>
                <a:off x="2362320" y="5410080"/>
                <a:ext cx="914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990000"/>
                    </a:solidFill>
                    <a:latin typeface="Arial Black"/>
                  </a:rPr>
                  <a:t>2000</a:t>
                </a:r>
                <a:br>
                  <a:rPr sz="1400"/>
                </a:br>
                <a:r>
                  <a:rPr b="0" i="1" lang="en-US" sz="1400" spc="-1" strike="noStrike">
                    <a:solidFill>
                      <a:srgbClr val="990000"/>
                    </a:solidFill>
                    <a:latin typeface="Arial"/>
                  </a:rPr>
                  <a:t>(Online)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Line 33"/>
              <p:cNvSpPr/>
              <p:nvPr/>
            </p:nvSpPr>
            <p:spPr>
              <a:xfrm>
                <a:off x="277776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4" name="Group 34"/>
            <p:cNvGrpSpPr/>
            <p:nvPr/>
          </p:nvGrpSpPr>
          <p:grpSpPr>
            <a:xfrm>
              <a:off x="7772400" y="4724280"/>
              <a:ext cx="533520" cy="307080"/>
              <a:chOff x="7772400" y="4724280"/>
              <a:chExt cx="533520" cy="307080"/>
            </a:xfrm>
          </p:grpSpPr>
          <p:sp>
            <p:nvSpPr>
              <p:cNvPr id="695" name="Line 35"/>
              <p:cNvSpPr/>
              <p:nvPr/>
            </p:nvSpPr>
            <p:spPr>
              <a:xfrm>
                <a:off x="7772400" y="4896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Text Box 36"/>
              <p:cNvSpPr/>
              <p:nvPr/>
            </p:nvSpPr>
            <p:spPr>
              <a:xfrm>
                <a:off x="7848720" y="47242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37"/>
            <p:cNvGrpSpPr/>
            <p:nvPr/>
          </p:nvGrpSpPr>
          <p:grpSpPr>
            <a:xfrm>
              <a:off x="990720" y="5334120"/>
              <a:ext cx="838080" cy="413280"/>
              <a:chOff x="990720" y="5334120"/>
              <a:chExt cx="838080" cy="413280"/>
            </a:xfrm>
          </p:grpSpPr>
          <p:sp>
            <p:nvSpPr>
              <p:cNvPr id="698" name="Text Box 38"/>
              <p:cNvSpPr/>
              <p:nvPr/>
            </p:nvSpPr>
            <p:spPr>
              <a:xfrm>
                <a:off x="990720" y="541008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992</a:t>
                </a:r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9"/>
              <p:cNvSpPr/>
              <p:nvPr/>
            </p:nvSpPr>
            <p:spPr>
              <a:xfrm>
                <a:off x="1371600" y="5334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40"/>
            <p:cNvGrpSpPr/>
            <p:nvPr/>
          </p:nvGrpSpPr>
          <p:grpSpPr>
            <a:xfrm>
              <a:off x="7772400" y="4267080"/>
              <a:ext cx="533520" cy="307080"/>
              <a:chOff x="7772400" y="4267080"/>
              <a:chExt cx="533520" cy="307080"/>
            </a:xfrm>
          </p:grpSpPr>
          <p:sp>
            <p:nvSpPr>
              <p:cNvPr id="701" name="Line 41"/>
              <p:cNvSpPr/>
              <p:nvPr/>
            </p:nvSpPr>
            <p:spPr>
              <a:xfrm>
                <a:off x="7772400" y="44388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2" name="Text Box 42"/>
              <p:cNvSpPr/>
              <p:nvPr/>
            </p:nvSpPr>
            <p:spPr>
              <a:xfrm>
                <a:off x="7848720" y="4267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03" name="Group 43"/>
            <p:cNvGrpSpPr/>
            <p:nvPr/>
          </p:nvGrpSpPr>
          <p:grpSpPr>
            <a:xfrm>
              <a:off x="7772400" y="3352680"/>
              <a:ext cx="533520" cy="307080"/>
              <a:chOff x="7772400" y="3352680"/>
              <a:chExt cx="533520" cy="307080"/>
            </a:xfrm>
          </p:grpSpPr>
          <p:sp>
            <p:nvSpPr>
              <p:cNvPr id="704" name="Line 44"/>
              <p:cNvSpPr/>
              <p:nvPr/>
            </p:nvSpPr>
            <p:spPr>
              <a:xfrm>
                <a:off x="7772400" y="3524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5" name="Text Box 45"/>
              <p:cNvSpPr/>
              <p:nvPr/>
            </p:nvSpPr>
            <p:spPr>
              <a:xfrm>
                <a:off x="7848720" y="3352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80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6" name="Text Box 46"/>
            <p:cNvSpPr/>
            <p:nvPr/>
          </p:nvSpPr>
          <p:spPr>
            <a:xfrm>
              <a:off x="7620120" y="2209680"/>
              <a:ext cx="1218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Text Box 47"/>
            <p:cNvSpPr/>
            <p:nvPr/>
          </p:nvSpPr>
          <p:spPr>
            <a:xfrm>
              <a:off x="7848720" y="228600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Users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(Millions)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8" name="Text Box 48"/>
            <p:cNvSpPr/>
            <p:nvPr/>
          </p:nvSpPr>
          <p:spPr>
            <a:xfrm>
              <a:off x="609480" y="5029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9" name="Text Box 49"/>
            <p:cNvSpPr/>
            <p:nvPr/>
          </p:nvSpPr>
          <p:spPr>
            <a:xfrm>
              <a:off x="609480" y="1828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 Black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C55-7E80-4E29-A142-CE3106F68E8D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6B6-8E36-4B1B-85F3-21248E59DF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3" name="Picture 8" descr="white male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581280" y="1143000"/>
            <a:ext cx="1890720" cy="25542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dice"/>
          <p:cNvPicPr/>
          <p:nvPr/>
        </p:nvPicPr>
        <p:blipFill>
          <a:blip r:embed="rId2"/>
          <a:stretch/>
        </p:blipFill>
        <p:spPr>
          <a:xfrm rot="768000">
            <a:off x="6171840" y="1600200"/>
            <a:ext cx="1879560" cy="2819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iphone"/>
          <p:cNvPicPr/>
          <p:nvPr/>
        </p:nvPicPr>
        <p:blipFill>
          <a:blip r:embed="rId3"/>
          <a:stretch/>
        </p:blipFill>
        <p:spPr>
          <a:xfrm rot="20722200">
            <a:off x="846000" y="1703160"/>
            <a:ext cx="1743120" cy="20574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Generation 4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“Convergence”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Personal, Actionable, Connecte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0" y="563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Value: About Me, By Me, With Me, For 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8" name="Picture 7" descr="patients like me screen shot"/>
          <p:cNvPicPr/>
          <p:nvPr/>
        </p:nvPicPr>
        <p:blipFill>
          <a:blip r:embed="rId4"/>
          <a:stretch/>
        </p:blipFill>
        <p:spPr>
          <a:xfrm>
            <a:off x="2362320" y="3505320"/>
            <a:ext cx="4190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258-B789-47EE-A852-CCF4FF2C8DB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360-8617-412E-A100-00EE3EB61C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at to Wat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ction of Platform Pl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Sources (agree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.g., Cleveland-Google, KP-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w HIPAA Extension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umer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b-group typ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r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pular apps/servic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er Succe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ble RO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hings mHealt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rtphones change eq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ometrics play key rol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4" descr="man looking through a piece of art that has a magnifiying glass"/>
          <p:cNvPicPr/>
          <p:nvPr/>
        </p:nvPicPr>
        <p:blipFill>
          <a:blip r:embed="rId1"/>
          <a:stretch/>
        </p:blipFill>
        <p:spPr>
          <a:xfrm rot="503400">
            <a:off x="5334120" y="1371240"/>
            <a:ext cx="34956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6A6-9142-4611-9629-73DE66D62643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4C9-631F-4642-BD91-D72945974B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Into the Future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etric Devices Become a Critical Data Sour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IEs will Serve Citizens as W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Liquidity &amp; Quality wi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 Challeng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ingful Use Requirement May Backfi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4" descr="crystal-ball"/>
          <p:cNvPicPr/>
          <p:nvPr/>
        </p:nvPicPr>
        <p:blipFill>
          <a:blip r:embed="rId1"/>
          <a:stretch/>
        </p:blipFill>
        <p:spPr>
          <a:xfrm rot="1088400">
            <a:off x="6170400" y="1979640"/>
            <a:ext cx="2535120" cy="33494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6"/>
          <p:cNvSpPr/>
          <p:nvPr/>
        </p:nvSpPr>
        <p:spPr>
          <a:xfrm>
            <a:off x="380880" y="548640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Biggest Challenge: Sourcing Quality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0157-94B9-47E8-9545-32B780AEECDA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722-6234-4326-989F-30C71220FB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nal Thoughts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ime to Ditch PHR Ter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nsumers NOT Interested i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igital File Cabi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ersonal Health Platform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PHP) are Fu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al, Actionabl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ucation Critic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’s in it for 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ithout Consumer Engagement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IT Adoption may be DO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imulus Funding is Not Enough to Move Need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7" name="Picture 4" descr="brain-imag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7D1-C2B5-4F58-9C38-FCD383349545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0B8-D23D-49A4-A529-5758074CD4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The First Wealth is Health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-Ralph Waldo Emers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The Best Way to Predict the 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Minion Pro Bold Ital"/>
              </a:rPr>
              <a:t>Future is to Create it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- Peter Drucker</a:t>
            </a:r>
            <a:r>
              <a:rPr b="1" lang="en-US" sz="4000" spc="-1" strike="noStrike">
                <a:solidFill>
                  <a:srgbClr val="000000"/>
                </a:solidFill>
                <a:latin typeface="Minion Pro SmBd It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098-93A3-4A81-A3F1-38FB0572F37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0ED-3676-4210-9593-D46F714541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5" name="Picture 9" descr="cloud-computing"/>
          <p:cNvPicPr/>
          <p:nvPr/>
        </p:nvPicPr>
        <p:blipFill>
          <a:blip r:embed="rId1"/>
          <a:stretch/>
        </p:blipFill>
        <p:spPr>
          <a:xfrm>
            <a:off x="4191120" y="3581280"/>
            <a:ext cx="3124080" cy="16542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e Take-Away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lthcare in Transition &amp; the Move Onlin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Rs Tod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ption/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Rs Tomorrow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of PH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7315200" y="3962520"/>
            <a:ext cx="990720" cy="1143000"/>
          </a:xfrm>
          <a:prstGeom prst="upArrow">
            <a:avLst>
              <a:gd name="adj1" fmla="val 50000"/>
              <a:gd name="adj2" fmla="val 28843"/>
            </a:avLst>
          </a:prstGeom>
          <a:gradFill rotWithShape="0">
            <a:gsLst>
              <a:gs pos="0">
                <a:srgbClr val="489173"/>
              </a:gs>
              <a:gs pos="100000">
                <a:srgbClr val="fff78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8001000" y="4648320"/>
            <a:ext cx="990720" cy="1218960"/>
          </a:xfrm>
          <a:prstGeom prst="downArrow">
            <a:avLst>
              <a:gd name="adj1" fmla="val 50000"/>
              <a:gd name="adj2" fmla="val 30759"/>
            </a:avLst>
          </a:prstGeom>
          <a:gradFill rotWithShape="0">
            <a:gsLst>
              <a:gs pos="0">
                <a:srgbClr val="fff789"/>
              </a:gs>
              <a:gs pos="100000">
                <a:srgbClr val="ff001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0" name="Picture 6" descr="picture of two men at a computer"/>
          <p:cNvPicPr/>
          <p:nvPr/>
        </p:nvPicPr>
        <p:blipFill>
          <a:blip r:embed="rId2"/>
          <a:stretch/>
        </p:blipFill>
        <p:spPr>
          <a:xfrm>
            <a:off x="4724280" y="160020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picture of a road"/>
          <p:cNvPicPr/>
          <p:nvPr/>
        </p:nvPicPr>
        <p:blipFill>
          <a:blip r:embed="rId3"/>
          <a:stretch/>
        </p:blipFill>
        <p:spPr>
          <a:xfrm>
            <a:off x="6553080" y="1295280"/>
            <a:ext cx="1752840" cy="11750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picture of web address"/>
          <p:cNvPicPr/>
          <p:nvPr/>
        </p:nvPicPr>
        <p:blipFill>
          <a:blip r:embed="rId4"/>
          <a:stretch/>
        </p:blipFill>
        <p:spPr>
          <a:xfrm>
            <a:off x="5867280" y="2895480"/>
            <a:ext cx="30481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E08F-F916-46B8-8105-9D2733A13E8C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4E16-880D-4E83-9A59-542587649B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cro Trends Reshaping Healthc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wing Consumerism in Healthca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loyee Accountability &amp; Cost Sha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t of Pocket Expense Yr’00: $200B, Yr’07: $267B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intermediation of 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ail Clinics, eVisits, MedTourism, Virtual Lab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Lib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ditional: PubMed, Mayo, Web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wd-sourced: Wiki(s), Blogs, Twitter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imulus Bill &amp; Healthcare Refor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precedented $$$ to Digitize Health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Effectiv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5" descr="  hcmacro3"/>
          <p:cNvPicPr/>
          <p:nvPr/>
        </p:nvPicPr>
        <p:blipFill>
          <a:blip r:embed="rId1"/>
          <a:stretch/>
        </p:blipFill>
        <p:spPr>
          <a:xfrm>
            <a:off x="6705720" y="335268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7F0F-6AB9-4AE3-B693-885107098901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DFE-6E1B-4111-95D5-F08A780072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ile Consumers Increasingly Go Online for Health Info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85800" y="1523880"/>
          <a:ext cx="8077320" cy="38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bar graph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73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1029"/>
          <p:cNvSpPr/>
          <p:nvPr/>
        </p:nvSpPr>
        <p:spPr>
          <a:xfrm>
            <a:off x="6922800" y="43434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Pew Research 2006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74% of all adults are onlin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Rectangle 1030"/>
          <p:cNvSpPr/>
          <p:nvPr/>
        </p:nvSpPr>
        <p:spPr>
          <a:xfrm>
            <a:off x="0" y="5562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Now One of the Top Activities on the 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30D3-22B9-4376-876A-30186BCE5D5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4E9-8A81-4501-9560-F5E02FAFB4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w Manage Health Records on Ne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-1600200" y="1752480"/>
          <a:ext cx="73915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pie char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1752480"/>
                    <a:ext cx="73915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2666880" y="914400"/>
          <a:ext cx="8775720" cy="513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914400"/>
                    <a:ext cx="877572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Line 5"/>
          <p:cNvSpPr/>
          <p:nvPr/>
        </p:nvSpPr>
        <p:spPr>
          <a:xfrm flipV="1">
            <a:off x="2133720" y="2133360"/>
            <a:ext cx="4572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3200400" y="4114800"/>
            <a:ext cx="3352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6344640" y="502920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Forrester Research Q2’08 Survey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= 5,242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0" y="5562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Today, Meager 3.3% iManage PH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F2E3-C3CF-4EE7-935E-AC2610F295CB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A8D-91B2-4E5B-BB4F-04330EA0C7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e Dominate PHR Model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 to Consumer =&gt; Manage Recor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Full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umer self-populates, disconnec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ll ISVs with Little Market Influ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apMed, Medikeeper, PassportM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yer/Employer Sponsored =&gt; Lower ML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Limited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ust issues, portability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cus on HRAs, Health &amp; Wellness, Disease 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centives common to drive adoptio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ider Sponsored =&gt; Customer Reten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umer has Limited Contr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ittle portability, modest tools, incomplete longitudinal recor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Labs, Meds, Dis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lnSpc>
                <a:spcPct val="90000"/>
              </a:lnSpc>
              <a:spcBef>
                <a:spcPts val="400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cilitate transactional processe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CE1F-8534-4503-AE4B-A9E13CB1B9E8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474-2A8B-4224-93A5-5D3B025EAE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HR Adoption is Widely Disperse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1371600"/>
          <a:ext cx="9144000" cy="5281560"/>
        </p:xfrm>
        <a:graphic>
          <a:graphicData uri="http://schemas.openxmlformats.org/drawingml/2006/table">
            <a:tbl>
              <a:tblPr/>
              <a:tblGrid>
                <a:gridCol w="2023920"/>
                <a:gridCol w="1100160"/>
                <a:gridCol w="1219320"/>
                <a:gridCol w="1600200"/>
                <a:gridCol w="320040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. of Us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R Plat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at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iser-Perman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M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h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R portal w/email &amp; transaction services</a:t>
                      </a:r>
                      <a:br>
                        <a:rPr sz="1400"/>
                      </a:b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teran’s Ad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O (Vist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R portal,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porta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M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M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 defined, claims-based HRA &amp; alerts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rely portab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et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78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Heal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on HRA, DM, aggressive build-ou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ed Health Gr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2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lthAto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ims-based, part of new OptumHealth Div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veland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ha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ilar to K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Goog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DM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ing portal w/email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ability w/Google &amp; HealthVa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Oth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l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ly variable, most simple templates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tle portabil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103-6ADA-426C-97A5-63CEDBE11B00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D9D-980F-4A64-89D3-CE78D5D66A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HRs: What Are They Good For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50% of Employ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wer MLRs = Lower Healthcar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8680" indent="-223920">
              <a:spcBef>
                <a:spcPts val="45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T: $50M in 4 year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aiser-Permanen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50% of Members with Internet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st Savings via Fewer Office Vis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ana Univers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op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ver 40% of Entering Cla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nef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ower Admin Costs, Student Eng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380880" y="5562720"/>
            <a:ext cx="8610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All Depends on Who You Ask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52A4-01F3-4C8A-8D4E-34982570B4F7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pyrigh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: Chilmark Research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internal use only, not for distributio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299-DED7-44AF-A67B-96C2E6A6F9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Top 3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Challenges to Adop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ting it, Cleansing i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ing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cy &amp; Secur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00412"/>
              </a:buClr>
              <a:buSzPct val="8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00412"/>
              </a:buClr>
              <a:buSzPct val="80000"/>
              <a:buFont typeface="Wingdings 2" charset="2"/>
              <a:buChar char="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380880" y="5638680"/>
            <a:ext cx="8610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00412"/>
                </a:solidFill>
                <a:latin typeface="Verdana"/>
              </a:rPr>
              <a:t>Consumer Engagement Begins 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1" name="Picture 5" descr="  matrix2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3390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 hand with trust written on it"/>
          <p:cNvPicPr/>
          <p:nvPr/>
        </p:nvPicPr>
        <p:blipFill>
          <a:blip r:embed="rId2"/>
          <a:stretch/>
        </p:blipFill>
        <p:spPr>
          <a:xfrm>
            <a:off x="3657600" y="2743200"/>
            <a:ext cx="3124080" cy="2341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  relevance"/>
          <p:cNvPicPr/>
          <p:nvPr/>
        </p:nvPicPr>
        <p:blipFill>
          <a:blip r:embed="rId3"/>
          <a:stretch/>
        </p:blipFill>
        <p:spPr>
          <a:xfrm>
            <a:off x="6418440" y="2438280"/>
            <a:ext cx="2725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18:50Z</dcterms:created>
  <dc:creator>John Moore</dc:creator>
  <dc:description/>
  <dc:language>en-US</dc:language>
  <cp:lastModifiedBy>Chettra.Chhiet</cp:lastModifiedBy>
  <cp:lastPrinted>2009-03-18T19:17:53Z</cp:lastPrinted>
  <dcterms:modified xsi:type="dcterms:W3CDTF">2009-12-04T13:48:27Z</dcterms:modified>
  <cp:revision>92</cp:revision>
  <dc:subject/>
  <dc:title>What’s Really Going On? or PHRs, Platforms, &amp; Consumer Trends</dc:title>
</cp:coreProperties>
</file>