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910584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584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Group 103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Rectangle 79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4a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Text Box 91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Line 92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Group 93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Line 94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Line 95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714680" y="114300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7"/>
          <p:cNvGrpSpPr/>
          <p:nvPr/>
        </p:nvGrpSpPr>
        <p:grpSpPr>
          <a:xfrm>
            <a:off x="723960" y="0"/>
            <a:ext cx="8229600" cy="2360520"/>
            <a:chOff x="723960" y="0"/>
            <a:chExt cx="8229600" cy="2360520"/>
          </a:xfrm>
        </p:grpSpPr>
        <p:sp>
          <p:nvSpPr>
            <p:cNvPr id="51" name="Rectangle 85"/>
            <p:cNvSpPr/>
            <p:nvPr/>
          </p:nvSpPr>
          <p:spPr>
            <a:xfrm>
              <a:off x="723960" y="75960"/>
              <a:ext cx="8229600" cy="213336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876240" y="0"/>
            <a:ext cx="2405160" cy="2360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76240" y="0"/>
                      <a:ext cx="2405160" cy="23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Text Box 98"/>
            <p:cNvSpPr/>
            <p:nvPr/>
          </p:nvSpPr>
          <p:spPr>
            <a:xfrm>
              <a:off x="3244680" y="136188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99"/>
            <p:cNvSpPr/>
            <p:nvPr/>
          </p:nvSpPr>
          <p:spPr>
            <a:xfrm>
              <a:off x="3238560" y="75960"/>
              <a:ext cx="0" cy="21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Line 100"/>
            <p:cNvSpPr/>
            <p:nvPr/>
          </p:nvSpPr>
          <p:spPr>
            <a:xfrm>
              <a:off x="3243240" y="171900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Group 101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8" name="Line 102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103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0" name=""/>
          <p:cNvGraphicFramePr/>
          <p:nvPr/>
        </p:nvGraphicFramePr>
        <p:xfrm>
          <a:off x="3162240" y="0"/>
          <a:ext cx="3333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62240" y="0"/>
                    <a:ext cx="3333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40" y="28195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forming Disease Prevention &amp; Health Promo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440" y="39621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Kurt St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teven Teuts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Steven Wo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ator: Dr. Tess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Graham</cp:lastModifiedBy>
  <cp:lastPrinted>2003-01-21T20:19:23Z</cp:lastPrinted>
  <dcterms:modified xsi:type="dcterms:W3CDTF">2009-10-26T20:58:22Z</dcterms:modified>
  <cp:revision>122</cp:revision>
  <dc:subject/>
  <dc:title>AHRQ Slide Template 2004</dc:title>
</cp:coreProperties>
</file>