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9.jpeg" ContentType="image/jpeg"/>
  <Override PartName="/ppt/media/image4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B32B9B-DA20-4A13-8398-AF92A6841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9DD3-111D-4BE2-A105-24CCF06FBD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56040" y="881712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8084-2241-49CB-9B0C-5DE2CF6F0460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956040" y="881712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70E0-814F-43FC-AE4C-91BA874863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956040" y="881712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0A0C-D341-459C-9D61-84277D824B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956040" y="881712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9A9B-78B9-4BC4-8DD1-769D954E4017}" type="slidenum">
              <a:rPr b="0" lang="nb-NO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56040" y="881712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1B75-5BBA-4053-BB9D-2D5C6AFD3EE7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6480" y="701640"/>
            <a:ext cx="4632120" cy="3473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56040" y="881712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046E-7640-40D9-AD12-A4FDB5CE099F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56040" y="881712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DDB6-1D70-4B19-91E0-D49AC26144A0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56040" y="881712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17C4-9B33-4187-A160-A9D42BE7F7BA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 QD targets are HEDIS target (BP, lipid, HTN) or Partners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rify zero defect (ASA, BP, HTN, lipids) or # deficiency care (14: 0, 1, or 2 points for each of 7 item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docs.google.com/present/edit?id=0AQu-G2Fdf-MIZGZkazViazhfMTEwNTdmdzRya2ZnZw&amp;hl=en%23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mailto:bmiddleton1@partners.org" TargetMode="External"/><Relationship Id="rId3" Type="http://schemas.openxmlformats.org/officeDocument/2006/relationships/hyperlink" Target="http://www.partners.org/cird" TargetMode="External"/><Relationship Id="rId4" Type="http://schemas.openxmlformats.org/officeDocument/2006/relationships/hyperlink" Target="http://www.citl.org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nical Decision Support at Partners Healthca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lackford Middleton, MD, MPH, MS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porate Director, Clinical Informatics R&amp;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irman, Center for IT Lead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 Healthcar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vard Medical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vard School of Public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screen shot of current medications"/>
          <p:cNvPicPr/>
          <p:nvPr/>
        </p:nvPicPr>
        <p:blipFill>
          <a:blip r:embed="rId1"/>
          <a:stretch/>
        </p:blipFill>
        <p:spPr>
          <a:xfrm>
            <a:off x="838080" y="-57240"/>
            <a:ext cx="7734600" cy="69915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7086600" y="2568600"/>
            <a:ext cx="19512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a"/>
                </a:solidFill>
                <a:latin typeface="Times New Roman"/>
                <a:ea typeface="Arial"/>
              </a:rPr>
              <a:t>Discrep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 flipH="1" flipV="1">
            <a:off x="5924520" y="2305080"/>
            <a:ext cx="1233360" cy="457200"/>
          </a:xfrm>
          <a:prstGeom prst="line">
            <a:avLst/>
          </a:prstGeom>
          <a:ln w="38160">
            <a:solidFill>
              <a:srgbClr val="8cf4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742160" y="3787920"/>
            <a:ext cx="12654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a"/>
                </a:solidFill>
                <a:latin typeface="Times New Roman"/>
                <a:ea typeface="Arial"/>
              </a:rPr>
              <a:t>Deta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6"/>
          <p:cNvSpPr/>
          <p:nvPr/>
        </p:nvSpPr>
        <p:spPr>
          <a:xfrm flipH="1" flipV="1">
            <a:off x="7067160" y="3828960"/>
            <a:ext cx="762120" cy="152640"/>
          </a:xfrm>
          <a:prstGeom prst="line">
            <a:avLst/>
          </a:prstGeom>
          <a:ln w="38160">
            <a:solidFill>
              <a:srgbClr val="8cf4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41904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erious Medication Error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tes Before and After CPO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2057400"/>
          <a:ext cx="794232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bar graph of error rates before and after CPO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9423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Box 5"/>
          <p:cNvSpPr/>
          <p:nvPr/>
        </p:nvSpPr>
        <p:spPr>
          <a:xfrm>
            <a:off x="4597200" y="640080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ates  et. al. JAMA 1998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eliminary Resul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mart Form On Treatment Analysi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0" name="Chart 4" descr="bar graph of smart form on treatment analysis"/>
          <p:cNvPicPr/>
          <p:nvPr/>
        </p:nvPicPr>
        <p:blipFill>
          <a:blip r:embed="rId1"/>
          <a:stretch/>
        </p:blipFill>
        <p:spPr>
          <a:xfrm>
            <a:off x="298440" y="1292400"/>
            <a:ext cx="7632720" cy="5492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7620120" y="236232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4419720" y="624528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4876920" y="556272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4073400" y="49500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7620120" y="236232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4419720" y="307800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4073400" y="3657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.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4648320" y="441972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.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Journal Cause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vider Activa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" name="Picture 3" descr="bar graph"/>
          <p:cNvPicPr/>
          <p:nvPr/>
        </p:nvPicPr>
        <p:blipFill>
          <a:blip r:embed="rId1"/>
          <a:srcRect l="14455" t="0" r="0" b="0"/>
          <a:stretch/>
        </p:blipFill>
        <p:spPr>
          <a:xfrm>
            <a:off x="1373040" y="2548080"/>
            <a:ext cx="6323040" cy="3460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2895480" y="6172200"/>
            <a:ext cx="586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Grant RW et al. Practice-linked Online Personal Health Records for Type 2 Diabetes: A Randomized Controlled Trial.  </a:t>
            </a:r>
            <a:r>
              <a:rPr b="0" i="1" lang="en-US" sz="1200" spc="-1" strike="noStrike" u="sng">
                <a:solidFill>
                  <a:srgbClr val="fafd00"/>
                </a:solidFill>
                <a:uFillTx/>
                <a:latin typeface="Times New Roman"/>
                <a:hlinkClick r:id="rId2"/>
              </a:rPr>
              <a:t>Arch Intern Med.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2008 Sep 8;168(16):1776-82.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099080" y="1828800"/>
            <a:ext cx="71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re medication changes in visits after diabetes journal submiss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8444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 external repository of clinical content with web-based viewe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457200" y="1647720"/>
            <a:ext cx="8305920" cy="49053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304920" y="2438280"/>
            <a:ext cx="4114800" cy="1067040"/>
          </a:xfrm>
          <a:prstGeom prst="rect">
            <a:avLst/>
          </a:prstGeom>
          <a:solidFill>
            <a:srgbClr val="8cf4ea"/>
          </a:solidFill>
          <a:ln w="25560">
            <a:solidFill>
              <a:srgbClr val="65b3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arch Cri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800600" y="3048120"/>
            <a:ext cx="4114800" cy="1066680"/>
          </a:xfrm>
          <a:prstGeom prst="rect">
            <a:avLst/>
          </a:prstGeom>
          <a:solidFill>
            <a:srgbClr val="8cf4ea"/>
          </a:solidFill>
          <a:ln w="25560">
            <a:solidFill>
              <a:srgbClr val="65b3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 Type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04920" y="3962520"/>
            <a:ext cx="4114800" cy="1066680"/>
          </a:xfrm>
          <a:prstGeom prst="rect">
            <a:avLst/>
          </a:prstGeom>
          <a:solidFill>
            <a:srgbClr val="8cf4ea"/>
          </a:solidFill>
          <a:ln w="25560">
            <a:solidFill>
              <a:srgbClr val="65b3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ecial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ounded Rectangle 5"/>
          <p:cNvSpPr/>
          <p:nvPr/>
        </p:nvSpPr>
        <p:spPr>
          <a:xfrm>
            <a:off x="324000" y="260280"/>
            <a:ext cx="8496000" cy="6337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26770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9" name="Straight Arrow Connector 84"/>
          <p:cNvCxnSpPr/>
          <p:nvPr/>
        </p:nvCxnSpPr>
        <p:spPr>
          <a:xfrm flipV="1">
            <a:off x="1428480" y="3142440"/>
            <a:ext cx="686520" cy="50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70" name="Picture 8" descr=""/>
          <p:cNvPicPr/>
          <p:nvPr/>
        </p:nvPicPr>
        <p:blipFill>
          <a:blip r:embed="rId1"/>
          <a:stretch/>
        </p:blipFill>
        <p:spPr>
          <a:xfrm>
            <a:off x="281160" y="1143000"/>
            <a:ext cx="2449440" cy="1762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8" descr=""/>
          <p:cNvPicPr/>
          <p:nvPr/>
        </p:nvPicPr>
        <p:blipFill>
          <a:blip r:embed="rId2"/>
          <a:stretch/>
        </p:blipFill>
        <p:spPr>
          <a:xfrm flipH="1">
            <a:off x="1079640" y="3500280"/>
            <a:ext cx="706320" cy="792360"/>
          </a:xfrm>
          <a:prstGeom prst="rect">
            <a:avLst/>
          </a:prstGeom>
          <a:ln w="0">
            <a:noFill/>
          </a:ln>
        </p:spPr>
      </p:pic>
      <p:sp>
        <p:nvSpPr>
          <p:cNvPr id="172" name="Line 34"/>
          <p:cNvSpPr/>
          <p:nvPr/>
        </p:nvSpPr>
        <p:spPr>
          <a:xfrm flipH="1" flipV="1">
            <a:off x="5714640" y="2214720"/>
            <a:ext cx="1071720" cy="207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6072120" y="5715000"/>
            <a:ext cx="2214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700" spc="-1" strike="noStrike">
                <a:solidFill>
                  <a:srgbClr val="ffffff"/>
                </a:solidFill>
                <a:latin typeface="Calibri"/>
              </a:rPr>
              <a:t>Community (”Crowd”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4" name="Straight Arrow Connector 81"/>
          <p:cNvCxnSpPr/>
          <p:nvPr/>
        </p:nvCxnSpPr>
        <p:spPr>
          <a:xfrm flipH="1" flipV="1">
            <a:off x="1571400" y="4357080"/>
            <a:ext cx="357840" cy="572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5" name="Text Box 18"/>
          <p:cNvSpPr/>
          <p:nvPr/>
        </p:nvSpPr>
        <p:spPr>
          <a:xfrm>
            <a:off x="785880" y="5715000"/>
            <a:ext cx="2449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700" spc="-1" strike="noStrike">
                <a:solidFill>
                  <a:srgbClr val="ffffff"/>
                </a:solidFill>
                <a:latin typeface="Calibri"/>
              </a:rPr>
              <a:t>Medical Professiona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33"/>
          <p:cNvSpPr/>
          <p:nvPr/>
        </p:nvSpPr>
        <p:spPr>
          <a:xfrm>
            <a:off x="7215120" y="2214720"/>
            <a:ext cx="0" cy="1928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" name="Straight Arrow Connector 70"/>
          <p:cNvCxnSpPr/>
          <p:nvPr/>
        </p:nvCxnSpPr>
        <p:spPr>
          <a:xfrm flipH="1">
            <a:off x="4714560" y="2143080"/>
            <a:ext cx="2160" cy="286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8" name="Line 40"/>
          <p:cNvSpPr/>
          <p:nvPr/>
        </p:nvSpPr>
        <p:spPr>
          <a:xfrm flipH="1">
            <a:off x="2571840" y="4643280"/>
            <a:ext cx="1714320" cy="35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Straight Arrow Connector 71"/>
          <p:cNvCxnSpPr/>
          <p:nvPr/>
        </p:nvCxnSpPr>
        <p:spPr>
          <a:xfrm flipH="1">
            <a:off x="4714560" y="3454560"/>
            <a:ext cx="2160" cy="475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0" name="Line 44"/>
          <p:cNvSpPr/>
          <p:nvPr/>
        </p:nvSpPr>
        <p:spPr>
          <a:xfrm>
            <a:off x="5286240" y="4643280"/>
            <a:ext cx="73188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1" name="Straight Arrow Connector 79"/>
          <p:cNvCxnSpPr/>
          <p:nvPr/>
        </p:nvCxnSpPr>
        <p:spPr>
          <a:xfrm>
            <a:off x="3071520" y="2879280"/>
            <a:ext cx="1215000" cy="1407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182" name="Line 45"/>
          <p:cNvSpPr/>
          <p:nvPr/>
        </p:nvSpPr>
        <p:spPr>
          <a:xfrm flipH="1" flipV="1">
            <a:off x="5643720" y="3143160"/>
            <a:ext cx="933120" cy="1362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3" name="Straight Arrow Connector 75"/>
          <p:cNvCxnSpPr/>
          <p:nvPr/>
        </p:nvCxnSpPr>
        <p:spPr>
          <a:xfrm>
            <a:off x="2643120" y="5357880"/>
            <a:ext cx="32868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84" name=""/>
          <p:cNvGrpSpPr/>
          <p:nvPr/>
        </p:nvGrpSpPr>
        <p:grpSpPr>
          <a:xfrm>
            <a:off x="442800" y="1428840"/>
            <a:ext cx="7844040" cy="4287600"/>
            <a:chOff x="442800" y="1428840"/>
            <a:chExt cx="7844040" cy="4287600"/>
          </a:xfrm>
        </p:grpSpPr>
        <p:sp>
          <p:nvSpPr>
            <p:cNvPr id="185" name="Text Box 9"/>
            <p:cNvSpPr/>
            <p:nvPr/>
          </p:nvSpPr>
          <p:spPr>
            <a:xfrm>
              <a:off x="442800" y="1646280"/>
              <a:ext cx="21272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600" spc="-1" strike="noStrike">
                  <a:solidFill>
                    <a:srgbClr val="00002a"/>
                  </a:solidFill>
                  <a:latin typeface="Calibri"/>
                </a:rPr>
                <a:t>Personal Heal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600" spc="-1" strike="noStrike">
                  <a:solidFill>
                    <a:srgbClr val="00002a"/>
                  </a:solidFill>
                  <a:latin typeface="Calibri"/>
                </a:rPr>
                <a:t>Information 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Picture 13" descr=""/>
            <p:cNvPicPr/>
            <p:nvPr/>
          </p:nvPicPr>
          <p:blipFill>
            <a:blip r:embed="rId3"/>
            <a:stretch/>
          </p:blipFill>
          <p:spPr>
            <a:xfrm>
              <a:off x="6164280" y="4357800"/>
              <a:ext cx="212256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7" descr=""/>
            <p:cNvPicPr/>
            <p:nvPr/>
          </p:nvPicPr>
          <p:blipFill>
            <a:blip r:embed="rId4"/>
            <a:stretch/>
          </p:blipFill>
          <p:spPr>
            <a:xfrm>
              <a:off x="1614600" y="4643280"/>
              <a:ext cx="742680" cy="89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Group 27"/>
            <p:cNvGrpSpPr/>
            <p:nvPr/>
          </p:nvGrpSpPr>
          <p:grpSpPr>
            <a:xfrm>
              <a:off x="6087960" y="1438200"/>
              <a:ext cx="2127240" cy="1204920"/>
              <a:chOff x="6087960" y="1438200"/>
              <a:chExt cx="2127240" cy="1204920"/>
            </a:xfrm>
          </p:grpSpPr>
          <p:pic>
            <p:nvPicPr>
              <p:cNvPr id="189" name="Picture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6232680" y="1438200"/>
                <a:ext cx="1873080" cy="12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20"/>
              <p:cNvSpPr/>
              <p:nvPr/>
            </p:nvSpPr>
            <p:spPr>
              <a:xfrm>
                <a:off x="6087960" y="1742760"/>
                <a:ext cx="212724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b-NO" sz="1700" spc="-1" strike="noStrike">
                    <a:solidFill>
                      <a:srgbClr val="00002a"/>
                    </a:solidFill>
                    <a:latin typeface="Calibri"/>
                  </a:rPr>
                  <a:t>Science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91" name="Picture 25" descr=""/>
            <p:cNvPicPr/>
            <p:nvPr/>
          </p:nvPicPr>
          <p:blipFill>
            <a:blip r:embed="rId6"/>
            <a:stretch/>
          </p:blipFill>
          <p:spPr>
            <a:xfrm>
              <a:off x="3786120" y="1428840"/>
              <a:ext cx="18590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21"/>
            <p:cNvSpPr/>
            <p:nvPr/>
          </p:nvSpPr>
          <p:spPr>
            <a:xfrm>
              <a:off x="3214800" y="1596960"/>
              <a:ext cx="3000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700" spc="-1" strike="noStrike">
                  <a:solidFill>
                    <a:srgbClr val="00002a"/>
                  </a:solidFill>
                  <a:latin typeface="Calibri"/>
                </a:rPr>
                <a:t>Rule build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3" name="Picture 28" descr=""/>
            <p:cNvPicPr/>
            <p:nvPr/>
          </p:nvPicPr>
          <p:blipFill>
            <a:blip r:embed="rId7"/>
            <a:stretch/>
          </p:blipFill>
          <p:spPr>
            <a:xfrm>
              <a:off x="3714840" y="2571840"/>
              <a:ext cx="1928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22"/>
            <p:cNvSpPr/>
            <p:nvPr/>
          </p:nvSpPr>
          <p:spPr>
            <a:xfrm>
              <a:off x="3357720" y="2708280"/>
              <a:ext cx="266220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700" spc="-1" strike="noStrike">
                  <a:solidFill>
                    <a:srgbClr val="00002a"/>
                  </a:solidFill>
                  <a:latin typeface="Calibri"/>
                </a:rPr>
                <a:t>Knowledg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700" spc="-1" strike="noStrike">
                  <a:solidFill>
                    <a:srgbClr val="00002a"/>
                  </a:solidFill>
                  <a:latin typeface="Calibri"/>
                </a:rPr>
                <a:t>respository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5" name="Picture 30" descr=""/>
            <p:cNvPicPr/>
            <p:nvPr/>
          </p:nvPicPr>
          <p:blipFill>
            <a:blip r:embed="rId8"/>
            <a:stretch/>
          </p:blipFill>
          <p:spPr>
            <a:xfrm>
              <a:off x="3786120" y="4035600"/>
              <a:ext cx="19177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23"/>
            <p:cNvSpPr/>
            <p:nvPr/>
          </p:nvSpPr>
          <p:spPr>
            <a:xfrm>
              <a:off x="3643200" y="4429080"/>
              <a:ext cx="2127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700" spc="-1" strike="noStrike">
                  <a:solidFill>
                    <a:srgbClr val="00002a"/>
                  </a:solidFill>
                  <a:latin typeface="Calibri"/>
                </a:rPr>
                <a:t>Rule engin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7" name="Picture 66" descr="computer.png"/>
            <p:cNvPicPr/>
            <p:nvPr/>
          </p:nvPicPr>
          <p:blipFill>
            <a:blip r:embed="rId9"/>
            <a:stretch/>
          </p:blipFill>
          <p:spPr>
            <a:xfrm>
              <a:off x="2114640" y="2328840"/>
              <a:ext cx="95724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21"/>
            <p:cNvSpPr/>
            <p:nvPr/>
          </p:nvSpPr>
          <p:spPr>
            <a:xfrm>
              <a:off x="1143000" y="3429000"/>
              <a:ext cx="300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600" spc="-1" strike="noStrike">
                  <a:solidFill>
                    <a:srgbClr val="ffffff"/>
                  </a:solidFill>
                  <a:latin typeface="Calibri"/>
                </a:rPr>
                <a:t>Clin. Inf. Syste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99" name="Straight Arrow Connector 88"/>
          <p:cNvCxnSpPr/>
          <p:nvPr/>
        </p:nvCxnSpPr>
        <p:spPr>
          <a:xfrm flipH="1">
            <a:off x="2113920" y="3428640"/>
            <a:ext cx="61668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0" name="TextBox 35"/>
          <p:cNvSpPr/>
          <p:nvPr/>
        </p:nvSpPr>
        <p:spPr>
          <a:xfrm>
            <a:off x="7334280" y="6334200"/>
            <a:ext cx="17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ffffff"/>
                </a:solidFill>
                <a:latin typeface="Calibri"/>
                <a:ea typeface="Arial"/>
              </a:rPr>
              <a:t>Petter K. Risø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SPH HPM512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nb-NO" sz="4000" spc="-1" strike="noStrike">
                <a:solidFill>
                  <a:srgbClr val="ffff00"/>
                </a:solidFill>
                <a:latin typeface="Arial"/>
              </a:rPr>
              <a:t>Crowdsourcing’ Knowledge Enginee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202" name="Straight Arrow Connector 41"/>
          <p:cNvCxnSpPr/>
          <p:nvPr/>
        </p:nvCxnSpPr>
        <p:spPr>
          <a:xfrm flipH="1" flipV="1">
            <a:off x="1428480" y="2707560"/>
            <a:ext cx="20880" cy="840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03" name="Text Box 18"/>
          <p:cNvSpPr/>
          <p:nvPr/>
        </p:nvSpPr>
        <p:spPr>
          <a:xfrm>
            <a:off x="325440" y="3849840"/>
            <a:ext cx="949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700" spc="-1" strike="noStrike">
                <a:solidFill>
                  <a:srgbClr val="ffffff"/>
                </a:solidFill>
                <a:latin typeface="Calibri"/>
              </a:rPr>
              <a:t>Patien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cartoon of doctor"/>
          <p:cNvPicPr/>
          <p:nvPr/>
        </p:nvPicPr>
        <p:blipFill>
          <a:blip r:embed="rId1"/>
          <a:stretch/>
        </p:blipFill>
        <p:spPr>
          <a:xfrm>
            <a:off x="3276720" y="1436760"/>
            <a:ext cx="5773680" cy="3821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68200" y="1371600"/>
            <a:ext cx="3008520" cy="32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2300" spc="-1" strike="noStrike">
                <a:solidFill>
                  <a:srgbClr val="ffff00"/>
                </a:solidFill>
                <a:latin typeface="Times New Roman"/>
              </a:rPr>
              <a:t>I conclude that though the individual physician is not perfectible, the system of care is, and that the computer will play a major part in the perfection of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00"/>
                </a:solidFill>
                <a:latin typeface="Times New Roman"/>
              </a:rPr>
              <a:t>future care systems.”</a:t>
            </a:r>
            <a:br>
              <a:rPr sz="1600"/>
            </a:b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Clem McDonald, MD NEJM 19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490920" y="5227560"/>
            <a:ext cx="555948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40"/>
                </a:solidFill>
                <a:latin typeface="Times New Roman"/>
              </a:rPr>
              <a:t>Thank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40"/>
                </a:solidFill>
                <a:latin typeface="Times New Roman"/>
              </a:rPr>
              <a:t>Blackford Middleton, M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  <a:hlinkClick r:id="rId2"/>
              </a:rPr>
              <a:t>bmiddleton1@partners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  <a:hlinkClick r:id="rId3"/>
              </a:rPr>
              <a:t>www.partners.org/ci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  <a:hlinkClick r:id="rId4"/>
              </a:rPr>
              <a:t>www.citl.org</a:t>
            </a:r>
            <a:r>
              <a:rPr b="1" lang="en-US" sz="2000" spc="-1" strike="noStrike">
                <a:solidFill>
                  <a:srgbClr val="80004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ere are we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DS Dimen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371240"/>
            <a:ext cx="3919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92680" indent="-292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r work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on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ation-cen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(Coh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Relev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spec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/tail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1080" y="1371240"/>
            <a:ext cx="42339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6720" indent="-30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(Coh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ence methods (rul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l reasoning (protocols/pathway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s/Utilities (preferences: pt/provid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714600" y="6400800"/>
            <a:ext cx="734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a"/>
                </a:solidFill>
                <a:latin typeface="Times New Roman"/>
              </a:rPr>
              <a:t>5*2*3*3 = a minimum of 90 different approaches to CD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tners C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PO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rts &amp; Remi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onable C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umentation-centric C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/coh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-directed C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dication ordering -- main scree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Picture 3" descr="screen shot of medication ordering main screen"/>
          <p:cNvPicPr/>
          <p:nvPr/>
        </p:nvPicPr>
        <p:blipFill>
          <a:blip r:embed="rId1"/>
          <a:stretch/>
        </p:blipFill>
        <p:spPr>
          <a:xfrm>
            <a:off x="0" y="1447920"/>
            <a:ext cx="9142560" cy="54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screen shots of Pt Chart Medications and Drug Information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"/>
          <p:cNvSpPr/>
          <p:nvPr/>
        </p:nvSpPr>
        <p:spPr>
          <a:xfrm>
            <a:off x="412200" y="4876920"/>
            <a:ext cx="60814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2a"/>
                </a:solidFill>
                <a:latin typeface="Times New Roman"/>
              </a:rPr>
              <a:t>KnowledgeLink in the Workfl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4"/>
          <p:cNvSpPr/>
          <p:nvPr/>
        </p:nvSpPr>
        <p:spPr>
          <a:xfrm flipV="1">
            <a:off x="2133720" y="1981080"/>
            <a:ext cx="1600200" cy="289584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3314880" y="1743120"/>
            <a:ext cx="5829120" cy="5114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screen shot"/>
          <p:cNvPicPr/>
          <p:nvPr/>
        </p:nvPicPr>
        <p:blipFill>
          <a:blip r:embed="rId1"/>
          <a:stretch/>
        </p:blipFill>
        <p:spPr>
          <a:xfrm>
            <a:off x="0" y="228600"/>
            <a:ext cx="9372600" cy="64072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4002120" y="76320"/>
            <a:ext cx="2855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Secure Messa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6456240" y="4491000"/>
            <a:ext cx="2687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Ta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1047600" y="5799240"/>
            <a:ext cx="1971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4062240" y="3228840"/>
            <a:ext cx="2159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Clinical Ale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93560" y="1803240"/>
            <a:ext cx="1438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7075440" y="1274760"/>
            <a:ext cx="187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Patient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4097160" y="4307040"/>
            <a:ext cx="1756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Lin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D/DM Sma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rcRect l="0" t="13063" r="0" b="6778"/>
          <a:stretch/>
        </p:blipFill>
        <p:spPr>
          <a:xfrm>
            <a:off x="216000" y="1317600"/>
            <a:ext cx="8775720" cy="5280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304920" y="1143000"/>
            <a:ext cx="1828800" cy="7038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Smart View: Data Displ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screen shot"/>
          <p:cNvPicPr/>
          <p:nvPr/>
        </p:nvPicPr>
        <p:blipFill>
          <a:blip r:embed="rId2"/>
          <a:stretch/>
        </p:blipFill>
        <p:spPr>
          <a:xfrm>
            <a:off x="-9850320" y="-2014560"/>
            <a:ext cx="19175400" cy="14398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6781680" y="1143000"/>
            <a:ext cx="2133720" cy="7038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Smart Assessment, Orders, and Pl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80880" y="2209680"/>
            <a:ext cx="3962520" cy="7038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Assessment and recommendations generated from rules eng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733920" y="1143000"/>
            <a:ext cx="2133360" cy="7038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Smart Docu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762120" y="3368520"/>
            <a:ext cx="3276360" cy="30916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Lip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Anti-platelet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Blood press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Glucose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Microalbuminu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Immuniz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Smok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Eye and foot examin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4648320" y="2971800"/>
            <a:ext cx="419076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D/DM Sma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3" name="Picture 4" descr="screen shot smart form"/>
          <p:cNvPicPr/>
          <p:nvPr/>
        </p:nvPicPr>
        <p:blipFill>
          <a:blip r:embed="rId1"/>
          <a:srcRect l="0" t="13004" r="0" b="6753"/>
          <a:stretch/>
        </p:blipFill>
        <p:spPr>
          <a:xfrm>
            <a:off x="152280" y="1371600"/>
            <a:ext cx="8763120" cy="5275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rcRect l="75108" t="38884" r="2532" b="15130"/>
          <a:stretch/>
        </p:blipFill>
        <p:spPr>
          <a:xfrm>
            <a:off x="5257800" y="1143000"/>
            <a:ext cx="3581280" cy="55245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5" name="Text Box 9"/>
          <p:cNvSpPr/>
          <p:nvPr/>
        </p:nvSpPr>
        <p:spPr>
          <a:xfrm>
            <a:off x="2133720" y="2438280"/>
            <a:ext cx="29718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Medication Or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133720" y="3657600"/>
            <a:ext cx="29718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Lab Or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2133720" y="4876920"/>
            <a:ext cx="29718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Referr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2133720" y="6095880"/>
            <a:ext cx="29718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Handouts/Edu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AD QD_Summary Screen"/>
          <p:cNvPicPr/>
          <p:nvPr/>
        </p:nvPicPr>
        <p:blipFill>
          <a:blip r:embed="rId1"/>
          <a:srcRect l="469" t="13289" r="1875" b="28260"/>
          <a:stretch/>
        </p:blipFill>
        <p:spPr>
          <a:xfrm>
            <a:off x="111240" y="1630440"/>
            <a:ext cx="8880480" cy="386712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D Quality Dashboar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34120" y="2057400"/>
            <a:ext cx="358128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a"/>
                </a:solidFill>
                <a:latin typeface="Cambria"/>
              </a:rPr>
              <a:t>Targets are 90</a:t>
            </a:r>
            <a:r>
              <a:rPr b="0" lang="en-US" sz="2400" spc="-1" strike="noStrike" baseline="30000">
                <a:solidFill>
                  <a:srgbClr val="00002a"/>
                </a:solidFill>
                <a:latin typeface="Cambria"/>
              </a:rPr>
              <a:t>th</a:t>
            </a:r>
            <a:r>
              <a:rPr b="0" lang="en-US" sz="2400" spc="-1" strike="noStrike">
                <a:solidFill>
                  <a:srgbClr val="00002a"/>
                </a:solidFill>
                <a:latin typeface="Cambria"/>
              </a:rPr>
              <a:t> percentile for HEDIS or for Partners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443560" y="1643040"/>
            <a:ext cx="1600200" cy="16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447920" y="5181480"/>
            <a:ext cx="2209680" cy="16185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Zero defect care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169920">
              <a:lnSpc>
                <a:spcPct val="100000"/>
              </a:lnSpc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  <a:ea typeface="ＭＳ Ｐゴシック"/>
              </a:rPr>
              <a:t>Aspir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169920">
              <a:lnSpc>
                <a:spcPct val="100000"/>
              </a:lnSpc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  <a:ea typeface="ＭＳ Ｐゴシック"/>
              </a:rPr>
              <a:t>Beta-bloc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169920">
              <a:lnSpc>
                <a:spcPct val="100000"/>
              </a:lnSpc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  <a:ea typeface="ＭＳ Ｐゴシック"/>
              </a:rPr>
              <a:t>Blood press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169920">
              <a:lnSpc>
                <a:spcPct val="100000"/>
              </a:lnSpc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  <a:ea typeface="ＭＳ Ｐゴシック"/>
              </a:rPr>
              <a:t>Lip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8381880" y="2971800"/>
            <a:ext cx="533520" cy="2362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76320" y="3200400"/>
            <a:ext cx="304560" cy="205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52280" y="2438280"/>
            <a:ext cx="46483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a"/>
                </a:solidFill>
                <a:latin typeface="Cambria"/>
              </a:rPr>
              <a:t>Red, yellow, and green indicators show adherence with targ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12" descr="CAD QD_Summary Screen"/>
          <p:cNvPicPr/>
          <p:nvPr/>
        </p:nvPicPr>
        <p:blipFill>
          <a:blip r:embed="rId2"/>
          <a:srcRect l="469" t="63180" r="63887" b="31882"/>
          <a:stretch/>
        </p:blipFill>
        <p:spPr>
          <a:xfrm>
            <a:off x="76320" y="4572000"/>
            <a:ext cx="6248160" cy="657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8" name="Rectangle 13"/>
          <p:cNvSpPr/>
          <p:nvPr/>
        </p:nvSpPr>
        <p:spPr>
          <a:xfrm>
            <a:off x="5459400" y="1828800"/>
            <a:ext cx="2465280" cy="144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Oval 14"/>
          <p:cNvSpPr/>
          <p:nvPr/>
        </p:nvSpPr>
        <p:spPr>
          <a:xfrm flipV="1">
            <a:off x="8415360" y="4856040"/>
            <a:ext cx="46980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7:37:10Z</dcterms:created>
  <dc:creator>Sandy K. Cummings</dc:creator>
  <dc:description>6/24/04</dc:description>
  <cp:keywords/>
  <dc:language>en-US</dc:language>
  <cp:lastModifiedBy>Chettra.Chhiet</cp:lastModifiedBy>
  <cp:lastPrinted>2003-01-21T20:19:23Z</cp:lastPrinted>
  <dcterms:modified xsi:type="dcterms:W3CDTF">2009-12-04T13:41:36Z</dcterms:modified>
  <cp:revision>106</cp:revision>
  <dc:subject/>
  <dc:title>AHRQ Slide Template 2004</dc:title>
</cp:coreProperties>
</file>