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97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97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97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97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97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97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TRANS4MED-SM"/>
          <p:cNvPicPr/>
          <p:nvPr/>
        </p:nvPicPr>
        <p:blipFill>
          <a:blip r:embed="rId2"/>
          <a:stretch/>
        </p:blipFill>
        <p:spPr>
          <a:xfrm>
            <a:off x="457200" y="5867280"/>
            <a:ext cx="19051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Seeing the forest </a:t>
            </a:r>
            <a:r>
              <a:rPr b="1" i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(Population Health) </a:t>
            </a:r>
            <a:br>
              <a:rPr sz="6000"/>
            </a:br>
            <a:r>
              <a:rPr b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from the trees </a:t>
            </a:r>
            <a:r>
              <a:rPr b="1" i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(EHR)</a:t>
            </a:r>
            <a:br>
              <a:rPr sz="6000"/>
            </a:b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y McGeeney, MD,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ELECTRONIC HEALTH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lectronic Health Record offerings do not adequately meet the needs of primary care practices in managing a population of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opulating registries are an absolute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f care reminders provide a significant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is critical for care coordination and care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2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OPULATION HEAL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216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more accurately considered proactive population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pply to all patients in a practice “population”, not pre-designated subsets such as those with certain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anagement must focus on wellness and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BEYOND TECH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216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coordination, collaboration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and engagement of patient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care and information at multiple levels of the system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1904760"/>
            <a:ext cx="77724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Arial"/>
              </a:rPr>
              <a:t>THANK YOU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ry McGeeney, MD, 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cgeeney@transform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22:21:27Z</dcterms:created>
  <dc:creator>Marsha Ceule</dc:creator>
  <dc:description/>
  <dc:language>en-US</dc:language>
  <cp:lastModifiedBy>Graham</cp:lastModifiedBy>
  <dcterms:modified xsi:type="dcterms:W3CDTF">2009-10-27T18:22:54Z</dcterms:modified>
  <cp:revision>205</cp:revision>
  <dc:subject/>
  <dc:title>TransforMED 2006 and Beyond</dc:title>
</cp:coreProperties>
</file>