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erpetua"/>
              </a:rPr>
              <a:t>© 2008 The Board of Trustees of the University of Illino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16"/>
          <p:cNvSpPr/>
          <p:nvPr/>
        </p:nvSpPr>
        <p:spPr>
          <a:xfrm>
            <a:off x="228600" y="60958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457200" y="609480"/>
            <a:ext cx="8397720" cy="5562720"/>
            <a:chOff x="457200" y="609480"/>
            <a:chExt cx="8397720" cy="5562720"/>
          </a:xfrm>
        </p:grpSpPr>
        <p:sp>
          <p:nvSpPr>
            <p:cNvPr id="45" name="Rectangle 3"/>
            <p:cNvSpPr/>
            <p:nvPr/>
          </p:nvSpPr>
          <p:spPr>
            <a:xfrm>
              <a:off x="457200" y="609480"/>
              <a:ext cx="8397720" cy="55627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5400000"/>
            </a:gra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528480" y="685800"/>
              <a:ext cx="82292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5"/>
            <p:cNvSpPr/>
            <p:nvPr/>
          </p:nvSpPr>
          <p:spPr>
            <a:xfrm>
              <a:off x="990360" y="3733560"/>
              <a:ext cx="7314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Line 16"/>
          <p:cNvSpPr/>
          <p:nvPr/>
        </p:nvSpPr>
        <p:spPr>
          <a:xfrm>
            <a:off x="380880" y="6248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380880" y="61722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734560" y="6400800"/>
            <a:ext cx="40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2008 The Board of Trustees of the University of Illino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Learning From the Patient’s Experience: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Opportunities to Improve Patient Safety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2971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HRQ 2009 Annual Conferen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Timothy B McDonald, MD J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Professor, Anesthesiology and Pediatri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Chief Safety and Risk Officer for Health Affai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University of Illinois at Chicag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tmcd@uic.edu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mus test for “change in culture”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big ca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72" name="Picture 4" descr="corboy &amp; demetrio header"/>
          <p:cNvPicPr/>
          <p:nvPr/>
        </p:nvPicPr>
        <p:blipFill>
          <a:blip r:embed="rId1"/>
          <a:stretch/>
        </p:blipFill>
        <p:spPr>
          <a:xfrm>
            <a:off x="1290600" y="1744560"/>
            <a:ext cx="6015240" cy="1609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iha bloomington"/>
          <p:cNvPicPr/>
          <p:nvPr/>
        </p:nvPicPr>
        <p:blipFill>
          <a:blip r:embed="rId2"/>
          <a:srcRect l="5208" t="9684" r="8333" b="-1603"/>
          <a:stretch/>
        </p:blipFill>
        <p:spPr>
          <a:xfrm>
            <a:off x="685800" y="3505320"/>
            <a:ext cx="7696080" cy="1761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678960" y="5257800"/>
            <a:ext cx="78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atient’s family continues to seek care at the Universit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600920" y="53341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continues to seek care at the University of Illin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7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Principles of Transparency and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Patient Engagement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 will provide effective and honest communication to patients and families following adverse patient ev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 will apologize and compensate quickly and fairly when inappropriate medical care causes inju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 will reduce patient injuries by learning from the past – and with the involvement of patients and famil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Comprehensive Response to Patient Incidents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Seven Pillars. McDonald et al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uality and Safety in Health Care [accepted]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eporting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vestig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mmunic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pology with remedi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rocess and performance improveme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Data tracking and analysi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ducation – of the entire proces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ven Pilla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rincipled Approach” to Adverse Patient Events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496400" y="3048120"/>
            <a:ext cx="444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633200" y="5138640"/>
            <a:ext cx="444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592720" y="2514600"/>
            <a:ext cx="375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500560" y="4529160"/>
            <a:ext cx="375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AutoShape 15"/>
          <p:cNvCxnSpPr>
            <a:stCxn id="101" idx="1"/>
            <a:endCxn id="102" idx="3"/>
          </p:cNvCxnSpPr>
          <p:nvPr/>
        </p:nvCxnSpPr>
        <p:spPr>
          <a:xfrm flipV="1" rot="10800000">
            <a:off x="4799880" y="2209320"/>
            <a:ext cx="30564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2" idx="2"/>
            <a:endCxn id="104" idx="0"/>
          </p:cNvCxnSpPr>
          <p:nvPr/>
        </p:nvCxnSpPr>
        <p:spPr>
          <a:xfrm>
            <a:off x="4076640" y="3123720"/>
            <a:ext cx="38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7"/>
          <p:cNvCxnSpPr>
            <a:stCxn id="104" idx="2"/>
            <a:endCxn id="106" idx="0"/>
          </p:cNvCxnSpPr>
          <p:nvPr/>
        </p:nvCxnSpPr>
        <p:spPr>
          <a:xfrm>
            <a:off x="4114800" y="4419360"/>
            <a:ext cx="38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18"/>
          <p:cNvCxnSpPr>
            <a:stCxn id="108" idx="3"/>
            <a:endCxn id="109" idx="2"/>
          </p:cNvCxnSpPr>
          <p:nvPr/>
        </p:nvCxnSpPr>
        <p:spPr>
          <a:xfrm flipV="1">
            <a:off x="5257800" y="4266720"/>
            <a:ext cx="2286720" cy="156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9"/>
          <p:cNvCxnSpPr>
            <a:stCxn id="106" idx="2"/>
            <a:endCxn id="108" idx="0"/>
          </p:cNvCxnSpPr>
          <p:nvPr/>
        </p:nvCxnSpPr>
        <p:spPr>
          <a:xfrm>
            <a:off x="415260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20"/>
          <p:cNvCxnSpPr>
            <a:stCxn id="106" idx="1"/>
            <a:endCxn id="112" idx="2"/>
          </p:cNvCxnSpPr>
          <p:nvPr/>
        </p:nvCxnSpPr>
        <p:spPr>
          <a:xfrm rot="10800000">
            <a:off x="1409040" y="4723560"/>
            <a:ext cx="19436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21"/>
          <p:cNvCxnSpPr>
            <a:stCxn id="102" idx="1"/>
            <a:endCxn id="114" idx="2"/>
          </p:cNvCxnSpPr>
          <p:nvPr/>
        </p:nvCxnSpPr>
        <p:spPr>
          <a:xfrm rot="10800000">
            <a:off x="1409040" y="2590200"/>
            <a:ext cx="194364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22"/>
          <p:cNvCxnSpPr>
            <a:stCxn id="108" idx="1"/>
            <a:endCxn id="112" idx="2"/>
          </p:cNvCxnSpPr>
          <p:nvPr/>
        </p:nvCxnSpPr>
        <p:spPr>
          <a:xfrm rot="10800000">
            <a:off x="1409040" y="4723560"/>
            <a:ext cx="1639080" cy="110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23"/>
          <p:cNvCxnSpPr>
            <a:stCxn id="112" idx="0"/>
            <a:endCxn id="114" idx="2"/>
          </p:cNvCxnSpPr>
          <p:nvPr/>
        </p:nvCxnSpPr>
        <p:spPr>
          <a:xfrm flipV="1">
            <a:off x="1409400" y="25905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24"/>
          <p:cNvCxnSpPr/>
          <p:nvPr/>
        </p:nvCxnSpPr>
        <p:spPr>
          <a:xfrm flipH="1" rot="16200000">
            <a:off x="3657240" y="-381960"/>
            <a:ext cx="1524600" cy="6096600"/>
          </a:xfrm>
          <a:prstGeom prst="bentConnector3">
            <a:avLst>
              <a:gd name="adj1" fmla="val -14997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18" name="AutoShape 25"/>
          <p:cNvCxnSpPr>
            <a:stCxn id="104" idx="1"/>
            <a:endCxn id="112" idx="3"/>
          </p:cNvCxnSpPr>
          <p:nvPr/>
        </p:nvCxnSpPr>
        <p:spPr>
          <a:xfrm flipH="1">
            <a:off x="2056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Line 27"/>
          <p:cNvSpPr/>
          <p:nvPr/>
        </p:nvSpPr>
        <p:spPr>
          <a:xfrm>
            <a:off x="5638680" y="373392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1828800"/>
            <a:ext cx="8233200" cy="4343400"/>
            <a:chOff x="685800" y="1828800"/>
            <a:chExt cx="8233200" cy="4343400"/>
          </a:xfrm>
        </p:grpSpPr>
        <p:sp>
          <p:nvSpPr>
            <p:cNvPr id="101" name="AutoShape 3"/>
            <p:cNvSpPr/>
            <p:nvPr/>
          </p:nvSpPr>
          <p:spPr>
            <a:xfrm>
              <a:off x="5105520" y="1828800"/>
              <a:ext cx="2209680" cy="762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rn or unexpec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ent reported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fety/Risk 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"/>
            <p:cNvSpPr/>
            <p:nvPr/>
          </p:nvSpPr>
          <p:spPr>
            <a:xfrm>
              <a:off x="3352680" y="2362320"/>
              <a:ext cx="1447920" cy="7617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tient Harm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2666880" y="3352680"/>
              <a:ext cx="2895840" cy="1067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Investig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ider “Care for Care Provider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 bills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3352680" y="4572000"/>
              <a:ext cx="1600200" cy="762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reason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3048120" y="5486400"/>
              <a:ext cx="22096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ll Disclosure with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ology and Reme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6324480" y="3429000"/>
              <a:ext cx="24386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Improvement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685800" y="1905120"/>
              <a:ext cx="144792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B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762120" y="3048120"/>
              <a:ext cx="1295280" cy="1676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lt Serv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7475040" y="2286000"/>
              <a:ext cx="14439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ar misses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791320" y="4648320"/>
              <a:ext cx="137160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Activation of Crisis Management Te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pportunities for Patient Engagement With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ven Pilla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rincipled Approach” to Adverse Patient Events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496400" y="3048120"/>
            <a:ext cx="444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633200" y="5138640"/>
            <a:ext cx="444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92720" y="2514600"/>
            <a:ext cx="375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500560" y="4529160"/>
            <a:ext cx="375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15"/>
          <p:cNvCxnSpPr>
            <a:stCxn id="129" idx="1"/>
            <a:endCxn id="130" idx="3"/>
          </p:cNvCxnSpPr>
          <p:nvPr/>
        </p:nvCxnSpPr>
        <p:spPr>
          <a:xfrm flipV="1" rot="10800000">
            <a:off x="4799880" y="2209320"/>
            <a:ext cx="30564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6"/>
          <p:cNvCxnSpPr>
            <a:stCxn id="130" idx="2"/>
            <a:endCxn id="132" idx="0"/>
          </p:cNvCxnSpPr>
          <p:nvPr/>
        </p:nvCxnSpPr>
        <p:spPr>
          <a:xfrm>
            <a:off x="4076640" y="3123720"/>
            <a:ext cx="38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17"/>
          <p:cNvCxnSpPr>
            <a:stCxn id="132" idx="2"/>
            <a:endCxn id="134" idx="0"/>
          </p:cNvCxnSpPr>
          <p:nvPr/>
        </p:nvCxnSpPr>
        <p:spPr>
          <a:xfrm>
            <a:off x="4114800" y="4419360"/>
            <a:ext cx="38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18"/>
          <p:cNvCxnSpPr>
            <a:stCxn id="136" idx="3"/>
            <a:endCxn id="137" idx="2"/>
          </p:cNvCxnSpPr>
          <p:nvPr/>
        </p:nvCxnSpPr>
        <p:spPr>
          <a:xfrm flipV="1">
            <a:off x="5257800" y="4266720"/>
            <a:ext cx="2286720" cy="156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19"/>
          <p:cNvCxnSpPr>
            <a:stCxn id="134" idx="2"/>
            <a:endCxn id="136" idx="0"/>
          </p:cNvCxnSpPr>
          <p:nvPr/>
        </p:nvCxnSpPr>
        <p:spPr>
          <a:xfrm>
            <a:off x="415260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20"/>
          <p:cNvCxnSpPr>
            <a:stCxn id="134" idx="1"/>
            <a:endCxn id="140" idx="2"/>
          </p:cNvCxnSpPr>
          <p:nvPr/>
        </p:nvCxnSpPr>
        <p:spPr>
          <a:xfrm rot="10800000">
            <a:off x="1409040" y="4723560"/>
            <a:ext cx="19436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21"/>
          <p:cNvCxnSpPr>
            <a:stCxn id="130" idx="1"/>
            <a:endCxn id="142" idx="2"/>
          </p:cNvCxnSpPr>
          <p:nvPr/>
        </p:nvCxnSpPr>
        <p:spPr>
          <a:xfrm rot="10800000">
            <a:off x="1409040" y="2590200"/>
            <a:ext cx="194364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22"/>
          <p:cNvCxnSpPr>
            <a:stCxn id="136" idx="1"/>
            <a:endCxn id="140" idx="2"/>
          </p:cNvCxnSpPr>
          <p:nvPr/>
        </p:nvCxnSpPr>
        <p:spPr>
          <a:xfrm rot="10800000">
            <a:off x="1409040" y="4723560"/>
            <a:ext cx="1639080" cy="110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23"/>
          <p:cNvCxnSpPr>
            <a:stCxn id="140" idx="0"/>
            <a:endCxn id="142" idx="2"/>
          </p:cNvCxnSpPr>
          <p:nvPr/>
        </p:nvCxnSpPr>
        <p:spPr>
          <a:xfrm flipV="1">
            <a:off x="1409400" y="25905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24"/>
          <p:cNvCxnSpPr/>
          <p:nvPr/>
        </p:nvCxnSpPr>
        <p:spPr>
          <a:xfrm flipH="1" rot="16200000">
            <a:off x="3657240" y="-381960"/>
            <a:ext cx="1524600" cy="6096600"/>
          </a:xfrm>
          <a:prstGeom prst="bentConnector3">
            <a:avLst>
              <a:gd name="adj1" fmla="val -14997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AutoShape 25"/>
          <p:cNvCxnSpPr>
            <a:stCxn id="132" idx="1"/>
            <a:endCxn id="140" idx="3"/>
          </p:cNvCxnSpPr>
          <p:nvPr/>
        </p:nvCxnSpPr>
        <p:spPr>
          <a:xfrm flipH="1">
            <a:off x="2056680" y="38858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Line 27"/>
          <p:cNvSpPr/>
          <p:nvPr/>
        </p:nvSpPr>
        <p:spPr>
          <a:xfrm>
            <a:off x="5638680" y="373392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5800" y="1828800"/>
            <a:ext cx="8233200" cy="4343400"/>
            <a:chOff x="685800" y="1828800"/>
            <a:chExt cx="8233200" cy="4343400"/>
          </a:xfrm>
        </p:grpSpPr>
        <p:sp>
          <p:nvSpPr>
            <p:cNvPr id="129" name="AutoShape 3"/>
            <p:cNvSpPr/>
            <p:nvPr/>
          </p:nvSpPr>
          <p:spPr>
            <a:xfrm>
              <a:off x="5105520" y="1828800"/>
              <a:ext cx="2209680" cy="762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rn or unexpec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ent reported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fety/Risk 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3352680" y="2362320"/>
              <a:ext cx="1447920" cy="7617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tient Harm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>
              <a:off x="2666880" y="3352680"/>
              <a:ext cx="2895840" cy="1067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Investig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ider “Care for Care Provider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 bills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3352680" y="4572000"/>
              <a:ext cx="1600200" cy="762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reason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3048120" y="5486400"/>
              <a:ext cx="22096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ll Disclosure with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ology and Reme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>
              <a:off x="6324480" y="3429000"/>
              <a:ext cx="24386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Improvement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685800" y="1905120"/>
              <a:ext cx="144792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B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762120" y="3048120"/>
              <a:ext cx="1295280" cy="1676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lt Serv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7475040" y="2286000"/>
              <a:ext cx="14439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ar misses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28"/>
            <p:cNvSpPr/>
            <p:nvPr/>
          </p:nvSpPr>
          <p:spPr>
            <a:xfrm>
              <a:off x="5791320" y="4648320"/>
              <a:ext cx="137160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Activation of Crisis Management Te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Oval 28"/>
          <p:cNvSpPr/>
          <p:nvPr/>
        </p:nvSpPr>
        <p:spPr>
          <a:xfrm>
            <a:off x="4876920" y="1523880"/>
            <a:ext cx="2743200" cy="1600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6172200" y="3048120"/>
            <a:ext cx="2743200" cy="1600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2743200" y="3124080"/>
            <a:ext cx="2743200" cy="1600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2819520" y="5029200"/>
            <a:ext cx="2743200" cy="1600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380880" y="2819520"/>
            <a:ext cx="1905120" cy="22096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Opportunities for Patient Engagement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eporting – incidents, provider behavio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vestigation – have critical pieces of inform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mmunication – teach and provide feedback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pology with remediation - assessme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rocess and performance improveme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ducation – inspire and motivat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473040"/>
            <a:ext cx="853452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ing transparency with patient safety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90920" y="4724280"/>
            <a:ext cx="3520800" cy="6426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parency with Accoun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748680" y="2135160"/>
            <a:ext cx="892440" cy="459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4191120" y="2666880"/>
            <a:ext cx="0" cy="2057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1905120" y="4191120"/>
            <a:ext cx="4724280" cy="1981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5486400" y="3505320"/>
            <a:ext cx="838080" cy="761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181480" y="2819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ecomes the Trojan Horse for Cultural Trans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is so important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&gt; 250 Patient Communication Consult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&gt;50 cases of unnecessary harm with apology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Over 190 performance improvement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everal cases [6] with $ added to waiver of bill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One lawsuit with inability to agree on dama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August 23, 2009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68" name="Picture 4" descr="headline cutouts"/>
          <p:cNvPicPr/>
          <p:nvPr/>
        </p:nvPicPr>
        <p:blipFill>
          <a:blip r:embed="rId1"/>
          <a:stretch/>
        </p:blipFill>
        <p:spPr>
          <a:xfrm rot="16200000">
            <a:off x="4006800" y="-44280"/>
            <a:ext cx="1054080" cy="5410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 rot="16200000">
            <a:off x="4297320" y="122400"/>
            <a:ext cx="984240" cy="775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914400" y="4952880"/>
            <a:ext cx="74106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1:04:12Z</dcterms:created>
  <dc:creator>Erin</dc:creator>
  <dc:description/>
  <dc:language>en-US</dc:language>
  <cp:lastModifiedBy>Chettra.Chhiet</cp:lastModifiedBy>
  <dcterms:modified xsi:type="dcterms:W3CDTF">2009-12-04T13:33:42Z</dcterms:modified>
  <cp:revision>247</cp:revision>
  <dc:subject/>
  <dc:title>“The Patient is Not our Enemy”</dc:title>
</cp:coreProperties>
</file>