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2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3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4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F4E12A-F5A4-4A1B-83AC-BCABFFB74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BCA4C-CEC1-4138-A90C-2A38D6E757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E5FB5-32FA-4FDD-AEE4-C1BCE2A9C8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D0C9A-2D17-40E3-BCA1-60DDCFCEE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82F0D-64BA-4F25-93F5-F76FDF011E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4CC26-78B0-4A00-AA64-CE64AB53AA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FAF71-55EF-420A-BEC1-294CF0A67E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276A3-95AD-4A07-B1BE-E37FEE9595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C3A1B1-688F-4FBE-A38F-E00DCD0B01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138D03-1EA2-4406-87F1-3679FA162E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50120" cy="3485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C23E81-E7EC-4B34-868B-4CA9185BFB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50120" cy="3485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1F5CF5-2C82-49EA-A744-68FFFF57A9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BA47F-7BFC-460E-8CB4-0B0D6971A6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4FE4C6-BC7E-4DE5-A5A1-728EDACBE3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22D9-29F8-499A-A80C-9B7287043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48BA-5CDC-4BFC-85B9-C2D68E4DD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C29B-9C08-4E45-9CDB-0ABDF350F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A693-C7A2-4037-8097-388B34665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EC22-F98D-4AE0-905A-68A69AC1A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9E42-8209-4D45-B010-71111BCEE4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350C-4D87-419B-B4FC-D80695731C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AA0C-2A86-4FE5-81C8-B237A1B73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E301-7CEF-432F-A8A9-5160140A4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7C96-3B5D-46DF-AC95-35CC55DBE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7024-F5AE-4DEA-800E-57C0C3C8F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D260-5B88-4254-9E95-A08C6817B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FFC8-0FDC-4492-B478-BD4BC7CE3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47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88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0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1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3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velopment of Emergency Department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ality Indicators (Q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52280" y="38862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thryn M. McDona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er for Health Policy / Center for Primary Care and Outcomes Research, Stanford Universit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tember 14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tient Safety Ev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types of adverse events might occur during an ED admission/encounter or soon after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arm malfu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 audible to or not seen by nur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Pump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ck up battery failures stops meds, unintentional change of settings, inadequate monit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 specimen err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ients not fully registered or identified when specimen leaves ED, leading to lags in results communications, or assigning results to wrong pat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ction control fail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rect diagnosis &amp; “bounce back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ient returns to ED for abdominal pain (missed AAA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 rays interpreted as negative, fracture dx on later read or when patient retur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ath in a psychiatric patient admitted to psych ward within 72 hours of ED visit (missed organic caus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ssed injuries (Traumatic brain injur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365A-EAFA-4E84-95A9-CC4626B2E4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tentially Avoidable Visi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16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ED encounters are potentially preventable by high quality outpatient car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ic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perglyce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ute respiratory 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nch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ypertensive urg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morrhagic stro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ds, Flu &amp; Invasive Pneumococcal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hand hygie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 of primary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ed Flu s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ed Pneumococcal Vac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0A61-8429-40B2-9975-9244B6DF15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tentially Avoidable Visi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ED encounters are potentially preventable by public health intervention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p Fractures, Long bone fractures, Pediatric (e.g., due to poor window guard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in injury secondary (not wearing helme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eworks inju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OH intox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dose/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ually transmitted dis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tetric com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or vehicle coll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ow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monoxide poisoning (poorer quality furna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idental hypothermia (homeless sleeping in c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 poisoning (poor restaurant sanit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1BD1-D489-483B-948E-F8A9CF8326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tentially Avoidable Visi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ED encounters are potentially preventable with health care system change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ary care provider told patient to go to ED over the phone when office practice is cl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ek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ght Ti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dequate care outside ED for Aging 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able to provide self care, and inadequate suppor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ontinence iss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e given due to lack of adequate insurance for non-ED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grown toe nails with inf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ginit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rethrit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itis Me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unning out of home oxy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sibly due to lack of primary care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e thro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rinary tract inf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019A-2AA6-432E-9734-8423174EED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tentially Avoidable Visi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ED encounters are potentially preventable with improvements to post-surgical care processe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able to care for self post-operatively (return vis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patient Surgery Com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und dehiscence from outpatient surg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 op Infe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morrhag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post op com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A4C6-216C-4C4A-9B65-1BE91794B1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Source &amp;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te Emergency Department Datasets (SED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at and release encounters from 27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ounters resulting in subsequent admission to the same hospital from 41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records for the subsequent admissions relate to corresponding hospitalization records in the SID datase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agnosis and Procedure Co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be that ED diagnosis codes are dropped or incorporated into a longer list when the patient is admi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be no effective method to evaluate the quality of ED care for patients who were hospitalized from the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issues will be evaluated in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735A-0E68-4E29-AD8C-61513BBE36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ject Philosoph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medicine is particularly sensitive to guidelines and quality measures from other specialties (e.g., cardiology, infectious disease, pediatrics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M community is not always included in guideline and quality measure development at the initial stages, even though they are affected mos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, a focus on ED quality needs to starts with the EM community (doctors, nurses, department manage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xisting data sources available from AHR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, this project’s indicators will not cover all important ED quality concern (e.g., ambulance diversions from overcrowding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with existing AHRQ measures and development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Acknowledg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unded by AHR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for Quality Indicators II (Contract No. 290-04-00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matha Pancholi, AHRQ Project Offi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ffrey Geppert, Project Director, Battelle Memorial Institute 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ata used for analy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Emergency Department Databases (SEDD), 2002-2006. Healthcare Cost and Utilization Project (HCUP), Agency for Healthcare Research and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ment of AHRQ QI Using ED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 Safety Indicators (PS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ention Quality Indicators (PQ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HRQ QI Development Methodolo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ing the AHRQ QI to the 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tential QI ED Indica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 Safety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able ED vis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 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75A2-5744-4816-AB82-31202BBFDA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velopment of AHRQ ED Q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rpose of this New Tas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 a set of quality indicators that is applicable to the emergency department se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te set into the publicly available AHRQ QI 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lement the established AHRQ QI measurement development pro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 existing AHRQ QI to ED set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uct a review of new candidate indi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1D5A-A54A-4E04-978B-F857FFBCB0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316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isting AHRQ QI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tient Safety Indicators (PSI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ath in low mortality DR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cubitus ulc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ailure to resc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eign body left during procedur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atrogenic pneumothorax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lected infections due to medical car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hemorrhage or hemato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hip fra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physiological and metabolic derang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PE or DV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85800" y="58672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he indicators marked with * are also provided as area level indicators.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tient Safety Indicators (cont.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45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respiratory fail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sep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wound dehiscenc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chnical difficulty with procedur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fusion reaction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irth trauma – injury to neon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B trauma – vaginal delivery with instrument (w/ and w/o 3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gree laceration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B trauma – vaginal delivery without instrument (w/ and w/o 3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gree laceration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084320" y="5638680"/>
            <a:ext cx="61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he indicators marked with * are also provided as area level indicators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isting AHRQ QI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evention Quality Indicator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1080" y="1752480"/>
            <a:ext cx="41482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l 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tract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ated append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birth 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ina without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stive 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66720" y="175212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 cx - short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 cx - long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ntrolled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extremity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01028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Measure Development and Validation Process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124080" y="25146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99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3124080" y="35812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99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1586520" y="178920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124080" y="46483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99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5943600" y="3581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9900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7467480" y="4495680"/>
            <a:ext cx="152640" cy="381240"/>
          </a:xfrm>
          <a:prstGeom prst="downArrow">
            <a:avLst>
              <a:gd name="adj1" fmla="val 50000"/>
              <a:gd name="adj2" fmla="val 62441"/>
            </a:avLst>
          </a:prstGeom>
          <a:solidFill>
            <a:srgbClr val="990000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447920" y="1828800"/>
            <a:ext cx="7086600" cy="4191120"/>
            <a:chOff x="1447920" y="1828800"/>
            <a:chExt cx="7086600" cy="4191120"/>
          </a:xfrm>
        </p:grpSpPr>
        <p:sp>
          <p:nvSpPr>
            <p:cNvPr id="205" name="AutoShape 3"/>
            <p:cNvSpPr/>
            <p:nvPr/>
          </p:nvSpPr>
          <p:spPr>
            <a:xfrm>
              <a:off x="1447920" y="2209680"/>
              <a:ext cx="1600200" cy="838440"/>
            </a:xfrm>
            <a:prstGeom prst="flowChartProcess">
              <a:avLst/>
            </a:prstGeom>
            <a:gradFill rotWithShape="0">
              <a:gsLst>
                <a:gs pos="0">
                  <a:srgbClr val="990000">
                    <a:alpha val="8235"/>
                  </a:srgbClr>
                </a:gs>
                <a:gs pos="100000">
                  <a:srgbClr val="93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erature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1447920" y="3352680"/>
              <a:ext cx="1600200" cy="685800"/>
            </a:xfrm>
            <a:prstGeom prst="flowChartProcess">
              <a:avLst/>
            </a:prstGeom>
            <a:gradFill rotWithShape="0">
              <a:gsLst>
                <a:gs pos="0">
                  <a:srgbClr val="990000">
                    <a:alpha val="8235"/>
                  </a:srgbClr>
                </a:gs>
                <a:gs pos="100000">
                  <a:srgbClr val="93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tual Use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AutoShape 7"/>
            <p:cNvSpPr/>
            <p:nvPr/>
          </p:nvSpPr>
          <p:spPr>
            <a:xfrm>
              <a:off x="1447920" y="4419720"/>
              <a:ext cx="1600200" cy="761760"/>
            </a:xfrm>
            <a:prstGeom prst="flowChartProcess">
              <a:avLst/>
            </a:prstGeom>
            <a:gradFill rotWithShape="0">
              <a:gsLst>
                <a:gs pos="0">
                  <a:srgbClr val="990000">
                    <a:alpha val="8235"/>
                  </a:srgbClr>
                </a:gs>
                <a:gs pos="100000">
                  <a:srgbClr val="93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4114800" y="1828800"/>
              <a:ext cx="1752480" cy="3657600"/>
            </a:xfrm>
            <a:prstGeom prst="ellipse">
              <a:avLst/>
            </a:prstGeom>
            <a:gradFill rotWithShape="0">
              <a:gsLst>
                <a:gs pos="0">
                  <a:srgbClr val="990000">
                    <a:alpha val="8235"/>
                  </a:srgbClr>
                </a:gs>
                <a:gs pos="100000">
                  <a:srgbClr val="93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ndidate 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dicators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AutoShape 12"/>
            <p:cNvSpPr/>
            <p:nvPr/>
          </p:nvSpPr>
          <p:spPr>
            <a:xfrm>
              <a:off x="6705720" y="2895480"/>
              <a:ext cx="1600200" cy="1524240"/>
            </a:xfrm>
            <a:prstGeom prst="flowChartAlternateProcess">
              <a:avLst/>
            </a:prstGeom>
            <a:gradFill rotWithShape="0">
              <a:gsLst>
                <a:gs pos="0">
                  <a:srgbClr val="990000">
                    <a:alpha val="8235"/>
                  </a:srgbClr>
                </a:gs>
                <a:gs pos="100000">
                  <a:srgbClr val="93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valuation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6629400" y="4952880"/>
              <a:ext cx="1905120" cy="1067040"/>
            </a:xfrm>
            <a:prstGeom prst="flowChartDecision">
              <a:avLst/>
            </a:prstGeom>
            <a:gradFill rotWithShape="0">
              <a:gsLst>
                <a:gs pos="0">
                  <a:srgbClr val="990000">
                    <a:alpha val="8235"/>
                  </a:srgbClr>
                </a:gs>
                <a:gs pos="100000">
                  <a:srgbClr val="93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ion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AutoShape 15"/>
          <p:cNvSpPr/>
          <p:nvPr/>
        </p:nvSpPr>
        <p:spPr>
          <a:xfrm>
            <a:off x="685800" y="25146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685800" y="35812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17"/>
          <p:cNvSpPr/>
          <p:nvPr/>
        </p:nvSpPr>
        <p:spPr>
          <a:xfrm rot="10800000">
            <a:off x="6095880" y="601956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18"/>
          <p:cNvSpPr/>
          <p:nvPr/>
        </p:nvSpPr>
        <p:spPr>
          <a:xfrm rot="10800000">
            <a:off x="4647960" y="601956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19"/>
          <p:cNvSpPr/>
          <p:nvPr/>
        </p:nvSpPr>
        <p:spPr>
          <a:xfrm rot="10800000">
            <a:off x="3200400" y="601956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20"/>
          <p:cNvSpPr/>
          <p:nvPr/>
        </p:nvSpPr>
        <p:spPr>
          <a:xfrm rot="10800000">
            <a:off x="1752480" y="601956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AutoShape 21"/>
          <p:cNvSpPr/>
          <p:nvPr/>
        </p:nvSpPr>
        <p:spPr>
          <a:xfrm rot="10800000">
            <a:off x="685440" y="6019560"/>
            <a:ext cx="1066680" cy="152280"/>
          </a:xfrm>
          <a:prstGeom prst="rightArrow">
            <a:avLst>
              <a:gd name="adj1" fmla="val 50000"/>
              <a:gd name="adj2" fmla="val 175118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22"/>
          <p:cNvSpPr/>
          <p:nvPr/>
        </p:nvSpPr>
        <p:spPr>
          <a:xfrm rot="16200000">
            <a:off x="152280" y="5485680"/>
            <a:ext cx="1066680" cy="152640"/>
          </a:xfrm>
          <a:prstGeom prst="rightArrow">
            <a:avLst>
              <a:gd name="adj1" fmla="val 50000"/>
              <a:gd name="adj2" fmla="val 174705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23"/>
          <p:cNvSpPr/>
          <p:nvPr/>
        </p:nvSpPr>
        <p:spPr>
          <a:xfrm rot="16200000">
            <a:off x="152280" y="4419000"/>
            <a:ext cx="1066680" cy="152640"/>
          </a:xfrm>
          <a:prstGeom prst="rightArrow">
            <a:avLst>
              <a:gd name="adj1" fmla="val 50000"/>
              <a:gd name="adj2" fmla="val 174705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24"/>
          <p:cNvSpPr/>
          <p:nvPr/>
        </p:nvSpPr>
        <p:spPr>
          <a:xfrm rot="16200000">
            <a:off x="0" y="3200400"/>
            <a:ext cx="1371600" cy="152640"/>
          </a:xfrm>
          <a:prstGeom prst="rightArrow">
            <a:avLst>
              <a:gd name="adj1" fmla="val 50000"/>
              <a:gd name="adj2" fmla="val 224646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rting Point #1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apting the AHRQ QI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ing emergency department PSI shall involve several challenge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ly patient safety issues may manifest themselves at different points in time and in different setting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in the ER visit, o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an admission to the same hospital (promising area of focus) 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side of the ER of interest or the same hospital (e.g, home, another ER, another hospita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ment effort might consider the relationship between the PQIs and potential PSIs in the ED contex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example, a patient that presents at the emergency department with a Urinary Tract Infection (UTI) and then gets admitted as an inpatient. This patient will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ag as a PQI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t the ED level and at the inpatient admission level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wever, another patient that presents with a UTI and then is sent home, but returns the following day and needs to be admitted might be considered a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 safety problem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r development effort will consider these issues and relationships to develop indicators of two types –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tentially preventable ED visi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tentially preventable patient safety ev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D02D-C9BC-4934-903A-E4F9700482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rting Point #2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eptualizing Quality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types of adverse events might occur during an ED admission/encounter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itions worsens while waiting (related to ED crowd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ccult GI bleeds, sepsis, hypoglycemia, atypical heart atta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rdiac arrest in waiting room, death of asthma pati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 embolism from IV 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catio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ong medication to wrong patient (e.g., with too many patients in one treatment roo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orrect dose (e.g. patient not weighed, transcription error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cation give when patient has known all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ug interaction reaction (e.g., coumadin with certain common antibiotic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adequate monitoring (e.g., hypogylcemia after insulin, resp distress with narcotic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molytic reaction due to administration of incompatible blood or blood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Stretcher, Bed, Bathroom, Wet flo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610480" y="6324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9822-C3F6-4037-AED3-585E4CB904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23:28:01Z</dcterms:created>
  <dc:creator>JDeLaMar</dc:creator>
  <dc:description/>
  <dc:language>en-US</dc:language>
  <cp:lastModifiedBy>Rasa</cp:lastModifiedBy>
  <dcterms:modified xsi:type="dcterms:W3CDTF">2009-10-26T03:36:44Z</dcterms:modified>
  <cp:revision>295</cp:revision>
  <dc:subject/>
  <dc:title>Nine States Use AHRQ QIs for Public Hospital Reporting</dc:title>
</cp:coreProperties>
</file>