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2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3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4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BCC750-6886-4116-AADF-FAEC0984E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C03FB9-A4E3-4D07-AD0C-88C7B3A246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46B10-DD69-4715-8B5F-112DE83D01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79C3C5-955F-465B-B4B0-3E4D3820D1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176255-AFD5-485A-AD91-ABF7479FC0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41C7A7-4177-4D1A-8BA3-DFF72D9B90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00AB08-91BB-47FB-B282-637BB0CAF1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FA5D35-5B88-4C2B-B330-83FEA4CA79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B3ECEE-C2FB-4CA4-AE80-2F3F57BE6F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B14EC5A-DBE5-4368-8C4D-5310332BAA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7280" y="700200"/>
            <a:ext cx="4650120" cy="34858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B8BABCB-DABD-45D4-A939-3A1E5474D3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7280" y="700200"/>
            <a:ext cx="4650120" cy="34858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AC534A-9B0E-4E24-9403-9A23B77908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6DA47B-079D-48F0-96C9-8180428436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040A6-1C49-494C-877B-9A7E023912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21EF-A17A-406B-AF11-B10E1D82C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2120-ECF7-46C8-8595-7DF913B15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221E-D37D-4456-8C98-041978657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C10E-E01E-4528-8B05-41591F457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5CB0-1854-49F7-ACF9-D2FD7279F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CCAB-6BE0-45ED-9E39-D61BB443AC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A8C0-AD98-402B-B5D0-69EF7CFC0E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F7F2-AFFA-4521-991D-105238FCE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0396-97C7-45A7-A000-C8219B794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CC741-48A4-4DC3-97ED-3453BD911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EB1F-9B0F-4686-A463-058853F93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1F9C-C161-46A4-B21B-ADF991B21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FD72-2879-430B-BBD9-158DF9983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47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9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88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90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131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33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velopment of Emergency Department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ality Indicators (QI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52280" y="38862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athryn M. McDona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er for Health Policy / Center for Primary Care and Outcomes Research, Stanford Universit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ptember 14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tient Safety Ev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types of adverse events might occur during an ED admission/encounter or soon after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arm mal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 audible to or not seen by nur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Pump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ck up battery failures stops meds, unintentional change of settings, inadequate monito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ient specimen err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tients not fully registered or identified when specimen leaves ED, leading to lags in results communications, or assigning results to wrong pat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ection control failu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rect diagnosis &amp; “bounce back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tient returns to ED for abdominal pain (missed AAA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 rays interpreted as negative, fracture dx on later read or when patient retur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ath in a psychiatric patient admitted to psych ward within 72 hours of ED visit (missed organic caus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ssed injuries (Traumatic brain injur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610480" y="6324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31FB-E251-430E-9A78-80313DF4F0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tentially Avoidable Visi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16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ED encounters are potentially preventable by high quality outpatient care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ic Co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yperglyce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ute respiratory ev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onch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ypertensive urg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morrhagic stro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ds, Flu &amp; Invasive Pneumococcal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r hand hygie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k of primary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ed Flu s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ed Pneumococcal Vacc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610480" y="6324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BFAB-A2C1-40FB-B409-AC58DE5187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tentially Avoidable Visi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ED encounters are potentially preventable by public health intervention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p Fractures, Long bone fractures, Pediatric (e.g., due to poor window guard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ain injury secondary (not wearing helme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eworks inju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hyd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OH intox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dose/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xually transmitted dis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tetric com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or vehicle coll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ow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monoxide poisoning (poorer quality furnac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idental hypothermia (homeless sleeping in c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d poisoning (poor restaurant sanit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610480" y="6324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F1D8-A476-43E5-A9D1-540A0D3D46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tentially Avoidable Visi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ED encounters are potentially preventable with health care system change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mary care provider told patient to go to ED over the phone when office practice is cl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ek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ght Tim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adequate care outside ED for Aging 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able to provide self care, and inadequate support avail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ontinence issu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e given due to lack of adequate insurance for non-ED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grown toe nails with inf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ginit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rethrit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itis Med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unning out of home oxy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sibly due to lack of primary care do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e thro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rinary tract inf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610480" y="6324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BE3A-C502-4FC5-81B2-1E8D8FBC4B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tentially Avoidable Visi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ED encounters are potentially preventable with improvements to post-surgical care processe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able to care for self post-operatively (return visi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patient Surgery Com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und dehiscence from outpatient surg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t op Infe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morrhag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her post op compl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610480" y="6324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B336-38FC-4026-A283-206A7CD7A9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Source &amp; Issu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te Emergency Department Datasets (SED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eat and release encounters from 27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ounters resulting in subsequent admission to the same hospital from 41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records for the subsequent admissions relate to corresponding hospitalization records in the SID datase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agnosis and Procedure Co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 be that ED diagnosis codes are dropped or incorporated into a longer list when the patient is admit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 be no effective method to evaluate the quality of ED care for patients who were hospitalized from the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issues will be evaluated in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8610480" y="6324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ADA0-1487-43A5-BE2F-E3DBC63655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ject Philosoph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medicine is particularly sensitive to guidelines and quality measures from other specialties (e.g., cardiology, infectious disease, pediatrics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M community is not always included in guideline and quality measure development at the initial stages, even though they are affected mos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fore, a focus on ED quality needs to starts with the EM community (doctors, nurses, department manage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existing data sources available from AHR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fore, this project’s indicators will not cover all important ED quality concern (e.g., ambulance diversions from overcrowding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with existing AHRQ measures and development appro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Acknowledg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unded by AHR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for Quality Indicators II (Contract No. 290-04-002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matha Pancholi, AHRQ Project Offi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ffrey Geppert, Project Director, Battelle Memorial Institute Sci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ata used for analy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Emergency Department Databases (SEDD), 2002-2006. Healthcare Cost and Utilization Project (HCUP), Agency for Healthcare Research and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ment of AHRQ QI Using ED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ient Safety Indicators (PS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vention Quality Indicators (PQ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HRQ QI Development Methodolo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apting the AHRQ QI to the 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tential QI ED Indica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ient Safety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able ED vis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ata Iss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610480" y="6324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B24C-7DD5-4D12-B974-62527BB069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velopment of AHRQ ED Q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urpose of this New Tas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elop a set of quality indicators that is applicable to the emergency department set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porate set into the publicly available AHRQ QI softw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plement the established AHRQ QI measurement development proc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 existing AHRQ QI to ED set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duct a review of new candidate indic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610480" y="6324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0543-B3A1-4776-8AF0-4A01EE0051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316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isting AHRQ QIs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tient Safety Indicators (PSI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ath in low mortality DR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cubitus ulc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ailure to resc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eign body left during procedur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atrogenic pneumothorax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lected infections due to medical car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operative hemorrhage or hemato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operative hip fra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operative physiological and metabolic derang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operative PE or DV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85800" y="58672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he indicators marked with * are also provided as area level indicators.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tient Safety Indicators (cont.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1457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operative respiratory fail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operative seps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operative wound dehiscenc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chnical difficulty with procedur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nsfusion reaction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irth trauma – injury to neon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B trauma – vaginal delivery with instrument (w/ and w/o 3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gree laceration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B trauma – vaginal delivery without instrument (w/ and w/o 3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gree laceration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084320" y="5638680"/>
            <a:ext cx="619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he indicators marked with * are also provided as area level indicators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isting AHRQ QIs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evention Quality Indicator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71080" y="1752480"/>
            <a:ext cx="41482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l pneumo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ary tract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ated append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birth w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ina without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estive heart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66720" y="1752120"/>
            <a:ext cx="449604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ult 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es cx - short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es cx - long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ntrolled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extremity amp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01028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Measure Development and Validation Process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124080" y="251460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99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3124080" y="35812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99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1586520" y="178920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124080" y="464832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99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5943600" y="3581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99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7467480" y="4495680"/>
            <a:ext cx="152640" cy="381240"/>
          </a:xfrm>
          <a:prstGeom prst="downArrow">
            <a:avLst>
              <a:gd name="adj1" fmla="val 50000"/>
              <a:gd name="adj2" fmla="val 62441"/>
            </a:avLst>
          </a:prstGeom>
          <a:solidFill>
            <a:srgbClr val="990000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447920" y="1828800"/>
            <a:ext cx="7086600" cy="4191120"/>
            <a:chOff x="1447920" y="1828800"/>
            <a:chExt cx="7086600" cy="4191120"/>
          </a:xfrm>
        </p:grpSpPr>
        <p:sp>
          <p:nvSpPr>
            <p:cNvPr id="205" name="AutoShape 3"/>
            <p:cNvSpPr/>
            <p:nvPr/>
          </p:nvSpPr>
          <p:spPr>
            <a:xfrm>
              <a:off x="1447920" y="2209680"/>
              <a:ext cx="1600200" cy="838440"/>
            </a:xfrm>
            <a:prstGeom prst="flowChartProcess">
              <a:avLst/>
            </a:prstGeom>
            <a:gradFill rotWithShape="0">
              <a:gsLst>
                <a:gs pos="0">
                  <a:srgbClr val="990000">
                    <a:alpha val="8235"/>
                  </a:srgbClr>
                </a:gs>
                <a:gs pos="100000">
                  <a:srgbClr val="93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erature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AutoShape 5"/>
            <p:cNvSpPr/>
            <p:nvPr/>
          </p:nvSpPr>
          <p:spPr>
            <a:xfrm>
              <a:off x="1447920" y="3352680"/>
              <a:ext cx="1600200" cy="685800"/>
            </a:xfrm>
            <a:prstGeom prst="flowChartProcess">
              <a:avLst/>
            </a:prstGeom>
            <a:gradFill rotWithShape="0">
              <a:gsLst>
                <a:gs pos="0">
                  <a:srgbClr val="990000">
                    <a:alpha val="8235"/>
                  </a:srgbClr>
                </a:gs>
                <a:gs pos="100000">
                  <a:srgbClr val="93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ctual Use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AutoShape 7"/>
            <p:cNvSpPr/>
            <p:nvPr/>
          </p:nvSpPr>
          <p:spPr>
            <a:xfrm>
              <a:off x="1447920" y="4419720"/>
              <a:ext cx="1600200" cy="761760"/>
            </a:xfrm>
            <a:prstGeom prst="flowChartProcess">
              <a:avLst/>
            </a:prstGeom>
            <a:gradFill rotWithShape="0">
              <a:gsLst>
                <a:gs pos="0">
                  <a:srgbClr val="990000">
                    <a:alpha val="8235"/>
                  </a:srgbClr>
                </a:gs>
                <a:gs pos="100000">
                  <a:srgbClr val="93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Oval 10"/>
            <p:cNvSpPr/>
            <p:nvPr/>
          </p:nvSpPr>
          <p:spPr>
            <a:xfrm>
              <a:off x="4114800" y="1828800"/>
              <a:ext cx="1752480" cy="3657600"/>
            </a:xfrm>
            <a:prstGeom prst="ellipse">
              <a:avLst/>
            </a:prstGeom>
            <a:gradFill rotWithShape="0">
              <a:gsLst>
                <a:gs pos="0">
                  <a:srgbClr val="990000">
                    <a:alpha val="8235"/>
                  </a:srgbClr>
                </a:gs>
                <a:gs pos="100000">
                  <a:srgbClr val="93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ndidate 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dicators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AutoShape 12"/>
            <p:cNvSpPr/>
            <p:nvPr/>
          </p:nvSpPr>
          <p:spPr>
            <a:xfrm>
              <a:off x="6705720" y="2895480"/>
              <a:ext cx="1600200" cy="1524240"/>
            </a:xfrm>
            <a:prstGeom prst="flowChartAlternateProcess">
              <a:avLst/>
            </a:prstGeom>
            <a:gradFill rotWithShape="0">
              <a:gsLst>
                <a:gs pos="0">
                  <a:srgbClr val="990000">
                    <a:alpha val="8235"/>
                  </a:srgbClr>
                </a:gs>
                <a:gs pos="100000">
                  <a:srgbClr val="93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valuation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AutoShape 14"/>
            <p:cNvSpPr/>
            <p:nvPr/>
          </p:nvSpPr>
          <p:spPr>
            <a:xfrm>
              <a:off x="6629400" y="4952880"/>
              <a:ext cx="1905120" cy="1067040"/>
            </a:xfrm>
            <a:prstGeom prst="flowChartDecision">
              <a:avLst/>
            </a:prstGeom>
            <a:gradFill rotWithShape="0">
              <a:gsLst>
                <a:gs pos="0">
                  <a:srgbClr val="990000">
                    <a:alpha val="8235"/>
                  </a:srgbClr>
                </a:gs>
                <a:gs pos="100000">
                  <a:srgbClr val="93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lection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AutoShape 15"/>
          <p:cNvSpPr/>
          <p:nvPr/>
        </p:nvSpPr>
        <p:spPr>
          <a:xfrm>
            <a:off x="685800" y="251460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685800" y="35812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17"/>
          <p:cNvSpPr/>
          <p:nvPr/>
        </p:nvSpPr>
        <p:spPr>
          <a:xfrm rot="10800000">
            <a:off x="6095880" y="601956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AutoShape 18"/>
          <p:cNvSpPr/>
          <p:nvPr/>
        </p:nvSpPr>
        <p:spPr>
          <a:xfrm rot="10800000">
            <a:off x="4647960" y="601956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19"/>
          <p:cNvSpPr/>
          <p:nvPr/>
        </p:nvSpPr>
        <p:spPr>
          <a:xfrm rot="10800000">
            <a:off x="3200400" y="601956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20"/>
          <p:cNvSpPr/>
          <p:nvPr/>
        </p:nvSpPr>
        <p:spPr>
          <a:xfrm rot="10800000">
            <a:off x="1752480" y="601956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AutoShape 21"/>
          <p:cNvSpPr/>
          <p:nvPr/>
        </p:nvSpPr>
        <p:spPr>
          <a:xfrm rot="10800000">
            <a:off x="685440" y="6019560"/>
            <a:ext cx="1066680" cy="152280"/>
          </a:xfrm>
          <a:prstGeom prst="rightArrow">
            <a:avLst>
              <a:gd name="adj1" fmla="val 50000"/>
              <a:gd name="adj2" fmla="val 175118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22"/>
          <p:cNvSpPr/>
          <p:nvPr/>
        </p:nvSpPr>
        <p:spPr>
          <a:xfrm rot="16200000">
            <a:off x="152280" y="5485680"/>
            <a:ext cx="1066680" cy="152640"/>
          </a:xfrm>
          <a:prstGeom prst="rightArrow">
            <a:avLst>
              <a:gd name="adj1" fmla="val 50000"/>
              <a:gd name="adj2" fmla="val 174705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23"/>
          <p:cNvSpPr/>
          <p:nvPr/>
        </p:nvSpPr>
        <p:spPr>
          <a:xfrm rot="16200000">
            <a:off x="152280" y="4419000"/>
            <a:ext cx="1066680" cy="152640"/>
          </a:xfrm>
          <a:prstGeom prst="rightArrow">
            <a:avLst>
              <a:gd name="adj1" fmla="val 50000"/>
              <a:gd name="adj2" fmla="val 174705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24"/>
          <p:cNvSpPr/>
          <p:nvPr/>
        </p:nvSpPr>
        <p:spPr>
          <a:xfrm rot="16200000">
            <a:off x="0" y="3200400"/>
            <a:ext cx="1371600" cy="15264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arting Point #1: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dapting the AHRQ QI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ing emergency department PSI shall involve several challenge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ually patient safety issues may manifest themselves at different points in time and in different setting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in the ER visit, o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an admission to the same hospital (promising area of focus) 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utside of the ER of interest or the same hospital (e.g, home, another ER, another hospita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ment effort might consider the relationship between the PQIs and potential PSIs in the ED contex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example, a patient that presents at the emergency department with a Urinary Tract Infection (UTI) and then gets admitted as an inpatient. This patient will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ag as a PQI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t the ED level and at the inpatient admission level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wever, another patient that presents with a UTI and then is sent home, but returns the following day and needs to be admitted might be considered a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tient safety problem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ur development effort will consider these issues and relationships to develop indicators of two types –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tentially preventable ED visi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tentially preventable patient safety even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610480" y="6324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1542-C7E4-4977-8E23-EE24F89F31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arting Point #2: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ceptualizing Quality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types of adverse events might occur during an ED admission/encounter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ditions worsens while waiting (related to ED crowd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ccult GI bleeds, sepsis, hypoglycemia, atypical heart attac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rdiac arrest in waiting room, death of asthma pati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 embolism from IV l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icatio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ong medication to wrong patient (e.g., with too many patients in one treatment roo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orrect dose (e.g. patient not weighed, transcription error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dication give when patient has known all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ug interaction reaction (e.g., coumadin with certain common antibiotic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adequate monitoring (e.g., hypogylcemia after insulin, resp distress with narcotic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molytic reaction due to administration of incompatible blood or blood 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l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Stretcher, Bed, Bathroom, Wet flo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610480" y="6324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206A-46B0-494A-AB59-B5686BBA6C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23:28:01Z</dcterms:created>
  <dc:creator>JDeLaMar</dc:creator>
  <dc:description/>
  <dc:language>en-US</dc:language>
  <cp:lastModifiedBy>Rasa</cp:lastModifiedBy>
  <dcterms:modified xsi:type="dcterms:W3CDTF">2009-10-26T03:36:44Z</dcterms:modified>
  <cp:revision>295</cp:revision>
  <dc:subject/>
  <dc:title>Nine States Use AHRQ QIs for Public Hospital Reporting</dc:title>
</cp:coreProperties>
</file>