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3FD1-2FFA-46A8-9E27-E79DCE76F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5A7C-7307-4535-A532-DD9DF20C7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D5A6-05CF-4BCC-A27A-FB9AA9A2C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02DC-F872-4781-94EC-54EA1DB22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7DD0-D1A6-4C5C-879F-7D306E323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8526-1421-4DD8-9795-FA3D4C3F1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D043-36E4-4D71-9983-E6C795A24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A798-D526-48D8-BED1-40E018E9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BD46-FE47-47F4-B649-582DBC2A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1B88-48D0-4832-9AE9-2D6A0AF7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E161-602C-4E87-98D4-E8500EA7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D2B7-AAC6-4BE2-B7C4-800428EC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C483-FABA-46FE-897D-9C4B5CB7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E264-CDC3-485C-B23D-BED21DE4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5D1B-77EC-4AB2-AFC9-A103EAAE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E93B-9729-42DE-AC78-738F386B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3449-2B98-432C-93DE-BF166442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56FB-DFBA-452A-A6DC-1E892D22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C1DE-93A3-4DD8-861D-F7786A64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B630-BD4C-4C77-95B0-67529FB2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242F-0D25-4825-9B7C-CEF83805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06EA-BAC3-47E2-8C29-4B3E0C29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7F36-B869-47B1-9326-ABC27B51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DC2B-7DA7-4FB9-A126-E684CA7F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226F2-3117-4352-8DBA-14184694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8DFF4-C7A2-40CB-BCD4-1F793C00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0FB26-0928-43E6-BF3D-87122F87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323DE-6499-47AC-954A-A9DA2869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0F331-A175-468C-97E7-2DB77F58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AF14-52F6-46E2-BAEE-598D5868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D6363-7FDF-490E-BE75-C943BA7A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7CCB3-AA78-4F0F-885A-63C05C84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2446B-56D6-4B4C-B993-3123D790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ABF47-DCF5-4EC1-9D30-760C9AC7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88FB4-62E7-4B75-A7BE-0F979EA9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03D14-B807-4B9B-9613-710D74A4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44F41-0C70-435F-9031-A52D43F6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5DBF-6FBB-49CF-BD54-3C771779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166C-AE92-4ACD-8333-D335DDC9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35F6-3F2B-467A-9C28-B20DD8C5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B785-CE71-4285-9FC0-28CA69AB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39DB-3C9E-4C8B-84C6-55CF9D4D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F056-6EE7-41EB-A2BF-C0DC3630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5A68-C2F6-49C8-B8E6-12EBB070BDA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7BC9-AA30-4BE8-A971-F84ACC3B9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85A6-DB12-4DC6-91E8-15C1DE8E59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images.google.com/imgres?imgurl=http://www.nbc.com/ER/images/outreach/ahrq.jpg&amp;imgrefurl=http://www.nbc.com/ER/outreach/&amp;usg=__vYAeCotBFqDedeVtOC1mF9KkT4c=&amp;h=73&amp;w=120&amp;sz=3&amp;hl=en&amp;start=12&amp;tbnid=0_o0IbM9U9YGMM:&amp;tbnh=54&amp;tbnw=88&amp;prev=/images%3Fq%3DAHRQ%2Bsymbol%26gbv%3D2%26hl%3Den%26sa%3D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ahrq.hhs.gov/qual/vtguide/" TargetMode="External"/><Relationship Id="rId4" Type="http://schemas.openxmlformats.org/officeDocument/2006/relationships/hyperlink" Target="http://ahrq.hhs.gov/qual/vtguide/" TargetMode="External"/><Relationship Id="rId5" Type="http://schemas.openxmlformats.org/officeDocument/2006/relationships/hyperlink" Target="http://ahrq.hhs.gov/qual/vtguide/" TargetMode="External"/><Relationship Id="rId6" Type="http://schemas.openxmlformats.org/officeDocument/2006/relationships/hyperlink" Target="http://www.hospitalmedicine.org/ResourceRoomRedesign/RR_VTE/VTE_Home.cfm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images.google.com/imgres?imgurl=http://www.nbc.com/ER/images/outreach/ahrq.jpg&amp;imgrefurl=http://www.nbc.com/ER/outreach/&amp;usg=__vYAeCotBFqDedeVtOC1mF9KkT4c=&amp;h=73&amp;w=120&amp;sz=3&amp;hl=en&amp;start=12&amp;tbnid=0_o0IbM9U9YGMM:&amp;tbnh=54&amp;tbnw=88&amp;prev=/images%3Fq%3DAHRQ%2Bsymbol%26gbv%3D2%26hl%3Den%26sa%3D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PMingLiU"/>
              </a:rPr>
              <a:t>AHRQ /  QIO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PMingLiU"/>
              </a:rPr>
              <a:t>Venous Thromboembolism (VTE) Prevention in the Hospital</a:t>
            </a:r>
            <a:br>
              <a:rPr sz="32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2640" y="4191120"/>
            <a:ext cx="6705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PMingLiU"/>
              </a:rPr>
              <a:t>Greg Maynard MD, MS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PMingLiU"/>
              </a:rPr>
              <a:t>Clinical Professor of Medicine and Chief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PMingLiU"/>
              </a:rPr>
              <a:t>Division of Hospital Medi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PMingLiU"/>
              </a:rPr>
              <a:t>University of California, San Di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UCSD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VTE Protocol Validated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to use, on direct observation –  a few sec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-observer agreement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50 patients, 5 observers-  Kappa 0.8 and 0.9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ve of V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tion = high levels of VTE prophylax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rom 50% to sustained 98% adequate prophylaxi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tes determined by over 2,900 random sample audi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fe – no discernible increase in HIT or blee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ive – 40% reduction in HA V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86% reduction in risk of preventable VT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0"/>
          <a:ext cx="1447920" cy="13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UCSD logo&#13;&#10;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44792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1" name="" descr="ahrq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15200" y="0"/>
            <a:ext cx="182880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TE Prevention Guides</a:t>
            </a:r>
            <a:endParaRPr b="0" lang="en-US" sz="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228600"/>
            <a:ext cx="4952880" cy="581400"/>
          </a:xfrm>
          <a:prstGeom prst="rect">
            <a:avLst/>
          </a:prstGeom>
          <a:solidFill>
            <a:srgbClr val="00b000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TE Prevention Gu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80880" y="990720"/>
            <a:ext cx="8259840" cy="4724280"/>
            <a:chOff x="380880" y="990720"/>
            <a:chExt cx="8259840" cy="472428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380880" y="990720"/>
              <a:ext cx="3913200" cy="47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5105520" y="990720"/>
              <a:ext cx="3535200" cy="457200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</p:grpSp>
      <p:sp>
        <p:nvSpPr>
          <p:cNvPr id="207" name=""/>
          <p:cNvSpPr/>
          <p:nvPr/>
        </p:nvSpPr>
        <p:spPr>
          <a:xfrm>
            <a:off x="5181480" y="649116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ahrq.hhs.gov/qual/vtguide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01992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http://www.hospitalmedicine.org/ResourceRoomRedesign/RR_VTE/VTE_Home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Screen shot of web page: Society of Hospital Medicine title at the top, with a blue banner labelled Quality Improvement Resource Rooms across the middle of the page. A gold box on the right of the screen shot has “Venous Thromboembolism outlined with a red rectangle. &#13;&#10;"/>
          <p:cNvPicPr/>
          <p:nvPr/>
        </p:nvPicPr>
        <p:blipFill>
          <a:blip r:embed="rId1"/>
          <a:srcRect l="1687" t="13501" r="2440" b="6251"/>
          <a:stretch/>
        </p:blipFill>
        <p:spPr>
          <a:xfrm>
            <a:off x="4680" y="963720"/>
            <a:ext cx="9064800" cy="59706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086600" y="4495680"/>
            <a:ext cx="1600200" cy="22860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62320" y="152280"/>
            <a:ext cx="4952880" cy="886320"/>
          </a:xfrm>
          <a:prstGeom prst="rect">
            <a:avLst/>
          </a:prstGeom>
          <a:solidFill>
            <a:srgbClr val="00b000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TE QI Resource Roo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hospitalmedicin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TE QI Resource Room</a:t>
            </a:r>
            <a:endParaRPr b="0" lang="en-US" sz="7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ollaborative Efforts and Kudo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M VTE Prevention Collaborative I  -   25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M  /  VA Pilot Group  -  6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M / Cerner Pilot Group – 6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HRQ / QIO (NY, IL, IA) -  60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HI Expedition to Prevent VTE – 60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M Team Improvement A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PH Safety Net Award (Honorable Men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ous Disease Coal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o Achieve Improvemen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 institutional support / priorit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to standard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ian lead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ment of process /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col, integrated into order 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ed refinement / tweaking- PD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61722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M and AHRQ Guides on VTE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he Essential First Interventio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828800"/>
            <a:ext cx="852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a standardized VTE risk assessment, linked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a menu of appropriate prophylaxis options, plu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a list of contraindications to pharmacologic VTE prophylax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llenges: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ake it easy to use (“automatic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ake sure it captures almost all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rade-off between guidance and ease of use /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05E6-182F-4827-AE48-0605AD534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71800" y="1143000"/>
            <a:ext cx="2971800" cy="9144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TE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Hierarchy of Reliability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47920" y="1676520"/>
            <a:ext cx="6240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rotocol* (“State of Nature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support exists but not linked to order writing, or prompts within orders but no decision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tocol well-integra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into orders at point-of-car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col enhanc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y other QI / high reliability strateg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Oversights identified and addressed in real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21932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449568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67652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1400" y="257184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9960" y="370368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1400" y="534528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38880" y="228600"/>
            <a:ext cx="1905120" cy="18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edi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phylaxis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96080" y="1676520"/>
            <a:ext cx="99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2438280"/>
            <a:ext cx="99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96080" y="373392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65-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96080" y="487692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98240" y="556272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95+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4600" y="6283440"/>
            <a:ext cx="896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 Protocol = standardized decision support, nested within an order set, i.e. what/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Map to Reach Level 3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mplementing an Effective VTE Prevention Protoco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existing admit, transfer, periop order sets with reference to VTE prophylax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a protocol-driven DVT prophylaxis order set (w/ integrated risk assessment model [RAM]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tte / Pilot – PD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e / consensus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 new standardized DVT order set ‘module’ into all pertinent admit, transfer, periop order se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, tweak - PD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oo Little Guidanc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Prompt ≠ Protocol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VT PROPHYLAXIS 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 thromboembolism Stock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quential Compression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FH 5000 units SubQ q 12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FH 5000 units SubQ q 8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MWH (Enoxaparin) 40 mg SubQ q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MWH (Enoxaparin) 30 mg SubQ q 12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Prophylaxis, Ambu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Most Common Mistakes in VTE Prevention Order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based risk assessment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per Balance of guidance / 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o little guidance - prompt ≠ protoco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o much guidance- collects dust, too lo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lure to revise old ord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 many categories of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ing non-pharm prophy too m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lure to pilot, revise, mon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age between risk level and prophy choices are separated in time or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TE: A Major Source of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ortality and Morbidity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50,000 to 650,000 with VTE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,000 to &gt; 200,000 deaths per yea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 are hospital relate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TE is primary cause of fatality in half-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re than HIV, MVAs, Breast CA </a:t>
            </a:r>
            <a:r>
              <a:rPr b="0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ombine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quals 1 jumbo jet crash / day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% of hospital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y be the #1 preventable cau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ge costs and morbidity (recurrence, post-thrombotic syndrome, chronic PA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655308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rgeon General’s Call to Action to Prevent DVT and PE  2008  DH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2217-AA73-4A4F-A3F3-D2DFF4347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A photo of a table top with 15-20 order sets spread all over it is depicted. &#13;&#10;"/>
          <p:cNvPicPr/>
          <p:nvPr/>
        </p:nvPicPr>
        <p:blipFill>
          <a:blip r:embed="rId1"/>
          <a:stretch/>
        </p:blipFill>
        <p:spPr>
          <a:xfrm>
            <a:off x="990720" y="1830240"/>
            <a:ext cx="6705360" cy="50277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s your order set in a competition?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152280" y="6091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Low       Medium         High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04920" y="1371600"/>
          <a:ext cx="8534160" cy="5102280"/>
        </p:xfrm>
        <a:graphic>
          <a:graphicData uri="http://schemas.openxmlformats.org/drawingml/2006/table">
            <a:tbl>
              <a:tblPr/>
              <a:tblGrid>
                <a:gridCol w="1981080"/>
                <a:gridCol w="3048120"/>
                <a:gridCol w="3504960"/>
              </a:tblGrid>
              <a:tr h="21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bulatory with no other risk factors.  Same day or minor surg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PD / Pneum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st Medical Pati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st Gen Surg Pati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verybody E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lective LE arthroplas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ip/pelvic f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ute SCI w/ pare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ultiple major tra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bd / pelvic CA surg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arly amb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FH 5000 units q 8 h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5000 units q 12 h if &gt; 75 or weight &lt;50 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MW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nox 40 mg q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ther LMW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IDER add I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nox 30 mg q 12 h    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nox 40 q day           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ther LMWH           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ndaparinux 2.5 mg q day                                           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arfarin INR 2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D MUST H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P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768B-D38B-4E95-8ACA-A261279B8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1905120" y="6437160"/>
            <a:ext cx="7086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IPC needed if contraindication to AC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1905120" y="228600"/>
            <a:ext cx="5181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from UCS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it Simple – A “3 bucket”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Hierarchy of Reliability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47920" y="1676520"/>
            <a:ext cx="6240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rotocol* (“State of Nature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support exists but not linked to order writing, or prompts within orders but no decision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Protocol well-integra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(into orders at point-of-car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col enhanc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y other QI / high reliability strateg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versights identified and addressed in real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121932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449568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167652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71400" y="257184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9960" y="370368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1400" y="534528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238880" y="228600"/>
            <a:ext cx="1905120" cy="18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edi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phylaxis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696080" y="1676520"/>
            <a:ext cx="99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96080" y="2438280"/>
            <a:ext cx="99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96080" y="373392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65-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96080" y="457200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98240" y="532908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95+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4600" y="6283440"/>
            <a:ext cx="896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 Protocol = standardized decision support, nested within an order set, i.e. what/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Map to Reach Level 5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95+ % prophylaxi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MAR or Automated Reports to Classify all patients on the Unit as being in one of three z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GREEN ZONE -   on anticoag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 ZONE -  on mechanical prophylaxis on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 ZONE –  on no prophylax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ct 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ove patients out of the RED!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Situational Awareness and 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Measure-vention:    Getting to Level 5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patients on no anticoag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ower nurses to place SCDs in patients on no prophylaxis as standing order (if no contraindica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 MD if no anticoagulant in place and no obvious contrain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mplated note, text page, etc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Administration to back up these interventions and make it clear that docs can not “shoot the messeng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ummary of Key Strategi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Building B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stitutional support, team, education, protocol, metrics, PDS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ian performs VTE risk assessment within easy to use order sets, which captures all admits / transf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monitoring for non-adherents to protocol, intervene in real ti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Risk Factors for VT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2460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0">
              <a:spcBef>
                <a:spcPts val="1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 &gt; 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mo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o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inal Cord inju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ypervisco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ycythe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re COP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esthe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e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ricose Ve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819520" y="1752120"/>
            <a:ext cx="3581280" cy="27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1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ypercoagul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estrogen 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lammatory Bow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phrotic Syndr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gna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ombophi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05720" y="1676520"/>
            <a:ext cx="3095640" cy="23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ndothelial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ior V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entral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au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6400800"/>
            <a:ext cx="487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derson FA Jr. &amp; Wheeler HB.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lin Chest M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1995;16:23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Risk Factors for VT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2460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0">
              <a:spcBef>
                <a:spcPts val="1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 &gt; 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mo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o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inal Cord inju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ypervisco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ycythe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re COP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esthe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e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ricose Ve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819160" y="1752120"/>
            <a:ext cx="3352680" cy="27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1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ypercoagul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estrogen 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lammatory Bow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phrotic Syndr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gna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ombophi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0">
              <a:spcBef>
                <a:spcPts val="12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1676520"/>
            <a:ext cx="3095640" cy="23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ndothelial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ior V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entral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au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6172200"/>
            <a:ext cx="533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derson FA Jr. &amp; Wheeler HB.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lin Chest M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1995;16:23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ick RL &amp; Kaplan H.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Med Clin North Am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1998;82:409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9944600">
            <a:off x="991080" y="2285640"/>
            <a:ext cx="6858000" cy="1191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st hospitalized patients have at least one risk factor for V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NDORSE Resul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765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 of ~70,000 patients in 358 hospitals, appropriate prophylaxis was administered 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58.5% of surgical pati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9.5% of medical pati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533520" y="5943600"/>
            <a:ext cx="8153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hen, Tapson, Bergmann, et al. Venous thromboembolism risk and prophylaxis in the acute hospital care setting (ENDORSE study): a multinational cross-sectional study. Lancet 2008; 371: 387–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“Stick” is coming….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QF endorses measures alrea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reporting and TJC measures coming so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hylaxis in place within 24 hours of admit or risk assessment / contraindication justifying it’s abse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me for critical care unit admit / transf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ack preventable VT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MS –  DVT or PE with knee or hip replacement reimbursed as though complication had not occurr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 – AHRQ grant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ign and implement VTE prevention protoco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nitor impact on VTE prophylaxis and HA VT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alidate a VTE risk assessment model / protoco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tempt to use portable methodology, build toolkit to allow others to accomplish the same th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09480" y="304920"/>
            <a:ext cx="7772400" cy="1958760"/>
            <a:chOff x="609480" y="304920"/>
            <a:chExt cx="7772400" cy="1958760"/>
          </a:xfrm>
        </p:grpSpPr>
        <p:graphicFrame>
          <p:nvGraphicFramePr>
            <p:cNvPr id="154" name=""/>
            <p:cNvGraphicFramePr/>
            <p:nvPr/>
          </p:nvGraphicFramePr>
          <p:xfrm>
            <a:off x="609480" y="304920"/>
            <a:ext cx="2057400" cy="195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304920"/>
                      <a:ext cx="2057400" cy="195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6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791320" y="304920"/>
              <a:ext cx="2590560" cy="15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352680" y="533520"/>
              <a:ext cx="1981440" cy="838080"/>
            </a:xfrm>
            <a:prstGeom prst="leftRightArrow">
              <a:avLst>
                <a:gd name="adj1" fmla="val 50000"/>
                <a:gd name="adj2" fmla="val 4706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randomly sampled inpatients with adequate vte prophylaxis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523B-8910-4822-A236-80608800E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61" name="Line 3"/>
          <p:cNvSpPr/>
          <p:nvPr/>
        </p:nvSpPr>
        <p:spPr>
          <a:xfrm flipH="1">
            <a:off x="2453760" y="3808440"/>
            <a:ext cx="17640" cy="10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 flipH="1">
            <a:off x="4497480" y="3417840"/>
            <a:ext cx="1440" cy="9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7662960" y="3046320"/>
            <a:ext cx="1440" cy="10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1076400" y="4183200"/>
            <a:ext cx="1427040" cy="196560"/>
          </a:xfrm>
          <a:prstGeom prst="leftRightArrow">
            <a:avLst>
              <a:gd name="adj1" fmla="val 50000"/>
              <a:gd name="adj2" fmla="val 1445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2666880" y="3886200"/>
            <a:ext cx="1771920" cy="196920"/>
          </a:xfrm>
          <a:prstGeom prst="leftRightArrow">
            <a:avLst>
              <a:gd name="adj1" fmla="val 50000"/>
              <a:gd name="adj2" fmla="val 1791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4495680" y="3657600"/>
            <a:ext cx="3200400" cy="152280"/>
          </a:xfrm>
          <a:prstGeom prst="leftRightArrow">
            <a:avLst>
              <a:gd name="adj1" fmla="val 50000"/>
              <a:gd name="adj2" fmla="val 4183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7848720" y="3429000"/>
            <a:ext cx="911160" cy="246240"/>
          </a:xfrm>
          <a:prstGeom prst="rightArrow">
            <a:avLst>
              <a:gd name="adj1" fmla="val 50000"/>
              <a:gd name="adj2" fmla="val 925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1143000" y="4648320"/>
            <a:ext cx="12193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2743200" y="4267080"/>
            <a:ext cx="1393920" cy="61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ensus buil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4724280" y="2819520"/>
            <a:ext cx="2590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 Set Implementation &amp; Adju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7631280" y="2438280"/>
            <a:ext cx="1512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 time ID &amp; interv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4"/>
          <p:cNvGrpSpPr/>
          <p:nvPr/>
        </p:nvGrpSpPr>
        <p:grpSpPr>
          <a:xfrm>
            <a:off x="0" y="-38160"/>
            <a:ext cx="9144000" cy="6896160"/>
            <a:chOff x="0" y="-38160"/>
            <a:chExt cx="9144000" cy="6896160"/>
          </a:xfrm>
        </p:grpSpPr>
        <p:pic>
          <p:nvPicPr>
            <p:cNvPr id="173" name="Picture 15" descr=""/>
            <p:cNvPicPr/>
            <p:nvPr/>
          </p:nvPicPr>
          <p:blipFill>
            <a:blip r:embed="rId2"/>
            <a:stretch/>
          </p:blipFill>
          <p:spPr>
            <a:xfrm>
              <a:off x="0" y="-38160"/>
              <a:ext cx="914400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16"/>
            <p:cNvSpPr/>
            <p:nvPr/>
          </p:nvSpPr>
          <p:spPr>
            <a:xfrm flipH="1">
              <a:off x="2453760" y="3808440"/>
              <a:ext cx="17640" cy="10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7"/>
            <p:cNvSpPr/>
            <p:nvPr/>
          </p:nvSpPr>
          <p:spPr>
            <a:xfrm flipH="1">
              <a:off x="4497480" y="3417840"/>
              <a:ext cx="1440" cy="98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8"/>
            <p:cNvSpPr/>
            <p:nvPr/>
          </p:nvSpPr>
          <p:spPr>
            <a:xfrm>
              <a:off x="7662960" y="3046320"/>
              <a:ext cx="1440" cy="10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9"/>
            <p:cNvSpPr/>
            <p:nvPr/>
          </p:nvSpPr>
          <p:spPr>
            <a:xfrm>
              <a:off x="1076400" y="4183200"/>
              <a:ext cx="1427040" cy="196560"/>
            </a:xfrm>
            <a:prstGeom prst="leftRightArrow">
              <a:avLst>
                <a:gd name="adj1" fmla="val 50000"/>
                <a:gd name="adj2" fmla="val 14452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20"/>
            <p:cNvSpPr/>
            <p:nvPr/>
          </p:nvSpPr>
          <p:spPr>
            <a:xfrm>
              <a:off x="2666880" y="3886200"/>
              <a:ext cx="1771920" cy="196920"/>
            </a:xfrm>
            <a:prstGeom prst="leftRightArrow">
              <a:avLst>
                <a:gd name="adj1" fmla="val 50000"/>
                <a:gd name="adj2" fmla="val 1791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21"/>
            <p:cNvSpPr/>
            <p:nvPr/>
          </p:nvSpPr>
          <p:spPr>
            <a:xfrm>
              <a:off x="4495680" y="3657600"/>
              <a:ext cx="3200400" cy="152280"/>
            </a:xfrm>
            <a:prstGeom prst="leftRightArrow">
              <a:avLst>
                <a:gd name="adj1" fmla="val 50000"/>
                <a:gd name="adj2" fmla="val 4183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22"/>
            <p:cNvSpPr/>
            <p:nvPr/>
          </p:nvSpPr>
          <p:spPr>
            <a:xfrm>
              <a:off x="7848720" y="3429000"/>
              <a:ext cx="911160" cy="246240"/>
            </a:xfrm>
            <a:prstGeom prst="rightArrow">
              <a:avLst>
                <a:gd name="adj1" fmla="val 50000"/>
                <a:gd name="adj2" fmla="val 9250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3"/>
            <p:cNvSpPr/>
            <p:nvPr/>
          </p:nvSpPr>
          <p:spPr>
            <a:xfrm>
              <a:off x="1143000" y="4648320"/>
              <a:ext cx="12193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Base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24"/>
            <p:cNvSpPr/>
            <p:nvPr/>
          </p:nvSpPr>
          <p:spPr>
            <a:xfrm>
              <a:off x="2743200" y="4267080"/>
              <a:ext cx="1393920" cy="61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Consensus buil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25"/>
            <p:cNvSpPr/>
            <p:nvPr/>
          </p:nvSpPr>
          <p:spPr>
            <a:xfrm>
              <a:off x="4724280" y="2819520"/>
              <a:ext cx="25909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Order Set Implementation &amp; Adjust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6"/>
            <p:cNvSpPr/>
            <p:nvPr/>
          </p:nvSpPr>
          <p:spPr>
            <a:xfrm>
              <a:off x="7631280" y="2438280"/>
              <a:ext cx="1512720" cy="53352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Real time ID &amp; interven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 flipV="1">
            <a:off x="739152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9144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2,944         mean 82 audits /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9907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ress, JHM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CSD – Decrease in patients with preventable ha vte</a:t>
            </a:r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89" name="Object 2"/>
          <p:cNvGraphicFramePr/>
          <p:nvPr/>
        </p:nvGraphicFramePr>
        <p:xfrm>
          <a:off x="385920" y="266760"/>
          <a:ext cx="8447040" cy="64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Object 2" descr="Run charts depicts a declining number of preventable VTE as the VTE prophylaxis rate improves, which affected all services. 10-13 preventable VTE per quarter were occurring at baseline in the first quarter of 2005, whereas this became 2 per quarter at times after implementation. 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266760"/>
                    <a:ext cx="8447040" cy="64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3A2F-C4DC-403C-A5B5-8DFF6671D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3"/>
          <p:cNvGrpSpPr/>
          <p:nvPr/>
        </p:nvGrpSpPr>
        <p:grpSpPr>
          <a:xfrm>
            <a:off x="762120" y="1295280"/>
            <a:ext cx="7330320" cy="368280"/>
            <a:chOff x="762120" y="1295280"/>
            <a:chExt cx="7330320" cy="368280"/>
          </a:xfrm>
        </p:grpSpPr>
        <p:sp>
          <p:nvSpPr>
            <p:cNvPr id="193" name="Text Box 4"/>
            <p:cNvSpPr/>
            <p:nvPr/>
          </p:nvSpPr>
          <p:spPr>
            <a:xfrm>
              <a:off x="762120" y="1295280"/>
              <a:ext cx="990360" cy="368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vel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5"/>
            <p:cNvSpPr/>
            <p:nvPr/>
          </p:nvSpPr>
          <p:spPr>
            <a:xfrm>
              <a:off x="1833480" y="1295280"/>
              <a:ext cx="54036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Oversights identified and addressed in real 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6"/>
            <p:cNvSpPr/>
            <p:nvPr/>
          </p:nvSpPr>
          <p:spPr>
            <a:xfrm>
              <a:off x="7322040" y="1295280"/>
              <a:ext cx="770400" cy="368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5+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Line 7"/>
          <p:cNvSpPr/>
          <p:nvPr/>
        </p:nvSpPr>
        <p:spPr>
          <a:xfrm>
            <a:off x="6095880" y="1676520"/>
            <a:ext cx="30492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ynard</dc:creator>
  <dc:description/>
  <dc:language>en-US</dc:language>
  <cp:lastModifiedBy>Chettra.Chhiet</cp:lastModifiedBy>
  <dcterms:modified xsi:type="dcterms:W3CDTF">2009-12-04T12:49:53Z</dcterms:modified>
  <cp:revision>74</cp:revision>
  <dc:subject/>
  <dc:title>VTE Prevention in the Hospit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