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36C-AC43-4B3B-BA40-8E1C0D92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E37D-655B-4908-A7CD-6415E649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F7E4-4456-4F94-9806-474596F1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B78A-931E-412B-9FCC-8AB21335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42E-EED2-43B5-BFA9-803C582FB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48F-410F-4684-BF9D-DF7902FF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345-4BA5-4C83-9024-5F5C12F5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DBD-F2CE-4524-AF46-CF6D50AE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335-DF35-47DA-9249-073F5FE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0AA-A0FD-4105-9019-663CAD36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593-B6C7-4A4B-8537-94D89036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659B-E570-4619-8A57-4E96ED07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43B6-1B62-46C3-8D5F-38A769D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20AE-D411-4167-948F-E59BCE9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2F8E-F620-4ED3-AC97-21000E91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B79-24B9-48FF-9C8A-05ECC8B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3D5D-9357-4BE8-A3A1-81BD8B0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13F4-EFB9-4910-984C-0C6DA028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8D9-65FF-4795-8E3E-0FB9DDD4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4298-88BC-47D0-B06D-2C7124A5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87D-F2AC-4B46-B25B-5F21CAE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89D-436D-4321-8406-BC49A14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CAE0-7A1B-4C85-A209-A372F748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44E8-B9D9-410D-AF03-F9827E56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BEFD-EBBF-4171-BAD0-72988046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87F3-56A3-4024-837E-408C0DF3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0260-6A18-4ED9-8F98-F945308A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8DE7-0DE7-4308-84E8-0905747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A459-6D07-46E1-A87A-2E7999C2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7CA-A4CD-4E6D-9675-6A2A448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43CA-3258-48A1-B56B-236A54E1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0992-2C48-46A1-AEC2-6402B5C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F90B-A38B-4C7B-AD1F-AED0C07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2C49-8E39-4A16-86B7-0C70ED5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7C06-FB28-4930-B262-983CA860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F3D2-95F7-4452-A819-A48E6123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5DEB-206A-4EAD-AE7E-72FE359E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7BC-55EC-4C43-9B14-2520FA87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4C8-5254-4BE7-B553-ABFA9AA5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9CE-6318-49F3-94E0-4B1E87F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039-D3CF-41EA-A7A9-9549B8BC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B47-05B3-44A7-AA82-BA1C5C61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E01-EEE3-452E-9741-E8FD5C29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9D7-B0FF-4DD3-9105-AB9D7E3BB28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9E9C-04A2-4470-94EB-717C4EBD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9892-3A48-4D17-8A99-B018CC84CF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nbc.com/ER/images/outreach/ahrq.jpg&amp;imgrefurl=http://www.nbc.com/ER/outreach/&amp;usg=__vYAeCotBFqDedeVtOC1mF9KkT4c=&amp;h=73&amp;w=120&amp;sz=3&amp;hl=en&amp;start=12&amp;tbnid=0_o0IbM9U9YGMM:&amp;tbnh=54&amp;tbnw=88&amp;prev=/images%3Fq%3DAHRQ%2Bsymbol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ahrq.hhs.gov/qual/vtguide/" TargetMode="External"/><Relationship Id="rId4" Type="http://schemas.openxmlformats.org/officeDocument/2006/relationships/hyperlink" Target="http://ahrq.hhs.gov/qual/vtguide/" TargetMode="External"/><Relationship Id="rId5" Type="http://schemas.openxmlformats.org/officeDocument/2006/relationships/hyperlink" Target="http://ahrq.hhs.gov/qual/vtguide/" TargetMode="External"/><Relationship Id="rId6" Type="http://schemas.openxmlformats.org/officeDocument/2006/relationships/hyperlink" Target="http://www.hospitalmedicine.org/ResourceRoomRedesign/RR_VTE/VTE_Home.cfm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nbc.com/ER/images/outreach/ahrq.jpg&amp;imgrefurl=http://www.nbc.com/ER/outreach/&amp;usg=__vYAeCotBFqDedeVtOC1mF9KkT4c=&amp;h=73&amp;w=120&amp;sz=3&amp;hl=en&amp;start=12&amp;tbnid=0_o0IbM9U9YGMM:&amp;tbnh=54&amp;tbnw=88&amp;prev=/images%3Fq%3DAHRQ%2Bsymbol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PMingLiU"/>
              </a:rPr>
              <a:t>AHRQ /  QI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PMingLiU"/>
              </a:rPr>
              <a:t>Venous Thromboembolism (VTE) Prevention in the Hospital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419112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Greg Maynard MD, M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Clinical Professor of Medicine and Chie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Division of Hospital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University of California, San Di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UCS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TE Protocol Validate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use, on direct observation –  a few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observer agreement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0 patients, 5 observers-  Kappa 0.8 and 0.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ve of V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= high levels of VTE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om 50% to sustained 98% adequate prophylax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es determined by over 2,900 random sample aud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– no discernible increase in HIT or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– 40% reduction in HA V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6% reduction in risk of preventable V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1447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UCSD logo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447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ahrq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0"/>
            <a:ext cx="18288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E Prevention Guides</a:t>
            </a: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228600"/>
            <a:ext cx="4952880" cy="581400"/>
          </a:xfrm>
          <a:prstGeom prst="rect">
            <a:avLst/>
          </a:prstGeom>
          <a:solidFill>
            <a:srgbClr val="00b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E Prevention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990720"/>
            <a:ext cx="8259840" cy="4724280"/>
            <a:chOff x="380880" y="990720"/>
            <a:chExt cx="8259840" cy="4724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380880" y="990720"/>
              <a:ext cx="391320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5105520" y="990720"/>
              <a:ext cx="3535200" cy="4572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207" name=""/>
          <p:cNvSpPr/>
          <p:nvPr/>
        </p:nvSpPr>
        <p:spPr>
          <a:xfrm>
            <a:off x="5181480" y="64911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hrq.hhs.gov/qual/vtguid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019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hospitalmedicine.org/ResourceRoomRedesign/RR_VTE/VTE_Home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Screen shot of web page: Society of Hospital Medicine title at the top, with a blue banner labelled Quality Improvement Resource Rooms across the middle of the page. A gold box on the right of the screen shot has “Venous Thromboembolism outlined with a red rectangle. &#13;&#10;"/>
          <p:cNvPicPr/>
          <p:nvPr/>
        </p:nvPicPr>
        <p:blipFill>
          <a:blip r:embed="rId1"/>
          <a:srcRect l="1687" t="13501" r="2440" b="6251"/>
          <a:stretch/>
        </p:blipFill>
        <p:spPr>
          <a:xfrm>
            <a:off x="4680" y="963720"/>
            <a:ext cx="9064800" cy="5970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86600" y="4495680"/>
            <a:ext cx="1600200" cy="2286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152280"/>
            <a:ext cx="4952880" cy="886320"/>
          </a:xfrm>
          <a:prstGeom prst="rect">
            <a:avLst/>
          </a:prstGeom>
          <a:solidFill>
            <a:srgbClr val="00b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E QI Resource Roo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hospitalmedicin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TE QI Resource Room</a:t>
            </a: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llaborative Efforts and Kudo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VTE Prevention Collaborative I  -   25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 /  VA Pilot Group  - 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/ Cerner Pilot Group –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HRQ / QIO (NY, IL, IA) -  60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HI Expedition to Prevent VTE – 60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Team Improvement A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H Safety Net Award (Honorable Men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ous Disease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o Achieve Improve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nstitutional support / prior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o standard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of process /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, integrated into order 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refinement / tweaking- PD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172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M and AHRQ Guides on VT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he Essential First Interv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828800"/>
            <a:ext cx="852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a standardized VTE risk assessment, linked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a menu of appropriate prophylaxis options, pl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a list of contraindications to pharmacologic VTE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es: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ke it easy to use (“automatic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ke sure it captures almost a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de-off between guidance and ease of use /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73A-3EF9-4F17-9AE0-727095E91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1143000"/>
            <a:ext cx="2971800" cy="9144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ierarchy of Reliabili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4876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82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 to Reach Level 3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plementing an Effective VTE Prevention Protoco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existing admit, transfer, periop order sets with reference to VTE prophylax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 protocol-driven DVT prophylaxis order set (w/ integrated risk assessment model [RAM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te / Pilot –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/ consensus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new standardized DVT order set ‘module’ into all pertinent admit, transfer, periop order se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, tweak -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oo Little Guid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mpt ≠ Protocol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T PROPHYLAXIS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 thromboembolism Stoc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tial Compression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FH 5000 units SubQ q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FH 5000 units SubQ q 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MWH (Enoxaparin) 40 mg SubQ q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MWH (Enoxaparin) 30 mg SubQ q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phylaxis, Ambu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ost Common Mistakes in VTE Prevention Order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based risk assessmen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per Balance of guidance / 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o little guidance - prompt ≠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o much guidance- collects dust, too lo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revise old ord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categories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ing non-pharm prophy too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pilot, revise,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age between risk level and prophy choices are separated in time 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TE: A Major Source of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rtality and Morbidit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0,000 to 650,000 with VT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,000 to &gt; 200,000 deaths per yea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 are hospital relat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TE is primary cause of fatality in half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than HIV, MVAs, Breast CA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mbin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s 1 jumbo jet crash / day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hospital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the #1 preventable cau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costs and morbidity (recurrence, post-thrombotic syndrome, chronic PA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5530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rgeon General’s Call to Action to Prevent DVT and PE  2008  D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34D8-2418-4800-BE1F-CE66C2589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A photo of a table top with 15-20 order sets spread all over it is depicted. &#13;&#10;"/>
          <p:cNvPicPr/>
          <p:nvPr/>
        </p:nvPicPr>
        <p:blipFill>
          <a:blip r:embed="rId1"/>
          <a:stretch/>
        </p:blipFill>
        <p:spPr>
          <a:xfrm>
            <a:off x="990720" y="1830240"/>
            <a:ext cx="6705360" cy="5027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s your order set in a competition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152280" y="6091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ow       Medium         High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1371600"/>
          <a:ext cx="8534160" cy="510228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504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bulatory with no other risk factors.  Same day or minor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PD /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st Medical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st Gen Surg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body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ective LE arthropl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p/pelvic 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ute SCI w/ par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ltiple major tra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d / pelvic CA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rly amb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H 5000 units q 8 h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5000 units q 12 h if &gt; 75 or weight &lt;50 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MW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x 40 mg q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L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 add I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x 30 mg q 12 h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x 40 q day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LMWH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ndaparinux 2.5 mg q day                                          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rfarin INR 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MUST H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A9C-7C95-4AAA-93F3-3C72BD51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905120" y="643716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PC needed if contraindication to AC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1905120" y="228600"/>
            <a:ext cx="5181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from UCS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it Simple – A “3 bucket”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ierarchy of Reliabili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45720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8240" y="53290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 to Reach Level 5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95+ % prophylaxi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R or Automated Reports to Classify all patients on the Unit as being in one of three z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EEN ZONE -   on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 ZONE -  on mechanical prophylaxis on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ZONE –  on no 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t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ve patients out of the RED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ituational Awareness and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easure-vention:    Getting to Level 5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atients on no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 nurses to place SCDs in patients on no prophylaxis as standing order (if no contraindic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MD if no anticoagulant in place and no obvious 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mplated note, text page, et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dministration to back up these interventions and make it clear that docs can not “shoot the messeng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mmary of Key Strategi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Building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stitutional support, team, education, protocol, metrics, PD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performs VTE risk assessment within easy to use order sets, which captures all admits /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for non-adherents to protocol, intervene in real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isk Factors for VT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460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 &gt;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mo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nal Cord 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ervisco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ycyth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re 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esth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cose V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819520" y="1752120"/>
            <a:ext cx="358128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ypercoagul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estrogen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ammatory Bow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phrotic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omboph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676520"/>
            <a:ext cx="309564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or V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a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640080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erson FA Jr. &amp; Wheeler HB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Chest M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995;16:2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isk Factors for VT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460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 &gt;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mo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nal Cord 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ervisco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ycyth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re 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esth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cose V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819160" y="1752120"/>
            <a:ext cx="335268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ypercoagul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estrogen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ammatory Bow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phrotic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omboph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1676520"/>
            <a:ext cx="309564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or V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a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617220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erson FA Jr. &amp; Wheeler HB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Chest M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995;16:2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ck RL &amp; Kaplan H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ed Clin North A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998;82:409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944600">
            <a:off x="991080" y="2285640"/>
            <a:ext cx="685800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hospitalized patients have at least one risk factor for V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NDORSE Resul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765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~70,000 patients in 358 hospitals, appropriate prophylaxis was administer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8.5% of surgical pati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9.5% of medical pati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533520" y="5943600"/>
            <a:ext cx="815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hen, Tapson, Bergmann, et al. Venous thromboembolism risk and prophylaxis in the acute hospital care setting (ENDORSE study): a multinational cross-sectional study. Lancet 2008; 371: 387–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“Stick” is coming…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endorses measures al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porting and TJC measures coming so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hylaxis in place within 24 hours of admit or risk assessment / contraindication justifying it’s abs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for critical care unit admit / transf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 preventable V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–  DVT or PE with knee or hip replacement reimbursed as though complication had not occur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– AHRQ grant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 and implement VTE prevention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nitor impact on VTE prophylaxis and HA V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idate a VTE risk assessment model /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mpt to use portable methodology, build toolkit to allow others to accomplish the same th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04920"/>
            <a:ext cx="7772400" cy="1958760"/>
            <a:chOff x="609480" y="304920"/>
            <a:chExt cx="7772400" cy="1958760"/>
          </a:xfrm>
        </p:grpSpPr>
        <p:graphicFrame>
          <p:nvGraphicFramePr>
            <p:cNvPr id="154" name=""/>
            <p:cNvGraphicFramePr/>
            <p:nvPr/>
          </p:nvGraphicFramePr>
          <p:xfrm>
            <a:off x="609480" y="304920"/>
            <a:ext cx="2057400" cy="195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2057400" cy="19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1320" y="304920"/>
              <a:ext cx="2590560" cy="15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352680" y="533520"/>
              <a:ext cx="1981440" cy="838080"/>
            </a:xfrm>
            <a:prstGeom prst="leftRightArrow">
              <a:avLst>
                <a:gd name="adj1" fmla="val 50000"/>
                <a:gd name="adj2" fmla="val 470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randomly sampled inpatients with adequate vte prophylaxi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5488-F4B3-429F-88AB-E1960310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61" name="Line 3"/>
          <p:cNvSpPr/>
          <p:nvPr/>
        </p:nvSpPr>
        <p:spPr>
          <a:xfrm flipH="1">
            <a:off x="2453760" y="3808440"/>
            <a:ext cx="176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497480" y="3417840"/>
            <a:ext cx="144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7662960" y="3046320"/>
            <a:ext cx="14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076400" y="4183200"/>
            <a:ext cx="1427040" cy="196560"/>
          </a:xfrm>
          <a:prstGeom prst="leftRightArrow">
            <a:avLst>
              <a:gd name="adj1" fmla="val 50000"/>
              <a:gd name="adj2" fmla="val 144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2666880" y="3886200"/>
            <a:ext cx="1771920" cy="196920"/>
          </a:xfrm>
          <a:prstGeom prst="leftRightArrow">
            <a:avLst>
              <a:gd name="adj1" fmla="val 50000"/>
              <a:gd name="adj2" fmla="val 1791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4495680" y="3657600"/>
            <a:ext cx="3200400" cy="152280"/>
          </a:xfrm>
          <a:prstGeom prst="leftRightArrow">
            <a:avLst>
              <a:gd name="adj1" fmla="val 50000"/>
              <a:gd name="adj2" fmla="val 4183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7848720" y="3429000"/>
            <a:ext cx="911160" cy="246240"/>
          </a:xfrm>
          <a:prstGeom prst="rightArrow">
            <a:avLst>
              <a:gd name="adj1" fmla="val 50000"/>
              <a:gd name="adj2" fmla="val 92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143000" y="46483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43200" y="4267080"/>
            <a:ext cx="13939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4724280" y="2819520"/>
            <a:ext cx="2590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Set Implementation &amp;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7631280" y="2438280"/>
            <a:ext cx="151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time ID &amp;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4"/>
          <p:cNvGrpSpPr/>
          <p:nvPr/>
        </p:nvGrpSpPr>
        <p:grpSpPr>
          <a:xfrm>
            <a:off x="0" y="-38160"/>
            <a:ext cx="9144000" cy="6896160"/>
            <a:chOff x="0" y="-38160"/>
            <a:chExt cx="9144000" cy="6896160"/>
          </a:xfrm>
        </p:grpSpPr>
        <p:pic>
          <p:nvPicPr>
            <p:cNvPr id="173" name="Picture 15" descr=""/>
            <p:cNvPicPr/>
            <p:nvPr/>
          </p:nvPicPr>
          <p:blipFill>
            <a:blip r:embed="rId2"/>
            <a:stretch/>
          </p:blipFill>
          <p:spPr>
            <a:xfrm>
              <a:off x="0" y="-38160"/>
              <a:ext cx="914400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6"/>
            <p:cNvSpPr/>
            <p:nvPr/>
          </p:nvSpPr>
          <p:spPr>
            <a:xfrm flipH="1">
              <a:off x="2453760" y="3808440"/>
              <a:ext cx="176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 flipH="1">
              <a:off x="4497480" y="3417840"/>
              <a:ext cx="1440" cy="9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62960" y="3046320"/>
              <a:ext cx="14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1076400" y="4183200"/>
              <a:ext cx="1427040" cy="196560"/>
            </a:xfrm>
            <a:prstGeom prst="leftRightArrow">
              <a:avLst>
                <a:gd name="adj1" fmla="val 50000"/>
                <a:gd name="adj2" fmla="val 1445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2666880" y="3886200"/>
              <a:ext cx="1771920" cy="196920"/>
            </a:xfrm>
            <a:prstGeom prst="leftRightArrow">
              <a:avLst>
                <a:gd name="adj1" fmla="val 50000"/>
                <a:gd name="adj2" fmla="val 1791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4495680" y="3657600"/>
              <a:ext cx="3200400" cy="152280"/>
            </a:xfrm>
            <a:prstGeom prst="leftRightArrow">
              <a:avLst>
                <a:gd name="adj1" fmla="val 50000"/>
                <a:gd name="adj2" fmla="val 418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2"/>
            <p:cNvSpPr/>
            <p:nvPr/>
          </p:nvSpPr>
          <p:spPr>
            <a:xfrm>
              <a:off x="7848720" y="3429000"/>
              <a:ext cx="911160" cy="246240"/>
            </a:xfrm>
            <a:prstGeom prst="rightArrow">
              <a:avLst>
                <a:gd name="adj1" fmla="val 50000"/>
                <a:gd name="adj2" fmla="val 925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1143000" y="4648320"/>
              <a:ext cx="12193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4"/>
            <p:cNvSpPr/>
            <p:nvPr/>
          </p:nvSpPr>
          <p:spPr>
            <a:xfrm>
              <a:off x="2743200" y="4267080"/>
              <a:ext cx="139392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Consensus buil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5"/>
            <p:cNvSpPr/>
            <p:nvPr/>
          </p:nvSpPr>
          <p:spPr>
            <a:xfrm>
              <a:off x="4724280" y="2819520"/>
              <a:ext cx="25909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Order Set Implementation &amp; Adju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6"/>
            <p:cNvSpPr/>
            <p:nvPr/>
          </p:nvSpPr>
          <p:spPr>
            <a:xfrm>
              <a:off x="7631280" y="2438280"/>
              <a:ext cx="1512720" cy="5335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Real time ID &amp; 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 flipV="1">
            <a:off x="739152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2,944         mean 82 audits /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990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ess, JH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CSD – Decrease in patients with preventable ha vte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385920" y="266760"/>
          <a:ext cx="8447040" cy="64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Run charts depicts a declining number of preventable VTE as the VTE prophylaxis rate improves, which affected all services. 10-13 preventable VTE per quarter were occurring at baseline in the first quarter of 2005, whereas this became 2 per quarter at times after implementation. 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266760"/>
                    <a:ext cx="8447040" cy="64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BD2-CD34-4EED-9654-59FCE08D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762120" y="1295280"/>
            <a:ext cx="7330320" cy="368280"/>
            <a:chOff x="762120" y="1295280"/>
            <a:chExt cx="7330320" cy="368280"/>
          </a:xfrm>
        </p:grpSpPr>
        <p:sp>
          <p:nvSpPr>
            <p:cNvPr id="193" name="Text Box 4"/>
            <p:cNvSpPr/>
            <p:nvPr/>
          </p:nvSpPr>
          <p:spPr>
            <a:xfrm>
              <a:off x="762120" y="1295280"/>
              <a:ext cx="99036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vel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1833480" y="1295280"/>
              <a:ext cx="5403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versights identified and addressed in real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7322040" y="1295280"/>
              <a:ext cx="77040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5+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7"/>
          <p:cNvSpPr/>
          <p:nvPr/>
        </p:nvSpPr>
        <p:spPr>
          <a:xfrm>
            <a:off x="6095880" y="167652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ynard</dc:creator>
  <dc:description/>
  <dc:language>en-US</dc:language>
  <cp:lastModifiedBy>Chettra.Chhiet</cp:lastModifiedBy>
  <dcterms:modified xsi:type="dcterms:W3CDTF">2009-12-04T12:49:53Z</dcterms:modified>
  <cp:revision>74</cp:revision>
  <dc:subject/>
  <dc:title>VTE Prevention in the Hosp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