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96E-0DF7-4C08-AC9C-DA506096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BE40-84DB-4367-8150-2D415A4B3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EFCF-6525-47A7-B56C-77832445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ly, we’d find a way to check on all best practice performance in real time, and correct it before patient went on to next s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4A0-9636-472C-83A0-7AF8E55F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A0B-0E97-452F-B45E-A9C5D1F5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56A-A011-4E2E-9DCD-5FDB67C2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F268-4E8C-4ABA-8267-2D6B0B13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C30-ECBD-4330-95C6-A3494F7F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9D73-869D-4E3A-A129-CE4F30A0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9912-299C-409C-8F7C-EA92B620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047-2E43-41DD-9BF9-2B1B4B0E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186-4770-434F-AC09-9F8B264F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10FD-D803-407A-87FC-17B23F6A0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A3D-BAA4-4E15-872F-CBCF02E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231-55E3-4235-917C-0D04F1D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696-B01C-4419-A576-04D1FAF6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1F0-0D4A-4C70-B861-2BC63D92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4E8-AAC4-4738-A30E-BFDE8A3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5B2-6CEF-4089-937B-997321DE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41E-3E42-4E4E-A0BA-F7C116B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D7E-4A5F-4E4E-BCF1-67B9BDD2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B9D-69E1-4671-AF67-B1F9AB3F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981-82E3-4E1C-AA6D-C2A4BC8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897-E50F-46F6-87EE-92F9AE4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7B5-AB8D-466F-870A-A8E4EB2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FC8-0520-4B5F-BD30-9C0D8A3D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5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uide Available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ep Vein Thrombo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from Partnerships in Implementing Patient Safety program toolk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ed on quality improvement initiatives undertaken at the University of California, San Diego Medical Center and Emory University Hospit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ists quality improvement practitioners in preventing one of the most important problems facing hospitalized patients  -  DVT / PE (VT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ver of AHRQ publication “Preventing Hospital-Acquired Venous Thromboembolism” on right side of slide, showing medical personnel on the cover, with text on the other side of the slide. &#13;&#10;"/>
          <p:cNvPicPr/>
          <p:nvPr/>
        </p:nvPicPr>
        <p:blipFill>
          <a:blip r:embed="rId1"/>
          <a:stretch/>
        </p:blipFill>
        <p:spPr>
          <a:xfrm>
            <a:off x="5257800" y="1905120"/>
            <a:ext cx="32781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erarchy of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696080" y="47242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p to Reach Level 5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5+ % prophylax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R or Automated Reports to Classify all patients on the Unit as being in one of three z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 ZONE -   on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 ZONE -  on mechanical prophylaxis on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ZONE –  on no 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ve patients out of the RED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tuational Awareness an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asure-vention:    Getting to Level 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s on no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nurses to place SCDs in patients on no prophylaxis as standing order (if no contraind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MD if no anticoagulant in place and no obvious 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d note, text page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ministration to back up these interventions and make it clear that docs can not “shoot the messen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llaborative Efforts and Kud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VTE Prevention Collaborative I  -   25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 /  VA Pilot Group  - 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/ Cerner Pilot Group –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HRQ / QIO (NY, IL, IA) -  60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HI Expedition to Prevent VTE – 60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Team Improvement A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H Safety Net Aw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ous Disease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build a toolkit for VTE Prevention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E is a common source of inpatient M&amp;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mbo jet crash / day-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Breast CA, HIV, MVA comb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# 1 preventable source of hospital d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and safe methods of prevention ex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“implementation gap” - best practice ≠ current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hods are grossly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wareness, difficulty implementing, no validated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4P, public reporting, and cor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7200" y="5867280"/>
            <a:ext cx="8686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erts WH, et al. Chest. 2008;133:381S-453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hen, Tapson, Bergmann, et al. ENDORSE study: Lancet 2008; 371: 387–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urgeon General’s Call to Action to Prevent DVT and PE  2008  D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Achieve Improv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stitutional support / prior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o standard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of process /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, integrated into order 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refinement / tweaking- PD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6172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M and AHRQ Guides on VT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erarchy of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696080" y="4876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ssential First Interven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828800"/>
            <a:ext cx="85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6400" indent="-44640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a standardized VTE risk assessment, linked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a menu of appropriate prophylaxis options, pl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st of contraindications to pharmacologic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ke it easy to use (“automatic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ke sure it captures almost all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de-off between guidance and ease of use /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5FD-6C6C-45C3-AF55-6041DDC6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971800" y="1295280"/>
            <a:ext cx="29718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T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             Medium                Hig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447920"/>
          <a:ext cx="8534160" cy="509112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504960"/>
              </a:tblGrid>
              <a:tr h="21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bulatory with no other risk factors.  Same day or minor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D /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Medical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Gen Surg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e LE arthropl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/pelvic 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SCI w/ par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major 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d / pelvic CA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ly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H 5000 units q 8 h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000 units q 12 h if &gt; 75 or weight &lt;50 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MW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40 mg q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 add I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30 mg q 12 h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40 q day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MWH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daparinux 2.5 mg q day                                          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farin INR 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MUST 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649D-91C2-4B7F-B078-65079163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905120" y="643716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dc00"/>
                </a:solidFill>
                <a:latin typeface="Arial"/>
              </a:rPr>
              <a:t>IPC needed if contraindication to AC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05120" y="228600"/>
            <a:ext cx="5181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from UCS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t Simple – A “3 bucket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p to Reach Level 3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ing an Effective VTE Prevention Protoc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existing admit, transfer, periop order sets with reference to VTE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 protocol-driven DVT prophylaxis order set (w/ integrated risk assess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te / Pilot –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/ consensus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new standardized DVT order set ‘module’ into all pertinent admit, transfer, periop order s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, tweak -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5C8-490E-42F5-AB51-593C2F87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1" name="Line 3"/>
          <p:cNvSpPr/>
          <p:nvPr/>
        </p:nvSpPr>
        <p:spPr>
          <a:xfrm flipH="1">
            <a:off x="2453760" y="3808440"/>
            <a:ext cx="176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4497480" y="3417840"/>
            <a:ext cx="144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7662960" y="3046320"/>
            <a:ext cx="14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1076400" y="4183200"/>
            <a:ext cx="1427040" cy="196560"/>
          </a:xfrm>
          <a:prstGeom prst="leftRightArrow">
            <a:avLst>
              <a:gd name="adj1" fmla="val 50000"/>
              <a:gd name="adj2" fmla="val 144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66880" y="3886200"/>
            <a:ext cx="1771920" cy="196920"/>
          </a:xfrm>
          <a:prstGeom prst="leftRightArrow">
            <a:avLst>
              <a:gd name="adj1" fmla="val 50000"/>
              <a:gd name="adj2" fmla="val 1791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495680" y="3657600"/>
            <a:ext cx="3200400" cy="152280"/>
          </a:xfrm>
          <a:prstGeom prst="leftRightArrow">
            <a:avLst>
              <a:gd name="adj1" fmla="val 50000"/>
              <a:gd name="adj2" fmla="val 4183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7848720" y="3429000"/>
            <a:ext cx="911160" cy="246240"/>
          </a:xfrm>
          <a:prstGeom prst="rightArrow">
            <a:avLst>
              <a:gd name="adj1" fmla="val 50000"/>
              <a:gd name="adj2" fmla="val 92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143000" y="4648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743200" y="4267080"/>
            <a:ext cx="13939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724280" y="2819520"/>
            <a:ext cx="2590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Set Implementation &amp;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631280" y="2438280"/>
            <a:ext cx="151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time ID &amp;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0" y="-38160"/>
            <a:ext cx="9144000" cy="6896160"/>
            <a:chOff x="0" y="-38160"/>
            <a:chExt cx="9144000" cy="6896160"/>
          </a:xfrm>
        </p:grpSpPr>
        <p:pic>
          <p:nvPicPr>
            <p:cNvPr id="183" name="Picture 15" descr=""/>
            <p:cNvPicPr/>
            <p:nvPr/>
          </p:nvPicPr>
          <p:blipFill>
            <a:blip r:embed="rId2"/>
            <a:stretch/>
          </p:blipFill>
          <p:spPr>
            <a:xfrm>
              <a:off x="0" y="-38160"/>
              <a:ext cx="914400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6"/>
            <p:cNvSpPr/>
            <p:nvPr/>
          </p:nvSpPr>
          <p:spPr>
            <a:xfrm flipH="1">
              <a:off x="2453760" y="3808440"/>
              <a:ext cx="176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H="1">
              <a:off x="4497480" y="3417840"/>
              <a:ext cx="1440" cy="9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7662960" y="3046320"/>
              <a:ext cx="14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1076400" y="4183200"/>
              <a:ext cx="1427040" cy="196560"/>
            </a:xfrm>
            <a:prstGeom prst="leftRightArrow">
              <a:avLst>
                <a:gd name="adj1" fmla="val 50000"/>
                <a:gd name="adj2" fmla="val 144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0"/>
            <p:cNvSpPr/>
            <p:nvPr/>
          </p:nvSpPr>
          <p:spPr>
            <a:xfrm>
              <a:off x="2666880" y="3886200"/>
              <a:ext cx="1771920" cy="196920"/>
            </a:xfrm>
            <a:prstGeom prst="leftRightArrow">
              <a:avLst>
                <a:gd name="adj1" fmla="val 50000"/>
                <a:gd name="adj2" fmla="val 1791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4495680" y="3657600"/>
              <a:ext cx="3200400" cy="152280"/>
            </a:xfrm>
            <a:prstGeom prst="leftRightArrow">
              <a:avLst>
                <a:gd name="adj1" fmla="val 50000"/>
                <a:gd name="adj2" fmla="val 418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2"/>
            <p:cNvSpPr/>
            <p:nvPr/>
          </p:nvSpPr>
          <p:spPr>
            <a:xfrm>
              <a:off x="7848720" y="3429000"/>
              <a:ext cx="911160" cy="246240"/>
            </a:xfrm>
            <a:prstGeom prst="rightArrow">
              <a:avLst>
                <a:gd name="adj1" fmla="val 50000"/>
                <a:gd name="adj2" fmla="val 925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1143000" y="4648320"/>
              <a:ext cx="12193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743200" y="4267080"/>
              <a:ext cx="139392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Consensus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4724280" y="2819520"/>
              <a:ext cx="25909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Order Set Implementation &amp; 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7631280" y="2438280"/>
              <a:ext cx="1512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Real time ID &amp; 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28"/>
          <p:cNvSpPr/>
          <p:nvPr/>
        </p:nvSpPr>
        <p:spPr>
          <a:xfrm flipH="1" flipV="1">
            <a:off x="7391520" y="22093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,944         mean 82 audits /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52280" y="990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ess, JH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1523880" y="990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n press, Maynard, Morris et al, J Hosp 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-30240"/>
          <a:ext cx="9144000" cy="68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Run charts depicts a declining number of preventable VTE as the VTE prophylaxis rate improves, which affected all services. 10-13 preventable VTE per quarter were occurring at baseline in the first quarter of 2005, whereas this became 2 per quarter at times after implementation. 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5906-8E61-48AC-98B1-05D94E60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ttra.Chhiet</cp:lastModifiedBy>
  <dcterms:modified xsi:type="dcterms:W3CDTF">2009-12-04T12:46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