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9AE9-402F-4279-BA52-561A9254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0D2E-CC16-4738-8923-F046486C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41D-6157-441C-8CB6-8A59709E6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ly, we’d find a way to check on all best practice performance in real time, and correct it before patient went on to next st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7BBB-4C42-48FF-AD92-A5D46866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B29-D7C4-49E7-B20C-CD23C03F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47B7-FC4D-46E0-85F2-269328342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F840-889C-4FA7-8D3C-087D707F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8FE-C92D-47A1-82EE-B0045AD1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EE2-1603-4851-B844-ECDF3DEE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895-E98B-449F-81FE-6747DE12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C627-7177-415F-A621-1E8043AF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5481-598D-438D-AF5E-5A8252944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B7A-DE0D-4144-94F3-51E960C7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91C-01A9-409A-BC73-418FC31B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61F-7038-449E-85DC-7CCEE62B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8FA-BC56-4352-B0FB-B5BC3E65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023-BADB-442A-B1A3-54E45C34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D9B-A29E-458D-88B3-249C27C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753-E923-4EF1-9139-71A78663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C5B-AACD-4BF2-91D4-7AFB6662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321-F104-49E9-8322-9626823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C74-2F4B-410D-AACF-B7D99E0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D73-FE7E-4A1C-929F-E39E0A1F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B6C-1D0A-45C8-8D36-1C04C43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25F-8A1B-4FB3-B328-72F5ED5A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D18-6F74-41BD-839B-3D34F40AE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85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uide Available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ep Vein Thrombo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from Partnerships in Implementing Patient Safety program toolk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ed on quality improvement initiatives undertaken at the University of California, San Diego Medical Center and Emory University Hospit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ists quality improvement practitioners in preventing one of the most important problems facing hospitalized patients  -  DVT / PE (VT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ver of AHRQ publication “Preventing Hospital-Acquired Venous Thromboembolism” on right side of slide, showing medical personnel on the cover, with text on the other side of the slide. &#13;&#10;"/>
          <p:cNvPicPr/>
          <p:nvPr/>
        </p:nvPicPr>
        <p:blipFill>
          <a:blip r:embed="rId1"/>
          <a:stretch/>
        </p:blipFill>
        <p:spPr>
          <a:xfrm>
            <a:off x="5257800" y="1905120"/>
            <a:ext cx="32781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erarchy of Reliabi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696080" y="472428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76982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p to Reach Level 5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5+ % prophylax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R or Automated Reports to Classify all patients on the Unit as being in one of three z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EEN ZONE -   on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 ZONE -  on mechanical prophylaxis on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ZONE –  on no 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t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ve patients out of the RED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tuational Awareness an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asure-vention:    Getting to Level 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atients on no anticoa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 nurses to place SCDs in patients on no prophylaxis as standing order (if no contraindic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MD if no anticoagulant in place and no obvious contrain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d note, text page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dministration to back up these interventions and make it clear that docs can not “shoot the messeng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llaborative Efforts and Kud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VTE Prevention Collaborative I  -   25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 /  VA Pilot Group  - 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/ Cerner Pilot Group – 6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HRQ / QIO (NY, IL, IA) -  60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HI Expedition to Prevent VTE – 60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M Team Improvement A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H Safety Net Aw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ous Disease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build a toolkit for VTE Prevention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TE is a common source of inpatient M&amp;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mbo jet crash / day-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Breast CA, HIV, MVA comb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# 1 preventable source of hospital de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and safe methods of prevention ex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“implementation gap” - best practice ≠ current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hods are grossly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wareness, difficulty implementing, no validated risk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4P, public reporting, and cor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7200" y="5867280"/>
            <a:ext cx="8686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erts WH, et al. Chest. 2008;133:381S-453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hen, Tapson, Bergmann, et al. ENDORSE study: Lancet 2008; 371: 387–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urgeon General’s Call to Action to Prevent DVT and PE  2008  D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Achieve Improv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nstitutional support / prior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o standard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of process /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, integrated into order 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refinement / tweaking- PD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6172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M and AHRQ Guides on VT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erarchy of Reliabi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02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tocol* (“State of Natur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support exists but not linked to order writing, or prompts within orders but no decision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tocol well-integr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nto orders at point-of-car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 enh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y other QI / high reliability strateg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versights identified and addressed in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121932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4495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167652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71400" y="257184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69960" y="37036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71400" y="53452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7238880" y="228600"/>
            <a:ext cx="1905120" cy="18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hylaxis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7696080" y="16765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696080" y="24382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7696080" y="3733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5-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7696080" y="487692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7698240" y="556272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5+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74600" y="6283440"/>
            <a:ext cx="89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* Protocol = standardized decision support, nested within an order set, i.e. what/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ssential First Interven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828800"/>
            <a:ext cx="852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6400" indent="-44640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a standardized VTE risk assessment, linked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a menu of appropriate prophylaxis options, pl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a list of contraindications to pharmacologic VTE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ke it easy to use (“automatic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ke sure it captures almost all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de-off between guidance and ease of use /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5AC-2C28-41AE-A434-C9712B018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2971800" y="1295280"/>
            <a:ext cx="2971800" cy="9144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T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             Medium                Hig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447920"/>
          <a:ext cx="8534160" cy="509112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504960"/>
              </a:tblGrid>
              <a:tr h="21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bulatory with no other risk factors.  Same day or minor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D /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Medical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Gen Surg Pat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body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ive LE arthropl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/pelvic 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te SCI w/ pare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major tra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d / pelvic CA surg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ly amb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H 5000 units q 8 h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000 units q 12 h if &gt; 75 or weight &lt;50 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MW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x 40 mg q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MW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 add I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x 30 mg q 12 h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ox 40 q day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MWH           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daparinux 2.5 mg q day                                          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rfarin INR 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MUST H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712-CC39-4653-AA91-2AAD7BB3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905120" y="643716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dc00"/>
                </a:solidFill>
                <a:latin typeface="Arial"/>
              </a:rPr>
              <a:t>IPC needed if contraindication to AC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905120" y="228600"/>
            <a:ext cx="5181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from UCS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it Simple – A “3 bucket”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p to Reach Level 3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ing an Effective VTE Prevention Protoc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existing admit, transfer, periop order sets with reference to VTE prophylax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 protocol-driven DVT prophylaxis order set (w/ integrated risk assess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te / Pilot –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/ consensus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new standardized DVT order set ‘module’ into all pertinent admit, transfer, periop order se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, tweak - PD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84B-6B52-4D6E-97A5-3781BA2F7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1" name="Line 3"/>
          <p:cNvSpPr/>
          <p:nvPr/>
        </p:nvSpPr>
        <p:spPr>
          <a:xfrm flipH="1">
            <a:off x="2453760" y="3808440"/>
            <a:ext cx="176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4497480" y="3417840"/>
            <a:ext cx="144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7662960" y="3046320"/>
            <a:ext cx="1440" cy="10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1076400" y="4183200"/>
            <a:ext cx="1427040" cy="196560"/>
          </a:xfrm>
          <a:prstGeom prst="leftRightArrow">
            <a:avLst>
              <a:gd name="adj1" fmla="val 50000"/>
              <a:gd name="adj2" fmla="val 144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666880" y="3886200"/>
            <a:ext cx="1771920" cy="196920"/>
          </a:xfrm>
          <a:prstGeom prst="leftRightArrow">
            <a:avLst>
              <a:gd name="adj1" fmla="val 50000"/>
              <a:gd name="adj2" fmla="val 1791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495680" y="3657600"/>
            <a:ext cx="3200400" cy="152280"/>
          </a:xfrm>
          <a:prstGeom prst="leftRightArrow">
            <a:avLst>
              <a:gd name="adj1" fmla="val 50000"/>
              <a:gd name="adj2" fmla="val 4183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7848720" y="3429000"/>
            <a:ext cx="911160" cy="246240"/>
          </a:xfrm>
          <a:prstGeom prst="rightArrow">
            <a:avLst>
              <a:gd name="adj1" fmla="val 50000"/>
              <a:gd name="adj2" fmla="val 925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143000" y="46483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743200" y="4267080"/>
            <a:ext cx="13939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4724280" y="2819520"/>
            <a:ext cx="2590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Set Implementation &amp;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631280" y="2438280"/>
            <a:ext cx="151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time ID &amp; 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4"/>
          <p:cNvGrpSpPr/>
          <p:nvPr/>
        </p:nvGrpSpPr>
        <p:grpSpPr>
          <a:xfrm>
            <a:off x="0" y="-38160"/>
            <a:ext cx="9144000" cy="6896160"/>
            <a:chOff x="0" y="-38160"/>
            <a:chExt cx="9144000" cy="6896160"/>
          </a:xfrm>
        </p:grpSpPr>
        <p:pic>
          <p:nvPicPr>
            <p:cNvPr id="183" name="Picture 15" descr=""/>
            <p:cNvPicPr/>
            <p:nvPr/>
          </p:nvPicPr>
          <p:blipFill>
            <a:blip r:embed="rId2"/>
            <a:stretch/>
          </p:blipFill>
          <p:spPr>
            <a:xfrm>
              <a:off x="0" y="-38160"/>
              <a:ext cx="914400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6"/>
            <p:cNvSpPr/>
            <p:nvPr/>
          </p:nvSpPr>
          <p:spPr>
            <a:xfrm flipH="1">
              <a:off x="2453760" y="3808440"/>
              <a:ext cx="176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H="1">
              <a:off x="4497480" y="3417840"/>
              <a:ext cx="1440" cy="9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7662960" y="3046320"/>
              <a:ext cx="1440" cy="10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1076400" y="4183200"/>
              <a:ext cx="1427040" cy="196560"/>
            </a:xfrm>
            <a:prstGeom prst="leftRightArrow">
              <a:avLst>
                <a:gd name="adj1" fmla="val 50000"/>
                <a:gd name="adj2" fmla="val 1445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0"/>
            <p:cNvSpPr/>
            <p:nvPr/>
          </p:nvSpPr>
          <p:spPr>
            <a:xfrm>
              <a:off x="2666880" y="3886200"/>
              <a:ext cx="1771920" cy="196920"/>
            </a:xfrm>
            <a:prstGeom prst="leftRightArrow">
              <a:avLst>
                <a:gd name="adj1" fmla="val 50000"/>
                <a:gd name="adj2" fmla="val 1791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4495680" y="3657600"/>
              <a:ext cx="3200400" cy="152280"/>
            </a:xfrm>
            <a:prstGeom prst="leftRightArrow">
              <a:avLst>
                <a:gd name="adj1" fmla="val 50000"/>
                <a:gd name="adj2" fmla="val 418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2"/>
            <p:cNvSpPr/>
            <p:nvPr/>
          </p:nvSpPr>
          <p:spPr>
            <a:xfrm>
              <a:off x="7848720" y="3429000"/>
              <a:ext cx="911160" cy="246240"/>
            </a:xfrm>
            <a:prstGeom prst="rightArrow">
              <a:avLst>
                <a:gd name="adj1" fmla="val 50000"/>
                <a:gd name="adj2" fmla="val 925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1143000" y="4648320"/>
              <a:ext cx="12193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2743200" y="4267080"/>
              <a:ext cx="1393920" cy="61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Consensus buil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4724280" y="2819520"/>
              <a:ext cx="25909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Order Set Implementation &amp; Adju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7631280" y="2438280"/>
              <a:ext cx="1512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"/>
                </a:rPr>
                <a:t>Real time ID &amp; 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Line 28"/>
          <p:cNvSpPr/>
          <p:nvPr/>
        </p:nvSpPr>
        <p:spPr>
          <a:xfrm flipH="1" flipV="1">
            <a:off x="7391520" y="22093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2,944         mean 82 audits /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52280" y="990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ess, JHM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1523880" y="990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In press, Maynard, Morris et al, J Hosp 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-30240"/>
          <a:ext cx="9144000" cy="68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2" descr="Run charts depicts a declining number of preventable VTE as the VTE prophylaxis rate improves, which affected all services. 10-13 preventable VTE per quarter were occurring at baseline in the first quarter of 2005, whereas this became 2 per quarter at times after implementation. 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E946-F42E-471D-9E81-A18AD788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ttra.Chhiet</cp:lastModifiedBy>
  <dcterms:modified xsi:type="dcterms:W3CDTF">2009-12-04T12:46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