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1.wmf" ContentType="image/x-wmf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8111-1605-442C-A6E4-49A3225C8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84A7-2771-4D7A-B29F-1E6D5B8A7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46C4-64AE-4855-BDF0-6FE13E7A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7B87-7001-42F5-ACA1-1F945392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8431-B4F9-469E-BB98-BD8DE5A4E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FADF-A238-4581-A424-94F1199F5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EB35-BDBD-41A4-8D8A-A8A151C85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CE5B-B6CD-4F7F-94C4-B85299C9D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6DB9-F60A-4518-B1A7-298F42AD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277A-0902-41D8-ACB6-DED401CF0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9611-F99B-460E-BBC6-681A82D67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C6BC-9680-4A84-B1DB-7630AD3E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5BF2-38BD-498C-A9F4-E4D5405B6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F4AD-730D-4540-B0C3-71B90F50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947D-C983-4657-9A9E-491779A9A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9145-F3ED-40BB-84EA-B70CD877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509C-AE34-43E4-9113-09EB860C8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: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with 5 columns with the following headings:  Approach, Participants, Duration, Pros, 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ow and Cell Information: Focus Group; 8-10, 1.5-2 hours; Rich in insights; group dynamics; $ for c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Row and Cell Information: Dyads/Triads; 2 or 3; 1 - 1.5 hours; Probe deep; Conduct nume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Row and Cell Information: One on One Interviews / In Depth Interviews; 1; 1 hour or less; face to face interviews or phone interviews; allow interviewer to delve deep; no group dynamics, have to conduct nume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Row and Cell Information: Telephone; 1 person; 1 hour or less; Good for difficult to schedule participants; Miss face to face cues, personal 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Row and Cell Information: Online; Numerous; 1 hour or less; Good for difficult to schedule participants; Miss face to face cues, personal interaction, $ for c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0576-50CF-4D4C-A256-DACE99B5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612E-006D-4EDE-8E12-96E43AC87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E89-F5AD-4778-8D90-BEEA5E2F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210-BAB3-4550-9527-0903D309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D8C-16C5-4FCA-969B-043AB03B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DC3-29D7-4913-BB55-EE926105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ABCE-D4A5-4375-8CC4-3BA55A20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2F4C-29BA-4860-8E84-43884E92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7477-8D74-437D-81A4-B7A9309D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4487-3E70-45BF-B46D-D372C3C5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459C-CB3E-415F-B781-15FFD4FB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C95C-40EE-467B-936F-D78E21C6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B2FD-40A0-4F86-A90A-08DF5C27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13D-1DF1-4D31-94E2-254F4C77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AC4B-527C-4DA9-9177-D159395D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A78B-007F-4E39-9CC1-1F008335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0697-0C25-4FC4-8AB1-22EFCD5F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A277-0DC7-4088-9D32-7D68AB99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6D42-AD4F-47B2-A386-02AA8D7F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7DC-2AD2-4ED6-A058-C452FA45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4D0-4BD5-4423-8016-648BAEE8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5D6-6D6E-4D33-88DA-B79B6924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D08-8413-42FA-AD81-60B81AC2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74B-350E-4A63-9E91-51202DCD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E20-02D4-4C3C-8BFD-DFA91A59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0B8-9E27-4A11-A358-0618FA0A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B9EC-0130-4DC7-9819-B2B5A760F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4A87-44E9-49E6-9788-5DE7A9866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How to Get Insightful and Useful Audience Input for</a:t>
            </a:r>
            <a:br>
              <a:rPr sz="4400"/>
            </a:b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User Friendly Tool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Maritza E. Matheus, Princip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AHRQ Annual Confer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Arial"/>
              </a:rPr>
              <a:t>Monday, September 14, 200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819600">
            <a:off x="410760" y="343080"/>
            <a:ext cx="126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Don’t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n’t allow friends or family in sam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n’t allow for “seasoned”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n’t accept all of the recruited participants (do over recr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n’t ask participants to share their job title or profession unles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n’t ask “WHY”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use other ways to elicit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75248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Examples of Eliciting Inform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ip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sel,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isua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ord Bub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icture D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95400" y="-8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isel with art"/>
          <p:cNvPicPr/>
          <p:nvPr/>
        </p:nvPicPr>
        <p:blipFill>
          <a:blip r:embed="rId2"/>
          <a:stretch/>
        </p:blipFill>
        <p:spPr>
          <a:xfrm>
            <a:off x="6172200" y="2209680"/>
            <a:ext cx="1371600" cy="13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4695840" y="397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illustrations of consumer products"/>
          <p:cNvPicPr/>
          <p:nvPr/>
        </p:nvPicPr>
        <p:blipFill>
          <a:blip r:embed="rId3"/>
          <a:stretch/>
        </p:blipFill>
        <p:spPr>
          <a:xfrm>
            <a:off x="3809880" y="2057400"/>
            <a:ext cx="1092240" cy="18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women"/>
          <p:cNvPicPr/>
          <p:nvPr/>
        </p:nvPicPr>
        <p:blipFill>
          <a:blip r:embed="rId4"/>
          <a:stretch/>
        </p:blipFill>
        <p:spPr>
          <a:xfrm>
            <a:off x="3886200" y="4038480"/>
            <a:ext cx="1357200" cy="159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@ sign"/>
          <p:cNvPicPr/>
          <p:nvPr/>
        </p:nvPicPr>
        <p:blipFill>
          <a:blip r:embed="rId5"/>
          <a:stretch/>
        </p:blipFill>
        <p:spPr>
          <a:xfrm>
            <a:off x="5943600" y="4191120"/>
            <a:ext cx="1814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Word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Bubbl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: when learning about sensitive, conflicting or politically-charged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ols: handout with stick figures with bub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0" y="3124080"/>
          <a:ext cx="4648320" cy="3049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stick people with thought bubbles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124080"/>
                    <a:ext cx="46483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6"/>
          <p:cNvSpPr/>
          <p:nvPr/>
        </p:nvSpPr>
        <p:spPr>
          <a:xfrm>
            <a:off x="95400" y="-8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Picture Deck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: need to learn about emotional associations about an experience or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ols: deck of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pider"/>
          <p:cNvPicPr/>
          <p:nvPr/>
        </p:nvPicPr>
        <p:blipFill>
          <a:blip r:embed="rId2"/>
          <a:stretch/>
        </p:blipFill>
        <p:spPr>
          <a:xfrm>
            <a:off x="838080" y="4114800"/>
            <a:ext cx="2819520" cy="1900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irls baseball team"/>
          <p:cNvPicPr/>
          <p:nvPr/>
        </p:nvPicPr>
        <p:blipFill>
          <a:blip r:embed="rId3"/>
          <a:stretch/>
        </p:blipFill>
        <p:spPr>
          <a:xfrm>
            <a:off x="4419720" y="37339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Mind Mapping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: when learning more details or more indepth understanding of behavior, situation, o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ols: paper and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10960" y="365760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it D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 flipV="1">
            <a:off x="2285640" y="358092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5791320" y="35809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457200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14400" y="3124080"/>
            <a:ext cx="6324480" cy="3111480"/>
            <a:chOff x="914400" y="3124080"/>
            <a:chExt cx="6324480" cy="3111480"/>
          </a:xfrm>
        </p:grpSpPr>
        <p:sp>
          <p:nvSpPr>
            <p:cNvPr id="146" name="Oval 6"/>
            <p:cNvSpPr/>
            <p:nvPr/>
          </p:nvSpPr>
          <p:spPr>
            <a:xfrm>
              <a:off x="3352680" y="3581280"/>
              <a:ext cx="24386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914400" y="3124080"/>
              <a:ext cx="1600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ig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3809880" y="4800600"/>
              <a:ext cx="13716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d Moo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4"/>
            <p:cNvSpPr/>
            <p:nvPr/>
          </p:nvSpPr>
          <p:spPr>
            <a:xfrm>
              <a:off x="5715000" y="4495680"/>
              <a:ext cx="1143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a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5715000" y="5410080"/>
              <a:ext cx="15238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ight G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18"/>
          <p:cNvSpPr/>
          <p:nvPr/>
        </p:nvSpPr>
        <p:spPr>
          <a:xfrm>
            <a:off x="62485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5257800" y="4648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Mind Map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 of Completed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105520" y="3962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 flipV="1">
            <a:off x="6248520" y="34286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7238880" y="3429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5257800" y="4724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H="1" flipV="1">
            <a:off x="3962520" y="3505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H="1">
            <a:off x="3352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3504960" y="2819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>
            <a:off x="13716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920520" y="5257800"/>
            <a:ext cx="782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 flipH="1">
            <a:off x="23623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0"/>
          <p:cNvSpPr/>
          <p:nvPr/>
        </p:nvSpPr>
        <p:spPr>
          <a:xfrm flipV="1">
            <a:off x="3809880" y="2819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1"/>
          <p:cNvSpPr/>
          <p:nvPr/>
        </p:nvSpPr>
        <p:spPr>
          <a:xfrm>
            <a:off x="25909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2"/>
          <p:cNvSpPr/>
          <p:nvPr/>
        </p:nvSpPr>
        <p:spPr>
          <a:xfrm>
            <a:off x="2895480" y="56386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90720" y="2438280"/>
            <a:ext cx="7238880" cy="3476880"/>
            <a:chOff x="990720" y="2438280"/>
            <a:chExt cx="7238880" cy="3476880"/>
          </a:xfrm>
        </p:grpSpPr>
        <p:sp>
          <p:nvSpPr>
            <p:cNvPr id="169" name="Oval 4"/>
            <p:cNvSpPr/>
            <p:nvPr/>
          </p:nvSpPr>
          <p:spPr>
            <a:xfrm>
              <a:off x="3581280" y="3886200"/>
              <a:ext cx="1714680" cy="1257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ff"/>
                  </a:solidFill>
                  <a:latin typeface="Arial"/>
                </a:rPr>
                <a:t>Dis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ff"/>
                  </a:solidFill>
                  <a:latin typeface="Arial"/>
                </a:rPr>
                <a:t>Wor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"/>
            <p:cNvSpPr/>
            <p:nvPr/>
          </p:nvSpPr>
          <p:spPr>
            <a:xfrm>
              <a:off x="5334120" y="3505320"/>
              <a:ext cx="914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Family va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324480" y="3124080"/>
              <a:ext cx="1143000" cy="29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Fu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"/>
            <p:cNvSpPr/>
            <p:nvPr/>
          </p:nvSpPr>
          <p:spPr>
            <a:xfrm>
              <a:off x="7238880" y="3657600"/>
              <a:ext cx="9907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Memor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8"/>
            <p:cNvSpPr/>
            <p:nvPr/>
          </p:nvSpPr>
          <p:spPr>
            <a:xfrm>
              <a:off x="5715000" y="4800600"/>
              <a:ext cx="10666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80"/>
                  </a:solidFill>
                  <a:latin typeface="Arial"/>
                </a:rPr>
                <a:t>Cost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9"/>
            <p:cNvSpPr/>
            <p:nvPr/>
          </p:nvSpPr>
          <p:spPr>
            <a:xfrm>
              <a:off x="7162920" y="5029200"/>
              <a:ext cx="10666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No adult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0"/>
            <p:cNvSpPr/>
            <p:nvPr/>
          </p:nvSpPr>
          <p:spPr>
            <a:xfrm>
              <a:off x="2666880" y="2438280"/>
              <a:ext cx="10670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Childho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1"/>
            <p:cNvSpPr/>
            <p:nvPr/>
          </p:nvSpPr>
          <p:spPr>
            <a:xfrm>
              <a:off x="4724280" y="2438280"/>
              <a:ext cx="19814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Commercia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990720" y="2438280"/>
              <a:ext cx="13716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Fami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3"/>
            <p:cNvSpPr/>
            <p:nvPr/>
          </p:nvSpPr>
          <p:spPr>
            <a:xfrm>
              <a:off x="1066680" y="3733920"/>
              <a:ext cx="800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fcf"/>
                  </a:solidFill>
                  <a:latin typeface="Arial"/>
                </a:rPr>
                <a:t>Fly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4"/>
            <p:cNvSpPr/>
            <p:nvPr/>
          </p:nvSpPr>
          <p:spPr>
            <a:xfrm>
              <a:off x="2057400" y="5029200"/>
              <a:ext cx="914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fcf"/>
                  </a:solidFill>
                  <a:latin typeface="Arial"/>
                </a:rPr>
                <a:t>Summer Cloth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5"/>
            <p:cNvSpPr/>
            <p:nvPr/>
          </p:nvSpPr>
          <p:spPr>
            <a:xfrm>
              <a:off x="6400800" y="4114800"/>
              <a:ext cx="106668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Kids cran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>
              <a:off x="2209680" y="4343400"/>
              <a:ext cx="11588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fcf"/>
                  </a:solidFill>
                  <a:latin typeface="Arial"/>
                </a:rPr>
                <a:t>Flor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3200400" y="3276720"/>
              <a:ext cx="762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Mick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Mo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5"/>
            <p:cNvSpPr/>
            <p:nvPr/>
          </p:nvSpPr>
          <p:spPr>
            <a:xfrm>
              <a:off x="993240" y="4648320"/>
              <a:ext cx="8787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fcf"/>
                  </a:solidFill>
                  <a:latin typeface="Arial"/>
                </a:rPr>
                <a:t>Long l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6"/>
            <p:cNvSpPr/>
            <p:nvPr/>
          </p:nvSpPr>
          <p:spPr>
            <a:xfrm>
              <a:off x="5567760" y="5562720"/>
              <a:ext cx="6577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80"/>
                  </a:solidFill>
                  <a:latin typeface="Arial"/>
                </a:rPr>
                <a:t>Save 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>
              <a:off x="3510000" y="5638680"/>
              <a:ext cx="13190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fcf"/>
                  </a:solidFill>
                  <a:latin typeface="Arial"/>
                </a:rPr>
                <a:t>Exercise - to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34"/>
          <p:cNvSpPr/>
          <p:nvPr/>
        </p:nvSpPr>
        <p:spPr>
          <a:xfrm flipH="1">
            <a:off x="1371600" y="49528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5"/>
          <p:cNvSpPr/>
          <p:nvPr/>
        </p:nvSpPr>
        <p:spPr>
          <a:xfrm flipH="1" flipV="1">
            <a:off x="1371600" y="419076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6"/>
          <p:cNvSpPr/>
          <p:nvPr/>
        </p:nvSpPr>
        <p:spPr>
          <a:xfrm flipH="1">
            <a:off x="5866920" y="51055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7"/>
          <p:cNvSpPr/>
          <p:nvPr/>
        </p:nvSpPr>
        <p:spPr>
          <a:xfrm>
            <a:off x="6095880" y="39625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7391520" y="46483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actical Tip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-recruit Latinos and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y for transportation for indigent or eld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il publications in advance for participants to review before group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st not to mix some participants, such as physician specialties or physicians with other clin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on-site interviews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k colleagues and observers for their ins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75248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Audience Exercis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: paper and 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 middle of page, write “packing suitcase for business trip” and circ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ke 2 minutes to write thoughts that come to mind when packing a sui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en done, circle the most significant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200400" y="3352680"/>
            <a:ext cx="34290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73960" y="346536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cking suit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business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ank You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ritza E. Math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us Marketing,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akton, VA  22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l 703 758-75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mail matheusmarket@ao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llustration of man with torch running"/>
          <p:cNvPicPr/>
          <p:nvPr/>
        </p:nvPicPr>
        <p:blipFill>
          <a:blip r:embed="rId2"/>
          <a:stretch/>
        </p:blipFill>
        <p:spPr>
          <a:xfrm>
            <a:off x="4876920" y="1371600"/>
            <a:ext cx="17524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Audience Exercis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ed: paper and 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 middle of page, write “packing suitcase for business trip” and circ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3200400" y="3809880"/>
            <a:ext cx="34290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70360" y="38862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cking suit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business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What are we discussing today?</a:t>
            </a:r>
            <a:endParaRPr b="1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is it useful to obtain audience inp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conduct formal t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sting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’s and Don’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s of elicit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ful tactical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udience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095880" y="2666880"/>
            <a:ext cx="1430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When is it Useful to Obtain Audience Input?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eloping a consume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anning a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e-testing of a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st-testing of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sting an existing produ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sting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veloping an advertising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deas"/>
          <p:cNvPicPr/>
          <p:nvPr/>
        </p:nvPicPr>
        <p:blipFill>
          <a:blip r:embed="rId2"/>
          <a:stretch/>
        </p:blipFill>
        <p:spPr>
          <a:xfrm>
            <a:off x="6477120" y="23623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Qualitative Re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 gather an in-depth understanding of human behavior; answers the “wh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vides insights, feedback and information not gleaned from quantitative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: use gleaned information into actionable items and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icking your brain"/>
          <p:cNvPicPr/>
          <p:nvPr/>
        </p:nvPicPr>
        <p:blipFill>
          <a:blip r:embed="rId2"/>
          <a:stretch/>
        </p:blipFill>
        <p:spPr>
          <a:xfrm>
            <a:off x="7620120" y="685800"/>
            <a:ext cx="117144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Approach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cu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yad/Tri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e on One/In Depth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office team"/>
          <p:cNvPicPr/>
          <p:nvPr/>
        </p:nvPicPr>
        <p:blipFill>
          <a:blip r:embed="rId2"/>
          <a:stretch/>
        </p:blipFill>
        <p:spPr>
          <a:xfrm>
            <a:off x="6172200" y="106668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abstract art of faces"/>
          <p:cNvPicPr/>
          <p:nvPr/>
        </p:nvPicPr>
        <p:blipFill>
          <a:blip r:embed="rId3"/>
          <a:stretch/>
        </p:blipFill>
        <p:spPr>
          <a:xfrm>
            <a:off x="4800600" y="3962520"/>
            <a:ext cx="2325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Approach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676520"/>
          <a:ext cx="6705720" cy="4568760"/>
        </p:xfrm>
        <a:graphic>
          <a:graphicData uri="http://schemas.openxmlformats.org/drawingml/2006/table">
            <a:tbl>
              <a:tblPr/>
              <a:tblGrid>
                <a:gridCol w="1339920"/>
                <a:gridCol w="1342800"/>
                <a:gridCol w="1339920"/>
                <a:gridCol w="1343160"/>
                <a:gridCol w="133992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b7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b7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b7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b7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b72c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cus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5-2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ich in insights, group dynam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yads/Tria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 o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-1.5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be de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duct numer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ne on One Interviews 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 Depth Interview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hour or l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ace to face, pho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elve de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o group dynam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duct numer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leph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hour or l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ood for difficult to schedule 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ss face to face cues, inte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n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mer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hour or l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ood for difficult to schedule 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ss face to face cues, interaction,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esting Mechanic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ear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an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propriate Approach or Combination of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ualitative Researcher or In-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nue - field facility or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ruitin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Demographics; Recruiting Guide or Scree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rating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Topic Areas; Discussion Gu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898880" y="4800600"/>
            <a:ext cx="20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282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pencils"/>
          <p:cNvPicPr/>
          <p:nvPr/>
        </p:nvPicPr>
        <p:blipFill>
          <a:blip r:embed="rId3"/>
          <a:stretch/>
        </p:blipFill>
        <p:spPr>
          <a:xfrm>
            <a:off x="7238880" y="762120"/>
            <a:ext cx="1143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Do’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allow enough time for testing, including appro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be inclusive in selecting audience (users, non-users, clinicians, family, educator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 tools: flip chart, markers, actu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honor time limit set with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provid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provide incentives - be 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audiotape and vide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set time limit on topic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5000"/>
              </a:lnSpc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o pre and pos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75248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2:47:09Z</dcterms:created>
  <dc:creator>Maritza Matheus</dc:creator>
  <dc:description/>
  <dc:language>en-US</dc:language>
  <cp:lastModifiedBy>Rasa</cp:lastModifiedBy>
  <dcterms:modified xsi:type="dcterms:W3CDTF">2009-10-26T03:57:58Z</dcterms:modified>
  <cp:revision>23</cp:revision>
  <dc:subject/>
  <dc:title>How to Get Insightful and Useful Audience Input</dc:title>
</cp:coreProperties>
</file>