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1.wmf" ContentType="image/x-wm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3BFF-7FC3-419A-B9A1-A45A1288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BEB-8FCD-4958-A611-970A0483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F36C-0F6C-4B2E-B41F-8CDEC563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73DD-B796-43DD-993E-CC5DD0A7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6856-DCD2-4D15-859B-ABC5C83F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47B9-2589-41C2-A044-5B079A50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62C9-BE02-41CC-A6A8-C3F930E8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33D4-BCD2-4E74-A959-446C6820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EA10-BC67-4CCF-BA1A-2C9933A06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76B-78EE-4ED1-AE18-5679913C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44C4-0F21-4012-8CED-1AB189AA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04B6-A7A9-4C5D-8CDC-9674B0CA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A0DA-3BFF-43B1-A3BF-593B49AC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EBA-AE4E-40B2-8DFB-64C5909F6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9A5-45FE-4F6B-9968-EA4B12D6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BDC6-0F55-4217-81CC-46FF94CA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DB2-3045-48B8-9129-B702B316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: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with 5 columns with the following headings:  Approach, Participants, Duration, Pros, 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ow and Cell Information: Focus Group; 8-10, 1.5-2 hours; Rich in insights; group dynamics; $ for c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Row and Cell Information: Dyads/Triads; 2 or 3; 1 - 1.5 hours; Probe deep; Conduct nume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Row and Cell Information: One on One Interviews / In Depth Interviews; 1; 1 hour or less; face to face interviews or phone interviews; allow interviewer to delve deep; no group dynamics, have to conduct nume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Row and Cell Information: Telephone; 1 person; 1 hour or less; Good for difficult to schedule participants; Miss face to face cues, personal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Row and Cell Information: Online; Numerous; 1 hour or less; Good for difficult to schedule participants; Miss face to face cues, personal interaction, $ for c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9D48-2640-49F4-9421-B01E4699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A12-09E1-4FF6-AEF0-D666E6599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41A-9DA8-42AA-BF2E-E95B0EFF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96E-BED4-4E74-9615-3949885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769-A227-4124-AB0F-C7DF66F9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C00-212C-4227-A4B0-A396952B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68AC-159C-4158-B220-08D596C2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E62B-3C1B-4D4A-9988-37C81181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7C7C-3216-4C60-98E8-65A197AD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241-F067-49F4-8CCA-2DFE0CC6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A7D-FA61-4C00-8B50-73A24DC5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2622-1AEC-4703-8E63-F19D8459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954-8623-44B2-BF25-C24A57C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746-15A0-40DA-892B-C58A61D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130A-B1CA-44F5-A274-5A87683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BBA8-18C2-40EC-A097-82CCB91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5A1A-2270-46E3-9027-D0E55B56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1542-1923-4D08-BF85-F45DB3E5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D8A0-4A18-44E1-98F4-E40B32DA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90A-4A8C-4159-8310-33B1832B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280-BF2D-462D-88E2-D57C8F24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440-15E0-4958-AB12-447322DD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8BD-4A46-4954-A2BB-6EA0904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785-974C-44C4-B187-D09FEAE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20D-A696-4D1E-A9C2-0638E99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DB8-28F6-442D-9AA4-DCD7D44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5928-3E39-4866-9EAC-72C8E488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862-5333-4D6E-81E3-7E267F32A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How to Get Insightful and Useful Audience Input for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User Friendly Tool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Maritza E. Matheus, Princip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AHRQ Annual Confer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Monday, September 14,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819600">
            <a:off x="410760" y="343080"/>
            <a:ext cx="126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Don’t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llow friends or family in sam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llow for “seasoned”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ccept all of the recruited participants (do over recr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sk participants to share their job title or profession unles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n’t ask “WHY”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use other ways to elicit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75248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Examples of Eliciting Inform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ip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sel,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su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rd Bub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ture D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5400" y="-8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sel with art"/>
          <p:cNvPicPr/>
          <p:nvPr/>
        </p:nvPicPr>
        <p:blipFill>
          <a:blip r:embed="rId2"/>
          <a:stretch/>
        </p:blipFill>
        <p:spPr>
          <a:xfrm>
            <a:off x="6172200" y="2209680"/>
            <a:ext cx="1371600" cy="13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695840" y="397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illustrations of consumer products"/>
          <p:cNvPicPr/>
          <p:nvPr/>
        </p:nvPicPr>
        <p:blipFill>
          <a:blip r:embed="rId3"/>
          <a:stretch/>
        </p:blipFill>
        <p:spPr>
          <a:xfrm>
            <a:off x="3809880" y="2057400"/>
            <a:ext cx="1092240" cy="18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women"/>
          <p:cNvPicPr/>
          <p:nvPr/>
        </p:nvPicPr>
        <p:blipFill>
          <a:blip r:embed="rId4"/>
          <a:stretch/>
        </p:blipFill>
        <p:spPr>
          <a:xfrm>
            <a:off x="3886200" y="4038480"/>
            <a:ext cx="135720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@ sign"/>
          <p:cNvPicPr/>
          <p:nvPr/>
        </p:nvPicPr>
        <p:blipFill>
          <a:blip r:embed="rId5"/>
          <a:stretch/>
        </p:blipFill>
        <p:spPr>
          <a:xfrm>
            <a:off x="5943600" y="4191120"/>
            <a:ext cx="1814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Wor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Bubb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: when learning about sensitive, conflicting or politically-charge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ols: handout with stick figures with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0" y="3124080"/>
          <a:ext cx="4648320" cy="3049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stick people with thought bubbl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124080"/>
                    <a:ext cx="46483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6"/>
          <p:cNvSpPr/>
          <p:nvPr/>
        </p:nvSpPr>
        <p:spPr>
          <a:xfrm>
            <a:off x="95400" y="-8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Picture Deck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: need to learn about emotional associations about an experience or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ols: deck of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pider"/>
          <p:cNvPicPr/>
          <p:nvPr/>
        </p:nvPicPr>
        <p:blipFill>
          <a:blip r:embed="rId2"/>
          <a:stretch/>
        </p:blipFill>
        <p:spPr>
          <a:xfrm>
            <a:off x="838080" y="4114800"/>
            <a:ext cx="2819520" cy="19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irls baseball team"/>
          <p:cNvPicPr/>
          <p:nvPr/>
        </p:nvPicPr>
        <p:blipFill>
          <a:blip r:embed="rId3"/>
          <a:stretch/>
        </p:blipFill>
        <p:spPr>
          <a:xfrm>
            <a:off x="4419720" y="3733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Mind Mapping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: when learning more details or more indepth understanding of behavior, situation, o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ols: paper and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10960" y="36576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it 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 flipV="1">
            <a:off x="2285640" y="35809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5791320" y="35809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5720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3124080"/>
            <a:ext cx="6324480" cy="3111480"/>
            <a:chOff x="914400" y="3124080"/>
            <a:chExt cx="6324480" cy="3111480"/>
          </a:xfrm>
        </p:grpSpPr>
        <p:sp>
          <p:nvSpPr>
            <p:cNvPr id="146" name="Oval 6"/>
            <p:cNvSpPr/>
            <p:nvPr/>
          </p:nvSpPr>
          <p:spPr>
            <a:xfrm>
              <a:off x="3352680" y="3581280"/>
              <a:ext cx="24386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914400" y="3124080"/>
              <a:ext cx="1600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ig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3809880" y="4800600"/>
              <a:ext cx="13716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d Moo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5715000" y="4495680"/>
              <a:ext cx="1143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5715000" y="5410080"/>
              <a:ext cx="15238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ight G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18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5257800" y="4648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Mind Ma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 of Completed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10552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 flipV="1">
            <a:off x="624852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7238880" y="3429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257800" y="4724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96252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3352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3504960" y="2819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1371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920520" y="5257800"/>
            <a:ext cx="782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H="1">
            <a:off x="23623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0"/>
          <p:cNvSpPr/>
          <p:nvPr/>
        </p:nvSpPr>
        <p:spPr>
          <a:xfrm flipV="1">
            <a:off x="380988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>
            <a:off x="25909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2895480" y="56386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90720" y="2438280"/>
            <a:ext cx="7238880" cy="3476880"/>
            <a:chOff x="990720" y="2438280"/>
            <a:chExt cx="7238880" cy="3476880"/>
          </a:xfrm>
        </p:grpSpPr>
        <p:sp>
          <p:nvSpPr>
            <p:cNvPr id="169" name="Oval 4"/>
            <p:cNvSpPr/>
            <p:nvPr/>
          </p:nvSpPr>
          <p:spPr>
            <a:xfrm>
              <a:off x="3581280" y="3886200"/>
              <a:ext cx="1714680" cy="125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ff"/>
                  </a:solidFill>
                  <a:latin typeface="Arial"/>
                </a:rPr>
                <a:t>Dis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ff"/>
                  </a:solidFill>
                  <a:latin typeface="Arial"/>
                </a:rPr>
                <a:t>Wor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5334120" y="350532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Family va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324480" y="3124080"/>
              <a:ext cx="114300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F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7238880" y="3657600"/>
              <a:ext cx="9907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Memor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5715000" y="4800600"/>
              <a:ext cx="1066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Cost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9"/>
            <p:cNvSpPr/>
            <p:nvPr/>
          </p:nvSpPr>
          <p:spPr>
            <a:xfrm>
              <a:off x="7162920" y="5029200"/>
              <a:ext cx="10666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No adult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0"/>
            <p:cNvSpPr/>
            <p:nvPr/>
          </p:nvSpPr>
          <p:spPr>
            <a:xfrm>
              <a:off x="2666880" y="2438280"/>
              <a:ext cx="10670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Child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4724280" y="2438280"/>
              <a:ext cx="1981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Commercia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990720" y="243828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Fami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1066680" y="3733920"/>
              <a:ext cx="800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Fly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2057400" y="502920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Summer Cloth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5"/>
            <p:cNvSpPr/>
            <p:nvPr/>
          </p:nvSpPr>
          <p:spPr>
            <a:xfrm>
              <a:off x="6400800" y="4114800"/>
              <a:ext cx="10666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Kids cran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2209680" y="4343400"/>
              <a:ext cx="11588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Flor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3200400" y="327672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ic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5"/>
            <p:cNvSpPr/>
            <p:nvPr/>
          </p:nvSpPr>
          <p:spPr>
            <a:xfrm>
              <a:off x="993240" y="4648320"/>
              <a:ext cx="8787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Long 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5567760" y="5562720"/>
              <a:ext cx="6577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Save 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3510000" y="5638680"/>
              <a:ext cx="13190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Exercise - t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34"/>
          <p:cNvSpPr/>
          <p:nvPr/>
        </p:nvSpPr>
        <p:spPr>
          <a:xfrm flipH="1">
            <a:off x="1371600" y="49528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 flipH="1" flipV="1">
            <a:off x="1371600" y="41907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 flipH="1">
            <a:off x="5866920" y="5105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6095880" y="3962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739152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actical Tip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-recruit Latinos and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y for transportation for indigent or el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il publications in advance for participants to review before group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st not to mix some participants, such as physician specialties or physicians with other cli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on-site interviews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k colleagues and observers for their ins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75248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udience Exerci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: paper and 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middle of page, write “packing suitcase for business trip” and circ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ke 2 minutes to write thoughts that come to mind when packing a sui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done, circle the most significant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200400" y="3352680"/>
            <a:ext cx="3429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73960" y="346536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cking suit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business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ritza E. Math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us Marketing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akton, VA  22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l 703 758-7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mail matheusmarket@ao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llustration of man with torch running"/>
          <p:cNvPicPr/>
          <p:nvPr/>
        </p:nvPicPr>
        <p:blipFill>
          <a:blip r:embed="rId2"/>
          <a:stretch/>
        </p:blipFill>
        <p:spPr>
          <a:xfrm>
            <a:off x="4876920" y="1371600"/>
            <a:ext cx="1752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udience Exerci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: paper and 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middle of page, write “packing suitcase for business trip” and circ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200400" y="3809880"/>
            <a:ext cx="3429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70360" y="38862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cking suit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business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What are we discussing today?</a:t>
            </a:r>
            <a:endParaRPr b="1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is it useful to obtain audience in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conduct formal t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sting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’s and Don’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 of elici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ful tactical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dienc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095880" y="2666880"/>
            <a:ext cx="1430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When is it Useful to Obtain Audience Input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eloping a consume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nning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-testing of a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t-testing of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sting an existing 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st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eloping an advertising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deas"/>
          <p:cNvPicPr/>
          <p:nvPr/>
        </p:nvPicPr>
        <p:blipFill>
          <a:blip r:embed="rId2"/>
          <a:stretch/>
        </p:blipFill>
        <p:spPr>
          <a:xfrm>
            <a:off x="6477120" y="2362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Qualitativ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gather an in-depth understanding of human behavior; answers the “wh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vides insights, feedback and information not gleaned from quantitative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: use gleaned information into actionable items and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icking your brain"/>
          <p:cNvPicPr/>
          <p:nvPr/>
        </p:nvPicPr>
        <p:blipFill>
          <a:blip r:embed="rId2"/>
          <a:stretch/>
        </p:blipFill>
        <p:spPr>
          <a:xfrm>
            <a:off x="7620120" y="685800"/>
            <a:ext cx="11714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pproach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cu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ad/Tri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on One/In Depth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office team"/>
          <p:cNvPicPr/>
          <p:nvPr/>
        </p:nvPicPr>
        <p:blipFill>
          <a:blip r:embed="rId2"/>
          <a:stretch/>
        </p:blipFill>
        <p:spPr>
          <a:xfrm>
            <a:off x="6172200" y="106668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abstract art of faces"/>
          <p:cNvPicPr/>
          <p:nvPr/>
        </p:nvPicPr>
        <p:blipFill>
          <a:blip r:embed="rId3"/>
          <a:stretch/>
        </p:blipFill>
        <p:spPr>
          <a:xfrm>
            <a:off x="4800600" y="3962520"/>
            <a:ext cx="2325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pproach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676520"/>
          <a:ext cx="6705720" cy="4568760"/>
        </p:xfrm>
        <a:graphic>
          <a:graphicData uri="http://schemas.openxmlformats.org/drawingml/2006/table">
            <a:tbl>
              <a:tblPr/>
              <a:tblGrid>
                <a:gridCol w="1339920"/>
                <a:gridCol w="1342800"/>
                <a:gridCol w="1339920"/>
                <a:gridCol w="1343160"/>
                <a:gridCol w="133992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cus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5-2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ich in insights, group dyna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yads/Tri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o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-1.5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be d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duct 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e on One Interviews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 Depth Interview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hour or 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ace to face, ph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lve d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 group dyna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duct 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le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hour or 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od for difficult to schedule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ss face to face cues,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hour or 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od for difficult to schedule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ss face to face cues, interaction,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esting Mechan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ear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n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propriate Approach or Combination of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alitative Researcher or In-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ue - field facility or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Demographics; Recruiting Guide or Scree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rat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Topic Areas; Discussion Gu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898880" y="4800600"/>
            <a:ext cx="20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encils"/>
          <p:cNvPicPr/>
          <p:nvPr/>
        </p:nvPicPr>
        <p:blipFill>
          <a:blip r:embed="rId3"/>
          <a:stretch/>
        </p:blipFill>
        <p:spPr>
          <a:xfrm>
            <a:off x="7238880" y="76212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Do’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allow enough time for testing, including appr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be inclusive in selecting audience (users, non-users, clinicians, family, educator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 tools: flip chart, markers, actu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honor time limit set with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provid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provide incentives - be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audiotape and vide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set time limit on top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pre and pos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75248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47:09Z</dcterms:created>
  <dc:creator>Maritza Matheus</dc:creator>
  <dc:description/>
  <dc:language>en-US</dc:language>
  <cp:lastModifiedBy>Rasa</cp:lastModifiedBy>
  <dcterms:modified xsi:type="dcterms:W3CDTF">2009-10-26T03:57:58Z</dcterms:modified>
  <cp:revision>23</cp:revision>
  <dc:subject/>
  <dc:title>How to Get Insightful and Useful Audience Input</dc:title>
</cp:coreProperties>
</file>