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666C8-7360-4ABB-8221-FB3F2F80B891}"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0A5A5-1550-4D86-AF46-EDC628AEF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we’d like to be: This slide shows a flow chart of how Coverage with Evidence Development (CED) potentially fits into the coverage decision making process.  The key concept is that evidence development under CED be designed to address the information needs of decision makers directly and efficiently as possible.  For this to happen, alternative designs should be matched to decision making circumstance and stakeholders should be in agreement about what constitutes “adequate evidence” in support of an informed decision.  Which CED approach is selected (if any) should be based on a qualitative or quantitative value of information exercise, which explicitly considers the likely impact of alternative study outcomes.  </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3A3F3-71BE-4A60-971F-AC8B4FA33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we are: one of several not-quite-successful CED efforts.</a:t>
            </a:r>
            <a:endParaRPr b="0" lang="en-US" sz="1200" spc="-1" strike="noStrike">
              <a:solidFill>
                <a:srgbClr val="000000"/>
              </a:solidFill>
              <a:latin typeface="Calibri"/>
            </a:endParaRPr>
          </a:p>
        </p:txBody>
      </p:sp>
      <p:sp>
        <p:nvSpPr>
          <p:cNvPr id="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2F622-EC95-4A7F-AA64-5DFD0C6C1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we need: The challenges that must be overcome to make CED successfu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90D1F-328F-4F34-98D6-AE1751696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445F1-7A83-4AAA-9F03-E67234584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8B8B-0363-4642-BDCF-BD88DDFF9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5AA57-B042-48B6-B503-339AC0FC4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A505B-31E8-4A93-AAC6-06E6FF096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2E7F0-7FA5-49EB-9CFF-889112ED9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26CE-4603-4F5A-8C1D-4F6D2967C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A83DE-DAFF-4CDC-AFA9-B64EA98A9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40E4A-B959-4075-81BE-4B6852870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F4154-5419-429A-B0B8-0023195A1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AC015-ACA0-4700-9792-872D61D1E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BF7A4-3E9E-4F78-9B66-0EFE81E27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EF83-08E2-4CFA-B9E9-A27ABE2A2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1901D-6D6D-4E80-A28E-F613D8BF3C0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490FF-C37F-4DF5-A085-C572CD029D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Content Placeholder 3" descr="Registry review Figure 1"/>
          <p:cNvPicPr/>
          <p:nvPr/>
        </p:nvPicPr>
        <p:blipFill>
          <a:blip r:embed="rId1"/>
          <a:stretch/>
        </p:blipFill>
        <p:spPr>
          <a:xfrm>
            <a:off x="2438280" y="74520"/>
            <a:ext cx="5077080" cy="678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ED and PET/AD</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ed on analysis, CMS made a national non-coverage dec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sure led to conditional cover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eting convened with CMS, NIA, FDA, ADA, and other stakehol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issioned design of a P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he challenge for CED</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uly compelling research desig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gages relevant stakehol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robust decision-making machin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4:43:48Z</dcterms:created>
  <dc:creator>David Matchar</dc:creator>
  <dc:description/>
  <dc:language>en-US</dc:language>
  <cp:lastModifiedBy>Steve</cp:lastModifiedBy>
  <dcterms:modified xsi:type="dcterms:W3CDTF">2009-10-28T14:15:28Z</dcterms:modified>
  <cp:revision>7</cp:revision>
  <dc:subject/>
  <dc:title>Slide 1</dc:title>
</cp:coreProperties>
</file>