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2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dt" idx="7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move the slid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ftr" idx="8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 type="sldNum" idx="9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9C232BE-6920-41E8-81AF-7352252E65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8D45B80-8154-4C6A-AF74-935A80BC34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C49A54C-CD88-4E67-AC0B-49282E642D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80BDF63-C613-4D3E-857F-70B692F204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C3CABB9-E37D-4C0F-AED4-F2246677CD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9400EE0-72A4-4C82-9952-5F89DD5290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EF9610B-0A51-4F11-A299-E1C6A2A987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F4A60BD-5608-4853-ADCF-19F29F5A94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1D61844-FE59-4EEC-956C-6E8762D9AB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452C2FF-67B2-4202-8C6A-DEC14EA604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BEA00F6-F5E0-4E04-82A0-98C8197E42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F710D07-AF7B-4175-B4E8-F2271768F0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35F25D0-9BCD-4DB8-B5BF-80F376CBF2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FF168C8-3728-488D-A548-2838EB30D8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A8B76A7-3205-4975-B1D9-46C35251D3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79EB098-BD86-4C58-A4D9-EA09EBD4CB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68F6297-3EE4-49F9-AA09-E336F824A5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A073FE0-E036-46AD-BD88-5D8D62B38A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711B274-0495-41F2-BB12-C21F922C39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5EE1D8E-8A0E-4AF7-B974-C746CE8E08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8D6A5CB-88D9-47A3-84F0-8A95448035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AED1113-66A4-4A67-A11F-0EAF962E87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80BC580-5793-41E9-8AE5-68D6A73491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21ABC94-B868-4E03-A6E4-7C402838DB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A7ABCE7-C35A-4449-AED1-22080CEEED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60E4DFB-E19F-4ECF-AD87-47FFCBE7E4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B06F68E-729B-4DD1-8BDA-BFBF4878FA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520C1-1858-4FFC-9557-69B384FAC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938D4-2F93-4F02-8A03-66BF5FC46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E2BD5-71BA-4834-BA7E-AC5A89ED0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12856-FBF1-4A8E-BCA6-5A8F225EC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E2EF4-2018-4ED1-87D1-5580771CF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2B116-4244-4235-B326-E9918C1F4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79F19-A95B-4DCC-924A-1545EEC97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529FE-6C6C-488E-B24A-36DDFE123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1F5C9-DD80-4F3E-962C-28302A794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7617A-B047-446E-BBBD-C768E60E2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06D05-4F84-460B-B576-441BF5DC7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291B7-7B8E-4F95-9CD2-E93B97C33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4D420-D72B-4265-9948-EC86312FD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D1652-5F60-481C-927B-2DB7F87D9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9EDBF-5336-4EA0-ACEB-A424DE353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EBA2A-9027-49C1-AB1B-4E8F18A45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78C51-A164-4BAC-8470-3B4F3914F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C8C7C-C175-4F34-A27F-43BD6C33E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227F9-BEF3-4337-B46C-3C29AE8DF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A2F7A-092C-4583-ADBB-BEA726BC1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4EBE1-D37A-4F01-8039-996441801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B6B9D-B288-4454-B619-3BB72348E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7AFE6-FDB6-4803-9E8D-5F58A3F36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2D6DF-C68E-464A-8C82-D7DC2C7B8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5D269-D369-4C94-B5BB-B427A96DBA3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AD7FD-0D92-42AC-9336-2736694A4D1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pbrn.ahrq.gov/portal/server.pt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Kentucky HSR Development: Building Partnerships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garet M. Love, Ph.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y of Kentu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mily &amp; Community Medicine (Medicin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alth Behavior (Public Healt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BRIC I: </a:t>
            </a:r>
            <a:br>
              <a:rPr sz="3500"/>
            </a:b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Prevention Research Project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ducted pilot project in 6 KAN practi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Multiple strategies to increase FOBT rates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E.g., chart stickers, information about billing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BRIC I: </a:t>
            </a:r>
            <a:br>
              <a:rPr sz="3500"/>
            </a:b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Prevention Research Project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utcomes included lessons learned by FP leader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fficulties in abstracting screening rates from billing da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efulness of RA assistance in scheduling and preparing for orientation visi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ecessity of ongoing contact with practice to assure fidelity to intervention, complete documentation, and access to outcomes da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BRIC I: </a:t>
            </a:r>
            <a:br>
              <a:rPr sz="3500"/>
            </a:b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Prevention Research Project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essons learned by BRIC tea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scussion with KAN members led to principles guiding QI focu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t takes a team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utcom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rectly: MPH Capstone for FP lead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ossibly contributed to track record or experience: Future KAN involvement in federally funded CRC screening researc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BRIC II Small Research Projects:</a:t>
            </a:r>
            <a:br>
              <a:rPr sz="3500"/>
            </a:b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Physician “Collaborator” Model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“real” world for tenure track academic family physicians (FPs)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st can devote only 10 – 25% time to researc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ny will not become independent research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ny can become physician “collaborators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Make substantial contributions to HSR led by faculty in other department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BRIC II Small Research Projects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Junior FPs partnered with experienced health services researchers (HSRer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SRers nominated 7 projects in own areas of expertise and intere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3 FPs nominated selv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Ps to transition from co-I to PI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Ps 20% protected research time (1/2 in-kind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SRers paid protected time (10%-20%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Additional Support for BRIC II Small Research Partnerships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re training for FP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pacity-building semina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rofessional writing workshop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HSR methods seminars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velopment of Grant Applic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ational HSR meetings (AcademyHealth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Additional Support for BRIC II Small Research Partnerships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RIC PI (Fleming) &amp; Co-I (Love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-investigators on proj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acilitated partnership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E.g., sounding board for HSR mentor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E.g., nudge for FP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rved as program mentors/coaches for FP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verall grant administr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BRIC II Small Research Projects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3 projects/teams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Killip/Ireson (3 years) – Patient safety in after-hours telephone medici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oyce/Wackerbarth (2 years) – Colorectal cancer screening decision-mak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ssow/Costich (1 year) – Generic drug utilization (became study of Medicare Part D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BRIC II Small Research Projects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lationship to KAN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atient safety in after-hours telephone medicin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esigned for/conducted in residency practic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Next step was funded pilot in community practic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lorectal cancer screening decision-mak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esigned as KAN stud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eneric drug utilization (Medicare Part D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volved KAN input &amp; feasibility testing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BRIC II Small Research Projects: Pt Safety / Telephone Med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itiative from UKy or Community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itiative stayed “inside” academ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utcom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P came to “own” this topic as research progra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P acquired qualitative &amp; quantitative research skil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ltiple national/international research presentation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 pub (so far) with FP as 1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auth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P as PI earned NPSF gra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so… Because of process analysis, changed steps in residency’s after-hours telephone medicine (e.g., messages in charts) – good example of Q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Infrastructure Development Aim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mprove ability of faculty to develop proposals and publish papers in health services research (HSR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mote collaboration of physicians with other health services research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ultivate research ideas from the Kentucky Ambulatory Network (KAN) into research designs and fundable propos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BRIC II Small Research Projects: CRC Screening Decision-Making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itiative from UKy or Community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dea originated “inside” academia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owever, by design, study solicited input from community on what is needed to design decision-suppor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Qualitative research with FPs &amp; patients leading to identification of “barriers” and “facilitators” for CRC screening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Next steps would be design of decision supports &amp; engaging FPs to test them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BRIC II Small Research Projects: CRC Screening Decision-Making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utcome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2 pubs with HSRer as 1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auth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P acquired qualitative research skill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o-Investigator on federally funded research project(s) led by other UK qualitative researcher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I on own federally funded education grant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ould apply skills to evaluation of patient-centered care curriculum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P tenured as Associate Profess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BRIC II Small Research Projects: Generic Drugs </a:t>
            </a:r>
            <a:r>
              <a:rPr b="1" lang="en-US" sz="3500" spc="-1" strike="noStrike">
                <a:solidFill>
                  <a:srgbClr val="330066"/>
                </a:solidFill>
                <a:latin typeface="Wingdings"/>
                <a:ea typeface="Wingdings"/>
              </a:rPr>
              <a:t></a:t>
            </a: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 Medicare Part D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itiative from UKy or Community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at’s a long story…evolution in terms of what’s meaningful and what’s feasi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itial plan: In KAN, evaluate barriers to prescribing generic drug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Reaction of KAN advisory committee members suggested more comprehensive approach necessary to capture prescribing issues that matte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0" algn="r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Continued…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BRIC II Small Research Projects: Generic Drugs </a:t>
            </a:r>
            <a:r>
              <a:rPr b="1" lang="en-US" sz="3500" spc="-1" strike="noStrike">
                <a:solidFill>
                  <a:srgbClr val="330066"/>
                </a:solidFill>
                <a:latin typeface="Wingdings"/>
                <a:ea typeface="Wingdings"/>
              </a:rPr>
              <a:t></a:t>
            </a: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 Medicare Part D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incided with Medicare Part D implemen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ternative Approach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hart review in KAN practices to determine if prescribing practices changed following Medicare Part D coverag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itial chart reviews showed charts don’t contain needed info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0" algn="r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Continued…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BRIC II Small Research Projects: Generic Drugs </a:t>
            </a:r>
            <a:r>
              <a:rPr b="1" lang="en-US" sz="3500" spc="-1" strike="noStrike">
                <a:solidFill>
                  <a:srgbClr val="330066"/>
                </a:solidFill>
                <a:latin typeface="Wingdings"/>
                <a:ea typeface="Wingdings"/>
              </a:rPr>
              <a:t></a:t>
            </a: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 Medicare Part D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nal Approac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urvey assessing physician experiences and opinions regarding Medicare Part 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onducted during Continuing Education programs for family physicians held in Lexington, KY (attendees from many states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sum, iterative process informed by KAN community-based members &amp; feasibility pretesting in KA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BRIC II Small Research Projects: Generic Drugs </a:t>
            </a:r>
            <a:r>
              <a:rPr b="1" lang="en-US" sz="3500" spc="-1" strike="noStrike">
                <a:solidFill>
                  <a:srgbClr val="330066"/>
                </a:solidFill>
                <a:latin typeface="Wingdings"/>
                <a:ea typeface="Wingdings"/>
              </a:rPr>
              <a:t></a:t>
            </a: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 Medicare Part D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utcom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leted survey with 98 respon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alyses completed; manuscript in prog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P tenured as Associate Profess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BRIC II Small Research Projects: Overall Outcomes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P transition into leadership ro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ne effectively transitioned into leadership role (with coaching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ne maintained a co-investigator ro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ne already had more research experi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id HSRers develop, too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tter at working with FPs? &amp; with KAN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E.g., structuring FP input &amp; managing logistics?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E.g., involving KAN input &amp; evaluating feasibility?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BRIC meets ACCC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ademic Chronic Care Collaborative (ACCC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merican Association of Medical Colleges (AAMC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sortium designed to develop quality improvement programs of clinical care, evaluation, &amp; research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niversity of Kentucky &amp; Department of Family and Community Medicine selected as one of 23 academic health cent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BRIC meets ACCC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eatures of University of Kentucky initiativ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abetes as clinical target in the Family Medical Cent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ronic Care Model with quality improvement cycl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mplemented group visit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BRIC meets ACCC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 supplement College of Medicine funding, BRIC provided resources to support systematic evaluation an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lf year RA assistance in creating, entering and managing the Family Medical Center’s Diabetes Registry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rial period of registry softwa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unior FP travel to national QI meet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University of Kentucky BRIC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verarching structure = collabor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llege of Public Health (subsumed Center for Health Services Management &amp; Research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2001-2003 PI Beaulieu/Fleming (BRIC I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2003-2006 PI Fleming (BRIC II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partment of Family and Community Medicine (DFCM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2001-2006 Co-PI Lov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BRIC meets ACCC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utcom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ulti-year database of over 600 DM pati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octor of Nurse Practitioner (DNP) thesi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2 Masters of Public Health (MPH) capstone proj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raft manuscript under developmen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MPH capstone underway (for junior F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dical student summer research project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BRIC meets ACCC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utcom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reater sophistication across the department in evaluating quality improvement process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llaboration with “non-BRIC” faculty members in Public Health and Pharmac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partment struggles with how to maintain databas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ngoing systematic evaluation of QI elusiv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BRIC II – What (Seemed to) Work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eadership from experienced HSRers invaluable in the small research project partnership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pecialized set of topic-relevant skills and knowledg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ject manag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How to get started &amp; what to do next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Breaking the project down into step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stablishing – and pressing – project timeli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lationships important to FP growth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BRIC II – Facilitator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lexibility built into the multi-year BRIC II award enabled research partners to adapt (e.g., Medicare Part D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future, solicit KAN input prior to submitting grant application or as a development phase within a funded application; but would depend on time, resources, &amp; FO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BRIC II – What (Seemed to) Work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upport for Partnership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I &amp; Co-PI helped Small Research Project partners work togeth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HSRers had to “chase” FP Fellows; PI &amp; Co-PI helped catch them (but also needed to know when to get out of the way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-PI facilitated partnerships with KA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I facilitated partnerships with HSRer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BRIC II – Lessons Learning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ight more HSRer &amp; PI/CoPI direction increase “scholarly productivity” UKy ACCC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te: Actual research using data has been conducted by professional degree candidates with significant mentorship outside our department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o we need to facilitate FP partnering with HSR mentors?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ow can we bridge QI processes and typical scholarly productivity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BRIC II – What (Seemed to) Work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5% protected time needed for junior FP to channel time &amp; attention toward research and developing own capac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.g., Dedicated day away from the office &amp; connection to a national grant-writing program helped SK protect ti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BRIC II – Lessons Learning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’s OK to let success overtake yo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enesis of College of Public Healt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enter for Health Services Mgt &amp; Research then School of Public Health then College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IH Clinical &amp; Translational Science Awards (CTSA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University-wide restructuring to support formation of Center for Clinical and Translational Science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FCM &amp; KAN leadership in outreach core functio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BRIC II – Lessons Learned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ould have been helpful to have continued “BRIC Brass” from BRIC 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sory group of Chair &amp; Academic Vice Chair of Fam &amp; Comm Med, and Director of Center for Health Services Management and Research (later Director of School of Public Health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 promote knowledge of faculty activities, buy-in and support of program, and view to “bigger picture” of university, community, U.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Implications for Health Reform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verall, in both KAN (PBRN) and ACCC (or other health care collaboratives), the physicians and their practices are part of the solution, that is, for improving health care and health outcom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University of Kentucky BRIC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emises of today’s talk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actice-based research networks (PBRNs) can respond to community needs… and partnerships are at the core of PBRN activit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arning collaboratives can improve health care qual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rough its support of partnerships, BRIC built HSR capacity in Kentuck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Implications for Health Reform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s primary care plays a central ro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BRNs can link AHCs &amp; communities to implement &amp; evaluate programmatic change and quality improvement proce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BRNs can help inform policy makers of barriers &amp; facilitators to better design systems that wor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BRNs reach diverse communities and can represent diverse types of pract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Implications for Health Reform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ased on our experience in Kentucky, layers of specific types of support can build or leverage academic-community partnership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pert HSRers from multiple disciplin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imary care physicians trained as research collaborator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llaborative team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acilitators (people who help with teamwork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Implications for Health Reform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wever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Quality improvement processes require ongoing, rapid evalu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E.g., Plan-Do-Study-Act (PDSA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s is not like traditional interventional research models in geological ti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milarities to traditional researc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ystematic evaluation of impact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Evidence based change strategi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Implications for Health Reform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oth practice-based research and QI cycles take many university researchers outside their “comfort zone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ss controlled circumstan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articipants can benefit from the research (not just for the greater good in the future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Implications for Health Reform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pecial expertise in PBR &amp; QI need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SRers may want retraining to capture rapid healthcare chang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hysician faculty may need HSR training/experi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acilitated partnerships enable “on-the-job” train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unding for partnership development could enable new “players” in federally funded researc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institu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discip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UKy BRIC Faculty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mily &amp; Comm Medici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l Bennett MD MP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ul Dassow MD MSP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bert Hosey M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nnifer Joyce M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ersten Killip MD MP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chael King M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garet Love PhD (Co-P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muel Matheny MD MP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evin Pearce MD MP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 Wrightson M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4832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llege of Public Healt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oyce Beaulieu PhD (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ulia Costich PhD J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rol Ireson Ph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 Fleming PhD (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. Douglas Scutchfield M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rah Wackerbarth Ph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nd thanks to AHRQ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ay Anderson, Ph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20 HS-0118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24 HS-01184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University of Kentucky BRIC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 examples of building &amp; leveraging partnerships – processes of engage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RIC involvement with the Kentucky Ambulatory Network (KAN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BRIC I Prevention Research Projec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BRIC II Small Research Project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RIC involvement with the University of Kentucky’s participation in the Academic Chronic Care Collaborative (ACCC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Practice-Based Research Networks (PBRNs)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PBRNs are groups of primary care clinicians and practices working together to answer community-based health care questions and translate research findings into practi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PBRNs engage clinicians in quality improvement activities and an evidence-based culture in primary care practice to improve the health of all Americans.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7e9ce8"/>
                </a:solidFill>
                <a:uFillTx/>
                <a:latin typeface="Arial"/>
                <a:hlinkClick r:id="rId1"/>
              </a:rPr>
              <a:t>http://pbrn.ahrq.gov/portal/server.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Practice-Based Research Networks (PBRNs)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del for university-community partnership for health services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otential to improve quality of ca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-3441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mplement and study process of adoption and outcomes in primary care pract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-3441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spond to commun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side-out” vs. “outside-in” mode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-3441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.e., “Top down” vs. “bottom up”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-3441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dside to bench” not just “Bench to bedside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Kentucky Ambulatory Network (KAN)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entucky Ambulatory Network (KA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atewide primary care practice-based research network founded in 200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than 200 community-based clinici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80% are family physician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~75% practice in rural, medically underserved area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KAN has practices in 31 of KY’s 51 Appalachian count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BRIC I: </a:t>
            </a:r>
            <a:br>
              <a:rPr sz="3500"/>
            </a:b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Prevention Research Project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lanned with/for KA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olicited feedback from community-based PCPs about topics of prevention &amp; intervention featur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Break-out sessions at annual meeting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E.g., Wanted an intervention with evidence for high likelihood of success, i.e., not obesity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volved community-based FP as consulta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inal planning input to focus on FOBT colorectal cancer screening (surprised own rates so low!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ssumed leadership role when joined facult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1T01:42:34Z</dcterms:created>
  <dc:creator>mlove</dc:creator>
  <dc:description/>
  <dc:language>en-US</dc:language>
  <cp:lastModifiedBy>Graham</cp:lastModifiedBy>
  <dcterms:modified xsi:type="dcterms:W3CDTF">2009-10-19T19:54:06Z</dcterms:modified>
  <cp:revision>329</cp:revision>
  <dc:subject/>
  <dc:title>Practice-Based Research Networks (PBRN)</dc:title>
</cp:coreProperties>
</file>