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media/image6.wmf" ContentType="image/x-wmf"/>
  <Override PartName="/ppt/media/image7.png" ContentType="image/pn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  <p:sldId id="274" r:id="rId35"/>
    <p:sldId id="275" r:id="rId36"/>
    <p:sldId id="276" r:id="rId37"/>
    <p:sldId id="277" r:id="rId38"/>
    <p:sldId id="278" r:id="rId39"/>
    <p:sldId id="279" r:id="rId40"/>
    <p:sldId id="280" r:id="rId41"/>
    <p:sldId id="281" r:id="rId42"/>
    <p:sldId id="282" r:id="rId43"/>
    <p:sldId id="283" r:id="rId44"/>
    <p:sldId id="284" r:id="rId45"/>
    <p:sldId id="285" r:id="rId46"/>
    <p:sldId id="286" r:id="rId47"/>
    <p:sldId id="287" r:id="rId48"/>
    <p:sldId id="288" r:id="rId49"/>
    <p:sldId id="289" r:id="rId50"/>
    <p:sldId id="290" r:id="rId51"/>
    <p:sldId id="291" r:id="rId52"/>
    <p:sldId id="292" r:id="rId53"/>
    <p:sldId id="293" r:id="rId54"/>
    <p:sldId id="294" r:id="rId55"/>
    <p:sldId id="295" r:id="rId56"/>
    <p:sldId id="296" r:id="rId57"/>
    <p:sldId id="297" r:id="rId58"/>
    <p:sldId id="298" r:id="rId59"/>
    <p:sldId id="299" r:id="rId60"/>
  </p:sldIdLst>
  <p:sldSz cx="10288588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slide" Target="slides/slide19.xml"/><Relationship Id="rId36" Type="http://schemas.openxmlformats.org/officeDocument/2006/relationships/slide" Target="slides/slide20.xml"/><Relationship Id="rId37" Type="http://schemas.openxmlformats.org/officeDocument/2006/relationships/slide" Target="slides/slide21.xml"/><Relationship Id="rId38" Type="http://schemas.openxmlformats.org/officeDocument/2006/relationships/slide" Target="slides/slide22.xml"/><Relationship Id="rId39" Type="http://schemas.openxmlformats.org/officeDocument/2006/relationships/slide" Target="slides/slide23.xml"/><Relationship Id="rId40" Type="http://schemas.openxmlformats.org/officeDocument/2006/relationships/slide" Target="slides/slide24.xml"/><Relationship Id="rId41" Type="http://schemas.openxmlformats.org/officeDocument/2006/relationships/slide" Target="slides/slide25.xml"/><Relationship Id="rId42" Type="http://schemas.openxmlformats.org/officeDocument/2006/relationships/slide" Target="slides/slide26.xml"/><Relationship Id="rId43" Type="http://schemas.openxmlformats.org/officeDocument/2006/relationships/slide" Target="slides/slide27.xml"/><Relationship Id="rId44" Type="http://schemas.openxmlformats.org/officeDocument/2006/relationships/slide" Target="slides/slide28.xml"/><Relationship Id="rId45" Type="http://schemas.openxmlformats.org/officeDocument/2006/relationships/slide" Target="slides/slide29.xml"/><Relationship Id="rId46" Type="http://schemas.openxmlformats.org/officeDocument/2006/relationships/slide" Target="slides/slide30.xml"/><Relationship Id="rId47" Type="http://schemas.openxmlformats.org/officeDocument/2006/relationships/slide" Target="slides/slide31.xml"/><Relationship Id="rId48" Type="http://schemas.openxmlformats.org/officeDocument/2006/relationships/slide" Target="slides/slide32.xml"/><Relationship Id="rId49" Type="http://schemas.openxmlformats.org/officeDocument/2006/relationships/slide" Target="slides/slide33.xml"/><Relationship Id="rId50" Type="http://schemas.openxmlformats.org/officeDocument/2006/relationships/slide" Target="slides/slide34.xml"/><Relationship Id="rId51" Type="http://schemas.openxmlformats.org/officeDocument/2006/relationships/slide" Target="slides/slide35.xml"/><Relationship Id="rId52" Type="http://schemas.openxmlformats.org/officeDocument/2006/relationships/slide" Target="slides/slide36.xml"/><Relationship Id="rId53" Type="http://schemas.openxmlformats.org/officeDocument/2006/relationships/slide" Target="slides/slide37.xml"/><Relationship Id="rId54" Type="http://schemas.openxmlformats.org/officeDocument/2006/relationships/slide" Target="slides/slide38.xml"/><Relationship Id="rId55" Type="http://schemas.openxmlformats.org/officeDocument/2006/relationships/slide" Target="slides/slide39.xml"/><Relationship Id="rId56" Type="http://schemas.openxmlformats.org/officeDocument/2006/relationships/slide" Target="slides/slide40.xml"/><Relationship Id="rId57" Type="http://schemas.openxmlformats.org/officeDocument/2006/relationships/slide" Target="slides/slide41.xml"/><Relationship Id="rId58" Type="http://schemas.openxmlformats.org/officeDocument/2006/relationships/slide" Target="slides/slide42.xml"/><Relationship Id="rId59" Type="http://schemas.openxmlformats.org/officeDocument/2006/relationships/slide" Target="slides/slide43.xml"/><Relationship Id="rId60" Type="http://schemas.openxmlformats.org/officeDocument/2006/relationships/slide" Target="slides/slide44.xml"/><Relationship Id="rId6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8116F-25D4-4621-864C-588F7DF96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112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71120" y="205740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771120" y="420696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BE1E6-E0C9-408C-A470-C67E49217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77112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771120" y="205740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5252040" y="205740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C6F971-53D6-40B9-B9AC-5EF18B8D8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77112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D6F195-1934-456B-8E4F-24FF854D6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ubTitle"/>
          </p:nvPr>
        </p:nvSpPr>
        <p:spPr>
          <a:xfrm>
            <a:off x="771120" y="380520"/>
            <a:ext cx="874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205E87-1BD4-410B-B45C-FF78B407B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77112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771120" y="205740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5252040" y="205740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771120" y="420696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CA5C8F-8E3B-4871-9F6E-7671BD5A0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77112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771120" y="205740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5252040" y="205740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5252040" y="420696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F8D4C6-1652-4191-95D5-3DDA9B78E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77112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771120" y="205740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5252040" y="205740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771120" y="420696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00CD1E-E2FC-4DC8-BAF6-3DD593E8E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77112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771120" y="205740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771120" y="420696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EAB2A5-0497-4CC3-A6DA-99B60DBF3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77112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771120" y="205740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5252040" y="205740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771120" y="420696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5252040" y="420696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37AACB-135E-4F7F-A105-21E626094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77112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771120" y="205740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727440" y="205740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683760" y="205740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771120" y="420696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7" name="PlaceHolder 6"/>
          <p:cNvSpPr>
            <a:spLocks noGrp="1"/>
          </p:cNvSpPr>
          <p:nvPr>
            <p:ph/>
          </p:nvPr>
        </p:nvSpPr>
        <p:spPr>
          <a:xfrm>
            <a:off x="3727440" y="420696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8" name="PlaceHolder 7"/>
          <p:cNvSpPr>
            <a:spLocks noGrp="1"/>
          </p:cNvSpPr>
          <p:nvPr>
            <p:ph/>
          </p:nvPr>
        </p:nvSpPr>
        <p:spPr>
          <a:xfrm>
            <a:off x="6683760" y="420696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811D55-CEE0-41FD-9AD4-2E174A7CF5E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3D94F9E-D126-4816-823B-2925F9005B5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7112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71120" y="205740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52040" y="205740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71120" y="420696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252040" y="420696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AA343-428D-4312-A394-CEAFA2D4B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77112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771120" y="205740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B9C84BA-8A12-430F-81E8-42613C39E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77112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771120" y="205740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F0785BF-E576-49CB-9F99-08AC0E62B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77112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771120" y="205740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5252040" y="205740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1AC4D05-2A8A-4D27-BB4C-94AD886E1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77112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A4FC50F-DA5E-418B-91F1-25F872207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771120" y="380520"/>
            <a:ext cx="874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AA27792-BC0A-46BA-AC5C-85A4D7508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77112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771120" y="205740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5252040" y="205740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771120" y="420696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C5F8BF7-76F5-4DAA-B172-08690B85C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77112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771120" y="205740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5252040" y="205740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5252040" y="420696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36D961D-2E98-40AB-89C2-AE2217CAE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77112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771120" y="205740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5252040" y="205740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771120" y="420696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FA60E89-9236-4847-A0AA-9C61C7517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77112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771120" y="205740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771120" y="420696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C064F4F-0CF9-4E7E-9A61-5F41C232C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77112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771120" y="205740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5252040" y="205740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771120" y="420696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5252040" y="420696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E41476C-5D07-4A41-AD2D-430787955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77112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771120" y="205740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7440" y="205740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683760" y="205740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771120" y="420696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727440" y="420696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683760" y="420696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C4051-611C-4202-91F5-84A385445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77112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771120" y="205740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727440" y="205740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683760" y="205740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771120" y="420696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727440" y="420696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683760" y="420696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C391A35-AB06-4430-B196-0804DA48C85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8D2019E-6C01-4A3C-8EA8-990DD4CEE47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77112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subTitle"/>
          </p:nvPr>
        </p:nvSpPr>
        <p:spPr>
          <a:xfrm>
            <a:off x="771120" y="205740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53D0D7A-1FF2-4B40-A6B2-27B4F9A58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7112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771120" y="205740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3F6AE59-A928-426E-A4B7-8A544FCCF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77112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771120" y="205740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5252040" y="205740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1EED383-2256-4090-BE3A-2456E92B8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77112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CA115D7-0F9C-4CF0-9801-B7F0DD9F1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ubTitle"/>
          </p:nvPr>
        </p:nvSpPr>
        <p:spPr>
          <a:xfrm>
            <a:off x="771120" y="380520"/>
            <a:ext cx="874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DD56EC6-3E31-45AF-ACF0-9AA28774A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77112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771120" y="205740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5252040" y="205740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771120" y="420696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4C54CA0-8721-4566-AEAB-43230DEED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77112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771120" y="205740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5252040" y="205740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252040" y="420696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4B7FDD6-C82E-4655-8758-272092807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77112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771120" y="205740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5252040" y="205740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771120" y="420696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A2CAE29-97B2-4C55-8624-7458C9A51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A1A517-E7AE-4B4A-8767-FB3436381C9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77112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771120" y="205740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771120" y="420696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57B20B8-0FB0-4819-A46C-12E671E1A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77112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771120" y="205740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5252040" y="205740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771120" y="420696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5252040" y="420696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79427D2-49F2-4DFC-9002-046D9FD63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77112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771120" y="205740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3727440" y="205740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6683760" y="205740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771120" y="420696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7" name="PlaceHolder 6"/>
          <p:cNvSpPr>
            <a:spLocks noGrp="1"/>
          </p:cNvSpPr>
          <p:nvPr>
            <p:ph/>
          </p:nvPr>
        </p:nvSpPr>
        <p:spPr>
          <a:xfrm>
            <a:off x="3727440" y="420696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8" name="PlaceHolder 7"/>
          <p:cNvSpPr>
            <a:spLocks noGrp="1"/>
          </p:cNvSpPr>
          <p:nvPr>
            <p:ph/>
          </p:nvPr>
        </p:nvSpPr>
        <p:spPr>
          <a:xfrm>
            <a:off x="6683760" y="420696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E7FEC62-BF2C-40D3-98B5-433A1CC83B3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1B125E6-E7D0-467D-B6A5-8B395BEBD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77112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subTitle"/>
          </p:nvPr>
        </p:nvSpPr>
        <p:spPr>
          <a:xfrm>
            <a:off x="771120" y="205740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263AB66-A209-4A01-9731-A5D1C3AEC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77112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771120" y="205740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740E8CB-1255-40D3-B7BF-30E69A183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77112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771120" y="205740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5252040" y="205740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11AD4CB-DF23-4A1C-91BF-5223AFC34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77112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F4B71B7-4B49-4626-8E8F-F42C98628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ubTitle"/>
          </p:nvPr>
        </p:nvSpPr>
        <p:spPr>
          <a:xfrm>
            <a:off x="771120" y="380520"/>
            <a:ext cx="874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C993149-F43E-4F55-9513-BE0BC4A0F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77112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771120" y="205740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5252040" y="205740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771120" y="420696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A9A70AE-95B4-4F36-9CA5-6BB36E5C5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7112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771120" y="205740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91D800-0550-46EE-A9D1-41CC9FE57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77112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771120" y="205740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5252040" y="205740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5252040" y="420696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2F4745B-88C0-46C9-9574-B3755C79E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77112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771120" y="205740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5252040" y="205740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771120" y="420696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69C62C7-8142-4C01-87B5-AB730745A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77112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771120" y="205740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771120" y="420696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EB58414-5703-491E-AAD7-AE46BC557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77112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771120" y="205740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5252040" y="205740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771120" y="420696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5252040" y="420696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5274B85-2D0E-44E5-A961-92F13F456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77112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771120" y="205740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3727440" y="205740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6683760" y="205740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771120" y="420696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3" name="PlaceHolder 6"/>
          <p:cNvSpPr>
            <a:spLocks noGrp="1"/>
          </p:cNvSpPr>
          <p:nvPr>
            <p:ph/>
          </p:nvPr>
        </p:nvSpPr>
        <p:spPr>
          <a:xfrm>
            <a:off x="3727440" y="420696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4" name="PlaceHolder 7"/>
          <p:cNvSpPr>
            <a:spLocks noGrp="1"/>
          </p:cNvSpPr>
          <p:nvPr>
            <p:ph/>
          </p:nvPr>
        </p:nvSpPr>
        <p:spPr>
          <a:xfrm>
            <a:off x="6683760" y="420696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C35AE6B-7A20-4F22-BD15-A61C79C67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6414F1-C836-44E4-B0D2-B60D21C0065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77112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771120" y="205740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7765F5-3703-4DCE-9190-684CBCB75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77112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771120" y="205740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6E2596-20E6-46D9-89A7-C6541C69F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77112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771120" y="205740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5252040" y="205740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91C9FB-C36C-4C48-B85C-448ABE480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77112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A9E123-0D99-4FD1-AA11-2467161D6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112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71120" y="205740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9887DD-F4FC-4C4C-B6DE-F775232D8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771120" y="380520"/>
            <a:ext cx="874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883AB4-428A-407F-A14C-E6182BDB5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77112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771120" y="205740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5252040" y="205740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771120" y="420696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B9ED06-A07A-40FF-9AEA-601B10CC9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77112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771120" y="205740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5252040" y="205740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5252040" y="420696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EA90CC-F1A1-4901-A5DD-977C1CA22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77112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771120" y="205740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5252040" y="205740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771120" y="420696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54FF0E-B394-4213-8678-6340D3F28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77112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771120" y="205740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771120" y="420696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8CEFDD-3270-4E81-856B-D90E2FFB1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77112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771120" y="205740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5252040" y="205740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771120" y="420696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5252040" y="420696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19FBCE-17D3-4DAC-AB32-22C86B892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77112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771120" y="205740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727440" y="205740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683760" y="205740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771120" y="420696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727440" y="420696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683760" y="420696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5B0A96-D2D3-48B0-AB5A-22C93B185C5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E4ABC2-1FE8-4C7F-916A-F4EF279F7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77112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 type="subTitle"/>
          </p:nvPr>
        </p:nvSpPr>
        <p:spPr>
          <a:xfrm>
            <a:off x="771120" y="205740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EB5A2C-C6B7-482D-9476-C59C2AF25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77112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771120" y="205740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8DC923-0A7F-4477-A5A6-DBC879856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112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71120" y="205740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252040" y="205740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58AA9A-040D-4EB6-958D-4879E4348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77112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771120" y="205740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5252040" y="205740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0EA35B-8CDA-4069-9D0B-B26DB0F1F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77112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F62B94-3A8D-40FF-8088-1F53FF51B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subTitle"/>
          </p:nvPr>
        </p:nvSpPr>
        <p:spPr>
          <a:xfrm>
            <a:off x="771120" y="380520"/>
            <a:ext cx="874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20E41E-998D-48A6-B34B-72436DD1D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77112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771120" y="205740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5252040" y="205740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771120" y="420696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8B5602-7F49-475E-B27F-BA5E78EAD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77112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771120" y="205740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5252040" y="205740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5252040" y="420696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B522BE-5F81-4D07-954D-BAFB4EB17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77112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771120" y="205740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5252040" y="205740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771120" y="420696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3334C7-5B74-4111-9763-D9689DDF5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77112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771120" y="205740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771120" y="420696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8660F5-658B-48C8-8213-524507C84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77112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771120" y="205740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5252040" y="205740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771120" y="420696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8" name="PlaceHolder 5"/>
          <p:cNvSpPr>
            <a:spLocks noGrp="1"/>
          </p:cNvSpPr>
          <p:nvPr>
            <p:ph/>
          </p:nvPr>
        </p:nvSpPr>
        <p:spPr>
          <a:xfrm>
            <a:off x="5252040" y="420696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6681DF-901E-4AD6-83E2-E8210E578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77112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771120" y="205740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3727440" y="205740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6683760" y="205740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3" name="PlaceHolder 5"/>
          <p:cNvSpPr>
            <a:spLocks noGrp="1"/>
          </p:cNvSpPr>
          <p:nvPr>
            <p:ph/>
          </p:nvPr>
        </p:nvSpPr>
        <p:spPr>
          <a:xfrm>
            <a:off x="771120" y="420696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4" name="PlaceHolder 6"/>
          <p:cNvSpPr>
            <a:spLocks noGrp="1"/>
          </p:cNvSpPr>
          <p:nvPr>
            <p:ph/>
          </p:nvPr>
        </p:nvSpPr>
        <p:spPr>
          <a:xfrm>
            <a:off x="3727440" y="420696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5" name="PlaceHolder 7"/>
          <p:cNvSpPr>
            <a:spLocks noGrp="1"/>
          </p:cNvSpPr>
          <p:nvPr>
            <p:ph/>
          </p:nvPr>
        </p:nvSpPr>
        <p:spPr>
          <a:xfrm>
            <a:off x="6683760" y="420696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6D0C9E-19E4-456D-B42A-0F25D12E1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59E121D-F2CF-4CF0-8B59-0B6B160BF79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7112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072563-BF98-4735-8EAD-D19A2DDB1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77112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 type="subTitle"/>
          </p:nvPr>
        </p:nvSpPr>
        <p:spPr>
          <a:xfrm>
            <a:off x="771120" y="205740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1F11742-CE2A-42E6-B48D-5A41EC0B4F49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77112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771120" y="205740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447DCF5-3156-4A90-81DB-E96B0D1A2BB0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77112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771120" y="205740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5252040" y="205740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E7141C4-830A-4E26-BA71-1602CBBF0D63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77112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C7319F8-7F43-462C-8638-CE9A7F377369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subTitle"/>
          </p:nvPr>
        </p:nvSpPr>
        <p:spPr>
          <a:xfrm>
            <a:off x="771120" y="380520"/>
            <a:ext cx="874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027C0BE-6BF5-490A-8708-F0B2414250D5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77112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771120" y="205740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5252040" y="205740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771120" y="420696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61815C9-EE96-4E07-B62B-D5DBAF379637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77112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771120" y="205740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5252040" y="205740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5252040" y="420696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C12C533-DF4F-45AB-8AA3-39D43A062152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77112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771120" y="205740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5252040" y="205740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771120" y="420696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7A0D730-C3C8-4CBD-9A44-1CB5B19C273E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77112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771120" y="205740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771120" y="420696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75A5CDC-7639-4292-8650-F03C2DF379C6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77112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771120" y="205740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5252040" y="205740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771120" y="420696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5252040" y="420696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746D16E-F30D-410F-82BE-E662FFA58F1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771120" y="380520"/>
            <a:ext cx="874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9DF86B-34D8-492D-A34C-72B6CFD2A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77112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771120" y="205740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3727440" y="205740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6683760" y="205740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8" name="PlaceHolder 5"/>
          <p:cNvSpPr>
            <a:spLocks noGrp="1"/>
          </p:cNvSpPr>
          <p:nvPr>
            <p:ph/>
          </p:nvPr>
        </p:nvSpPr>
        <p:spPr>
          <a:xfrm>
            <a:off x="771120" y="420696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9" name="PlaceHolder 6"/>
          <p:cNvSpPr>
            <a:spLocks noGrp="1"/>
          </p:cNvSpPr>
          <p:nvPr>
            <p:ph/>
          </p:nvPr>
        </p:nvSpPr>
        <p:spPr>
          <a:xfrm>
            <a:off x="3727440" y="420696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0" name="PlaceHolder 7"/>
          <p:cNvSpPr>
            <a:spLocks noGrp="1"/>
          </p:cNvSpPr>
          <p:nvPr>
            <p:ph/>
          </p:nvPr>
        </p:nvSpPr>
        <p:spPr>
          <a:xfrm>
            <a:off x="6683760" y="420696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E758C4F-99C7-44F4-9F10-8F9866FAE20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7112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71120" y="205740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252040" y="205740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771120" y="420696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F30B27-C085-4B29-A0BF-1A0CE84B5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7112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771120" y="205740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9F218-5C86-460A-A8D0-B9FD0C44B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7112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71120" y="205740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52040" y="205740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252040" y="420696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1FDA7C-EA90-4DDD-8D5F-D57AB60BF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7112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71120" y="205740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252040" y="205740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771120" y="420696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4766B2-8C8F-4734-A428-7457EDC81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7112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71120" y="205740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771120" y="420696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C5BC76-1CAB-4286-B062-DF5DCF9A5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112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71120" y="205740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252040" y="205740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771120" y="420696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252040" y="420696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6A022C-3FA1-4378-B47E-3317F98EE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7112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771120" y="205740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727440" y="205740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683760" y="205740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771120" y="420696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727440" y="420696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683760" y="420696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7DCC9B-30C0-4D5A-998A-E63E7063BF4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A83BD73-B1B9-484E-A459-5DCDE49425D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7112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771120" y="205740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35DFA4F-1DEC-44FE-9BEF-CDBDE3505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7112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71120" y="205740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AFDCBCA-37D9-4DF4-9BC1-FD171E79D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7112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71120" y="205740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252040" y="205740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94E90EE-ED77-44B1-A396-ACE2829AC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7112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21A67AD-6606-4CF2-8297-53570E3D0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7112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71120" y="205740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7234E-2898-449B-94B7-BAACD0A24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771120" y="380520"/>
            <a:ext cx="874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646563F-DF81-4A31-AB02-35C817266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7112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71120" y="205740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252040" y="205740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771120" y="420696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BB1B88D-1994-40C1-AD32-0CA20B521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112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71120" y="205740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252040" y="205740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252040" y="420696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65F7F3D-F174-411B-A466-E2AF95505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7112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71120" y="205740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252040" y="205740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771120" y="420696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8055FFA-0B82-45C3-AB3C-8F7CF075A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7112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71120" y="205740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771120" y="420696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93D5EA7-B93B-4C65-8781-68D774BDA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7112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771120" y="205740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252040" y="205740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771120" y="420696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5252040" y="420696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9D2CC9A-71F7-4FD8-9594-8159A6C48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112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71120" y="205740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727440" y="205740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683760" y="205740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771120" y="420696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727440" y="420696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683760" y="420696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7D4F2F6-48D0-40ED-B03B-4D20B138D45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210349-7BF4-4184-89B1-0B4534045D6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7112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771120" y="205740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91B31F-914C-443C-B566-70D7FF972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7112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771120" y="205740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322AED-C789-4B05-820C-526F1EFB2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112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71120" y="205740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52040" y="205740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3AF0B-B171-4BBC-9913-9C93AC9BB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7112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771120" y="205740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252040" y="205740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D5E628-9121-487B-AF17-4A5C4BDDF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7112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0A1496-E8A8-49D8-9896-D143E0028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771120" y="380520"/>
            <a:ext cx="874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9DC191-AD15-4FD7-807A-1A1DE6958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7112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771120" y="205740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252040" y="205740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771120" y="420696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7E33D0-8863-45C8-A1BA-74D9A6705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7112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771120" y="205740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252040" y="205740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5252040" y="420696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F138AB-C467-451E-95C6-B5162AB9B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7112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771120" y="205740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252040" y="205740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771120" y="420696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5E4796-EB7E-4B75-804D-7564500C0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7112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771120" y="205740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771120" y="420696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E20EDF-AC49-42C7-876D-EDC65F364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7112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771120" y="205740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5252040" y="205740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771120" y="420696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252040" y="420696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88BA76-9582-49E6-9964-80874392C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7112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771120" y="205740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727440" y="205740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683760" y="205740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771120" y="420696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727440" y="420696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683760" y="420696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FFBF4C-8F0C-4B6A-94D4-3D5D4E1642B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4E6EDF2-0256-4D9A-A3F3-78691012820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7112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6FDA0-2D89-4F46-95A1-488C1E179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7112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771120" y="205740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CAC0620-9FF9-4FD1-A54E-D5E5A452A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7112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771120" y="205740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AD25B74-95EF-4DF0-837B-76C0576D2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77112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771120" y="205740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252040" y="205740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161A699-21C0-46AD-953D-58DA231C4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77112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8B53D69-BD0F-4AB0-9CD2-3F1720775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771120" y="380520"/>
            <a:ext cx="874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5C30E1A-AE5E-439E-BF0D-B0F29A54A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7112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71120" y="205740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252040" y="205740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771120" y="420696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0B5AAF1-C3CF-4E58-B2CE-F7AB9DF7E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77112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771120" y="205740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52040" y="205740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5252040" y="420696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87AAEAD-7E18-4D9B-8B3B-3F4A9807E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77112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771120" y="205740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52040" y="205740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771120" y="420696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2837450-F0E0-4082-916E-1DB66B20F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77112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771120" y="205740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771120" y="420696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6C7133F-43EB-4659-9307-47F49110F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77112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771120" y="205740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5252040" y="205740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771120" y="420696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5252040" y="420696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E708CA0-6C7B-4B3B-B0A5-13BF3C091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771120" y="380520"/>
            <a:ext cx="874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A52B7-8994-45B4-8279-97137ACF5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7112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771120" y="205740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727440" y="205740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683760" y="205740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771120" y="420696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3727440" y="420696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6683760" y="420696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B146C16-328A-47B9-B893-BB4D61E0790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9E28145-1EDE-4488-B7D6-862B75AF9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77112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771120" y="205740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EBDB23C-B290-480D-9C92-5D68CA99F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77112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771120" y="205740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DB5A553-868B-4F3D-8DB7-A766BE61D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77112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771120" y="205740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5252040" y="205740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AC5FA10-C800-4F09-BEE8-FF39A3F93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77112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6D35B43-56F7-422E-939F-27631250C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771120" y="380520"/>
            <a:ext cx="874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8B9F68F-10BB-4C03-A03B-44CD0C85D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77112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771120" y="205740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5252040" y="205740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771120" y="420696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E86DDF6-DB4E-4825-B436-19C017FE1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77112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771120" y="205740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252040" y="205740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5252040" y="420696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B191434-3433-4135-B901-9B335D85F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77112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771120" y="205740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5252040" y="205740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771120" y="420696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D4A8E4C-842F-46B7-982E-172F1C098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7112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71120" y="205740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52040" y="205740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71120" y="420696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061B4-0686-4140-9184-883BEF4BB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77112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771120" y="205740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771120" y="420696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0FE0515-DA50-4D1A-83A1-5C3C92555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77112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771120" y="205740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5252040" y="205740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771120" y="420696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5252040" y="420696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50D5F33-3A7A-4243-B68D-E3CE4FF13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77112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771120" y="205740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727440" y="205740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683760" y="205740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771120" y="420696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727440" y="420696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683760" y="420696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AFE7362-57D7-493F-80BA-19B3D45AE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1B506C4-4C6B-40D9-9109-BE3945A3031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77112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771120" y="205740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08F1E97-D53E-49A1-BAAA-6F1469B5A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77112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771120" y="205740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9A3158C-8AA4-4ADF-ABAC-12BBF7FFD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77112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771120" y="205740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52040" y="205740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BEA45C9-904D-42FF-89E6-6796D6032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77112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6CDD5A0-79EE-4CE2-84E6-B0C996EF3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771120" y="380520"/>
            <a:ext cx="874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7A9EA74-82D4-4D60-A9AA-820C31F64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77112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771120" y="205740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52040" y="205740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771120" y="420696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029ECB6-A7F7-41B4-A7BA-C38D9647F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7112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71120" y="205740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52040" y="205740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252040" y="420696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4D868-1296-4A20-9B40-BF20CE628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77112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771120" y="205740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52040" y="205740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52040" y="420696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86AA9A1-715F-465A-A142-35D437982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77112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771120" y="205740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52040" y="205740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771120" y="420696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27114AA-3365-4274-9E5E-CC3439760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77112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771120" y="205740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771120" y="420696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15A0C3F-DABB-46A4-9868-77924A8ED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77112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771120" y="205740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52040" y="205740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771120" y="420696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52040" y="420696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0C9F837-965D-42F9-AC5C-37DEACCB6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77112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771120" y="205740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727440" y="205740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683760" y="205740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771120" y="420696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727440" y="420696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683760" y="420696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FAEB526-75E7-4063-AD53-955FA4AE782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19A18EE-E90D-43A3-B396-2B3F0A58B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77112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subTitle"/>
          </p:nvPr>
        </p:nvSpPr>
        <p:spPr>
          <a:xfrm>
            <a:off x="771120" y="205740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66E9BD8-898A-442D-8BA8-0EEA71212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77112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771120" y="205740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41C8EF3-5A77-4F2E-ABA0-4684E7D80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77112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771120" y="205740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252040" y="205740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43BC4C8-CB60-4734-8D58-367B2DC3E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77112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DB2B7D3-7AE6-460E-A5C5-4FBC91C1B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7112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71120" y="205740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252040" y="205740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771120" y="420696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8D7B3-9699-41C8-B3F0-8537578DF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ubTitle"/>
          </p:nvPr>
        </p:nvSpPr>
        <p:spPr>
          <a:xfrm>
            <a:off x="771120" y="380520"/>
            <a:ext cx="874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97C9A27-2843-4295-992D-3493B26FF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77112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771120" y="205740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5252040" y="205740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771120" y="420696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561EAFF-E05B-43CE-B832-14CB018CE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77112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771120" y="205740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5252040" y="205740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5252040" y="420696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F7B160C-D0AE-44FC-AEB0-9370BBEE1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77112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771120" y="205740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5252040" y="205740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771120" y="420696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9CB65CB-0DD6-4978-82D0-FBD8425ED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77112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771120" y="205740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771120" y="420696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0691416-7353-4A65-B6F1-995D87477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77112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771120" y="205740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5252040" y="205740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771120" y="420696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5252040" y="420696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7D0263B-EA07-4FDA-9DC4-822C48ACC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77112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771120" y="205740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3727440" y="205740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683760" y="205740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771120" y="420696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2" name="PlaceHolder 6"/>
          <p:cNvSpPr>
            <a:spLocks noGrp="1"/>
          </p:cNvSpPr>
          <p:nvPr>
            <p:ph/>
          </p:nvPr>
        </p:nvSpPr>
        <p:spPr>
          <a:xfrm>
            <a:off x="3727440" y="420696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3" name="PlaceHolder 7"/>
          <p:cNvSpPr>
            <a:spLocks noGrp="1"/>
          </p:cNvSpPr>
          <p:nvPr>
            <p:ph/>
          </p:nvPr>
        </p:nvSpPr>
        <p:spPr>
          <a:xfrm>
            <a:off x="6683760" y="420696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7DBA2F0-389D-4839-95CB-7652BC607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F7C397-49D9-4153-B3FF-C79129F26C2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77112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771120" y="205740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C00A2B-C34A-4049-8916-65D23476A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77112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771120" y="205740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1631A1-1BCB-49E5-B2FE-32D8ED0B8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"/>
          <p:cNvGrpSpPr/>
          <p:nvPr/>
        </p:nvGrpSpPr>
        <p:grpSpPr>
          <a:xfrm>
            <a:off x="514440" y="992160"/>
            <a:ext cx="9172080" cy="1600200"/>
            <a:chOff x="514440" y="992160"/>
            <a:chExt cx="9172080" cy="1600200"/>
          </a:xfrm>
        </p:grpSpPr>
        <p:sp>
          <p:nvSpPr>
            <p:cNvPr id="1" name="Arc 2"/>
            <p:cNvSpPr/>
            <p:nvPr/>
          </p:nvSpPr>
          <p:spPr>
            <a:xfrm>
              <a:off x="6420240" y="992160"/>
              <a:ext cx="3266280" cy="160020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" name="Arc 3"/>
            <p:cNvSpPr/>
            <p:nvPr/>
          </p:nvSpPr>
          <p:spPr>
            <a:xfrm>
              <a:off x="6336360" y="1157400"/>
              <a:ext cx="3266280" cy="12697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" name="Arc 4"/>
            <p:cNvSpPr/>
            <p:nvPr/>
          </p:nvSpPr>
          <p:spPr>
            <a:xfrm>
              <a:off x="6288480" y="1378080"/>
              <a:ext cx="3267720" cy="8287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4" name="AutoShape 5"/>
            <p:cNvSpPr/>
            <p:nvPr/>
          </p:nvSpPr>
          <p:spPr>
            <a:xfrm>
              <a:off x="514440" y="1708200"/>
              <a:ext cx="890820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7112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771120" y="205740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771120" y="6324480"/>
            <a:ext cx="2143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514320" y="6324480"/>
            <a:ext cx="32576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5295600" y="6324480"/>
            <a:ext cx="42195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University of Missouri  Family Medicine</a:t>
            </a:r>
            <a:r>
              <a:rPr b="0" lang="en-US" sz="14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9" name="Group 6"/>
          <p:cNvGrpSpPr/>
          <p:nvPr/>
        </p:nvGrpSpPr>
        <p:grpSpPr>
          <a:xfrm>
            <a:off x="514440" y="992160"/>
            <a:ext cx="9172080" cy="1600200"/>
            <a:chOff x="514440" y="992160"/>
            <a:chExt cx="9172080" cy="1600200"/>
          </a:xfrm>
        </p:grpSpPr>
        <p:sp>
          <p:nvSpPr>
            <p:cNvPr id="410" name="Arc 2"/>
            <p:cNvSpPr/>
            <p:nvPr/>
          </p:nvSpPr>
          <p:spPr>
            <a:xfrm>
              <a:off x="6420240" y="992160"/>
              <a:ext cx="3266280" cy="160020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411" name="Arc 3"/>
            <p:cNvSpPr/>
            <p:nvPr/>
          </p:nvSpPr>
          <p:spPr>
            <a:xfrm>
              <a:off x="6336360" y="1157400"/>
              <a:ext cx="3266280" cy="12697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412" name="Arc 4"/>
            <p:cNvSpPr/>
            <p:nvPr/>
          </p:nvSpPr>
          <p:spPr>
            <a:xfrm>
              <a:off x="6288480" y="1378080"/>
              <a:ext cx="3267720" cy="8287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413" name="AutoShape 5"/>
            <p:cNvSpPr/>
            <p:nvPr/>
          </p:nvSpPr>
          <p:spPr>
            <a:xfrm>
              <a:off x="514440" y="1708200"/>
              <a:ext cx="890820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</p:grpSp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77112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771120" y="205740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 type="dt" idx="22"/>
          </p:nvPr>
        </p:nvSpPr>
        <p:spPr>
          <a:xfrm>
            <a:off x="771120" y="6324480"/>
            <a:ext cx="2143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 type="sldNum" idx="23"/>
          </p:nvPr>
        </p:nvSpPr>
        <p:spPr>
          <a:xfrm>
            <a:off x="5295600" y="6324480"/>
            <a:ext cx="42195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2D15E-CC4D-48FB-94A5-4C6E8F9398A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4" name="Group 6"/>
          <p:cNvGrpSpPr/>
          <p:nvPr/>
        </p:nvGrpSpPr>
        <p:grpSpPr>
          <a:xfrm>
            <a:off x="514440" y="992160"/>
            <a:ext cx="9172080" cy="1600200"/>
            <a:chOff x="514440" y="992160"/>
            <a:chExt cx="9172080" cy="1600200"/>
          </a:xfrm>
        </p:grpSpPr>
        <p:sp>
          <p:nvSpPr>
            <p:cNvPr id="455" name="Arc 2"/>
            <p:cNvSpPr/>
            <p:nvPr/>
          </p:nvSpPr>
          <p:spPr>
            <a:xfrm>
              <a:off x="6420240" y="992160"/>
              <a:ext cx="3266280" cy="160020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456" name="Arc 3"/>
            <p:cNvSpPr/>
            <p:nvPr/>
          </p:nvSpPr>
          <p:spPr>
            <a:xfrm>
              <a:off x="6336360" y="1157400"/>
              <a:ext cx="3266280" cy="12697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457" name="Arc 4"/>
            <p:cNvSpPr/>
            <p:nvPr/>
          </p:nvSpPr>
          <p:spPr>
            <a:xfrm>
              <a:off x="6288480" y="1378080"/>
              <a:ext cx="3267720" cy="8287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458" name="AutoShape 5"/>
            <p:cNvSpPr/>
            <p:nvPr/>
          </p:nvSpPr>
          <p:spPr>
            <a:xfrm>
              <a:off x="514440" y="1708200"/>
              <a:ext cx="890820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</p:grpSp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77112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1120" y="205740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dt" idx="24"/>
          </p:nvPr>
        </p:nvSpPr>
        <p:spPr>
          <a:xfrm>
            <a:off x="771120" y="6324480"/>
            <a:ext cx="2143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sldNum" idx="25"/>
          </p:nvPr>
        </p:nvSpPr>
        <p:spPr>
          <a:xfrm>
            <a:off x="5295600" y="6324480"/>
            <a:ext cx="42195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6F8BE-13CD-4557-AD6A-AFA74BB89F4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9" name="Group 6"/>
          <p:cNvGrpSpPr/>
          <p:nvPr/>
        </p:nvGrpSpPr>
        <p:grpSpPr>
          <a:xfrm>
            <a:off x="514440" y="992160"/>
            <a:ext cx="9172080" cy="1600200"/>
            <a:chOff x="514440" y="992160"/>
            <a:chExt cx="9172080" cy="1600200"/>
          </a:xfrm>
        </p:grpSpPr>
        <p:sp>
          <p:nvSpPr>
            <p:cNvPr id="500" name="Arc 2"/>
            <p:cNvSpPr/>
            <p:nvPr/>
          </p:nvSpPr>
          <p:spPr>
            <a:xfrm>
              <a:off x="6420240" y="992160"/>
              <a:ext cx="3266280" cy="160020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501" name="Arc 3"/>
            <p:cNvSpPr/>
            <p:nvPr/>
          </p:nvSpPr>
          <p:spPr>
            <a:xfrm>
              <a:off x="6336360" y="1157400"/>
              <a:ext cx="3266280" cy="12697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502" name="Arc 4"/>
            <p:cNvSpPr/>
            <p:nvPr/>
          </p:nvSpPr>
          <p:spPr>
            <a:xfrm>
              <a:off x="6288480" y="1378080"/>
              <a:ext cx="3267720" cy="8287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503" name="AutoShape 5"/>
            <p:cNvSpPr/>
            <p:nvPr/>
          </p:nvSpPr>
          <p:spPr>
            <a:xfrm>
              <a:off x="514440" y="1708200"/>
              <a:ext cx="890820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</p:grpSp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77112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771120" y="205740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 type="dt" idx="26"/>
          </p:nvPr>
        </p:nvSpPr>
        <p:spPr>
          <a:xfrm>
            <a:off x="771120" y="6324480"/>
            <a:ext cx="2143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 type="ftr" idx="27"/>
          </p:nvPr>
        </p:nvSpPr>
        <p:spPr>
          <a:xfrm>
            <a:off x="3514320" y="6324480"/>
            <a:ext cx="32576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University of Missouri - Columbia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Family Medicine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 type="sldNum" idx="28"/>
          </p:nvPr>
        </p:nvSpPr>
        <p:spPr>
          <a:xfrm>
            <a:off x="5295600" y="6324480"/>
            <a:ext cx="42195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C4C2D-8ACA-4B25-B8F2-1D9455E4040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5" name="Group 6"/>
          <p:cNvGrpSpPr/>
          <p:nvPr/>
        </p:nvGrpSpPr>
        <p:grpSpPr>
          <a:xfrm>
            <a:off x="514440" y="992160"/>
            <a:ext cx="9172080" cy="1600200"/>
            <a:chOff x="514440" y="992160"/>
            <a:chExt cx="9172080" cy="1600200"/>
          </a:xfrm>
        </p:grpSpPr>
        <p:sp>
          <p:nvSpPr>
            <p:cNvPr id="546" name="Arc 2"/>
            <p:cNvSpPr/>
            <p:nvPr/>
          </p:nvSpPr>
          <p:spPr>
            <a:xfrm>
              <a:off x="6420240" y="992160"/>
              <a:ext cx="3266280" cy="160020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547" name="Arc 3"/>
            <p:cNvSpPr/>
            <p:nvPr/>
          </p:nvSpPr>
          <p:spPr>
            <a:xfrm>
              <a:off x="6336360" y="1157400"/>
              <a:ext cx="3266280" cy="12697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548" name="Arc 4"/>
            <p:cNvSpPr/>
            <p:nvPr/>
          </p:nvSpPr>
          <p:spPr>
            <a:xfrm>
              <a:off x="6288480" y="1378080"/>
              <a:ext cx="3267720" cy="8287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549" name="AutoShape 5"/>
            <p:cNvSpPr/>
            <p:nvPr/>
          </p:nvSpPr>
          <p:spPr>
            <a:xfrm>
              <a:off x="514440" y="1708200"/>
              <a:ext cx="890820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</p:grp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77112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771120" y="205740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 type="dt" idx="29"/>
          </p:nvPr>
        </p:nvSpPr>
        <p:spPr>
          <a:xfrm>
            <a:off x="771120" y="6399360"/>
            <a:ext cx="2143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 type="sldNum" idx="30"/>
          </p:nvPr>
        </p:nvSpPr>
        <p:spPr>
          <a:xfrm>
            <a:off x="7372080" y="6399360"/>
            <a:ext cx="2143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4223D-9A53-4FD4-A68A-9A3618BEBD9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0" name="Group 6"/>
          <p:cNvGrpSpPr/>
          <p:nvPr/>
        </p:nvGrpSpPr>
        <p:grpSpPr>
          <a:xfrm>
            <a:off x="514440" y="992160"/>
            <a:ext cx="9172080" cy="1600200"/>
            <a:chOff x="514440" y="992160"/>
            <a:chExt cx="9172080" cy="1600200"/>
          </a:xfrm>
        </p:grpSpPr>
        <p:sp>
          <p:nvSpPr>
            <p:cNvPr id="591" name="Arc 2"/>
            <p:cNvSpPr/>
            <p:nvPr/>
          </p:nvSpPr>
          <p:spPr>
            <a:xfrm>
              <a:off x="6420240" y="992160"/>
              <a:ext cx="3266280" cy="160020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592" name="Arc 3"/>
            <p:cNvSpPr/>
            <p:nvPr/>
          </p:nvSpPr>
          <p:spPr>
            <a:xfrm>
              <a:off x="6336360" y="1157400"/>
              <a:ext cx="3266280" cy="12697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593" name="Arc 4"/>
            <p:cNvSpPr/>
            <p:nvPr/>
          </p:nvSpPr>
          <p:spPr>
            <a:xfrm>
              <a:off x="6288480" y="1378080"/>
              <a:ext cx="3267720" cy="8287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594" name="AutoShape 5"/>
            <p:cNvSpPr/>
            <p:nvPr/>
          </p:nvSpPr>
          <p:spPr>
            <a:xfrm>
              <a:off x="514440" y="1708200"/>
              <a:ext cx="890820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</p:grpSp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77112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771120" y="205740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 type="dt" idx="31"/>
          </p:nvPr>
        </p:nvSpPr>
        <p:spPr>
          <a:xfrm>
            <a:off x="771120" y="6399360"/>
            <a:ext cx="2143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 type="ftr" idx="32"/>
          </p:nvPr>
        </p:nvSpPr>
        <p:spPr>
          <a:xfrm>
            <a:off x="3514320" y="6399360"/>
            <a:ext cx="32576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University of Missouri - Columbia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Family Medicine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9" name="PlaceHolder 5"/>
          <p:cNvSpPr>
            <a:spLocks noGrp="1"/>
          </p:cNvSpPr>
          <p:nvPr>
            <p:ph type="sldNum" idx="33"/>
          </p:nvPr>
        </p:nvSpPr>
        <p:spPr>
          <a:xfrm>
            <a:off x="7372080" y="6399360"/>
            <a:ext cx="2143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D4801-DFAC-4077-9DB6-FEEC2C27530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6" name="Group 6"/>
          <p:cNvGrpSpPr/>
          <p:nvPr/>
        </p:nvGrpSpPr>
        <p:grpSpPr>
          <a:xfrm>
            <a:off x="514440" y="992160"/>
            <a:ext cx="9172080" cy="1600200"/>
            <a:chOff x="514440" y="992160"/>
            <a:chExt cx="9172080" cy="1600200"/>
          </a:xfrm>
        </p:grpSpPr>
        <p:sp>
          <p:nvSpPr>
            <p:cNvPr id="637" name="Arc 2"/>
            <p:cNvSpPr/>
            <p:nvPr/>
          </p:nvSpPr>
          <p:spPr>
            <a:xfrm>
              <a:off x="6420240" y="992160"/>
              <a:ext cx="3266280" cy="160020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638" name="Arc 3"/>
            <p:cNvSpPr/>
            <p:nvPr/>
          </p:nvSpPr>
          <p:spPr>
            <a:xfrm>
              <a:off x="6336360" y="1157400"/>
              <a:ext cx="3266280" cy="12697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639" name="Arc 4"/>
            <p:cNvSpPr/>
            <p:nvPr/>
          </p:nvSpPr>
          <p:spPr>
            <a:xfrm>
              <a:off x="6288480" y="1378080"/>
              <a:ext cx="3267720" cy="8287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640" name="AutoShape 5"/>
            <p:cNvSpPr/>
            <p:nvPr/>
          </p:nvSpPr>
          <p:spPr>
            <a:xfrm>
              <a:off x="514440" y="1708200"/>
              <a:ext cx="890820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</p:grpSp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77112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771120" y="205740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 type="ftr" idx="34"/>
          </p:nvPr>
        </p:nvSpPr>
        <p:spPr>
          <a:xfrm>
            <a:off x="3514320" y="6324480"/>
            <a:ext cx="32576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University of Missouri - Columbia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Family Medicine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 type="sldNum" idx="35"/>
          </p:nvPr>
        </p:nvSpPr>
        <p:spPr>
          <a:xfrm>
            <a:off x="5295600" y="6324480"/>
            <a:ext cx="42195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EE6AE-74F8-4CD3-89D3-04B165B23F9F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6"/>
          <p:cNvGrpSpPr/>
          <p:nvPr/>
        </p:nvGrpSpPr>
        <p:grpSpPr>
          <a:xfrm>
            <a:off x="514440" y="2363760"/>
            <a:ext cx="9172080" cy="1600200"/>
            <a:chOff x="514440" y="2363760"/>
            <a:chExt cx="9172080" cy="1600200"/>
          </a:xfrm>
        </p:grpSpPr>
        <p:sp>
          <p:nvSpPr>
            <p:cNvPr id="47" name="Arc 2"/>
            <p:cNvSpPr/>
            <p:nvPr/>
          </p:nvSpPr>
          <p:spPr>
            <a:xfrm>
              <a:off x="6420240" y="2363760"/>
              <a:ext cx="3266280" cy="160020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48" name="Arc 3"/>
            <p:cNvSpPr/>
            <p:nvPr/>
          </p:nvSpPr>
          <p:spPr>
            <a:xfrm>
              <a:off x="6336360" y="2529000"/>
              <a:ext cx="3266280" cy="12697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49" name="Arc 4"/>
            <p:cNvSpPr/>
            <p:nvPr/>
          </p:nvSpPr>
          <p:spPr>
            <a:xfrm>
              <a:off x="6288480" y="2749680"/>
              <a:ext cx="3267720" cy="8287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50" name="AutoShape 5"/>
            <p:cNvSpPr/>
            <p:nvPr/>
          </p:nvSpPr>
          <p:spPr>
            <a:xfrm>
              <a:off x="514440" y="3079800"/>
              <a:ext cx="890820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7112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71120" y="205740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771120" y="6324480"/>
            <a:ext cx="2143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5"/>
          </p:nvPr>
        </p:nvSpPr>
        <p:spPr>
          <a:xfrm>
            <a:off x="5295600" y="6324480"/>
            <a:ext cx="42195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111A7-B199-4BBE-BDB4-66A2E7244DA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Group 6"/>
          <p:cNvGrpSpPr/>
          <p:nvPr/>
        </p:nvGrpSpPr>
        <p:grpSpPr>
          <a:xfrm>
            <a:off x="514440" y="992160"/>
            <a:ext cx="9172080" cy="1600200"/>
            <a:chOff x="514440" y="992160"/>
            <a:chExt cx="9172080" cy="1600200"/>
          </a:xfrm>
        </p:grpSpPr>
        <p:sp>
          <p:nvSpPr>
            <p:cNvPr id="92" name="Arc 2"/>
            <p:cNvSpPr/>
            <p:nvPr/>
          </p:nvSpPr>
          <p:spPr>
            <a:xfrm>
              <a:off x="6420240" y="992160"/>
              <a:ext cx="3266280" cy="160020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93" name="Arc 3"/>
            <p:cNvSpPr/>
            <p:nvPr/>
          </p:nvSpPr>
          <p:spPr>
            <a:xfrm>
              <a:off x="6336360" y="1157400"/>
              <a:ext cx="3266280" cy="12697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94" name="Arc 4"/>
            <p:cNvSpPr/>
            <p:nvPr/>
          </p:nvSpPr>
          <p:spPr>
            <a:xfrm>
              <a:off x="6288480" y="1378080"/>
              <a:ext cx="3267720" cy="8287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95" name="AutoShape 5"/>
            <p:cNvSpPr/>
            <p:nvPr/>
          </p:nvSpPr>
          <p:spPr>
            <a:xfrm>
              <a:off x="514440" y="1708200"/>
              <a:ext cx="890820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</p:grpSp>
      <p:sp>
        <p:nvSpPr>
          <p:cNvPr id="96" name="Footer Placeholder 2"/>
          <p:cNvSpPr/>
          <p:nvPr/>
        </p:nvSpPr>
        <p:spPr>
          <a:xfrm>
            <a:off x="6772320" y="6477120"/>
            <a:ext cx="35146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7112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1120" y="205740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6"/>
          </p:nvPr>
        </p:nvSpPr>
        <p:spPr>
          <a:xfrm>
            <a:off x="771120" y="6324480"/>
            <a:ext cx="2143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sldNum" idx="7"/>
          </p:nvPr>
        </p:nvSpPr>
        <p:spPr>
          <a:xfrm>
            <a:off x="5295600" y="6324480"/>
            <a:ext cx="42195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Group 6"/>
          <p:cNvGrpSpPr/>
          <p:nvPr/>
        </p:nvGrpSpPr>
        <p:grpSpPr>
          <a:xfrm>
            <a:off x="514440" y="992160"/>
            <a:ext cx="9172080" cy="1600200"/>
            <a:chOff x="514440" y="992160"/>
            <a:chExt cx="9172080" cy="1600200"/>
          </a:xfrm>
        </p:grpSpPr>
        <p:sp>
          <p:nvSpPr>
            <p:cNvPr id="138" name="Arc 2"/>
            <p:cNvSpPr/>
            <p:nvPr/>
          </p:nvSpPr>
          <p:spPr>
            <a:xfrm>
              <a:off x="6420240" y="992160"/>
              <a:ext cx="3266280" cy="160020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39" name="Arc 3"/>
            <p:cNvSpPr/>
            <p:nvPr/>
          </p:nvSpPr>
          <p:spPr>
            <a:xfrm>
              <a:off x="6336360" y="1157400"/>
              <a:ext cx="3266280" cy="12697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40" name="Arc 4"/>
            <p:cNvSpPr/>
            <p:nvPr/>
          </p:nvSpPr>
          <p:spPr>
            <a:xfrm>
              <a:off x="6288480" y="1378080"/>
              <a:ext cx="3267720" cy="8287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41" name="AutoShape 5"/>
            <p:cNvSpPr/>
            <p:nvPr/>
          </p:nvSpPr>
          <p:spPr>
            <a:xfrm>
              <a:off x="514440" y="1708200"/>
              <a:ext cx="890820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</p:grp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7112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771120" y="205740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dt" idx="8"/>
          </p:nvPr>
        </p:nvSpPr>
        <p:spPr>
          <a:xfrm>
            <a:off x="771120" y="6324480"/>
            <a:ext cx="2143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sldNum" idx="9"/>
          </p:nvPr>
        </p:nvSpPr>
        <p:spPr>
          <a:xfrm>
            <a:off x="5295600" y="6324480"/>
            <a:ext cx="42195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A5FD0-8986-4E88-B5A3-E018E8634A9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2" name="Group 6"/>
          <p:cNvGrpSpPr/>
          <p:nvPr/>
        </p:nvGrpSpPr>
        <p:grpSpPr>
          <a:xfrm>
            <a:off x="514440" y="992160"/>
            <a:ext cx="9172080" cy="1600200"/>
            <a:chOff x="514440" y="992160"/>
            <a:chExt cx="9172080" cy="1600200"/>
          </a:xfrm>
        </p:grpSpPr>
        <p:sp>
          <p:nvSpPr>
            <p:cNvPr id="183" name="Arc 2"/>
            <p:cNvSpPr/>
            <p:nvPr/>
          </p:nvSpPr>
          <p:spPr>
            <a:xfrm>
              <a:off x="6420240" y="992160"/>
              <a:ext cx="3266280" cy="160020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84" name="Arc 3"/>
            <p:cNvSpPr/>
            <p:nvPr/>
          </p:nvSpPr>
          <p:spPr>
            <a:xfrm>
              <a:off x="6336360" y="1157400"/>
              <a:ext cx="3266280" cy="12697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85" name="Arc 4"/>
            <p:cNvSpPr/>
            <p:nvPr/>
          </p:nvSpPr>
          <p:spPr>
            <a:xfrm>
              <a:off x="6288480" y="1378080"/>
              <a:ext cx="3267720" cy="8287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86" name="AutoShape 5"/>
            <p:cNvSpPr/>
            <p:nvPr/>
          </p:nvSpPr>
          <p:spPr>
            <a:xfrm>
              <a:off x="514440" y="1708200"/>
              <a:ext cx="890820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</p:grp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77112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771120" y="205740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0"/>
          </p:nvPr>
        </p:nvSpPr>
        <p:spPr>
          <a:xfrm>
            <a:off x="771120" y="6324480"/>
            <a:ext cx="2143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sldNum" idx="11"/>
          </p:nvPr>
        </p:nvSpPr>
        <p:spPr>
          <a:xfrm>
            <a:off x="5295600" y="6324480"/>
            <a:ext cx="42195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E108A-5B07-4B18-920B-7AB466E91A4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7" name="Group 6"/>
          <p:cNvGrpSpPr/>
          <p:nvPr/>
        </p:nvGrpSpPr>
        <p:grpSpPr>
          <a:xfrm>
            <a:off x="514440" y="992160"/>
            <a:ext cx="9172080" cy="1600200"/>
            <a:chOff x="514440" y="992160"/>
            <a:chExt cx="9172080" cy="1600200"/>
          </a:xfrm>
        </p:grpSpPr>
        <p:sp>
          <p:nvSpPr>
            <p:cNvPr id="228" name="Arc 2"/>
            <p:cNvSpPr/>
            <p:nvPr/>
          </p:nvSpPr>
          <p:spPr>
            <a:xfrm>
              <a:off x="6420240" y="992160"/>
              <a:ext cx="3266280" cy="160020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29" name="Arc 3"/>
            <p:cNvSpPr/>
            <p:nvPr/>
          </p:nvSpPr>
          <p:spPr>
            <a:xfrm>
              <a:off x="6336360" y="1157400"/>
              <a:ext cx="3266280" cy="12697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30" name="Arc 4"/>
            <p:cNvSpPr/>
            <p:nvPr/>
          </p:nvSpPr>
          <p:spPr>
            <a:xfrm>
              <a:off x="6288480" y="1378080"/>
              <a:ext cx="3267720" cy="8287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31" name="AutoShape 5"/>
            <p:cNvSpPr/>
            <p:nvPr/>
          </p:nvSpPr>
          <p:spPr>
            <a:xfrm>
              <a:off x="514440" y="1708200"/>
              <a:ext cx="890820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</p:grp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77112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771120" y="205740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2"/>
          </p:nvPr>
        </p:nvSpPr>
        <p:spPr>
          <a:xfrm>
            <a:off x="771120" y="6324480"/>
            <a:ext cx="2143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3"/>
          </p:nvPr>
        </p:nvSpPr>
        <p:spPr>
          <a:xfrm>
            <a:off x="3514320" y="6324480"/>
            <a:ext cx="32576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University of Missouri - Columbia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Family Medicine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4"/>
          </p:nvPr>
        </p:nvSpPr>
        <p:spPr>
          <a:xfrm>
            <a:off x="5295600" y="6324480"/>
            <a:ext cx="42195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8FD01-D8C0-4D34-BDF6-7C85EA4FB27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Group 6"/>
          <p:cNvGrpSpPr/>
          <p:nvPr/>
        </p:nvGrpSpPr>
        <p:grpSpPr>
          <a:xfrm>
            <a:off x="514440" y="992160"/>
            <a:ext cx="9172080" cy="1600200"/>
            <a:chOff x="514440" y="992160"/>
            <a:chExt cx="9172080" cy="1600200"/>
          </a:xfrm>
        </p:grpSpPr>
        <p:sp>
          <p:nvSpPr>
            <p:cNvPr id="274" name="Arc 2"/>
            <p:cNvSpPr/>
            <p:nvPr/>
          </p:nvSpPr>
          <p:spPr>
            <a:xfrm>
              <a:off x="6420240" y="992160"/>
              <a:ext cx="3266280" cy="160020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75" name="Arc 3"/>
            <p:cNvSpPr/>
            <p:nvPr/>
          </p:nvSpPr>
          <p:spPr>
            <a:xfrm>
              <a:off x="6336360" y="1157400"/>
              <a:ext cx="3266280" cy="12697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76" name="Arc 4"/>
            <p:cNvSpPr/>
            <p:nvPr/>
          </p:nvSpPr>
          <p:spPr>
            <a:xfrm>
              <a:off x="6288480" y="1378080"/>
              <a:ext cx="3267720" cy="8287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77" name="AutoShape 5"/>
            <p:cNvSpPr/>
            <p:nvPr/>
          </p:nvSpPr>
          <p:spPr>
            <a:xfrm>
              <a:off x="514440" y="1708200"/>
              <a:ext cx="890820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</p:grp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77112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771120" y="205740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 type="dt" idx="15"/>
          </p:nvPr>
        </p:nvSpPr>
        <p:spPr>
          <a:xfrm>
            <a:off x="771120" y="6324480"/>
            <a:ext cx="2143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 type="sldNum" idx="16"/>
          </p:nvPr>
        </p:nvSpPr>
        <p:spPr>
          <a:xfrm>
            <a:off x="5295600" y="6324480"/>
            <a:ext cx="42195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207B2-AF0E-4C93-ADBC-0855E95D9E7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8" name="Group 6"/>
          <p:cNvGrpSpPr/>
          <p:nvPr/>
        </p:nvGrpSpPr>
        <p:grpSpPr>
          <a:xfrm>
            <a:off x="514440" y="992160"/>
            <a:ext cx="9172080" cy="1600200"/>
            <a:chOff x="514440" y="992160"/>
            <a:chExt cx="9172080" cy="1600200"/>
          </a:xfrm>
        </p:grpSpPr>
        <p:sp>
          <p:nvSpPr>
            <p:cNvPr id="319" name="Arc 2"/>
            <p:cNvSpPr/>
            <p:nvPr/>
          </p:nvSpPr>
          <p:spPr>
            <a:xfrm>
              <a:off x="6420240" y="992160"/>
              <a:ext cx="3266280" cy="160020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20" name="Arc 3"/>
            <p:cNvSpPr/>
            <p:nvPr/>
          </p:nvSpPr>
          <p:spPr>
            <a:xfrm>
              <a:off x="6336360" y="1157400"/>
              <a:ext cx="3266280" cy="12697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21" name="Arc 4"/>
            <p:cNvSpPr/>
            <p:nvPr/>
          </p:nvSpPr>
          <p:spPr>
            <a:xfrm>
              <a:off x="6288480" y="1378080"/>
              <a:ext cx="3267720" cy="8287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22" name="AutoShape 5"/>
            <p:cNvSpPr/>
            <p:nvPr/>
          </p:nvSpPr>
          <p:spPr>
            <a:xfrm>
              <a:off x="514440" y="1708200"/>
              <a:ext cx="890820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</p:grpSp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77112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771120" y="205740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 type="dt" idx="17"/>
          </p:nvPr>
        </p:nvSpPr>
        <p:spPr>
          <a:xfrm>
            <a:off x="771120" y="6324480"/>
            <a:ext cx="2143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 type="ftr" idx="18"/>
          </p:nvPr>
        </p:nvSpPr>
        <p:spPr>
          <a:xfrm>
            <a:off x="3514320" y="6324480"/>
            <a:ext cx="32576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University of Missouri - Columbia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Family Medicine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 type="sldNum" idx="19"/>
          </p:nvPr>
        </p:nvSpPr>
        <p:spPr>
          <a:xfrm>
            <a:off x="5295600" y="6324480"/>
            <a:ext cx="42195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05A0C-0F9F-46FF-B407-A922CFDB36E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4" name="Group 6"/>
          <p:cNvGrpSpPr/>
          <p:nvPr/>
        </p:nvGrpSpPr>
        <p:grpSpPr>
          <a:xfrm>
            <a:off x="514440" y="992160"/>
            <a:ext cx="9172080" cy="1600200"/>
            <a:chOff x="514440" y="992160"/>
            <a:chExt cx="9172080" cy="1600200"/>
          </a:xfrm>
        </p:grpSpPr>
        <p:sp>
          <p:nvSpPr>
            <p:cNvPr id="365" name="Arc 2"/>
            <p:cNvSpPr/>
            <p:nvPr/>
          </p:nvSpPr>
          <p:spPr>
            <a:xfrm>
              <a:off x="6420240" y="992160"/>
              <a:ext cx="3266280" cy="160020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66" name="Arc 3"/>
            <p:cNvSpPr/>
            <p:nvPr/>
          </p:nvSpPr>
          <p:spPr>
            <a:xfrm>
              <a:off x="6336360" y="1157400"/>
              <a:ext cx="3266280" cy="12697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67" name="Arc 4"/>
            <p:cNvSpPr/>
            <p:nvPr/>
          </p:nvSpPr>
          <p:spPr>
            <a:xfrm>
              <a:off x="6288480" y="1378080"/>
              <a:ext cx="3267720" cy="8287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68" name="AutoShape 5"/>
            <p:cNvSpPr/>
            <p:nvPr/>
          </p:nvSpPr>
          <p:spPr>
            <a:xfrm>
              <a:off x="514440" y="1708200"/>
              <a:ext cx="890820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</p:grp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77112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1120" y="205740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0"/>
          </p:nvPr>
        </p:nvSpPr>
        <p:spPr>
          <a:xfrm>
            <a:off x="771120" y="6324480"/>
            <a:ext cx="2143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sldNum" idx="21"/>
          </p:nvPr>
        </p:nvSpPr>
        <p:spPr>
          <a:xfrm>
            <a:off x="5295600" y="6324480"/>
            <a:ext cx="42195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07E99-922F-4D69-9532-747DC4330F2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google.com/url?q=http://www.answers.com/early&amp;r=67&amp;ei=vLd0Sq71CcO_tgfrrNGWCQ&amp;sa=X&amp;oi=dict&amp;ct=D&amp;cd=1&amp;usg=AFQjCNGsqGDEf5wPEkDECRPKJX5LxcDYuA" TargetMode="External"/><Relationship Id="rId2" Type="http://schemas.openxmlformats.org/officeDocument/2006/relationships/hyperlink" Target="http://www.google.com/url?q=http://www.answers.com/detection&amp;r=67&amp;ei=vLd0Sq71CcO_tgfrrNGWCQ&amp;sa=X&amp;oi=dict&amp;ct=D&amp;cd=2&amp;usg=AFQjCNG1qnTMpAuQuk5Lmjlm8LPtRJK14g" TargetMode="External"/><Relationship Id="rId3" Type="http://schemas.openxmlformats.org/officeDocument/2006/relationships/hyperlink" Target="http://www.google.com/url?q=http://www.answers.com/early&amp;r=67&amp;ei=q9unSsrJEYPWNZLY4JoI&amp;sa=X&amp;oi=dict&amp;ct=D&amp;cd=1&amp;usg=AFQjCNEdrray9uwBPFzegVcGaTzEqcZnxQ" TargetMode="External"/><Relationship Id="rId4" Type="http://schemas.openxmlformats.org/officeDocument/2006/relationships/hyperlink" Target="http://www.google.com/url?q=http://www.answers.com/detection&amp;r=67&amp;ei=q9unSsrJEYPWNZLY4JoI&amp;sa=X&amp;oi=dict&amp;ct=D&amp;cd=2&amp;usg=AFQjCNHyut7LXG053G7cLdlG7mRWqPbZnQ" TargetMode="External"/><Relationship Id="rId5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69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9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771120" y="144756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What Not to Do in Primary Care: Overuse of Preventive Services </a:t>
            </a:r>
            <a:br>
              <a:rPr sz="4400"/>
            </a:b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812520" y="738000"/>
            <a:ext cx="8744040" cy="136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66"/>
                </a:solidFill>
                <a:latin typeface="Times New Roman"/>
              </a:rPr>
              <a:t>EARLY DETECTION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812520" y="-762120"/>
            <a:ext cx="8744040" cy="150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wo of the most expensive words in health car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720" name="Picture 5" descr="male"/>
          <p:cNvPicPr/>
          <p:nvPr/>
        </p:nvPicPr>
        <p:blipFill>
          <a:blip r:embed="rId1"/>
          <a:stretch/>
        </p:blipFill>
        <p:spPr>
          <a:xfrm>
            <a:off x="3314880" y="1981080"/>
            <a:ext cx="253512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75" dur="5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812520" y="152280"/>
            <a:ext cx="8744040" cy="136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66"/>
                </a:solidFill>
                <a:latin typeface="Times New Roman"/>
              </a:rPr>
              <a:t>EARLY DETECTION IS A NATIONAL OBSESSION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22" name="Footer Placeholder 3"/>
          <p:cNvSpPr/>
          <p:nvPr/>
        </p:nvSpPr>
        <p:spPr>
          <a:xfrm>
            <a:off x="26676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University of Missouri - Columbia </a:t>
            </a:r>
            <a:endParaRPr b="0" lang="en-US" sz="14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Family Medicine</a:t>
            </a:r>
            <a:r>
              <a:rPr b="0" lang="en-US" sz="1400" spc="-1" strike="noStrike">
                <a:solidFill>
                  <a:srgbClr val="ffffcc"/>
                </a:solidFill>
                <a:latin typeface="Book Antiqua"/>
              </a:rPr>
              <a:t> </a:t>
            </a:r>
            <a:endParaRPr b="0" lang="en-US" sz="1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723" name="Picture 2" descr="woman"/>
          <p:cNvPicPr/>
          <p:nvPr/>
        </p:nvPicPr>
        <p:blipFill>
          <a:blip r:embed="rId1"/>
          <a:stretch/>
        </p:blipFill>
        <p:spPr>
          <a:xfrm>
            <a:off x="3162240" y="2133720"/>
            <a:ext cx="312912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84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19040" y="304560"/>
            <a:ext cx="925848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cc66"/>
                </a:solidFill>
                <a:latin typeface="Times New Roman"/>
              </a:rPr>
              <a:t>Early Detection:  A National Obsession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25" name=""/>
          <p:cNvSpPr txBox="1"/>
          <p:nvPr/>
        </p:nvSpPr>
        <p:spPr>
          <a:xfrm>
            <a:off x="771120" y="205740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Microsoft Sans Serif"/>
                <a:ea typeface="Microsoft Sans Serif"/>
              </a:rPr>
              <a:t>Google: August 1, 2009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Microsoft Sans Serif"/>
                <a:ea typeface="Microsoft Sans Serif"/>
              </a:rPr>
              <a:t>Results </a:t>
            </a:r>
            <a:r>
              <a:rPr b="1" lang="en-US" sz="2400" spc="-1" strike="noStrike">
                <a:solidFill>
                  <a:srgbClr val="ffffcc"/>
                </a:solidFill>
                <a:latin typeface="Microsoft Sans Serif"/>
                <a:ea typeface="Microsoft Sans Serif"/>
              </a:rPr>
              <a:t>1</a:t>
            </a:r>
            <a:r>
              <a:rPr b="0" lang="en-US" sz="2400" spc="-1" strike="noStrike">
                <a:solidFill>
                  <a:srgbClr val="ffffcc"/>
                </a:solidFill>
                <a:latin typeface="Microsoft Sans Serif"/>
                <a:ea typeface="Microsoft Sans Serif"/>
              </a:rPr>
              <a:t> - </a:t>
            </a:r>
            <a:r>
              <a:rPr b="1" lang="en-US" sz="2400" spc="-1" strike="noStrike">
                <a:solidFill>
                  <a:srgbClr val="ffffcc"/>
                </a:solidFill>
                <a:latin typeface="Microsoft Sans Serif"/>
                <a:ea typeface="Microsoft Sans Serif"/>
              </a:rPr>
              <a:t>10</a:t>
            </a:r>
            <a:r>
              <a:rPr b="0" lang="en-US" sz="2400" spc="-1" strike="noStrike">
                <a:solidFill>
                  <a:srgbClr val="ffffcc"/>
                </a:solidFill>
                <a:latin typeface="Microsoft Sans Serif"/>
                <a:ea typeface="Microsoft Sans Serif"/>
              </a:rPr>
              <a:t> of about </a:t>
            </a:r>
            <a:r>
              <a:rPr b="1" lang="en-US" sz="2400" spc="-1" strike="noStrike">
                <a:solidFill>
                  <a:srgbClr val="ffffcc"/>
                </a:solidFill>
                <a:latin typeface="Microsoft Sans Serif"/>
                <a:ea typeface="Microsoft Sans Serif"/>
              </a:rPr>
              <a:t>7,070,000</a:t>
            </a:r>
            <a:r>
              <a:rPr b="0" lang="en-US" sz="2400" spc="-1" strike="noStrike">
                <a:solidFill>
                  <a:srgbClr val="ffffcc"/>
                </a:solidFill>
                <a:latin typeface="Microsoft Sans Serif"/>
                <a:ea typeface="Microsoft Sans Serif"/>
              </a:rPr>
              <a:t> for </a:t>
            </a:r>
            <a:r>
              <a:rPr b="0" lang="en-US" sz="2400" spc="-1" strike="noStrike" u="sng">
                <a:solidFill>
                  <a:srgbClr val="cc00cc"/>
                </a:solidFill>
                <a:uFillTx/>
                <a:latin typeface="Microsoft Sans Serif"/>
                <a:ea typeface="Microsoft Sans Serif"/>
                <a:hlinkClick r:id="rId1"/>
              </a:rPr>
              <a:t>early</a:t>
            </a:r>
            <a:r>
              <a:rPr b="1" lang="en-US" sz="2400" spc="-1" strike="noStrike">
                <a:solidFill>
                  <a:srgbClr val="ffffcc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400" spc="-1" strike="noStrike" u="sng">
                <a:solidFill>
                  <a:srgbClr val="cc00cc"/>
                </a:solidFill>
                <a:uFillTx/>
                <a:latin typeface="Microsoft Sans Serif"/>
                <a:ea typeface="Microsoft Sans Serif"/>
                <a:hlinkClick r:id="rId2"/>
              </a:rPr>
              <a:t>detection</a:t>
            </a:r>
            <a:r>
              <a:rPr b="0" lang="en-US" sz="2400" spc="-1" strike="noStrike">
                <a:solidFill>
                  <a:srgbClr val="ffffcc"/>
                </a:solidFill>
                <a:latin typeface="Microsoft Sans Serif"/>
                <a:ea typeface="Microsoft Sans Serif"/>
              </a:rPr>
              <a:t>. (</a:t>
            </a:r>
            <a:r>
              <a:rPr b="1" lang="en-US" sz="2400" spc="-1" strike="noStrike">
                <a:solidFill>
                  <a:srgbClr val="ffffcc"/>
                </a:solidFill>
                <a:latin typeface="Microsoft Sans Serif"/>
                <a:ea typeface="Microsoft Sans Serif"/>
              </a:rPr>
              <a:t>0.32</a:t>
            </a:r>
            <a:r>
              <a:rPr b="0" lang="en-US" sz="2400" spc="-1" strike="noStrike">
                <a:solidFill>
                  <a:srgbClr val="ffffcc"/>
                </a:solidFill>
                <a:latin typeface="Microsoft Sans Serif"/>
                <a:ea typeface="Microsoft Sans Serif"/>
              </a:rPr>
              <a:t> seconds)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Microsoft Sans Serif"/>
                <a:ea typeface="Microsoft Sans Serif"/>
              </a:rPr>
              <a:t>Google: September 9, 2009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Microsoft Sans Serif"/>
                <a:ea typeface="Microsoft Sans Serif"/>
              </a:rPr>
              <a:t> </a:t>
            </a:r>
            <a:r>
              <a:rPr b="0" lang="en-US" sz="2400" spc="-1" strike="noStrike">
                <a:solidFill>
                  <a:srgbClr val="ffffcc"/>
                </a:solidFill>
                <a:latin typeface="Microsoft Sans Serif"/>
                <a:ea typeface="Microsoft Sans Serif"/>
              </a:rPr>
              <a:t>Results </a:t>
            </a:r>
            <a:r>
              <a:rPr b="1" lang="en-US" sz="2400" spc="-1" strike="noStrike">
                <a:solidFill>
                  <a:srgbClr val="ffffcc"/>
                </a:solidFill>
                <a:latin typeface="Microsoft Sans Serif"/>
                <a:ea typeface="Microsoft Sans Serif"/>
              </a:rPr>
              <a:t>1</a:t>
            </a:r>
            <a:r>
              <a:rPr b="0" lang="en-US" sz="2400" spc="-1" strike="noStrike">
                <a:solidFill>
                  <a:srgbClr val="ffffcc"/>
                </a:solidFill>
                <a:latin typeface="Microsoft Sans Serif"/>
                <a:ea typeface="Microsoft Sans Serif"/>
              </a:rPr>
              <a:t> - </a:t>
            </a:r>
            <a:r>
              <a:rPr b="1" lang="en-US" sz="2400" spc="-1" strike="noStrike">
                <a:solidFill>
                  <a:srgbClr val="ffffcc"/>
                </a:solidFill>
                <a:latin typeface="Microsoft Sans Serif"/>
                <a:ea typeface="Microsoft Sans Serif"/>
              </a:rPr>
              <a:t>10</a:t>
            </a:r>
            <a:r>
              <a:rPr b="0" lang="en-US" sz="2400" spc="-1" strike="noStrike">
                <a:solidFill>
                  <a:srgbClr val="ffffcc"/>
                </a:solidFill>
                <a:latin typeface="Microsoft Sans Serif"/>
                <a:ea typeface="Microsoft Sans Serif"/>
              </a:rPr>
              <a:t> of about </a:t>
            </a:r>
            <a:r>
              <a:rPr b="1" lang="en-US" sz="2400" spc="-1" strike="noStrike">
                <a:solidFill>
                  <a:srgbClr val="ffffcc"/>
                </a:solidFill>
                <a:latin typeface="Microsoft Sans Serif"/>
                <a:ea typeface="Microsoft Sans Serif"/>
              </a:rPr>
              <a:t>8,210,000</a:t>
            </a:r>
            <a:r>
              <a:rPr b="0" lang="en-US" sz="2400" spc="-1" strike="noStrike">
                <a:solidFill>
                  <a:srgbClr val="ffffcc"/>
                </a:solidFill>
                <a:latin typeface="Microsoft Sans Serif"/>
                <a:ea typeface="Microsoft Sans Serif"/>
              </a:rPr>
              <a:t> for </a:t>
            </a:r>
            <a:r>
              <a:rPr b="0" lang="en-US" sz="2400" spc="-1" strike="noStrike" u="sng">
                <a:solidFill>
                  <a:srgbClr val="cc00cc"/>
                </a:solidFill>
                <a:uFillTx/>
                <a:latin typeface="Microsoft Sans Serif"/>
                <a:ea typeface="Microsoft Sans Serif"/>
                <a:hlinkClick r:id="rId3"/>
              </a:rPr>
              <a:t>early</a:t>
            </a:r>
            <a:r>
              <a:rPr b="1" lang="en-US" sz="2400" spc="-1" strike="noStrike">
                <a:solidFill>
                  <a:srgbClr val="ffffcc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400" spc="-1" strike="noStrike" u="sng">
                <a:solidFill>
                  <a:srgbClr val="cc00cc"/>
                </a:solidFill>
                <a:uFillTx/>
                <a:latin typeface="Microsoft Sans Serif"/>
                <a:ea typeface="Microsoft Sans Serif"/>
                <a:hlinkClick r:id="rId4"/>
              </a:rPr>
              <a:t>detection</a:t>
            </a:r>
            <a:r>
              <a:rPr b="0" lang="en-US" sz="2400" spc="-1" strike="noStrike">
                <a:solidFill>
                  <a:srgbClr val="ffffcc"/>
                </a:solidFill>
                <a:latin typeface="Microsoft Sans Serif"/>
                <a:ea typeface="Microsoft Sans Serif"/>
              </a:rPr>
              <a:t>. (</a:t>
            </a:r>
            <a:r>
              <a:rPr b="1" lang="en-US" sz="2400" spc="-1" strike="noStrike">
                <a:solidFill>
                  <a:srgbClr val="ffffcc"/>
                </a:solidFill>
                <a:latin typeface="Microsoft Sans Serif"/>
                <a:ea typeface="Microsoft Sans Serif"/>
              </a:rPr>
              <a:t>0.36</a:t>
            </a:r>
            <a:r>
              <a:rPr b="0" lang="en-US" sz="2400" spc="-1" strike="noStrike">
                <a:solidFill>
                  <a:srgbClr val="ffffcc"/>
                </a:solidFill>
                <a:latin typeface="Microsoft Sans Serif"/>
                <a:ea typeface="Microsoft Sans Serif"/>
              </a:rPr>
              <a:t> seconds</a:t>
            </a:r>
            <a:r>
              <a:rPr b="0" lang="en-US" sz="2800" spc="-1" strike="noStrike">
                <a:solidFill>
                  <a:srgbClr val="ffffcc"/>
                </a:solidFill>
                <a:latin typeface="Microsoft Sans Serif"/>
                <a:ea typeface="Microsoft Sans Serif"/>
              </a:rPr>
              <a:t>) 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Microsoft Sans Serif"/>
                <a:ea typeface="Microsoft Sans Serif"/>
              </a:rPr>
              <a:t>Spreading faster than swine flu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6" name="Footer Placeholder 3"/>
          <p:cNvSpPr/>
          <p:nvPr/>
        </p:nvSpPr>
        <p:spPr>
          <a:xfrm>
            <a:off x="771480" y="632448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University of Missouri - Columbia </a:t>
            </a:r>
            <a:endParaRPr b="0" lang="en-US" sz="14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Family Medicine</a:t>
            </a:r>
            <a:r>
              <a:rPr b="0" lang="en-US" sz="1400" spc="-1" strike="noStrike">
                <a:solidFill>
                  <a:srgbClr val="ffffcc"/>
                </a:solidFill>
                <a:latin typeface="Book Antiqua"/>
              </a:rPr>
              <a:t> </a:t>
            </a:r>
            <a:endParaRPr b="0" lang="en-US" sz="1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771120" y="144756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A word about early detection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 type="subTitle"/>
          </p:nvPr>
        </p:nvSpPr>
        <p:spPr>
          <a:xfrm>
            <a:off x="1542600" y="3733920"/>
            <a:ext cx="720108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e most common response is “why not?”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9" name="Footer Placeholder 3"/>
          <p:cNvSpPr/>
          <p:nvPr/>
        </p:nvSpPr>
        <p:spPr>
          <a:xfrm>
            <a:off x="514440" y="6095880"/>
            <a:ext cx="8486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University of Missouri - Columbia </a:t>
            </a:r>
            <a:endParaRPr b="0" lang="en-US" sz="14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Family Medicine</a:t>
            </a:r>
            <a:r>
              <a:rPr b="0" lang="en-US" sz="1400" spc="-1" strike="noStrike">
                <a:solidFill>
                  <a:srgbClr val="ffffcc"/>
                </a:solidFill>
                <a:latin typeface="Book Antiqua"/>
              </a:rPr>
              <a:t> </a:t>
            </a:r>
            <a:endParaRPr b="0" lang="en-US" sz="1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77112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Tip of the Iceberg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731" name="Content Placeholder 4" descr="iceberg"/>
          <p:cNvPicPr/>
          <p:nvPr/>
        </p:nvPicPr>
        <p:blipFill>
          <a:blip r:embed="rId1"/>
          <a:stretch/>
        </p:blipFill>
        <p:spPr>
          <a:xfrm>
            <a:off x="571680" y="914400"/>
            <a:ext cx="3325680" cy="4525920"/>
          </a:xfrm>
          <a:prstGeom prst="rect">
            <a:avLst/>
          </a:prstGeom>
          <a:ln w="0">
            <a:noFill/>
          </a:ln>
        </p:spPr>
      </p:pic>
      <p:sp>
        <p:nvSpPr>
          <p:cNvPr id="732" name="Footer Placeholder 3"/>
          <p:cNvSpPr/>
          <p:nvPr/>
        </p:nvSpPr>
        <p:spPr>
          <a:xfrm>
            <a:off x="0" y="632448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University of Missouri - Columbia </a:t>
            </a:r>
            <a:endParaRPr b="0" lang="en-US" sz="14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Family Medicine</a:t>
            </a:r>
            <a:r>
              <a:rPr b="0" lang="en-US" sz="1400" spc="-1" strike="noStrike">
                <a:solidFill>
                  <a:srgbClr val="ffffcc"/>
                </a:solidFill>
                <a:latin typeface="Book Antiqua"/>
              </a:rPr>
              <a:t> </a:t>
            </a:r>
            <a:endParaRPr b="0" lang="en-US" sz="1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33" name="TextBox 4"/>
          <p:cNvSpPr/>
          <p:nvPr/>
        </p:nvSpPr>
        <p:spPr>
          <a:xfrm>
            <a:off x="4381560" y="2819520"/>
            <a:ext cx="53341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r </a:t>
            </a:r>
            <a:r>
              <a:rPr b="0" i="1" lang="en-US" sz="3200" spc="-1" strike="noStrike">
                <a:solidFill>
                  <a:srgbClr val="ffffcc"/>
                </a:solidFill>
                <a:latin typeface="Arial"/>
              </a:rPr>
              <a:t>all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diseases, that which is clinically apparent without “looking beneath the surface” is just the tip of the iceberg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77112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Looking Beneath the Surfac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5" name=""/>
          <p:cNvSpPr txBox="1"/>
          <p:nvPr/>
        </p:nvSpPr>
        <p:spPr>
          <a:xfrm>
            <a:off x="771120" y="205740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Microsoft Sans Serif"/>
                <a:ea typeface="Microsoft Sans Serif"/>
              </a:rPr>
              <a:t>“</a:t>
            </a:r>
            <a:r>
              <a:rPr b="0" lang="en-US" sz="3200" spc="-1" strike="noStrike">
                <a:solidFill>
                  <a:srgbClr val="ffffcc"/>
                </a:solidFill>
                <a:latin typeface="Microsoft Sans Serif"/>
                <a:ea typeface="Microsoft Sans Serif"/>
              </a:rPr>
              <a:t>Early detection” could be interpreted as a heightened awareness of those people </a:t>
            </a:r>
            <a:r>
              <a:rPr b="0" i="1" lang="en-US" sz="3200" spc="-1" strike="noStrike">
                <a:solidFill>
                  <a:srgbClr val="ffffcc"/>
                </a:solidFill>
                <a:latin typeface="Microsoft Sans Serif"/>
                <a:ea typeface="Microsoft Sans Serif"/>
              </a:rPr>
              <a:t>above the surface</a:t>
            </a:r>
            <a:r>
              <a:rPr b="0" lang="en-US" sz="3200" spc="-1" strike="noStrike">
                <a:solidFill>
                  <a:srgbClr val="ffffcc"/>
                </a:solidFill>
                <a:latin typeface="Microsoft Sans Serif"/>
                <a:ea typeface="Microsoft Sans Serif"/>
              </a:rPr>
              <a:t> with early manifestations of disease – I will call that case finding – and I will not address toda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Microsoft Sans Serif"/>
                <a:ea typeface="Microsoft Sans Serif"/>
              </a:rPr>
              <a:t>But, “early detection” more often implies looking beneath the surface – I will call that screening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812520" y="4406760"/>
            <a:ext cx="8744040" cy="136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66"/>
                </a:solidFill>
                <a:latin typeface="Times New Roman"/>
              </a:rPr>
              <a:t>WHAT ARE THE  SIX POSSIBLE OUTCOMES OF SCREENING?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812520" y="2906280"/>
            <a:ext cx="8744040" cy="150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Looking beneath the surfac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77112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Looking Beneath the Surface: Screening Outcome # 1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9" name=""/>
          <p:cNvSpPr txBox="1"/>
          <p:nvPr/>
        </p:nvSpPr>
        <p:spPr>
          <a:xfrm>
            <a:off x="771120" y="205740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Microsoft Sans Serif"/>
                <a:ea typeface="Microsoft Sans Serif"/>
              </a:rPr>
              <a:t>Screening test negative…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Microsoft Sans Serif"/>
                <a:ea typeface="Microsoft Sans Serif"/>
              </a:rPr>
              <a:t>but the patient </a:t>
            </a:r>
            <a:r>
              <a:rPr b="0" i="1" lang="en-US" sz="2800" spc="-1" strike="noStrike">
                <a:solidFill>
                  <a:srgbClr val="ffffcc"/>
                </a:solidFill>
                <a:latin typeface="Microsoft Sans Serif"/>
                <a:ea typeface="Microsoft Sans Serif"/>
              </a:rPr>
              <a:t>has the disease </a:t>
            </a:r>
            <a:r>
              <a:rPr b="0" lang="en-US" sz="2800" spc="-1" strike="noStrike">
                <a:solidFill>
                  <a:srgbClr val="ffffcc"/>
                </a:solidFill>
                <a:latin typeface="Microsoft Sans Serif"/>
                <a:ea typeface="Microsoft Sans Serif"/>
              </a:rPr>
              <a:t>- false negative - inappropriately reassured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Microsoft Sans Serif"/>
                <a:ea typeface="Microsoft Sans Serif"/>
              </a:rPr>
              <a:t>Ignoring a new breast lump because mammogram was norma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0" name="Footer Placeholder 3"/>
          <p:cNvSpPr/>
          <p:nvPr/>
        </p:nvSpPr>
        <p:spPr>
          <a:xfrm>
            <a:off x="0" y="632448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University of Missouri - Columbia </a:t>
            </a:r>
            <a:endParaRPr b="0" lang="en-US" sz="14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Family Medicine</a:t>
            </a:r>
            <a:r>
              <a:rPr b="0" lang="en-US" sz="1400" spc="-1" strike="noStrike">
                <a:solidFill>
                  <a:srgbClr val="ffffcc"/>
                </a:solidFill>
                <a:latin typeface="Book Antiqua"/>
              </a:rPr>
              <a:t> </a:t>
            </a:r>
            <a:endParaRPr b="0" lang="en-US" sz="1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77112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Looking Beneath the Surface: Screening Outcome # 2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2" name=""/>
          <p:cNvSpPr txBox="1"/>
          <p:nvPr/>
        </p:nvSpPr>
        <p:spPr>
          <a:xfrm>
            <a:off x="771120" y="205740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Microsoft Sans Serif"/>
                <a:ea typeface="Microsoft Sans Serif"/>
              </a:rPr>
              <a:t>Screening test negative and the patient </a:t>
            </a:r>
            <a:r>
              <a:rPr b="0" i="1" lang="en-US" sz="3200" spc="-1" strike="noStrike">
                <a:solidFill>
                  <a:srgbClr val="ffffcc"/>
                </a:solidFill>
                <a:latin typeface="Microsoft Sans Serif"/>
                <a:ea typeface="Microsoft Sans Serif"/>
              </a:rPr>
              <a:t>does not  </a:t>
            </a:r>
            <a:r>
              <a:rPr b="0" lang="en-US" sz="3200" spc="-1" strike="noStrike">
                <a:solidFill>
                  <a:srgbClr val="ffffcc"/>
                </a:solidFill>
                <a:latin typeface="Microsoft Sans Serif"/>
                <a:ea typeface="Microsoft Sans Serif"/>
              </a:rPr>
              <a:t>have the diseas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Microsoft Sans Serif"/>
                <a:ea typeface="Microsoft Sans Serif"/>
              </a:rPr>
              <a:t>True negative.  No health benefit since patient does not have the diseas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Font typeface="Microsoft Sans Serif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Microsoft Sans Serif"/>
                <a:ea typeface="Microsoft Sans Serif"/>
              </a:rPr>
              <a:t>though patient reassured – is that always good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Microsoft Sans Serif"/>
                <a:ea typeface="Microsoft Sans Serif"/>
              </a:rPr>
              <a:t>Is screening fatigue real?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3" name="Footer Placeholder 3"/>
          <p:cNvSpPr/>
          <p:nvPr/>
        </p:nvSpPr>
        <p:spPr>
          <a:xfrm>
            <a:off x="0" y="632448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University of Missouri - Columbia </a:t>
            </a:r>
            <a:endParaRPr b="0" lang="en-US" sz="14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Family Medicine</a:t>
            </a:r>
            <a:r>
              <a:rPr b="0" lang="en-US" sz="1400" spc="-1" strike="noStrike">
                <a:solidFill>
                  <a:srgbClr val="ffffcc"/>
                </a:solidFill>
                <a:latin typeface="Book Antiqua"/>
              </a:rPr>
              <a:t> </a:t>
            </a:r>
            <a:endParaRPr b="0" lang="en-US" sz="1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77112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Looking Beneath the Surface: Screening Outcome # 3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5" name=""/>
          <p:cNvSpPr txBox="1"/>
          <p:nvPr/>
        </p:nvSpPr>
        <p:spPr>
          <a:xfrm>
            <a:off x="771120" y="205740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Microsoft Sans Serif"/>
                <a:ea typeface="Microsoft Sans Serif"/>
              </a:rPr>
              <a:t>Screening test positive…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Microsoft Sans Serif"/>
                <a:ea typeface="Microsoft Sans Serif"/>
              </a:rPr>
              <a:t>But patient does not have disease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Font typeface="Microsoft Sans Serif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Microsoft Sans Serif"/>
                <a:ea typeface="Microsoft Sans Serif"/>
              </a:rPr>
              <a:t>false positive – subject to risks/costs of further testing and anxiet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Font typeface="Microsoft Sans Serif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Font typeface="Microsoft Sans Serif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Microsoft Sans Serif"/>
                <a:ea typeface="Microsoft Sans Serif"/>
              </a:rPr>
              <a:t>e.g. maternal serum testing for Down syndrome/Trisomy 18 is calibrated to label 5% of women abnorm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6" name="Footer Placeholder 3"/>
          <p:cNvSpPr/>
          <p:nvPr/>
        </p:nvSpPr>
        <p:spPr>
          <a:xfrm>
            <a:off x="0" y="632448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University of Missouri - Columbia </a:t>
            </a:r>
            <a:endParaRPr b="0" lang="en-US" sz="14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Family Medicine</a:t>
            </a:r>
            <a:r>
              <a:rPr b="0" lang="en-US" sz="1400" spc="-1" strike="noStrike">
                <a:solidFill>
                  <a:srgbClr val="ffffcc"/>
                </a:solidFill>
                <a:latin typeface="Book Antiqua"/>
              </a:rPr>
              <a:t> </a:t>
            </a:r>
            <a:endParaRPr b="0" lang="en-US" sz="1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343080" y="304920"/>
            <a:ext cx="882936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The  U.S. Preventive Services Task Force (USPSTF)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3" name=""/>
          <p:cNvSpPr txBox="1"/>
          <p:nvPr/>
        </p:nvSpPr>
        <p:spPr>
          <a:xfrm>
            <a:off x="847800" y="1910880"/>
            <a:ext cx="8921520" cy="421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Microsoft Sans Serif"/>
                <a:ea typeface="Times New Roman"/>
              </a:rPr>
              <a:t>Independent panel of nationally renowned, non-federal experts in primary care and evidence-based medicine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Microsoft Sans Serif"/>
                <a:ea typeface="Times New Roman"/>
              </a:rPr>
              <a:t>Charged by Congress to review the scientific evidence for clinical preventive services and develop evidence-based recommendations for the health care communit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4" name="Footer Placeholder 3"/>
          <p:cNvSpPr/>
          <p:nvPr/>
        </p:nvSpPr>
        <p:spPr>
          <a:xfrm>
            <a:off x="0" y="632448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University of Missouri - Columbia </a:t>
            </a:r>
            <a:endParaRPr b="0" lang="en-US" sz="14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Family Medicine</a:t>
            </a:r>
            <a:r>
              <a:rPr b="0" lang="en-US" sz="1400" spc="-1" strike="noStrike">
                <a:solidFill>
                  <a:srgbClr val="ffffcc"/>
                </a:solidFill>
                <a:latin typeface="Book Antiqua"/>
              </a:rPr>
              <a:t> </a:t>
            </a:r>
            <a:endParaRPr b="0" lang="en-US" sz="1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6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6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77112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Looking Beneath the Surface: Screening Outcome # 4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8" name=""/>
          <p:cNvSpPr txBox="1"/>
          <p:nvPr/>
        </p:nvSpPr>
        <p:spPr>
          <a:xfrm>
            <a:off x="771120" y="205740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Microsoft Sans Serif"/>
                <a:ea typeface="Microsoft Sans Serif"/>
              </a:rPr>
              <a:t>Screening test positive and patient does have disease…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Microsoft Sans Serif"/>
                <a:ea typeface="Microsoft Sans Serif"/>
              </a:rPr>
              <a:t>but is not destined to suffer morbidity or mortality related to the diseas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1074240" indent="-21456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Font typeface="Microsoft Sans Serif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Microsoft Sans Serif"/>
                <a:ea typeface="Microsoft Sans Serif"/>
              </a:rPr>
              <a:t>treated unnecessaril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1074240" indent="-21456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Font typeface="Microsoft Sans Serif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Microsoft Sans Serif"/>
                <a:ea typeface="Microsoft Sans Serif"/>
              </a:rPr>
              <a:t>e.g. 25% of men in age range for prostate cancer screening have prostate cancer.  Life time risk of death is 3%.  How many of those detected by screening are treated for disease that would never have made it to the surface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77112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Looking Beneath the Surface: Screening Outcome # 5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50" name=""/>
          <p:cNvSpPr txBox="1"/>
          <p:nvPr/>
        </p:nvSpPr>
        <p:spPr>
          <a:xfrm>
            <a:off x="771120" y="205740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Microsoft Sans Serif"/>
                <a:ea typeface="Microsoft Sans Serif"/>
              </a:rPr>
              <a:t>Test positive and the patient is destined to suffer morbidity or mortality related to the diseas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Microsoft Sans Serif"/>
                <a:ea typeface="Microsoft Sans Serif"/>
              </a:rPr>
              <a:t>but outcomes of treatment in asymptomatic stage are no different from treatment after symptoms are presen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1119960" indent="-22392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Font typeface="Microsoft Sans Serif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Microsoft Sans Serif"/>
                <a:ea typeface="Microsoft Sans Serif"/>
              </a:rPr>
              <a:t>we simply lengthen the treatment time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1119960" indent="-22392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Font typeface="Microsoft Sans Serif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Microsoft Sans Serif"/>
                <a:ea typeface="Microsoft Sans Serif"/>
              </a:rPr>
              <a:t>e.g. what morbidity do we really prevent by screening for COPD with spirometry 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1" name="Footer Placeholder 3"/>
          <p:cNvSpPr/>
          <p:nvPr/>
        </p:nvSpPr>
        <p:spPr>
          <a:xfrm>
            <a:off x="0" y="632448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University of Missouri - Columbia </a:t>
            </a:r>
            <a:endParaRPr b="0" lang="en-US" sz="14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Family Medicine</a:t>
            </a:r>
            <a:r>
              <a:rPr b="0" lang="en-US" sz="1400" spc="-1" strike="noStrike">
                <a:solidFill>
                  <a:srgbClr val="ffffcc"/>
                </a:solidFill>
                <a:latin typeface="Book Antiqua"/>
              </a:rPr>
              <a:t> </a:t>
            </a:r>
            <a:endParaRPr b="0" lang="en-US" sz="1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77112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Looking Beneath the Surface: Screening Outcome # 6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53" name=""/>
          <p:cNvSpPr txBox="1"/>
          <p:nvPr/>
        </p:nvSpPr>
        <p:spPr>
          <a:xfrm>
            <a:off x="771120" y="2057040"/>
            <a:ext cx="874404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Microsoft Sans Serif"/>
                <a:ea typeface="Microsoft Sans Serif"/>
              </a:rPr>
              <a:t>Test positiv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Microsoft Sans Serif"/>
                <a:ea typeface="Microsoft Sans Serif"/>
              </a:rPr>
              <a:t>Patient destined to suffer morbidity or mortality related to the disease – and treatment in asymptomatic stage prevents complications that would develop if treatment not started until after symptoms are presen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Microsoft Sans Serif"/>
                <a:ea typeface="Microsoft Sans Serif"/>
              </a:rPr>
              <a:t>e.g. screening for colon cancer and treating in asymptomatic stage has clearly been shown to save liv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4" name="Footer Placeholder 3"/>
          <p:cNvSpPr/>
          <p:nvPr/>
        </p:nvSpPr>
        <p:spPr>
          <a:xfrm>
            <a:off x="0" y="632448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University of Missouri - Columbia </a:t>
            </a:r>
            <a:endParaRPr b="0" lang="en-US" sz="14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Family Medicine</a:t>
            </a:r>
            <a:r>
              <a:rPr b="0" lang="en-US" sz="1400" spc="-1" strike="noStrike">
                <a:solidFill>
                  <a:srgbClr val="ffffcc"/>
                </a:solidFill>
                <a:latin typeface="Book Antiqua"/>
              </a:rPr>
              <a:t> </a:t>
            </a:r>
            <a:endParaRPr b="0" lang="en-US" sz="1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77112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Screening Outcomes: Keeping Score?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56" name=""/>
          <p:cNvSpPr txBox="1"/>
          <p:nvPr/>
        </p:nvSpPr>
        <p:spPr>
          <a:xfrm>
            <a:off x="771120" y="2057400"/>
            <a:ext cx="874404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65000"/>
          </a:bodyPr>
          <a:p>
            <a:pPr marL="222840" indent="-22284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Microsoft Sans Serif"/>
                <a:ea typeface="Microsoft Sans Serif"/>
              </a:rPr>
              <a:t>For 5 of 6 outcomes, there can be NO health benefits to the patien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482760" indent="-185760">
              <a:lnSpc>
                <a:spcPct val="100000"/>
              </a:lnSpc>
              <a:spcBef>
                <a:spcPts val="649"/>
              </a:spcBef>
              <a:buClr>
                <a:srgbClr val="ffcc66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Microsoft Sans Serif"/>
                <a:ea typeface="Microsoft Sans Serif"/>
              </a:rPr>
              <a:t>These 5 outcomes are not just costly – patients incur the harms of screening and treatment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 marL="222840" indent="-22284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Microsoft Sans Serif"/>
                <a:ea typeface="Microsoft Sans Serif"/>
              </a:rPr>
              <a:t>For 1 of 6 outcomes, there can be health benefits to the patient,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482760" indent="-185760">
              <a:lnSpc>
                <a:spcPct val="100000"/>
              </a:lnSpc>
              <a:spcBef>
                <a:spcPts val="649"/>
              </a:spcBef>
              <a:buClr>
                <a:srgbClr val="ffcc66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Microsoft Sans Serif"/>
                <a:ea typeface="Microsoft Sans Serif"/>
              </a:rPr>
              <a:t>but no assurances that the benefits will exceed the harms of screening and treatment across screened populations 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 marL="222840" indent="-2228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7" name="Footer Placeholder 3"/>
          <p:cNvSpPr/>
          <p:nvPr/>
        </p:nvSpPr>
        <p:spPr>
          <a:xfrm>
            <a:off x="0" y="632448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cc"/>
                </a:solidFill>
                <a:latin typeface="Arial"/>
              </a:rPr>
              <a:t>University of Missouri - Columbia </a:t>
            </a:r>
            <a:endParaRPr b="0" lang="en-US" sz="11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cc"/>
                </a:solidFill>
                <a:latin typeface="Arial"/>
              </a:rPr>
              <a:t>Family Medicine</a:t>
            </a:r>
            <a:r>
              <a:rPr b="0" lang="en-US" sz="1100" spc="-1" strike="noStrike">
                <a:solidFill>
                  <a:srgbClr val="ffffcc"/>
                </a:solidFill>
                <a:latin typeface="Book Antiqua"/>
              </a:rPr>
              <a:t> </a:t>
            </a:r>
            <a:endParaRPr b="0" lang="en-US" sz="11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"/>
          <p:cNvSpPr txBox="1"/>
          <p:nvPr/>
        </p:nvSpPr>
        <p:spPr>
          <a:xfrm>
            <a:off x="771120" y="205740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Microsoft Sans Serif"/>
                <a:ea typeface="Microsoft Sans Serif"/>
              </a:rPr>
              <a:t>We should screen when good evidence demonstrates that the benefits of detection of a disease in an asymptomatic phase exceed the harms associated with diagnosis and treatment </a:t>
            </a:r>
            <a:r>
              <a:rPr b="0" i="1" lang="en-US" sz="3200" spc="-1" strike="noStrike">
                <a:solidFill>
                  <a:srgbClr val="ffffcc"/>
                </a:solidFill>
                <a:latin typeface="Microsoft Sans Serif"/>
                <a:ea typeface="Microsoft Sans Serif"/>
              </a:rPr>
              <a:t>across screened population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9" name="Footer Placeholder 3"/>
          <p:cNvSpPr/>
          <p:nvPr/>
        </p:nvSpPr>
        <p:spPr>
          <a:xfrm>
            <a:off x="0" y="632448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University of Missouri - Columbia </a:t>
            </a:r>
            <a:endParaRPr b="0" lang="en-US" sz="14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Family Medicine</a:t>
            </a:r>
            <a:r>
              <a:rPr b="0" lang="en-US" sz="1400" spc="-1" strike="noStrike">
                <a:solidFill>
                  <a:srgbClr val="ffffcc"/>
                </a:solidFill>
                <a:latin typeface="Book Antiqua"/>
              </a:rPr>
              <a:t> </a:t>
            </a:r>
            <a:endParaRPr b="0" lang="en-US" sz="1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77112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cc66"/>
                </a:solidFill>
                <a:latin typeface="Times New Roman"/>
              </a:rPr>
              <a:t>Analytic Framework on Screening for a Disease:  What Evidence Do We Seek?</a:t>
            </a:r>
            <a:endParaRPr b="0" i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1" name="Footer Placeholder 3"/>
          <p:cNvSpPr/>
          <p:nvPr/>
        </p:nvSpPr>
        <p:spPr>
          <a:xfrm>
            <a:off x="0" y="632448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University of Missouri - Columbia </a:t>
            </a:r>
            <a:endParaRPr b="0" lang="en-US" sz="14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Family Medicine</a:t>
            </a:r>
            <a:r>
              <a:rPr b="0" lang="en-US" sz="1400" spc="-1" strike="noStrike">
                <a:solidFill>
                  <a:srgbClr val="ffffcc"/>
                </a:solidFill>
                <a:latin typeface="Book Antiqua"/>
              </a:rPr>
              <a:t> </a:t>
            </a:r>
            <a:endParaRPr b="0" lang="en-US" sz="1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762" name="Picture 3" descr="flow chart"/>
          <p:cNvPicPr/>
          <p:nvPr/>
        </p:nvPicPr>
        <p:blipFill>
          <a:blip r:embed="rId1"/>
          <a:stretch/>
        </p:blipFill>
        <p:spPr>
          <a:xfrm>
            <a:off x="419040" y="1676520"/>
            <a:ext cx="9372600" cy="423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77112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cc66"/>
                </a:solidFill>
                <a:latin typeface="Times New Roman"/>
              </a:rPr>
              <a:t>USPSTF Recommendations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4" name=""/>
          <p:cNvSpPr txBox="1"/>
          <p:nvPr/>
        </p:nvSpPr>
        <p:spPr>
          <a:xfrm>
            <a:off x="533160" y="1676160"/>
            <a:ext cx="921996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ffcc66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Microsoft Sans Serif"/>
                <a:ea typeface="Microsoft Sans Serif"/>
              </a:rPr>
              <a:t>The TF judges whether the strength of the available evidence is sufficient to make a reliable assessment of the balance of benefits and harms </a:t>
            </a:r>
            <a:endParaRPr b="0" lang="en-US" sz="31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ffcc66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Microsoft Sans Serif"/>
                <a:ea typeface="Microsoft Sans Serif"/>
              </a:rPr>
              <a:t>If yes - then TF makes recommendation</a:t>
            </a:r>
            <a:endParaRPr b="0" lang="en-US" sz="31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ffcc66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Microsoft Sans Serif"/>
                <a:ea typeface="Microsoft Sans Serif"/>
              </a:rPr>
              <a:t>If no - “I” (insufficient evidence) statement </a:t>
            </a:r>
            <a:endParaRPr b="0" lang="en-US" sz="31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ffcc66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cc"/>
                </a:solidFill>
                <a:latin typeface="Microsoft Sans Serif"/>
                <a:ea typeface="Microsoft Sans Serif"/>
              </a:rPr>
              <a:t>Common reasons: </a:t>
            </a:r>
            <a:endParaRPr b="0" lang="en-US" sz="25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Microsoft Sans Serif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Microsoft Sans Serif"/>
                <a:ea typeface="Microsoft Sans Serif"/>
              </a:rPr>
              <a:t>Lack of evidence on clinical outcom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Microsoft Sans Serif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Microsoft Sans Serif"/>
                <a:ea typeface="Microsoft Sans Serif"/>
              </a:rPr>
              <a:t>Poor quality of existing studi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Microsoft Sans Serif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Microsoft Sans Serif"/>
                <a:ea typeface="Microsoft Sans Serif"/>
              </a:rPr>
              <a:t>Good quality studies with conflicting result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5" name="Footer Placeholder 3"/>
          <p:cNvSpPr/>
          <p:nvPr/>
        </p:nvSpPr>
        <p:spPr>
          <a:xfrm>
            <a:off x="0" y="632448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University of Missouri - Columbia </a:t>
            </a:r>
            <a:endParaRPr b="0" lang="en-US" sz="14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Family Medicine</a:t>
            </a:r>
            <a:r>
              <a:rPr b="0" lang="en-US" sz="1400" spc="-1" strike="noStrike">
                <a:solidFill>
                  <a:srgbClr val="ffffcc"/>
                </a:solidFill>
                <a:latin typeface="Book Antiqua"/>
              </a:rPr>
              <a:t> </a:t>
            </a:r>
            <a:endParaRPr b="0" lang="en-US" sz="1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95000" y="22824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Grades of Recommendation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3514680" y="632448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University of Missouri - Columbia </a:t>
            </a:r>
            <a:endParaRPr b="0" lang="en-US" sz="14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Family Medicine</a:t>
            </a:r>
            <a:r>
              <a:rPr b="0" lang="en-US" sz="1400" spc="-1" strike="noStrike">
                <a:solidFill>
                  <a:srgbClr val="ffffcc"/>
                </a:solidFill>
                <a:latin typeface="Book Antiqua"/>
              </a:rPr>
              <a:t> </a:t>
            </a:r>
            <a:endParaRPr b="0" lang="en-US" sz="14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768" name="Object 3"/>
          <p:cNvGraphicFramePr/>
          <p:nvPr/>
        </p:nvGraphicFramePr>
        <p:xfrm>
          <a:off x="1038240" y="2133720"/>
          <a:ext cx="8188200" cy="2057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9" name="Object 3" descr="table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38240" y="2133720"/>
                    <a:ext cx="8188200" cy="20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0" name="Rounded Rectangle 4"/>
          <p:cNvSpPr/>
          <p:nvPr/>
        </p:nvSpPr>
        <p:spPr>
          <a:xfrm>
            <a:off x="1028880" y="2895480"/>
            <a:ext cx="1295280" cy="533520"/>
          </a:xfrm>
          <a:prstGeom prst="roundRect">
            <a:avLst>
              <a:gd name="adj" fmla="val 16667"/>
            </a:avLst>
          </a:prstGeom>
          <a:noFill/>
          <a:ln w="63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71" name="Rounded Rectangle 5"/>
          <p:cNvSpPr/>
          <p:nvPr/>
        </p:nvSpPr>
        <p:spPr>
          <a:xfrm>
            <a:off x="1104840" y="2362320"/>
            <a:ext cx="1067040" cy="304560"/>
          </a:xfrm>
          <a:prstGeom prst="roundRect">
            <a:avLst>
              <a:gd name="adj" fmla="val 16667"/>
            </a:avLst>
          </a:prstGeom>
          <a:noFill/>
          <a:ln w="63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72" name="Rounded Rectangle 6"/>
          <p:cNvSpPr/>
          <p:nvPr/>
        </p:nvSpPr>
        <p:spPr>
          <a:xfrm>
            <a:off x="7429680" y="2590920"/>
            <a:ext cx="1600200" cy="304560"/>
          </a:xfrm>
          <a:prstGeom prst="roundRect">
            <a:avLst>
              <a:gd name="adj" fmla="val 16667"/>
            </a:avLst>
          </a:prstGeom>
          <a:noFill/>
          <a:ln w="63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73" name="Rounded Rectangle 7"/>
          <p:cNvSpPr/>
          <p:nvPr/>
        </p:nvSpPr>
        <p:spPr>
          <a:xfrm>
            <a:off x="7429680" y="2895480"/>
            <a:ext cx="457200" cy="609840"/>
          </a:xfrm>
          <a:custGeom>
            <a:avLst/>
            <a:gdLst>
              <a:gd name="textAreaLeft" fmla="*/ 22320 w 457200"/>
              <a:gd name="textAreaRight" fmla="*/ 434880 w 457200"/>
              <a:gd name="textAreaTop" fmla="*/ 22320 h 609840"/>
              <a:gd name="textAreaBottom" fmla="*/ 587520 h 609840"/>
            </a:gdLst>
            <a:ahLst/>
            <a:rect l="textAreaLeft" t="textAreaTop" r="textAreaRight" b="textAreaBottom"/>
            <a:pathLst>
              <a:path w="21600" h="28806">
                <a:moveTo>
                  <a:pt x="3600" y="0"/>
                </a:moveTo>
                <a:arcTo wR="3600" hR="3600" stAng="16200000" swAng="-5400000"/>
                <a:lnTo>
                  <a:pt x="0" y="25206"/>
                </a:lnTo>
                <a:arcTo wR="3600" hR="3600" stAng="10800000" swAng="-5400000"/>
                <a:lnTo>
                  <a:pt x="18000" y="2880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63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74" name="Rounded Rectangle 8"/>
          <p:cNvSpPr/>
          <p:nvPr/>
        </p:nvSpPr>
        <p:spPr>
          <a:xfrm>
            <a:off x="4686480" y="2362320"/>
            <a:ext cx="1295280" cy="304560"/>
          </a:xfrm>
          <a:prstGeom prst="roundRect">
            <a:avLst>
              <a:gd name="adj" fmla="val 16667"/>
            </a:avLst>
          </a:prstGeom>
          <a:noFill/>
          <a:ln w="63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20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2000"/>
                            </p:stCondLst>
                            <p:childTnLst>
                              <p:par>
                                <p:cTn id="2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20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4000"/>
                            </p:stCondLst>
                            <p:childTnLst>
                              <p:par>
                                <p:cTn id="2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20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6000"/>
                            </p:stCondLst>
                            <p:childTnLst>
                              <p:par>
                                <p:cTn id="2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20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514080" y="272880"/>
            <a:ext cx="338436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66"/>
                </a:solidFill>
                <a:latin typeface="Times New Roman"/>
              </a:rPr>
              <a:t>June 29, 2008 </a:t>
            </a:r>
            <a:br>
              <a:rPr sz="2800"/>
            </a:br>
            <a:r>
              <a:rPr b="1" i="1" lang="en-US" sz="2800" spc="-1" strike="noStrike">
                <a:solidFill>
                  <a:srgbClr val="ffcc66"/>
                </a:solidFill>
                <a:latin typeface="Times New Roman"/>
              </a:rPr>
              <a:t>NY Times</a:t>
            </a:r>
            <a:endParaRPr b="0" i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6" name=""/>
          <p:cNvSpPr txBox="1"/>
          <p:nvPr/>
        </p:nvSpPr>
        <p:spPr>
          <a:xfrm>
            <a:off x="4021200" y="272520"/>
            <a:ext cx="5751360" cy="58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514080" y="1828440"/>
            <a:ext cx="3384360" cy="4297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It’s incumbent on the community to dispense with the need for evidence-based medicine,” he said. “Thousands of people are dying unnecessarily.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Cardiologist from Manhattan, NY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78" name="Footer Placeholder 3"/>
          <p:cNvSpPr/>
          <p:nvPr/>
        </p:nvSpPr>
        <p:spPr>
          <a:xfrm>
            <a:off x="0" y="632448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University of Missouri - Columbia 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Family Medicine</a:t>
            </a:r>
            <a:r>
              <a:rPr b="0" lang="en-US" sz="1200" spc="-1" strike="noStrike">
                <a:solidFill>
                  <a:srgbClr val="ffffcc"/>
                </a:solidFill>
                <a:latin typeface="Book Antiqua"/>
              </a:rPr>
              <a:t> 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779" name="Picture 2" descr="screen shot of online article"/>
          <p:cNvPicPr/>
          <p:nvPr/>
        </p:nvPicPr>
        <p:blipFill>
          <a:blip r:embed="rId1"/>
          <a:stretch/>
        </p:blipFill>
        <p:spPr>
          <a:xfrm>
            <a:off x="4689360" y="333360"/>
            <a:ext cx="5099040" cy="557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77112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The USPSTF recommends against…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1" name=""/>
          <p:cNvSpPr txBox="1"/>
          <p:nvPr/>
        </p:nvSpPr>
        <p:spPr>
          <a:xfrm>
            <a:off x="771480" y="2057400"/>
            <a:ext cx="4286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Microsoft Sans Serif"/>
                <a:ea typeface="Microsoft Sans Serif"/>
              </a:rPr>
              <a:t>bacterial vaginosis in asymptomatic pregnant women at low risk for preterm delivery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Microsoft Sans Serif"/>
                <a:ea typeface="Microsoft Sans Serif"/>
              </a:rPr>
              <a:t>asymptomatic bacteriuria in men and nonpregnant women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Microsoft Sans Serif"/>
                <a:ea typeface="Microsoft Sans Serif"/>
              </a:rPr>
              <a:t>chronic obstructive pulmonary disease (COPD) using spirometry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Microsoft Sans Serif"/>
                <a:ea typeface="Microsoft Sans Serif"/>
              </a:rPr>
              <a:t>hereditary hemochromatosi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2" name=""/>
          <p:cNvSpPr txBox="1"/>
          <p:nvPr/>
        </p:nvSpPr>
        <p:spPr>
          <a:xfrm>
            <a:off x="5229360" y="2057400"/>
            <a:ext cx="4286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Microsoft Sans Serif"/>
                <a:ea typeface="Microsoft Sans Serif"/>
              </a:rPr>
              <a:t>referral for genetic counseling or routine </a:t>
            </a:r>
            <a:r>
              <a:rPr b="1" i="1" lang="en-US" sz="2000" spc="-1" strike="noStrike">
                <a:solidFill>
                  <a:srgbClr val="ffffcc"/>
                </a:solidFill>
                <a:latin typeface="Microsoft Sans Serif"/>
                <a:ea typeface="Microsoft Sans Serif"/>
              </a:rPr>
              <a:t>BRCA</a:t>
            </a:r>
            <a:r>
              <a:rPr b="1" lang="en-US" sz="2000" spc="-1" strike="noStrike">
                <a:solidFill>
                  <a:srgbClr val="ffffcc"/>
                </a:solidFill>
                <a:latin typeface="Microsoft Sans Serif"/>
                <a:ea typeface="Microsoft Sans Serif"/>
              </a:rPr>
              <a:t> testing for women whose family history is not associated with an increased risk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77112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urrent USPSTF Member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6" name=""/>
          <p:cNvSpPr txBox="1"/>
          <p:nvPr/>
        </p:nvSpPr>
        <p:spPr>
          <a:xfrm>
            <a:off x="517680" y="2457360"/>
            <a:ext cx="4773600" cy="350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Microsoft Sans Serif"/>
                <a:ea typeface="Microsoft Sans Serif"/>
              </a:rPr>
              <a:t>Susan Curry, Ph.D.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Microsoft Sans Serif"/>
                <a:ea typeface="Microsoft Sans Serif"/>
              </a:rPr>
              <a:t>Thomas G. DeWitt, M.D.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Microsoft Sans Serif"/>
                <a:ea typeface="Microsoft Sans Serif"/>
              </a:rPr>
              <a:t>Allen J. Dietrich, M.D.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Microsoft Sans Serif"/>
                <a:ea typeface="Microsoft Sans Serif"/>
              </a:rPr>
              <a:t>Kimberly D. Gregory, M.D., M.P.H.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Microsoft Sans Serif"/>
                <a:ea typeface="Microsoft Sans Serif"/>
              </a:rPr>
              <a:t>David Grossman, M.D., M.P.H.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Microsoft Sans Serif"/>
                <a:ea typeface="Microsoft Sans Serif"/>
              </a:rPr>
              <a:t>George Isham, M.D., M.S.</a:t>
            </a:r>
            <a:r>
              <a:rPr b="0" lang="en-US" sz="2200" spc="-1" strike="noStrike">
                <a:solidFill>
                  <a:srgbClr val="ffffcc"/>
                </a:solidFill>
                <a:latin typeface="Microsoft Sans Serif"/>
                <a:ea typeface="Microsoft Sans Serif"/>
              </a:rPr>
              <a:t>	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Microsoft Sans Serif"/>
                <a:ea typeface="Microsoft Sans Serif"/>
              </a:rPr>
              <a:t>Michael LeFevre, M.D., M.S.P.H</a:t>
            </a:r>
            <a:r>
              <a:rPr b="0" lang="en-US" sz="2200" spc="-1" strike="noStrike">
                <a:solidFill>
                  <a:srgbClr val="ffcc66"/>
                </a:solidFill>
                <a:latin typeface="Microsoft Sans Serif"/>
                <a:ea typeface="Microsoft Sans Serif"/>
              </a:rPr>
              <a:t>.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7" name=""/>
          <p:cNvSpPr txBox="1"/>
          <p:nvPr/>
        </p:nvSpPr>
        <p:spPr>
          <a:xfrm>
            <a:off x="5219640" y="2666880"/>
            <a:ext cx="5067360" cy="335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Microsoft Sans Serif"/>
                <a:ea typeface="Microsoft Sans Serif"/>
              </a:rPr>
              <a:t>Rosanne Leipzig, M.D., Ph.D.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Microsoft Sans Serif"/>
                <a:ea typeface="Microsoft Sans Serif"/>
              </a:rPr>
              <a:t>Lucy N. Marion, Ph.D., R.N.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Microsoft Sans Serif"/>
                <a:ea typeface="Microsoft Sans Serif"/>
              </a:rPr>
              <a:t>Joy Melnikow, M.D., M.P.H.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Microsoft Sans Serif"/>
                <a:ea typeface="Microsoft Sans Serif"/>
              </a:rPr>
              <a:t>Bernadette Melnyk, Ph.D., R.N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Microsoft Sans Serif"/>
                <a:ea typeface="Microsoft Sans Serif"/>
              </a:rPr>
              <a:t>Wanda Nicholson, M.D., M.P.H., M.B.A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ffffcc"/>
                </a:solidFill>
                <a:latin typeface="Microsoft Sans Serif"/>
                <a:ea typeface="Microsoft Sans Serif"/>
              </a:rPr>
              <a:t>J. Sanford (Sandy) Schwartz, M.D.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Microsoft Sans Serif"/>
                <a:ea typeface="Microsoft Sans Serif"/>
              </a:rPr>
              <a:t>Timothy Wilt, M.D., M.P.H.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8" name="Footer Placeholder 4"/>
          <p:cNvSpPr/>
          <p:nvPr/>
        </p:nvSpPr>
        <p:spPr>
          <a:xfrm>
            <a:off x="0" y="632448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University of Missouri - Columbia </a:t>
            </a:r>
            <a:endParaRPr b="0" lang="en-US" sz="14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Family Medicine</a:t>
            </a:r>
            <a:r>
              <a:rPr b="0" lang="en-US" sz="1400" spc="-1" strike="noStrike">
                <a:solidFill>
                  <a:srgbClr val="ffffcc"/>
                </a:solidFill>
                <a:latin typeface="Book Antiqua"/>
              </a:rPr>
              <a:t> </a:t>
            </a:r>
            <a:endParaRPr b="0" lang="en-US" sz="1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9" name="Text Box 5"/>
          <p:cNvSpPr/>
          <p:nvPr/>
        </p:nvSpPr>
        <p:spPr>
          <a:xfrm>
            <a:off x="1409760" y="1600200"/>
            <a:ext cx="77724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Bruce N. (Ned) Calonge, M.D., M.P.H. (Chair)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Diana B. Petitti, M.D., M.P.H. (Vice Chair)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77112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The USPSTF recommends against…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4" name=""/>
          <p:cNvSpPr txBox="1"/>
          <p:nvPr/>
        </p:nvSpPr>
        <p:spPr>
          <a:xfrm>
            <a:off x="771480" y="2057400"/>
            <a:ext cx="4286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Microsoft Sans Serif"/>
                <a:ea typeface="Microsoft Sans Serif"/>
              </a:rPr>
              <a:t>hepatitis B virus infect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cc66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Microsoft Sans Serif"/>
                <a:ea typeface="Microsoft Sans Serif"/>
              </a:rPr>
              <a:t>general asymptomatic population 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Microsoft Sans Serif"/>
                <a:ea typeface="Microsoft Sans Serif"/>
              </a:rPr>
              <a:t>hepatitis C virus infect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cc66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Microsoft Sans Serif"/>
                <a:ea typeface="Microsoft Sans Serif"/>
              </a:rPr>
              <a:t>asymptomatic adults who are not at increased risk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Microsoft Sans Serif"/>
                <a:ea typeface="Microsoft Sans Serif"/>
              </a:rPr>
              <a:t>syphilis infect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cc66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Microsoft Sans Serif"/>
                <a:ea typeface="Microsoft Sans Serif"/>
              </a:rPr>
              <a:t>asymptomatic persons who are not at increased risk 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5" name=""/>
          <p:cNvSpPr txBox="1"/>
          <p:nvPr/>
        </p:nvSpPr>
        <p:spPr>
          <a:xfrm>
            <a:off x="5229360" y="2057400"/>
            <a:ext cx="4286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Microsoft Sans Serif"/>
                <a:ea typeface="Microsoft Sans Serif"/>
              </a:rPr>
              <a:t>asymptomatic adolescents for idiopathic scoliosi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Microsoft Sans Serif"/>
                <a:ea typeface="Microsoft Sans Serif"/>
              </a:rPr>
              <a:t>elevated blood lead levels in asymptomatic children aged 1 to 5 years who are at average risk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77112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The USPSTF recommends against…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7" name=""/>
          <p:cNvSpPr txBox="1"/>
          <p:nvPr/>
        </p:nvSpPr>
        <p:spPr>
          <a:xfrm>
            <a:off x="771480" y="2057400"/>
            <a:ext cx="4286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Microsoft Sans Serif"/>
                <a:ea typeface="Microsoft Sans Serif"/>
              </a:rPr>
              <a:t>asymptomatic carotid artery stenosis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Microsoft Sans Serif"/>
                <a:ea typeface="Microsoft Sans Serif"/>
              </a:rPr>
              <a:t>peripheral arterial disease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Microsoft Sans Serif"/>
                <a:ea typeface="Microsoft Sans Serif"/>
              </a:rPr>
              <a:t>AAA in wome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8" name=""/>
          <p:cNvSpPr txBox="1"/>
          <p:nvPr/>
        </p:nvSpPr>
        <p:spPr>
          <a:xfrm>
            <a:off x="5229360" y="2057400"/>
            <a:ext cx="4286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Microsoft Sans Serif"/>
                <a:ea typeface="Microsoft Sans Serif"/>
              </a:rPr>
              <a:t>ECG, treadmill ECG or electron-beam computerized tomography (EBCT) scanning for the presence of severe coronary artery stenosis or the prediction of coronary heart disease (CHD) events in adults at low risk for CHD event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77112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The USPSTF recommends against…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0" name=""/>
          <p:cNvSpPr txBox="1"/>
          <p:nvPr/>
        </p:nvSpPr>
        <p:spPr>
          <a:xfrm>
            <a:off x="771120" y="205740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Microsoft Sans Serif"/>
                <a:ea typeface="Microsoft Sans Serif"/>
              </a:rPr>
              <a:t>ovarian cance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Microsoft Sans Serif"/>
                <a:ea typeface="Microsoft Sans Serif"/>
              </a:rPr>
              <a:t>pancreatic cance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Microsoft Sans Serif"/>
                <a:ea typeface="Microsoft Sans Serif"/>
              </a:rPr>
              <a:t>testicular cance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Microsoft Sans Serif"/>
                <a:ea typeface="Microsoft Sans Serif"/>
              </a:rPr>
              <a:t>bladder cancer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Microsoft Sans Serif"/>
                <a:ea typeface="Microsoft Sans Serif"/>
              </a:rPr>
              <a:t>routine Pap smear screening in women who have had a total hysterectomy for benign diseas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Microsoft Sans Serif"/>
                <a:ea typeface="Microsoft Sans Serif"/>
              </a:rPr>
              <a:t>prostate cancer in men age 75 years or olde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812520" y="661680"/>
            <a:ext cx="8744040" cy="136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66"/>
                </a:solidFill>
                <a:latin typeface="Times New Roman"/>
              </a:rPr>
              <a:t>WE ARE SWIMMING UPSTREAM</a:t>
            </a:r>
            <a:br>
              <a:rPr sz="4000"/>
            </a:b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812520" y="-838080"/>
            <a:ext cx="8744040" cy="150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(to lay eggs and die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793" name="Picture 5" descr="male"/>
          <p:cNvPicPr/>
          <p:nvPr/>
        </p:nvPicPr>
        <p:blipFill>
          <a:blip r:embed="rId1"/>
          <a:stretch/>
        </p:blipFill>
        <p:spPr>
          <a:xfrm>
            <a:off x="2171880" y="2286000"/>
            <a:ext cx="2590560" cy="3892680"/>
          </a:xfrm>
          <a:prstGeom prst="rect">
            <a:avLst/>
          </a:prstGeom>
          <a:ln w="0">
            <a:noFill/>
          </a:ln>
        </p:spPr>
      </p:pic>
      <p:pic>
        <p:nvPicPr>
          <p:cNvPr id="794" name="Picture 2" descr="woman"/>
          <p:cNvPicPr/>
          <p:nvPr/>
        </p:nvPicPr>
        <p:blipFill>
          <a:blip r:embed="rId2"/>
          <a:stretch/>
        </p:blipFill>
        <p:spPr>
          <a:xfrm>
            <a:off x="5295960" y="2286000"/>
            <a:ext cx="312876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306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0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308" dur="5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812520" y="4406760"/>
            <a:ext cx="8744040" cy="136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66"/>
                </a:solidFill>
                <a:latin typeface="Times New Roman"/>
              </a:rPr>
              <a:t>THE FORCES FOR PROVIDERS TO “DO” ARE ENORMOUSLY GREATER THAN THE FORCES TO “NOT DO”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77112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Forces To “Do”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7" name=""/>
          <p:cNvSpPr txBox="1"/>
          <p:nvPr/>
        </p:nvSpPr>
        <p:spPr>
          <a:xfrm>
            <a:off x="771120" y="205740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Microsoft Sans Serif"/>
                <a:ea typeface="Microsoft Sans Serif"/>
              </a:rPr>
              <a:t>A noble ambition to do good, and the failure to recognize (or the ability to ignore) harm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Microsoft Sans Serif"/>
                <a:ea typeface="Microsoft Sans Serif"/>
              </a:rPr>
              <a:t>Miss Saig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676080" indent="-25992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Microsoft Sans Serif"/>
                <a:ea typeface="Microsoft Sans Serif"/>
              </a:rPr>
              <a:t>“</a:t>
            </a:r>
            <a:r>
              <a:rPr b="0" lang="en-US" sz="2800" spc="-1" strike="noStrike">
                <a:solidFill>
                  <a:srgbClr val="ffffcc"/>
                </a:solidFill>
                <a:latin typeface="Microsoft Sans Serif"/>
                <a:ea typeface="Microsoft Sans Serif"/>
              </a:rPr>
              <a:t>So I wanted to save her, protect her</a:t>
            </a:r>
            <a:br>
              <a:rPr sz="2800"/>
            </a:br>
            <a:r>
              <a:rPr b="0" lang="en-US" sz="2800" spc="-1" strike="noStrike">
                <a:solidFill>
                  <a:srgbClr val="ffffcc"/>
                </a:solidFill>
                <a:latin typeface="Microsoft Sans Serif"/>
                <a:ea typeface="Microsoft Sans Serif"/>
              </a:rPr>
              <a:t>Christ, I'm American, how could I fail to do good?”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676080" indent="-25992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Microsoft Sans Serif"/>
                <a:ea typeface="Microsoft Sans Serif"/>
              </a:rPr>
              <a:t>“</a:t>
            </a:r>
            <a:r>
              <a:rPr b="0" lang="en-US" sz="2800" spc="-1" strike="noStrike">
                <a:solidFill>
                  <a:srgbClr val="ffffcc"/>
                </a:solidFill>
                <a:latin typeface="Microsoft Sans Serif"/>
                <a:ea typeface="Microsoft Sans Serif"/>
              </a:rPr>
              <a:t>So I wanted to save her, protect her</a:t>
            </a:r>
            <a:br>
              <a:rPr sz="2800"/>
            </a:br>
            <a:r>
              <a:rPr b="0" lang="en-US" sz="2800" spc="-1" strike="noStrike">
                <a:solidFill>
                  <a:srgbClr val="ffffcc"/>
                </a:solidFill>
                <a:latin typeface="Microsoft Sans Serif"/>
                <a:ea typeface="Microsoft Sans Serif"/>
              </a:rPr>
              <a:t>Christ, I'm a doctor, how could I fail to do good?”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77112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Forces To “Do”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9" name=""/>
          <p:cNvSpPr txBox="1"/>
          <p:nvPr/>
        </p:nvSpPr>
        <p:spPr>
          <a:xfrm>
            <a:off x="771120" y="205740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Microsoft Sans Serif"/>
                <a:ea typeface="Microsoft Sans Serif"/>
              </a:rPr>
              <a:t>A cultural expectation that medical care can only do good, not harm, and that more care is always better than les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Microsoft Sans Serif"/>
                <a:ea typeface="Microsoft Sans Serif"/>
              </a:rPr>
              <a:t>The public and the medical profession have faith in technolog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800280" y="0"/>
            <a:ext cx="8743680" cy="136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Times New Roman"/>
              </a:rPr>
              <a:t>SCREENING SHOULD NOT BE A FAITH-BASED INITIATIV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801" name="Picture 2" descr="woman"/>
          <p:cNvPicPr/>
          <p:nvPr/>
        </p:nvPicPr>
        <p:blipFill>
          <a:blip r:embed="rId1"/>
          <a:stretch/>
        </p:blipFill>
        <p:spPr>
          <a:xfrm>
            <a:off x="3238560" y="2209680"/>
            <a:ext cx="312876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336" dur="5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77112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Forces To “Do”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3" name=""/>
          <p:cNvSpPr txBox="1"/>
          <p:nvPr/>
        </p:nvSpPr>
        <p:spPr>
          <a:xfrm>
            <a:off x="771120" y="205740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Microsoft Sans Serif"/>
                <a:ea typeface="Microsoft Sans Serif"/>
              </a:rPr>
              <a:t>The American Cancer Societ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Microsoft Sans Serif"/>
                <a:ea typeface="Microsoft Sans Serif"/>
              </a:rPr>
              <a:t>There are disease advocacy organizations that have substantial sway over the opinions of the public and medical profess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804" name="Picture 3" descr="male"/>
          <p:cNvPicPr/>
          <p:nvPr/>
        </p:nvPicPr>
        <p:blipFill>
          <a:blip r:embed="rId1"/>
          <a:stretch/>
        </p:blipFill>
        <p:spPr>
          <a:xfrm>
            <a:off x="6972480" y="2054160"/>
            <a:ext cx="1523880" cy="22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344" dur="5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77112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Forces To “Do”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6" name=""/>
          <p:cNvSpPr txBox="1"/>
          <p:nvPr/>
        </p:nvSpPr>
        <p:spPr>
          <a:xfrm>
            <a:off x="771120" y="205740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Microsoft Sans Serif"/>
                <a:ea typeface="Microsoft Sans Serif"/>
              </a:rPr>
              <a:t>Fear of litigatio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Microsoft Sans Serif"/>
                <a:ea typeface="Microsoft Sans Serif"/>
              </a:rPr>
              <a:t>“</a:t>
            </a:r>
            <a:r>
              <a:rPr b="0" lang="en-US" sz="3600" spc="-1" strike="noStrike">
                <a:solidFill>
                  <a:srgbClr val="ffffcc"/>
                </a:solidFill>
                <a:latin typeface="Microsoft Sans Serif"/>
                <a:ea typeface="Microsoft Sans Serif"/>
              </a:rPr>
              <a:t>Failure to detect”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Footer Placeholder 1"/>
          <p:cNvSpPr/>
          <p:nvPr/>
        </p:nvSpPr>
        <p:spPr>
          <a:xfrm>
            <a:off x="114480" y="6248520"/>
            <a:ext cx="325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University of Missouri - Columbia </a:t>
            </a:r>
            <a:endParaRPr b="0" lang="en-US" sz="14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Family Medicine</a:t>
            </a:r>
            <a:r>
              <a:rPr b="0" lang="en-US" sz="1400" spc="-1" strike="noStrike">
                <a:solidFill>
                  <a:srgbClr val="ffffcc"/>
                </a:solidFill>
                <a:latin typeface="Book Antiqua"/>
              </a:rPr>
              <a:t> </a:t>
            </a:r>
            <a:endParaRPr b="0" lang="en-US" sz="1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91" name="Rectangle 3"/>
          <p:cNvSpPr/>
          <p:nvPr/>
        </p:nvSpPr>
        <p:spPr>
          <a:xfrm>
            <a:off x="266760" y="2590920"/>
            <a:ext cx="1754280" cy="1523880"/>
          </a:xfrm>
          <a:prstGeom prst="rect">
            <a:avLst/>
          </a:prstGeom>
          <a:solidFill>
            <a:srgbClr val="008000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HRQ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92" name="Line 4"/>
          <p:cNvSpPr/>
          <p:nvPr/>
        </p:nvSpPr>
        <p:spPr>
          <a:xfrm flipV="1">
            <a:off x="2095560" y="2437920"/>
            <a:ext cx="2360520" cy="838440"/>
          </a:xfrm>
          <a:prstGeom prst="line">
            <a:avLst/>
          </a:prstGeom>
          <a:ln w="1260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93" name="Line 5"/>
          <p:cNvSpPr/>
          <p:nvPr/>
        </p:nvSpPr>
        <p:spPr>
          <a:xfrm>
            <a:off x="2095560" y="3809880"/>
            <a:ext cx="2668680" cy="1143000"/>
          </a:xfrm>
          <a:prstGeom prst="line">
            <a:avLst/>
          </a:prstGeom>
          <a:ln w="1260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94" name="Oval 6"/>
          <p:cNvSpPr/>
          <p:nvPr/>
        </p:nvSpPr>
        <p:spPr>
          <a:xfrm>
            <a:off x="4381560" y="1066680"/>
            <a:ext cx="2514600" cy="1676520"/>
          </a:xfrm>
          <a:prstGeom prst="ellipse">
            <a:avLst/>
          </a:prstGeom>
          <a:solidFill>
            <a:srgbClr val="ff6600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PSTF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95" name="Oval 7"/>
          <p:cNvSpPr/>
          <p:nvPr/>
        </p:nvSpPr>
        <p:spPr>
          <a:xfrm>
            <a:off x="4838760" y="4572000"/>
            <a:ext cx="1676520" cy="99072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PC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96" name="Line 8"/>
          <p:cNvSpPr/>
          <p:nvPr/>
        </p:nvSpPr>
        <p:spPr>
          <a:xfrm flipV="1">
            <a:off x="6134040" y="2666880"/>
            <a:ext cx="0" cy="1905120"/>
          </a:xfrm>
          <a:prstGeom prst="line">
            <a:avLst/>
          </a:prstGeom>
          <a:ln w="1260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97" name="Text Box 9"/>
          <p:cNvSpPr/>
          <p:nvPr/>
        </p:nvSpPr>
        <p:spPr>
          <a:xfrm>
            <a:off x="3084480" y="4267080"/>
            <a:ext cx="1503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ntract 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o synthesize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vidence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98" name="Text Box 10"/>
          <p:cNvSpPr/>
          <p:nvPr/>
        </p:nvSpPr>
        <p:spPr>
          <a:xfrm>
            <a:off x="6132960" y="3048120"/>
            <a:ext cx="1157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vidence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resented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99" name="Oval 11"/>
          <p:cNvSpPr/>
          <p:nvPr/>
        </p:nvSpPr>
        <p:spPr>
          <a:xfrm>
            <a:off x="2171880" y="685800"/>
            <a:ext cx="6629400" cy="5105520"/>
          </a:xfrm>
          <a:prstGeom prst="ellipse">
            <a:avLst/>
          </a:pr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00" name="Text Box 12"/>
          <p:cNvSpPr/>
          <p:nvPr/>
        </p:nvSpPr>
        <p:spPr>
          <a:xfrm>
            <a:off x="2552400" y="2209680"/>
            <a:ext cx="118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Convenes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01" name="Line 13"/>
          <p:cNvSpPr/>
          <p:nvPr/>
        </p:nvSpPr>
        <p:spPr>
          <a:xfrm>
            <a:off x="6943680" y="2590920"/>
            <a:ext cx="1257480" cy="380880"/>
          </a:xfrm>
          <a:prstGeom prst="line">
            <a:avLst/>
          </a:prstGeom>
          <a:ln w="1260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02" name="Text Box 14"/>
          <p:cNvSpPr/>
          <p:nvPr/>
        </p:nvSpPr>
        <p:spPr>
          <a:xfrm>
            <a:off x="7535520" y="2895480"/>
            <a:ext cx="258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Recommendation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03" name="Text Box 15"/>
          <p:cNvSpPr/>
          <p:nvPr/>
        </p:nvSpPr>
        <p:spPr>
          <a:xfrm>
            <a:off x="3770280" y="3048120"/>
            <a:ext cx="1497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Analytic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ramework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development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04" name="Line 16"/>
          <p:cNvSpPr/>
          <p:nvPr/>
        </p:nvSpPr>
        <p:spPr>
          <a:xfrm>
            <a:off x="5295960" y="2743200"/>
            <a:ext cx="0" cy="1828800"/>
          </a:xfrm>
          <a:prstGeom prst="line">
            <a:avLst/>
          </a:prstGeom>
          <a:ln w="1260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05" name="Oval 17"/>
          <p:cNvSpPr/>
          <p:nvPr/>
        </p:nvSpPr>
        <p:spPr>
          <a:xfrm>
            <a:off x="5143680" y="5486400"/>
            <a:ext cx="1066680" cy="533520"/>
          </a:xfrm>
          <a:prstGeom prst="ellipse">
            <a:avLst/>
          </a:prstGeom>
          <a:solidFill>
            <a:srgbClr val="339966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HRQ </a:t>
            </a:r>
            <a:endParaRPr b="0" lang="en-US" sz="14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taff</a:t>
            </a:r>
            <a:endParaRPr b="0" lang="en-US" sz="1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77112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Forces To “Do”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8" name=""/>
          <p:cNvSpPr txBox="1"/>
          <p:nvPr/>
        </p:nvSpPr>
        <p:spPr>
          <a:xfrm>
            <a:off x="771120" y="205740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Microsoft Sans Serif"/>
                <a:ea typeface="Microsoft Sans Serif"/>
              </a:rPr>
              <a:t>Quality Measur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Microsoft Sans Serif"/>
                <a:ea typeface="Microsoft Sans Serif"/>
              </a:rPr>
              <a:t>Current PQRI quality measures include 13 specific measures that include the word “screening”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Microsoft Sans Serif"/>
                <a:ea typeface="Microsoft Sans Serif"/>
              </a:rPr>
              <a:t>Every one requires screening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Microsoft Sans Serif"/>
                <a:ea typeface="Microsoft Sans Serif"/>
              </a:rPr>
              <a:t>Not one single measure addresses use of unnecessary screening servic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77112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Forces To “Do”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0" name=""/>
          <p:cNvSpPr txBox="1"/>
          <p:nvPr/>
        </p:nvSpPr>
        <p:spPr>
          <a:xfrm>
            <a:off x="771120" y="205740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Microsoft Sans Serif"/>
                <a:ea typeface="Microsoft Sans Serif"/>
              </a:rPr>
              <a:t>Paymen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Microsoft Sans Serif"/>
                <a:ea typeface="Microsoft Sans Serif"/>
              </a:rPr>
              <a:t>“</a:t>
            </a:r>
            <a:r>
              <a:rPr b="0" lang="en-US" sz="3200" spc="-1" strike="noStrike">
                <a:solidFill>
                  <a:srgbClr val="ffffcc"/>
                </a:solidFill>
                <a:latin typeface="Microsoft Sans Serif"/>
                <a:ea typeface="Microsoft Sans Serif"/>
              </a:rPr>
              <a:t>Every dollar spent on health care is a dollar of income for someone”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Microsoft Sans Serif"/>
                <a:ea typeface="Microsoft Sans Serif"/>
              </a:rPr>
              <a:t>In the debates of health care reform past (and perhaps present):  it is “immoral” to pay physicians to “withhold care”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771120" y="144756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What Not to Do in Primary Care: Overuse of Preventive Services </a:t>
            </a:r>
            <a:br>
              <a:rPr sz="4400"/>
            </a:b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 type="subTitle"/>
          </p:nvPr>
        </p:nvSpPr>
        <p:spPr>
          <a:xfrm>
            <a:off x="1561680" y="4038120"/>
            <a:ext cx="720108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f “Prevention” translates to unbridled use of early detection (a.k.a. screening), then in the process of promoting prevention we will do much harm and health care costs will increas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77112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Screening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4" name=""/>
          <p:cNvSpPr txBox="1"/>
          <p:nvPr/>
        </p:nvSpPr>
        <p:spPr>
          <a:xfrm>
            <a:off x="771120" y="205740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Microsoft Sans Serif"/>
                <a:ea typeface="Microsoft Sans Serif"/>
              </a:rPr>
              <a:t>We should screen when good evidence demonstrates that the benefits of detection of a disease in an asymptomatic phase exceed the harms associated with diagnosis and treatment </a:t>
            </a:r>
            <a:r>
              <a:rPr b="0" i="1" lang="en-US" sz="3200" spc="-1" strike="noStrike">
                <a:solidFill>
                  <a:srgbClr val="ffffcc"/>
                </a:solidFill>
                <a:latin typeface="Microsoft Sans Serif"/>
                <a:ea typeface="Microsoft Sans Serif"/>
              </a:rPr>
              <a:t>across screened population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5" name="Footer Placeholder 3"/>
          <p:cNvSpPr/>
          <p:nvPr/>
        </p:nvSpPr>
        <p:spPr>
          <a:xfrm>
            <a:off x="0" y="632448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University of Missouri - Columbia </a:t>
            </a:r>
            <a:endParaRPr b="0" lang="en-US" sz="14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Family Medicine</a:t>
            </a:r>
            <a:r>
              <a:rPr b="0" lang="en-US" sz="1400" spc="-1" strike="noStrike">
                <a:solidFill>
                  <a:srgbClr val="ffffcc"/>
                </a:solidFill>
                <a:latin typeface="Book Antiqua"/>
              </a:rPr>
              <a:t> </a:t>
            </a:r>
            <a:endParaRPr b="0" lang="en-US" sz="1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77112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Steps Forward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7" name=""/>
          <p:cNvSpPr txBox="1"/>
          <p:nvPr/>
        </p:nvSpPr>
        <p:spPr>
          <a:xfrm>
            <a:off x="771120" y="2057400"/>
            <a:ext cx="874404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Microsoft Sans Serif"/>
                <a:ea typeface="Microsoft Sans Serif"/>
              </a:rPr>
              <a:t>The national conversation needs to chang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Microsoft Sans Serif"/>
                <a:ea typeface="Microsoft Sans Serif"/>
              </a:rPr>
              <a:t>I think it is changing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8" name="TextBox 3"/>
          <p:cNvSpPr/>
          <p:nvPr/>
        </p:nvSpPr>
        <p:spPr>
          <a:xfrm>
            <a:off x="1790640" y="4419720"/>
            <a:ext cx="6172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All change is perceived as loss by someone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771120" y="228600"/>
            <a:ext cx="874404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USPSTF officials may deny knowledge of my existence </a:t>
            </a:r>
            <a:br>
              <a:rPr sz="4400"/>
            </a:br>
            <a:r>
              <a:rPr b="0" i="1" lang="en-US" sz="3200" spc="-1" strike="noStrike">
                <a:solidFill>
                  <a:srgbClr val="ffcc66"/>
                </a:solidFill>
                <a:latin typeface="Times New Roman"/>
              </a:rPr>
              <a:t>(and remove my name from the list)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707" name="Picture 2" descr="woman"/>
          <p:cNvPicPr/>
          <p:nvPr/>
        </p:nvPicPr>
        <p:blipFill>
          <a:blip r:embed="rId1"/>
          <a:stretch/>
        </p:blipFill>
        <p:spPr>
          <a:xfrm>
            <a:off x="1790640" y="2209680"/>
            <a:ext cx="3129120" cy="3886200"/>
          </a:xfrm>
          <a:prstGeom prst="rect">
            <a:avLst/>
          </a:prstGeom>
          <a:ln w="0">
            <a:noFill/>
          </a:ln>
        </p:spPr>
      </p:pic>
      <p:pic>
        <p:nvPicPr>
          <p:cNvPr id="708" name="Picture 5" descr="male"/>
          <p:cNvPicPr/>
          <p:nvPr/>
        </p:nvPicPr>
        <p:blipFill>
          <a:blip r:embed="rId2"/>
          <a:stretch/>
        </p:blipFill>
        <p:spPr>
          <a:xfrm>
            <a:off x="5753160" y="2209680"/>
            <a:ext cx="2590920" cy="389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77112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USPSTF officials deny knowledge of my existenc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710" name="Picture 2" descr="woman"/>
          <p:cNvPicPr/>
          <p:nvPr/>
        </p:nvPicPr>
        <p:blipFill>
          <a:blip r:embed="rId1"/>
          <a:stretch/>
        </p:blipFill>
        <p:spPr>
          <a:xfrm>
            <a:off x="876240" y="2286000"/>
            <a:ext cx="3129120" cy="3886200"/>
          </a:xfrm>
          <a:prstGeom prst="rect">
            <a:avLst/>
          </a:prstGeom>
          <a:ln w="0">
            <a:noFill/>
          </a:ln>
        </p:spPr>
      </p:pic>
      <p:pic>
        <p:nvPicPr>
          <p:cNvPr id="711" name="Picture 2" descr="hospital room"/>
          <p:cNvPicPr/>
          <p:nvPr/>
        </p:nvPicPr>
        <p:blipFill>
          <a:blip r:embed="rId2"/>
          <a:stretch/>
        </p:blipFill>
        <p:spPr>
          <a:xfrm>
            <a:off x="4105440" y="2747880"/>
            <a:ext cx="4638600" cy="30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28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30" dur="5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34" dur="5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2" name="Picture 2" descr="woman"/>
          <p:cNvPicPr/>
          <p:nvPr/>
        </p:nvPicPr>
        <p:blipFill>
          <a:blip r:embed="rId1"/>
          <a:stretch/>
        </p:blipFill>
        <p:spPr>
          <a:xfrm>
            <a:off x="3238560" y="1828800"/>
            <a:ext cx="3128760" cy="3886200"/>
          </a:xfrm>
          <a:prstGeom prst="rect">
            <a:avLst/>
          </a:prstGeom>
          <a:ln w="0">
            <a:noFill/>
          </a:ln>
        </p:spPr>
      </p:pic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771120" y="8377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cc"/>
                </a:solidFill>
                <a:latin typeface="Times New Roman"/>
              </a:rPr>
              <a:t>Increased emphasis on preventive services will increase health care costs and do more harm than good.</a:t>
            </a:r>
            <a:br>
              <a:rPr sz="3200"/>
            </a:b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43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77112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Prevention and Early Detection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15" name=""/>
          <p:cNvSpPr txBox="1"/>
          <p:nvPr/>
        </p:nvSpPr>
        <p:spPr>
          <a:xfrm>
            <a:off x="771120" y="205740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Microsoft Sans Serif"/>
                <a:ea typeface="Microsoft Sans Serif"/>
              </a:rPr>
              <a:t>The national conversation seems to equate the two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Microsoft Sans Serif"/>
                <a:ea typeface="Microsoft Sans Serif"/>
              </a:rPr>
              <a:t>prevention = early detectio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Microsoft Sans Serif"/>
                <a:ea typeface="Microsoft Sans Serif"/>
              </a:rPr>
              <a:t>More importantly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Microsoft Sans Serif"/>
                <a:ea typeface="Microsoft Sans Serif"/>
              </a:rPr>
              <a:t>early detection = preventio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77112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Disease du jour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17" name=""/>
          <p:cNvSpPr txBox="1"/>
          <p:nvPr/>
        </p:nvSpPr>
        <p:spPr>
          <a:xfrm>
            <a:off x="771120" y="205740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Microsoft Sans Serif"/>
                <a:ea typeface="Microsoft Sans Serif"/>
              </a:rPr>
              <a:t>If we are serious about prevention…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Microsoft Sans Serif"/>
                <a:ea typeface="Microsoft Sans Serif"/>
              </a:rPr>
              <a:t>Then the disease “I” care about must be detected earl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7T23:06:32Z</dcterms:created>
  <dc:creator>Sandy K. Cummings</dc:creator>
  <dc:description>6/24/04</dc:description>
  <cp:keywords/>
  <dc:language>en-US</dc:language>
  <cp:lastModifiedBy> </cp:lastModifiedBy>
  <cp:lastPrinted>2003-01-21T20:19:23Z</cp:lastPrinted>
  <dcterms:modified xsi:type="dcterms:W3CDTF">2010-03-02T15:44:44Z</dcterms:modified>
  <cp:revision>234</cp:revision>
  <dc:subject/>
  <dc:title>AHRQ Slide Template 2004</dc:title>
</cp:coreProperties>
</file>