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758-EB3A-4195-A55C-85957B18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EDE-EC18-4415-8ACB-C597353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038F6-6C43-4007-8DAB-AF4F2680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B7AD-A830-4DF8-8E2F-BB35E780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EF62-0FD0-44AC-A39C-9C55F7A3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3A13-A833-458D-B4CC-C41F2F4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EB2DC-005C-4A08-A363-4D1AA94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7D47-05A2-472E-AD7B-F53DF08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4971-B013-4CF5-9415-241856E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A664-060A-4C18-82BF-9F332B5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5E58-C338-4A34-AF03-962721AC7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3499D-B21D-4BFC-8C7B-0A7C48CE0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CD1-EF4B-4386-88E3-D381700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79804-6495-4436-AE36-9F8B4841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2C515B-D900-48B9-80B2-B38952CC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B3C8B-8400-46AB-B7FD-A4A43DE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025B2-9365-4296-952D-B77691D9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DB5B8-AFAE-45BA-9614-BCFF5B9F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33D65-A62D-412E-BD7C-12517F9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9CC1E-3A9D-43A7-A8F0-6D8CCA35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ED4C9-6A87-4A71-8898-3409218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70DB1-96B5-47CB-A7ED-D705C4D0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22B22-3A86-4C0A-8DED-34100B8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D5F-C4C7-4FE4-9983-C53A8805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EF5DE-3BDB-429B-A224-F6294FFF9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17B10-43B3-464E-86AF-584EA38FE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48E78-442D-4EF1-B832-61DD707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D73CD-7DF1-477A-93CD-B7E0B6B6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D5500-3F52-4914-8CB8-F1006B1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BB4F4-21BB-410D-880B-8B2A6F9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FF6DD-522A-49B6-8A64-F81A66D7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6866E-143D-43E6-BFA7-B084B66A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E427C-8C58-4C46-B4E8-1EF6529B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373F2-A8E9-41D8-AEAD-3312D53F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91EF-0948-4DB9-A02D-465617BB5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588EF-7F49-4162-8962-12C3B90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98310-1B4C-49E8-BE2A-8D423FB2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C8B88-6314-4AAA-9D80-F39417E0E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50B3F-36F1-4FDC-863F-103B86CC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4BAB1-354B-4DC3-AC06-0FBB57FF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B7BC9-9624-42B2-AA71-BE96DDF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7482D-703A-4666-8CC6-2F16296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24F3C-F408-48E7-921A-1A97B33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1FE1-94A9-4869-9BD5-989FB11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CD10C-DDAE-4E5C-AFF7-3413DF8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C7BE8-F953-4DEE-BA76-0961A589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93220-58A2-4E0D-8806-707A162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3B582-4EA3-44EB-993E-7458A37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2B554-D58A-4E40-9BC9-EE1F65F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CFB11-D8F6-4387-B361-F19C386D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7C532-B721-44BA-88ED-D55CA06D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4C37-5765-4810-A0A7-9BC393B73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FFA5-AEB2-4072-954D-797FB73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66AB8-905B-4B9B-A6FD-96A10FA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4C9D3-D601-4511-B1B5-B099198C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9B875-E935-4CFB-9FB2-5C783354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0C26A-8037-4F2C-9C54-0FD7592B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8C49-5358-4D60-A9CD-F253027F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D9927-E8AB-434F-9C29-F408F6FC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6438E-6214-4DAC-BE90-D6E823C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E5465-FC04-436B-85A4-BD6935A4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3FB8-388F-44B4-A448-F7C46D9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6364E-3869-4A48-8E13-959C2A3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7DAA-4D75-425F-BDE2-E32790376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E36B0-4A00-49E0-A83D-3F1A5FE3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6B8D9-6E47-49B7-9866-0FE5C32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9EC4-B860-412E-9C86-3D52343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F5E51-B5F3-42DF-980A-8D8AB573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34B1-D0E0-42C8-B59F-F2EAA0E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23B63-336E-4860-8F4B-5B25126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4395-3578-4AC0-89E8-222B815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F8A90-749B-43E9-804F-A351D3F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4603C-645C-407D-A607-53A395A1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58C56-BA2F-4101-9C45-385482D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C7C48-540B-4A17-B63C-C18FED6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52B84-968E-4C83-854C-CBD9F560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85B95-5DCE-47EC-9BF3-C825C8D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747813-1B00-4D4F-ADC8-1FD981CB4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65CB3-8450-4A62-8E45-138E6D9B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4F4FA2-BC0B-4D78-9358-F2B35A7783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AF6320-5BDD-475A-9975-2ADEB33F19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AC879D-C5C2-4C92-B6E7-39C2D9CB481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124D5F-B427-4A6F-A624-46DB78C0DA2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326F57-E483-478C-8160-385CC6A782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8034E2-12D8-436C-A789-67F505119B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8F6DFD-854A-4B90-91FF-F60A7E981D3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62D52-E12A-4B8D-AA61-EE9E94B7CB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404B7C-D269-479E-A8A0-152995343D9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700FE5-FC06-42EF-98D5-430C192692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A4E3E-EC36-4939-A2A5-FD4260E4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C9658A-3E4D-4479-BE9A-9994C92DAD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151E-61F7-4AC4-AE4D-37019B1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A37-2DDD-45D5-A03A-0B95812D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3E33C-4F40-4927-9783-5AF3CF1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AE49B-2798-491B-93B8-D4D1371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46EF-796F-485A-84EF-18FA37A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A929-6923-4FE3-B630-A3A0C870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A3A86-1047-4C37-8CC8-70EA21A1A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62C92-2BE8-4A01-A547-575553BA5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4DB39-5B64-4309-B7E8-B598C37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4E865-F4BC-415E-B559-2C2C2A1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2D475-33B0-40AB-BFE0-5394D32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D2E6E-B873-4244-9877-BDAF5CF5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33F-DC0D-40D2-88FF-10CB6687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95934-E0CE-4894-8C0A-AE44E708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D15D3-51D0-437B-B2AE-A495E5F1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ABCCE-D91C-42CE-B879-28F1A7E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AC5E5-9285-4D58-9ACE-2A55338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E0586-3886-4C3F-A1B6-D3991043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90CC3-F48B-4C82-B86D-2B3377A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8C4F3-D079-4F74-9CCB-38FBB9272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2079-12DC-4563-97A7-6C576E750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5044-CBF7-46E0-B067-C49DEF7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65C9-E2BB-4D44-9490-4133B45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EFC-C0F0-4D48-9BA8-CBAECDC3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DF7A-6076-48FB-A991-918B5F41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44C5-F0F0-405F-80BD-D40F0781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89CF-B601-4DBE-8C03-84254BA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9997-27E8-481B-A9EA-342DB7EC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28CA-EE56-4DC2-BA80-6553724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03C5-4A0E-4314-A9ED-1C74A27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56AB-620D-45A5-B271-185B375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10C1-C5A6-4483-9889-5951CF4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C388-3302-41C0-A323-5DBE0998A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C1286-D79F-42F6-901D-00A7230E2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DBE-517C-4D64-9FE4-C5D20AF7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0EB90-9C2F-493A-BFF8-83DAE61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383CC-E4AC-4643-908F-D250BBD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00A99-6630-43EE-A7A6-F93B8B35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B7343-CD43-45C8-9208-C025A086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F05F4-D7FB-4A62-88E6-AD86A78C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25578-FFC5-47C3-9634-01C623B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627C5-C907-49A4-8876-B37ED44A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57FA9-6F62-4671-9030-A7278FD2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E2FF0-C03E-4A88-B8EA-B4FEDA1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CCB03-2404-4E2A-8C04-ACA8EE8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387-1793-404C-B7BF-6096A4D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0A25A-ADA8-4FF1-A4A8-6BE2D3BBCC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D2EF9-CD82-47E3-B48E-A4437A7C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70DF2-CE9D-4603-8D83-5D91CB6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636B8-B0CB-40C4-875A-27FB7DFB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EF4A5-8DCC-459F-B279-268EE62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A55DC-04ED-4581-8CF8-2ACB9E8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A15F3-1A99-4798-9385-093B64CA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0C60F-3B29-4D8A-B331-FC3DF5C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EA097-7343-4123-BFA8-2A5934C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0C967-B0FB-479B-8A6A-643CC7E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37B-188A-4B2A-A284-80155AA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D6AE1-E62B-4B72-A4F8-2C9D716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77D77-E4ED-4B86-BDE9-CBD63857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57B1F-CE4C-4335-ACAD-8EEAD514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63BBB-7599-48A0-B905-234F64EA2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A8639-92F9-4B26-8F2C-7A8E3A3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5F73F-66DF-4D36-99CB-951961AC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81024-319F-4A59-8617-39DF3C21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2B8B7-53AF-48AE-9668-2311257A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79FC7-5BED-4121-B8C1-1D2A04C6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88A7A-9329-4D39-A8D4-F400B4F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0F7-91DA-4EFD-81B6-F376A67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F25C8-185F-4723-946F-46CD7D3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405E9-9604-48D2-B19E-E60B3C3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1CF50-9EBF-4611-B008-982C2F9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51531-2DB5-41CD-8A6F-39BAF54F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3E32F-C12A-4B85-AE8D-1D1B2F99B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5C6ED8-6E61-4CC1-B488-B08D02D9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411E49-07D1-4AAF-A9DA-B985018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033227-00E5-4004-AD10-3D605DC5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309D93-5809-4B53-9C03-63A5B70C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A5F49A-058C-4401-A86B-A8FD5B2D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E7A-8A60-4422-BBEC-4AF6E1B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180AA-01E2-4AA9-8A4E-0E49A411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24B29-3BEE-4D73-A6B8-69C6EB3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F7BA1-2987-49D3-919C-BEFE5DD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FED9E-6B40-4444-B5F1-7CF59DC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B20B9-EE76-4364-A388-A081304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F857B-9213-407B-8AFB-1C0C6BD0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9C59B-7407-4346-B6AA-6CB8E389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F592-21B4-4CEF-8F68-B57BA2752A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9C005-D94C-4C12-8625-694F0AF6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E3DD-6510-4CBE-BCE6-72314B1A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 Family Medicine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410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1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2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3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3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AA7-DD97-467C-9B05-3CD68DD0C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455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6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7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8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E7C5-8660-437F-8CFD-1B0F1AED8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00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1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2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3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6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7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8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DBE-82A1-45C7-A157-C1D630944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46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7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8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9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9"/>
          </p:nvPr>
        </p:nvSpPr>
        <p:spPr>
          <a:xfrm>
            <a:off x="77112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30"/>
          </p:nvPr>
        </p:nvSpPr>
        <p:spPr>
          <a:xfrm>
            <a:off x="737208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58A-F6AA-4D5E-BD22-43004194F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91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2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3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4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77112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514320" y="639936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737208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27D3-742A-4A94-9905-2A60FB767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637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8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9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34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3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5BB2-C952-4B76-83AC-FA48BEE7268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514440" y="2363760"/>
            <a:ext cx="9172080" cy="1600200"/>
            <a:chOff x="514440" y="2363760"/>
            <a:chExt cx="9172080" cy="1600200"/>
          </a:xfrm>
        </p:grpSpPr>
        <p:sp>
          <p:nvSpPr>
            <p:cNvPr id="47" name="Arc 2"/>
            <p:cNvSpPr/>
            <p:nvPr/>
          </p:nvSpPr>
          <p:spPr>
            <a:xfrm>
              <a:off x="6420240" y="23637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6336360" y="25290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6288480" y="27496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514440" y="30798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06A-D848-479D-AA51-41DB7CB71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92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6" name="Footer Placeholder 2"/>
          <p:cNvSpPr/>
          <p:nvPr/>
        </p:nvSpPr>
        <p:spPr>
          <a:xfrm>
            <a:off x="6772320" y="6477120"/>
            <a:ext cx="351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6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38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8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29DB-762F-4C0E-9B36-40CA3A669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83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1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E996-A577-47B9-9461-1353A1D84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228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2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3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4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D67-1DB9-4682-A026-C5B8D8253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274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5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6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124-F408-454E-9122-2C9CDE1A5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319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0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1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2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7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8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9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59F-4406-4AB1-A014-7F842C790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365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0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1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F895-D7C8-44D4-9542-F7D81DBE2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q=http://www.answers.com/early&amp;r=67&amp;ei=vLd0Sq71CcO_tgfrrNGWCQ&amp;sa=X&amp;oi=dict&amp;ct=D&amp;cd=1&amp;usg=AFQjCNGsqGDEf5wPEkDECRPKJX5LxcDYuA" TargetMode="External"/><Relationship Id="rId2" Type="http://schemas.openxmlformats.org/officeDocument/2006/relationships/hyperlink" Target="http://www.google.com/url?q=http://www.answers.com/detection&amp;r=67&amp;ei=vLd0Sq71CcO_tgfrrNGWCQ&amp;sa=X&amp;oi=dict&amp;ct=D&amp;cd=2&amp;usg=AFQjCNG1qnTMpAuQuk5Lmjlm8LPtRJK14g" TargetMode="External"/><Relationship Id="rId3" Type="http://schemas.openxmlformats.org/officeDocument/2006/relationships/hyperlink" Target="http://www.google.com/url?q=http://www.answers.com/early&amp;r=67&amp;ei=q9unSsrJEYPWNZLY4JoI&amp;sa=X&amp;oi=dict&amp;ct=D&amp;cd=1&amp;usg=AFQjCNEdrray9uwBPFzegVcGaTzEqcZnxQ" TargetMode="External"/><Relationship Id="rId4" Type="http://schemas.openxmlformats.org/officeDocument/2006/relationships/hyperlink" Target="http://www.google.com/url?q=http://www.answers.com/detection&amp;r=67&amp;ei=q9unSsrJEYPWNZLY4JoI&amp;sa=X&amp;oi=dict&amp;ct=D&amp;cd=2&amp;usg=AFQjCNHyut7LXG053G7cLdlG7mRWqPbZnQ" TargetMode="External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Not to Do in Primary Care: Overuse of Preventive Services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2520" y="738000"/>
            <a:ext cx="874404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ARLY DETEC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12520" y="-762120"/>
            <a:ext cx="874404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of the most expensive words in health c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0" name="Picture 5" descr="male"/>
          <p:cNvPicPr/>
          <p:nvPr/>
        </p:nvPicPr>
        <p:blipFill>
          <a:blip r:embed="rId1"/>
          <a:stretch/>
        </p:blipFill>
        <p:spPr>
          <a:xfrm>
            <a:off x="3314880" y="1981080"/>
            <a:ext cx="2535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12520" y="15228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ARLY DETECTION IS A NATIONAL OBSESS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2667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3" name="Picture 2" descr="woman"/>
          <p:cNvPicPr/>
          <p:nvPr/>
        </p:nvPicPr>
        <p:blipFill>
          <a:blip r:embed="rId1"/>
          <a:stretch/>
        </p:blipFill>
        <p:spPr>
          <a:xfrm>
            <a:off x="3162240" y="2133720"/>
            <a:ext cx="31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9258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arly Detection:  A National Obsess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gle: August 1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sults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of about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7,070,00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for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1"/>
              </a:rPr>
              <a:t>early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2"/>
              </a:rPr>
              <a:t>detection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0.32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seconds)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gle: September 9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sults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of about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8,210,00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for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3"/>
              </a:rPr>
              <a:t>early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4"/>
              </a:rPr>
              <a:t>detection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0.36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seconds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)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preading faster than swine f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word about early det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542600" y="373392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st common response is “why n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514440" y="6095880"/>
            <a:ext cx="848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p of the Iceber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31" name="Content Placeholder 4" descr="iceberg"/>
          <p:cNvPicPr/>
          <p:nvPr/>
        </p:nvPicPr>
        <p:blipFill>
          <a:blip r:embed="rId1"/>
          <a:stretch/>
        </p:blipFill>
        <p:spPr>
          <a:xfrm>
            <a:off x="571680" y="914400"/>
            <a:ext cx="3325680" cy="4525920"/>
          </a:xfrm>
          <a:prstGeom prst="rect">
            <a:avLst/>
          </a:prstGeom>
          <a:ln w="0">
            <a:noFill/>
          </a:ln>
        </p:spPr>
      </p:pic>
      <p:sp>
        <p:nvSpPr>
          <p:cNvPr id="732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TextBox 4"/>
          <p:cNvSpPr/>
          <p:nvPr/>
        </p:nvSpPr>
        <p:spPr>
          <a:xfrm>
            <a:off x="4381560" y="281952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iseases, that which is clinically apparent without “looking beneath the surface” is just the tip of the iceber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arly detection” could be interpreted as a heightened awareness of those people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bove the surface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with early manifestations of disease – I will call that case finding – and I will not address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, “early detection” more often implies looking beneath the surface – I will call that scre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12520" y="440676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ARE THE  SIX POSSIBLE OUTCOMES OF SCREENING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12520" y="2906280"/>
            <a:ext cx="87440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ing beneath the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negativ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the patient </a:t>
            </a:r>
            <a:r>
              <a:rPr b="0" i="1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as the disease 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- false negative - inappropriately reass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gnoring a new breast lump because mammogram was nor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negative and the pati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does not  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ave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rue negative.  No health benefit since patient does not have the dis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ough patient reassured – is that always g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s screening fatigue real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3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positiv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patient does not have dise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alse positive – subject to risks/costs of further testing and anxi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maternal serum testing for Down syndrome/Trisomy 18 is calibrated to label 5% of women abno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3080" y="304920"/>
            <a:ext cx="8829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 U.S. Preventive Services Task Force (USPSTF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47800" y="1910880"/>
            <a:ext cx="89215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Times New Roman"/>
              </a:rPr>
              <a:t>Independent panel of nationally renowned, non-federal experts in primary care and evidence-based medici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Times New Roman"/>
              </a:rPr>
              <a:t>Charged by Congress to review the scientific evidence for clinical preventive services and develop evidence-based recommendations for the health care co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positive and patient does have disea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is not destined to suffer morbidity or mortality related to the dis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reated unnecessari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25% of men in age range for prostate cancer screening have prostate cancer.  Life time risk of death is 3%.  How many of those detected by screening are treated for disease that would never have made it to the surfac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5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 positive and the patient is destined to suffer morbidity or mortality related to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outcomes of treatment in asymptomatic stage are no different from treatment after symptoms are pres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imply lengthen the treatment ti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what morbidity do we really prevent by screening for COPD with spirometry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1120" y="2057040"/>
            <a:ext cx="8744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tient destined to suffer morbidity or mortality related to the disease – and treatment in asymptomatic stage prevents complications that would develop if treatment not started until after symptoms are pres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screening for colon cancer and treating in asymptomatic stage has clearly been shown to save l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 Outcomes: Keeping Sco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1120" y="2057400"/>
            <a:ext cx="87440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or 5 of 6 outcomes, there can be NO health benefits to the pati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se 5 outcomes are not just costly – patients incur the harms of screening and treatmen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or 1 of 6 outcomes, there can be health benefits to the patien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no assurances that the benefits will exceed the harms of screening and treatment across screened population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1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hould screen when good evidence demonstrates that the benefits of detection of a disease in an asymptomatic phase exceed the harms associated with diagnosis and treatm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cross screened popul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alytic Framework on Screening for a Disease:  What Evidence Do We Seek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2" name="Picture 3" descr="flow chart"/>
          <p:cNvPicPr/>
          <p:nvPr/>
        </p:nvPicPr>
        <p:blipFill>
          <a:blip r:embed="rId1"/>
          <a:stretch/>
        </p:blipFill>
        <p:spPr>
          <a:xfrm>
            <a:off x="419040" y="1676520"/>
            <a:ext cx="9372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USPSTF Recommend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33160" y="1676160"/>
            <a:ext cx="9219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TF judges whether the strength of the available evidence is sufficient to make a reliable assessment of the balance of benefits and harms 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yes - then TF makes recommendation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no - “I” (insufficient evidence) statement 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ommon reasons: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Lack of evidence on clinical outco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oor quality of existing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d quality studies with conflicting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ades of Recommend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768" name="Object 3"/>
          <p:cNvGraphicFramePr/>
          <p:nvPr/>
        </p:nvGraphicFramePr>
        <p:xfrm>
          <a:off x="1038240" y="2133720"/>
          <a:ext cx="81882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9" name="Object 3" descr="tabl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133720"/>
                    <a:ext cx="8188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Rounded Rectangle 4"/>
          <p:cNvSpPr/>
          <p:nvPr/>
        </p:nvSpPr>
        <p:spPr>
          <a:xfrm>
            <a:off x="1028880" y="2895480"/>
            <a:ext cx="1295280" cy="5335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Rounded Rectangle 5"/>
          <p:cNvSpPr/>
          <p:nvPr/>
        </p:nvSpPr>
        <p:spPr>
          <a:xfrm>
            <a:off x="1104840" y="2362320"/>
            <a:ext cx="106704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Rounded Rectangle 6"/>
          <p:cNvSpPr/>
          <p:nvPr/>
        </p:nvSpPr>
        <p:spPr>
          <a:xfrm>
            <a:off x="7429680" y="2590920"/>
            <a:ext cx="160020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Rounded Rectangle 7"/>
          <p:cNvSpPr/>
          <p:nvPr/>
        </p:nvSpPr>
        <p:spPr>
          <a:xfrm>
            <a:off x="7429680" y="2895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Rounded Rectangle 8"/>
          <p:cNvSpPr/>
          <p:nvPr/>
        </p:nvSpPr>
        <p:spPr>
          <a:xfrm>
            <a:off x="4686480" y="2362320"/>
            <a:ext cx="129528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14080" y="272880"/>
            <a:ext cx="3384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June 29, 2008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NY Time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021200" y="272520"/>
            <a:ext cx="575136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14080" y="1828440"/>
            <a:ext cx="3384360" cy="42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’s incumbent on the community to dispense with the need for evidence-based medicine,” he said. “Thousands of people are dying unnecessarily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rdiologist from Manhattan, N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2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9" name="Picture 2" descr="screen shot of online article"/>
          <p:cNvPicPr/>
          <p:nvPr/>
        </p:nvPicPr>
        <p:blipFill>
          <a:blip r:embed="rId1"/>
          <a:stretch/>
        </p:blipFill>
        <p:spPr>
          <a:xfrm>
            <a:off x="4689360" y="333360"/>
            <a:ext cx="50990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acterial vaginosis in asymptomatic pregnant women at low risk for preterm deli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bacteriuria in men and nonpregnant wom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onic obstructive pulmonary disease (COPD) using spiromet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reditary hemochromato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ferral for genetic counseling or routine </a:t>
            </a:r>
            <a:r>
              <a:rPr b="1" i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RCA</a:t>
            </a: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testing for women whose family history is not associated with an increased ris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rrent USPSTF Memb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17680" y="2457360"/>
            <a:ext cx="47736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usan Curry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omas G. DeWitt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llen J. Dietrich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Kimberly D. Gregory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David Grossman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eorge Isham, M.D., M.S.</a:t>
            </a: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ichael LeFevre, M.D., M.S.P.H</a:t>
            </a:r>
            <a:r>
              <a:rPr b="0" lang="en-US" sz="22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219640" y="2666880"/>
            <a:ext cx="50673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osanne Leipzig, M.D.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Lucy N. Marion, Ph.D., R.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Joy Melnikow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ernadette Melnyk, Ph.D., R.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anda Nicholson, M.D., M.P.H., M.B.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J. Sanford (Sandy) Schwartz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imothy Wilt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1409760" y="16002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ruce N. (Ned) Calonge, M.D., M.P.H. (Chai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ana B. Petitti, M.D., M.P.H. (Vice Chai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patitis B viru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eneral asymptomatic populatio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patitis C viru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adults who are not at increased ris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yphili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persons who are not at increased risk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adolescents for idiopathic scolio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levated blood lead levels in asymptomatic children aged 1 to 5 years who are at average ris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carotid artery stenosi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eripheral arterial disea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AA in wom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CG, treadmill ECG or electron-beam computerized tomography (EBCT) scanning for the presence of severe coronary artery stenosis or the prediction of coronary heart disease (CHD) events in adults at low risk for CHD ev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ovarian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ncreatic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icular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ladder canc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outine Pap smear screening in women who have had a total hysterectomy for benign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rostate cancer in men age 75 years or ol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12520" y="661680"/>
            <a:ext cx="874404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E ARE SWIMMING UPSTREAM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12520" y="-838080"/>
            <a:ext cx="87440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to lay eggs and di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3" name="Picture 5" descr="male"/>
          <p:cNvPicPr/>
          <p:nvPr/>
        </p:nvPicPr>
        <p:blipFill>
          <a:blip r:embed="rId1"/>
          <a:stretch/>
        </p:blipFill>
        <p:spPr>
          <a:xfrm>
            <a:off x="2171880" y="2286000"/>
            <a:ext cx="2590560" cy="38926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woman"/>
          <p:cNvPicPr/>
          <p:nvPr/>
        </p:nvPicPr>
        <p:blipFill>
          <a:blip r:embed="rId2"/>
          <a:stretch/>
        </p:blipFill>
        <p:spPr>
          <a:xfrm>
            <a:off x="5295960" y="2286000"/>
            <a:ext cx="3128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12520" y="440676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FORCES FOR PROVIDERS TO “DO” ARE ENORMOUSLY GREATER THAN THE FORCES TO “NOT DO”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 noble ambition to do good, and the failure to recognize (or the ability to ignore) ha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iss Sai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o I wanted to save her, protect her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ist, I'm American, how could I fail to do good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o I wanted to save her, protect her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ist, I'm a doctor, how could I fail to do good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 cultural expectation that medical care can only do good, not harm, and that more care is always better than 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public and the medical profession have faith in techn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74368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CREENING SHOULD NOT BE A FAITH-BASED INITIATI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01" name="Picture 2" descr="woman"/>
          <p:cNvPicPr/>
          <p:nvPr/>
        </p:nvPicPr>
        <p:blipFill>
          <a:blip r:embed="rId1"/>
          <a:stretch/>
        </p:blipFill>
        <p:spPr>
          <a:xfrm>
            <a:off x="3238560" y="2209680"/>
            <a:ext cx="3128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American Cancer Soci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re are disease advocacy organizations that have substantial sway over the opinions of the public and medical prof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Picture 3" descr="male"/>
          <p:cNvPicPr/>
          <p:nvPr/>
        </p:nvPicPr>
        <p:blipFill>
          <a:blip r:embed="rId1"/>
          <a:stretch/>
        </p:blipFill>
        <p:spPr>
          <a:xfrm>
            <a:off x="6972480" y="2054160"/>
            <a:ext cx="15238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ear of litig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ailure to detect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1"/>
          <p:cNvSpPr/>
          <p:nvPr/>
        </p:nvSpPr>
        <p:spPr>
          <a:xfrm>
            <a:off x="114480" y="62485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266760" y="2590920"/>
            <a:ext cx="1754280" cy="15238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RQ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 flipV="1">
            <a:off x="2095560" y="2437920"/>
            <a:ext cx="2360520" cy="83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095560" y="3809880"/>
            <a:ext cx="2668680" cy="11430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4381560" y="1066680"/>
            <a:ext cx="2514600" cy="16765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ST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Oval 7"/>
          <p:cNvSpPr/>
          <p:nvPr/>
        </p:nvSpPr>
        <p:spPr>
          <a:xfrm>
            <a:off x="4838760" y="4572000"/>
            <a:ext cx="1676520" cy="990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Line 8"/>
          <p:cNvSpPr/>
          <p:nvPr/>
        </p:nvSpPr>
        <p:spPr>
          <a:xfrm flipV="1">
            <a:off x="6134040" y="2666880"/>
            <a:ext cx="0" cy="1905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3084480" y="4267080"/>
            <a:ext cx="150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synthesiz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6132960" y="30481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2171880" y="685800"/>
            <a:ext cx="6629400" cy="510552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2552400" y="2209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ven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Line 13"/>
          <p:cNvSpPr/>
          <p:nvPr/>
        </p:nvSpPr>
        <p:spPr>
          <a:xfrm>
            <a:off x="6943680" y="2590920"/>
            <a:ext cx="125748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7535520" y="28954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3" name="Text Box 15"/>
          <p:cNvSpPr/>
          <p:nvPr/>
        </p:nvSpPr>
        <p:spPr>
          <a:xfrm>
            <a:off x="3770280" y="304812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alyti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5295960" y="2743200"/>
            <a:ext cx="0" cy="1828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Oval 17"/>
          <p:cNvSpPr/>
          <p:nvPr/>
        </p:nvSpPr>
        <p:spPr>
          <a:xfrm>
            <a:off x="5143680" y="5486400"/>
            <a:ext cx="106668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RQ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Quality Meas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urrent PQRI quality measures include 13 specific measures that include the word “screening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very one requires scre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Not one single measure addresses use of unnecessary screening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very dollar spent on health care is a dollar of income for someon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n the debates of health care reform past (and perhaps present):  it is “immoral” to pay physicians to “withhold ca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Not to Do in Primary Care: Overuse of Preventive Services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1561680" y="40381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“Prevention” translates to unbridled use of early detection (a.k.a. screening), then in the process of promoting prevention we will do much harm and health care costs will incr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hould screen when good evidence demonstrates that the benefits of detection of a disease in an asymptomatic phase exceed the harms associated with diagnosis and treatm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cross screened popul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eps Forwar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71120" y="2057400"/>
            <a:ext cx="8744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national conversation needs to ch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 think it is chan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TextBox 3"/>
          <p:cNvSpPr/>
          <p:nvPr/>
        </p:nvSpPr>
        <p:spPr>
          <a:xfrm>
            <a:off x="1790640" y="44197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l change is perceived as loss by someon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PSTF officials may deny knowledge of my existence </a:t>
            </a:r>
            <a:br>
              <a:rPr sz="44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(and remove my name from the list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07" name="Picture 2" descr="woman"/>
          <p:cNvPicPr/>
          <p:nvPr/>
        </p:nvPicPr>
        <p:blipFill>
          <a:blip r:embed="rId1"/>
          <a:stretch/>
        </p:blipFill>
        <p:spPr>
          <a:xfrm>
            <a:off x="1790640" y="2209680"/>
            <a:ext cx="3129120" cy="38862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male"/>
          <p:cNvPicPr/>
          <p:nvPr/>
        </p:nvPicPr>
        <p:blipFill>
          <a:blip r:embed="rId2"/>
          <a:stretch/>
        </p:blipFill>
        <p:spPr>
          <a:xfrm>
            <a:off x="5753160" y="2209680"/>
            <a:ext cx="25909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PSTF officials deny knowledge of my exist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10" name="Picture 2" descr="woman"/>
          <p:cNvPicPr/>
          <p:nvPr/>
        </p:nvPicPr>
        <p:blipFill>
          <a:blip r:embed="rId1"/>
          <a:stretch/>
        </p:blipFill>
        <p:spPr>
          <a:xfrm>
            <a:off x="876240" y="2286000"/>
            <a:ext cx="3129120" cy="38862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hospital room"/>
          <p:cNvPicPr/>
          <p:nvPr/>
        </p:nvPicPr>
        <p:blipFill>
          <a:blip r:embed="rId2"/>
          <a:stretch/>
        </p:blipFill>
        <p:spPr>
          <a:xfrm>
            <a:off x="4105440" y="2747880"/>
            <a:ext cx="4638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woman"/>
          <p:cNvPicPr/>
          <p:nvPr/>
        </p:nvPicPr>
        <p:blipFill>
          <a:blip r:embed="rId1"/>
          <a:stretch/>
        </p:blipFill>
        <p:spPr>
          <a:xfrm>
            <a:off x="3238560" y="1828800"/>
            <a:ext cx="3128760" cy="38862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71120" y="837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creased emphasis on preventive services will increase health care costs and do more harm than good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vention and Early Det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national conversation seems to equate the tw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revention = early det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ore importantl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arly detection = preven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ease du jou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we are serious about prevention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n the disease “I” care about must be detected ear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3:06:32Z</dcterms:created>
  <dc:creator>Sandy K. Cummings</dc:creator>
  <dc:description>6/24/04</dc:description>
  <cp:keywords/>
  <dc:language>en-US</dc:language>
  <cp:lastModifiedBy> </cp:lastModifiedBy>
  <cp:lastPrinted>2003-01-21T20:19:23Z</cp:lastPrinted>
  <dcterms:modified xsi:type="dcterms:W3CDTF">2010-03-02T15:44:44Z</dcterms:modified>
  <cp:revision>234</cp:revision>
  <dc:subject/>
  <dc:title>AHRQ Slide Template 2004</dc:title>
</cp:coreProperties>
</file>