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B0B9-0B1E-4817-B044-8DBE2AF64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A38E-0613-40BB-9C16-A3C4B6433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D968-E730-43C0-8ADD-F7A98CA7B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AD31-4F40-443B-BC95-BADBAA2FF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3D97-E6BC-46E6-BC23-56904C5B2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5900-705C-4933-97AF-0FC59722F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1242-C356-4919-AD03-0E9552779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3263-9901-4572-84B9-081B149C4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09EF-DF11-4724-BEF9-9BD4A2DF4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AFD3-9D97-40C9-AC33-A52E59D48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CDF5-0542-4A90-AB3D-C63B1D237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30D6-579A-4A7D-8B0B-5BBF27E35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BC7C-BE09-4BD8-A92F-8789E6EE7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6389-5F62-4F6F-9B02-6B6DF6A1C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CECC-CA3F-4CB7-9B7A-8ABDA1155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F23B-16D7-49A2-A975-EDA0621A3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581F-6BA0-4533-8DA9-C5AD119F0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1402A-0004-47C4-98A0-5EEC55971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5211E-E216-4AAD-BFB7-42A01658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1F3D-9FE1-4EF2-9045-520686EFA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0C973-5413-464D-A149-C9206C0BE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DD3F-9E90-4E63-8D23-FE0F06C00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9746-CFFA-4999-9046-0559BAD6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24D8-AD66-4EC8-8D96-0190AF50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2D60-C4B2-4E14-83CA-E76D3331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47C32-0148-4DC3-9E15-64B8A8295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89A5-BB0F-43BB-BA88-0F87CDAE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B8346-E83C-4BCE-92F3-42E9754A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E05E-06FD-4209-B53A-566CDF391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97ED-9A53-4C31-9046-8BF0554CF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Highlights of Institute of Medicine Report on</a:t>
            </a:r>
            <a:r>
              <a:rPr b="0" lang="en-US" sz="4400" spc="-1" strike="noStrike">
                <a:solidFill>
                  <a:srgbClr val="000000"/>
                </a:solidFill>
                <a:latin typeface="Times New Roman"/>
              </a:rPr>
              <a:t> </a:t>
            </a:r>
            <a:r>
              <a:rPr b="1" lang="en-US" sz="4400" spc="-1" strike="noStrike">
                <a:solidFill>
                  <a:srgbClr val="3333cc"/>
                </a:solidFill>
                <a:latin typeface="Times New Roman"/>
              </a:rPr>
              <a:t>Conflict of Interest in Medical Research, Education, and Practice</a:t>
            </a:r>
            <a:br>
              <a:rPr sz="4400"/>
            </a:br>
            <a:r>
              <a:rPr b="0" i="1" lang="en-US" sz="3600" spc="-1" strike="noStrike">
                <a:solidFill>
                  <a:srgbClr val="000000"/>
                </a:solidFill>
                <a:latin typeface="Times New Roman"/>
              </a:rPr>
              <a:t>As Related to Practice Guidelines</a:t>
            </a:r>
            <a:br>
              <a:rPr sz="3600"/>
            </a:b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609480" y="4038120"/>
            <a:ext cx="7848720" cy="1600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ks by</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Krughoff, Presiden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CHECKBOOK/Center for the Study of Service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or</a:t>
            </a: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HRQ 2009 Annual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8963-BF95-4912-A78C-A6D86BCAA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Continuing Medical Education</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 Consensus development process should be convened to develop a new system of funding accredited continuing medical education that is free of industry “influence” and provides high-quality education </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Quotation marks here and later are mine to highlight ambiguities that trouble m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D52B-A9EC-4B83-8640-79E776297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Medical Practice</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257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Physicians should</a:t>
            </a:r>
            <a:endParaRPr b="0" lang="en-US" sz="24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accept items of material value, or consulting arrangements, except when a transaction involves payment at “fair market value” for a “legitimate service”</a:t>
            </a:r>
            <a:endParaRPr b="0" lang="en-US" sz="22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meet with sales representatives except by documented appointment and at the physician’s express invitation</a:t>
            </a:r>
            <a:endParaRPr b="0" lang="en-US" sz="22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accept ghostwriting</a:t>
            </a:r>
            <a:endParaRPr b="0" lang="en-US" sz="22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acceptance of drug samples—if at all, only give to patients who lack financial access to medications and only when generic alternatives are not available and the medication can be continued at little or no cost to the patient for as long as it is needed </a:t>
            </a:r>
            <a:endParaRPr b="0" lang="en-US" sz="22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fessional societies and health care providers should amend policies to support these recommendation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Companies should have policies and practices consistent with thes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B7B5-EA61-44E3-A1B4-A471ED16C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380880" y="304920"/>
            <a:ext cx="83822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143000"/>
            <a:ext cx="7772400" cy="495288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1 Organizations that develop clinical practice guidelines should—</a:t>
            </a:r>
            <a:endParaRPr b="0" lang="en-US" sz="2200" spc="-1" strike="noStrike">
              <a:solidFill>
                <a:srgbClr val="000000"/>
              </a:solidFill>
              <a:latin typeface="Times New Roman"/>
            </a:endParaRPr>
          </a:p>
          <a:p>
            <a:pPr lvl="1" marL="71316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clude as panel members individuals with conflicts of interest </a:t>
            </a:r>
            <a:endParaRPr b="0" lang="en-US" sz="2200" spc="-1" strike="noStrike">
              <a:solidFill>
                <a:srgbClr val="000000"/>
              </a:solidFill>
              <a:latin typeface="Times New Roman"/>
            </a:endParaRPr>
          </a:p>
          <a:p>
            <a:pPr lvl="1" marL="71316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 accept “direct” funding of guidelines from companies or company foundations</a:t>
            </a:r>
            <a:endParaRPr b="0" lang="en-US" sz="2200" spc="-1" strike="noStrike">
              <a:solidFill>
                <a:srgbClr val="000000"/>
              </a:solidFill>
              <a:latin typeface="Times New Roman"/>
            </a:endParaRPr>
          </a:p>
          <a:p>
            <a:pPr lvl="1" marL="71316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blicly disclose with each guideline their conflict of interest policies, procedures, and sources and amounts of “indirect” or direct funding for the guideline</a:t>
            </a:r>
            <a:endParaRPr b="0" lang="en-US" sz="2200" spc="-1" strike="noStrike">
              <a:solidFill>
                <a:srgbClr val="000000"/>
              </a:solidFill>
              <a:latin typeface="Times New Roman"/>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port text:  Some committee members also wanted groups that develop guidelines to report publicly all their sources, amounts, and purposes of funding because industry contributions to general revenues (e.g., from journal advertising) could also create undue influence. There was not consensus on this poin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7192-EBDB-43CA-9BBD-DB6BFE160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380880" y="304560"/>
            <a:ext cx="83822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85" name="PlaceHolder 2"/>
          <p:cNvSpPr>
            <a:spLocks noGrp="1"/>
          </p:cNvSpPr>
          <p:nvPr>
            <p:ph/>
          </p:nvPr>
        </p:nvSpPr>
        <p:spPr>
          <a:xfrm>
            <a:off x="304560" y="914040"/>
            <a:ext cx="8458200" cy="518148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 cont’d--In the exceptional situation in which avoidance of participants with conflicts of interest is impossible because of the critical need for expertise, then organizations should--</a:t>
            </a:r>
            <a:endParaRPr b="0" lang="en-US" sz="24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blicly document that they made a good faith effort to find expert panel members without conflicts of interest by issuing a public call for members and other recruitment measures</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oint a chair without a conflict of interest</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mit members with conflicting interests to a distinct minority of the panel</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clude individuals who have a fiduciary or promotional relationship with a company that makes a product that may be affected by the guidelines</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clude panel members with conflicts from deliberating, drafting, or voting on recommendations</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blicly disclose relevant conflicts of interest for panel members</a:t>
            </a:r>
            <a:endParaRPr b="0" lang="en-US" sz="2200" spc="-1" strike="noStrike">
              <a:solidFill>
                <a:srgbClr val="000000"/>
              </a:solidFill>
              <a:latin typeface="Times New Roman"/>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8045-6946-444F-A071-47A59A674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80880" y="533160"/>
            <a:ext cx="83822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88" name="PlaceHolder 2"/>
          <p:cNvSpPr>
            <a:spLocks noGrp="1"/>
          </p:cNvSpPr>
          <p:nvPr>
            <p:ph/>
          </p:nvPr>
        </p:nvSpPr>
        <p:spPr>
          <a:xfrm>
            <a:off x="762120" y="1219320"/>
            <a:ext cx="7772400" cy="487656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ote the exclusion of panel members with conflicts from deliberating, drafting, or voting on recommendations.</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xclusion is not limited to portions of guidelines that relate to the member’s conflicts.</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mmittee’s judgment was that if the guideline panel would be able to reach judgment without the conflicted member’s deliberation, drafting, or voting on a conflict-related issue, then the panel could do this on all issues—that the conflicted member’s role was merely to be a convenient source of information and understanding/education for other panel members, not one of the judges. </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25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8896-1280-4225-B3E9-26005B0DE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80880" y="380880"/>
            <a:ext cx="8382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91" name="PlaceHolder 2"/>
          <p:cNvSpPr>
            <a:spLocks noGrp="1"/>
          </p:cNvSpPr>
          <p:nvPr>
            <p:ph/>
          </p:nvPr>
        </p:nvSpPr>
        <p:spPr>
          <a:xfrm>
            <a:off x="380880" y="990360"/>
            <a:ext cx="8382240" cy="510516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ort text:  </a:t>
            </a:r>
            <a:endParaRPr b="0" lang="en-US" sz="2400" spc="-1" strike="noStrike">
              <a:solidFill>
                <a:srgbClr val="000000"/>
              </a:solidFill>
              <a:latin typeface="Times New Roman"/>
            </a:endParaRPr>
          </a:p>
          <a:p>
            <a:pPr lvl="1" marL="690840" indent="-265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mittee believed that an end to direct funding for guidelines is necessary to avoid the conflicts that come from industry financing. </a:t>
            </a:r>
            <a:endParaRPr b="0" lang="en-US" sz="22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panded role for public-sector sponsorship of guidelines would be desirable, but that issue is beyond committee’s scope.</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essional societies could collaborate and share costs.</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oling mechanisms might be created to support guideline development in broad categories. </a:t>
            </a:r>
            <a:endParaRPr b="0" lang="en-US" sz="2000" spc="-1" strike="noStrike">
              <a:solidFill>
                <a:srgbClr val="000000"/>
              </a:solidFill>
              <a:latin typeface="Times New Roman"/>
            </a:endParaRPr>
          </a:p>
          <a:p>
            <a:pPr lvl="1" marL="690840" indent="-265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mittee endorsed a recent IOM report calling for Congress to require designation of a single entity with the responsibility to-- </a:t>
            </a:r>
            <a:endParaRPr b="0" lang="en-US" sz="2200" spc="-1" strike="noStrike">
              <a:solidFill>
                <a:srgbClr val="000000"/>
              </a:solidFill>
              <a:latin typeface="Times New Roman"/>
            </a:endParaRPr>
          </a:p>
          <a:p>
            <a:pPr lvl="2" marL="1062720" indent="-212400">
              <a:lnSpc>
                <a:spcPct val="100000"/>
              </a:lnSpc>
              <a:spcBef>
                <a:spcPts val="499"/>
              </a:spcBef>
              <a:buClr>
                <a:srgbClr val="000000"/>
              </a:buClr>
              <a:buFont typeface="TimesNewRoman,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Bold"/>
                <a:ea typeface="Times New Roman"/>
              </a:rPr>
              <a:t>Establish priorities for and manage the development of systematic reviews of clinical effectiveness</a:t>
            </a:r>
            <a:endParaRPr b="0" lang="en-US" sz="2000" spc="-1" strike="noStrike">
              <a:solidFill>
                <a:srgbClr val="000000"/>
              </a:solidFill>
              <a:latin typeface="Times New Roman"/>
            </a:endParaRPr>
          </a:p>
          <a:p>
            <a:pPr lvl="2" marL="1062720" indent="-212400">
              <a:lnSpc>
                <a:spcPct val="100000"/>
              </a:lnSpc>
              <a:spcBef>
                <a:spcPts val="499"/>
              </a:spcBef>
              <a:buClr>
                <a:srgbClr val="000000"/>
              </a:buClr>
              <a:buFont typeface="TimesNewRoman,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Bold"/>
                <a:ea typeface="Times New Roman"/>
              </a:rPr>
              <a:t>Develop standards for such reviews and for clinical guidelines</a:t>
            </a:r>
            <a:endParaRPr b="0" lang="en-US" sz="2000" spc="-1" strike="noStrike">
              <a:solidFill>
                <a:srgbClr val="000000"/>
              </a:solidFill>
              <a:latin typeface="Times New Roman"/>
            </a:endParaRPr>
          </a:p>
          <a:p>
            <a:pPr lvl="2" marL="1062720" indent="-212400">
              <a:lnSpc>
                <a:spcPct val="100000"/>
              </a:lnSpc>
              <a:spcBef>
                <a:spcPts val="499"/>
              </a:spcBef>
              <a:buClr>
                <a:srgbClr val="000000"/>
              </a:buClr>
              <a:buFont typeface="TimesNewRoman,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Bold"/>
                <a:ea typeface="Times New Roman"/>
              </a:rPr>
              <a:t>Address conflicting guidelines. </a:t>
            </a:r>
            <a:endParaRPr b="0" lang="en-US" sz="20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465D-FF81-4737-9D57-135684FF6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880" y="380880"/>
            <a:ext cx="8382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94" name="PlaceHolder 2"/>
          <p:cNvSpPr>
            <a:spLocks noGrp="1"/>
          </p:cNvSpPr>
          <p:nvPr>
            <p:ph/>
          </p:nvPr>
        </p:nvSpPr>
        <p:spPr>
          <a:xfrm>
            <a:off x="380880" y="1143000"/>
            <a:ext cx="838224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2 Accrediting and certification bodies, health insurers, public agencies, and other similar organizations should encourage institutions that develop practice guidelines to adopt conflict of interest policies consistent with the recommendations in this report. Two desirable steps are for </a:t>
            </a:r>
            <a:endParaRPr b="0" lang="en-US" sz="24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National Guidelines Clearinghouse to require that all guidelines accepted for posting describe (or provide a link to) the developer’s conflict of interest policies, the sources and amounts of funding for the guideline, and the relevant financial interests of guideline panel members if any</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rediting and certification organizations, public and private health plans, and similar groups to avoid using practice guidelines for performance measures, coverage decisions, and similar purposes if the guideline developers do not follow the practices recommended in this report</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A156-F6A8-418E-A457-9A796F0C0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OM Committee’s Charge</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conflicts of interest in medical research, education, and practice and in the development of clinical practice guide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nalyses and recommendations to inform policies to identify, limit, and manage conflicts of interest in these contexts without damaging constructive collaborations with industry</a:t>
            </a: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79DF-FC76-4BC3-AA0B-BD26F3079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920"/>
            <a:ext cx="77724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s in academic medical centers, research institutions, professional societies, journals, et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nflicts might affect persons and organizations that rely on good research, education, care, and guidelines—and how these organizations might use their leverage to enforce conflict of interest policie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censing boards, insurers, provider organizations, consumer organizations, patients, etc.</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onsidered financial conflicts related to drug, device, and biotechnology industries, not conflicts related to—</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ment/reimbursement systems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fessional training and preference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wnership interests in provider organization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llectual biases</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125F-E9F8-4AEC-A7A8-6572D914E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nflict of Interest</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mstances that create a risk that professional judgments or actions regarding a primary interest will be unduly influenced by a secondary inter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interests of medicine are to—</a:t>
            </a:r>
            <a:endParaRPr b="0" lang="en-US" sz="24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 beneficial care to patient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uct valid research</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fer excellent medical education</a:t>
            </a: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s of for-profit medical companies are to—</a:t>
            </a:r>
            <a:endParaRPr b="0" lang="en-US" sz="24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duce products that improve health</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a financial return to shareholders</a:t>
            </a: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flict of interest is a risk--not necessarily the existence of biased judgment or ac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5ADC-C958-4BC1-9A41-B8E7CFE54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sions and Challenges</a:t>
            </a:r>
            <a:endParaRPr b="0" lang="en-US" sz="3600" spc="-1" strike="noStrike">
              <a:solidFill>
                <a:srgbClr val="000000"/>
              </a:solidFill>
              <a:latin typeface="Times New Roman"/>
            </a:endParaRPr>
          </a:p>
        </p:txBody>
      </p:sp>
      <p:sp>
        <p:nvSpPr>
          <p:cNvPr id="61" name="PlaceHolder 2"/>
          <p:cNvSpPr>
            <a:spLocks noGrp="1"/>
          </p:cNvSpPr>
          <p:nvPr>
            <p:ph/>
          </p:nvPr>
        </p:nvSpPr>
        <p:spPr>
          <a:xfrm>
            <a:off x="609480" y="1523880"/>
            <a:ext cx="7848720" cy="4572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benefits from interactions between clinicians/researchers and industr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 of discoveries into products for clinical practice</a:t>
            </a:r>
            <a:endParaRPr b="0" lang="en-US" sz="2400" spc="-1" strike="noStrike">
              <a:solidFill>
                <a:srgbClr val="000000"/>
              </a:solidFill>
              <a:latin typeface="Times New Roman"/>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ut how big are these benefits, and what if the system had not evolved this way—not addressed by committe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re are risks of interac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 in professional judgm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of public trust</a:t>
            </a:r>
            <a:endParaRPr b="0" lang="en-US" sz="2400" spc="-1" strike="noStrike">
              <a:solidFill>
                <a:srgbClr val="000000"/>
              </a:solidFill>
              <a:latin typeface="Times New Roman"/>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ittee gave evidence of harm, but could not quantify harm]</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olicies on conflicts of interest might have unintended adverse consequenc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BAEA-8082-4243-B5F8-D0D06A4FE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ittee’s Approach to Conflicts of Interest</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losure an essential but limited first step</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likelihood and seriousness of harm</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ether conflict should be prohibited or managed, and if managed, ho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6EA3-F905-4931-B185-85EA73DD2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60" y="22824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Disclosure/Management</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371240"/>
            <a:ext cx="7696080" cy="5257800"/>
          </a:xfrm>
          <a:prstGeom prst="rect">
            <a:avLst/>
          </a:prstGeom>
          <a:noFill/>
          <a:ln w="0">
            <a:noFill/>
          </a:ln>
        </p:spPr>
        <p:txBody>
          <a:bodyPr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 3.2 Institutions/organizations that conduct medical research, medical education, patient care, and practice guideline development should adopt and make public conflict of interest policies for individuals </a:t>
            </a:r>
            <a:endParaRPr b="0" lang="en-US" sz="24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e conflict of interest committee to review disclosures and determine response to conflicts (e.g., eliminate, manage)</a:t>
            </a:r>
            <a:endParaRPr b="0"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 disclosures specific enough to identify and assess risks of relationships</a:t>
            </a:r>
            <a:endParaRPr b="0"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void unnecessary administrative burdens</a:t>
            </a:r>
            <a:endParaRPr b="0" lang="en-US" sz="2200" spc="-1" strike="noStrike">
              <a:solidFill>
                <a:srgbClr val="000000"/>
              </a:solidFill>
              <a:latin typeface="Times New Roman"/>
            </a:endParaRPr>
          </a:p>
          <a:p>
            <a:pPr marL="34308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E2DF-7B76-495D-A763-FBBA4C1AD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0" y="3805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Disclosure/Management</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70" name="PlaceHolder 2"/>
          <p:cNvSpPr>
            <a:spLocks noGrp="1"/>
          </p:cNvSpPr>
          <p:nvPr>
            <p:ph/>
          </p:nvPr>
        </p:nvSpPr>
        <p:spPr>
          <a:xfrm>
            <a:off x="685800" y="1294920"/>
            <a:ext cx="7772400" cy="48006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There should be a broad-based consensus process to develop </a:t>
            </a:r>
            <a:r>
              <a:rPr b="0" i="1" lang="en-US" sz="2400" spc="-1" strike="noStrike">
                <a:solidFill>
                  <a:srgbClr val="000000"/>
                </a:solidFill>
                <a:latin typeface="Times New Roman"/>
              </a:rPr>
              <a:t>standard categories and formats for disclosure</a:t>
            </a:r>
            <a:r>
              <a:rPr b="0" lang="en-US" sz="2400" spc="-1" strike="noStrike">
                <a:solidFill>
                  <a:srgbClr val="000000"/>
                </a:solidFill>
                <a:latin typeface="Times New Roman"/>
              </a:rPr>
              <a:t> of financial interests to institutions, with the expectation that this would lead to common software that individuals could use to report for multiple purposes--</a:t>
            </a:r>
            <a:endParaRPr b="0" lang="en-US" sz="2400" spc="-1" strike="noStrike">
              <a:solidFill>
                <a:srgbClr val="000000"/>
              </a:solidFill>
              <a:latin typeface="Times New Roman"/>
            </a:endParaRPr>
          </a:p>
          <a:p>
            <a:pPr lvl="1" marL="727920" indent="-280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ce burden on individuals who have to report</a:t>
            </a:r>
            <a:endParaRPr b="0" lang="en-US" sz="2200" spc="-1" strike="noStrike">
              <a:solidFill>
                <a:srgbClr val="000000"/>
              </a:solidFill>
              <a:latin typeface="Times New Roman"/>
            </a:endParaRPr>
          </a:p>
          <a:p>
            <a:pPr lvl="1" marL="727920" indent="-280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rove adequacy of information to assess relationships and risks</a:t>
            </a:r>
            <a:endParaRPr b="0" lang="en-US" sz="22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 Congress should require pharmaceutical, medical device, and biotechnology </a:t>
            </a:r>
            <a:r>
              <a:rPr b="0" i="1" lang="en-US" sz="2400" spc="-1" strike="noStrike">
                <a:solidFill>
                  <a:srgbClr val="000000"/>
                </a:solidFill>
                <a:latin typeface="Times New Roman"/>
              </a:rPr>
              <a:t>companies to publicly report payments</a:t>
            </a:r>
            <a:r>
              <a:rPr b="0" lang="en-US" sz="2400" spc="-1" strike="noStrike">
                <a:solidFill>
                  <a:srgbClr val="000000"/>
                </a:solidFill>
                <a:latin typeface="Times New Roman"/>
              </a:rPr>
              <a:t> to physicians and other prescribers, researchers, health care institutions, professional societies, providers of continuing medical education, etc.</a:t>
            </a:r>
            <a:endParaRPr b="0" lang="en-US" sz="2400" spc="-1" strike="noStrike">
              <a:solidFill>
                <a:srgbClr val="000000"/>
              </a:solidFill>
              <a:latin typeface="Times New Roman"/>
            </a:endParaRPr>
          </a:p>
          <a:p>
            <a:pPr lvl="1" marL="727920" indent="-280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ould be in a database searchable by name of recipient</a:t>
            </a:r>
            <a:endParaRPr b="0" lang="en-US" sz="2200" spc="-1" strike="noStrike">
              <a:solidFill>
                <a:srgbClr val="000000"/>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55A9-538A-4388-B987-3F1EEA9FB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38052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oader-Disclosure Model</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762120"/>
            <a:ext cx="7772400" cy="5333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view</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nstitutions that will get disclosures should require that the individual, using the new standardized reporting requirements and software, simply do “an extra click of the button” to send to a public database the same information that he/she is reporting to an institutio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e—</a:t>
            </a:r>
            <a:endParaRPr b="0" lang="en-US" sz="24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include information on patent and equity ownership not included in what industry has to report</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allow industry reporting to be cross-checked against reports of individuals to institutions </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reveal how aggressive institutions are in requiring reporting and managing and limiting conflicts</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not impose significant burden on individuals, since only individuals already required to report to institutions would be required to report the same information publicly, and many individuals will have nothing to report </a:t>
            </a:r>
            <a:endParaRPr b="0" lang="en-US" sz="2200" spc="-1" strike="noStrike">
              <a:solidFill>
                <a:srgbClr val="000000"/>
              </a:solidFill>
              <a:latin typeface="Times New Roman"/>
            </a:endParaRPr>
          </a:p>
          <a:p>
            <a:pPr marL="3121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2:28:53Z</dcterms:created>
  <dc:creator>Robert Krughoff</dc:creator>
  <dc:description/>
  <dc:language>en-US</dc:language>
  <cp:lastModifiedBy>Graham</cp:lastModifiedBy>
  <dcterms:modified xsi:type="dcterms:W3CDTF">2009-10-27T17:22:14Z</dcterms:modified>
  <cp:revision>6</cp:revision>
  <dc:subject/>
  <dc:title>Some Highlights of Institute of Medicine Report on Conflict of Interest in Medical Research, Education, and Practice As Related to Practice Guidelines </dc:title>
</cp:coreProperties>
</file>