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8129588" cy="5486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44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7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1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44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47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7000" y="182160"/>
            <a:ext cx="595476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44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7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44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347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87000" y="182160"/>
            <a:ext cx="595476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44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47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41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44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347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287000" y="182160"/>
            <a:ext cx="595476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4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7440" y="134136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41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4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347440" y="2551320"/>
            <a:ext cx="228816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7000" y="182160"/>
            <a:ext cx="595476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83560" y="255132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83560" y="1341360"/>
            <a:ext cx="346824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1440" y="2551320"/>
            <a:ext cx="7107120" cy="11044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066680"/>
            <a:ext cx="7029360" cy="15840"/>
            <a:chOff x="0" y="1066680"/>
            <a:chExt cx="7029360" cy="15840"/>
          </a:xfrm>
        </p:grpSpPr>
        <p:sp>
          <p:nvSpPr>
            <p:cNvPr id="1" name=""/>
            <p:cNvSpPr/>
            <p:nvPr/>
          </p:nvSpPr>
          <p:spPr>
            <a:xfrm>
              <a:off x="5040" y="1082520"/>
              <a:ext cx="7024320" cy="0"/>
            </a:xfrm>
            <a:prstGeom prst="line">
              <a:avLst/>
            </a:prstGeom>
            <a:ln w="507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066680"/>
              <a:ext cx="7024320" cy="0"/>
            </a:xfrm>
            <a:prstGeom prst="line">
              <a:avLst/>
            </a:prstGeom>
            <a:ln w="507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0" y="0"/>
            <a:ext cx="8129520" cy="5486400"/>
          </a:xfrm>
          <a:prstGeom prst="rect">
            <a:avLst/>
          </a:prstGeom>
          <a:noFill/>
          <a:ln w="7632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8960" y="4950000"/>
            <a:ext cx="7593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spcBef>
                <a:spcPts val="425"/>
              </a:spcBef>
              <a:spcAft>
                <a:spcPts val="425"/>
              </a:spcAft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ource: Center for Financing, Access, and Cost Trends, AHRQ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ousehold Component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f the Medical Expenditure Panel Survey 1996-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7360" y="200160"/>
            <a:ext cx="1425600" cy="67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ftr" idx="1"/>
          </p:nvPr>
        </p:nvSpPr>
        <p:spPr>
          <a:xfrm>
            <a:off x="318960" y="47530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 fontScale="66000"/>
          </a:bodyPr>
          <a:p>
            <a:pPr marL="260640" indent="-26064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21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08560" indent="-1969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000440" indent="-127800">
              <a:lnSpc>
                <a:spcPct val="90000"/>
              </a:lnSpc>
              <a:spcBef>
                <a:spcPts val="1012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193400" indent="-127800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193400" indent="-127800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193400" indent="-127800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–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1066680"/>
            <a:ext cx="7100640" cy="15840"/>
            <a:chOff x="0" y="1066680"/>
            <a:chExt cx="7100640" cy="15840"/>
          </a:xfrm>
        </p:grpSpPr>
        <p:sp>
          <p:nvSpPr>
            <p:cNvPr id="82" name=""/>
            <p:cNvSpPr/>
            <p:nvPr/>
          </p:nvSpPr>
          <p:spPr>
            <a:xfrm>
              <a:off x="5040" y="1082520"/>
              <a:ext cx="70956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066680"/>
              <a:ext cx="70956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92240" y="254160"/>
          <a:ext cx="1141200" cy="53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240" y="254160"/>
                    <a:ext cx="11412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0" y="1066680"/>
            <a:ext cx="7029360" cy="15840"/>
            <a:chOff x="0" y="1066680"/>
            <a:chExt cx="7029360" cy="15840"/>
          </a:xfrm>
        </p:grpSpPr>
        <p:sp>
          <p:nvSpPr>
            <p:cNvPr id="87" name=""/>
            <p:cNvSpPr/>
            <p:nvPr/>
          </p:nvSpPr>
          <p:spPr>
            <a:xfrm>
              <a:off x="5040" y="1082520"/>
              <a:ext cx="702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066680"/>
              <a:ext cx="702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0"/>
            <a:ext cx="8129520" cy="5486400"/>
          </a:xfrm>
          <a:prstGeom prst="rect">
            <a:avLst/>
          </a:prstGeom>
          <a:noFill/>
          <a:ln w="7632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7360" y="200160"/>
            <a:ext cx="14256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1080" y="2255400"/>
            <a:ext cx="6926040" cy="7318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3094200"/>
            <a:ext cx="7100640" cy="14040"/>
            <a:chOff x="0" y="3094200"/>
            <a:chExt cx="7100640" cy="14040"/>
          </a:xfrm>
        </p:grpSpPr>
        <p:sp>
          <p:nvSpPr>
            <p:cNvPr id="129" name=""/>
            <p:cNvSpPr/>
            <p:nvPr/>
          </p:nvSpPr>
          <p:spPr>
            <a:xfrm>
              <a:off x="5040" y="3108240"/>
              <a:ext cx="70956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3094200"/>
              <a:ext cx="70956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1200240" y="304920"/>
          <a:ext cx="5727600" cy="13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0240" y="304920"/>
                    <a:ext cx="5727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06440" y="1283760"/>
            <a:ext cx="73155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888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77960" indent="149040" algn="ctr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6760" indent="155520" algn="ctr">
              <a:lnSpc>
                <a:spcPct val="90000"/>
              </a:lnSpc>
              <a:spcBef>
                <a:spcPts val="638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555920" indent="58680" algn="ctr">
              <a:lnSpc>
                <a:spcPct val="90000"/>
              </a:lnSpc>
              <a:spcBef>
                <a:spcPts val="638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1555920" indent="58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1555920" indent="58680"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1080" y="2255400"/>
            <a:ext cx="6926040" cy="7318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rends in Access to Health Care, 1996-2006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23480" y="3169800"/>
            <a:ext cx="5721480" cy="170676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im Kirb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HRQ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6856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 Usual Source of Care by Poverty Status, 1996-20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81080" y="1219320"/>
            <a:ext cx="7353360" cy="4086000"/>
            <a:chOff x="181080" y="1219320"/>
            <a:chExt cx="7353360" cy="4086000"/>
          </a:xfrm>
        </p:grpSpPr>
        <p:graphicFrame>
          <p:nvGraphicFramePr>
            <p:cNvPr id="207" name=""/>
            <p:cNvGraphicFramePr/>
            <p:nvPr/>
          </p:nvGraphicFramePr>
          <p:xfrm>
            <a:off x="181080" y="1219320"/>
            <a:ext cx="7353360" cy="408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080" y="1219320"/>
                      <a:ext cx="7353360" cy="40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6275520" y="3352680"/>
              <a:ext cx="1218960" cy="22860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6856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t Least One Office Visit by Poverty Status, 1996-20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1080" y="1228680"/>
            <a:ext cx="7772400" cy="4133880"/>
            <a:chOff x="181080" y="1228680"/>
            <a:chExt cx="7772400" cy="4133880"/>
          </a:xfrm>
        </p:grpSpPr>
        <p:graphicFrame>
          <p:nvGraphicFramePr>
            <p:cNvPr id="212" name=""/>
            <p:cNvGraphicFramePr/>
            <p:nvPr/>
          </p:nvGraphicFramePr>
          <p:xfrm>
            <a:off x="181080" y="1228680"/>
            <a:ext cx="7772400" cy="413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080" y="1228680"/>
                      <a:ext cx="7772400" cy="41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6732720" y="3352680"/>
              <a:ext cx="1218960" cy="30492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81080" y="1219320"/>
          <a:ext cx="78199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Line Graph - Among the poorest group, % with USC declined (77%-75), but that difference was not statistically significant. Among the 200-400%, % with USC declined (83%-80%) and this was SS. Among the highest income group, the percentage dropped by 1 percent (86 to 85) but this was not SS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219320"/>
                    <a:ext cx="78199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6856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 Usual Source of Care by Race/ethnicity, 1996-20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81080" y="1219320"/>
          <a:ext cx="781992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Line Graph - Among the poorest group, % with USC declined (77%-75), but that difference was not statistically significant. Among the 200-400%, % with USC declined (83%-80%) and this was SS. Among the highest income group, the percentage dropped by 1 percent (86 to 85) but this was not SS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219320"/>
                    <a:ext cx="78199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6856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cent with At Least One Office Visit by Race/Ethnicity, 1996-200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 fontScale="73000"/>
          </a:bodyPr>
          <a:p>
            <a:pPr marL="288360" indent="-2883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verall, the ambulatory access measures have changed little between 1996 and 200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etween 1996 and 2006, access to health care has worsened for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05880" indent="-245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880" indent="-245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se aged 18-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3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parities by Race/ethnicity remain relatively large and stabl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36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 fontScale="74000"/>
          </a:bodyPr>
          <a:p>
            <a:pPr marL="292320" indent="-292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rends in health care access over the decade 1996-200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92320" indent="-292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cus on Disparities by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14160" indent="-248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160" indent="-248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160" indent="-248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160" indent="-248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Data and Measures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 fontScale="77000"/>
          </a:bodyPr>
          <a:p>
            <a:pPr marL="304200" indent="-30420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588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hold component of the Medical Expenditure Panel Surveys (MEPS), 1996-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588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ve of the US civilian non-institutionalized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588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sizes range from 22,601 to 39,165, depending on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4200" indent="-304200">
              <a:lnSpc>
                <a:spcPct val="9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wo measures of Access to ambulatory health c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588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 Source of Care (US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588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or more physician visits in an office setting during a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87000" y="182160"/>
            <a:ext cx="59547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41440" y="1341360"/>
            <a:ext cx="7107120" cy="2316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t">
            <a:normAutofit/>
          </a:bodyPr>
          <a:p>
            <a:pPr marL="395280" indent="-39528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lculate weighted percentages, testing differences across groups and yea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ercentages and standard errors are adjusted for the complex sample design of MEP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04760" y="1219320"/>
            <a:ext cx="7877160" cy="4124160"/>
            <a:chOff x="104760" y="1219320"/>
            <a:chExt cx="7877160" cy="4124160"/>
          </a:xfrm>
        </p:grpSpPr>
        <p:graphicFrame>
          <p:nvGraphicFramePr>
            <p:cNvPr id="179" name=""/>
            <p:cNvGraphicFramePr/>
            <p:nvPr/>
          </p:nvGraphicFramePr>
          <p:xfrm>
            <a:off x="104760" y="1219320"/>
            <a:ext cx="7877160" cy="412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760" y="1219320"/>
                      <a:ext cx="7877160" cy="412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351480" y="3124080"/>
              <a:ext cx="762120" cy="30492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68240" y="182160"/>
            <a:ext cx="646092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 Usual Source of Care and At Least One Office Visi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04760" y="1219320"/>
            <a:ext cx="7877160" cy="4133880"/>
            <a:chOff x="104760" y="1219320"/>
            <a:chExt cx="7877160" cy="4133880"/>
          </a:xfrm>
        </p:grpSpPr>
        <p:graphicFrame>
          <p:nvGraphicFramePr>
            <p:cNvPr id="184" name=""/>
            <p:cNvGraphicFramePr/>
            <p:nvPr/>
          </p:nvGraphicFramePr>
          <p:xfrm>
            <a:off x="104760" y="1219320"/>
            <a:ext cx="7877160" cy="413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760" y="1219320"/>
                      <a:ext cx="7877160" cy="41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6046920" y="3657600"/>
              <a:ext cx="1523880" cy="30492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5600" y="288720"/>
            <a:ext cx="6588360" cy="701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7800" bIns="37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 Usual Source of Care by Insurance Statu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79120" y="282240"/>
            <a:ext cx="617724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t Least One Office Visit by Insurance Statu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81080" y="1219320"/>
            <a:ext cx="7791480" cy="4114800"/>
            <a:chOff x="181080" y="1219320"/>
            <a:chExt cx="7791480" cy="4114800"/>
          </a:xfrm>
        </p:grpSpPr>
        <p:graphicFrame>
          <p:nvGraphicFramePr>
            <p:cNvPr id="190" name=""/>
            <p:cNvGraphicFramePr/>
            <p:nvPr/>
          </p:nvGraphicFramePr>
          <p:xfrm>
            <a:off x="181080" y="1219320"/>
            <a:ext cx="779148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080" y="1219320"/>
                      <a:ext cx="779148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46920" y="3809880"/>
              <a:ext cx="1523880" cy="30492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856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ercent with a Usual Source of Care by Ag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09520" y="1200240"/>
            <a:ext cx="7361280" cy="4133880"/>
            <a:chOff x="209520" y="1200240"/>
            <a:chExt cx="7361280" cy="4133880"/>
          </a:xfrm>
        </p:grpSpPr>
        <p:graphicFrame>
          <p:nvGraphicFramePr>
            <p:cNvPr id="195" name=""/>
            <p:cNvGraphicFramePr/>
            <p:nvPr/>
          </p:nvGraphicFramePr>
          <p:xfrm>
            <a:off x="209520" y="1200240"/>
            <a:ext cx="7353360" cy="413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20" y="1200240"/>
                      <a:ext cx="7353360" cy="41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6656400" y="3657600"/>
              <a:ext cx="914400" cy="22860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56400" y="3200400"/>
              <a:ext cx="914400" cy="22860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39840" y="282240"/>
            <a:ext cx="6788160" cy="7002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5280" bIns="35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Percent with At Least One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ffice Visit by Age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19240" y="1200240"/>
            <a:ext cx="7677000" cy="4095720"/>
            <a:chOff x="219240" y="1200240"/>
            <a:chExt cx="7677000" cy="4095720"/>
          </a:xfrm>
        </p:grpSpPr>
        <p:graphicFrame>
          <p:nvGraphicFramePr>
            <p:cNvPr id="201" name=""/>
            <p:cNvGraphicFramePr/>
            <p:nvPr/>
          </p:nvGraphicFramePr>
          <p:xfrm>
            <a:off x="219240" y="1200240"/>
            <a:ext cx="7677000" cy="409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240" y="1200240"/>
                      <a:ext cx="767700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961320" y="3200400"/>
              <a:ext cx="914400" cy="22860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1320" y="3657600"/>
              <a:ext cx="914400" cy="228600"/>
            </a:xfrm>
            <a:prstGeom prst="ellipse">
              <a:avLst/>
            </a:prstGeom>
            <a:noFill/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44:12Z</dcterms:created>
  <dc:creator>Kirby</dc:creator>
  <dc:description/>
  <dc:language>en-US</dc:language>
  <cp:lastModifiedBy>cglenden</cp:lastModifiedBy>
  <dcterms:modified xsi:type="dcterms:W3CDTF">2009-10-28T14:47:06Z</dcterms:modified>
  <cp:revision>157</cp:revision>
  <dc:subject/>
  <dc:title>Trends in Access to Health Care, 1996-2006</dc:title>
</cp:coreProperties>
</file>