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A3E-B57E-43CF-9B2E-7838C374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FC2-0179-4521-B7F7-636AA737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F1C-E665-43FF-97FD-B8E61356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56C-F733-4025-8EAC-C89DFC97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C92-F049-46B2-A41C-85403ADF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2D0-78D0-4F90-B374-F62B71E7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499-4F23-4A5E-9D95-898483C0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339-596B-4BC4-A4D8-5A4C6A29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BF4-DE45-4E6D-8905-471C281A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3CC-8E00-4958-B8F6-9C40EC3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612-A0E3-406B-B833-30C41048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A57-BDB3-4AB3-A287-DFF6D041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2P2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A6E7-9AED-40BB-B07F-F399120067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6934320" y="6095880"/>
            <a:ext cx="1600200" cy="590760"/>
          </a:xfrm>
          <a:prstGeom prst="rect">
            <a:avLst/>
          </a:prstGeom>
          <a:ln w="0">
            <a:noFill/>
          </a:ln>
        </p:spPr>
      </p:pic>
      <p:sp>
        <p:nvSpPr>
          <p:cNvPr id="6" name="WordArt 8"/>
          <p:cNvSpPr txBox="1"/>
          <p:nvPr/>
        </p:nvSpPr>
        <p:spPr>
          <a:xfrm>
            <a:off x="7315200" y="61722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rint MT Shadow"/>
              </a:rPr>
              <a:t>NCN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rint MT Shadow"/>
              <a:ea typeface="Imprint MT Shad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mprovingchroniccare.org/index.php?p=Chronic+Care+Model&amp;s=12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272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unity and Clinician Partnership for Preven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2P2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 R. Kemper, MD, MPH, 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ilip Sloane, MD, M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wena Dolor, MD, M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ia L. Trinite’, MSPH, ANP-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55627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ing: AHRQ; PBRN Task Order Request #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itial Community-Based Resour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bacco Qui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Health Department Dieti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M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ke Live-for-Lif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ssive Interven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chure and referral material for selected community organiz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kick-off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ef help as requ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actice Broch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304920" y="977760"/>
            <a:ext cx="8381880" cy="5089680"/>
            <a:chOff x="304920" y="977760"/>
            <a:chExt cx="8381880" cy="5089680"/>
          </a:xfrm>
        </p:grpSpPr>
        <p:graphicFrame>
          <p:nvGraphicFramePr>
            <p:cNvPr id="97" name=""/>
            <p:cNvGraphicFramePr/>
            <p:nvPr/>
          </p:nvGraphicFramePr>
          <p:xfrm>
            <a:off x="304920" y="977760"/>
            <a:ext cx="8381880" cy="508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977760"/>
                      <a:ext cx="8381880" cy="508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" name="Group 5"/>
            <p:cNvGrpSpPr/>
            <p:nvPr/>
          </p:nvGrpSpPr>
          <p:grpSpPr>
            <a:xfrm>
              <a:off x="609480" y="5016600"/>
              <a:ext cx="3200400" cy="609480"/>
              <a:chOff x="609480" y="5016600"/>
              <a:chExt cx="3200400" cy="609480"/>
            </a:xfrm>
          </p:grpSpPr>
          <p:sp>
            <p:nvSpPr>
              <p:cNvPr id="100" name="Rectangle 6"/>
              <p:cNvSpPr/>
              <p:nvPr/>
            </p:nvSpPr>
            <p:spPr>
              <a:xfrm>
                <a:off x="609480" y="5016600"/>
                <a:ext cx="1295640" cy="60948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7"/>
              <p:cNvSpPr/>
              <p:nvPr/>
            </p:nvSpPr>
            <p:spPr>
              <a:xfrm>
                <a:off x="2895480" y="5016600"/>
                <a:ext cx="914400" cy="53316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actice Broch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457200" y="1035000"/>
            <a:ext cx="8229600" cy="4995720"/>
            <a:chOff x="457200" y="1035000"/>
            <a:chExt cx="8229600" cy="4995720"/>
          </a:xfrm>
        </p:grpSpPr>
        <p:graphicFrame>
          <p:nvGraphicFramePr>
            <p:cNvPr id="104" name=""/>
            <p:cNvGraphicFramePr/>
            <p:nvPr/>
          </p:nvGraphicFramePr>
          <p:xfrm>
            <a:off x="457200" y="1035000"/>
            <a:ext cx="8229600" cy="499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035000"/>
                      <a:ext cx="8229600" cy="49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Rectangle 5"/>
            <p:cNvSpPr/>
            <p:nvPr/>
          </p:nvSpPr>
          <p:spPr>
            <a:xfrm>
              <a:off x="6934320" y="4006800"/>
              <a:ext cx="1371600" cy="5331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Interven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e Intervention Protocol pl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the “ACCTION Pac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gular contact with a “practice champ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CTION Pa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screen shot of Acction Pack home"/>
          <p:cNvPicPr/>
          <p:nvPr/>
        </p:nvPicPr>
        <p:blipFill>
          <a:blip r:embed="rId1"/>
          <a:stretch/>
        </p:blipFill>
        <p:spPr>
          <a:xfrm>
            <a:off x="530280" y="779400"/>
            <a:ext cx="8039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CTION Pa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screen shot of Acction Pack tool selector"/>
          <p:cNvPicPr/>
          <p:nvPr/>
        </p:nvPicPr>
        <p:blipFill>
          <a:blip r:embed="rId1"/>
          <a:stretch/>
        </p:blipFill>
        <p:spPr>
          <a:xfrm>
            <a:off x="838080" y="774720"/>
            <a:ext cx="73152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Measur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Quantitative Measur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ral from practices to a community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 of the barriers to and facilitators of developing linkages between practices and community resour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bacco Assess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68280" y="1579680"/>
          <a:ext cx="6143760" cy="3944880"/>
        </p:xfrm>
        <a:graphic>
          <a:graphicData uri="http://schemas.openxmlformats.org/drawingml/2006/table">
            <a:tbl>
              <a:tblPr/>
              <a:tblGrid>
                <a:gridCol w="1578240"/>
                <a:gridCol w="1609560"/>
                <a:gridCol w="1625760"/>
                <a:gridCol w="133020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bacco U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22280" y="1579680"/>
          <a:ext cx="6143760" cy="3944880"/>
        </p:xfrm>
        <a:graphic>
          <a:graphicData uri="http://schemas.openxmlformats.org/drawingml/2006/table">
            <a:tbl>
              <a:tblPr/>
              <a:tblGrid>
                <a:gridCol w="1578240"/>
                <a:gridCol w="1609560"/>
                <a:gridCol w="1625760"/>
                <a:gridCol w="133020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healthy behaviors are common and lead to significant morbidity and mort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bacc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hysic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bacco Referr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09680" y="2038320"/>
          <a:ext cx="6416640" cy="3944880"/>
        </p:xfrm>
        <a:graphic>
          <a:graphicData uri="http://schemas.openxmlformats.org/drawingml/2006/table">
            <a:tbl>
              <a:tblPr/>
              <a:tblGrid>
                <a:gridCol w="1577880"/>
                <a:gridCol w="1609920"/>
                <a:gridCol w="1625400"/>
                <a:gridCol w="1603440"/>
              </a:tblGrid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 (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 (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 (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 (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31"/>
          <p:cNvSpPr/>
          <p:nvPr/>
        </p:nvSpPr>
        <p:spPr>
          <a:xfrm>
            <a:off x="655560" y="140184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intervention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et Assess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09680" y="1635120"/>
          <a:ext cx="6143760" cy="3944880"/>
        </p:xfrm>
        <a:graphic>
          <a:graphicData uri="http://schemas.openxmlformats.org/drawingml/2006/table">
            <a:tbl>
              <a:tblPr/>
              <a:tblGrid>
                <a:gridCol w="1577880"/>
                <a:gridCol w="1609920"/>
                <a:gridCol w="1625400"/>
                <a:gridCol w="133056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et Needs Modific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09680" y="1608120"/>
          <a:ext cx="6143760" cy="3944880"/>
        </p:xfrm>
        <a:graphic>
          <a:graphicData uri="http://schemas.openxmlformats.org/drawingml/2006/table">
            <a:tbl>
              <a:tblPr/>
              <a:tblGrid>
                <a:gridCol w="1577880"/>
                <a:gridCol w="1609920"/>
                <a:gridCol w="1625400"/>
                <a:gridCol w="133056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et Needs Referr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09680" y="1608120"/>
          <a:ext cx="6508800" cy="3944880"/>
        </p:xfrm>
        <a:graphic>
          <a:graphicData uri="http://schemas.openxmlformats.org/drawingml/2006/table">
            <a:tbl>
              <a:tblPr/>
              <a:tblGrid>
                <a:gridCol w="1577880"/>
                <a:gridCol w="1790640"/>
                <a:gridCol w="1586160"/>
                <a:gridCol w="155412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 (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 (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% (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 (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 (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% (1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 (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 (1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34"/>
          <p:cNvSpPr/>
          <p:nvPr/>
        </p:nvSpPr>
        <p:spPr>
          <a:xfrm>
            <a:off x="655560" y="124308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intervention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ysical Activity Assess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1566720"/>
          <a:ext cx="6143760" cy="3945240"/>
        </p:xfrm>
        <a:graphic>
          <a:graphicData uri="http://schemas.openxmlformats.org/drawingml/2006/table">
            <a:tbl>
              <a:tblPr/>
              <a:tblGrid>
                <a:gridCol w="1578240"/>
                <a:gridCol w="1609560"/>
                <a:gridCol w="1625760"/>
                <a:gridCol w="1330200"/>
              </a:tblGrid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ysical Activity Needs Modific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324080" y="1717560"/>
          <a:ext cx="6143400" cy="3944880"/>
        </p:xfrm>
        <a:graphic>
          <a:graphicData uri="http://schemas.openxmlformats.org/drawingml/2006/table">
            <a:tbl>
              <a:tblPr/>
              <a:tblGrid>
                <a:gridCol w="1577880"/>
                <a:gridCol w="1609560"/>
                <a:gridCol w="1625760"/>
                <a:gridCol w="1330200"/>
              </a:tblGrid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ysical Activity Referra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324080" y="1717560"/>
          <a:ext cx="6143400" cy="3944880"/>
        </p:xfrm>
        <a:graphic>
          <a:graphicData uri="http://schemas.openxmlformats.org/drawingml/2006/table">
            <a:tbl>
              <a:tblPr/>
              <a:tblGrid>
                <a:gridCol w="1577880"/>
                <a:gridCol w="1609560"/>
                <a:gridCol w="1625760"/>
                <a:gridCol w="1330200"/>
              </a:tblGrid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 (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% (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 (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 (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 (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 (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30"/>
          <p:cNvSpPr/>
          <p:nvPr/>
        </p:nvSpPr>
        <p:spPr>
          <a:xfrm>
            <a:off x="655560" y="124308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intervention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limited the impact of the interventions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understanding about how to build collabo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ians were not motivated to form collaborations, even when they were interested in engaging the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ations had significant staff turn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ethod for bi-directional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s about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s about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formation about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limited the impact of the interventions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TION P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 to use to get to information quic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populated with loc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s wanted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s overwhelmed with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 and Next Ste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ing partnerships between clinicians and community-based organizations is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ful partnerships cannot be developed by bringing materials to practices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of behavioral-based interventions to address unhealthy behaviors by primary care providers is 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self-effic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of delivering interventions in a busy setting with limited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 and Next Ste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effort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on bringing together potential partners and allowing them to develop mutually beneficial collabo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increasing consumer demand and the expectation that primary care providers will refer to such 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ronic Care Mode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932200" y="1481040"/>
            <a:ext cx="2989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033720" y="1712880"/>
            <a:ext cx="2684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1665360" y="1450800"/>
            <a:ext cx="5987520" cy="4644360"/>
            <a:chOff x="1665360" y="1450800"/>
            <a:chExt cx="5987520" cy="4644360"/>
          </a:xfrm>
        </p:grpSpPr>
        <p:pic>
          <p:nvPicPr>
            <p:cNvPr id="54" name="Picture 4" descr="chronic_care_model400px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65360" y="1541520"/>
              <a:ext cx="5987520" cy="455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9"/>
            <p:cNvSpPr/>
            <p:nvPr/>
          </p:nvSpPr>
          <p:spPr>
            <a:xfrm>
              <a:off x="2969640" y="1450800"/>
              <a:ext cx="312948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valuate strategies to develop and foster linkages between primary care practices and communit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Group 4"/>
          <p:cNvGrpSpPr/>
          <p:nvPr/>
        </p:nvGrpSpPr>
        <p:grpSpPr>
          <a:xfrm>
            <a:off x="3352680" y="1219320"/>
            <a:ext cx="5524560" cy="4025520"/>
            <a:chOff x="3352680" y="1219320"/>
            <a:chExt cx="5524560" cy="4025520"/>
          </a:xfrm>
        </p:grpSpPr>
        <p:sp>
          <p:nvSpPr>
            <p:cNvPr id="61" name="Text Box 5"/>
            <p:cNvSpPr/>
            <p:nvPr/>
          </p:nvSpPr>
          <p:spPr>
            <a:xfrm>
              <a:off x="7353360" y="5029200"/>
              <a:ext cx="99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www.learnnc.org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Group 6"/>
            <p:cNvGrpSpPr/>
            <p:nvPr/>
          </p:nvGrpSpPr>
          <p:grpSpPr>
            <a:xfrm>
              <a:off x="3352680" y="1219320"/>
              <a:ext cx="5524560" cy="3838320"/>
              <a:chOff x="3352680" y="1219320"/>
              <a:chExt cx="5524560" cy="3838320"/>
            </a:xfrm>
          </p:grpSpPr>
          <p:pic>
            <p:nvPicPr>
              <p:cNvPr id="63" name="Picture 7" descr="rc1822nc"/>
              <p:cNvPicPr/>
              <p:nvPr/>
            </p:nvPicPr>
            <p:blipFill>
              <a:blip r:embed="rId1"/>
              <a:stretch/>
            </p:blipFill>
            <p:spPr>
              <a:xfrm>
                <a:off x="3352680" y="1219320"/>
                <a:ext cx="5524560" cy="38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Oval 8"/>
              <p:cNvSpPr/>
              <p:nvPr/>
            </p:nvSpPr>
            <p:spPr>
              <a:xfrm>
                <a:off x="6248520" y="236196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9"/>
          <p:cNvSpPr/>
          <p:nvPr/>
        </p:nvSpPr>
        <p:spPr>
          <a:xfrm>
            <a:off x="304920" y="1143000"/>
            <a:ext cx="289548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ange Coun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: 1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: 1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panic: 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rham Coun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 23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 3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panic 1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all, 13% below F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16000" y="4237200"/>
            <a:ext cx="9144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North Car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bacco: 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weight: 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ese: 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 minutes physical activity ≥3 days per week: &lt;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y to change: 44% who smoke, 60% with poor nutrition, 68% who lack exer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ticipants and Interven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457200" y="3505320"/>
            <a:ext cx="2286000" cy="1523880"/>
            <a:chOff x="457200" y="3505320"/>
            <a:chExt cx="2286000" cy="1523880"/>
          </a:xfrm>
        </p:grpSpPr>
        <p:sp>
          <p:nvSpPr>
            <p:cNvPr id="69" name="Rectangle 4"/>
            <p:cNvSpPr/>
            <p:nvPr/>
          </p:nvSpPr>
          <p:spPr>
            <a:xfrm>
              <a:off x="457200" y="3505320"/>
              <a:ext cx="2286000" cy="152388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 Box 5"/>
            <p:cNvSpPr/>
            <p:nvPr/>
          </p:nvSpPr>
          <p:spPr>
            <a:xfrm>
              <a:off x="990720" y="4038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Text Box 6"/>
          <p:cNvSpPr/>
          <p:nvPr/>
        </p:nvSpPr>
        <p:spPr>
          <a:xfrm>
            <a:off x="932040" y="5383080"/>
            <a:ext cx="74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ration of the Intervention: 6 month, starting spring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7"/>
          <p:cNvGrpSpPr/>
          <p:nvPr/>
        </p:nvGrpSpPr>
        <p:grpSpPr>
          <a:xfrm>
            <a:off x="1599480" y="1328760"/>
            <a:ext cx="6782400" cy="3700440"/>
            <a:chOff x="1599480" y="1328760"/>
            <a:chExt cx="6782400" cy="3700440"/>
          </a:xfrm>
        </p:grpSpPr>
        <p:grpSp>
          <p:nvGrpSpPr>
            <p:cNvPr id="73" name="Group 8"/>
            <p:cNvGrpSpPr/>
            <p:nvPr/>
          </p:nvGrpSpPr>
          <p:grpSpPr>
            <a:xfrm>
              <a:off x="3510000" y="1328760"/>
              <a:ext cx="1828800" cy="1371600"/>
              <a:chOff x="3510000" y="1328760"/>
              <a:chExt cx="1828800" cy="1371600"/>
            </a:xfrm>
          </p:grpSpPr>
          <p:sp>
            <p:nvSpPr>
              <p:cNvPr id="74" name="Oval 9"/>
              <p:cNvSpPr/>
              <p:nvPr/>
            </p:nvSpPr>
            <p:spPr>
              <a:xfrm>
                <a:off x="3510000" y="1328760"/>
                <a:ext cx="1828800" cy="137160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Text Box 10"/>
              <p:cNvSpPr/>
              <p:nvPr/>
            </p:nvSpPr>
            <p:spPr>
              <a:xfrm>
                <a:off x="3733920" y="1600200"/>
                <a:ext cx="16002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9 Practic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IM and FP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1"/>
            <p:cNvGrpSpPr/>
            <p:nvPr/>
          </p:nvGrpSpPr>
          <p:grpSpPr>
            <a:xfrm>
              <a:off x="3276720" y="3505320"/>
              <a:ext cx="2286000" cy="1523880"/>
              <a:chOff x="3276720" y="3505320"/>
              <a:chExt cx="2286000" cy="1523880"/>
            </a:xfrm>
          </p:grpSpPr>
          <p:sp>
            <p:nvSpPr>
              <p:cNvPr id="77" name="Rectangle 12"/>
              <p:cNvSpPr/>
              <p:nvPr/>
            </p:nvSpPr>
            <p:spPr>
              <a:xfrm>
                <a:off x="3276720" y="3505320"/>
                <a:ext cx="2286000" cy="152388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Text Box 13"/>
              <p:cNvSpPr/>
              <p:nvPr/>
            </p:nvSpPr>
            <p:spPr>
              <a:xfrm>
                <a:off x="3810240" y="4038480"/>
                <a:ext cx="16002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assiv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nterven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14"/>
            <p:cNvGrpSpPr/>
            <p:nvPr/>
          </p:nvGrpSpPr>
          <p:grpSpPr>
            <a:xfrm>
              <a:off x="6095880" y="3505320"/>
              <a:ext cx="2286000" cy="1523880"/>
              <a:chOff x="6095880" y="3505320"/>
              <a:chExt cx="2286000" cy="1523880"/>
            </a:xfrm>
          </p:grpSpPr>
          <p:sp>
            <p:nvSpPr>
              <p:cNvPr id="80" name="Rectangle 15"/>
              <p:cNvSpPr/>
              <p:nvPr/>
            </p:nvSpPr>
            <p:spPr>
              <a:xfrm>
                <a:off x="6095880" y="3505320"/>
                <a:ext cx="2286000" cy="152388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Text Box 16"/>
              <p:cNvSpPr/>
              <p:nvPr/>
            </p:nvSpPr>
            <p:spPr>
              <a:xfrm>
                <a:off x="6629400" y="4038480"/>
                <a:ext cx="16002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ctiv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nterven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82" name="AutoShape 17"/>
            <p:cNvCxnSpPr>
              <a:stCxn id="74" idx="4"/>
              <a:endCxn id="69" idx="0"/>
            </p:cNvCxnSpPr>
            <p:nvPr/>
          </p:nvCxnSpPr>
          <p:spPr>
            <a:xfrm rot="5400000">
              <a:off x="2608920" y="1690560"/>
              <a:ext cx="805680" cy="2824920"/>
            </a:xfrm>
            <a:prstGeom prst="bentConnector3">
              <a:avLst>
                <a:gd name="adj1" fmla="val 49888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3" name="AutoShape 18"/>
            <p:cNvCxnSpPr>
              <a:stCxn id="74" idx="4"/>
              <a:endCxn id="77" idx="0"/>
            </p:cNvCxnSpPr>
            <p:nvPr/>
          </p:nvCxnSpPr>
          <p:spPr>
            <a:xfrm flipH="1">
              <a:off x="4419000" y="2700360"/>
              <a:ext cx="5400" cy="805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4" name="AutoShape 19"/>
            <p:cNvCxnSpPr>
              <a:stCxn id="74" idx="4"/>
              <a:endCxn id="80" idx="0"/>
            </p:cNvCxnSpPr>
            <p:nvPr/>
          </p:nvCxnSpPr>
          <p:spPr>
            <a:xfrm flipH="1" rot="16200000">
              <a:off x="5429160" y="1695240"/>
              <a:ext cx="805680" cy="2815200"/>
            </a:xfrm>
            <a:prstGeom prst="bentConnector3">
              <a:avLst>
                <a:gd name="adj1" fmla="val 49888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Oval 20"/>
            <p:cNvSpPr/>
            <p:nvPr/>
          </p:nvSpPr>
          <p:spPr>
            <a:xfrm>
              <a:off x="4148280" y="2938320"/>
              <a:ext cx="533160" cy="3049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4276800" y="290988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acti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family practice cli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family practice 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internal medicine cli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family practice clinics (1 with traine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internal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itial Selection of Community-Based Resour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al-based interventions based on the 5 A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be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ed in new refer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le to participate in bi-directional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4:18:44Z</dcterms:created>
  <dc:creator>Douglas H. Fernald</dc:creator>
  <dc:description/>
  <dc:language>en-US</dc:language>
  <cp:lastModifiedBy>Chettra.Chhiet</cp:lastModifiedBy>
  <dcterms:modified xsi:type="dcterms:W3CDTF">2009-12-03T18:48:28Z</dcterms:modified>
  <cp:revision>504</cp:revision>
  <dc:subject/>
  <dc:title>PowerPoint Presentation</dc:title>
</cp:coreProperties>
</file>