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24.jpeg" ContentType="image/jpeg"/>
  <Override PartName="/ppt/media/image21.wmf" ContentType="image/x-wmf"/>
  <Override PartName="/ppt/media/image23.jpeg" ContentType="image/jpeg"/>
  <Override PartName="/ppt/media/image22.wmf" ContentType="image/x-wmf"/>
  <Override PartName="/ppt/media/image20.png" ContentType="image/png"/>
  <Override PartName="/ppt/media/image19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3C80-7E98-480D-BEC5-CCB139B64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significant risks associated with untreated hypertension and the clear benefits of treatment, hypertension remains a significantly untreated or under treated disease. Current control rates have improved from 10% in the 1970’s to over 30% but still fall far short of the Healthy People 2010 goal of 50%.   Importantly, nearly one-third of Americans who have hypertension are unaware of their disea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8CF1-2067-494C-B68B-489FCEDDA6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BB8E-2D83-4518-95A6-F9843E056C4E}" type="slidenum">
              <a:rPr b="0" lang="en-US" sz="1200" spc="-1" strike="noStrike">
                <a:solidFill>
                  <a:srgbClr val="ffffff"/>
                </a:solidFill>
                <a:latin typeface="American Typewrite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2920" y="4311720"/>
            <a:ext cx="5856120" cy="40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1CE-85C4-4AFD-82F6-A8073860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3C4-2B87-44AC-9DE0-3618E4D9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2BE-C7AB-4EB0-97BC-DE2A7770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10B-5803-4528-8CB7-67DE140F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932-0D61-4E98-9B2C-41A0B201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C5B-5C44-403F-92F0-22F1BC02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4C9-990E-44CE-B6CE-F25C8FDA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FBD-6ED2-4AA7-905E-920F47AC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2C4-BA06-4A0E-A04E-C5FE51BD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815-3CD0-45C9-83FE-0B536021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D84-8FF7-4C2E-8D94-52EAFEC9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F1D-258A-48ED-809E-48CE9C55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5B1C-42FB-4C27-B590-C00B6C4ACA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California Right Care Initi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M. Ka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serman Distinguished Prof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CLA Schools of Public Health and Medi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RQ Confer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Prospective Studies Collaboration: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1 studies, 1 million Adults 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" descr="Image: Graphs depicting stoke mortality by systolic and diastolic blood pressure."/>
          <p:cNvPicPr/>
          <p:nvPr/>
        </p:nvPicPr>
        <p:blipFill>
          <a:blip r:embed="rId1"/>
          <a:stretch/>
        </p:blipFill>
        <p:spPr>
          <a:xfrm>
            <a:off x="990720" y="1295280"/>
            <a:ext cx="7110360" cy="4953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20" y="6572160"/>
            <a:ext cx="15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Arial"/>
              </a:rPr>
              <a:t>Lancet 2002, 360, 19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age: Chart depicting BP Lowering Trial Results"/>
          <p:cNvPicPr/>
          <p:nvPr/>
        </p:nvPicPr>
        <p:blipFill>
          <a:blip r:embed="rId1"/>
          <a:srcRect l="0" t="0" r="0" b="15394"/>
          <a:stretch/>
        </p:blipFill>
        <p:spPr>
          <a:xfrm>
            <a:off x="457200" y="150840"/>
            <a:ext cx="5173560" cy="66308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172200" y="47829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llins &amp; Peto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xtbook of Hypertens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994 Blackwell Scientific Publications p115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27432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P Lowering Trial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idence Based Opinion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eople with HTN will need 2 or 3 medications to control B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uretic/ACEI, Diuretic/ARB, CCB/ACEI, CCB/ARB likely good first choices for combination R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uretic/CCB combination of uncertain effective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pine underused, but probably a good third line ag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6799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Payoff is Potentially Large: Benefits of Lowering B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981080"/>
          <a:ext cx="7772400" cy="4232520"/>
        </p:xfrm>
        <a:graphic>
          <a:graphicData uri="http://schemas.openxmlformats.org/drawingml/2006/table">
            <a:tbl>
              <a:tblPr/>
              <a:tblGrid>
                <a:gridCol w="3382920"/>
                <a:gridCol w="4389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Percent Redu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ke incid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-40%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ocardial Infar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t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23" descr="Image: NHLBI logo"/>
          <p:cNvPicPr/>
          <p:nvPr/>
        </p:nvPicPr>
        <p:blipFill>
          <a:blip r:embed="rId1"/>
          <a:stretch/>
        </p:blipFill>
        <p:spPr>
          <a:xfrm>
            <a:off x="7939080" y="160200"/>
            <a:ext cx="1050840" cy="1011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Image: NHLBI logo"/>
          <p:cNvPicPr/>
          <p:nvPr/>
        </p:nvPicPr>
        <p:blipFill>
          <a:blip r:embed="rId2"/>
          <a:stretch/>
        </p:blipFill>
        <p:spPr>
          <a:xfrm>
            <a:off x="73080" y="152280"/>
            <a:ext cx="10825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ortality and AHA Get with the Guidelines Award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Image: Mortality and AHA Get with the Guidelines Awards"/>
          <p:cNvPicPr/>
          <p:nvPr/>
        </p:nvPicPr>
        <p:blipFill>
          <a:blip r:embed="rId1"/>
          <a:stretch/>
        </p:blipFill>
        <p:spPr>
          <a:xfrm>
            <a:off x="1523880" y="129528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68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66080" y="647856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denreich, AHJ (In Pr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ut, BP Control Rates Remain Disappoint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896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2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nds in awareness, treatment, and control of high blood pressure in adults ages 18-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Health and Nutrition Examination Surv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6-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hase 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8-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hase 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-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ar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1360" y="5654520"/>
            <a:ext cx="82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tent of Awareness, Treatment and Control of High Blood Pressure by Age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HANES: 2005-200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Source: NCHS and NHLB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219320"/>
          <a:ext cx="8137440" cy="427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Image: Bar graph: Extent of Awareness, Treatment and Control of High Blood Pressure by Ag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3744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</a:rPr>
              <a:t>Extent of Awareness, Treatment and Control of High Blood Pressure by Age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y Focus on Lipids and Blood Pressure Even for People with Diabetes? </a:t>
            </a: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(Ray: </a:t>
            </a:r>
            <a:r>
              <a:rPr b="0" i="1" lang="en-US" sz="1400" spc="-1" strike="noStrike">
                <a:solidFill>
                  <a:srgbClr val="ccffff"/>
                </a:solidFill>
                <a:latin typeface="Arial"/>
              </a:rPr>
              <a:t>Lancet</a:t>
            </a: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 2009, 373,1765)</a:t>
            </a:r>
            <a:endParaRPr b="0" lang="en-US" sz="1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9" name="" descr="Image: Table and graph: Why Focus on Lipids and Blood Pressure Even for People with Diabetes?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lifornia Probl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99840"/>
            <a:ext cx="662940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1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Question: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s health care in West LA as unusual as the people who live there?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8597"/>
              </a:lnSpc>
              <a:spcBef>
                <a:spcPts val="799"/>
              </a:spcBef>
              <a:spcAft>
                <a:spcPts val="1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-San Diego 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0880" y="0"/>
            <a:ext cx="8763120" cy="5884920"/>
            <a:chOff x="380880" y="0"/>
            <a:chExt cx="8763120" cy="58849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6627960" y="0"/>
              <a:ext cx="251604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799160" y="3657600"/>
              <a:ext cx="3352680" cy="22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380880" y="3581280"/>
              <a:ext cx="41148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6175800" y="6019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 Di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22560" y="60199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Ang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ranslation Probl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Image: Figure 1. Total 2005 Medicare expenditures in Los Angeles and San Diego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Arial"/>
              </a:rPr>
              <a:t>Figure 1. Total 2005 Medicare expenditures in Los Angeles and San Diego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tal Reimbursements(Part A + Part B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981080"/>
          <a:ext cx="5639040" cy="45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Image: Graph depicting Total Reimbursements (Part A + Part B)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56390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spital Admissions During Last 6 Months of Lif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76520" y="1905120"/>
          <a:ext cx="6019560" cy="48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Image: Graph of Hospital Admissions During Last 6 Months of Life in Los Angeles vs. San Diego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60195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ifornia Pay for Performance:Clinical Performance Variation: Composite Clinical Score (from Williams 2008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9" name="" descr="Image: Bar chart: California Pay for Performance: Clinical Performance Variation: Composite Clinical Score"/>
          <p:cNvPicPr/>
          <p:nvPr/>
        </p:nvPicPr>
        <p:blipFill>
          <a:blip r:embed="rId1"/>
          <a:stretch/>
        </p:blipFill>
        <p:spPr>
          <a:xfrm>
            <a:off x="685800" y="2136600"/>
            <a:ext cx="7772400" cy="38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ifornia Pay for Performance:A Tale of Two Regions (From Williams 2008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1" name="" descr="Image: Bar chart: California Pay for Performance: A Tale of Two Regions"/>
          <p:cNvPicPr/>
          <p:nvPr/>
        </p:nvPicPr>
        <p:blipFill>
          <a:blip r:embed="rId1"/>
          <a:stretch/>
        </p:blipFill>
        <p:spPr>
          <a:xfrm>
            <a:off x="685800" y="2103480"/>
            <a:ext cx="777240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erwick's Rules for Dissemin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 ‘rules' for translating research into practice; require an implementer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) find sound innov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) find and support innovat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) invest in early adop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) make early adopter activity observ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) trust and enable reinven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) create slack fo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) lead by exam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495288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erwick, JAMA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2003;289:1969-197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story of RC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2007, Governor Schwarzenegger’s health reform proposal called for healthcare quality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sponse, NCQA and the California Department of Managed Health Care (DMHC) collaborated in launching a statewide effort known as the Right Care Initiative (RCI) to improve the quality of care delivered to commercial HMO members in California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CI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mprove clinical outcomes through enhancing the practice of evidence-based medicine and management in a collaborative, expert-based, public-private, multi-year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diseas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lifornia’s HEDIS Scor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ifornia’s HEDIS rankings are surprisingly low relative to the best plans in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alifornia health plan other than Kaiser Permanente ranks among the top ten plans in the nation or above the 9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centile for heart and diabetes performance meas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ifornia Right Care Initiative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rcent of Plans Meeting HEDIS LDL Standard 2009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2209680"/>
          <a:ext cx="7696440" cy="36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Image: Table: California Right Care Initiative: Percent of Plans Meeting HEDIS LDL Standard 2009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69644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IH View of Translational Researc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the National Institutes of Health, “in order to improve human health, scientific studies must be translated into practical application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3657600"/>
            <a:ext cx="8319600" cy="1678320"/>
            <a:chOff x="457200" y="3657600"/>
            <a:chExt cx="8319600" cy="1678320"/>
          </a:xfrm>
        </p:grpSpPr>
        <p:sp>
          <p:nvSpPr>
            <p:cNvPr id="54" name="AutoShape 14"/>
            <p:cNvSpPr/>
            <p:nvPr/>
          </p:nvSpPr>
          <p:spPr>
            <a:xfrm>
              <a:off x="457200" y="4253040"/>
              <a:ext cx="2133360" cy="76176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enc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researc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>
              <a:off x="3223800" y="4253040"/>
              <a:ext cx="2138040" cy="76176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linica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researc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AutoShape 16"/>
            <p:cNvSpPr/>
            <p:nvPr/>
          </p:nvSpPr>
          <p:spPr>
            <a:xfrm>
              <a:off x="6095880" y="4191120"/>
              <a:ext cx="2680920" cy="9144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ommunity researc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d appli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" name="AutoShape 17"/>
            <p:cNvCxnSpPr>
              <a:stCxn id="54" idx="3"/>
              <a:endCxn id="55" idx="1"/>
            </p:cNvCxnSpPr>
            <p:nvPr/>
          </p:nvCxnSpPr>
          <p:spPr>
            <a:xfrm>
              <a:off x="2590560" y="4633560"/>
              <a:ext cx="6332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" name="AutoShape 18"/>
            <p:cNvCxnSpPr>
              <a:stCxn id="56" idx="1"/>
              <a:endCxn id="55" idx="3"/>
            </p:cNvCxnSpPr>
            <p:nvPr/>
          </p:nvCxnSpPr>
          <p:spPr>
            <a:xfrm flipH="1" flipV="1">
              <a:off x="5361480" y="4633560"/>
              <a:ext cx="734040" cy="151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" name="AutoShape 19"/>
            <p:cNvCxnSpPr>
              <a:stCxn id="54" idx="2"/>
              <a:endCxn id="56" idx="2"/>
            </p:cNvCxnSpPr>
            <p:nvPr/>
          </p:nvCxnSpPr>
          <p:spPr>
            <a:xfrm flipH="1" rot="16200000">
              <a:off x="4434120" y="2104200"/>
              <a:ext cx="91440" cy="5911920"/>
            </a:xfrm>
            <a:prstGeom prst="curvedConnector5">
              <a:avLst>
                <a:gd name="adj1" fmla="val 352569"/>
                <a:gd name="adj2" fmla="val 49996"/>
                <a:gd name="adj3" fmla="val 352569"/>
              </a:avLst>
            </a:prstGeom>
            <a:ln w="4140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60" name="Text Box 20"/>
            <p:cNvSpPr/>
            <p:nvPr/>
          </p:nvSpPr>
          <p:spPr>
            <a:xfrm>
              <a:off x="2300040" y="3657600"/>
              <a:ext cx="137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ahoma"/>
                </a:rPr>
                <a:t>Phase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Text Box 21"/>
            <p:cNvSpPr/>
            <p:nvPr/>
          </p:nvSpPr>
          <p:spPr>
            <a:xfrm>
              <a:off x="5119560" y="365760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ahoma"/>
                </a:rPr>
                <a:t>Phase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>
              <a:off x="2871720" y="414324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3"/>
            <p:cNvSpPr/>
            <p:nvPr/>
          </p:nvSpPr>
          <p:spPr>
            <a:xfrm>
              <a:off x="5752800" y="414324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ifornia Right Care Initiative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rcent of Plans Meeting HEDIS Blood Pressure Standard 2009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2120" y="2514600"/>
          <a:ext cx="7619760" cy="34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14600"/>
                    <a:ext cx="761976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032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Emerging web-based GIS &amp; social networking tools will also facilitate multi-stakeholder QI effort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1403280"/>
            <a:ext cx="8525160" cy="4996080"/>
            <a:chOff x="380880" y="1403280"/>
            <a:chExt cx="8525160" cy="499608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80880" y="1403280"/>
              <a:ext cx="4718160" cy="39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4191120" y="2438280"/>
              <a:ext cx="4714920" cy="3961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asons to Support MT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chrane review ( 2000) The Cochrane group found pharmacist-based interventions encourag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ing evidence form controlled studies that the Ashville principles can be used to control CHD risk factors.  The effect on health outcomes awaits evaluation (Carter et al 200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idence of Effectiveness  for CDSM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8  (CDC) review of published studies (Gordon and Galloway 200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studies reported lower ER visit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studies demonstrated reduced hospital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studies reported reduced number of days in the hospital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studies reporting statistically significant reductions in outpatient visi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ificant reduction in health care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LL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340400" cy="374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71240" indent="-471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nds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irin 81 m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inopril 20 mg,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pid lowering with simvastatin 40 mg/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is a Polypill (but delivered in 3 pil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gested that the clinical and cost effectiveness of increasing ALL use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ic (55+)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143-925E-453B-8B91-EBBC3F86F7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Evaluation of ALL (Polypill)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IPPS Trial 50 Centers in India (ACC 2009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-blind study, enrolled 2053 patients aged 45 to 80 years without cardiovascular disease but with one risk factor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 2 diabetes, high blood pressure, smoker within past five years, increased waist-to-hip ratio, or abnormal lip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l well tolerated, b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than expected reduction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B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iance lower than exp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health outcome data available at this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eps from A to B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57040" y="2054520"/>
            <a:ext cx="6574320" cy="4120560"/>
            <a:chOff x="2057040" y="2054520"/>
            <a:chExt cx="6574320" cy="4120560"/>
          </a:xfrm>
        </p:grpSpPr>
        <p:sp>
          <p:nvSpPr>
            <p:cNvPr id="161" name=""/>
            <p:cNvSpPr/>
            <p:nvPr/>
          </p:nvSpPr>
          <p:spPr>
            <a:xfrm rot="21595800">
              <a:off x="2057400" y="5338440"/>
              <a:ext cx="4835520" cy="833400"/>
            </a:xfrm>
            <a:prstGeom prst="cube">
              <a:avLst>
                <a:gd name="adj" fmla="val 44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8f5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1594000">
              <a:off x="2066400" y="5756040"/>
              <a:ext cx="4575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1595800">
              <a:off x="2276640" y="4508280"/>
              <a:ext cx="4833720" cy="834840"/>
            </a:xfrm>
            <a:prstGeom prst="cube">
              <a:avLst>
                <a:gd name="adj" fmla="val 44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400" rIns="149400" tIns="74880" bIns="74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595800">
              <a:off x="2503440" y="3679560"/>
              <a:ext cx="4834080" cy="833400"/>
            </a:xfrm>
            <a:prstGeom prst="cube">
              <a:avLst>
                <a:gd name="adj" fmla="val 44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400" rIns="149400" tIns="74880" bIns="74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1595800">
              <a:off x="2711520" y="2857320"/>
              <a:ext cx="4833720" cy="834840"/>
            </a:xfrm>
            <a:prstGeom prst="cube">
              <a:avLst>
                <a:gd name="adj" fmla="val 44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2dff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1595800">
              <a:off x="2938320" y="2057040"/>
              <a:ext cx="4834080" cy="836640"/>
            </a:xfrm>
            <a:prstGeom prst="cube">
              <a:avLst>
                <a:gd name="adj" fmla="val 4444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400" rIns="149400" tIns="74880" bIns="74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1594000">
              <a:off x="2280960" y="4908240"/>
              <a:ext cx="45734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1594000">
              <a:off x="2499840" y="4096800"/>
              <a:ext cx="45738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1594000">
              <a:off x="2714400" y="3288960"/>
              <a:ext cx="45734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1594000">
              <a:off x="2931840" y="2474640"/>
              <a:ext cx="4573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7080" y="4986360"/>
              <a:ext cx="44874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d7"/>
                  </a:solidFill>
                  <a:latin typeface="Times New Roman"/>
                </a:rPr>
                <a:t>Get Stakeholders &amp; Other Experts Togeth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18600" y="4148280"/>
              <a:ext cx="347544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d7"/>
                  </a:solidFill>
                  <a:latin typeface="Times New Roman"/>
                </a:rPr>
                <a:t>Identify Evidence-Based Practi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89520" y="3309840"/>
              <a:ext cx="38350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d7"/>
                  </a:solidFill>
                  <a:latin typeface="Times New Roman"/>
                </a:rPr>
                <a:t>Implement and Evaluate </a:t>
              </a:r>
              <a:r>
                <a:rPr b="1" lang="en-US" sz="1800" spc="-1" strike="noStrike">
                  <a:solidFill>
                    <a:srgbClr val="3366cc"/>
                  </a:solidFill>
                  <a:latin typeface="Times New Roman"/>
                </a:rPr>
                <a:t>Interven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66520" y="5796000"/>
              <a:ext cx="32590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cc"/>
                  </a:solidFill>
                  <a:latin typeface="Times New Roman"/>
                </a:rPr>
                <a:t>Focus Attention on the Probl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46320" y="2471760"/>
              <a:ext cx="27514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cc"/>
                  </a:solidFill>
                  <a:latin typeface="Times New Roman"/>
                </a:rPr>
                <a:t>Disseminate Best Practi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2400" y="4097160"/>
              <a:ext cx="858960" cy="324000"/>
            </a:xfrm>
            <a:prstGeom prst="leftArrow">
              <a:avLst>
                <a:gd name="adj1" fmla="val 50000"/>
                <a:gd name="adj2" fmla="val 66278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5640" bIns="35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ight Care Proposed 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ater use of electronic technolog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ater of pharmacist managed c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arture from reactive, appointment based c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CI Collaborato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- California Department of Managed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Plans-Medical Directors -Kaiser, Blue Shield, United, Aetna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ademic-  UC Berkeley, UCLA, UCSD, U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Organizations- RAND, VA, Lume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Groups- California Association of Physicia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ere is this go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ovascular disease is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have been known for 5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 clearly shows that modifying some risk factors reduces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level modification of risk factors has been disappo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strategies show promise for risk factor modification in group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57150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revalence of CVD in adults age 20 and older by age and sex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HANES: 2005-2006).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Source: NCHS and NHLBI.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data include coronary heart disease, heart failure, stroke and hypertens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27120" y="1219320"/>
          <a:ext cx="7832520" cy="45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Image: Bar graph depicting the prevalence of CVD in adults age 20 and older by age and sex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1219320"/>
                    <a:ext cx="78325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121400" y="271440"/>
            <a:ext cx="69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one in three adults have prevalent C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7621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</a:rPr>
              <a:t>Prevalence of CVD in adults age 20 and older by age and sex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579132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VD deaths vs. cancer deaths by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United States: 2005).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Source: NCHS and NHLB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195560"/>
          <a:ext cx="8192880" cy="43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Image: Bar graph depicting CVD deaths vs. cancer deaths by age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95560"/>
                    <a:ext cx="8192880" cy="43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810720" y="331920"/>
            <a:ext cx="72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more than 850,000 CVD deaths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3rd before age 75, 50% higher than cancer de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</a:rPr>
              <a:t>CVD deaths vs. cancer deaths by age.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Year CHD Mortality by Total Serum Cholesterol  356,222 Men Screened for MRFIT, Aged 35-57 Yrs</a:t>
            </a:r>
            <a:br>
              <a:rPr sz="32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990720"/>
          <a:ext cx="8686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Image: Graph depicting the 6 year CHD mortality by total serum cholestero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Image: Graph: LDL-C Lowering With Statins: Reduced CHD Ev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5000" y="647676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LDL-C Lowering With Statins: Reduced CHD Events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age: Bar graph depicting Clinical Event Reduction in Clinical Trials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486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79280" y="206640"/>
            <a:ext cx="878364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7df2d"/>
                </a:solidFill>
                <a:latin typeface="Arial"/>
              </a:rPr>
              <a:t>Clinical Event Reduction in Clinical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89f2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uperko, H. R. et al. Circulation 2008;117:560-568)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Arial"/>
              </a:rPr>
              <a:t>Clinical Event Reduction in Clinical Trials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0:17:39Z</dcterms:created>
  <dc:creator>UCLA</dc:creator>
  <dc:description/>
  <dc:language>en-US</dc:language>
  <cp:lastModifiedBy>Chettra.Chhiet</cp:lastModifiedBy>
  <dcterms:modified xsi:type="dcterms:W3CDTF">2009-12-03T18:40:43Z</dcterms:modified>
  <cp:revision>10</cp:revision>
  <dc:subject/>
  <dc:title>The California Right Care Initiative</dc:title>
</cp:coreProperties>
</file>