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CAD9-E263-491C-8E90-79A847B75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6740-63E2-4C38-8981-CF5326E25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18E-6861-47BE-AFA4-F626DFBB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2D4-6AE6-43CB-AE51-ED0B9DC1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0D5-952E-4523-801D-242DD141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7C2-5DC4-4E46-B5D1-771C7F41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B14F-57F6-4618-8586-2B5CA0C4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519C-AF21-4ED4-BEC8-0D1D6664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E25A-41EA-44FE-9B5E-1A5C7160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A78E-41A9-4FB8-AC35-BB3DFD09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DF9B-6EBB-47D5-B0FF-E9CACF2D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4AA3-8729-4636-9D91-5A70127C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8A64-5512-4D9C-9A79-BB70D1B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BB5-3D8E-4B47-869B-BA46E445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E76C-829C-4181-BDAE-2AB410C8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D887-01A7-4F1F-8D04-C0DAD1FE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D3D0-8677-4CF0-988B-FDDD9A3D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872C-09D7-495A-88E9-2638B1E9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84FC-C6D8-48D5-819C-177343A8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BE6-9D6D-4C59-B704-26D709F1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0C6-3B74-4158-9DB9-EEBE7645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A9C-265A-4A72-9936-16D2F001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FB1-6CCC-4833-AAF6-D2D2B531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179-9EF1-4AAF-B469-C3D8F342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957-BAD6-4C34-9BA5-C73DF82E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986-612B-449E-BF32-26820E2D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CFE5-BD51-456B-AA9A-60C041D5A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741F-38F4-4BE7-87D1-4746C3B6A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raig.jones@vdh.state.vt.u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7"/>
          <p:cNvSpPr/>
          <p:nvPr/>
        </p:nvSpPr>
        <p:spPr>
          <a:xfrm>
            <a:off x="68580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lueprint Integrated Pilot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 community system of health supported by 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851040" y="457200"/>
            <a:ext cx="5626080" cy="66600"/>
          </a:xfrm>
          <a:prstGeom prst="rect">
            <a:avLst/>
          </a:prstGeom>
          <a:gradFill rotWithShape="0">
            <a:gsLst>
              <a:gs pos="0">
                <a:srgbClr val="0a4e8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9" descr="BP logo color 1"/>
          <p:cNvPicPr/>
          <p:nvPr/>
        </p:nvPicPr>
        <p:blipFill>
          <a:blip r:embed="rId1"/>
          <a:stretch/>
        </p:blipFill>
        <p:spPr>
          <a:xfrm>
            <a:off x="6559560" y="179280"/>
            <a:ext cx="2127240" cy="658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448360" y="3646440"/>
            <a:ext cx="39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ig Jones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, Vermont Blueprint for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craig.jones@vdh.state.vt.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ight Bracket 62"/>
          <p:cNvSpPr/>
          <p:nvPr/>
        </p:nvSpPr>
        <p:spPr>
          <a:xfrm>
            <a:off x="8915400" y="2268360"/>
            <a:ext cx="114480" cy="3675240"/>
          </a:xfrm>
          <a:custGeom>
            <a:avLst/>
            <a:gdLst>
              <a:gd name="textAreaLeft" fmla="*/ 0 w 114480"/>
              <a:gd name="textAreaRight" fmla="*/ 80280 w 114480"/>
              <a:gd name="textAreaTop" fmla="*/ 4680 h 3675240"/>
              <a:gd name="textAreaBottom" fmla="*/ 3670560 h 367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8"/>
                  <a:pt x="21600" y="56"/>
                </a:cubicBezTo>
                <a:lnTo>
                  <a:pt x="21600" y="21544"/>
                </a:lnTo>
                <a:cubicBezTo>
                  <a:pt x="21600" y="21572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1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8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ight Brace 65"/>
          <p:cNvSpPr/>
          <p:nvPr/>
        </p:nvSpPr>
        <p:spPr>
          <a:xfrm flipH="1">
            <a:off x="590472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4" name="Right Brace 70"/>
          <p:cNvSpPr/>
          <p:nvPr/>
        </p:nvSpPr>
        <p:spPr>
          <a:xfrm flipH="1">
            <a:off x="761940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ight Brace 73"/>
          <p:cNvSpPr/>
          <p:nvPr/>
        </p:nvSpPr>
        <p:spPr>
          <a:xfrm>
            <a:off x="735336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ight Brace 76"/>
          <p:cNvSpPr/>
          <p:nvPr/>
        </p:nvSpPr>
        <p:spPr>
          <a:xfrm>
            <a:off x="5638680" y="2268360"/>
            <a:ext cx="228600" cy="36752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75240"/>
              <a:gd name="textAreaBottom" fmla="*/ 3669480 h 367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/>
          <p:cNvSpPr/>
          <p:nvPr/>
        </p:nvSpPr>
        <p:spPr>
          <a:xfrm>
            <a:off x="1143000" y="2666880"/>
            <a:ext cx="6629400" cy="3810240"/>
          </a:xfrm>
          <a:prstGeom prst="flowChartAlternateProcess">
            <a:avLst/>
          </a:prstGeom>
          <a:solidFill>
            <a:srgbClr val="bfbfb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lth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hange “Clou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or secure, privacy prot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nterchange of health record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demographic data, image fi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clinical messaging, &amp; o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digitized health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atewide HIE Operated by VI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228600" y="1371600"/>
            <a:ext cx="8763120" cy="276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te HIT/HIE Policy, Oversight, &amp; Standard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– OVHA/H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228600" y="1905120"/>
            <a:ext cx="434340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te Government &amp; Public Health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4648320" y="1905120"/>
            <a:ext cx="434340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rmont Health Care Providers &amp; Institu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228600" y="838080"/>
            <a:ext cx="8763120" cy="276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ederal HIT/HIE Policy, Oversight, &amp; Standards  -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fice of the National Coordinator (ONC)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4572000" y="112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2438280" y="165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"/>
          <p:cNvSpPr/>
          <p:nvPr/>
        </p:nvSpPr>
        <p:spPr>
          <a:xfrm>
            <a:off x="6781680" y="165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04920" y="2743200"/>
            <a:ext cx="2209680" cy="6415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Health surveillance, registries, &amp; other public health func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304920" y="3505320"/>
            <a:ext cx="2209680" cy="8240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dicaid health programs case management functionality and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304920" y="4267080"/>
            <a:ext cx="2209680" cy="6415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Medicaid &amp; AHS case management functionality and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5"/>
          <p:cNvSpPr/>
          <p:nvPr/>
        </p:nvSpPr>
        <p:spPr>
          <a:xfrm>
            <a:off x="6172200" y="2819520"/>
            <a:ext cx="2590920" cy="459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rtiary and Community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6172200" y="3200400"/>
            <a:ext cx="2590920" cy="459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mary Care &amp; Specialty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6172200" y="4495680"/>
            <a:ext cx="2590920" cy="2764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ntal Health/BH/SA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6172200" y="4876920"/>
            <a:ext cx="2590920" cy="2764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ng Term Car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6172200" y="5675400"/>
            <a:ext cx="2590920" cy="6415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ty Human Service Agencies (Family Centers, Area Agencies on Ag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0"/>
          <p:cNvSpPr/>
          <p:nvPr/>
        </p:nvSpPr>
        <p:spPr>
          <a:xfrm>
            <a:off x="6172200" y="5278320"/>
            <a:ext cx="2590920" cy="459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me Health &amp; Hosp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1"/>
          <p:cNvSpPr/>
          <p:nvPr/>
        </p:nvSpPr>
        <p:spPr>
          <a:xfrm>
            <a:off x="304920" y="5029200"/>
            <a:ext cx="2209680" cy="8240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state agency &amp; dept. case management functionality and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6172200" y="3581280"/>
            <a:ext cx="2590920" cy="459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derally Qualified Health Centers &amp; Rural Health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6172200" y="4135320"/>
            <a:ext cx="2590920" cy="2764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ee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4"/>
          <p:cNvSpPr/>
          <p:nvPr/>
        </p:nvSpPr>
        <p:spPr>
          <a:xfrm>
            <a:off x="304920" y="5827680"/>
            <a:ext cx="2209680" cy="459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w Enforcement, Corrections, &amp; Cour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2666880" y="6056280"/>
            <a:ext cx="3353040" cy="6415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ividual Vermonters: connectivity to EHR Portals, Personal Health Records (PHR), Health 2.0 applications and Ix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3657600" y="2556000"/>
            <a:ext cx="1828800" cy="2764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HIN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24"/>
          <p:cNvSpPr/>
          <p:nvPr/>
        </p:nvSpPr>
        <p:spPr>
          <a:xfrm>
            <a:off x="1329840" y="7632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wide Health Information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8"/>
          <p:cNvSpPr/>
          <p:nvPr/>
        </p:nvSpPr>
        <p:spPr>
          <a:xfrm>
            <a:off x="509400" y="1601640"/>
            <a:ext cx="72712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dimensional evaluation framework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patient care &amp; population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ongoing quality impr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trends in clinical outco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trends of financial 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sustainability &amp; expa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304920" y="154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ilding a Scala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2"/>
          <p:cNvSpPr/>
          <p:nvPr/>
        </p:nvSpPr>
        <p:spPr>
          <a:xfrm>
            <a:off x="2247840" y="5140440"/>
            <a:ext cx="5410440" cy="3070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IT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3"/>
          <p:cNvSpPr/>
          <p:nvPr/>
        </p:nvSpPr>
        <p:spPr>
          <a:xfrm>
            <a:off x="2247840" y="5483160"/>
            <a:ext cx="5410440" cy="30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bal Information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4"/>
          <p:cNvSpPr/>
          <p:nvPr/>
        </p:nvSpPr>
        <p:spPr>
          <a:xfrm>
            <a:off x="2247840" y="5826240"/>
            <a:ext cx="5410440" cy="307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5"/>
          <p:cNvSpPr/>
          <p:nvPr/>
        </p:nvSpPr>
        <p:spPr>
          <a:xfrm>
            <a:off x="2247840" y="6168960"/>
            <a:ext cx="5410440" cy="307080"/>
          </a:xfrm>
          <a:prstGeom prst="rect">
            <a:avLst/>
          </a:prstGeom>
          <a:solidFill>
            <a:srgbClr val="4274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4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ordinate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272280" y="1776240"/>
            <a:ext cx="852480" cy="633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1"/>
          <p:cNvSpPr/>
          <p:nvPr/>
        </p:nvSpPr>
        <p:spPr>
          <a:xfrm>
            <a:off x="6424560" y="1971720"/>
            <a:ext cx="6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M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6843600" y="2576520"/>
            <a:ext cx="852480" cy="633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3"/>
          <p:cNvSpPr/>
          <p:nvPr/>
        </p:nvSpPr>
        <p:spPr>
          <a:xfrm>
            <a:off x="6861240" y="27655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M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6676920" y="3376440"/>
            <a:ext cx="852480" cy="633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7"/>
          <p:cNvSpPr/>
          <p:nvPr/>
        </p:nvSpPr>
        <p:spPr>
          <a:xfrm>
            <a:off x="6767640" y="356544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M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7"/>
          <p:cNvSpPr/>
          <p:nvPr/>
        </p:nvSpPr>
        <p:spPr>
          <a:xfrm>
            <a:off x="5229360" y="1486080"/>
            <a:ext cx="852480" cy="633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5319720" y="1674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M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9"/>
          <p:cNvSpPr/>
          <p:nvPr/>
        </p:nvSpPr>
        <p:spPr>
          <a:xfrm>
            <a:off x="4024440" y="1967040"/>
            <a:ext cx="2960640" cy="2214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0"/>
          <p:cNvSpPr/>
          <p:nvPr/>
        </p:nvSpPr>
        <p:spPr>
          <a:xfrm>
            <a:off x="2690640" y="990720"/>
            <a:ext cx="2438640" cy="1409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3529080" y="1550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7"/>
          <p:cNvSpPr/>
          <p:nvPr/>
        </p:nvSpPr>
        <p:spPr>
          <a:xfrm>
            <a:off x="2286000" y="3774960"/>
            <a:ext cx="3086280" cy="1101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7"/>
          <p:cNvSpPr/>
          <p:nvPr/>
        </p:nvSpPr>
        <p:spPr>
          <a:xfrm>
            <a:off x="2819520" y="4183200"/>
            <a:ext cx="21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Health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7"/>
          <p:cNvSpPr/>
          <p:nvPr/>
        </p:nvSpPr>
        <p:spPr>
          <a:xfrm>
            <a:off x="4214880" y="2400480"/>
            <a:ext cx="2558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unity Ca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e Coord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t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Health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HA Care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Health Prevention Spe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2666880" y="266688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&amp; Substance Use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1"/>
          <p:cNvSpPr/>
          <p:nvPr/>
        </p:nvSpPr>
        <p:spPr>
          <a:xfrm>
            <a:off x="2362320" y="2514600"/>
            <a:ext cx="1828800" cy="914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ight Bracket 62"/>
          <p:cNvSpPr/>
          <p:nvPr/>
        </p:nvSpPr>
        <p:spPr>
          <a:xfrm>
            <a:off x="8915400" y="2268360"/>
            <a:ext cx="114480" cy="3675240"/>
          </a:xfrm>
          <a:custGeom>
            <a:avLst/>
            <a:gdLst>
              <a:gd name="textAreaLeft" fmla="*/ 0 w 114480"/>
              <a:gd name="textAreaRight" fmla="*/ 80280 w 114480"/>
              <a:gd name="textAreaTop" fmla="*/ 4680 h 3675240"/>
              <a:gd name="textAreaBottom" fmla="*/ 3670560 h 367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8"/>
                  <a:pt x="21600" y="56"/>
                </a:cubicBezTo>
                <a:lnTo>
                  <a:pt x="21600" y="21544"/>
                </a:lnTo>
                <a:cubicBezTo>
                  <a:pt x="21600" y="21572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ight Brace 65"/>
          <p:cNvSpPr/>
          <p:nvPr/>
        </p:nvSpPr>
        <p:spPr>
          <a:xfrm flipH="1">
            <a:off x="590472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ight Brace 70"/>
          <p:cNvSpPr/>
          <p:nvPr/>
        </p:nvSpPr>
        <p:spPr>
          <a:xfrm flipH="1">
            <a:off x="761940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Brace 73"/>
          <p:cNvSpPr/>
          <p:nvPr/>
        </p:nvSpPr>
        <p:spPr>
          <a:xfrm>
            <a:off x="735336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Brace 76"/>
          <p:cNvSpPr/>
          <p:nvPr/>
        </p:nvSpPr>
        <p:spPr>
          <a:xfrm>
            <a:off x="5638680" y="2268360"/>
            <a:ext cx="228600" cy="36752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75240"/>
              <a:gd name="textAreaBottom" fmla="*/ 3669480 h 367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ight Bracket 62"/>
          <p:cNvSpPr/>
          <p:nvPr/>
        </p:nvSpPr>
        <p:spPr>
          <a:xfrm>
            <a:off x="8915400" y="2268360"/>
            <a:ext cx="114480" cy="1579680"/>
          </a:xfrm>
          <a:custGeom>
            <a:avLst/>
            <a:gdLst>
              <a:gd name="textAreaLeft" fmla="*/ 0 w 114480"/>
              <a:gd name="textAreaRight" fmla="*/ 80280 w 114480"/>
              <a:gd name="textAreaTop" fmla="*/ 4680 h 1579680"/>
              <a:gd name="textAreaBottom" fmla="*/ 157500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5"/>
                  <a:pt x="21600" y="130"/>
                </a:cubicBezTo>
                <a:lnTo>
                  <a:pt x="21600" y="21470"/>
                </a:lnTo>
                <a:cubicBezTo>
                  <a:pt x="21600" y="21535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193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09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10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11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12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16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17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ight Brace 65"/>
          <p:cNvSpPr/>
          <p:nvPr/>
        </p:nvSpPr>
        <p:spPr>
          <a:xfrm flipH="1">
            <a:off x="5904720" y="2268360"/>
            <a:ext cx="228600" cy="97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70200"/>
              <a:gd name="textAreaBottom" fmla="*/ 964440 h 9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220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21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sp>
        <p:nvSpPr>
          <p:cNvPr id="222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24" name="Right Brace 70"/>
          <p:cNvSpPr/>
          <p:nvPr/>
        </p:nvSpPr>
        <p:spPr>
          <a:xfrm flipH="1">
            <a:off x="7619400" y="2268360"/>
            <a:ext cx="228600" cy="15796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579680"/>
              <a:gd name="textAreaBottom" fmla="*/ 157392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0"/>
                  <a:pt x="10800" y="260"/>
                </a:cubicBezTo>
                <a:lnTo>
                  <a:pt x="10800" y="10540"/>
                </a:lnTo>
                <a:cubicBezTo>
                  <a:pt x="10800" y="10670"/>
                  <a:pt x="16200" y="10800"/>
                  <a:pt x="21600" y="10800"/>
                </a:cubicBezTo>
                <a:cubicBezTo>
                  <a:pt x="16200" y="10800"/>
                  <a:pt x="10800" y="10930"/>
                  <a:pt x="10800" y="11060"/>
                </a:cubicBezTo>
                <a:lnTo>
                  <a:pt x="10800" y="21340"/>
                </a:lnTo>
                <a:cubicBezTo>
                  <a:pt x="10800" y="21470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ight Brace 73"/>
          <p:cNvSpPr/>
          <p:nvPr/>
        </p:nvSpPr>
        <p:spPr>
          <a:xfrm>
            <a:off x="7353360" y="2268360"/>
            <a:ext cx="228600" cy="97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70200"/>
              <a:gd name="textAreaBottom" fmla="*/ 964440 h 9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ight Brace 76"/>
          <p:cNvSpPr/>
          <p:nvPr/>
        </p:nvSpPr>
        <p:spPr>
          <a:xfrm>
            <a:off x="5638680" y="2268360"/>
            <a:ext cx="228600" cy="97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70200"/>
              <a:gd name="textAreaBottom" fmla="*/ 964440 h 9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43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48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62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65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66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67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68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72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73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275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76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sp>
        <p:nvSpPr>
          <p:cNvPr id="277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79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ight Brace 76"/>
          <p:cNvSpPr/>
          <p:nvPr/>
        </p:nvSpPr>
        <p:spPr>
          <a:xfrm>
            <a:off x="5638680" y="3009960"/>
            <a:ext cx="228600" cy="4190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419040"/>
              <a:gd name="textAreaBottom" fmla="*/ 4132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1"/>
                  <a:pt x="10800" y="982"/>
                </a:cubicBezTo>
                <a:lnTo>
                  <a:pt x="10800" y="9818"/>
                </a:lnTo>
                <a:cubicBezTo>
                  <a:pt x="10800" y="10309"/>
                  <a:pt x="16200" y="10800"/>
                  <a:pt x="21600" y="10800"/>
                </a:cubicBezTo>
                <a:cubicBezTo>
                  <a:pt x="16200" y="10800"/>
                  <a:pt x="10800" y="11291"/>
                  <a:pt x="10800" y="11782"/>
                </a:cubicBezTo>
                <a:lnTo>
                  <a:pt x="10800" y="20618"/>
                </a:lnTo>
                <a:cubicBezTo>
                  <a:pt x="10800" y="21109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ight Bracket 64"/>
          <p:cNvSpPr/>
          <p:nvPr/>
        </p:nvSpPr>
        <p:spPr>
          <a:xfrm>
            <a:off x="8915400" y="2268360"/>
            <a:ext cx="114480" cy="1579680"/>
          </a:xfrm>
          <a:custGeom>
            <a:avLst/>
            <a:gdLst>
              <a:gd name="textAreaLeft" fmla="*/ 0 w 114480"/>
              <a:gd name="textAreaRight" fmla="*/ 80280 w 114480"/>
              <a:gd name="textAreaTop" fmla="*/ 4680 h 1579680"/>
              <a:gd name="textAreaBottom" fmla="*/ 157500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5"/>
                  <a:pt x="21600" y="130"/>
                </a:cubicBezTo>
                <a:lnTo>
                  <a:pt x="21600" y="21470"/>
                </a:lnTo>
                <a:cubicBezTo>
                  <a:pt x="21600" y="21535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ight Brace 66"/>
          <p:cNvSpPr/>
          <p:nvPr/>
        </p:nvSpPr>
        <p:spPr>
          <a:xfrm flipH="1">
            <a:off x="5904720" y="2268360"/>
            <a:ext cx="228600" cy="97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70200"/>
              <a:gd name="textAreaBottom" fmla="*/ 964440 h 9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ight Brace 67"/>
          <p:cNvSpPr/>
          <p:nvPr/>
        </p:nvSpPr>
        <p:spPr>
          <a:xfrm flipH="1">
            <a:off x="7619400" y="2268360"/>
            <a:ext cx="228600" cy="15796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579680"/>
              <a:gd name="textAreaBottom" fmla="*/ 157392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0"/>
                  <a:pt x="10800" y="260"/>
                </a:cubicBezTo>
                <a:lnTo>
                  <a:pt x="10800" y="10540"/>
                </a:lnTo>
                <a:cubicBezTo>
                  <a:pt x="10800" y="10670"/>
                  <a:pt x="16200" y="10800"/>
                  <a:pt x="21600" y="10800"/>
                </a:cubicBezTo>
                <a:cubicBezTo>
                  <a:pt x="16200" y="10800"/>
                  <a:pt x="10800" y="10930"/>
                  <a:pt x="10800" y="11060"/>
                </a:cubicBezTo>
                <a:lnTo>
                  <a:pt x="10800" y="21340"/>
                </a:lnTo>
                <a:cubicBezTo>
                  <a:pt x="10800" y="21470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ight Brace 68"/>
          <p:cNvSpPr/>
          <p:nvPr/>
        </p:nvSpPr>
        <p:spPr>
          <a:xfrm>
            <a:off x="7353360" y="2268360"/>
            <a:ext cx="228600" cy="97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70200"/>
              <a:gd name="textAreaBottom" fmla="*/ 964440 h 9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01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06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07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20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21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23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25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26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31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ight Brace 65"/>
          <p:cNvSpPr/>
          <p:nvPr/>
        </p:nvSpPr>
        <p:spPr>
          <a:xfrm flipH="1">
            <a:off x="5942880" y="3657600"/>
            <a:ext cx="190440" cy="34308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43080"/>
              <a:gd name="textAreaBottom" fmla="*/ 33840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0"/>
                  <a:pt x="10800" y="1000"/>
                </a:cubicBezTo>
                <a:lnTo>
                  <a:pt x="10800" y="9800"/>
                </a:lnTo>
                <a:cubicBezTo>
                  <a:pt x="10800" y="10300"/>
                  <a:pt x="16200" y="10800"/>
                  <a:pt x="21600" y="10800"/>
                </a:cubicBezTo>
                <a:cubicBezTo>
                  <a:pt x="16200" y="10800"/>
                  <a:pt x="10800" y="11300"/>
                  <a:pt x="10800" y="11800"/>
                </a:cubicBezTo>
                <a:lnTo>
                  <a:pt x="10800" y="20600"/>
                </a:lnTo>
                <a:cubicBezTo>
                  <a:pt x="10800" y="211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334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35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sp>
        <p:nvSpPr>
          <p:cNvPr id="336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38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ight Brace 73"/>
          <p:cNvSpPr/>
          <p:nvPr/>
        </p:nvSpPr>
        <p:spPr>
          <a:xfrm>
            <a:off x="7353360" y="3657600"/>
            <a:ext cx="190440" cy="34308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43080"/>
              <a:gd name="textAreaBottom" fmla="*/ 33840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0"/>
                  <a:pt x="10800" y="1000"/>
                </a:cubicBezTo>
                <a:lnTo>
                  <a:pt x="10800" y="9800"/>
                </a:lnTo>
                <a:cubicBezTo>
                  <a:pt x="10800" y="10300"/>
                  <a:pt x="16200" y="10800"/>
                  <a:pt x="21600" y="10800"/>
                </a:cubicBezTo>
                <a:cubicBezTo>
                  <a:pt x="16200" y="10800"/>
                  <a:pt x="10800" y="11300"/>
                  <a:pt x="10800" y="11800"/>
                </a:cubicBezTo>
                <a:lnTo>
                  <a:pt x="10800" y="20600"/>
                </a:lnTo>
                <a:cubicBezTo>
                  <a:pt x="10800" y="211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ight Brace 76"/>
          <p:cNvSpPr/>
          <p:nvPr/>
        </p:nvSpPr>
        <p:spPr>
          <a:xfrm>
            <a:off x="5638680" y="4952880"/>
            <a:ext cx="190800" cy="381240"/>
          </a:xfrm>
          <a:custGeom>
            <a:avLst/>
            <a:gdLst>
              <a:gd name="textAreaLeft" fmla="*/ 0 w 190800"/>
              <a:gd name="textAreaRight" fmla="*/ 68760 w 190800"/>
              <a:gd name="textAreaTop" fmla="*/ 4680 h 381240"/>
              <a:gd name="textAreaBottom" fmla="*/ 3765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ight Bracket 67"/>
          <p:cNvSpPr/>
          <p:nvPr/>
        </p:nvSpPr>
        <p:spPr>
          <a:xfrm>
            <a:off x="8915400" y="3733920"/>
            <a:ext cx="114480" cy="838080"/>
          </a:xfrm>
          <a:custGeom>
            <a:avLst/>
            <a:gdLst>
              <a:gd name="textAreaLeft" fmla="*/ 0 w 114480"/>
              <a:gd name="textAreaRight" fmla="*/ 80280 w 114480"/>
              <a:gd name="textAreaTop" fmla="*/ 4680 h 838080"/>
              <a:gd name="textAreaBottom" fmla="*/ 833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23"/>
                  <a:pt x="21600" y="245"/>
                </a:cubicBezTo>
                <a:lnTo>
                  <a:pt x="21600" y="21355"/>
                </a:lnTo>
                <a:cubicBezTo>
                  <a:pt x="21600" y="21478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ight Brace 68"/>
          <p:cNvSpPr/>
          <p:nvPr/>
        </p:nvSpPr>
        <p:spPr>
          <a:xfrm flipH="1">
            <a:off x="7619400" y="37339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838080"/>
              <a:gd name="textAreaBottom" fmla="*/ 8323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ight Bracket 62"/>
          <p:cNvSpPr/>
          <p:nvPr/>
        </p:nvSpPr>
        <p:spPr>
          <a:xfrm>
            <a:off x="8915400" y="3124080"/>
            <a:ext cx="114480" cy="838440"/>
          </a:xfrm>
          <a:custGeom>
            <a:avLst/>
            <a:gdLst>
              <a:gd name="textAreaLeft" fmla="*/ 0 w 114480"/>
              <a:gd name="textAreaRight" fmla="*/ 80280 w 114480"/>
              <a:gd name="textAreaTop" fmla="*/ 4680 h 838440"/>
              <a:gd name="textAreaBottom" fmla="*/ 83376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23"/>
                  <a:pt x="21600" y="245"/>
                </a:cubicBezTo>
                <a:lnTo>
                  <a:pt x="21600" y="21355"/>
                </a:lnTo>
                <a:cubicBezTo>
                  <a:pt x="21600" y="21478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60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65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66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79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80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82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84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85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90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ight Brace 65"/>
          <p:cNvSpPr/>
          <p:nvPr/>
        </p:nvSpPr>
        <p:spPr>
          <a:xfrm flipH="1">
            <a:off x="5904720" y="2247840"/>
            <a:ext cx="228600" cy="10288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028880"/>
              <a:gd name="textAreaBottom" fmla="*/ 1023120 h 10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393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94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sp>
        <p:nvSpPr>
          <p:cNvPr id="395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97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ight Brace 70"/>
          <p:cNvSpPr/>
          <p:nvPr/>
        </p:nvSpPr>
        <p:spPr>
          <a:xfrm flipH="1">
            <a:off x="7619400" y="312408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838440"/>
              <a:gd name="textAreaBottom" fmla="*/ 8326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ight Brace 73"/>
          <p:cNvSpPr/>
          <p:nvPr/>
        </p:nvSpPr>
        <p:spPr>
          <a:xfrm>
            <a:off x="7353360" y="2209680"/>
            <a:ext cx="228600" cy="1105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105200"/>
              <a:gd name="textAreaBottom" fmla="*/ 1099440 h 110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6"/>
                  <a:pt x="10800" y="372"/>
                </a:cubicBezTo>
                <a:lnTo>
                  <a:pt x="10800" y="10428"/>
                </a:lnTo>
                <a:cubicBezTo>
                  <a:pt x="10800" y="10614"/>
                  <a:pt x="16200" y="10800"/>
                  <a:pt x="21600" y="10800"/>
                </a:cubicBezTo>
                <a:cubicBezTo>
                  <a:pt x="16200" y="10800"/>
                  <a:pt x="10800" y="10986"/>
                  <a:pt x="10800" y="11172"/>
                </a:cubicBezTo>
                <a:lnTo>
                  <a:pt x="10800" y="21228"/>
                </a:lnTo>
                <a:cubicBezTo>
                  <a:pt x="10800" y="2141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ight Brace 76"/>
          <p:cNvSpPr/>
          <p:nvPr/>
        </p:nvSpPr>
        <p:spPr>
          <a:xfrm>
            <a:off x="5638680" y="4952880"/>
            <a:ext cx="190800" cy="381240"/>
          </a:xfrm>
          <a:custGeom>
            <a:avLst/>
            <a:gdLst>
              <a:gd name="textAreaLeft" fmla="*/ 0 w 190800"/>
              <a:gd name="textAreaRight" fmla="*/ 68760 w 190800"/>
              <a:gd name="textAreaTop" fmla="*/ 4680 h 381240"/>
              <a:gd name="textAreaBottom" fmla="*/ 3765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ight Bracket 62"/>
          <p:cNvSpPr/>
          <p:nvPr/>
        </p:nvSpPr>
        <p:spPr>
          <a:xfrm>
            <a:off x="8915400" y="3695760"/>
            <a:ext cx="114480" cy="1638360"/>
          </a:xfrm>
          <a:custGeom>
            <a:avLst/>
            <a:gdLst>
              <a:gd name="textAreaLeft" fmla="*/ 0 w 114480"/>
              <a:gd name="textAreaRight" fmla="*/ 80280 w 114480"/>
              <a:gd name="textAreaTop" fmla="*/ 4680 h 1638360"/>
              <a:gd name="textAreaBottom" fmla="*/ 1633680 h 16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3"/>
                  <a:pt x="21600" y="126"/>
                </a:cubicBezTo>
                <a:lnTo>
                  <a:pt x="21600" y="21474"/>
                </a:lnTo>
                <a:cubicBezTo>
                  <a:pt x="21600" y="21537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19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24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25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38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39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41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42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44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48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Right Brace 65"/>
          <p:cNvSpPr/>
          <p:nvPr/>
        </p:nvSpPr>
        <p:spPr>
          <a:xfrm flipH="1">
            <a:off x="5904720" y="4305240"/>
            <a:ext cx="228600" cy="9525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52560"/>
              <a:gd name="textAreaBottom" fmla="*/ 94680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6"/>
                  <a:pt x="10800" y="432"/>
                </a:cubicBezTo>
                <a:lnTo>
                  <a:pt x="10800" y="10368"/>
                </a:lnTo>
                <a:cubicBezTo>
                  <a:pt x="10800" y="10584"/>
                  <a:pt x="16200" y="10800"/>
                  <a:pt x="21600" y="10800"/>
                </a:cubicBezTo>
                <a:cubicBezTo>
                  <a:pt x="16200" y="10800"/>
                  <a:pt x="10800" y="11016"/>
                  <a:pt x="10800" y="11232"/>
                </a:cubicBezTo>
                <a:lnTo>
                  <a:pt x="10800" y="21168"/>
                </a:lnTo>
                <a:cubicBezTo>
                  <a:pt x="10800" y="2138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451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3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55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ight Brace 70"/>
          <p:cNvSpPr/>
          <p:nvPr/>
        </p:nvSpPr>
        <p:spPr>
          <a:xfrm flipH="1">
            <a:off x="7619400" y="369576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600200"/>
              <a:gd name="textAreaBottom" fmla="*/ 15944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ight Brace 73"/>
          <p:cNvSpPr/>
          <p:nvPr/>
        </p:nvSpPr>
        <p:spPr>
          <a:xfrm>
            <a:off x="7353360" y="4267080"/>
            <a:ext cx="228600" cy="10288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028880"/>
              <a:gd name="textAreaBottom" fmla="*/ 1023120 h 10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ight Brace 76"/>
          <p:cNvSpPr/>
          <p:nvPr/>
        </p:nvSpPr>
        <p:spPr>
          <a:xfrm>
            <a:off x="5638680" y="3657600"/>
            <a:ext cx="190800" cy="990720"/>
          </a:xfrm>
          <a:custGeom>
            <a:avLst/>
            <a:gdLst>
              <a:gd name="textAreaLeft" fmla="*/ 0 w 190800"/>
              <a:gd name="textAreaRight" fmla="*/ 68760 w 190800"/>
              <a:gd name="textAreaTop" fmla="*/ 4680 h 990720"/>
              <a:gd name="textAreaBottom" fmla="*/ 986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3"/>
                  <a:pt x="10800" y="346"/>
                </a:cubicBezTo>
                <a:lnTo>
                  <a:pt x="10800" y="10454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3"/>
                  <a:pt x="10800" y="11146"/>
                </a:cubicBezTo>
                <a:lnTo>
                  <a:pt x="10800" y="21254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76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81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82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95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96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8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99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500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505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506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ight Brace 65"/>
          <p:cNvSpPr/>
          <p:nvPr/>
        </p:nvSpPr>
        <p:spPr>
          <a:xfrm flipH="1">
            <a:off x="5904720" y="5667480"/>
            <a:ext cx="228600" cy="34272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42720"/>
              <a:gd name="textAreaBottom" fmla="*/ 33696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509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510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511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ight Brace 73"/>
          <p:cNvSpPr/>
          <p:nvPr/>
        </p:nvSpPr>
        <p:spPr>
          <a:xfrm>
            <a:off x="7353360" y="5667480"/>
            <a:ext cx="228600" cy="34272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42720"/>
              <a:gd name="textAreaBottom" fmla="*/ 33696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ight Brace 76"/>
          <p:cNvSpPr/>
          <p:nvPr/>
        </p:nvSpPr>
        <p:spPr>
          <a:xfrm>
            <a:off x="5638680" y="5667480"/>
            <a:ext cx="228600" cy="34272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42720"/>
              <a:gd name="textAreaBottom" fmla="*/ 33696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ight Bracket 64"/>
          <p:cNvSpPr/>
          <p:nvPr/>
        </p:nvSpPr>
        <p:spPr>
          <a:xfrm>
            <a:off x="8915400" y="3695760"/>
            <a:ext cx="114480" cy="2324160"/>
          </a:xfrm>
          <a:custGeom>
            <a:avLst/>
            <a:gdLst>
              <a:gd name="textAreaLeft" fmla="*/ 0 w 114480"/>
              <a:gd name="textAreaRight" fmla="*/ 80280 w 114480"/>
              <a:gd name="textAreaTop" fmla="*/ 4680 h 2324160"/>
              <a:gd name="textAreaBottom" fmla="*/ 2319480 h 23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5"/>
                  <a:pt x="21600" y="89"/>
                </a:cubicBezTo>
                <a:lnTo>
                  <a:pt x="21600" y="21511"/>
                </a:lnTo>
                <a:cubicBezTo>
                  <a:pt x="21600" y="21556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ight Brace 66"/>
          <p:cNvSpPr/>
          <p:nvPr/>
        </p:nvSpPr>
        <p:spPr>
          <a:xfrm flipH="1">
            <a:off x="7619400" y="3695760"/>
            <a:ext cx="228600" cy="23241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324160"/>
              <a:gd name="textAreaBottom" fmla="*/ 2318400 h 23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"/>
                  <a:pt x="10800" y="177"/>
                </a:cubicBezTo>
                <a:lnTo>
                  <a:pt x="10800" y="10623"/>
                </a:lnTo>
                <a:cubicBezTo>
                  <a:pt x="10800" y="10712"/>
                  <a:pt x="16200" y="10800"/>
                  <a:pt x="21600" y="10800"/>
                </a:cubicBezTo>
                <a:cubicBezTo>
                  <a:pt x="16200" y="10800"/>
                  <a:pt x="10800" y="10889"/>
                  <a:pt x="10800" y="10977"/>
                </a:cubicBezTo>
                <a:lnTo>
                  <a:pt x="10800" y="21423"/>
                </a:lnTo>
                <a:cubicBezTo>
                  <a:pt x="10800" y="21512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2:21:08Z</dcterms:created>
  <dc:creator>Laptop</dc:creator>
  <dc:description/>
  <dc:language>en-US</dc:language>
  <cp:lastModifiedBy>Chettra.Chhiet</cp:lastModifiedBy>
  <dcterms:modified xsi:type="dcterms:W3CDTF">2009-12-03T18:36:44Z</dcterms:modified>
  <cp:revision>100</cp:revision>
  <dc:subject/>
  <dc:title>Slide 1</dc:title>
</cp:coreProperties>
</file>