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FDF5-755B-4910-9E8C-D0DD09F4F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B8E8-47C3-4E74-9116-074CA583D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1C9-5ADA-4909-BBEA-F941FE6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3B0-9722-4A05-BA5A-D7EAFE78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389-73F7-4F89-B194-32ADF8FC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64F-C2F6-4223-A56D-40DFC139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77B3-5526-447F-9083-1362AD63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3786-3544-4981-8068-0DC215ED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3DFC-8761-49CB-81AF-1C9B1C40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79AF-FADA-42ED-94E7-8AA11A7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9859-2B8D-48E6-83DC-30F9B02E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04B4-A8B8-4631-84DF-681F65C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09AE-9825-4394-B64D-6B81060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B12-2CE7-4386-A5B8-25AD4FF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44C-05A8-45D6-8F3B-53CA0966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D56C-6755-460C-A5A4-C1FEE79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7FE5-F48A-4699-A8BE-259000B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7823-FA11-4704-AD9A-EFD6AE5E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2D41-4D85-457F-B68D-4C4B86B8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806-E6D3-4454-A94F-D09601DD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489-C35B-4D0E-99D1-9C890D4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502-BC6B-46F6-AEDF-0EA0DBC6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AFC-659D-4231-9A8D-A63BCF2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477-2EED-4C01-BD03-F81E7E3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935-29F1-4FC2-998A-892DE89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F60-D909-4241-B5AC-2F89726D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0BC1-A27B-4B0C-8B29-16D9AB53B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C615-AD5C-4840-9538-7FA5D0D8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raig.jones@vdh.state.vt.u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7"/>
          <p:cNvSpPr/>
          <p:nvPr/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ueprint Integrated Pilo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 community system of health supported by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851040" y="457200"/>
            <a:ext cx="5626080" cy="66600"/>
          </a:xfrm>
          <a:prstGeom prst="rect">
            <a:avLst/>
          </a:prstGeom>
          <a:gradFill rotWithShape="0">
            <a:gsLst>
              <a:gs pos="0">
                <a:srgbClr val="0a4e8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9" descr="BP logo color 1"/>
          <p:cNvPicPr/>
          <p:nvPr/>
        </p:nvPicPr>
        <p:blipFill>
          <a:blip r:embed="rId1"/>
          <a:stretch/>
        </p:blipFill>
        <p:spPr>
          <a:xfrm>
            <a:off x="6559560" y="179280"/>
            <a:ext cx="2127240" cy="658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448360" y="3646440"/>
            <a:ext cx="39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 Jones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, Vermont Blueprint for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raig.jones@vdh.state.vt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ight Bracket 62"/>
          <p:cNvSpPr/>
          <p:nvPr/>
        </p:nvSpPr>
        <p:spPr>
          <a:xfrm>
            <a:off x="8915400" y="2268360"/>
            <a:ext cx="114480" cy="36752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3675240"/>
              <a:gd name="textAreaBottom" fmla="*/ 367056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ight Brace 65"/>
          <p:cNvSpPr/>
          <p:nvPr/>
        </p:nvSpPr>
        <p:spPr>
          <a:xfrm flipH="1">
            <a:off x="590472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4" name="Right Brace 70"/>
          <p:cNvSpPr/>
          <p:nvPr/>
        </p:nvSpPr>
        <p:spPr>
          <a:xfrm flipH="1">
            <a:off x="761940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ight Brace 73"/>
          <p:cNvSpPr/>
          <p:nvPr/>
        </p:nvSpPr>
        <p:spPr>
          <a:xfrm>
            <a:off x="735336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ight Brace 76"/>
          <p:cNvSpPr/>
          <p:nvPr/>
        </p:nvSpPr>
        <p:spPr>
          <a:xfrm>
            <a:off x="5638680" y="2268360"/>
            <a:ext cx="228600" cy="36752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75240"/>
              <a:gd name="textAreaBottom" fmla="*/ 366948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1143000" y="2666880"/>
            <a:ext cx="6629400" cy="3810240"/>
          </a:xfrm>
          <a:prstGeom prst="flowChartAlternateProcess">
            <a:avLst/>
          </a:prstGeom>
          <a:solidFill>
            <a:srgbClr val="bfbfb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hange “Clou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or secure, privacy prot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nterchange of health record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demographic data, image fi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linical messaging, &amp;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digitized health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atewide HIE Operated by VI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228600" y="1371600"/>
            <a:ext cx="8763120" cy="276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e HIT/HIE Policy, Oversight, &amp; Standard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– OVHA/H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228600" y="1905120"/>
            <a:ext cx="434340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te Government &amp; Public Health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4648320" y="1905120"/>
            <a:ext cx="4343400" cy="2764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rmont Health Care Providers &amp; Institu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228600" y="838080"/>
            <a:ext cx="8763120" cy="276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ederal HIT/HIE Policy, Oversight, &amp; Standards  -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ice of the National Coordinator (ONC)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4572000" y="112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2438280" y="165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6781680" y="1655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04920" y="2743200"/>
            <a:ext cx="220968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Health surveillance, registries, &amp; other public health func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304920" y="3505320"/>
            <a:ext cx="2209680" cy="8240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dicaid health programs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304920" y="4267080"/>
            <a:ext cx="220968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Medicaid &amp; AHS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6172200" y="281952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rtiary and Community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6172200" y="320040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mary Care &amp; Specialty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6172200" y="449568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ntal Health/BH/SA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6172200" y="487692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ng Term Car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6172200" y="5675400"/>
            <a:ext cx="259092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ty Human Service Agencies (Family Centers, Area Agencies on Ag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6172200" y="527832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me Health &amp; Hosp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"/>
          <p:cNvSpPr/>
          <p:nvPr/>
        </p:nvSpPr>
        <p:spPr>
          <a:xfrm>
            <a:off x="304920" y="5029200"/>
            <a:ext cx="2209680" cy="8240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state agency &amp; dept. case management functionality and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6172200" y="3581280"/>
            <a:ext cx="259092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derally Qualified Health Centers &amp; Rural Health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172200" y="4135320"/>
            <a:ext cx="259092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ee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304920" y="5827680"/>
            <a:ext cx="2209680" cy="459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w Enforcement, Corrections, &amp; Cou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2666880" y="6056280"/>
            <a:ext cx="3353040" cy="64152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ividual Vermonters: connectivity to EHR Portals, Personal Health Records (PHR), Health 2.0 applications and Ix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3657600" y="2556000"/>
            <a:ext cx="1828800" cy="2764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HIN Conne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4"/>
          <p:cNvSpPr/>
          <p:nvPr/>
        </p:nvSpPr>
        <p:spPr>
          <a:xfrm>
            <a:off x="1329840" y="7632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wide Health Informatio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8"/>
          <p:cNvSpPr/>
          <p:nvPr/>
        </p:nvSpPr>
        <p:spPr>
          <a:xfrm>
            <a:off x="509400" y="1601640"/>
            <a:ext cx="7271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mensional evaluation framework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patient care &amp; popul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ongoing quality impr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rends in clinical outco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rends of financial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sustainability &amp; expa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304920" y="15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ilding a Scal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2"/>
          <p:cNvSpPr/>
          <p:nvPr/>
        </p:nvSpPr>
        <p:spPr>
          <a:xfrm>
            <a:off x="2247840" y="5140440"/>
            <a:ext cx="5410440" cy="3070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T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3"/>
          <p:cNvSpPr/>
          <p:nvPr/>
        </p:nvSpPr>
        <p:spPr>
          <a:xfrm>
            <a:off x="2247840" y="5483160"/>
            <a:ext cx="5410440" cy="30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obal Information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2247840" y="5826240"/>
            <a:ext cx="5410440" cy="307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2247840" y="6168960"/>
            <a:ext cx="5410440" cy="307080"/>
          </a:xfrm>
          <a:prstGeom prst="rect">
            <a:avLst/>
          </a:prstGeom>
          <a:solidFill>
            <a:srgbClr val="4274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ordinate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272280" y="1776240"/>
            <a:ext cx="852480" cy="633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6424560" y="1971720"/>
            <a:ext cx="6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9"/>
          <p:cNvSpPr/>
          <p:nvPr/>
        </p:nvSpPr>
        <p:spPr>
          <a:xfrm>
            <a:off x="6843600" y="2576520"/>
            <a:ext cx="852480" cy="633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6861240" y="27655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6676920" y="3376440"/>
            <a:ext cx="852480" cy="633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6767640" y="3565440"/>
            <a:ext cx="6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7"/>
          <p:cNvSpPr/>
          <p:nvPr/>
        </p:nvSpPr>
        <p:spPr>
          <a:xfrm>
            <a:off x="5229360" y="1486080"/>
            <a:ext cx="852480" cy="633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319720" y="1674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M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9"/>
          <p:cNvSpPr/>
          <p:nvPr/>
        </p:nvSpPr>
        <p:spPr>
          <a:xfrm>
            <a:off x="4024440" y="1967040"/>
            <a:ext cx="2960640" cy="2214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0"/>
          <p:cNvSpPr/>
          <p:nvPr/>
        </p:nvSpPr>
        <p:spPr>
          <a:xfrm>
            <a:off x="2690640" y="990720"/>
            <a:ext cx="2438640" cy="1409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3"/>
          <p:cNvSpPr/>
          <p:nvPr/>
        </p:nvSpPr>
        <p:spPr>
          <a:xfrm>
            <a:off x="3529080" y="155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2286000" y="3774960"/>
            <a:ext cx="3086280" cy="1101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7"/>
          <p:cNvSpPr/>
          <p:nvPr/>
        </p:nvSpPr>
        <p:spPr>
          <a:xfrm>
            <a:off x="2819520" y="4183200"/>
            <a:ext cx="21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7"/>
          <p:cNvSpPr/>
          <p:nvPr/>
        </p:nvSpPr>
        <p:spPr>
          <a:xfrm>
            <a:off x="4214880" y="2400480"/>
            <a:ext cx="2558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unity Ca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e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t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Health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HA Care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Health Prevention Spe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2666880" y="26668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&amp; Substance Use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1"/>
          <p:cNvSpPr/>
          <p:nvPr/>
        </p:nvSpPr>
        <p:spPr>
          <a:xfrm>
            <a:off x="2362320" y="2514600"/>
            <a:ext cx="1828800" cy="914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Bracket 62"/>
          <p:cNvSpPr/>
          <p:nvPr/>
        </p:nvSpPr>
        <p:spPr>
          <a:xfrm>
            <a:off x="8915400" y="2268360"/>
            <a:ext cx="114480" cy="36752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3675240"/>
              <a:gd name="textAreaBottom" fmla="*/ 367056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Brace 65"/>
          <p:cNvSpPr/>
          <p:nvPr/>
        </p:nvSpPr>
        <p:spPr>
          <a:xfrm flipH="1">
            <a:off x="590472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Right Brace 70"/>
          <p:cNvSpPr/>
          <p:nvPr/>
        </p:nvSpPr>
        <p:spPr>
          <a:xfrm flipH="1">
            <a:off x="761940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Brace 73"/>
          <p:cNvSpPr/>
          <p:nvPr/>
        </p:nvSpPr>
        <p:spPr>
          <a:xfrm>
            <a:off x="7353360" y="2268360"/>
            <a:ext cx="228600" cy="36576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57600"/>
              <a:gd name="textAreaBottom" fmla="*/ 365184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Brace 76"/>
          <p:cNvSpPr/>
          <p:nvPr/>
        </p:nvSpPr>
        <p:spPr>
          <a:xfrm>
            <a:off x="5638680" y="2268360"/>
            <a:ext cx="228600" cy="36752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675240"/>
              <a:gd name="textAreaBottom" fmla="*/ 3669480 h 367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ight Bracket 62"/>
          <p:cNvSpPr/>
          <p:nvPr/>
        </p:nvSpPr>
        <p:spPr>
          <a:xfrm>
            <a:off x="8915400" y="2268360"/>
            <a:ext cx="114480" cy="15796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579680"/>
              <a:gd name="textAreaBottom" fmla="*/ 1575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5"/>
                  <a:pt x="21600" y="130"/>
                </a:cubicBezTo>
                <a:lnTo>
                  <a:pt x="21600" y="21470"/>
                </a:lnTo>
                <a:cubicBezTo>
                  <a:pt x="21600" y="21535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193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09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0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1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12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16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17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Brace 65"/>
          <p:cNvSpPr/>
          <p:nvPr/>
        </p:nvSpPr>
        <p:spPr>
          <a:xfrm flipH="1">
            <a:off x="590472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220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21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222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24" name="Right Brace 70"/>
          <p:cNvSpPr/>
          <p:nvPr/>
        </p:nvSpPr>
        <p:spPr>
          <a:xfrm flipH="1">
            <a:off x="7619400" y="2268360"/>
            <a:ext cx="228600" cy="157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579680"/>
              <a:gd name="textAreaBottom" fmla="*/ 157392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10540"/>
                </a:lnTo>
                <a:cubicBezTo>
                  <a:pt x="10800" y="10670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6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ight Brace 73"/>
          <p:cNvSpPr/>
          <p:nvPr/>
        </p:nvSpPr>
        <p:spPr>
          <a:xfrm>
            <a:off x="735336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ight Brace 76"/>
          <p:cNvSpPr/>
          <p:nvPr/>
        </p:nvSpPr>
        <p:spPr>
          <a:xfrm>
            <a:off x="563868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43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48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2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5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6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67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68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72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73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275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276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277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279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ight Brace 76"/>
          <p:cNvSpPr/>
          <p:nvPr/>
        </p:nvSpPr>
        <p:spPr>
          <a:xfrm>
            <a:off x="5638680" y="3009960"/>
            <a:ext cx="228600" cy="419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419040"/>
              <a:gd name="textAreaBottom" fmla="*/ 41328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ight Bracket 64"/>
          <p:cNvSpPr/>
          <p:nvPr/>
        </p:nvSpPr>
        <p:spPr>
          <a:xfrm>
            <a:off x="8915400" y="2268360"/>
            <a:ext cx="114480" cy="15796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579680"/>
              <a:gd name="textAreaBottom" fmla="*/ 157500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5"/>
                  <a:pt x="21600" y="130"/>
                </a:cubicBezTo>
                <a:lnTo>
                  <a:pt x="21600" y="21470"/>
                </a:lnTo>
                <a:cubicBezTo>
                  <a:pt x="21600" y="21535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ight Brace 66"/>
          <p:cNvSpPr/>
          <p:nvPr/>
        </p:nvSpPr>
        <p:spPr>
          <a:xfrm flipH="1">
            <a:off x="590472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ight Brace 67"/>
          <p:cNvSpPr/>
          <p:nvPr/>
        </p:nvSpPr>
        <p:spPr>
          <a:xfrm flipH="1">
            <a:off x="7619400" y="2268360"/>
            <a:ext cx="228600" cy="1579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579680"/>
              <a:gd name="textAreaBottom" fmla="*/ 1573920 h 15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60"/>
                </a:cubicBezTo>
                <a:lnTo>
                  <a:pt x="10800" y="10540"/>
                </a:lnTo>
                <a:cubicBezTo>
                  <a:pt x="10800" y="10670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60"/>
                </a:cubicBezTo>
                <a:lnTo>
                  <a:pt x="10800" y="21340"/>
                </a:lnTo>
                <a:cubicBezTo>
                  <a:pt x="10800" y="21470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ight Brace 68"/>
          <p:cNvSpPr/>
          <p:nvPr/>
        </p:nvSpPr>
        <p:spPr>
          <a:xfrm>
            <a:off x="7353360" y="2268360"/>
            <a:ext cx="228600" cy="97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70200"/>
              <a:gd name="textAreaBottom" fmla="*/ 964440 h 97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01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06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07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0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21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3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25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26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31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Brace 65"/>
          <p:cNvSpPr/>
          <p:nvPr/>
        </p:nvSpPr>
        <p:spPr>
          <a:xfrm flipH="1">
            <a:off x="5942880" y="3657600"/>
            <a:ext cx="190440" cy="34308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43080"/>
              <a:gd name="textAreaBottom" fmla="*/ 33840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1000"/>
                </a:cubicBezTo>
                <a:lnTo>
                  <a:pt x="10800" y="9800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800"/>
                </a:cubicBezTo>
                <a:lnTo>
                  <a:pt x="10800" y="20600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334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35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336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38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Brace 73"/>
          <p:cNvSpPr/>
          <p:nvPr/>
        </p:nvSpPr>
        <p:spPr>
          <a:xfrm>
            <a:off x="7353360" y="3657600"/>
            <a:ext cx="190440" cy="34308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43080"/>
              <a:gd name="textAreaBottom" fmla="*/ 33840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1000"/>
                </a:cubicBezTo>
                <a:lnTo>
                  <a:pt x="10800" y="9800"/>
                </a:lnTo>
                <a:cubicBezTo>
                  <a:pt x="10800" y="10300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800"/>
                </a:cubicBezTo>
                <a:lnTo>
                  <a:pt x="10800" y="20600"/>
                </a:lnTo>
                <a:cubicBezTo>
                  <a:pt x="10800" y="211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Brace 76"/>
          <p:cNvSpPr/>
          <p:nvPr/>
        </p:nvSpPr>
        <p:spPr>
          <a:xfrm>
            <a:off x="5638680" y="4952880"/>
            <a:ext cx="190800" cy="381240"/>
          </a:xfrm>
          <a:custGeom>
            <a:avLst/>
            <a:gdLst>
              <a:gd name="textAreaLeft" fmla="*/ 0 w 190800"/>
              <a:gd name="textAreaRight" fmla="*/ 68760 w 190800"/>
              <a:gd name="textAreaTop" fmla="*/ 4680 h 381240"/>
              <a:gd name="textAreaBottom" fmla="*/ 3765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Bracket 67"/>
          <p:cNvSpPr/>
          <p:nvPr/>
        </p:nvSpPr>
        <p:spPr>
          <a:xfrm>
            <a:off x="8915400" y="3733920"/>
            <a:ext cx="114480" cy="838080"/>
          </a:xfrm>
          <a:custGeom>
            <a:avLst/>
            <a:gdLst>
              <a:gd name="textAreaLeft" fmla="*/ 0 w 114480"/>
              <a:gd name="textAreaRight" fmla="*/ 80280 w 114480"/>
              <a:gd name="textAreaTop" fmla="*/ 4680 h 838080"/>
              <a:gd name="textAreaBottom" fmla="*/ 833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3"/>
                  <a:pt x="21600" y="245"/>
                </a:cubicBezTo>
                <a:lnTo>
                  <a:pt x="21600" y="21355"/>
                </a:lnTo>
                <a:cubicBezTo>
                  <a:pt x="21600" y="21478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Brace 68"/>
          <p:cNvSpPr/>
          <p:nvPr/>
        </p:nvSpPr>
        <p:spPr>
          <a:xfrm flipH="1">
            <a:off x="7619400" y="37339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38080"/>
              <a:gd name="textAreaBottom" fmla="*/ 832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ight Bracket 62"/>
          <p:cNvSpPr/>
          <p:nvPr/>
        </p:nvSpPr>
        <p:spPr>
          <a:xfrm>
            <a:off x="8915400" y="3124080"/>
            <a:ext cx="114480" cy="838440"/>
          </a:xfrm>
          <a:custGeom>
            <a:avLst/>
            <a:gdLst>
              <a:gd name="textAreaLeft" fmla="*/ 0 w 114480"/>
              <a:gd name="textAreaRight" fmla="*/ 80280 w 114480"/>
              <a:gd name="textAreaTop" fmla="*/ 4680 h 838440"/>
              <a:gd name="textAreaBottom" fmla="*/ 8337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3"/>
                  <a:pt x="21600" y="245"/>
                </a:cubicBezTo>
                <a:lnTo>
                  <a:pt x="21600" y="21355"/>
                </a:lnTo>
                <a:cubicBezTo>
                  <a:pt x="21600" y="21478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60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65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66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79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80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82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84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85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90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ight Brace 65"/>
          <p:cNvSpPr/>
          <p:nvPr/>
        </p:nvSpPr>
        <p:spPr>
          <a:xfrm flipH="1">
            <a:off x="5904720" y="2247840"/>
            <a:ext cx="228600" cy="1028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28880"/>
              <a:gd name="textAreaBottom" fmla="*/ 1023120 h 10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393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394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sp>
        <p:nvSpPr>
          <p:cNvPr id="395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397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ight Brace 70"/>
          <p:cNvSpPr/>
          <p:nvPr/>
        </p:nvSpPr>
        <p:spPr>
          <a:xfrm flipH="1">
            <a:off x="7619400" y="312408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838440"/>
              <a:gd name="textAreaBottom" fmla="*/ 8326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ight Brace 73"/>
          <p:cNvSpPr/>
          <p:nvPr/>
        </p:nvSpPr>
        <p:spPr>
          <a:xfrm>
            <a:off x="7353360" y="2209680"/>
            <a:ext cx="228600" cy="1105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105200"/>
              <a:gd name="textAreaBottom" fmla="*/ 1099440 h 110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16200" y="10800"/>
                  <a:pt x="21600" y="10800"/>
                </a:cubicBezTo>
                <a:cubicBezTo>
                  <a:pt x="162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ight Brace 76"/>
          <p:cNvSpPr/>
          <p:nvPr/>
        </p:nvSpPr>
        <p:spPr>
          <a:xfrm>
            <a:off x="5638680" y="4952880"/>
            <a:ext cx="190800" cy="381240"/>
          </a:xfrm>
          <a:custGeom>
            <a:avLst/>
            <a:gdLst>
              <a:gd name="textAreaLeft" fmla="*/ 0 w 190800"/>
              <a:gd name="textAreaRight" fmla="*/ 68760 w 190800"/>
              <a:gd name="textAreaTop" fmla="*/ 4680 h 381240"/>
              <a:gd name="textAreaBottom" fmla="*/ 3765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ight Bracket 62"/>
          <p:cNvSpPr/>
          <p:nvPr/>
        </p:nvSpPr>
        <p:spPr>
          <a:xfrm>
            <a:off x="8915400" y="3695760"/>
            <a:ext cx="114480" cy="1638360"/>
          </a:xfrm>
          <a:custGeom>
            <a:avLst/>
            <a:gdLst>
              <a:gd name="textAreaLeft" fmla="*/ 0 w 114480"/>
              <a:gd name="textAreaRight" fmla="*/ 80280 w 114480"/>
              <a:gd name="textAreaTop" fmla="*/ 4680 h 1638360"/>
              <a:gd name="textAreaBottom" fmla="*/ 1633680 h 16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3"/>
                  <a:pt x="21600" y="126"/>
                </a:cubicBezTo>
                <a:lnTo>
                  <a:pt x="21600" y="21474"/>
                </a:lnTo>
                <a:cubicBezTo>
                  <a:pt x="21600" y="21537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19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24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25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38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39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1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2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44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48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Right Brace 65"/>
          <p:cNvSpPr/>
          <p:nvPr/>
        </p:nvSpPr>
        <p:spPr>
          <a:xfrm flipH="1">
            <a:off x="5904720" y="4305240"/>
            <a:ext cx="228600" cy="952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952560"/>
              <a:gd name="textAreaBottom" fmla="*/ 94680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368"/>
                </a:lnTo>
                <a:cubicBezTo>
                  <a:pt x="10800" y="10584"/>
                  <a:pt x="16200" y="10800"/>
                  <a:pt x="21600" y="10800"/>
                </a:cubicBezTo>
                <a:cubicBezTo>
                  <a:pt x="16200" y="10800"/>
                  <a:pt x="10800" y="11016"/>
                  <a:pt x="10800" y="11232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451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3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55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Brace 70"/>
          <p:cNvSpPr/>
          <p:nvPr/>
        </p:nvSpPr>
        <p:spPr>
          <a:xfrm flipH="1">
            <a:off x="7619400" y="369576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600200"/>
              <a:gd name="textAreaBottom" fmla="*/ 15944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ight Brace 73"/>
          <p:cNvSpPr/>
          <p:nvPr/>
        </p:nvSpPr>
        <p:spPr>
          <a:xfrm>
            <a:off x="7353360" y="4267080"/>
            <a:ext cx="228600" cy="10288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28880"/>
              <a:gd name="textAreaBottom" fmla="*/ 1023120 h 10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ight Brace 76"/>
          <p:cNvSpPr/>
          <p:nvPr/>
        </p:nvSpPr>
        <p:spPr>
          <a:xfrm>
            <a:off x="5638680" y="3657600"/>
            <a:ext cx="190800" cy="990720"/>
          </a:xfrm>
          <a:custGeom>
            <a:avLst/>
            <a:gdLst>
              <a:gd name="textAreaLeft" fmla="*/ 0 w 190800"/>
              <a:gd name="textAreaRight" fmla="*/ 68760 w 190800"/>
              <a:gd name="textAreaTop" fmla="*/ 4680 h 990720"/>
              <a:gd name="textAreaBottom" fmla="*/ 986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3"/>
          <p:cNvSpPr/>
          <p:nvPr/>
        </p:nvSpPr>
        <p:spPr>
          <a:xfrm>
            <a:off x="7848720" y="558792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unity Prevention Plan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7848720" y="3581280"/>
            <a:ext cx="1066680" cy="505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9"/>
          <p:cNvSpPr/>
          <p:nvPr/>
        </p:nvSpPr>
        <p:spPr>
          <a:xfrm>
            <a:off x="1600200" y="1274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ing &amp;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3"/>
          <p:cNvSpPr/>
          <p:nvPr/>
        </p:nvSpPr>
        <p:spPr>
          <a:xfrm>
            <a:off x="15228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s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15228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used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3"/>
          <p:cNvSpPr/>
          <p:nvPr/>
        </p:nvSpPr>
        <p:spPr>
          <a:xfrm>
            <a:off x="297180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676520" y="2019240"/>
            <a:ext cx="99036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3"/>
          <p:cNvSpPr/>
          <p:nvPr/>
        </p:nvSpPr>
        <p:spPr>
          <a:xfrm>
            <a:off x="4495680" y="295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3"/>
          <p:cNvSpPr/>
          <p:nvPr/>
        </p:nvSpPr>
        <p:spPr>
          <a:xfrm>
            <a:off x="7848720" y="295128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opulation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3"/>
          <p:cNvSpPr/>
          <p:nvPr/>
        </p:nvSpPr>
        <p:spPr>
          <a:xfrm>
            <a:off x="7848720" y="48769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gram Evaluation &amp; Sustaina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3"/>
          <p:cNvSpPr/>
          <p:nvPr/>
        </p:nvSpPr>
        <p:spPr>
          <a:xfrm>
            <a:off x="15228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hart Review &amp; NCQA Sc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3"/>
          <p:cNvSpPr/>
          <p:nvPr/>
        </p:nvSpPr>
        <p:spPr>
          <a:xfrm>
            <a:off x="152280" y="41720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dical Claims from Commercial Insurers &amp; Medica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152280" y="5587920"/>
            <a:ext cx="1219320" cy="505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 Surveys &amp; Data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15"/>
          <p:cNvCxnSpPr/>
          <p:nvPr/>
        </p:nvCxnSpPr>
        <p:spPr>
          <a:xfrm>
            <a:off x="137124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76" name="TextBox 18"/>
          <p:cNvSpPr/>
          <p:nvPr/>
        </p:nvSpPr>
        <p:spPr>
          <a:xfrm>
            <a:off x="306000" y="127476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297180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 transmission &amp; trans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ITL / 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2"/>
          <p:cNvSpPr/>
          <p:nvPr/>
        </p:nvSpPr>
        <p:spPr>
          <a:xfrm>
            <a:off x="4651200" y="127476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3"/>
          <p:cNvSpPr/>
          <p:nvPr/>
        </p:nvSpPr>
        <p:spPr>
          <a:xfrm>
            <a:off x="6823800" y="1274760"/>
            <a:ext cx="143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&amp; 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Straight Arrow Connector 26"/>
          <p:cNvCxnSpPr/>
          <p:nvPr/>
        </p:nvCxnSpPr>
        <p:spPr>
          <a:xfrm flipH="1">
            <a:off x="3580560" y="25909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81" name="Straight Arrow Connector 27"/>
          <p:cNvCxnSpPr/>
          <p:nvPr/>
        </p:nvCxnSpPr>
        <p:spPr>
          <a:xfrm>
            <a:off x="1371240" y="32004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82" name="Arc 32"/>
          <p:cNvSpPr/>
          <p:nvPr/>
        </p:nvSpPr>
        <p:spPr>
          <a:xfrm flipH="1" flipV="1">
            <a:off x="1599480" y="2362320"/>
            <a:ext cx="297180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rc 33"/>
          <p:cNvSpPr/>
          <p:nvPr/>
        </p:nvSpPr>
        <p:spPr>
          <a:xfrm flipV="1">
            <a:off x="1676520" y="2361960"/>
            <a:ext cx="350496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3"/>
          <p:cNvSpPr/>
          <p:nvPr/>
        </p:nvSpPr>
        <p:spPr>
          <a:xfrm>
            <a:off x="4495680" y="201924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M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ing Tool or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3"/>
          <p:cNvSpPr/>
          <p:nvPr/>
        </p:nvSpPr>
        <p:spPr>
          <a:xfrm>
            <a:off x="1676520" y="5587920"/>
            <a:ext cx="99036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gistries &amp; 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3"/>
          <p:cNvSpPr/>
          <p:nvPr/>
        </p:nvSpPr>
        <p:spPr>
          <a:xfrm>
            <a:off x="2971800" y="5587920"/>
            <a:ext cx="1219320" cy="505440"/>
          </a:xfrm>
          <a:prstGeom prst="rect">
            <a:avLst/>
          </a:prstGeom>
          <a:solidFill>
            <a:srgbClr val="e6e6e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tic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3"/>
          <p:cNvSpPr/>
          <p:nvPr/>
        </p:nvSpPr>
        <p:spPr>
          <a:xfrm>
            <a:off x="297180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ltipay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3"/>
          <p:cNvSpPr/>
          <p:nvPr/>
        </p:nvSpPr>
        <p:spPr>
          <a:xfrm>
            <a:off x="2971800" y="49021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rc 40"/>
          <p:cNvSpPr/>
          <p:nvPr/>
        </p:nvSpPr>
        <p:spPr>
          <a:xfrm flipH="1" flipV="1">
            <a:off x="2438280" y="2362320"/>
            <a:ext cx="1981440" cy="457200"/>
          </a:xfrm>
          <a:prstGeom prst="pi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3"/>
          <p:cNvSpPr/>
          <p:nvPr/>
        </p:nvSpPr>
        <p:spPr>
          <a:xfrm>
            <a:off x="4495680" y="48769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VC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 &amp; Report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3"/>
          <p:cNvSpPr/>
          <p:nvPr/>
        </p:nvSpPr>
        <p:spPr>
          <a:xfrm>
            <a:off x="4495680" y="421632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ISC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6134040" y="42163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atterns &amp; Resource Util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3"/>
          <p:cNvSpPr/>
          <p:nvPr/>
        </p:nvSpPr>
        <p:spPr>
          <a:xfrm>
            <a:off x="6134040" y="487692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Expenditures &amp; Financial Imp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48"/>
          <p:cNvCxnSpPr/>
          <p:nvPr/>
        </p:nvCxnSpPr>
        <p:spPr>
          <a:xfrm>
            <a:off x="2666520" y="224748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95" name="Straight Arrow Connector 51"/>
          <p:cNvCxnSpPr/>
          <p:nvPr/>
        </p:nvCxnSpPr>
        <p:spPr>
          <a:xfrm>
            <a:off x="4190760" y="319896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96" name="TextBox 23"/>
          <p:cNvSpPr/>
          <p:nvPr/>
        </p:nvSpPr>
        <p:spPr>
          <a:xfrm>
            <a:off x="4495680" y="5587920"/>
            <a:ext cx="1143000" cy="5054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DH Health Surveillance Analy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Straight Arrow Connector 53"/>
          <p:cNvCxnSpPr/>
          <p:nvPr/>
        </p:nvCxnSpPr>
        <p:spPr>
          <a:xfrm>
            <a:off x="266652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8" name="Straight Arrow Connector 54"/>
          <p:cNvCxnSpPr/>
          <p:nvPr/>
        </p:nvCxnSpPr>
        <p:spPr>
          <a:xfrm>
            <a:off x="4190760" y="5200200"/>
            <a:ext cx="22932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499" name="Straight Arrow Connector 55"/>
          <p:cNvCxnSpPr/>
          <p:nvPr/>
        </p:nvCxnSpPr>
        <p:spPr>
          <a:xfrm>
            <a:off x="4190760" y="4494240"/>
            <a:ext cx="22932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00" name="Straight Arrow Connector 56"/>
          <p:cNvCxnSpPr/>
          <p:nvPr/>
        </p:nvCxnSpPr>
        <p:spPr>
          <a:xfrm>
            <a:off x="419076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TextBox 23"/>
          <p:cNvSpPr/>
          <p:nvPr/>
        </p:nvSpPr>
        <p:spPr>
          <a:xfrm>
            <a:off x="6134040" y="295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3"/>
          <p:cNvSpPr/>
          <p:nvPr/>
        </p:nvSpPr>
        <p:spPr>
          <a:xfrm>
            <a:off x="6134040" y="201924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3"/>
          <p:cNvSpPr/>
          <p:nvPr/>
        </p:nvSpPr>
        <p:spPr>
          <a:xfrm>
            <a:off x="6134040" y="5587920"/>
            <a:ext cx="1219320" cy="505440"/>
          </a:xfrm>
          <a:prstGeom prst="rect">
            <a:avLst/>
          </a:pr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pulation Indicators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sk Fa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Straight Arrow Connector 60"/>
          <p:cNvCxnSpPr/>
          <p:nvPr/>
        </p:nvCxnSpPr>
        <p:spPr>
          <a:xfrm>
            <a:off x="1371240" y="512460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05" name="Straight Arrow Connector 61"/>
          <p:cNvCxnSpPr/>
          <p:nvPr/>
        </p:nvCxnSpPr>
        <p:spPr>
          <a:xfrm>
            <a:off x="1371240" y="4419720"/>
            <a:ext cx="1524600" cy="216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06" name="TextBox 23"/>
          <p:cNvSpPr/>
          <p:nvPr/>
        </p:nvSpPr>
        <p:spPr>
          <a:xfrm>
            <a:off x="4495680" y="3581280"/>
            <a:ext cx="114300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tra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ight Brace 65"/>
          <p:cNvSpPr/>
          <p:nvPr/>
        </p:nvSpPr>
        <p:spPr>
          <a:xfrm flipH="1">
            <a:off x="590472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71"/>
          <p:cNvCxnSpPr/>
          <p:nvPr/>
        </p:nvCxnSpPr>
        <p:spPr>
          <a:xfrm flipH="1">
            <a:off x="3580560" y="3505320"/>
            <a:ext cx="2520" cy="30528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509" name="Straight Arrow Connector 72"/>
          <p:cNvCxnSpPr/>
          <p:nvPr/>
        </p:nvCxnSpPr>
        <p:spPr>
          <a:xfrm>
            <a:off x="3580920" y="3809520"/>
            <a:ext cx="83916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cxnSp>
        <p:nvCxnSpPr>
          <p:cNvPr id="510" name="Straight Arrow Connector 77"/>
          <p:cNvCxnSpPr/>
          <p:nvPr/>
        </p:nvCxnSpPr>
        <p:spPr>
          <a:xfrm flipH="1">
            <a:off x="3579120" y="3811680"/>
            <a:ext cx="3960" cy="381600"/>
          </a:xfrm>
          <a:prstGeom prst="straightConnector1">
            <a:avLst/>
          </a:prstGeom>
          <a:ln w="9360">
            <a:solidFill>
              <a:srgbClr val="f9f9f9"/>
            </a:solidFill>
            <a:miter/>
          </a:ln>
        </p:spPr>
      </p:cxnSp>
      <p:cxnSp>
        <p:nvCxnSpPr>
          <p:cNvPr id="511" name="Straight Arrow Connector 83"/>
          <p:cNvCxnSpPr/>
          <p:nvPr/>
        </p:nvCxnSpPr>
        <p:spPr>
          <a:xfrm>
            <a:off x="1371240" y="5829480"/>
            <a:ext cx="229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TextBox 23"/>
          <p:cNvSpPr/>
          <p:nvPr/>
        </p:nvSpPr>
        <p:spPr>
          <a:xfrm>
            <a:off x="7848720" y="201924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dividual Patient Care &amp; Support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ight Brace 73"/>
          <p:cNvSpPr/>
          <p:nvPr/>
        </p:nvSpPr>
        <p:spPr>
          <a:xfrm>
            <a:off x="735336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ffcc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ight Brace 76"/>
          <p:cNvSpPr/>
          <p:nvPr/>
        </p:nvSpPr>
        <p:spPr>
          <a:xfrm>
            <a:off x="5638680" y="5667480"/>
            <a:ext cx="228600" cy="342720"/>
          </a:xfrm>
          <a:custGeom>
            <a:avLst/>
            <a:gdLst>
              <a:gd name="textAreaLeft" fmla="*/ 0 w 228600"/>
              <a:gd name="textAreaRight" fmla="*/ 82440 w 228600"/>
              <a:gd name="textAreaTop" fmla="*/ 5760 h 342720"/>
              <a:gd name="textAreaBottom" fmla="*/ 33696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16200" y="10800"/>
                  <a:pt x="21600" y="10800"/>
                </a:cubicBezTo>
                <a:cubicBezTo>
                  <a:pt x="162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5400" y="21600"/>
                  <a:pt x="0" y="21600"/>
                </a:cubicBezTo>
              </a:path>
            </a:pathLst>
          </a:custGeom>
          <a:solidFill>
            <a:srgbClr val="daed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23"/>
          <p:cNvSpPr/>
          <p:nvPr/>
        </p:nvSpPr>
        <p:spPr>
          <a:xfrm>
            <a:off x="6134040" y="3581280"/>
            <a:ext cx="121932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ealthcare Quality Measures &amp; Standar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23"/>
          <p:cNvSpPr/>
          <p:nvPr/>
        </p:nvSpPr>
        <p:spPr>
          <a:xfrm>
            <a:off x="7848720" y="4216320"/>
            <a:ext cx="1066680" cy="505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rovider Payment for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ight Bracket 64"/>
          <p:cNvSpPr/>
          <p:nvPr/>
        </p:nvSpPr>
        <p:spPr>
          <a:xfrm>
            <a:off x="8915400" y="3695760"/>
            <a:ext cx="114480" cy="2324160"/>
          </a:xfrm>
          <a:custGeom>
            <a:avLst/>
            <a:gdLst>
              <a:gd name="textAreaLeft" fmla="*/ 0 w 114480"/>
              <a:gd name="textAreaRight" fmla="*/ 80280 w 114480"/>
              <a:gd name="textAreaTop" fmla="*/ 4680 h 2324160"/>
              <a:gd name="textAreaBottom" fmla="*/ 2319480 h 23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ight Brace 66"/>
          <p:cNvSpPr/>
          <p:nvPr/>
        </p:nvSpPr>
        <p:spPr>
          <a:xfrm flipH="1">
            <a:off x="7619400" y="3695760"/>
            <a:ext cx="228600" cy="23241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324160"/>
              <a:gd name="textAreaBottom" fmla="*/ 2318400 h 23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16200" y="10800"/>
                  <a:pt x="21600" y="10800"/>
                </a:cubicBezTo>
                <a:cubicBezTo>
                  <a:pt x="162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04920" y="252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print Integrated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vidence Based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2:21:08Z</dcterms:created>
  <dc:creator>Laptop</dc:creator>
  <dc:description/>
  <dc:language>en-US</dc:language>
  <cp:lastModifiedBy>Chettra.Chhiet</cp:lastModifiedBy>
  <dcterms:modified xsi:type="dcterms:W3CDTF">2009-12-03T18:36:44Z</dcterms:modified>
  <cp:revision>100</cp:revision>
  <dc:subject/>
  <dc:title>Slide 1</dc:title>
</cp:coreProperties>
</file>