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F0AA-6169-4E33-B462-6838120C2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63CA-4EEB-4EBB-99BE-E5D6EB870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5ECD-9068-4F22-8034-7B1E9D2A7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AB14-00BC-4E2A-AF9E-2796B2AE2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2A79-0AE8-4F6C-9948-5FACD30C9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26EA-2B35-4858-91E1-A5B4D4F1FD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BBF3-D12A-42C6-9B5F-74D1BB00D2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AE4E-99C9-475E-9918-88614F15EC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C084-CE64-4B1C-A7B1-C0241C6AAC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0AD2-64CE-41BE-9248-1FF3061C40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14E8-52D1-47BC-B9E7-1991D5E71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6AFE-659C-4685-9087-24FC5B554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19A6-6AC4-4544-B53C-4835114E5A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E170-060C-46B0-8AF9-6533D409E4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A49-68E0-4238-B055-55130C637C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0253-A669-474F-B998-A3CE82715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2558-1D27-444D-B2F4-18D157515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0DC3-970F-4138-85AB-7885CE019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8BC9-54A7-45F2-AA86-62D5549E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A9E2-C061-46FB-96EE-BBEC1C696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87F7-6159-42C4-9066-5E660997A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311E-EB46-4BB5-8125-22FD1168E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36C-C64B-4842-9159-94099661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2937-5ACA-4949-BAB9-F3A64654B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asthead"/>
          <p:cNvPicPr/>
          <p:nvPr/>
        </p:nvPicPr>
        <p:blipFill>
          <a:blip r:embed="rId2"/>
          <a:stretch/>
        </p:blipFill>
        <p:spPr>
          <a:xfrm>
            <a:off x="0" y="-11160"/>
            <a:ext cx="9142560" cy="115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0" y="6748560"/>
            <a:ext cx="9142560" cy="109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4"/>
          <a:stretch/>
        </p:blipFill>
        <p:spPr>
          <a:xfrm>
            <a:off x="8566200" y="6159600"/>
            <a:ext cx="520560" cy="523800"/>
          </a:xfrm>
          <a:prstGeom prst="rect">
            <a:avLst/>
          </a:prstGeom>
          <a:ln w="0">
            <a:noFill/>
          </a:ln>
        </p:spPr>
      </p:pic>
      <p:sp>
        <p:nvSpPr>
          <p:cNvPr id="3" name="Text Box 6"/>
          <p:cNvSpPr/>
          <p:nvPr/>
        </p:nvSpPr>
        <p:spPr>
          <a:xfrm>
            <a:off x="88920" y="6532560"/>
            <a:ext cx="88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244d"/>
                </a:solidFill>
                <a:latin typeface="Arial"/>
              </a:rPr>
              <a:t>Source: Kaiser Family Foundation surveys</a:t>
            </a:r>
            <a:endParaRPr b="1" lang="en-US" sz="10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6320" y="56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624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SLIDE </a:t>
            </a:r>
            <a:fld id="{FC08F238-1F55-4904-90A6-17A67D8B92D4}" type="slidenum"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asthead"/>
          <p:cNvPicPr/>
          <p:nvPr/>
        </p:nvPicPr>
        <p:blipFill>
          <a:blip r:embed="rId2"/>
          <a:stretch/>
        </p:blipFill>
        <p:spPr>
          <a:xfrm>
            <a:off x="0" y="-11160"/>
            <a:ext cx="9142560" cy="1154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6748560"/>
            <a:ext cx="9142560" cy="10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8566200" y="6159600"/>
            <a:ext cx="520560" cy="52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76320" y="56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624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SLIDE </a:t>
            </a:r>
            <a:fld id="{C47952F1-6C1D-4514-910D-6DC3D2A7845A}" type="slidenum">
              <a:rPr b="0" lang="en-US" sz="900" spc="-1" strike="noStrike">
                <a:solidFill>
                  <a:srgbClr val="06244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234d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624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6244d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6244d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24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1532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Race, Ethnicity, and Language Data Collection: Comments on the IOM Report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Cara V. James, Ph.D.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Senior Policy Analyst </a:t>
            </a:r>
            <a:br>
              <a:rPr sz="2400"/>
            </a:b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Kaiser Family Foundation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44d"/>
                </a:solidFill>
                <a:latin typeface="Arial"/>
              </a:rPr>
              <a:t>September 15, 2009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428E722C-D9DA-4AE3-B966-5D10D71AE7FE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234d"/>
                </a:solidFill>
                <a:latin typeface="Arial"/>
              </a:rPr>
              <a:t>Recommendations Should be the Standard for All Federal Datasets that Capture Race/Ethnicity</a:t>
            </a:r>
            <a:endParaRPr b="1" lang="en-US" sz="22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Taking the broad view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Employment data collected by Deptartment of Labor has implications for access to care via coverage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Department of Justice provides health care to prisoners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Department of Education 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Implications for My Work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7C78A690-522D-4D7B-847D-FBA6CB62A564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234d"/>
                </a:solidFill>
                <a:latin typeface="Arial"/>
              </a:rPr>
              <a:t>Data Sources</a:t>
            </a:r>
            <a:endParaRPr b="1" lang="en-US" sz="20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Recommendations didn’t focus on research, but research helps inform practice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ill wait to see what is implemented in various datasets I work with.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Slightly concerned that local flexibility will lead to inaction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Where do We Go from Here?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A6592D51-291E-4911-BC98-0CDFAA02736F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Time is of the Essence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ARRA dollars and HIT – Systems are being built with varying levels of thought to these issues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Enforcement of Guidelines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OMB adopted policies in 1997, yet not all federal health data adhere to these standards, what will be different this time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FDC9F946-D905-4B5B-B391-3BD26C007C50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More Next Step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Include Indian Health Services in federal datasets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Develop guidelines for measuring Health Literacy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Obtain a better understanding of what we think race and ethnicity are proxies for and develop measures for that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6440" y="1520640"/>
            <a:ext cx="8310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Thank You!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Contact Information</a:t>
            </a:r>
            <a:br>
              <a:rPr sz="2400"/>
            </a:br>
            <a:br>
              <a:rPr sz="12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Cara James, Ph.D.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Senior Policy Analyst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Kaiser Family Foundation</a:t>
            </a:r>
            <a:br>
              <a:rPr sz="2400"/>
            </a:br>
            <a:r>
              <a:rPr b="0" lang="en-US" sz="2400" spc="-1" strike="noStrike">
                <a:solidFill>
                  <a:srgbClr val="06234d"/>
                </a:solidFill>
                <a:latin typeface="Arial"/>
              </a:rPr>
              <a:t>cjames@kff.org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1A6FBEC3-0E56-405B-B714-438D00A1AEBF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Project’s Scope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Arial"/>
              </a:rPr>
              <a:t>Committee was asked to “focus on defining a standard set of race/ethnicity and language categories and methods for obtaining this information to serve as a standard.”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234d"/>
                </a:solidFill>
                <a:latin typeface="Arial"/>
              </a:rPr>
              <a:t>Exactly What are Race and Ethnicity Measuring?</a:t>
            </a:r>
            <a:endParaRPr b="1" lang="en-US" sz="32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FE398317-A209-4C49-9D06-42CF0AFF7851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234d"/>
                </a:solidFill>
                <a:latin typeface="Arial"/>
              </a:rPr>
              <a:t>Race and Ethnicity are Somewhat Fluid Concepts</a:t>
            </a:r>
            <a:endParaRPr b="1" lang="en-US" sz="22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The report states that </a:t>
            </a:r>
            <a:r>
              <a:rPr b="0" lang="en-US" sz="2800" spc="-1" strike="noStrike" u="sng">
                <a:solidFill>
                  <a:srgbClr val="06244d"/>
                </a:solidFill>
                <a:uFillTx/>
                <a:latin typeface="Arial"/>
              </a:rPr>
              <a:t>race</a:t>
            </a: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 “is considered a socioeconomic concept wherein groups of people sharing certain physical characteristics are treated differently based on stereotypical thinking, discriminatory institutions and social structures, a shared worldview, and social myths.” 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624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6244d"/>
                </a:solidFill>
                <a:uFillTx/>
                <a:latin typeface="Arial"/>
              </a:rPr>
              <a:t>Ethnicity </a:t>
            </a:r>
            <a:r>
              <a:rPr b="0" lang="en-US" sz="2800" spc="-1" strike="noStrike">
                <a:solidFill>
                  <a:srgbClr val="06244d"/>
                </a:solidFill>
                <a:latin typeface="Arial"/>
              </a:rPr>
              <a:t>“represents a common ancestral heritage that gives social groups a shared sense of identity that exists even though a particular ethnic group may contain persons who self-identify with different race categories.”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BA4ED3FE-84CC-4827-81C9-1B41765AE53A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Some Examples from Other Diverse Countrie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Canada and the United Kingdom do not ask about race, just ethnicity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Canada includes 12 population groups and includes visible minority, and about 200 ethnicities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244d"/>
                </a:solidFill>
                <a:latin typeface="Times New Roman"/>
              </a:rPr>
              <a:t>UK has 5 broad ethnic categories (White, Mixed, Asian or Asian British, Black or British Black, and Chinese or other ethnic group), with subcategories for each and a write-in option. Question varies by geography.</a:t>
            </a:r>
            <a:endParaRPr b="0" lang="en-US" sz="24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Brazil has 5 racial groups: white, black, brown/mestizo, yellow/East Asian, and native American.  According to them, racial categories are used fluidly in Brazil, reflecting the social trends more than the biological.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B7E6DB9D-706F-455B-AD90-B14398031F9A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Race and Ethnicity Question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Given recommendation to use OMB guideline, and to collect granular ethnicity, would have like some conversation on mechanics.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hould this be three questions (e.g. race, ethnicity, and granular ethnicity)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06244d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244d"/>
                </a:solidFill>
                <a:latin typeface="Times New Roman"/>
              </a:rPr>
              <a:t>Should we include other “macro” ethnicities in the Hispanic ethnicity question (e.g. Caribbean or Middle Eastern)?</a:t>
            </a:r>
            <a:endParaRPr b="0" lang="en-US" sz="28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9B8B41D9-5E99-405F-95C3-AF517B7F9708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Hispanic/Latino Ethnicity or Race?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The committee acknowledged that outside of the U.S. Hispanic is meaningless.  It also acknowledged that the origins for collection were largely political. 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Many Hispanics don’t identify with a racial group and don’t like being forced to choose. 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as there thought to including Hispanic as part of the racial groups?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6320" y="57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244d"/>
                </a:solidFill>
                <a:latin typeface="Arial"/>
              </a:rPr>
              <a:t>SLIDE </a:t>
            </a:r>
            <a:fld id="{D9D485AB-8EBC-47B9-AE27-F28517804501}" type="slidenum">
              <a:rPr b="0" lang="en-US" sz="900" spc="-1" strike="noStrike">
                <a:solidFill>
                  <a:srgbClr val="06244d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234d"/>
                </a:solidFill>
                <a:latin typeface="Arial"/>
              </a:rPr>
              <a:t>Multiracial Individuals</a:t>
            </a:r>
            <a:endParaRPr b="1" lang="en-US" sz="2400" spc="-1" strike="noStrike">
              <a:solidFill>
                <a:srgbClr val="0623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Currently over 5 million individuals self-identify as bi- or multiracial, and by 2050 we expect more than 16 million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244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244d"/>
                </a:solidFill>
                <a:latin typeface="Times New Roman"/>
              </a:rPr>
              <a:t>Would have liked more discussion and guidance as what to do with these individuals (e.g. should there be prioritization scheme)</a:t>
            </a: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244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234d"/>
                </a:solidFill>
                <a:latin typeface="Arial"/>
              </a:rPr>
              <a:t>Recommendations Should Extend Beyond Health and Human Services, Veterans Affairs and Department of Defense</a:t>
            </a:r>
            <a:endParaRPr b="1" lang="en-US" sz="3600" spc="-1" strike="noStrike">
              <a:solidFill>
                <a:srgbClr val="06234d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2:16:51Z</dcterms:created>
  <dc:creator>anne jan</dc:creator>
  <dc:description/>
  <dc:language>en-US</dc:language>
  <cp:lastModifiedBy>Chettra.Chhiet</cp:lastModifiedBy>
  <dcterms:modified xsi:type="dcterms:W3CDTF">2009-12-03T18:32:40Z</dcterms:modified>
  <cp:revision>373</cp:revision>
  <dc:subject/>
  <dc:title>PowerPoint Presentation</dc:title>
</cp:coreProperties>
</file>