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DC66-1D9A-4805-9A7B-7EC2E8BC0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DF85-098B-4A51-9F4D-C337CCB20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1A8E-EDF6-49DF-9588-C62E69BFA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13DF-6693-4B14-BD6D-8F1CF04FE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E6B51-983B-4B6B-8F84-F0EACFC9BB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3E48-60C7-4A0D-A739-BD7D3C7C6E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A420-64B5-4194-9084-F2834F6AC8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3F45-A757-48FE-9401-826A3DA424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0FAC-4289-43FA-BE52-97E879A5C3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42BE-8715-4CA6-9523-59FB1B15B0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80405-4FF3-48FB-8552-7925FA5CB1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61E3-EAD4-43C4-A873-0B0CA9FE4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5F59-3CAA-4300-8999-F9883E2DB5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B645-0483-465B-86D9-DEE0561EAE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1046-B12B-42F2-8DC8-56001FDD95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5157-2E04-4689-AB93-4B56175211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088E-0518-447B-88CC-2C0E7DCE3C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C11E-EE6F-4C13-9543-FB713749D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0BAB-AEF9-4196-A2B1-C80984F88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7E02-D5E8-4273-A107-442A75014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1B4D-6824-47CF-8703-AA2085521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E9DE-C374-4702-A37C-C63287922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42D3-C486-4CBE-A349-C0CE38A3F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0654-4BB8-4774-A9ED-D0B45990F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masthead"/>
          <p:cNvPicPr/>
          <p:nvPr/>
        </p:nvPicPr>
        <p:blipFill>
          <a:blip r:embed="rId2"/>
          <a:stretch/>
        </p:blipFill>
        <p:spPr>
          <a:xfrm>
            <a:off x="0" y="-11160"/>
            <a:ext cx="9142560" cy="115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0" y="6748560"/>
            <a:ext cx="9142560" cy="1094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4"/>
          <a:stretch/>
        </p:blipFill>
        <p:spPr>
          <a:xfrm>
            <a:off x="8566200" y="6159600"/>
            <a:ext cx="52056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Text Box 6"/>
          <p:cNvSpPr/>
          <p:nvPr/>
        </p:nvSpPr>
        <p:spPr>
          <a:xfrm>
            <a:off x="88920" y="6532560"/>
            <a:ext cx="88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6244d"/>
                </a:solidFill>
                <a:latin typeface="Arial"/>
              </a:rPr>
              <a:t>Source: Kaiser Family Foundation surveys</a:t>
            </a:r>
            <a:endParaRPr b="1" lang="en-US" sz="10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76320" y="56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624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Times New Roman"/>
              </a:rPr>
              <a:t>SLIDE </a:t>
            </a:r>
            <a:fld id="{6F448960-74B9-4B3A-9630-CAC75099C6A5}" type="slidenum">
              <a:rPr b="0" lang="en-US" sz="900" spc="-1" strike="noStrike">
                <a:solidFill>
                  <a:srgbClr val="06244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asthead"/>
          <p:cNvPicPr/>
          <p:nvPr/>
        </p:nvPicPr>
        <p:blipFill>
          <a:blip r:embed="rId2"/>
          <a:stretch/>
        </p:blipFill>
        <p:spPr>
          <a:xfrm>
            <a:off x="0" y="-11160"/>
            <a:ext cx="9142560" cy="1154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0" y="6748560"/>
            <a:ext cx="9142560" cy="10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8566200" y="6159600"/>
            <a:ext cx="520560" cy="52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6320" y="56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624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Times New Roman"/>
              </a:rPr>
              <a:t>SLIDE </a:t>
            </a:r>
            <a:fld id="{A6ABA8FF-C7B8-4624-93C7-2147AF83CF71}" type="slidenum">
              <a:rPr b="0" lang="en-US" sz="900" spc="-1" strike="noStrike">
                <a:solidFill>
                  <a:srgbClr val="06244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234d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24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6244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24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6244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6244d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24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6244d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6244d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24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6244d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6244d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24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6244d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6244d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24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1532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234d"/>
                </a:solidFill>
                <a:latin typeface="Arial"/>
              </a:rPr>
              <a:t>Race, Ethnicity, and Language Data Collection: Comments on the IOM Report</a:t>
            </a:r>
            <a:endParaRPr b="1" lang="en-US" sz="36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44d"/>
                </a:solidFill>
                <a:latin typeface="Arial"/>
              </a:rPr>
              <a:t>Cara V. James, Ph.D.</a:t>
            </a:r>
            <a:endParaRPr b="0" lang="en-US" sz="2400" spc="-1" strike="noStrike">
              <a:solidFill>
                <a:srgbClr val="06244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44d"/>
                </a:solidFill>
                <a:latin typeface="Arial"/>
              </a:rPr>
              <a:t>Senior Policy Analyst </a:t>
            </a:r>
            <a:br>
              <a:rPr sz="2400"/>
            </a:br>
            <a:r>
              <a:rPr b="1" lang="en-US" sz="2400" spc="-1" strike="noStrike">
                <a:solidFill>
                  <a:srgbClr val="06244d"/>
                </a:solidFill>
                <a:latin typeface="Arial"/>
              </a:rPr>
              <a:t>Kaiser Family Foundation</a:t>
            </a:r>
            <a:endParaRPr b="0" lang="en-US" sz="2400" spc="-1" strike="noStrike">
              <a:solidFill>
                <a:srgbClr val="06244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44d"/>
                </a:solidFill>
                <a:latin typeface="Arial"/>
              </a:rPr>
              <a:t>September 15, 2009</a:t>
            </a:r>
            <a:endParaRPr b="0" lang="en-US" sz="24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D2A10092-CCE8-4EEF-9145-C7803624187E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6234d"/>
                </a:solidFill>
                <a:latin typeface="Arial"/>
              </a:rPr>
              <a:t>Recommendations Should be the Standard for All Federal Datasets that Capture Race/Ethnicity</a:t>
            </a:r>
            <a:endParaRPr b="1" lang="en-US" sz="22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Taking the broad view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624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Employment data collected by Deptartment of Labor has implications for access to care via coverage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624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Department of Justice provides health care to prisoners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624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Department of Education 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234d"/>
                </a:solidFill>
                <a:latin typeface="Arial"/>
              </a:rPr>
              <a:t>Implications for My Work</a:t>
            </a:r>
            <a:endParaRPr b="1" lang="en-US" sz="3600" spc="-1" strike="noStrike">
              <a:solidFill>
                <a:srgbClr val="06234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1F531999-23B7-4095-83C9-FF2A42CBC762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234d"/>
                </a:solidFill>
                <a:latin typeface="Arial"/>
              </a:rPr>
              <a:t>Data Sources</a:t>
            </a:r>
            <a:endParaRPr b="1" lang="en-US" sz="20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Recommendations didn’t focus on research, but research helps inform practice. 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Will wait to see what is implemented in various datasets I work with.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Slightly concerned that local flexibility will lead to inaction. 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234d"/>
                </a:solidFill>
                <a:latin typeface="Arial"/>
              </a:rPr>
              <a:t>Where do We Go from Here?</a:t>
            </a:r>
            <a:endParaRPr b="1" lang="en-US" sz="3600" spc="-1" strike="noStrike">
              <a:solidFill>
                <a:srgbClr val="06234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05CA7CE2-BED6-4B49-91F8-D17685F3935C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Time is of the Essence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624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ARRA dollars and HIT – Systems are being built with varying levels of thought to these issues.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Enforcement of Guidelines 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624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OMB adopted policies in 1997, yet not all federal health data adhere to these standards, what will be different this time?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94B00CDC-C4EA-4C23-A625-A5083C815DF0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More Next Steps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Include Indian Health Services in federal datasets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Develop guidelines for measuring Health Literacy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Obtain a better understanding of what we think race and ethnicity are proxies for and develop measures for that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6440" y="1520640"/>
            <a:ext cx="8310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234d"/>
                </a:solidFill>
                <a:latin typeface="Arial"/>
              </a:rPr>
              <a:t>Thank You!</a:t>
            </a:r>
            <a:br>
              <a:rPr sz="36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Contact Information</a:t>
            </a:r>
            <a:br>
              <a:rPr sz="2400"/>
            </a:br>
            <a:br>
              <a:rPr sz="1200"/>
            </a:br>
            <a:r>
              <a:rPr b="0" lang="en-US" sz="2400" spc="-1" strike="noStrike">
                <a:solidFill>
                  <a:srgbClr val="06234d"/>
                </a:solidFill>
                <a:latin typeface="Arial"/>
              </a:rPr>
              <a:t>Cara James, Ph.D.</a:t>
            </a:r>
            <a:br>
              <a:rPr sz="2400"/>
            </a:br>
            <a:r>
              <a:rPr b="0" lang="en-US" sz="2400" spc="-1" strike="noStrike">
                <a:solidFill>
                  <a:srgbClr val="06234d"/>
                </a:solidFill>
                <a:latin typeface="Arial"/>
              </a:rPr>
              <a:t>Senior Policy Analyst</a:t>
            </a:r>
            <a:br>
              <a:rPr sz="2400"/>
            </a:br>
            <a:r>
              <a:rPr b="0" lang="en-US" sz="2400" spc="-1" strike="noStrike">
                <a:solidFill>
                  <a:srgbClr val="06234d"/>
                </a:solidFill>
                <a:latin typeface="Arial"/>
              </a:rPr>
              <a:t>Kaiser Family Foundation</a:t>
            </a:r>
            <a:br>
              <a:rPr sz="2400"/>
            </a:br>
            <a:r>
              <a:rPr b="0" lang="en-US" sz="2400" spc="-1" strike="noStrike">
                <a:solidFill>
                  <a:srgbClr val="06234d"/>
                </a:solidFill>
                <a:latin typeface="Arial"/>
              </a:rPr>
              <a:t>cjames@kff.org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BA4DD17D-46A9-43FC-8306-C3D330E504D6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Project’s Scope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Committee was asked to “focus on defining a standard set of race/ethnicity and language categories and methods for obtaining this information to serve as a standard.”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234d"/>
                </a:solidFill>
                <a:latin typeface="Arial"/>
              </a:rPr>
              <a:t>Exactly What are Race and Ethnicity Measuring?</a:t>
            </a:r>
            <a:endParaRPr b="1" lang="en-US" sz="3200" spc="-1" strike="noStrike">
              <a:solidFill>
                <a:srgbClr val="06234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C9875741-7212-4984-AAE8-5D993215878E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6234d"/>
                </a:solidFill>
                <a:latin typeface="Arial"/>
              </a:rPr>
              <a:t>Race and Ethnicity are Somewhat Fluid Concepts</a:t>
            </a:r>
            <a:endParaRPr b="1" lang="en-US" sz="22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The report states that </a:t>
            </a:r>
            <a:r>
              <a:rPr b="0" lang="en-US" sz="2800" spc="-1" strike="noStrike" u="sng">
                <a:solidFill>
                  <a:srgbClr val="06244d"/>
                </a:solidFill>
                <a:uFillTx/>
                <a:latin typeface="Arial"/>
              </a:rPr>
              <a:t>race</a:t>
            </a: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 “is considered a socioeconomic concept wherein groups of people sharing certain physical characteristics are treated differently based on stereotypical thinking, discriminatory institutions and social structures, a shared worldview, and social myths.” 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6244d"/>
                </a:solidFill>
                <a:uFillTx/>
                <a:latin typeface="Arial"/>
              </a:rPr>
              <a:t>Ethnicity </a:t>
            </a: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“represents a common ancestral heritage that gives social groups a shared sense of identity that exists even though a particular ethnic group may contain persons who self-identify with different race categories.”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B11AB0AD-29AF-4803-95E2-1C7C13E7E527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Some Examples from Other Diverse Countries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Times New Roman"/>
              </a:rPr>
              <a:t>Canada and the United Kingdom do not ask about race, just ethnicity.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24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244d"/>
                </a:solidFill>
                <a:latin typeface="Times New Roman"/>
              </a:rPr>
              <a:t>Canada includes 12 population groups and includes visible minority, and about 200 ethnicities</a:t>
            </a:r>
            <a:endParaRPr b="0" lang="en-US" sz="24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24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244d"/>
                </a:solidFill>
                <a:latin typeface="Times New Roman"/>
              </a:rPr>
              <a:t>UK has 5 broad ethnic categories (White, Mixed, Asian or Asian British, Black or British Black, and Chinese or other ethnic group), with subcategories for each and a write-in option. Question varies by geography.</a:t>
            </a:r>
            <a:endParaRPr b="0" lang="en-US" sz="24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Times New Roman"/>
              </a:rPr>
              <a:t>Brazil has 5 racial groups: white, black, brown/mestizo, yellow/East Asian, and native American.  According to them, racial categories are used fluidly in Brazil, reflecting the social trends more than the biological.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33025C5B-540F-4967-9F38-7CE462C46AB3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Race and Ethnicity Questions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Given recommendation to use OMB guideline, and to collect granular ethnicity, would have like some conversation on mechanics.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buClr>
                <a:srgbClr val="0624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Times New Roman"/>
              </a:rPr>
              <a:t>Should this be three questions (e.g. race, ethnicity, and granular ethnicity)?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buClr>
                <a:srgbClr val="0624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Times New Roman"/>
              </a:rPr>
              <a:t>Should we include other “macro” ethnicities in the Hispanic ethnicity question (e.g. Caribbean or Middle Eastern)?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4770E203-1BCF-4C4A-AB77-F24F2A8D0D66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Hispanic/Latino Ethnicity or Race?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The committee acknowledged that outside of the U.S. Hispanic is meaningless.  It also acknowledged that the origins for collection were largely political.  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Many Hispanics don’t identify with a racial group and don’t like being forced to choose. 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Was there thought to including Hispanic as part of the racial groups?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58BCF504-E009-402A-9EFC-E08B890D6503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Multiracial Individuals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Currently over 5 million individuals self-identify as bi- or multiracial, and by 2050 we expect more than 16 million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Would have liked more discussion and guidance as what to do with these individuals (e.g. should there be prioritization scheme)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234d"/>
                </a:solidFill>
                <a:latin typeface="Arial"/>
              </a:rPr>
              <a:t>Recommendations Should Extend Beyond Health and Human Services, Veterans Affairs and Department of Defense</a:t>
            </a:r>
            <a:endParaRPr b="1" lang="en-US" sz="3600" spc="-1" strike="noStrike">
              <a:solidFill>
                <a:srgbClr val="06234d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2:16:51Z</dcterms:created>
  <dc:creator>anne jan</dc:creator>
  <dc:description/>
  <dc:language>en-US</dc:language>
  <cp:lastModifiedBy>Chettra.Chhiet</cp:lastModifiedBy>
  <dcterms:modified xsi:type="dcterms:W3CDTF">2009-12-03T18:32:40Z</dcterms:modified>
  <cp:revision>373</cp:revision>
  <dc:subject/>
  <dc:title>PowerPoint Presentation</dc:title>
</cp:coreProperties>
</file>