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9340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34AF19-A885-44C3-97C4-183213EBB25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AB6BEE-F7E4-44CB-8833-E062D9B35AD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8E9313-F5E8-403C-86BE-D6075E0C50C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AB42BA-9E76-4EA2-817C-8832C7E95571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BD5493-9040-4363-B1E7-D48845FF016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89D02A-F650-4BBD-83D4-141E931988F0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24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7E002C-DB2A-4DF8-BA76-327A2F75B255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24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F5C357-D9F7-44BB-81E2-0DBE5208569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B18891-C773-4BD9-BD1F-C3BDC463C5A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6F8361-522A-4701-840B-307FB134F42E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24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C65686-409B-47F4-A519-A62B8420344A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4280" y="4457520"/>
            <a:ext cx="518796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E9CE49-F8D8-415E-A4B0-B7259ACAC72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44280" y="4457520"/>
            <a:ext cx="518796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6535B5-9026-4A94-BAF9-4E7A58575BF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7FECF8-22B3-4EA9-A2D2-8A1D7317401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1A7FDA-7432-428A-8D78-BC0789BB66B9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6FAC2C-3B5A-4FA2-8596-A5D1B28A04B6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37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6320" y="4456080"/>
            <a:ext cx="566424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C4E4B4-8047-463D-B39C-0EA5DDFDE03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7760" y="4458960"/>
            <a:ext cx="566244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1AA4-93FC-4A79-B842-4B0397AB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6813-AC96-4866-8EC0-1B49760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23D4-5F88-48E9-B59F-D02C6E2A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C578-DF65-44A7-82BF-FF11F9D1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0759-B1CD-454E-9738-4D65E576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C6D4-6E69-4A21-ACE7-6B144D9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8BF8-25C5-4797-9264-40A5C6CB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1188-0380-4B96-9C2F-6C14E15B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426600"/>
            <a:ext cx="91440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208C-C5DC-4425-A1D8-83097512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5E73-F975-4D61-963D-DDCD7F0B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F0C9-3055-4398-92FE-FF7615A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5E1A-9FDC-4EAD-B127-E9C3819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green_sideimage"/>
          <p:cNvPicPr/>
          <p:nvPr/>
        </p:nvPicPr>
        <p:blipFill>
          <a:blip r:embed="rId3"/>
          <a:stretch/>
        </p:blipFill>
        <p:spPr>
          <a:xfrm>
            <a:off x="0" y="1214280"/>
            <a:ext cx="457200" cy="564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7696080" y="0"/>
            <a:ext cx="12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70480" y="6619680"/>
            <a:ext cx="18968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5093-6E41-4533-9B95-A8510864A08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165040" y="6613200"/>
            <a:ext cx="488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2" descr="nhii-bnnr4web"/>
          <p:cNvPicPr/>
          <p:nvPr/>
        </p:nvPicPr>
        <p:blipFill>
          <a:blip r:embed="rId4"/>
          <a:stretch/>
        </p:blipFill>
        <p:spPr>
          <a:xfrm>
            <a:off x="184320" y="6343560"/>
            <a:ext cx="1143000" cy="3063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457200" y="6626160"/>
            <a:ext cx="16178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vember 10, 200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9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DavidR.Hunt@hhs.gov" TargetMode="External"/><Relationship Id="rId2" Type="http://schemas.openxmlformats.org/officeDocument/2006/relationships/hyperlink" Target="http://healthit.hhs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0408851"/>
          <p:cNvPicPr/>
          <p:nvPr/>
        </p:nvPicPr>
        <p:blipFill>
          <a:blip r:embed="rId1"/>
          <a:stretch/>
        </p:blipFill>
        <p:spPr>
          <a:xfrm>
            <a:off x="0" y="0"/>
            <a:ext cx="71280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MPj04025190000[1]"/>
          <p:cNvPicPr/>
          <p:nvPr/>
        </p:nvPicPr>
        <p:blipFill>
          <a:blip r:embed="rId2"/>
          <a:stretch/>
        </p:blipFill>
        <p:spPr>
          <a:xfrm>
            <a:off x="685800" y="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MPj04358730000[1]"/>
          <p:cNvPicPr/>
          <p:nvPr/>
        </p:nvPicPr>
        <p:blipFill>
          <a:blip r:embed="rId3"/>
          <a:stretch/>
        </p:blipFill>
        <p:spPr>
          <a:xfrm>
            <a:off x="3724200" y="0"/>
            <a:ext cx="114300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Pj04331810000[1]"/>
          <p:cNvPicPr/>
          <p:nvPr/>
        </p:nvPicPr>
        <p:blipFill>
          <a:blip r:embed="rId4"/>
          <a:stretch/>
        </p:blipFill>
        <p:spPr>
          <a:xfrm>
            <a:off x="1600200" y="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j0390516"/>
          <p:cNvPicPr/>
          <p:nvPr/>
        </p:nvPicPr>
        <p:blipFill>
          <a:blip r:embed="rId5"/>
          <a:stretch/>
        </p:blipFill>
        <p:spPr>
          <a:xfrm>
            <a:off x="2657520" y="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Pj04006240000[1]"/>
          <p:cNvPicPr/>
          <p:nvPr/>
        </p:nvPicPr>
        <p:blipFill>
          <a:blip r:embed="rId6"/>
          <a:stretch/>
        </p:blipFill>
        <p:spPr>
          <a:xfrm>
            <a:off x="4863960" y="0"/>
            <a:ext cx="85248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MPj03155590000[1]"/>
          <p:cNvPicPr/>
          <p:nvPr/>
        </p:nvPicPr>
        <p:blipFill>
          <a:blip r:embed="rId7"/>
          <a:stretch/>
        </p:blipFill>
        <p:spPr>
          <a:xfrm>
            <a:off x="5711760" y="0"/>
            <a:ext cx="152424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MPj03094080000[1]"/>
          <p:cNvPicPr/>
          <p:nvPr/>
        </p:nvPicPr>
        <p:blipFill>
          <a:blip r:embed="rId8"/>
          <a:srcRect l="12181" t="0" r="0" b="0"/>
          <a:stretch/>
        </p:blipFill>
        <p:spPr>
          <a:xfrm>
            <a:off x="6705720" y="0"/>
            <a:ext cx="1373040" cy="109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MPj04116960000[1]"/>
          <p:cNvPicPr/>
          <p:nvPr/>
        </p:nvPicPr>
        <p:blipFill>
          <a:blip r:embed="rId9"/>
          <a:stretch/>
        </p:blipFill>
        <p:spPr>
          <a:xfrm>
            <a:off x="8029440" y="0"/>
            <a:ext cx="1114560" cy="1100160"/>
          </a:xfrm>
          <a:prstGeom prst="rect">
            <a:avLst/>
          </a:prstGeom>
          <a:ln w="0">
            <a:noFill/>
          </a:ln>
        </p:spPr>
      </p:pic>
      <p:sp>
        <p:nvSpPr>
          <p:cNvPr id="62" name="Line 11"/>
          <p:cNvSpPr/>
          <p:nvPr/>
        </p:nvSpPr>
        <p:spPr>
          <a:xfrm>
            <a:off x="0" y="10857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6400800" y="871560"/>
            <a:ext cx="2600280" cy="695160"/>
            <a:chOff x="6400800" y="871560"/>
            <a:chExt cx="2600280" cy="695160"/>
          </a:xfrm>
        </p:grpSpPr>
        <p:sp>
          <p:nvSpPr>
            <p:cNvPr id="64" name="Rectangle 13"/>
            <p:cNvSpPr/>
            <p:nvPr/>
          </p:nvSpPr>
          <p:spPr>
            <a:xfrm>
              <a:off x="6753240" y="102384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4" descr="nhii-bnnr4web"/>
            <p:cNvPicPr/>
            <p:nvPr/>
          </p:nvPicPr>
          <p:blipFill>
            <a:blip r:embed="rId10"/>
            <a:stretch/>
          </p:blipFill>
          <p:spPr>
            <a:xfrm>
              <a:off x="6400800" y="871560"/>
              <a:ext cx="260028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5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j0408851"/>
          <p:cNvPicPr/>
          <p:nvPr/>
        </p:nvPicPr>
        <p:blipFill>
          <a:blip r:embed="rId11"/>
          <a:stretch/>
        </p:blipFill>
        <p:spPr>
          <a:xfrm>
            <a:off x="8353440" y="5757840"/>
            <a:ext cx="79056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MPj04358730000[1]"/>
          <p:cNvPicPr/>
          <p:nvPr/>
        </p:nvPicPr>
        <p:blipFill>
          <a:blip r:embed="rId12"/>
          <a:stretch/>
        </p:blipFill>
        <p:spPr>
          <a:xfrm>
            <a:off x="4254480" y="5751360"/>
            <a:ext cx="1143000" cy="11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MPj04331810000[1]"/>
          <p:cNvPicPr/>
          <p:nvPr/>
        </p:nvPicPr>
        <p:blipFill>
          <a:blip r:embed="rId13"/>
          <a:stretch/>
        </p:blipFill>
        <p:spPr>
          <a:xfrm>
            <a:off x="6367320" y="5757840"/>
            <a:ext cx="1067040" cy="11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j0390516"/>
          <p:cNvPicPr/>
          <p:nvPr/>
        </p:nvPicPr>
        <p:blipFill>
          <a:blip r:embed="rId14"/>
          <a:stretch/>
        </p:blipFill>
        <p:spPr>
          <a:xfrm>
            <a:off x="5330880" y="5757840"/>
            <a:ext cx="1066680" cy="11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MPj03155590000[1]"/>
          <p:cNvPicPr/>
          <p:nvPr/>
        </p:nvPicPr>
        <p:blipFill>
          <a:blip r:embed="rId15"/>
          <a:stretch/>
        </p:blipFill>
        <p:spPr>
          <a:xfrm>
            <a:off x="2362320" y="5759280"/>
            <a:ext cx="1523880" cy="109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MPj03094080000[1]"/>
          <p:cNvPicPr/>
          <p:nvPr/>
        </p:nvPicPr>
        <p:blipFill>
          <a:blip r:embed="rId16"/>
          <a:srcRect l="12181" t="0" r="0" b="0"/>
          <a:stretch/>
        </p:blipFill>
        <p:spPr>
          <a:xfrm>
            <a:off x="1022400" y="5759280"/>
            <a:ext cx="1373040" cy="109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" descr="MPj04116960000[1]"/>
          <p:cNvPicPr/>
          <p:nvPr/>
        </p:nvPicPr>
        <p:blipFill>
          <a:blip r:embed="rId17"/>
          <a:stretch/>
        </p:blipFill>
        <p:spPr>
          <a:xfrm>
            <a:off x="-11160" y="5757840"/>
            <a:ext cx="1114560" cy="110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3" descr="MPj04006240000[1]"/>
          <p:cNvPicPr/>
          <p:nvPr/>
        </p:nvPicPr>
        <p:blipFill>
          <a:blip r:embed="rId18"/>
          <a:srcRect l="0" t="0" r="1687" b="0"/>
          <a:stretch/>
        </p:blipFill>
        <p:spPr>
          <a:xfrm>
            <a:off x="3340080" y="5757840"/>
            <a:ext cx="914400" cy="11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MPj04025190000[1]"/>
          <p:cNvPicPr/>
          <p:nvPr/>
        </p:nvPicPr>
        <p:blipFill>
          <a:blip r:embed="rId19"/>
          <a:srcRect l="-7262" t="0" r="0" b="0"/>
          <a:stretch/>
        </p:blipFill>
        <p:spPr>
          <a:xfrm>
            <a:off x="7369200" y="5757840"/>
            <a:ext cx="981000" cy="1100160"/>
          </a:xfrm>
          <a:prstGeom prst="rect">
            <a:avLst/>
          </a:prstGeom>
          <a:ln w="0">
            <a:noFill/>
          </a:ln>
        </p:spPr>
      </p:pic>
      <p:sp>
        <p:nvSpPr>
          <p:cNvPr id="76" name="Line 25"/>
          <p:cNvSpPr/>
          <p:nvPr/>
        </p:nvSpPr>
        <p:spPr>
          <a:xfrm>
            <a:off x="0" y="5748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20560" y="3735360"/>
            <a:ext cx="81439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R. Hunt, MD, F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Medical Officer and Acting Director, OH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of the National Coordinator for 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19280" y="197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alth IT and Patient Safety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C Contex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82EA-4ACE-4153-AD29-52F1D4B148C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 flipV="1">
            <a:off x="2494080" y="500400"/>
            <a:ext cx="6462720" cy="6778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c2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inciples, Policies, Procedures, Protection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70640" y="44280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31640" y="1432080"/>
            <a:ext cx="8712360" cy="47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BA49-768A-4C14-BD87-3D76BFD7B4F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42800" y="1292400"/>
            <a:ext cx="4076640" cy="52495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62000" y="517680"/>
            <a:ext cx="898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550 Federal Register/ Vol. 74, No. 101/ Thursday, May 28, 2009/ No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456080" y="1168560"/>
            <a:ext cx="4443480" cy="568944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4270320" y="2360520"/>
            <a:ext cx="4735440" cy="11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5489-7C39-4078-8F8E-0FCC6A1E95D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08"/>
          <p:cNvSpPr/>
          <p:nvPr/>
        </p:nvSpPr>
        <p:spPr>
          <a:xfrm flipV="1">
            <a:off x="1569960" y="427680"/>
            <a:ext cx="6809040" cy="733320"/>
          </a:xfrm>
          <a:prstGeom prst="pie">
            <a:avLst/>
          </a:prstGeom>
          <a:gradFill rotWithShape="0">
            <a:gsLst>
              <a:gs pos="0">
                <a:srgbClr val="ff6600">
                  <a:alpha val="45098"/>
                </a:srgbClr>
              </a:gs>
              <a:gs pos="100000">
                <a:srgbClr val="dc5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4"/>
          <p:cNvSpPr/>
          <p:nvPr/>
        </p:nvSpPr>
        <p:spPr>
          <a:xfrm>
            <a:off x="5662440" y="841320"/>
            <a:ext cx="3346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86"/>
          <p:cNvSpPr/>
          <p:nvPr/>
        </p:nvSpPr>
        <p:spPr>
          <a:xfrm>
            <a:off x="1143000" y="1225440"/>
            <a:ext cx="447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95"/>
          <p:cNvSpPr/>
          <p:nvPr/>
        </p:nvSpPr>
        <p:spPr>
          <a:xfrm>
            <a:off x="1555920" y="5915880"/>
            <a:ext cx="57006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Finding an EHR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et ne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96"/>
          <p:cNvSpPr/>
          <p:nvPr/>
        </p:nvSpPr>
        <p:spPr>
          <a:xfrm>
            <a:off x="1560600" y="5531760"/>
            <a:ext cx="48592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Concern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solesc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97"/>
          <p:cNvSpPr/>
          <p:nvPr/>
        </p:nvSpPr>
        <p:spPr>
          <a:xfrm>
            <a:off x="1563840" y="4753800"/>
            <a:ext cx="41526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Capacity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01"/>
          <p:cNvSpPr/>
          <p:nvPr/>
        </p:nvSpPr>
        <p:spPr>
          <a:xfrm>
            <a:off x="2243160" y="442800"/>
            <a:ext cx="56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. 3012. HEALTH INFORMATION TECHNOLOGY IMPLEMENTATION ASSIST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5"/>
          <p:cNvSpPr/>
          <p:nvPr/>
        </p:nvSpPr>
        <p:spPr>
          <a:xfrm>
            <a:off x="841320" y="1500120"/>
            <a:ext cx="752148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Information Technology Extension Program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sist health care providers to adopt, implement, and effectively use certified EHR technolog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at allows for the electronic exchange and use of health informatio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7"/>
          <p:cNvSpPr/>
          <p:nvPr/>
        </p:nvSpPr>
        <p:spPr>
          <a:xfrm>
            <a:off x="857160" y="2792520"/>
            <a:ext cx="7054920" cy="149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 Health Information Technology Regional Extension Centers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) IN GENERAL- The Secretary shall provide assistance for the creation and support of regional centers (in this subsection referred to as `regional centers') to provide technical assistance an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issemin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st practices and other information learned from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9"/>
          <p:cNvSpPr/>
          <p:nvPr/>
        </p:nvSpPr>
        <p:spPr>
          <a:xfrm>
            <a:off x="1560600" y="5151600"/>
            <a:ext cx="4451400" cy="36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1%            Transition </a:t>
            </a:r>
            <a:r>
              <a:rPr b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productivity lo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A335-9041-43B4-8511-62A16C87DAB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cover of Contemporay Surgery Magazine"/>
          <p:cNvPicPr/>
          <p:nvPr/>
        </p:nvPicPr>
        <p:blipFill>
          <a:blip r:embed="rId1"/>
          <a:stretch/>
        </p:blipFill>
        <p:spPr>
          <a:xfrm>
            <a:off x="152280" y="1371600"/>
            <a:ext cx="4584960" cy="4800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4016160" cy="1247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5638680" y="2438280"/>
            <a:ext cx="3006720" cy="35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152280" y="380880"/>
            <a:ext cx="3894840" cy="581400"/>
            <a:chOff x="152280" y="380880"/>
            <a:chExt cx="3894840" cy="581400"/>
          </a:xfrm>
        </p:grpSpPr>
        <p:sp>
          <p:nvSpPr>
            <p:cNvPr id="170" name="Text Box 6"/>
            <p:cNvSpPr/>
            <p:nvPr/>
          </p:nvSpPr>
          <p:spPr>
            <a:xfrm>
              <a:off x="152280" y="380880"/>
              <a:ext cx="137160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EW!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47920" y="38088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MEA CULP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8"/>
          <p:cNvSpPr/>
          <p:nvPr/>
        </p:nvSpPr>
        <p:spPr>
          <a:xfrm>
            <a:off x="3963600" y="304920"/>
            <a:ext cx="37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ant mouse click l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negative laparot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0" y="152280"/>
            <a:ext cx="861048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2362320" y="5334120"/>
            <a:ext cx="20574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 flipV="1">
            <a:off x="4267080" y="1218960"/>
            <a:ext cx="68580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044B-6AA7-4870-803E-A2163955FC6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213444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ISTAKE: Three days later,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eck of antibody levels revealed a value of &gt;90% (normal, &lt;3%) pointing to autoimmune hypoglycemi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05720" y="2057400"/>
          <a:ext cx="2286000" cy="6429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666666"/>
                          </a:solidFill>
                          <a:latin typeface="Arial"/>
                          <a:ea typeface="Arial"/>
                        </a:rPr>
                        <a:t>FIGURE: Normal imaging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666666"/>
                          </a:solidFill>
                          <a:latin typeface="Arial"/>
                          <a:ea typeface="Arial"/>
                        </a:rPr>
                        <a:t>Despite a normal CT scan, the surgeon reluctantly offered surgical exploration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9"/>
          <p:cNvSpPr/>
          <p:nvPr/>
        </p:nvSpPr>
        <p:spPr>
          <a:xfrm>
            <a:off x="838080" y="2974320"/>
            <a:ext cx="815364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USS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in levels were far too elevated for a usual insulinoma. When faced with a patient with all signs and symptoms of hyperinsulinism, checking insulin, c-peptide, glucose, and sulfonylurea levels is appropriate. However, extreme insulin elevation (typical insulinomas reveal values of 15–90 Iu/mL) suggests another source. Insulin antibody elevations are rare. The treatment is observation and supportive care. It resolves spontaneousl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“systems problem” may explain the surgical team’s failure to preoperatively check insulin antibody levels. The data is only available via electronic medical records (EMR) with a right mouse click. A left click didn’t show anything, so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sum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the value was normal. Mea Culpa. Our institution is now fixing the EMR display fea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ct scan"/>
          <p:cNvPicPr/>
          <p:nvPr/>
        </p:nvPicPr>
        <p:blipFill>
          <a:blip r:embed="rId1"/>
          <a:stretch/>
        </p:blipFill>
        <p:spPr>
          <a:xfrm>
            <a:off x="6705720" y="533520"/>
            <a:ext cx="2286000" cy="1438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1"/>
          <p:cNvSpPr/>
          <p:nvPr/>
        </p:nvSpPr>
        <p:spPr>
          <a:xfrm>
            <a:off x="838080" y="1264320"/>
            <a:ext cx="586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ATI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n 80-year-old woman with classic symptoms of neuroglycopenia underwent a battery of tests confirming the Whipple triad…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2"/>
          <p:cNvGrpSpPr/>
          <p:nvPr/>
        </p:nvGrpSpPr>
        <p:grpSpPr>
          <a:xfrm>
            <a:off x="304920" y="533520"/>
            <a:ext cx="3894840" cy="581400"/>
            <a:chOff x="304920" y="533520"/>
            <a:chExt cx="3894840" cy="581400"/>
          </a:xfrm>
        </p:grpSpPr>
        <p:sp>
          <p:nvSpPr>
            <p:cNvPr id="183" name="Text Box 13"/>
            <p:cNvSpPr/>
            <p:nvPr/>
          </p:nvSpPr>
          <p:spPr>
            <a:xfrm>
              <a:off x="304920" y="533520"/>
              <a:ext cx="137160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EW!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1600560" y="5335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MEA CULP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9B29-2D6F-470F-8AE6-7B4EE5CBA07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ppocrat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14720" y="5397480"/>
            <a:ext cx="37717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or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27040" y="1635120"/>
            <a:ext cx="8337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better know what you should do before you enter, for in many cases help is needed, not though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vidR.Hunt@hhs.gov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73200" y="3531960"/>
            <a:ext cx="64389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-690-634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ealthit.hhs.g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dicine used to be simple, ineffective and relatively safe.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w it is complex, effective and potentially dangerous.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5791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le and education of doctors in the delivery of healthc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lister Lecture delivered at the Institute of Health Services Research, Northwestern University, Illinois, USA. October 1998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nc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999;353:1178–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7480" y="504360"/>
            <a:ext cx="49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r Cyril Chantler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to diseases make a habit of two things - to help, or at least, to do no harm.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3720" y="5028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demic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30040" y="255600"/>
            <a:ext cx="37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ppocr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8BDE-CB45-4285-953E-0B907121122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533520" y="1523880"/>
            <a:ext cx="8229240" cy="5028840"/>
            <a:chOff x="533520" y="1523880"/>
            <a:chExt cx="8229240" cy="5028840"/>
          </a:xfrm>
        </p:grpSpPr>
        <p:sp>
          <p:nvSpPr>
            <p:cNvPr id="89" name="Oval 7"/>
            <p:cNvSpPr/>
            <p:nvPr/>
          </p:nvSpPr>
          <p:spPr>
            <a:xfrm>
              <a:off x="533520" y="1523880"/>
              <a:ext cx="8229240" cy="502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Quality = Help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2041920" y="3641400"/>
              <a:ext cx="5212080" cy="2911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afety = Do no harm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D888-ACDC-4639-B4DB-E0EB7B80A55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y Healthc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04480" y="3441240"/>
            <a:ext cx="403884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4520" y="3403440"/>
            <a:ext cx="287028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17960" y="2114640"/>
            <a:ext cx="12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295240" y="2076480"/>
            <a:ext cx="198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941A-9C7A-4F3D-B01E-7571E5C7F79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390680" y="652320"/>
            <a:ext cx="70372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3EF-8AF1-4CC6-B7F2-3DB68ECACF7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43440" y="222120"/>
            <a:ext cx="4784760" cy="5089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3"/>
          <p:cNvSpPr/>
          <p:nvPr/>
        </p:nvSpPr>
        <p:spPr>
          <a:xfrm>
            <a:off x="7478640" y="196920"/>
            <a:ext cx="1244520" cy="274680"/>
          </a:xfr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o 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0520" y="360360"/>
            <a:ext cx="57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R Adoption by Practice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200400" y="6248520"/>
            <a:ext cx="57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Roches, V, et. al.; Electronic Health Records in Ambulatory Care — A National Survey of Physicians N Engl J Med July 2008;359:50-6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4920" y="1479600"/>
            <a:ext cx="3733560" cy="4800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e4ffe4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598320" y="2038320"/>
            <a:ext cx="2524320" cy="3736080"/>
            <a:chOff x="598320" y="2038320"/>
            <a:chExt cx="2524320" cy="3736080"/>
          </a:xfrm>
        </p:grpSpPr>
        <p:sp>
          <p:nvSpPr>
            <p:cNvPr id="106" name="Line 8"/>
            <p:cNvSpPr/>
            <p:nvPr/>
          </p:nvSpPr>
          <p:spPr>
            <a:xfrm>
              <a:off x="1293840" y="22384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1293840" y="29242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1293840" y="36100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1293840" y="42958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>
              <a:off x="1293840" y="4981680"/>
              <a:ext cx="1828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>
              <a:off x="1293840" y="5678640"/>
              <a:ext cx="1828800" cy="360"/>
            </a:xfrm>
            <a:prstGeom prst="lin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284120" y="2248200"/>
              <a:ext cx="360" cy="3429000"/>
            </a:xfrm>
            <a:prstGeom prst="lin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598320" y="2038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608040" y="2718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608040" y="34038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608040" y="40896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608040" y="4775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0"/>
            <p:cNvSpPr/>
            <p:nvPr/>
          </p:nvSpPr>
          <p:spPr>
            <a:xfrm>
              <a:off x="608040" y="53755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21"/>
          <p:cNvSpPr/>
          <p:nvPr/>
        </p:nvSpPr>
        <p:spPr>
          <a:xfrm>
            <a:off x="1828800" y="3200400"/>
            <a:ext cx="255600" cy="244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1828800" y="3200400"/>
            <a:ext cx="228600" cy="5382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514600" y="3276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1523880" y="5765760"/>
            <a:ext cx="1447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ician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 rot="16200000">
            <a:off x="-757800" y="3576600"/>
            <a:ext cx="2590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centage of physici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2514600" y="358128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notes, Rx orders, &amp; ability to order and  obtain lab resul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2209680" y="3124080"/>
            <a:ext cx="228600" cy="53352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V="1">
            <a:off x="2087640" y="4652640"/>
            <a:ext cx="4805280" cy="947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9"/>
          <p:cNvSpPr/>
          <p:nvPr/>
        </p:nvSpPr>
        <p:spPr>
          <a:xfrm flipV="1">
            <a:off x="1860480" y="918720"/>
            <a:ext cx="3773520" cy="2225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7848720" y="725400"/>
            <a:ext cx="1295280" cy="284400"/>
          </a:xfr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al 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6529680" y="244476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5 physici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2"/>
          <p:cNvSpPr/>
          <p:nvPr/>
        </p:nvSpPr>
        <p:spPr>
          <a:xfrm>
            <a:off x="4539960" y="186516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gt;10 physici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5194800" y="364320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10 physici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7170840" y="6620040"/>
            <a:ext cx="1896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F0E8-1142-435E-8B4B-820B8B1CB30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835200"/>
            <a:ext cx="8763120" cy="518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914400" y="1219320"/>
          <a:ext cx="4114800" cy="33012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y to select contract, install,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impleme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05120" y="1981080"/>
          <a:ext cx="3276360" cy="330480"/>
        </p:xfrm>
        <a:graphic>
          <a:graphicData uri="http://schemas.openxmlformats.org/drawingml/2006/table">
            <a:tbl>
              <a:tblPr/>
              <a:tblGrid>
                <a:gridCol w="3276360"/>
              </a:tblGrid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on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productivity lo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05120" y="2743200"/>
          <a:ext cx="3657600" cy="330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erns about system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obsolesce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581280" y="3505320"/>
          <a:ext cx="2895840" cy="33012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ding an EHR to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meet need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209680" y="4343400"/>
          <a:ext cx="3810240" cy="33012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certainty of return on investment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(RO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257800" y="5105520"/>
          <a:ext cx="2438280" cy="3301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of </a:t>
                      </a:r>
                      <a:r>
                        <a:rPr b="1" lang="en-US" sz="14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ea typeface="Arial"/>
                        </a:rPr>
                        <a:t>capital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eed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39"/>
          <p:cNvSpPr/>
          <p:nvPr/>
        </p:nvSpPr>
        <p:spPr>
          <a:xfrm>
            <a:off x="212400" y="37296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Barriers to Adoption of Electronic Health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0" descr="Doctor using a computer"/>
          <p:cNvPicPr/>
          <p:nvPr/>
        </p:nvPicPr>
        <p:blipFill>
          <a:blip r:embed="rId2"/>
          <a:stretch/>
        </p:blipFill>
        <p:spPr>
          <a:xfrm>
            <a:off x="7086600" y="990720"/>
            <a:ext cx="1574640" cy="2361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2"/>
          <p:cNvSpPr/>
          <p:nvPr/>
        </p:nvSpPr>
        <p:spPr>
          <a:xfrm>
            <a:off x="457200" y="6095880"/>
            <a:ext cx="57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Roches, V, et. al.; Electronic Health Records in Ambulatory Care — A National Survey of Physicians N Engl J Med July 2008;359:50-60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821960"/>
            <a:ext cx="8404200" cy="25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ckoning that all such matters should be kept secret…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132080" y="5009760"/>
            <a:ext cx="4292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pocratic O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6:47:56Z</dcterms:created>
  <dc:creator>David Hunt</dc:creator>
  <dc:description/>
  <dc:language>en-US</dc:language>
  <cp:lastModifiedBy>DHHS</cp:lastModifiedBy>
  <dcterms:modified xsi:type="dcterms:W3CDTF">2009-12-15T18:05:10Z</dcterms:modified>
  <cp:revision>2038</cp:revision>
  <dc:subject/>
  <dc:title>Health 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