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70344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707760" y="4458960"/>
            <a:ext cx="5662440" cy="422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89118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008240" y="891180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002F83-0328-4602-A022-541865A82406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E65BEC-3F1D-4DC2-AE25-7BB4DDF07CE8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7760" y="4458960"/>
            <a:ext cx="566244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B8B683-952D-48D4-A336-75CB054F343D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7760" y="4458960"/>
            <a:ext cx="566244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FB1A90-7C8A-4E11-9483-883F78CEA49A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7760" y="4458960"/>
            <a:ext cx="566244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98130F-FF18-48A2-953B-3AF051C1473D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7760" y="4458960"/>
            <a:ext cx="566244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A478E3-AB35-4072-835B-1313ACA2D95D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24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E32DE0-F701-477F-AFFD-66C743A71716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24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71A375-132C-4C80-8951-AA8740263DDD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7760" y="4458960"/>
            <a:ext cx="566244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D2327C-1E42-4014-9B24-A0F9E82B9EEA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7760" y="4458960"/>
            <a:ext cx="566244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E4BE43-3BDD-48E6-BC83-860D83748707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24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3212E2-8A27-472A-96F3-6898066EABC1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44280" y="4457520"/>
            <a:ext cx="518796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AAD594-FC00-4FFC-AF2D-A1E63D60F602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44280" y="4457520"/>
            <a:ext cx="518796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119602-A448-4BCE-89C3-C3F1EBA195D9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7760" y="4458960"/>
            <a:ext cx="566244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A17D82-C8DB-408A-A5B6-89A93AB3D069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7760" y="4458960"/>
            <a:ext cx="566244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8D16D0-A432-40AE-B47C-F101A2D98304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C09679-9C40-4FD2-B2BE-2E0541141989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937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6320" y="4456080"/>
            <a:ext cx="56642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B46DBD-6BEF-40C8-BE77-0C13A7E872F1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7760" y="4458960"/>
            <a:ext cx="566244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3CF54-2E6C-48AC-B154-28BC2CF5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FF3A-5BEA-4505-91EE-0B44D7CA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33563-E89F-4A0D-9367-D3379E56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00F9-D1C8-411C-BFE7-9B059481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F1E3-D68B-4287-BFA9-C00B6837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80F3A-DC88-440D-839E-D7FDEE31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F71D-69E1-4807-A7CE-FC85C26F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ECE3-AECA-4AFE-91C8-0249D3AE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426600"/>
            <a:ext cx="91440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8F34A-7409-46BB-8C66-49816CAF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42F6-C29F-4EFE-8803-CAD1129E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84D0-C326-46C2-8B82-59F892DA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2339-0C42-48D6-8035-E1C71C14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green_sideimage"/>
          <p:cNvPicPr/>
          <p:nvPr/>
        </p:nvPicPr>
        <p:blipFill>
          <a:blip r:embed="rId3"/>
          <a:stretch/>
        </p:blipFill>
        <p:spPr>
          <a:xfrm>
            <a:off x="0" y="1214280"/>
            <a:ext cx="457200" cy="564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7696080" y="0"/>
            <a:ext cx="129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170480" y="6619680"/>
            <a:ext cx="18968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619B-14CF-45EC-8B11-BB5F72884AA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165040" y="6613200"/>
            <a:ext cx="488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2" descr="nhii-bnnr4web"/>
          <p:cNvPicPr/>
          <p:nvPr/>
        </p:nvPicPr>
        <p:blipFill>
          <a:blip r:embed="rId4"/>
          <a:stretch/>
        </p:blipFill>
        <p:spPr>
          <a:xfrm>
            <a:off x="184320" y="6343560"/>
            <a:ext cx="1143000" cy="3063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457200" y="6626160"/>
            <a:ext cx="16178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vember 10, 200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9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DavidR.Hunt@hhs.gov" TargetMode="External"/><Relationship Id="rId2" Type="http://schemas.openxmlformats.org/officeDocument/2006/relationships/hyperlink" Target="http://healthit.hhs.gov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j0408851"/>
          <p:cNvPicPr/>
          <p:nvPr/>
        </p:nvPicPr>
        <p:blipFill>
          <a:blip r:embed="rId1"/>
          <a:stretch/>
        </p:blipFill>
        <p:spPr>
          <a:xfrm>
            <a:off x="0" y="0"/>
            <a:ext cx="71280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MPj04025190000[1]"/>
          <p:cNvPicPr/>
          <p:nvPr/>
        </p:nvPicPr>
        <p:blipFill>
          <a:blip r:embed="rId2"/>
          <a:stretch/>
        </p:blipFill>
        <p:spPr>
          <a:xfrm>
            <a:off x="685800" y="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MPj04358730000[1]"/>
          <p:cNvPicPr/>
          <p:nvPr/>
        </p:nvPicPr>
        <p:blipFill>
          <a:blip r:embed="rId3"/>
          <a:stretch/>
        </p:blipFill>
        <p:spPr>
          <a:xfrm>
            <a:off x="3724200" y="0"/>
            <a:ext cx="1143000" cy="1073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MPj04331810000[1]"/>
          <p:cNvPicPr/>
          <p:nvPr/>
        </p:nvPicPr>
        <p:blipFill>
          <a:blip r:embed="rId4"/>
          <a:stretch/>
        </p:blipFill>
        <p:spPr>
          <a:xfrm>
            <a:off x="1600200" y="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j0390516"/>
          <p:cNvPicPr/>
          <p:nvPr/>
        </p:nvPicPr>
        <p:blipFill>
          <a:blip r:embed="rId5"/>
          <a:stretch/>
        </p:blipFill>
        <p:spPr>
          <a:xfrm>
            <a:off x="2657520" y="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MPj04006240000[1]"/>
          <p:cNvPicPr/>
          <p:nvPr/>
        </p:nvPicPr>
        <p:blipFill>
          <a:blip r:embed="rId6"/>
          <a:stretch/>
        </p:blipFill>
        <p:spPr>
          <a:xfrm>
            <a:off x="4863960" y="0"/>
            <a:ext cx="852480" cy="1066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MPj03155590000[1]"/>
          <p:cNvPicPr/>
          <p:nvPr/>
        </p:nvPicPr>
        <p:blipFill>
          <a:blip r:embed="rId7"/>
          <a:stretch/>
        </p:blipFill>
        <p:spPr>
          <a:xfrm>
            <a:off x="5711760" y="0"/>
            <a:ext cx="1524240" cy="108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MPj03094080000[1]"/>
          <p:cNvPicPr/>
          <p:nvPr/>
        </p:nvPicPr>
        <p:blipFill>
          <a:blip r:embed="rId8"/>
          <a:srcRect l="12181" t="0" r="0" b="0"/>
          <a:stretch/>
        </p:blipFill>
        <p:spPr>
          <a:xfrm>
            <a:off x="6705720" y="0"/>
            <a:ext cx="1373040" cy="1098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MPj04116960000[1]"/>
          <p:cNvPicPr/>
          <p:nvPr/>
        </p:nvPicPr>
        <p:blipFill>
          <a:blip r:embed="rId9"/>
          <a:stretch/>
        </p:blipFill>
        <p:spPr>
          <a:xfrm>
            <a:off x="8029440" y="0"/>
            <a:ext cx="1114560" cy="1100160"/>
          </a:xfrm>
          <a:prstGeom prst="rect">
            <a:avLst/>
          </a:prstGeom>
          <a:ln w="0">
            <a:noFill/>
          </a:ln>
        </p:spPr>
      </p:pic>
      <p:sp>
        <p:nvSpPr>
          <p:cNvPr id="62" name="Line 11"/>
          <p:cNvSpPr/>
          <p:nvPr/>
        </p:nvSpPr>
        <p:spPr>
          <a:xfrm>
            <a:off x="0" y="10857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2"/>
          <p:cNvGrpSpPr/>
          <p:nvPr/>
        </p:nvGrpSpPr>
        <p:grpSpPr>
          <a:xfrm>
            <a:off x="6400800" y="871560"/>
            <a:ext cx="2600280" cy="695160"/>
            <a:chOff x="6400800" y="871560"/>
            <a:chExt cx="2600280" cy="695160"/>
          </a:xfrm>
        </p:grpSpPr>
        <p:sp>
          <p:nvSpPr>
            <p:cNvPr id="64" name="Rectangle 13"/>
            <p:cNvSpPr/>
            <p:nvPr/>
          </p:nvSpPr>
          <p:spPr>
            <a:xfrm>
              <a:off x="6753240" y="102384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14" descr="nhii-bnnr4web"/>
            <p:cNvPicPr/>
            <p:nvPr/>
          </p:nvPicPr>
          <p:blipFill>
            <a:blip r:embed="rId10"/>
            <a:stretch/>
          </p:blipFill>
          <p:spPr>
            <a:xfrm>
              <a:off x="6400800" y="871560"/>
              <a:ext cx="260028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Rectangle 15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6" descr="j0408851"/>
          <p:cNvPicPr/>
          <p:nvPr/>
        </p:nvPicPr>
        <p:blipFill>
          <a:blip r:embed="rId11"/>
          <a:stretch/>
        </p:blipFill>
        <p:spPr>
          <a:xfrm>
            <a:off x="8353440" y="5757840"/>
            <a:ext cx="790560" cy="110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MPj04358730000[1]"/>
          <p:cNvPicPr/>
          <p:nvPr/>
        </p:nvPicPr>
        <p:blipFill>
          <a:blip r:embed="rId12"/>
          <a:stretch/>
        </p:blipFill>
        <p:spPr>
          <a:xfrm>
            <a:off x="4254480" y="5751360"/>
            <a:ext cx="1143000" cy="110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MPj04331810000[1]"/>
          <p:cNvPicPr/>
          <p:nvPr/>
        </p:nvPicPr>
        <p:blipFill>
          <a:blip r:embed="rId13"/>
          <a:stretch/>
        </p:blipFill>
        <p:spPr>
          <a:xfrm>
            <a:off x="6367320" y="5757840"/>
            <a:ext cx="1067040" cy="11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j0390516"/>
          <p:cNvPicPr/>
          <p:nvPr/>
        </p:nvPicPr>
        <p:blipFill>
          <a:blip r:embed="rId14"/>
          <a:stretch/>
        </p:blipFill>
        <p:spPr>
          <a:xfrm>
            <a:off x="5330880" y="5757840"/>
            <a:ext cx="1066680" cy="1100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0" descr="MPj03155590000[1]"/>
          <p:cNvPicPr/>
          <p:nvPr/>
        </p:nvPicPr>
        <p:blipFill>
          <a:blip r:embed="rId15"/>
          <a:stretch/>
        </p:blipFill>
        <p:spPr>
          <a:xfrm>
            <a:off x="2362320" y="5759280"/>
            <a:ext cx="1523880" cy="1098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1" descr="MPj03094080000[1]"/>
          <p:cNvPicPr/>
          <p:nvPr/>
        </p:nvPicPr>
        <p:blipFill>
          <a:blip r:embed="rId16"/>
          <a:srcRect l="12181" t="0" r="0" b="0"/>
          <a:stretch/>
        </p:blipFill>
        <p:spPr>
          <a:xfrm>
            <a:off x="1022400" y="5759280"/>
            <a:ext cx="1373040" cy="109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2" descr="MPj04116960000[1]"/>
          <p:cNvPicPr/>
          <p:nvPr/>
        </p:nvPicPr>
        <p:blipFill>
          <a:blip r:embed="rId17"/>
          <a:stretch/>
        </p:blipFill>
        <p:spPr>
          <a:xfrm>
            <a:off x="-11160" y="5757840"/>
            <a:ext cx="1114560" cy="1100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3" descr="MPj04006240000[1]"/>
          <p:cNvPicPr/>
          <p:nvPr/>
        </p:nvPicPr>
        <p:blipFill>
          <a:blip r:embed="rId18"/>
          <a:srcRect l="0" t="0" r="1687" b="0"/>
          <a:stretch/>
        </p:blipFill>
        <p:spPr>
          <a:xfrm>
            <a:off x="3340080" y="5757840"/>
            <a:ext cx="914400" cy="1100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4" descr="MPj04025190000[1]"/>
          <p:cNvPicPr/>
          <p:nvPr/>
        </p:nvPicPr>
        <p:blipFill>
          <a:blip r:embed="rId19"/>
          <a:srcRect l="-7262" t="0" r="0" b="0"/>
          <a:stretch/>
        </p:blipFill>
        <p:spPr>
          <a:xfrm>
            <a:off x="7369200" y="5757840"/>
            <a:ext cx="981000" cy="1100160"/>
          </a:xfrm>
          <a:prstGeom prst="rect">
            <a:avLst/>
          </a:prstGeom>
          <a:ln w="0">
            <a:noFill/>
          </a:ln>
        </p:spPr>
      </p:pic>
      <p:sp>
        <p:nvSpPr>
          <p:cNvPr id="76" name="Line 25"/>
          <p:cNvSpPr/>
          <p:nvPr/>
        </p:nvSpPr>
        <p:spPr>
          <a:xfrm>
            <a:off x="0" y="57484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20560" y="3735360"/>
            <a:ext cx="814392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R. Hunt, MD, FA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Medical Officer and Acting Director, OH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of the National Coordinator for H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719280" y="1977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alth IT and Patient Safety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C Contex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1"/>
          <p:cNvSpPr/>
          <p:nvPr/>
        </p:nvSpPr>
        <p:spPr>
          <a:xfrm>
            <a:off x="7170840" y="6620040"/>
            <a:ext cx="1896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5EFA-1C1E-45E6-A7A1-DE1BA1D669F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"/>
          <p:cNvSpPr/>
          <p:nvPr/>
        </p:nvSpPr>
        <p:spPr>
          <a:xfrm flipV="1">
            <a:off x="2494080" y="500400"/>
            <a:ext cx="6462720" cy="67788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c2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rinciples, Policies, Procedures, Protection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70640" y="44280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31640" y="1432080"/>
            <a:ext cx="8712360" cy="47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1"/>
          <p:cNvSpPr/>
          <p:nvPr/>
        </p:nvSpPr>
        <p:spPr>
          <a:xfrm>
            <a:off x="7170840" y="6620040"/>
            <a:ext cx="1896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1662-2751-4843-A292-4BF503DC164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42800" y="1292400"/>
            <a:ext cx="4076640" cy="52495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162000" y="517680"/>
            <a:ext cx="898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50 Federal Register/ Vol. 74, No. 101/ Thursday, May 28, 2009/ Not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4456080" y="1168560"/>
            <a:ext cx="4443480" cy="5689440"/>
          </a:xfrm>
          <a:prstGeom prst="rect">
            <a:avLst/>
          </a:prstGeom>
          <a:ln w="0">
            <a:noFill/>
          </a:ln>
        </p:spPr>
      </p:pic>
      <p:sp>
        <p:nvSpPr>
          <p:cNvPr id="153" name="Oval 5"/>
          <p:cNvSpPr/>
          <p:nvPr/>
        </p:nvSpPr>
        <p:spPr>
          <a:xfrm>
            <a:off x="4270320" y="2360520"/>
            <a:ext cx="4735440" cy="1157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1"/>
          <p:cNvSpPr/>
          <p:nvPr/>
        </p:nvSpPr>
        <p:spPr>
          <a:xfrm>
            <a:off x="7170840" y="6620040"/>
            <a:ext cx="1896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06D4-365E-4721-BEC7-888040D9BE4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08"/>
          <p:cNvSpPr/>
          <p:nvPr/>
        </p:nvSpPr>
        <p:spPr>
          <a:xfrm flipV="1">
            <a:off x="1569960" y="427680"/>
            <a:ext cx="6809040" cy="733320"/>
          </a:xfrm>
          <a:prstGeom prst="pie">
            <a:avLst/>
          </a:prstGeom>
          <a:gradFill rotWithShape="0">
            <a:gsLst>
              <a:gs pos="0">
                <a:srgbClr val="ff6600">
                  <a:alpha val="45098"/>
                </a:srgbClr>
              </a:gs>
              <a:gs pos="100000">
                <a:srgbClr val="dc58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84"/>
          <p:cNvSpPr/>
          <p:nvPr/>
        </p:nvSpPr>
        <p:spPr>
          <a:xfrm>
            <a:off x="5662440" y="841320"/>
            <a:ext cx="33465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86"/>
          <p:cNvSpPr/>
          <p:nvPr/>
        </p:nvSpPr>
        <p:spPr>
          <a:xfrm>
            <a:off x="1143000" y="1225440"/>
            <a:ext cx="4478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95"/>
          <p:cNvSpPr/>
          <p:nvPr/>
        </p:nvSpPr>
        <p:spPr>
          <a:xfrm>
            <a:off x="1555920" y="5915880"/>
            <a:ext cx="570060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4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Finding an EHR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et nee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96"/>
          <p:cNvSpPr/>
          <p:nvPr/>
        </p:nvSpPr>
        <p:spPr>
          <a:xfrm>
            <a:off x="1560600" y="5531760"/>
            <a:ext cx="48592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4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Concern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solesc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97"/>
          <p:cNvSpPr/>
          <p:nvPr/>
        </p:nvSpPr>
        <p:spPr>
          <a:xfrm>
            <a:off x="1563840" y="4753800"/>
            <a:ext cx="415260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Capacity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p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01"/>
          <p:cNvSpPr/>
          <p:nvPr/>
        </p:nvSpPr>
        <p:spPr>
          <a:xfrm>
            <a:off x="2243160" y="442800"/>
            <a:ext cx="56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. 3012. HEALTH INFORMATION TECHNOLOGY IMPLEMENTATION ASSISTA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05"/>
          <p:cNvSpPr/>
          <p:nvPr/>
        </p:nvSpPr>
        <p:spPr>
          <a:xfrm>
            <a:off x="841320" y="1500120"/>
            <a:ext cx="7521480" cy="109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 Information Technology Extension Program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ssist health care providers to adopt, implement, and effectively use certified EHR technolog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at allows for the electronic exchange and use of health information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7"/>
          <p:cNvSpPr/>
          <p:nvPr/>
        </p:nvSpPr>
        <p:spPr>
          <a:xfrm>
            <a:off x="857160" y="2792520"/>
            <a:ext cx="7054920" cy="149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) Health Information Technology Regional Extension Centers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) IN GENERAL- The Secretary shall provide assistance for the creation and support of regional centers (in this subsection referred to as `regional centers') to provide technical assistance and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issemin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est practices and other information learned from t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09"/>
          <p:cNvSpPr/>
          <p:nvPr/>
        </p:nvSpPr>
        <p:spPr>
          <a:xfrm>
            <a:off x="1560600" y="5151600"/>
            <a:ext cx="4451400" cy="36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1%            Transition </a:t>
            </a:r>
            <a:r>
              <a:rPr b="1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productivity lo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1"/>
          <p:cNvSpPr/>
          <p:nvPr/>
        </p:nvSpPr>
        <p:spPr>
          <a:xfrm>
            <a:off x="7170840" y="6620040"/>
            <a:ext cx="1896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FDB0-84A8-42A9-99C3-138E32C8957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cover of Contemporay Surgery Magazine"/>
          <p:cNvPicPr/>
          <p:nvPr/>
        </p:nvPicPr>
        <p:blipFill>
          <a:blip r:embed="rId1"/>
          <a:stretch/>
        </p:blipFill>
        <p:spPr>
          <a:xfrm>
            <a:off x="152280" y="1371600"/>
            <a:ext cx="4584960" cy="4800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4016160" cy="1247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5638680" y="2438280"/>
            <a:ext cx="3006720" cy="35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5"/>
          <p:cNvGrpSpPr/>
          <p:nvPr/>
        </p:nvGrpSpPr>
        <p:grpSpPr>
          <a:xfrm>
            <a:off x="152280" y="380880"/>
            <a:ext cx="3894840" cy="581400"/>
            <a:chOff x="152280" y="380880"/>
            <a:chExt cx="3894840" cy="581400"/>
          </a:xfrm>
        </p:grpSpPr>
        <p:sp>
          <p:nvSpPr>
            <p:cNvPr id="170" name="Text Box 6"/>
            <p:cNvSpPr/>
            <p:nvPr/>
          </p:nvSpPr>
          <p:spPr>
            <a:xfrm>
              <a:off x="152280" y="380880"/>
              <a:ext cx="1371600" cy="581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NEW!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1447920" y="380880"/>
              <a:ext cx="259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Arial"/>
                </a:rPr>
                <a:t>MEA CULP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8"/>
          <p:cNvSpPr/>
          <p:nvPr/>
        </p:nvSpPr>
        <p:spPr>
          <a:xfrm>
            <a:off x="3963600" y="304920"/>
            <a:ext cx="377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ant mouse click l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negative laparotom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0" y="152280"/>
            <a:ext cx="861048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2362320" y="5334120"/>
            <a:ext cx="20574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 flipV="1">
            <a:off x="4267080" y="1218960"/>
            <a:ext cx="68580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1"/>
          <p:cNvSpPr/>
          <p:nvPr/>
        </p:nvSpPr>
        <p:spPr>
          <a:xfrm>
            <a:off x="7170840" y="6620040"/>
            <a:ext cx="1896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412C-EE5E-4371-9DCF-23AF5AA0CCC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2134440"/>
            <a:ext cx="586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MISTAKE: Three days later,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i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heck of antibody levels revealed a value of &gt;90% (normal, &lt;3%) pointing to autoimmune hypoglycemi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05720" y="2057400"/>
          <a:ext cx="2286000" cy="6429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666666"/>
                          </a:solidFill>
                          <a:latin typeface="Arial"/>
                          <a:ea typeface="Arial"/>
                        </a:rPr>
                        <a:t>FIGURE: Normal imaging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666666"/>
                          </a:solidFill>
                          <a:latin typeface="Arial"/>
                          <a:ea typeface="Arial"/>
                        </a:rPr>
                        <a:t>Despite a normal CT scan, the surgeon reluctantly offered surgical exploration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9"/>
          <p:cNvSpPr/>
          <p:nvPr/>
        </p:nvSpPr>
        <p:spPr>
          <a:xfrm>
            <a:off x="838080" y="2974320"/>
            <a:ext cx="8153640" cy="36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CUSSIO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ulin levels were far too elevated for a usual insulinoma. When faced with a patient with all signs and symptoms of hyperinsulinism, checking insulin, c-peptide, glucose, and sulfonylurea levels is appropriate. However, extreme insulin elevation (typical insulinomas reveal values of 15–90 Iu/mL) suggests another source. Insulin antibody elevations are rare. The treatment is observation and supportive care. It resolves spontaneousl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“systems problem” may explain the surgical team’s failure to preoperatively check insulin antibody levels. The data is only available via electronic medical records (EMR) with a right mouse click. A left click didn’t show anything, so w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ssume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the value was normal. Mea Culpa. Our institution is now fixing the EMR display fea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ct scan"/>
          <p:cNvPicPr/>
          <p:nvPr/>
        </p:nvPicPr>
        <p:blipFill>
          <a:blip r:embed="rId1"/>
          <a:stretch/>
        </p:blipFill>
        <p:spPr>
          <a:xfrm>
            <a:off x="6705720" y="533520"/>
            <a:ext cx="2286000" cy="1438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1"/>
          <p:cNvSpPr/>
          <p:nvPr/>
        </p:nvSpPr>
        <p:spPr>
          <a:xfrm>
            <a:off x="838080" y="1264320"/>
            <a:ext cx="586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AT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An 80-year-old woman with classic symptoms of neuroglycopenia underwent a battery of tests confirming the Whipple triad…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2"/>
          <p:cNvGrpSpPr/>
          <p:nvPr/>
        </p:nvGrpSpPr>
        <p:grpSpPr>
          <a:xfrm>
            <a:off x="304920" y="533520"/>
            <a:ext cx="3894840" cy="581400"/>
            <a:chOff x="304920" y="533520"/>
            <a:chExt cx="3894840" cy="581400"/>
          </a:xfrm>
        </p:grpSpPr>
        <p:sp>
          <p:nvSpPr>
            <p:cNvPr id="183" name="Text Box 13"/>
            <p:cNvSpPr/>
            <p:nvPr/>
          </p:nvSpPr>
          <p:spPr>
            <a:xfrm>
              <a:off x="304920" y="533520"/>
              <a:ext cx="1371600" cy="581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NEW!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4"/>
            <p:cNvSpPr/>
            <p:nvPr/>
          </p:nvSpPr>
          <p:spPr>
            <a:xfrm>
              <a:off x="1600560" y="533520"/>
              <a:ext cx="259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Arial"/>
                </a:rPr>
                <a:t>MEA CULP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7170840" y="6620040"/>
            <a:ext cx="1896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11E4-322B-45A6-9DB5-5187EAE31AF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ppocrat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14720" y="5397480"/>
            <a:ext cx="37717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or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27040" y="1635120"/>
            <a:ext cx="8337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better know what you should do before you enter, for in many cases help is needed, not though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vidR.Hunt@hhs.gov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573200" y="3531960"/>
            <a:ext cx="64389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-690-634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healthit.hhs.g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dicine used to be simple, ineffective and relatively safe.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w it is complex, effective and potentially dangerous.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57913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ole and education of doctors in the delivery of healthc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lister Lecture delivered at the Institute of Health Services Research, Northwestern University, Illinois, USA. October 1998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anc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999;353:1178–8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537480" y="504360"/>
            <a:ext cx="495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r Cyril Chantle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1333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to diseases make a habit of two things - to help, or at least, to do no harm.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33720" y="5028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idemic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30040" y="255600"/>
            <a:ext cx="372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ppocra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7170840" y="6620040"/>
            <a:ext cx="1896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843B-C891-41F2-81D7-9CB9FD09F0C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6"/>
          <p:cNvGrpSpPr/>
          <p:nvPr/>
        </p:nvGrpSpPr>
        <p:grpSpPr>
          <a:xfrm>
            <a:off x="533520" y="1523880"/>
            <a:ext cx="8229240" cy="5028840"/>
            <a:chOff x="533520" y="1523880"/>
            <a:chExt cx="8229240" cy="5028840"/>
          </a:xfrm>
        </p:grpSpPr>
        <p:sp>
          <p:nvSpPr>
            <p:cNvPr id="89" name="Oval 7"/>
            <p:cNvSpPr/>
            <p:nvPr/>
          </p:nvSpPr>
          <p:spPr>
            <a:xfrm>
              <a:off x="533520" y="1523880"/>
              <a:ext cx="8229240" cy="502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Quality = Help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8"/>
            <p:cNvSpPr/>
            <p:nvPr/>
          </p:nvSpPr>
          <p:spPr>
            <a:xfrm>
              <a:off x="2041920" y="3641400"/>
              <a:ext cx="5212080" cy="29113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Safety = Do no harm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7170840" y="6620040"/>
            <a:ext cx="1896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DA77-D341-446C-A1C4-8FB47F37446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lity Healthca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04480" y="3441240"/>
            <a:ext cx="403884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ient-Cent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4520" y="3403440"/>
            <a:ext cx="287028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317960" y="2114640"/>
            <a:ext cx="12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295240" y="2076480"/>
            <a:ext cx="198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1"/>
          <p:cNvSpPr/>
          <p:nvPr/>
        </p:nvSpPr>
        <p:spPr>
          <a:xfrm>
            <a:off x="7170840" y="6620040"/>
            <a:ext cx="1896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A303-0A79-4C2D-84D1-F2F6762C0C4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390680" y="652320"/>
            <a:ext cx="70372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1"/>
          <p:cNvSpPr/>
          <p:nvPr/>
        </p:nvSpPr>
        <p:spPr>
          <a:xfrm>
            <a:off x="7170840" y="6620040"/>
            <a:ext cx="1896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F30A-3D73-409D-BA46-C72A18E0353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43440" y="222120"/>
            <a:ext cx="4784760" cy="5089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3"/>
          <p:cNvSpPr/>
          <p:nvPr/>
        </p:nvSpPr>
        <p:spPr>
          <a:xfrm>
            <a:off x="7478640" y="196920"/>
            <a:ext cx="1244520" cy="274680"/>
          </a:xfr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o 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80520" y="360360"/>
            <a:ext cx="57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R Adoption by Practice S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200400" y="6248520"/>
            <a:ext cx="57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Roches, V, et. al.; Electronic Health Records in Ambulatory Care — A National Survey of Physicians N Engl J Med July 2008;359:50-6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04920" y="1479600"/>
            <a:ext cx="3733560" cy="48006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e4ffe4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598320" y="2038320"/>
            <a:ext cx="2524320" cy="3736080"/>
            <a:chOff x="598320" y="2038320"/>
            <a:chExt cx="2524320" cy="3736080"/>
          </a:xfrm>
        </p:grpSpPr>
        <p:sp>
          <p:nvSpPr>
            <p:cNvPr id="106" name="Line 8"/>
            <p:cNvSpPr/>
            <p:nvPr/>
          </p:nvSpPr>
          <p:spPr>
            <a:xfrm>
              <a:off x="1293840" y="2238480"/>
              <a:ext cx="18288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1293840" y="2924280"/>
              <a:ext cx="18288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1293840" y="3610080"/>
              <a:ext cx="18288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1293840" y="4295880"/>
              <a:ext cx="18288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>
              <a:off x="1293840" y="4981680"/>
              <a:ext cx="18288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3"/>
            <p:cNvSpPr/>
            <p:nvPr/>
          </p:nvSpPr>
          <p:spPr>
            <a:xfrm>
              <a:off x="1293840" y="5678640"/>
              <a:ext cx="1828800" cy="360"/>
            </a:xfrm>
            <a:prstGeom prst="lin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1284120" y="2248200"/>
              <a:ext cx="360" cy="3429000"/>
            </a:xfrm>
            <a:prstGeom prst="lin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598320" y="20383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608040" y="2718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608040" y="34038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8"/>
            <p:cNvSpPr/>
            <p:nvPr/>
          </p:nvSpPr>
          <p:spPr>
            <a:xfrm>
              <a:off x="608040" y="40896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608040" y="4775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0"/>
            <p:cNvSpPr/>
            <p:nvPr/>
          </p:nvSpPr>
          <p:spPr>
            <a:xfrm>
              <a:off x="608040" y="53755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21"/>
          <p:cNvSpPr/>
          <p:nvPr/>
        </p:nvSpPr>
        <p:spPr>
          <a:xfrm>
            <a:off x="1828800" y="3200400"/>
            <a:ext cx="255600" cy="2444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1828800" y="3200400"/>
            <a:ext cx="228600" cy="53820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2514600" y="32767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1523880" y="5765760"/>
            <a:ext cx="1447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ysicians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 rot="16200000">
            <a:off x="-757800" y="3576600"/>
            <a:ext cx="2590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centage of physici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2514600" y="3581280"/>
            <a:ext cx="1219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th notes, Rx orders, &amp; ability to order and  obtain lab resul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7"/>
          <p:cNvSpPr/>
          <p:nvPr/>
        </p:nvSpPr>
        <p:spPr>
          <a:xfrm>
            <a:off x="2209680" y="312408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 flipV="1">
            <a:off x="2087640" y="4652640"/>
            <a:ext cx="4805280" cy="94788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9"/>
          <p:cNvSpPr/>
          <p:nvPr/>
        </p:nvSpPr>
        <p:spPr>
          <a:xfrm flipV="1">
            <a:off x="1860480" y="918720"/>
            <a:ext cx="3773520" cy="222588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0"/>
          <p:cNvSpPr/>
          <p:nvPr/>
        </p:nvSpPr>
        <p:spPr>
          <a:xfrm>
            <a:off x="7848720" y="725400"/>
            <a:ext cx="1295280" cy="284400"/>
          </a:xfr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al 9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6529680" y="2444760"/>
            <a:ext cx="17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5 physici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2"/>
          <p:cNvSpPr/>
          <p:nvPr/>
        </p:nvSpPr>
        <p:spPr>
          <a:xfrm>
            <a:off x="4539960" y="1865160"/>
            <a:ext cx="18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10 physici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3"/>
          <p:cNvSpPr/>
          <p:nvPr/>
        </p:nvSpPr>
        <p:spPr>
          <a:xfrm>
            <a:off x="5194800" y="364320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-10 physici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1"/>
          <p:cNvSpPr/>
          <p:nvPr/>
        </p:nvSpPr>
        <p:spPr>
          <a:xfrm>
            <a:off x="7170840" y="6620040"/>
            <a:ext cx="1896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4C5E-B5E3-491E-B2A1-41D226FB7D1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835200"/>
            <a:ext cx="8763120" cy="518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914400" y="1219320"/>
          <a:ext cx="4114800" cy="33012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33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acity to select contract, install, </a:t>
                      </a:r>
                      <a:r>
                        <a:rPr b="1" lang="en-US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ea typeface="Arial"/>
                        </a:rPr>
                        <a:t>impleme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905120" y="1981080"/>
          <a:ext cx="3276360" cy="330480"/>
        </p:xfrm>
        <a:graphic>
          <a:graphicData uri="http://schemas.openxmlformats.org/drawingml/2006/table">
            <a:tbl>
              <a:tblPr/>
              <a:tblGrid>
                <a:gridCol w="3276360"/>
              </a:tblGrid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on </a:t>
                      </a:r>
                      <a:r>
                        <a:rPr b="1" lang="en-US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ea typeface="Arial"/>
                        </a:rPr>
                        <a:t>productivity lo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905120" y="2743200"/>
          <a:ext cx="3657600" cy="3301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330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cerns about system </a:t>
                      </a:r>
                      <a:r>
                        <a:rPr b="1" lang="en-US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ea typeface="Arial"/>
                        </a:rPr>
                        <a:t>obsolesce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581280" y="3505320"/>
          <a:ext cx="2895840" cy="330120"/>
        </p:xfrm>
        <a:graphic>
          <a:graphicData uri="http://schemas.openxmlformats.org/drawingml/2006/table">
            <a:tbl>
              <a:tblPr/>
              <a:tblGrid>
                <a:gridCol w="2895840"/>
              </a:tblGrid>
              <a:tr h="330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ding an EHR to </a:t>
                      </a:r>
                      <a:r>
                        <a:rPr b="1" lang="en-US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ea typeface="Arial"/>
                        </a:rPr>
                        <a:t>meet need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209680" y="4343400"/>
          <a:ext cx="3810240" cy="33012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330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certainty of return on investment </a:t>
                      </a:r>
                      <a:r>
                        <a:rPr b="1" lang="en-US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ea typeface="Arial"/>
                        </a:rPr>
                        <a:t>(RO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257800" y="5105520"/>
          <a:ext cx="2438280" cy="33012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33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ount of </a:t>
                      </a:r>
                      <a:r>
                        <a:rPr b="1" lang="en-US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ea typeface="Arial"/>
                        </a:rPr>
                        <a:t>capital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eed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39"/>
          <p:cNvSpPr/>
          <p:nvPr/>
        </p:nvSpPr>
        <p:spPr>
          <a:xfrm>
            <a:off x="212400" y="372960"/>
            <a:ext cx="89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Barriers to Adoption of Electronic Health Rec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0" descr="Doctor using a computer"/>
          <p:cNvPicPr/>
          <p:nvPr/>
        </p:nvPicPr>
        <p:blipFill>
          <a:blip r:embed="rId2"/>
          <a:stretch/>
        </p:blipFill>
        <p:spPr>
          <a:xfrm>
            <a:off x="7086600" y="990720"/>
            <a:ext cx="1574640" cy="23619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2"/>
          <p:cNvSpPr/>
          <p:nvPr/>
        </p:nvSpPr>
        <p:spPr>
          <a:xfrm>
            <a:off x="457200" y="6095880"/>
            <a:ext cx="579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Roches, V, et. al.; Electronic Health Records in Ambulatory Care — A National Survey of Physicians N Engl J Med July 2008;359:50-60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9000" y="1821960"/>
            <a:ext cx="8404200" cy="250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ckoning that all such matters should be kept secret…”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132080" y="5009760"/>
            <a:ext cx="4292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ppocratic O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6:47:56Z</dcterms:created>
  <dc:creator>David Hunt</dc:creator>
  <dc:description/>
  <dc:language>en-US</dc:language>
  <cp:lastModifiedBy>DHHS</cp:lastModifiedBy>
  <dcterms:modified xsi:type="dcterms:W3CDTF">2009-12-15T18:05:10Z</dcterms:modified>
  <cp:revision>2038</cp:revision>
  <dc:subject/>
  <dc:title>Health 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