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 Children of Immigrant Parents Assimilate into Public Health Insurance? A Dynamic Analy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ie Hud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uriy Pylypch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10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ady st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R be 2X2 transition matrix, where the element of the matrix, represents the predicted probability of moving from state k to state 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ote the row vector of participating in public coverage  or having other insurance status in steady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element in matrix P,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 of the binary covariate, X, on steady-state probability is simpl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ression informs us of the long run effects of a specific covariate on the likelihood of being in public cove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05120" y="3733920"/>
                <a:ext cx="3124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4952880"/>
                <a:ext cx="3657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ent Characteristics of Eligible Childre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Parental Nativity &amp; Stay in the U.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676760"/>
        </p:xfrm>
        <a:graphic>
          <a:graphicData uri="http://schemas.openxmlformats.org/drawingml/2006/table">
            <a:tbl>
              <a:tblPr/>
              <a:tblGrid>
                <a:gridCol w="1219320"/>
                <a:gridCol w="1066680"/>
                <a:gridCol w="1066680"/>
                <a:gridCol w="1143000"/>
                <a:gridCol w="1219320"/>
                <a:gridCol w="1338120"/>
                <a:gridCol w="11764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th N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mmi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5 y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 y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5 y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5 y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M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9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0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S d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S d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1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127"/>
          <p:cNvSpPr/>
          <p:nvPr/>
        </p:nvSpPr>
        <p:spPr>
          <a:xfrm>
            <a:off x="372240" y="64008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ificantly different from Both Native: * 10% **5% ***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ition Matrix 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an Probability of Trans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523880"/>
          <a:ext cx="8153280" cy="4896000"/>
        </p:xfrm>
        <a:graphic>
          <a:graphicData uri="http://schemas.openxmlformats.org/drawingml/2006/table">
            <a:tbl>
              <a:tblPr/>
              <a:tblGrid>
                <a:gridCol w="2514600"/>
                <a:gridCol w="914400"/>
                <a:gridCol w="1143000"/>
                <a:gridCol w="1218960"/>
                <a:gridCol w="1219320"/>
                <a:gridCol w="1143000"/>
              </a:tblGrid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th N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5 yr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 yr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5 y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5 yr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ther is an Immigr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 into Public Co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 of Public Covera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ather is an Immigr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 into Public Co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 of Public Coverag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rete Hazard Results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ther’s Stay - 2 Parent H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F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F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lt;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10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23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9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63"/>
          <p:cNvSpPr/>
          <p:nvPr/>
        </p:nvSpPr>
        <p:spPr>
          <a:xfrm>
            <a:off x="451440" y="64008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amp; Comparison group: Children with two Nativ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rete Hazard Result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ther’s Stay - 2 Parent H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M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M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lt;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10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30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28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48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60"/>
          <p:cNvSpPr/>
          <p:nvPr/>
        </p:nvSpPr>
        <p:spPr>
          <a:xfrm>
            <a:off x="511920" y="62136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amp; Comparison group: Children with two Nativ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rete Hazard Results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ther Characteristics - 2 Parent H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889520"/>
        </p:xfrm>
        <a:graphic>
          <a:graphicData uri="http://schemas.openxmlformats.org/drawingml/2006/table">
            <a:tbl>
              <a:tblPr/>
              <a:tblGrid>
                <a:gridCol w="3962520"/>
                <a:gridCol w="198108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migrant Citi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5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mig Non-Citi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5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gh School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3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lege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27*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gh School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6*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12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lege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35*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rete Hazard Results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ent Stay - 1 Parent H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359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Parent (&amp;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Parent (&amp;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lt;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0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10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3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1"/>
          <p:cNvSpPr/>
          <p:nvPr/>
        </p:nvSpPr>
        <p:spPr>
          <a:xfrm>
            <a:off x="361800" y="628956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arison group: Native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ady State (Probability Enrolled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Parent’s Stay: 2 Parent H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39596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828800"/>
                <a:gridCol w="1600200"/>
                <a:gridCol w="182880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F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F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M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 M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lt;5 y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10 y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 y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9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15 y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9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8229600" cy="15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ady State (Probability Enrolled)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Parent Stay: 1 Parent H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486080"/>
          <a:ext cx="8229600" cy="3956040"/>
        </p:xfrm>
        <a:graphic>
          <a:graphicData uri="http://schemas.openxmlformats.org/drawingml/2006/table">
            <a:tbl>
              <a:tblPr/>
              <a:tblGrid>
                <a:gridCol w="1981080"/>
                <a:gridCol w="2667240"/>
                <a:gridCol w="35812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 Immigrant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itizen Immigrant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lt;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10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&gt;15 yea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6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 and Policy Impl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, participation rates among children of immigrant and native born parents are very 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 depend on household structure and nativity status of a mother o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 of Entry into public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 for children with citizen immigrant fa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for children with non-citizen immigra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 of Retaining public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depend on the nativity status of child’s f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 for children with non-citizen immigra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one parent households, children with a foreign born parent exhibit assimilation out of public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rance status among children with native parents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7% 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%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%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rance status among children with at least one foreign born parent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% 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%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 and Policy Impl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parental education and being an immigrant child affect entry into and retention of public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– attitudes to public porgrams and/or job opportunit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ign born child - Chilling eff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, results are robust to alternative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vidence of assimilation into public coverage among children with foreign born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ry to the literature on adult immigrants’ participation in welfar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of immigrant parents are more likely to participate in public coverage than natives by 12 percentage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with immigrant participation in other public programs (AFDC, Food Stam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iss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implications for Medicaid and S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overage prevents access to care among children =&gt; future burd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Iss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a child’s participation in public coverage depend on his/her parent’s stay in the U.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ensity to participate can increase, decrease, or remain the same with parents length of stay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ecreases =&gt; children of immigrant parents assimilate out of public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creases =&gt; children of immigrant parents exhibit increasing welfare dependence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among adults for AFDC/TAN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a parent’s length of stay in the U.S affect eligible children’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ie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o public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blic cover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differential effects of immigration- citizenship status of Mothers versus Father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a child’s own immigration- citizenship status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y/reten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immigration characteristics affect a child’s participation in public coverage in the stead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jas and Trejo (1991), Wei-Yin Hu (199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immigrants assimilate into welfare programs in the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son and Lofstrom.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grants assimilate out of welfare in 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e 2000, Buchmuler et al.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P expansion increased participation in public coverage among children with foreign born household h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 et al., 200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 among private, pubic, and no insurance. No immigrants characteristics in the model. Hispanics are more likely to enter public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Expenditures Panel Survey (MEPS), Years 1996-2005, panels 1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ear old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le for Medicaid or CHI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quarterly transitions from and to public coverage over two year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with missing coverage for 3 months in a 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who appeared in survey for 3 months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without any parent or head of the hous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gibility criteria varies ann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bout immigrants is extracted from National Health Interview Surv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models we control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quarterly unemploymen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 education and health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’s health status, region and MSA, race and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odels are estimated separately for two and one parent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 of entering public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years of stay in the U.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 of retaining public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control for initi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control for unobserved heterogene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98520" y="2133720"/>
                <a:ext cx="601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δ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γ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362240" y="3886200"/>
                <a:ext cx="6038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sa</cp:lastModifiedBy>
  <cp:lastPrinted>2003-01-21T20:19:23Z</cp:lastPrinted>
  <dcterms:modified xsi:type="dcterms:W3CDTF">2009-10-28T16:08:58Z</dcterms:modified>
  <cp:revision>110</cp:revision>
  <dc:subject/>
  <dc:title>AHRQ Slide Template 2004</dc:title>
</cp:coreProperties>
</file>