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3F9E-7C0B-4C3C-AD26-9312B0808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816F-43BF-4564-9689-E5A20C3EB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CCE0-4959-4F01-9819-9FA8F85CC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77A8-247F-4DAC-836F-A667E89B6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E555-C7F7-4C69-ADB7-6997B7AA2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C0E-B2A5-44C7-A56C-3A8337C7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C2D-5FDF-4613-9990-44E29C0B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AF1-CBE8-4237-8A71-E44F99B0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DF9-A46B-48EF-A9DB-F99FA1C4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0D9-F7BD-4620-A137-288D41FB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7B9-700C-4D26-9189-D64F692D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0D4-FA18-46A0-961F-8BB0155C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449-59E1-4E2D-AA16-411005C2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BD2-45CD-4CB8-9079-BABC3AE1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420-0844-481D-868D-DC0A1AB4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177-694B-493C-A64C-AB20E2B6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418-B745-403A-8A4C-539C9D18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7BF9-1413-496A-AB8F-4F41AC7AD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SU Health Services Research Progra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LSU HSR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n Horswell, P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SU HSRP themes: Disparities and Underserved Patient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 pay” does wo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racial disparities on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isparities on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across clinics within sites is greater than variation across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patient subgroups with persistent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get patients to “in-care” status and keep them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ar graph of eye exam within past year. Fraction of Unique Pati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bar graph of eye exam within past year.pc sustain, pc new, pc 1year, pc 2year, pc none. Fraction of unique pati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bar graph of fraction with HbA1c under 7%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bar graph with fraction with HbA1c under 7% for pc sustain, pc new, pc 1year, pc 2year, and pc 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valuation of a telemedicine diabetes foot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Barriers to diabetic eye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ffect of indigent pharmacy medic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Mortality benefit of a HF disease managemen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 patient registr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Cost effectiveness of using BNP as a screener for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Heart failure acute event predic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OBACCO: Survey assessing patterns of tobacco use among HCSD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TN: Hypertension management using group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ONATES: IT network supporting preventive services for at-risk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Racial disparities and qualify of care in disease management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Decomposition of sources of variation in disease management performanc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Comparison of mammography screening levels across three population (Medicare, Medicaid, and the Uninsu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screening mammography to tumor stage at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tumor stage at diagnosis to surviva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152280" y="30481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" name="AutoShap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8"/>
            <p:cNvSpPr/>
            <p:nvPr/>
          </p:nvSpPr>
          <p:spPr>
            <a:xfrm>
              <a:off x="76320" y="73080"/>
              <a:ext cx="8994600" cy="6710400"/>
            </a:xfrm>
            <a:prstGeom prst="rect">
              <a:avLst/>
            </a:prstGeom>
            <a:solidFill>
              <a:srgbClr val="eaf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9"/>
            <p:cNvSpPr/>
            <p:nvPr/>
          </p:nvSpPr>
          <p:spPr>
            <a:xfrm>
              <a:off x="82440" y="84240"/>
              <a:ext cx="8982360" cy="6688080"/>
            </a:xfrm>
            <a:prstGeom prst="rect">
              <a:avLst/>
            </a:prstGeom>
            <a:solidFill>
              <a:srgbClr val="eaf2f3"/>
            </a:solidFill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0"/>
            <p:cNvSpPr/>
            <p:nvPr/>
          </p:nvSpPr>
          <p:spPr>
            <a:xfrm>
              <a:off x="1138320" y="1049400"/>
              <a:ext cx="7692840" cy="4811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1138320" y="5248440"/>
              <a:ext cx="7697880" cy="144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>
              <a:off x="1138320" y="4767120"/>
              <a:ext cx="7697880" cy="180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1138320" y="4292640"/>
              <a:ext cx="7697880" cy="144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>
              <a:off x="1138320" y="3817800"/>
              <a:ext cx="7697880" cy="180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5"/>
            <p:cNvSpPr/>
            <p:nvPr/>
          </p:nvSpPr>
          <p:spPr>
            <a:xfrm>
              <a:off x="1138320" y="3338640"/>
              <a:ext cx="7697880" cy="144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6"/>
            <p:cNvSpPr/>
            <p:nvPr/>
          </p:nvSpPr>
          <p:spPr>
            <a:xfrm>
              <a:off x="1138320" y="2863800"/>
              <a:ext cx="7697880" cy="180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1138320" y="2389320"/>
              <a:ext cx="7697880" cy="144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1138320" y="1909800"/>
              <a:ext cx="7697880" cy="144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1138320" y="1434960"/>
              <a:ext cx="7697880" cy="180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1138320" y="4186080"/>
              <a:ext cx="7697880" cy="1800"/>
            </a:xfrm>
            <a:prstGeom prst="line">
              <a:avLst/>
            </a:prstGeom>
            <a:ln w="0">
              <a:solidFill>
                <a:srgbClr val="c105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1650960" y="1266840"/>
              <a:ext cx="7043760" cy="2925720"/>
            </a:xfrm>
            <a:prstGeom prst="pie">
              <a:avLst/>
            </a:prstGeom>
            <a:noFill/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2"/>
            <p:cNvSpPr/>
            <p:nvPr/>
          </p:nvSpPr>
          <p:spPr>
            <a:xfrm>
              <a:off x="1601640" y="1217520"/>
              <a:ext cx="9216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3"/>
            <p:cNvSpPr/>
            <p:nvPr/>
          </p:nvSpPr>
          <p:spPr>
            <a:xfrm>
              <a:off x="1971720" y="1843200"/>
              <a:ext cx="93600" cy="10008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4"/>
            <p:cNvSpPr/>
            <p:nvPr/>
          </p:nvSpPr>
          <p:spPr>
            <a:xfrm>
              <a:off x="2343240" y="2282760"/>
              <a:ext cx="9216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5"/>
            <p:cNvSpPr/>
            <p:nvPr/>
          </p:nvSpPr>
          <p:spPr>
            <a:xfrm>
              <a:off x="2712960" y="2606760"/>
              <a:ext cx="92160" cy="10152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6"/>
            <p:cNvSpPr/>
            <p:nvPr/>
          </p:nvSpPr>
          <p:spPr>
            <a:xfrm>
              <a:off x="3083040" y="2941560"/>
              <a:ext cx="93600" cy="10152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7"/>
            <p:cNvSpPr/>
            <p:nvPr/>
          </p:nvSpPr>
          <p:spPr>
            <a:xfrm>
              <a:off x="3454560" y="3143160"/>
              <a:ext cx="9180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8"/>
            <p:cNvSpPr/>
            <p:nvPr/>
          </p:nvSpPr>
          <p:spPr>
            <a:xfrm>
              <a:off x="3824280" y="3305160"/>
              <a:ext cx="9828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9"/>
            <p:cNvSpPr/>
            <p:nvPr/>
          </p:nvSpPr>
          <p:spPr>
            <a:xfrm>
              <a:off x="4194000" y="3427560"/>
              <a:ext cx="98640" cy="10152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0"/>
            <p:cNvSpPr/>
            <p:nvPr/>
          </p:nvSpPr>
          <p:spPr>
            <a:xfrm>
              <a:off x="4565520" y="3551400"/>
              <a:ext cx="98640" cy="936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1"/>
            <p:cNvSpPr/>
            <p:nvPr/>
          </p:nvSpPr>
          <p:spPr>
            <a:xfrm>
              <a:off x="4935600" y="3651120"/>
              <a:ext cx="9828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2"/>
            <p:cNvSpPr/>
            <p:nvPr/>
          </p:nvSpPr>
          <p:spPr>
            <a:xfrm>
              <a:off x="5307120" y="3706920"/>
              <a:ext cx="96840" cy="9504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3"/>
            <p:cNvSpPr/>
            <p:nvPr/>
          </p:nvSpPr>
          <p:spPr>
            <a:xfrm>
              <a:off x="5676840" y="3757680"/>
              <a:ext cx="98640" cy="10008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4"/>
            <p:cNvSpPr/>
            <p:nvPr/>
          </p:nvSpPr>
          <p:spPr>
            <a:xfrm>
              <a:off x="6046920" y="3817800"/>
              <a:ext cx="98280" cy="10188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5"/>
            <p:cNvSpPr/>
            <p:nvPr/>
          </p:nvSpPr>
          <p:spPr>
            <a:xfrm>
              <a:off x="6418440" y="3890880"/>
              <a:ext cx="96840" cy="10008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6788160" y="3924360"/>
              <a:ext cx="98280" cy="10008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7157880" y="3975120"/>
              <a:ext cx="9864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8"/>
            <p:cNvSpPr/>
            <p:nvPr/>
          </p:nvSpPr>
          <p:spPr>
            <a:xfrm>
              <a:off x="7534440" y="4008600"/>
              <a:ext cx="98280" cy="9504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9"/>
            <p:cNvSpPr/>
            <p:nvPr/>
          </p:nvSpPr>
          <p:spPr>
            <a:xfrm>
              <a:off x="7904160" y="4052880"/>
              <a:ext cx="9828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0"/>
            <p:cNvSpPr/>
            <p:nvPr/>
          </p:nvSpPr>
          <p:spPr>
            <a:xfrm>
              <a:off x="8275680" y="4097160"/>
              <a:ext cx="9828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1"/>
            <p:cNvSpPr/>
            <p:nvPr/>
          </p:nvSpPr>
          <p:spPr>
            <a:xfrm>
              <a:off x="8645400" y="4141800"/>
              <a:ext cx="9864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2"/>
            <p:cNvSpPr/>
            <p:nvPr/>
          </p:nvSpPr>
          <p:spPr>
            <a:xfrm flipV="1">
              <a:off x="1138320" y="1049040"/>
              <a:ext cx="1440" cy="481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3"/>
            <p:cNvSpPr/>
            <p:nvPr/>
          </p:nvSpPr>
          <p:spPr>
            <a:xfrm flipH="1">
              <a:off x="1046160" y="5721480"/>
              <a:ext cx="9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4"/>
            <p:cNvSpPr/>
            <p:nvPr/>
          </p:nvSpPr>
          <p:spPr>
            <a:xfrm>
              <a:off x="768240" y="55990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5"/>
            <p:cNvSpPr/>
            <p:nvPr/>
          </p:nvSpPr>
          <p:spPr>
            <a:xfrm flipH="1">
              <a:off x="1046160" y="5248440"/>
              <a:ext cx="9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6"/>
            <p:cNvSpPr/>
            <p:nvPr/>
          </p:nvSpPr>
          <p:spPr>
            <a:xfrm>
              <a:off x="571680" y="512460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06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7"/>
            <p:cNvSpPr/>
            <p:nvPr/>
          </p:nvSpPr>
          <p:spPr>
            <a:xfrm flipH="1">
              <a:off x="1046160" y="4767120"/>
              <a:ext cx="92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8"/>
            <p:cNvSpPr/>
            <p:nvPr/>
          </p:nvSpPr>
          <p:spPr>
            <a:xfrm>
              <a:off x="571680" y="464976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1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9"/>
            <p:cNvSpPr/>
            <p:nvPr/>
          </p:nvSpPr>
          <p:spPr>
            <a:xfrm flipH="1">
              <a:off x="1046160" y="4292640"/>
              <a:ext cx="9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50"/>
            <p:cNvSpPr/>
            <p:nvPr/>
          </p:nvSpPr>
          <p:spPr>
            <a:xfrm>
              <a:off x="571680" y="417024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18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1"/>
            <p:cNvSpPr/>
            <p:nvPr/>
          </p:nvSpPr>
          <p:spPr>
            <a:xfrm flipH="1">
              <a:off x="1046160" y="3817800"/>
              <a:ext cx="92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52"/>
            <p:cNvSpPr/>
            <p:nvPr/>
          </p:nvSpPr>
          <p:spPr>
            <a:xfrm>
              <a:off x="571680" y="369576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24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3"/>
            <p:cNvSpPr/>
            <p:nvPr/>
          </p:nvSpPr>
          <p:spPr>
            <a:xfrm flipH="1">
              <a:off x="1046160" y="3338640"/>
              <a:ext cx="9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54"/>
            <p:cNvSpPr/>
            <p:nvPr/>
          </p:nvSpPr>
          <p:spPr>
            <a:xfrm>
              <a:off x="703440" y="322092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5"/>
            <p:cNvSpPr/>
            <p:nvPr/>
          </p:nvSpPr>
          <p:spPr>
            <a:xfrm flipH="1">
              <a:off x="1046160" y="2863800"/>
              <a:ext cx="92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6"/>
            <p:cNvSpPr/>
            <p:nvPr/>
          </p:nvSpPr>
          <p:spPr>
            <a:xfrm>
              <a:off x="571680" y="274176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36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 flipH="1">
              <a:off x="1046160" y="2389320"/>
              <a:ext cx="9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58"/>
            <p:cNvSpPr/>
            <p:nvPr/>
          </p:nvSpPr>
          <p:spPr>
            <a:xfrm>
              <a:off x="571680" y="226692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4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59"/>
            <p:cNvSpPr/>
            <p:nvPr/>
          </p:nvSpPr>
          <p:spPr>
            <a:xfrm flipH="1">
              <a:off x="1046160" y="1909800"/>
              <a:ext cx="9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0"/>
            <p:cNvSpPr/>
            <p:nvPr/>
          </p:nvSpPr>
          <p:spPr>
            <a:xfrm>
              <a:off x="571680" y="179244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48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1"/>
            <p:cNvSpPr/>
            <p:nvPr/>
          </p:nvSpPr>
          <p:spPr>
            <a:xfrm flipH="1">
              <a:off x="1046160" y="1434960"/>
              <a:ext cx="92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62"/>
            <p:cNvSpPr/>
            <p:nvPr/>
          </p:nvSpPr>
          <p:spPr>
            <a:xfrm>
              <a:off x="571680" y="131292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54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3"/>
            <p:cNvSpPr/>
            <p:nvPr/>
          </p:nvSpPr>
          <p:spPr>
            <a:xfrm rot="16200000">
              <a:off x="-1807560" y="3320280"/>
              <a:ext cx="455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cumulative Average Event per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64"/>
            <p:cNvSpPr/>
            <p:nvPr/>
          </p:nvSpPr>
          <p:spPr>
            <a:xfrm>
              <a:off x="1138320" y="5867280"/>
              <a:ext cx="7697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65"/>
            <p:cNvSpPr/>
            <p:nvPr/>
          </p:nvSpPr>
          <p:spPr>
            <a:xfrm>
              <a:off x="127944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66"/>
            <p:cNvSpPr/>
            <p:nvPr/>
          </p:nvSpPr>
          <p:spPr>
            <a:xfrm>
              <a:off x="1163520" y="60069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67"/>
            <p:cNvSpPr/>
            <p:nvPr/>
          </p:nvSpPr>
          <p:spPr>
            <a:xfrm>
              <a:off x="165096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8"/>
            <p:cNvSpPr/>
            <p:nvPr/>
          </p:nvSpPr>
          <p:spPr>
            <a:xfrm>
              <a:off x="1535040" y="60069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69"/>
            <p:cNvSpPr/>
            <p:nvPr/>
          </p:nvSpPr>
          <p:spPr>
            <a:xfrm>
              <a:off x="202104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70"/>
            <p:cNvSpPr/>
            <p:nvPr/>
          </p:nvSpPr>
          <p:spPr>
            <a:xfrm>
              <a:off x="184032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1"/>
            <p:cNvSpPr/>
            <p:nvPr/>
          </p:nvSpPr>
          <p:spPr>
            <a:xfrm>
              <a:off x="239220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2"/>
            <p:cNvSpPr/>
            <p:nvPr/>
          </p:nvSpPr>
          <p:spPr>
            <a:xfrm>
              <a:off x="221184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3"/>
            <p:cNvSpPr/>
            <p:nvPr/>
          </p:nvSpPr>
          <p:spPr>
            <a:xfrm>
              <a:off x="276228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4"/>
            <p:cNvSpPr/>
            <p:nvPr/>
          </p:nvSpPr>
          <p:spPr>
            <a:xfrm>
              <a:off x="258156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5"/>
            <p:cNvSpPr/>
            <p:nvPr/>
          </p:nvSpPr>
          <p:spPr>
            <a:xfrm>
              <a:off x="313200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6"/>
            <p:cNvSpPr/>
            <p:nvPr/>
          </p:nvSpPr>
          <p:spPr>
            <a:xfrm>
              <a:off x="295164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7"/>
            <p:cNvSpPr/>
            <p:nvPr/>
          </p:nvSpPr>
          <p:spPr>
            <a:xfrm>
              <a:off x="350352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78"/>
            <p:cNvSpPr/>
            <p:nvPr/>
          </p:nvSpPr>
          <p:spPr>
            <a:xfrm>
              <a:off x="332316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79"/>
            <p:cNvSpPr/>
            <p:nvPr/>
          </p:nvSpPr>
          <p:spPr>
            <a:xfrm>
              <a:off x="387360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0"/>
            <p:cNvSpPr/>
            <p:nvPr/>
          </p:nvSpPr>
          <p:spPr>
            <a:xfrm>
              <a:off x="369288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1"/>
            <p:cNvSpPr/>
            <p:nvPr/>
          </p:nvSpPr>
          <p:spPr>
            <a:xfrm>
              <a:off x="424332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82"/>
            <p:cNvSpPr/>
            <p:nvPr/>
          </p:nvSpPr>
          <p:spPr>
            <a:xfrm>
              <a:off x="406260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83"/>
            <p:cNvSpPr/>
            <p:nvPr/>
          </p:nvSpPr>
          <p:spPr>
            <a:xfrm>
              <a:off x="461484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84"/>
            <p:cNvSpPr/>
            <p:nvPr/>
          </p:nvSpPr>
          <p:spPr>
            <a:xfrm>
              <a:off x="443412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5"/>
            <p:cNvSpPr/>
            <p:nvPr/>
          </p:nvSpPr>
          <p:spPr>
            <a:xfrm>
              <a:off x="498492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86"/>
            <p:cNvSpPr/>
            <p:nvPr/>
          </p:nvSpPr>
          <p:spPr>
            <a:xfrm>
              <a:off x="480420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7"/>
            <p:cNvSpPr/>
            <p:nvPr/>
          </p:nvSpPr>
          <p:spPr>
            <a:xfrm>
              <a:off x="535464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8"/>
            <p:cNvSpPr/>
            <p:nvPr/>
          </p:nvSpPr>
          <p:spPr>
            <a:xfrm>
              <a:off x="517392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89"/>
            <p:cNvSpPr/>
            <p:nvPr/>
          </p:nvSpPr>
          <p:spPr>
            <a:xfrm>
              <a:off x="572616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90"/>
            <p:cNvSpPr/>
            <p:nvPr/>
          </p:nvSpPr>
          <p:spPr>
            <a:xfrm>
              <a:off x="554544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91"/>
            <p:cNvSpPr/>
            <p:nvPr/>
          </p:nvSpPr>
          <p:spPr>
            <a:xfrm>
              <a:off x="609588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92"/>
            <p:cNvSpPr/>
            <p:nvPr/>
          </p:nvSpPr>
          <p:spPr>
            <a:xfrm>
              <a:off x="591552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93"/>
            <p:cNvSpPr/>
            <p:nvPr/>
          </p:nvSpPr>
          <p:spPr>
            <a:xfrm>
              <a:off x="646596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94"/>
            <p:cNvSpPr/>
            <p:nvPr/>
          </p:nvSpPr>
          <p:spPr>
            <a:xfrm>
              <a:off x="628524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5"/>
            <p:cNvSpPr/>
            <p:nvPr/>
          </p:nvSpPr>
          <p:spPr>
            <a:xfrm>
              <a:off x="683748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96"/>
            <p:cNvSpPr/>
            <p:nvPr/>
          </p:nvSpPr>
          <p:spPr>
            <a:xfrm>
              <a:off x="665676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7"/>
            <p:cNvSpPr/>
            <p:nvPr/>
          </p:nvSpPr>
          <p:spPr>
            <a:xfrm>
              <a:off x="720720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8"/>
            <p:cNvSpPr/>
            <p:nvPr/>
          </p:nvSpPr>
          <p:spPr>
            <a:xfrm>
              <a:off x="702648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99"/>
            <p:cNvSpPr/>
            <p:nvPr/>
          </p:nvSpPr>
          <p:spPr>
            <a:xfrm>
              <a:off x="758340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00"/>
            <p:cNvSpPr/>
            <p:nvPr/>
          </p:nvSpPr>
          <p:spPr>
            <a:xfrm>
              <a:off x="740304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01"/>
            <p:cNvSpPr/>
            <p:nvPr/>
          </p:nvSpPr>
          <p:spPr>
            <a:xfrm>
              <a:off x="795348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02"/>
            <p:cNvSpPr/>
            <p:nvPr/>
          </p:nvSpPr>
          <p:spPr>
            <a:xfrm>
              <a:off x="777276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3"/>
            <p:cNvSpPr/>
            <p:nvPr/>
          </p:nvSpPr>
          <p:spPr>
            <a:xfrm>
              <a:off x="832500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4"/>
            <p:cNvSpPr/>
            <p:nvPr/>
          </p:nvSpPr>
          <p:spPr>
            <a:xfrm>
              <a:off x="814428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05"/>
            <p:cNvSpPr/>
            <p:nvPr/>
          </p:nvSpPr>
          <p:spPr>
            <a:xfrm>
              <a:off x="869472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6"/>
            <p:cNvSpPr/>
            <p:nvPr/>
          </p:nvSpPr>
          <p:spPr>
            <a:xfrm>
              <a:off x="8447760" y="6006960"/>
              <a:ext cx="40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07"/>
            <p:cNvSpPr/>
            <p:nvPr/>
          </p:nvSpPr>
          <p:spPr>
            <a:xfrm>
              <a:off x="3004920" y="6234120"/>
              <a:ext cx="4301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ractiles by Descending Predicted Prob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8"/>
            <p:cNvSpPr/>
            <p:nvPr/>
          </p:nvSpPr>
          <p:spPr>
            <a:xfrm>
              <a:off x="370800" y="317520"/>
              <a:ext cx="8484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1e2d53"/>
                  </a:solidFill>
                  <a:latin typeface="Arial"/>
                </a:rPr>
                <a:t>CONCENTRATION ANALYSIS FOR GENERAL EV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09"/>
            <p:cNvSpPr/>
            <p:nvPr/>
          </p:nvSpPr>
          <p:spPr>
            <a:xfrm>
              <a:off x="2493000" y="647640"/>
              <a:ext cx="50072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1e2d53"/>
                  </a:solidFill>
                  <a:latin typeface="Arial"/>
                </a:rPr>
                <a:t>Events Saved Per Patient Treate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107"/>
          <p:cNvSpPr/>
          <p:nvPr/>
        </p:nvSpPr>
        <p:spPr>
          <a:xfrm>
            <a:off x="3051720" y="144792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-axis = Accumulative  Average Events per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8"/>
          <p:cNvSpPr/>
          <p:nvPr/>
        </p:nvSpPr>
        <p:spPr>
          <a:xfrm>
            <a:off x="2590920" y="45720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verage event per patient = 413/1883 = 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109"/>
          <p:cNvCxnSpPr/>
          <p:nvPr/>
        </p:nvCxnSpPr>
        <p:spPr>
          <a:xfrm flipV="1">
            <a:off x="4114800" y="4190760"/>
            <a:ext cx="76680" cy="3052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hart of HbA1c over ti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4876920" y="5867280"/>
            <a:ext cx="761760" cy="228600"/>
          </a:xfrm>
          <a:prstGeom prst="rect">
            <a:avLst/>
          </a:prstGeom>
          <a:solidFill>
            <a:srgbClr val="c4e4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valuation of a telemedicine diabetes foot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Barriers to diabetic eye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ffect of indigent pharmacy medic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Mortality benefit of a HF disease managemen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 patient registr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Cost effectiveness of using BNP as a screener for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Heart failure acute event predic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OBACCO: Survey assessing patterns of tobacco use among HCSD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TN: Hypertension management using group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ONATES: IT network supporting preventive services for at-risk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Racial disparities and qualify of care in disease management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Decomposition of sources of variation in disease management performanc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Comparison of mammography screening levels across three population (Medicare, Medicaid, and the Uninsu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screening mammography to tumor stage at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tumor stage at diagnosis to surviva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152280" y="27432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chart of relative cost effectiveness a funtion of cost of BNP, cost of Echocardiography, Prevalence of undiagnosed HF, Sensitivity of status quo, specificity of status qu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1219320" y="2362320"/>
            <a:ext cx="4267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cost effectiveness a function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B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Echocard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alence of undiagnosed H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ensitivity of status q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ity of status q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U HS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: Accelerating translation of evidence into practice, emphasizing topics of importance to the LSU Health Care Services Division (LSU HCSD), a provider system serving low-income, predominantly uninsured pat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ed by AHRQ from 2001 to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P.I. was Fred Cerise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valuation of a telemedicine diabetes foot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Barriers to diabetic eye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ffect of indigent pharmacy medic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Mortality benefit of a HF disease managemen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 patient registr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Cost effectiveness of using BNP as a screener for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Heart failure acute event predic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OBACCO: Survey assessing patterns of tobacco use among HCSD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TN: Hypertension management using group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ONATES: IT network supporting preventive services for at-risk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Racial disparities and qualify of care in disease management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Decomposition of sources of variation in disease management performanc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Comparison of mammography screening levels across three population (Medicare, Medicaid, and the Uninsu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screening mammography to tumor stage at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tumor stage at diagnosis to surviva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52280" y="5562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Line 2"/>
          <p:cNvSpPr/>
          <p:nvPr/>
        </p:nvSpPr>
        <p:spPr>
          <a:xfrm>
            <a:off x="838080" y="6248520"/>
            <a:ext cx="7543800" cy="0"/>
          </a:xfrm>
          <a:prstGeom prst="line">
            <a:avLst/>
          </a:prstGeom>
          <a:ln w="76320">
            <a:solidFill>
              <a:srgbClr val="8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609480" y="914400"/>
            <a:ext cx="7620120" cy="0"/>
          </a:xfrm>
          <a:prstGeom prst="line">
            <a:avLst/>
          </a:prstGeom>
          <a:ln w="38160">
            <a:solidFill>
              <a:srgbClr val="8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57200" y="64008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533520" y="3049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HEDIS</a:t>
            </a:r>
            <a:r>
              <a:rPr b="1" lang="en-US" sz="2800" spc="-1" strike="noStrike" baseline="30000">
                <a:solidFill>
                  <a:srgbClr val="820000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 Measure B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447920" y="6324480"/>
            <a:ext cx="675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ULM </a:t>
            </a:r>
            <a:r>
              <a:rPr b="0" i="1" lang="en-US" sz="1200" spc="-1" strike="noStrike">
                <a:solidFill>
                  <a:srgbClr val="8200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College of Pharmacy </a:t>
            </a:r>
            <a:r>
              <a:rPr b="0" i="1" lang="en-US" sz="1200" spc="-1" strike="noStrike">
                <a:solidFill>
                  <a:srgbClr val="820000"/>
                </a:solidFill>
                <a:latin typeface="Wingdings"/>
                <a:ea typeface="Wingdings"/>
              </a:rPr>
              <a:t></a:t>
            </a: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 Office of Outcomes Research &amp; Evaluation           January 10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1523880" y="518148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OTE: Graph shows only providers with 10+ recipi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ymbol size proportional to # of recipi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Green line is State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Bubble of HEDIS_ratio * rank = deno"/>
          <p:cNvPicPr/>
          <p:nvPr/>
        </p:nvPicPr>
        <p:blipFill>
          <a:blip r:embed="rId1"/>
          <a:stretch/>
        </p:blipFill>
        <p:spPr>
          <a:xfrm>
            <a:off x="533520" y="990720"/>
            <a:ext cx="6933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2"/>
          <p:cNvSpPr/>
          <p:nvPr/>
        </p:nvSpPr>
        <p:spPr>
          <a:xfrm>
            <a:off x="838080" y="6248520"/>
            <a:ext cx="7543800" cy="0"/>
          </a:xfrm>
          <a:prstGeom prst="line">
            <a:avLst/>
          </a:prstGeom>
          <a:ln w="76320">
            <a:solidFill>
              <a:srgbClr val="8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685800" y="1371600"/>
            <a:ext cx="7620120" cy="0"/>
          </a:xfrm>
          <a:prstGeom prst="line">
            <a:avLst/>
          </a:prstGeom>
          <a:ln w="38160">
            <a:solidFill>
              <a:srgbClr val="8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457200" y="64008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85800" y="685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HEDIS</a:t>
            </a:r>
            <a:r>
              <a:rPr b="1" lang="en-US" sz="2800" spc="-1" strike="noStrike" baseline="30000">
                <a:solidFill>
                  <a:srgbClr val="820000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 Measure B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38080" y="3200400"/>
          <a:ext cx="7010640" cy="2133720"/>
        </p:xfrm>
        <a:graphic>
          <a:graphicData uri="http://schemas.openxmlformats.org/drawingml/2006/table">
            <a:tbl>
              <a:tblPr/>
              <a:tblGrid>
                <a:gridCol w="1193760"/>
                <a:gridCol w="1971720"/>
                <a:gridCol w="1808280"/>
                <a:gridCol w="2036880"/>
              </a:tblGrid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Provider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Denomin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Num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ED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Q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,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2,6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40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2,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6,7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53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,9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38.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1,9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23,1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37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89,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35,6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4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</a:tbl>
          </a:graphicData>
        </a:graphic>
      </p:graphicFrame>
      <p:sp>
        <p:nvSpPr>
          <p:cNvPr id="213" name="Rectangle 46"/>
          <p:cNvSpPr/>
          <p:nvPr/>
        </p:nvSpPr>
        <p:spPr>
          <a:xfrm>
            <a:off x="1447920" y="6324480"/>
            <a:ext cx="675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ULM </a:t>
            </a:r>
            <a:r>
              <a:rPr b="0" i="1" lang="en-US" sz="1200" spc="-1" strike="noStrike">
                <a:solidFill>
                  <a:srgbClr val="8200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College of Pharmacy </a:t>
            </a:r>
            <a:r>
              <a:rPr b="0" i="1" lang="en-US" sz="1200" spc="-1" strike="noStrike">
                <a:solidFill>
                  <a:srgbClr val="820000"/>
                </a:solidFill>
                <a:latin typeface="Wingdings"/>
                <a:ea typeface="Wingdings"/>
              </a:rPr>
              <a:t></a:t>
            </a: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 Office of Outcomes Research &amp; Evaluation           January 10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7"/>
          <p:cNvSpPr/>
          <p:nvPr/>
        </p:nvSpPr>
        <p:spPr>
          <a:xfrm>
            <a:off x="533520" y="18288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BCS – Breast Cancer Screening measures the percentage of women 40 - 69 years of age who had a mammogram to screen for breast canc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9"/>
          <p:cNvSpPr/>
          <p:nvPr/>
        </p:nvSpPr>
        <p:spPr>
          <a:xfrm>
            <a:off x="6172200" y="3962520"/>
            <a:ext cx="11430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838080" y="6248520"/>
            <a:ext cx="7543800" cy="0"/>
          </a:xfrm>
          <a:prstGeom prst="line">
            <a:avLst/>
          </a:prstGeom>
          <a:ln w="76320">
            <a:solidFill>
              <a:srgbClr val="8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609480" y="914400"/>
            <a:ext cx="7620120" cy="0"/>
          </a:xfrm>
          <a:prstGeom prst="line">
            <a:avLst/>
          </a:prstGeom>
          <a:ln w="38160">
            <a:solidFill>
              <a:srgbClr val="8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57200" y="64008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33520" y="3049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HEDIS</a:t>
            </a:r>
            <a:r>
              <a:rPr b="1" lang="en-US" sz="2800" spc="-1" strike="noStrike" baseline="30000">
                <a:solidFill>
                  <a:srgbClr val="820000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 Measure CDC – Eye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447920" y="6324480"/>
            <a:ext cx="675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ULM </a:t>
            </a:r>
            <a:r>
              <a:rPr b="0" i="1" lang="en-US" sz="1200" spc="-1" strike="noStrike">
                <a:solidFill>
                  <a:srgbClr val="8200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College of Pharmacy </a:t>
            </a:r>
            <a:r>
              <a:rPr b="0" i="1" lang="en-US" sz="1200" spc="-1" strike="noStrike">
                <a:solidFill>
                  <a:srgbClr val="820000"/>
                </a:solidFill>
                <a:latin typeface="Wingdings"/>
                <a:ea typeface="Wingdings"/>
              </a:rPr>
              <a:t></a:t>
            </a: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 Office of Outcomes Research &amp; Evaluation           January 10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523880" y="518148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OTE: Graph shows only providers with 10+ recipi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ymbol size proportional to # of recipi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Green line is State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Bubble of HEDIS_ratio * rank = deno"/>
          <p:cNvPicPr/>
          <p:nvPr/>
        </p:nvPicPr>
        <p:blipFill>
          <a:blip r:embed="rId1"/>
          <a:stretch/>
        </p:blipFill>
        <p:spPr>
          <a:xfrm>
            <a:off x="609480" y="1143000"/>
            <a:ext cx="716292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838080" y="6248520"/>
            <a:ext cx="7543800" cy="0"/>
          </a:xfrm>
          <a:prstGeom prst="line">
            <a:avLst/>
          </a:prstGeom>
          <a:ln w="76320">
            <a:solidFill>
              <a:srgbClr val="8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685800" y="1371600"/>
            <a:ext cx="7620120" cy="0"/>
          </a:xfrm>
          <a:prstGeom prst="line">
            <a:avLst/>
          </a:prstGeom>
          <a:ln w="38160">
            <a:solidFill>
              <a:srgbClr val="8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57200" y="64008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85800" y="685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HEDIS</a:t>
            </a:r>
            <a:r>
              <a:rPr b="1" lang="en-US" sz="2800" spc="-1" strike="noStrike" baseline="30000">
                <a:solidFill>
                  <a:srgbClr val="820000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 Measure CDC – Eye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838080" y="3200400"/>
          <a:ext cx="7010640" cy="2138400"/>
        </p:xfrm>
        <a:graphic>
          <a:graphicData uri="http://schemas.openxmlformats.org/drawingml/2006/table">
            <a:tbl>
              <a:tblPr/>
              <a:tblGrid>
                <a:gridCol w="1193760"/>
                <a:gridCol w="1971720"/>
                <a:gridCol w="1808280"/>
                <a:gridCol w="2036880"/>
              </a:tblGrid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Provider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Denomin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Num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ED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Q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,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1,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35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,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4,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59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,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,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33.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2,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10,4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32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6,7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17,2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36.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</a:tbl>
          </a:graphicData>
        </a:graphic>
      </p:graphicFrame>
      <p:sp>
        <p:nvSpPr>
          <p:cNvPr id="228" name="Rectangle 46"/>
          <p:cNvSpPr/>
          <p:nvPr/>
        </p:nvSpPr>
        <p:spPr>
          <a:xfrm>
            <a:off x="1447920" y="6324480"/>
            <a:ext cx="675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ULM </a:t>
            </a:r>
            <a:r>
              <a:rPr b="0" i="1" lang="en-US" sz="1200" spc="-1" strike="noStrike">
                <a:solidFill>
                  <a:srgbClr val="8200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College of Pharmacy </a:t>
            </a:r>
            <a:r>
              <a:rPr b="0" i="1" lang="en-US" sz="1200" spc="-1" strike="noStrike">
                <a:solidFill>
                  <a:srgbClr val="820000"/>
                </a:solidFill>
                <a:latin typeface="Wingdings"/>
                <a:ea typeface="Wingdings"/>
              </a:rPr>
              <a:t></a:t>
            </a: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 Office of Outcomes Research &amp; Evaluation           January 10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533520" y="1828800"/>
            <a:ext cx="815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CDC – Comprehensive Diabetes Care is a set of measures for members 18-75 years of age with type 1 or type 2 diabetes.  The measures include:  eye exam, HbA1c, LDL-C and screening for nephropathy.  Each measure is calculated individually.  Presented in this chart is the CDC-Eye Exam measur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49"/>
          <p:cNvSpPr/>
          <p:nvPr/>
        </p:nvSpPr>
        <p:spPr>
          <a:xfrm>
            <a:off x="6324480" y="4038480"/>
            <a:ext cx="106704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valuation of a telemedicine diabetes foot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Barriers to diabetic eye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ffect of indigent pharmacy medic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Mortality benefit of a HF disease managemen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 patient registr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Cost effectiveness of using BNP as a screener for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Heart failure acute event predic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OBACCO: Survey assessing patterns of tobacco use among HCSD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TN: Hypertension management using group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ONATES: IT network supporting preventive services for at-risk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Racial disparities and qualify of care in disease management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Decomposition of sources of variation in disease management performanc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Comparison of mammography screening levels across three population (Medicare, Medicaid, and the Uninsu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screening mammography to tumor stage at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tumor stage at diagnosis to surviva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152280" y="60199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152280" y="64771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bar graph of distribution of state at diagnosis"/>
          <p:cNvPicPr/>
          <p:nvPr/>
        </p:nvPicPr>
        <p:blipFill>
          <a:blip r:embed="rId1"/>
          <a:stretch/>
        </p:blipFill>
        <p:spPr>
          <a:xfrm>
            <a:off x="0" y="1222200"/>
            <a:ext cx="9144000" cy="5407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tion of Stage at Diagn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chart of survivor functions adjusted for age 55 race Af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ing and Tumor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80880" y="2543040"/>
          <a:ext cx="8458200" cy="28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43040"/>
                    <a:ext cx="845820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Oval 270"/>
          <p:cNvSpPr/>
          <p:nvPr/>
        </p:nvSpPr>
        <p:spPr>
          <a:xfrm>
            <a:off x="7772400" y="2514600"/>
            <a:ext cx="990720" cy="10666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271"/>
          <p:cNvSpPr/>
          <p:nvPr/>
        </p:nvSpPr>
        <p:spPr>
          <a:xfrm>
            <a:off x="7924680" y="3886200"/>
            <a:ext cx="914400" cy="9144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chart of survivor functions adjusted for age 55 race Afm probability of surviv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CSD"/>
          <p:cNvPicPr/>
          <p:nvPr/>
        </p:nvPicPr>
        <p:blipFill>
          <a:blip r:embed="rId1"/>
          <a:stretch/>
        </p:blipFill>
        <p:spPr>
          <a:xfrm>
            <a:off x="609480" y="423720"/>
            <a:ext cx="6858000" cy="6294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81120" y="9903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SU HCSD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304920" y="3124080"/>
            <a:ext cx="8001000" cy="358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838080" y="762120"/>
            <a:ext cx="30492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2743200" y="914400"/>
            <a:ext cx="30492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143000" y="99072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SU Medical Center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rev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048120" y="99072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A. Conway Medical Center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nr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2590920" y="2666880"/>
            <a:ext cx="380880" cy="3049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U HS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recommendations to the LSU HCSD when the LSU HSRP program co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Core Office (partially 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andon mentoring concept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analysis department (partially 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programmatic and purposeful (not 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U HS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. . A distinction exists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research program designed to mentor individual researchers and move them along their career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research program designed to address major needs within client organizations’ patient pop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527040" y="1693800"/>
          <a:ext cx="8089920" cy="4583160"/>
        </p:xfrm>
        <a:graphic>
          <a:graphicData uri="http://schemas.openxmlformats.org/drawingml/2006/table">
            <a:tbl>
              <a:tblPr/>
              <a:tblGrid>
                <a:gridCol w="1201680"/>
                <a:gridCol w="1557360"/>
                <a:gridCol w="2121120"/>
                <a:gridCol w="1450800"/>
                <a:gridCol w="1758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rosp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p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be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Accu-Ch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Chiou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2) pharmacy p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3) eye cam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Depression &amp; diabe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) HbA1c tre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) CHF regis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predict admit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2) predict mortality, (3) IV las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)Beta Blocker tr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2) IP and ER tre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th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EKL asthma intercept progra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) IP and ER tre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c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screening and stag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2) stage and survi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) mammography rate his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2) comparison to Medica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bac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Baseline patient surv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population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2) capacity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3) sources of variation/disparities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disparities summ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ful and Programm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U HS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recommendations to the LSU HCSD when the LSU HSRP program co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Core Off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andon mentoring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analy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programmatic and purpo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intain chronic disease patient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ystematic analysis to identify sources of variation (potential opportun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reate a practice-based research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dentify patient subgroups with persistent problems and develop inter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velop and test means of patient empowe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-based Research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ugges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U HSCD “medical home”-like clinics a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QIPs and research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provide the platform for mutually beneficial collaboration with other organizations and with various fa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uld enhance funding 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tro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rge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LSU PB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-monito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 patients with history of ED/IP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patients with persistently high HbA1c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hom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0" y="-62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425680" y="133200"/>
          <a:ext cx="4965840" cy="641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flow chart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5680" y="133200"/>
                    <a:ext cx="496584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981080" y="152280"/>
          <a:ext cx="525780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flow chart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280"/>
                    <a:ext cx="52578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LSU PB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-monito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 patients with history of ED/IP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patients with persistently high HbA1c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hom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link quality improvement and access improvement to busines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SU HCSD Screening Colonoscopy Capacity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50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610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SU HCSD Disease Management and Population Health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0" descr="illustration"/>
          <p:cNvPicPr/>
          <p:nvPr/>
        </p:nvPicPr>
        <p:blipFill>
          <a:blip r:embed="rId1"/>
          <a:stretch/>
        </p:blipFill>
        <p:spPr>
          <a:xfrm>
            <a:off x="838080" y="1697040"/>
            <a:ext cx="7315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U HS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and Program Elements (initially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ruit (largely clinical faculty)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 participants with research me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Program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in Progres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iliated with the Harvard Pediatric Helath Services Research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on Muret-Wagstaff, 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ald Goldman,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U HS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by Sept 2006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680,000 in additional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11 papers, probably approximately 15 by now, with some still in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U HS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Program Off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uccessful of the original program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non McNabb, MA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d IRB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d the Works in Progress meet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d in research oversight committes at HCSD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ed instigate much higher LSU HCSD participation in “external”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valuation of a telemedicine diabetes foot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Barriers to diabetic eye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ffect of indigent pharmacy medic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Mortality benefit of a HF disease managemen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 patient registr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Cost effectiveness of using BNP as a screener for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Heart failure acute event predic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OBACCO: Survey assessing patterns of tobacco use among HCSD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TN: Hypertension management using group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ONATES: IT network supporting preventive services for at-risk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Racial disparities and qualify of care in disease management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Decomposition of sources of variation in disease management performanc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Comparison of mammography screening levels across three population (Medicare, Medicaid, and the Uninsu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screening mammography to tumor stage at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tumor stage at diagnosis to surviva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valuation of a telemedicine diabetes foot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Barriers to diabetic eye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ffect of indigent pharmacy medic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Mortality benefit of a HF disease managemen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 patient registr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Cost effectiveness of using BNP as a screener for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Heart failure acute event predic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OBACCO: Survey assessing patterns of tobacco use among HCSD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TN: Hypertension management using group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ONATES: IT network supporting preventive services for at-risk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Racial disparities and qualify of care in disease management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Decomposition of sources of variation in disease management performanc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Comparison of mammography screening levels across three population (Medicare, Medicaid, and the Uninsu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screening mammography to tumor stage at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tumor stage at diagnosis to surviva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52280" y="45720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2280" y="50292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20:03:45Z</dcterms:created>
  <dc:creator>Ronald Horswell</dc:creator>
  <dc:description/>
  <dc:language>en-US</dc:language>
  <cp:lastModifiedBy>Rasa</cp:lastModifiedBy>
  <dcterms:modified xsi:type="dcterms:W3CDTF">2009-10-26T02:04:46Z</dcterms:modified>
  <cp:revision>61</cp:revision>
  <dc:subject/>
  <dc:title>LSU Health Services Research Program</dc:title>
</cp:coreProperties>
</file>