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1E6-5F36-45F8-9EC5-61D16423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51B-6346-4844-A52F-05FA65DCF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1A94-A8F8-4291-A21C-F9B97E98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C6B0-7153-4616-B8AF-30D4F982E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BAEE-D04D-4EA2-A9BE-623652252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2BD-4396-4956-AC3A-73285C42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6DC-1A6C-49EF-9235-3E0B674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B3C-8DC6-4B44-8FA2-34CB11D4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600-7679-42A3-BCA1-E6075895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FF-6EA8-42D5-B0A2-3F60892A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8F4-87C8-4358-90D9-FC30628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204-1304-4F97-9DAC-A11677E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AEA-8532-4716-9423-7C2A353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E44-765E-4588-AE48-87AF3656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B59-15E7-4B4B-AA8A-39CC47D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FFA-ACEB-46BC-957C-013F900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F75-357B-4261-8E0B-C1B47D5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3DC1-4FEA-4A8B-8BD0-A5925C091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ealth Services Research Progra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LSU HSR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n Horswell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SRP themes: Disparities and Underserved Patient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pay” does wo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racial disparities 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sparities on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across clinics within sites is greater than variation acros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atient subgroups with persistent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get patients to “in-care” status and keep the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r graph of eye exam within past year. Fraction of Unique Pati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ar graph of eye exam within past year.pc sustain, pc new, pc 1year, pc 2year, pc none. Fraction of unique pati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r graph of fraction with HbA1c under 7%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r graph with fraction with HbA1c under 7% for pc sustain, pc new, pc 1year, pc 2year, and pc 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228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AutoShape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76320" y="73080"/>
              <a:ext cx="8994600" cy="6710400"/>
            </a:xfrm>
            <a:prstGeom prst="rect">
              <a:avLst/>
            </a:prstGeom>
            <a:solidFill>
              <a:srgbClr val="eaf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82440" y="84240"/>
              <a:ext cx="8982360" cy="6688080"/>
            </a:xfrm>
            <a:prstGeom prst="rect">
              <a:avLst/>
            </a:prstGeom>
            <a:solidFill>
              <a:srgbClr val="eaf2f3"/>
            </a:solidFill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1138320" y="1049400"/>
              <a:ext cx="7692840" cy="4811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1138320" y="52484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1138320" y="476712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138320" y="42926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138320" y="381780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1138320" y="333864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1138320" y="286380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1138320" y="238932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1138320" y="1909800"/>
              <a:ext cx="7697880" cy="144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1138320" y="1434960"/>
              <a:ext cx="7697880" cy="1800"/>
            </a:xfrm>
            <a:prstGeom prst="line">
              <a:avLst/>
            </a:prstGeom>
            <a:ln w="0">
              <a:solidFill>
                <a:srgbClr val="eaf2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138320" y="4186080"/>
              <a:ext cx="7697880" cy="1800"/>
            </a:xfrm>
            <a:prstGeom prst="line">
              <a:avLst/>
            </a:prstGeom>
            <a:ln w="0">
              <a:solidFill>
                <a:srgbClr val="c105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1650960" y="1266840"/>
              <a:ext cx="7043760" cy="2925720"/>
            </a:xfrm>
            <a:prstGeom prst="pie">
              <a:avLst/>
            </a:prstGeom>
            <a:noFill/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1601640" y="1217520"/>
              <a:ext cx="9216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1971720" y="1843200"/>
              <a:ext cx="9360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2343240" y="2282760"/>
              <a:ext cx="9216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5"/>
            <p:cNvSpPr/>
            <p:nvPr/>
          </p:nvSpPr>
          <p:spPr>
            <a:xfrm>
              <a:off x="2712960" y="2606760"/>
              <a:ext cx="9216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6"/>
            <p:cNvSpPr/>
            <p:nvPr/>
          </p:nvSpPr>
          <p:spPr>
            <a:xfrm>
              <a:off x="3083040" y="2941560"/>
              <a:ext cx="9360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7"/>
            <p:cNvSpPr/>
            <p:nvPr/>
          </p:nvSpPr>
          <p:spPr>
            <a:xfrm>
              <a:off x="3454560" y="3143160"/>
              <a:ext cx="9180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8"/>
            <p:cNvSpPr/>
            <p:nvPr/>
          </p:nvSpPr>
          <p:spPr>
            <a:xfrm>
              <a:off x="3824280" y="330516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4194000" y="3427560"/>
              <a:ext cx="98640" cy="10152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0"/>
            <p:cNvSpPr/>
            <p:nvPr/>
          </p:nvSpPr>
          <p:spPr>
            <a:xfrm>
              <a:off x="4565520" y="3551400"/>
              <a:ext cx="98640" cy="936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4935600" y="365112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5307120" y="3706920"/>
              <a:ext cx="96840" cy="9504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5676840" y="3757680"/>
              <a:ext cx="9864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6046920" y="3817800"/>
              <a:ext cx="98280" cy="1018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5"/>
            <p:cNvSpPr/>
            <p:nvPr/>
          </p:nvSpPr>
          <p:spPr>
            <a:xfrm>
              <a:off x="6418440" y="3890880"/>
              <a:ext cx="9684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6"/>
            <p:cNvSpPr/>
            <p:nvPr/>
          </p:nvSpPr>
          <p:spPr>
            <a:xfrm>
              <a:off x="6788160" y="3924360"/>
              <a:ext cx="98280" cy="10008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7"/>
            <p:cNvSpPr/>
            <p:nvPr/>
          </p:nvSpPr>
          <p:spPr>
            <a:xfrm>
              <a:off x="7157880" y="3975120"/>
              <a:ext cx="9864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8"/>
            <p:cNvSpPr/>
            <p:nvPr/>
          </p:nvSpPr>
          <p:spPr>
            <a:xfrm>
              <a:off x="7534440" y="4008600"/>
              <a:ext cx="98280" cy="9504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9"/>
            <p:cNvSpPr/>
            <p:nvPr/>
          </p:nvSpPr>
          <p:spPr>
            <a:xfrm>
              <a:off x="7904160" y="405288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0"/>
            <p:cNvSpPr/>
            <p:nvPr/>
          </p:nvSpPr>
          <p:spPr>
            <a:xfrm>
              <a:off x="8275680" y="4097160"/>
              <a:ext cx="9828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1"/>
            <p:cNvSpPr/>
            <p:nvPr/>
          </p:nvSpPr>
          <p:spPr>
            <a:xfrm>
              <a:off x="8645400" y="4141800"/>
              <a:ext cx="98640" cy="95400"/>
            </a:xfrm>
            <a:prstGeom prst="ellipse">
              <a:avLst/>
            </a:prstGeom>
            <a:solidFill>
              <a:srgbClr val="1a476f"/>
            </a:solidFill>
            <a:ln w="0">
              <a:solidFill>
                <a:srgbClr val="1a47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 flipV="1">
              <a:off x="1138320" y="1049040"/>
              <a:ext cx="1440" cy="481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 flipH="1">
              <a:off x="1046160" y="572148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4"/>
            <p:cNvSpPr/>
            <p:nvPr/>
          </p:nvSpPr>
          <p:spPr>
            <a:xfrm>
              <a:off x="768240" y="5599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 flipH="1">
              <a:off x="1046160" y="52484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6"/>
            <p:cNvSpPr/>
            <p:nvPr/>
          </p:nvSpPr>
          <p:spPr>
            <a:xfrm>
              <a:off x="571680" y="512460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0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1046160" y="476712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8"/>
            <p:cNvSpPr/>
            <p:nvPr/>
          </p:nvSpPr>
          <p:spPr>
            <a:xfrm>
              <a:off x="571680" y="4649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1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046160" y="42926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0"/>
            <p:cNvSpPr/>
            <p:nvPr/>
          </p:nvSpPr>
          <p:spPr>
            <a:xfrm>
              <a:off x="571680" y="41702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1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H="1">
              <a:off x="1046160" y="381780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2"/>
            <p:cNvSpPr/>
            <p:nvPr/>
          </p:nvSpPr>
          <p:spPr>
            <a:xfrm>
              <a:off x="571680" y="3695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2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H="1">
              <a:off x="1046160" y="333864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54"/>
            <p:cNvSpPr/>
            <p:nvPr/>
          </p:nvSpPr>
          <p:spPr>
            <a:xfrm>
              <a:off x="703440" y="322092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 flipH="1">
              <a:off x="1046160" y="286380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6"/>
            <p:cNvSpPr/>
            <p:nvPr/>
          </p:nvSpPr>
          <p:spPr>
            <a:xfrm>
              <a:off x="571680" y="27417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36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 flipH="1">
              <a:off x="1046160" y="238932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8"/>
            <p:cNvSpPr/>
            <p:nvPr/>
          </p:nvSpPr>
          <p:spPr>
            <a:xfrm>
              <a:off x="571680" y="22669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4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 flipH="1">
              <a:off x="1046160" y="1909800"/>
              <a:ext cx="9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0"/>
            <p:cNvSpPr/>
            <p:nvPr/>
          </p:nvSpPr>
          <p:spPr>
            <a:xfrm>
              <a:off x="571680" y="179244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48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1"/>
            <p:cNvSpPr/>
            <p:nvPr/>
          </p:nvSpPr>
          <p:spPr>
            <a:xfrm flipH="1">
              <a:off x="1046160" y="1434960"/>
              <a:ext cx="9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2"/>
            <p:cNvSpPr/>
            <p:nvPr/>
          </p:nvSpPr>
          <p:spPr>
            <a:xfrm>
              <a:off x="571680" y="131292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.5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3"/>
            <p:cNvSpPr/>
            <p:nvPr/>
          </p:nvSpPr>
          <p:spPr>
            <a:xfrm rot="16200000">
              <a:off x="-1807560" y="3320280"/>
              <a:ext cx="455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umulative Average Event per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4"/>
            <p:cNvSpPr/>
            <p:nvPr/>
          </p:nvSpPr>
          <p:spPr>
            <a:xfrm>
              <a:off x="1138320" y="5867280"/>
              <a:ext cx="7697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5"/>
            <p:cNvSpPr/>
            <p:nvPr/>
          </p:nvSpPr>
          <p:spPr>
            <a:xfrm>
              <a:off x="127944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6"/>
            <p:cNvSpPr/>
            <p:nvPr/>
          </p:nvSpPr>
          <p:spPr>
            <a:xfrm>
              <a:off x="1163520" y="6006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7"/>
            <p:cNvSpPr/>
            <p:nvPr/>
          </p:nvSpPr>
          <p:spPr>
            <a:xfrm>
              <a:off x="165096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8"/>
            <p:cNvSpPr/>
            <p:nvPr/>
          </p:nvSpPr>
          <p:spPr>
            <a:xfrm>
              <a:off x="1535040" y="6006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9"/>
            <p:cNvSpPr/>
            <p:nvPr/>
          </p:nvSpPr>
          <p:spPr>
            <a:xfrm>
              <a:off x="20210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0"/>
            <p:cNvSpPr/>
            <p:nvPr/>
          </p:nvSpPr>
          <p:spPr>
            <a:xfrm>
              <a:off x="18403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1"/>
            <p:cNvSpPr/>
            <p:nvPr/>
          </p:nvSpPr>
          <p:spPr>
            <a:xfrm>
              <a:off x="23922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2"/>
            <p:cNvSpPr/>
            <p:nvPr/>
          </p:nvSpPr>
          <p:spPr>
            <a:xfrm>
              <a:off x="22118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3"/>
            <p:cNvSpPr/>
            <p:nvPr/>
          </p:nvSpPr>
          <p:spPr>
            <a:xfrm>
              <a:off x="27622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4"/>
            <p:cNvSpPr/>
            <p:nvPr/>
          </p:nvSpPr>
          <p:spPr>
            <a:xfrm>
              <a:off x="25815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5"/>
            <p:cNvSpPr/>
            <p:nvPr/>
          </p:nvSpPr>
          <p:spPr>
            <a:xfrm>
              <a:off x="31320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6"/>
            <p:cNvSpPr/>
            <p:nvPr/>
          </p:nvSpPr>
          <p:spPr>
            <a:xfrm>
              <a:off x="29516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350352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8"/>
            <p:cNvSpPr/>
            <p:nvPr/>
          </p:nvSpPr>
          <p:spPr>
            <a:xfrm>
              <a:off x="33231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9"/>
            <p:cNvSpPr/>
            <p:nvPr/>
          </p:nvSpPr>
          <p:spPr>
            <a:xfrm>
              <a:off x="387360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0"/>
            <p:cNvSpPr/>
            <p:nvPr/>
          </p:nvSpPr>
          <p:spPr>
            <a:xfrm>
              <a:off x="36928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1"/>
            <p:cNvSpPr/>
            <p:nvPr/>
          </p:nvSpPr>
          <p:spPr>
            <a:xfrm>
              <a:off x="424332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2"/>
            <p:cNvSpPr/>
            <p:nvPr/>
          </p:nvSpPr>
          <p:spPr>
            <a:xfrm>
              <a:off x="406260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83"/>
            <p:cNvSpPr/>
            <p:nvPr/>
          </p:nvSpPr>
          <p:spPr>
            <a:xfrm>
              <a:off x="46148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4"/>
            <p:cNvSpPr/>
            <p:nvPr/>
          </p:nvSpPr>
          <p:spPr>
            <a:xfrm>
              <a:off x="44341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>
              <a:off x="498492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6"/>
            <p:cNvSpPr/>
            <p:nvPr/>
          </p:nvSpPr>
          <p:spPr>
            <a:xfrm>
              <a:off x="480420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7"/>
            <p:cNvSpPr/>
            <p:nvPr/>
          </p:nvSpPr>
          <p:spPr>
            <a:xfrm>
              <a:off x="535464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8"/>
            <p:cNvSpPr/>
            <p:nvPr/>
          </p:nvSpPr>
          <p:spPr>
            <a:xfrm>
              <a:off x="51739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9"/>
            <p:cNvSpPr/>
            <p:nvPr/>
          </p:nvSpPr>
          <p:spPr>
            <a:xfrm>
              <a:off x="572616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90"/>
            <p:cNvSpPr/>
            <p:nvPr/>
          </p:nvSpPr>
          <p:spPr>
            <a:xfrm>
              <a:off x="55454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1"/>
            <p:cNvSpPr/>
            <p:nvPr/>
          </p:nvSpPr>
          <p:spPr>
            <a:xfrm>
              <a:off x="609588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2"/>
            <p:cNvSpPr/>
            <p:nvPr/>
          </p:nvSpPr>
          <p:spPr>
            <a:xfrm>
              <a:off x="591552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3"/>
            <p:cNvSpPr/>
            <p:nvPr/>
          </p:nvSpPr>
          <p:spPr>
            <a:xfrm>
              <a:off x="646596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4"/>
            <p:cNvSpPr/>
            <p:nvPr/>
          </p:nvSpPr>
          <p:spPr>
            <a:xfrm>
              <a:off x="62852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5"/>
            <p:cNvSpPr/>
            <p:nvPr/>
          </p:nvSpPr>
          <p:spPr>
            <a:xfrm>
              <a:off x="68374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6"/>
            <p:cNvSpPr/>
            <p:nvPr/>
          </p:nvSpPr>
          <p:spPr>
            <a:xfrm>
              <a:off x="66567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7"/>
            <p:cNvSpPr/>
            <p:nvPr/>
          </p:nvSpPr>
          <p:spPr>
            <a:xfrm>
              <a:off x="72072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8"/>
            <p:cNvSpPr/>
            <p:nvPr/>
          </p:nvSpPr>
          <p:spPr>
            <a:xfrm>
              <a:off x="70264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9"/>
            <p:cNvSpPr/>
            <p:nvPr/>
          </p:nvSpPr>
          <p:spPr>
            <a:xfrm>
              <a:off x="7583400" y="5867280"/>
              <a:ext cx="180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0"/>
            <p:cNvSpPr/>
            <p:nvPr/>
          </p:nvSpPr>
          <p:spPr>
            <a:xfrm>
              <a:off x="740304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01"/>
            <p:cNvSpPr/>
            <p:nvPr/>
          </p:nvSpPr>
          <p:spPr>
            <a:xfrm>
              <a:off x="795348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2"/>
            <p:cNvSpPr/>
            <p:nvPr/>
          </p:nvSpPr>
          <p:spPr>
            <a:xfrm>
              <a:off x="777276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3"/>
            <p:cNvSpPr/>
            <p:nvPr/>
          </p:nvSpPr>
          <p:spPr>
            <a:xfrm>
              <a:off x="832500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4"/>
            <p:cNvSpPr/>
            <p:nvPr/>
          </p:nvSpPr>
          <p:spPr>
            <a:xfrm>
              <a:off x="8144280" y="6006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5"/>
            <p:cNvSpPr/>
            <p:nvPr/>
          </p:nvSpPr>
          <p:spPr>
            <a:xfrm>
              <a:off x="8694720" y="5867280"/>
              <a:ext cx="1440" cy="9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6"/>
            <p:cNvSpPr/>
            <p:nvPr/>
          </p:nvSpPr>
          <p:spPr>
            <a:xfrm>
              <a:off x="8447760" y="600696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7"/>
            <p:cNvSpPr/>
            <p:nvPr/>
          </p:nvSpPr>
          <p:spPr>
            <a:xfrm>
              <a:off x="3004920" y="6234120"/>
              <a:ext cx="4301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ractiles by Descending Predicted Prob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8"/>
            <p:cNvSpPr/>
            <p:nvPr/>
          </p:nvSpPr>
          <p:spPr>
            <a:xfrm>
              <a:off x="370800" y="317520"/>
              <a:ext cx="8484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1e2d53"/>
                  </a:solidFill>
                  <a:latin typeface="Arial"/>
                </a:rPr>
                <a:t>CONCENTRATION ANALYSIS FOR GENERAL EV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9"/>
            <p:cNvSpPr/>
            <p:nvPr/>
          </p:nvSpPr>
          <p:spPr>
            <a:xfrm>
              <a:off x="2493000" y="647640"/>
              <a:ext cx="5007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1e2d53"/>
                  </a:solidFill>
                  <a:latin typeface="Arial"/>
                </a:rPr>
                <a:t>Events Saved Per Patient Treat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107"/>
          <p:cNvSpPr/>
          <p:nvPr/>
        </p:nvSpPr>
        <p:spPr>
          <a:xfrm>
            <a:off x="3051720" y="14479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-axis = Accumulative  Average Events 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8"/>
          <p:cNvSpPr/>
          <p:nvPr/>
        </p:nvSpPr>
        <p:spPr>
          <a:xfrm>
            <a:off x="2590920" y="4572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verage event per patient = 413/1883 = 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109"/>
          <p:cNvCxnSpPr/>
          <p:nvPr/>
        </p:nvCxnSpPr>
        <p:spPr>
          <a:xfrm flipV="1">
            <a:off x="4114800" y="4190760"/>
            <a:ext cx="76680" cy="3052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art of HbA1c over ti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4876920" y="5867280"/>
            <a:ext cx="761760" cy="228600"/>
          </a:xfrm>
          <a:prstGeom prst="rect">
            <a:avLst/>
          </a:prstGeom>
          <a:solidFill>
            <a:srgbClr val="c4e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52280" y="2743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chart of relative cost effectiveness a funtion of cost of BNP, cost of Echocardiography, Prevalence of undiagnosed HF, Sensitivity of status quo, specificity of status qu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219320" y="2362320"/>
            <a:ext cx="4267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cost effectiveness a function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B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Echocard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alence of undiagnosed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nsitivity of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ity of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: Accelerating translation of evidence into practice, emphasizing topics of importance to the LSU Health Care Services Division (LSU HCSD), a provider system serving low-income, predominantly uninsure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ed by AHRQ from 2001 t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.I. was Fred Cerise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52280" y="5562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3520" y="304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523880" y="5181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TE: Graph shows only providers with 10+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ymbol size proportional to # of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reen line is State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Bubble of HEDIS_ratio * rank = deno"/>
          <p:cNvPicPr/>
          <p:nvPr/>
        </p:nvPicPr>
        <p:blipFill>
          <a:blip r:embed="rId1"/>
          <a:stretch/>
        </p:blipFill>
        <p:spPr>
          <a:xfrm>
            <a:off x="533520" y="99072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5800" y="685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3200400"/>
          <a:ext cx="7010640" cy="2133720"/>
        </p:xfrm>
        <a:graphic>
          <a:graphicData uri="http://schemas.openxmlformats.org/drawingml/2006/table">
            <a:tbl>
              <a:tblPr/>
              <a:tblGrid>
                <a:gridCol w="1193760"/>
                <a:gridCol w="1971720"/>
                <a:gridCol w="1808280"/>
                <a:gridCol w="203688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vider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um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Q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,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2,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0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2,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6,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53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,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8.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1,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23,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7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9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5,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</a:tbl>
          </a:graphicData>
        </a:graphic>
      </p:graphicFrame>
      <p:sp>
        <p:nvSpPr>
          <p:cNvPr id="213" name="Rectangle 4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533520" y="18288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CS – Breast Cancer Screening measures the percentage of women 40 - 69 years of age who had a mammogram to screen for breast can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9"/>
          <p:cNvSpPr/>
          <p:nvPr/>
        </p:nvSpPr>
        <p:spPr>
          <a:xfrm>
            <a:off x="6172200" y="39625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609480" y="9144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33520" y="304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CDC – Ey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3880" y="518148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TE: Graph shows only providers with 10+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ymbol size proportional to # of recip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reen line is State 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ubble of HEDIS_ratio * rank = deno"/>
          <p:cNvPicPr/>
          <p:nvPr/>
        </p:nvPicPr>
        <p:blipFill>
          <a:blip r:embed="rId1"/>
          <a:stretch/>
        </p:blipFill>
        <p:spPr>
          <a:xfrm>
            <a:off x="609480" y="1143000"/>
            <a:ext cx="71629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7632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38160">
            <a:solidFill>
              <a:srgbClr val="8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4008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85800" y="685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HEDIS</a:t>
            </a:r>
            <a:r>
              <a:rPr b="1" lang="en-US" sz="2800" spc="-1" strike="noStrike" baseline="30000">
                <a:solidFill>
                  <a:srgbClr val="82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820000"/>
                </a:solidFill>
                <a:latin typeface="Arial"/>
              </a:rPr>
              <a:t> Measure CDC – Ey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3200400"/>
          <a:ext cx="7010640" cy="2138400"/>
        </p:xfrm>
        <a:graphic>
          <a:graphicData uri="http://schemas.openxmlformats.org/drawingml/2006/table">
            <a:tbl>
              <a:tblPr/>
              <a:tblGrid>
                <a:gridCol w="1193760"/>
                <a:gridCol w="1971720"/>
                <a:gridCol w="1808280"/>
                <a:gridCol w="2036880"/>
              </a:tblGrid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vider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um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D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Q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,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5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,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4,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59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,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,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3.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2,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0,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2.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6,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17,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Courier New"/>
                        </a:rPr>
                        <a:t>36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b1"/>
                    </a:solidFill>
                  </a:tcPr>
                </a:tc>
              </a:tr>
            </a:tbl>
          </a:graphicData>
        </a:graphic>
      </p:graphicFrame>
      <p:sp>
        <p:nvSpPr>
          <p:cNvPr id="228" name="Rectangle 46"/>
          <p:cNvSpPr/>
          <p:nvPr/>
        </p:nvSpPr>
        <p:spPr>
          <a:xfrm>
            <a:off x="1447920" y="6324480"/>
            <a:ext cx="675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ULM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College of Pharmacy </a:t>
            </a:r>
            <a:r>
              <a:rPr b="0" i="1" lang="en-US" sz="1200" spc="-1" strike="noStrike">
                <a:solidFill>
                  <a:srgbClr val="820000"/>
                </a:solidFill>
                <a:latin typeface="Wingdings"/>
                <a:ea typeface="Wingdings"/>
              </a:rPr>
              <a:t></a:t>
            </a:r>
            <a:r>
              <a:rPr b="0" i="1" lang="en-US" sz="1200" spc="-1" strike="noStrike">
                <a:solidFill>
                  <a:srgbClr val="820000"/>
                </a:solidFill>
                <a:latin typeface="Arial"/>
              </a:rPr>
              <a:t> Office of Outcomes Research &amp; Evaluation           January 10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33520" y="18288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DC – Comprehensive Diabetes Care is a set of measures for members 18-75 years of age with type 1 or type 2 diabetes.  The measures include:  eye exam, HbA1c, LDL-C and screening for nephropathy.  Each measure is calculated individually.  Presented in this chart is the CDC-Eye Exam measu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9"/>
          <p:cNvSpPr/>
          <p:nvPr/>
        </p:nvSpPr>
        <p:spPr>
          <a:xfrm>
            <a:off x="6324480" y="4038480"/>
            <a:ext cx="10670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52280" y="6019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152280" y="6477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bar graph of distribution of state at diagnosis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407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ion of Stage at Diagn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chart of survivor functions adjusted for age 55 race A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ing and Tumor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2543040"/>
          <a:ext cx="8458200" cy="28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43040"/>
                    <a:ext cx="84582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Oval 270"/>
          <p:cNvSpPr/>
          <p:nvPr/>
        </p:nvSpPr>
        <p:spPr>
          <a:xfrm>
            <a:off x="7772400" y="2514600"/>
            <a:ext cx="9907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71"/>
          <p:cNvSpPr/>
          <p:nvPr/>
        </p:nvSpPr>
        <p:spPr>
          <a:xfrm>
            <a:off x="7924680" y="3886200"/>
            <a:ext cx="914400" cy="914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chart of survivor functions adjusted for age 55 race Afm probability of surviv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CSD"/>
          <p:cNvPicPr/>
          <p:nvPr/>
        </p:nvPicPr>
        <p:blipFill>
          <a:blip r:embed="rId1"/>
          <a:stretch/>
        </p:blipFill>
        <p:spPr>
          <a:xfrm>
            <a:off x="609480" y="423720"/>
            <a:ext cx="6858000" cy="6294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9903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CS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04920" y="3124080"/>
            <a:ext cx="8001000" cy="358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838080" y="762120"/>
            <a:ext cx="30492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743200" y="914400"/>
            <a:ext cx="304920" cy="2286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143000" y="9907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SU Medical Cent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48120" y="9907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A. Conway Medical Cent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90920" y="2666880"/>
            <a:ext cx="380880" cy="3049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commendations to the LSU HCSD when the LSU HSRP program co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re Office (partially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 mentoring concept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alysis department (partially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rogrammatic and purposeful (not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. . A distinction exists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research program designed to mentor individual researchers and move them along their career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research program designed to address major needs within client organizations’ patient pop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527040" y="1693800"/>
          <a:ext cx="8089920" cy="4583160"/>
        </p:xfrm>
        <a:graphic>
          <a:graphicData uri="http://schemas.openxmlformats.org/drawingml/2006/table">
            <a:tbl>
              <a:tblPr/>
              <a:tblGrid>
                <a:gridCol w="1201680"/>
                <a:gridCol w="1557360"/>
                <a:gridCol w="2121120"/>
                <a:gridCol w="1450800"/>
                <a:gridCol w="1758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be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Accu-Ch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Chiou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pharmacy 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3) eye 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Depression &amp; diabe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HbA1c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CHF reg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predict admit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predict mortality, (3) IV las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Beta Blocker tr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IP and ER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th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EKL asthma intercept progr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IP and ER tr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c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screening and st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2) stage and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) mammography rate 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comparison to Medica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Baseline patient surv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population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) capacity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3) sources of variation/disparities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1) disparities summ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ful and Program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commendations to the LSU HCSD when the LSU HSRP program co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re Of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 mentoring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analy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rogrammatic and purpo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 chronic disease patient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atic analysis to identify sources of variation (potential opportun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eate a practice-based resear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patient subgroups with persistent problems and develop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velop and test means of patient empowe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-based Research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U HSCD “medical home”-like clinics a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QIPs and research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provide the platform for mutually beneficial collaboration with other organizations and with various fa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uld enhance funding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rg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LSU PB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-monito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 patients with history of ED/I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patients with persistently high HbA1c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hom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0" y="-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425680" y="133200"/>
          <a:ext cx="496584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flow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33200"/>
                    <a:ext cx="496584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981080" y="152280"/>
          <a:ext cx="52578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flow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280"/>
                    <a:ext cx="5257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LSU PB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-monito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 patients with history of ED/IP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patients with persistently high HbA1c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hom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link quality improvement and access improvement to busin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SU HCSD Screening Colonoscopy Capacit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50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61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U HCSD Disease Management and Population Health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0" descr="illustration"/>
          <p:cNvPicPr/>
          <p:nvPr/>
        </p:nvPicPr>
        <p:blipFill>
          <a:blip r:embed="rId1"/>
          <a:stretch/>
        </p:blipFill>
        <p:spPr>
          <a:xfrm>
            <a:off x="838080" y="1697040"/>
            <a:ext cx="7315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and Program Elements (initial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 (largely clinical faculty)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participants with research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gram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in Progres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liated with the Harvard Pediatric Helath Services Research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on Muret-Wagstaff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ld Goldman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by Sept 2006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80,000 in additional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11 papers, probably approximately 15 by now, with some still in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U HS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gram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uccessful of the original program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 McNabb, MA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IRB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d the Works in Progress mee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research oversight committes at HCSD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ed instigate much higher LSU HCSD participation in “external”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valuation of a telemedicine diabetes foot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Barriers to diabetic ey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ABETES: Effect of indigent pharmacy medic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Mortality benefit of a HF disease managem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 patient registr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Cost effectiveness of using BNP as a screener for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F: Heart failure acute event predi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TOBACCO: Survey assessing patterns of tobacco use among HCSD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TN: Hypertension management using group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ONATES: IT network supporting preventive services for at-risk inf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Racial disparities and qualify of care in disease managemen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ISPARITIES: Decomposition of sources of variation in disease management performanc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Comparison of mammography screening levels across three population (Medicare, Medicaid, and the Uninsu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screening mammography to tumor stage at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NCER: Relationship of tumor stage at diagnosis to survival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52280" y="4572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2280" y="5029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0:03:45Z</dcterms:created>
  <dc:creator>Ronald Horswell</dc:creator>
  <dc:description/>
  <dc:language>en-US</dc:language>
  <cp:lastModifiedBy>Rasa</cp:lastModifiedBy>
  <dcterms:modified xsi:type="dcterms:W3CDTF">2009-10-26T02:04:46Z</dcterms:modified>
  <cp:revision>61</cp:revision>
  <dc:subject/>
  <dc:title>LSU Health Services Research Program</dc:title>
</cp:coreProperties>
</file>