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77075" cy="8956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77600" cy="89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7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4008240" y="0"/>
            <a:ext cx="3066840" cy="447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99960" y="671040"/>
            <a:ext cx="4476600" cy="335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4c58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7760" y="4254480"/>
            <a:ext cx="5661000" cy="4029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0" y="8505720"/>
            <a:ext cx="3067200" cy="447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400824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C2C09C-FECB-424B-B4F5-166293535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400860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D54E25-2456-4CDB-BB1D-784B01FEB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300320" y="673200"/>
            <a:ext cx="4476600" cy="3357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7760" y="4254480"/>
            <a:ext cx="5661000" cy="40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4008600" y="8505720"/>
            <a:ext cx="3066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76C77F-382D-4238-8B13-77A2EFD77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300320" y="671400"/>
            <a:ext cx="4476600" cy="33577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7760" y="4254480"/>
            <a:ext cx="56610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74F2-24FD-4BC6-B705-015DCE4501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E119-B9CB-49FC-BB71-631CBAE4BB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5FEA-F6B4-433B-833E-B7FEB48F5D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D409-6944-4950-A2CB-469E5DF175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D1BE8-A337-47A1-A438-ED56BBB3F8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580920" y="151920"/>
            <a:ext cx="5334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0200-2FB6-4E02-B558-170C88C712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94D5-60A7-4BFC-AEE3-A3164852B9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962E-BD1B-438C-8ED7-D00F8972C7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F685-B5BB-4124-8165-1AA2D65FCC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23FC-5A6B-45D1-882C-D107DA6350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3641-0CFE-4748-9832-36D2490976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5BA9-439C-4B47-8F1D-83E4B4A7EB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80920" y="151920"/>
            <a:ext cx="5334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b5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579600" y="0"/>
            <a:ext cx="2962080" cy="3298680"/>
          </a:xfrm>
          <a:prstGeom prst="rect">
            <a:avLst/>
          </a:prstGeom>
          <a:solidFill>
            <a:srgbClr val="3e4c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576360" y="3733920"/>
            <a:ext cx="795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576360" y="5257800"/>
            <a:ext cx="73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144360" y="6535800"/>
            <a:ext cx="607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dential property of UnitedHealth Group. Do not distribute or reproduce without the express permission of UnitedHealth Grou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2" descr="UHC_Logo_stacked_bug-rev"/>
          <p:cNvPicPr/>
          <p:nvPr/>
        </p:nvPicPr>
        <p:blipFill>
          <a:blip r:embed="rId2"/>
          <a:stretch/>
        </p:blipFill>
        <p:spPr>
          <a:xfrm>
            <a:off x="950760" y="2558880"/>
            <a:ext cx="2151360" cy="42228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3"/>
          <p:cNvSpPr/>
          <p:nvPr/>
        </p:nvSpPr>
        <p:spPr>
          <a:xfrm>
            <a:off x="0" y="0"/>
            <a:ext cx="533520" cy="3298680"/>
          </a:xfrm>
          <a:prstGeom prst="rect">
            <a:avLst/>
          </a:prstGeom>
          <a:solidFill>
            <a:srgbClr val="222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4"/>
          <p:cNvSpPr/>
          <p:nvPr/>
        </p:nvSpPr>
        <p:spPr>
          <a:xfrm>
            <a:off x="3581280" y="0"/>
            <a:ext cx="5562720" cy="3298680"/>
          </a:xfrm>
          <a:prstGeom prst="rect">
            <a:avLst/>
          </a:prstGeom>
          <a:solidFill>
            <a:srgbClr val="222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1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81D1-EDA1-4E33-8672-40A202905BD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a3b5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79600" y="0"/>
            <a:ext cx="2962080" cy="914400"/>
          </a:xfrm>
          <a:prstGeom prst="rect">
            <a:avLst/>
          </a:prstGeom>
          <a:solidFill>
            <a:srgbClr val="3e4c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533520" cy="914400"/>
          </a:xfrm>
          <a:prstGeom prst="rect">
            <a:avLst/>
          </a:prstGeom>
          <a:solidFill>
            <a:srgbClr val="222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144360" y="6535800"/>
            <a:ext cx="607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dential property of UnitedHealth Group. Do not distribute or reproduce without the express permission of UnitedHealth Grou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4c58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pic>
        <p:nvPicPr>
          <p:cNvPr id="51" name="Picture 16" descr="UHC_Logo_stacked_bug-rev"/>
          <p:cNvPicPr/>
          <p:nvPr/>
        </p:nvPicPr>
        <p:blipFill>
          <a:blip r:embed="rId2"/>
          <a:stretch/>
        </p:blipFill>
        <p:spPr>
          <a:xfrm>
            <a:off x="946080" y="230040"/>
            <a:ext cx="2151000" cy="4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3b5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79600" y="0"/>
            <a:ext cx="2962080" cy="3298680"/>
          </a:xfrm>
          <a:prstGeom prst="rect">
            <a:avLst/>
          </a:prstGeom>
          <a:solidFill>
            <a:srgbClr val="3e4c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44360" y="6535800"/>
            <a:ext cx="607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dential property of UnitedHealth Group. Do not distribute or reproduce without the express permission of UnitedHealth Grou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0"/>
            <a:ext cx="533520" cy="3298680"/>
          </a:xfrm>
          <a:prstGeom prst="rect">
            <a:avLst/>
          </a:prstGeom>
          <a:solidFill>
            <a:srgbClr val="222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581280" y="0"/>
            <a:ext cx="5562720" cy="3298680"/>
          </a:xfrm>
          <a:prstGeom prst="rect">
            <a:avLst/>
          </a:prstGeom>
          <a:solidFill>
            <a:srgbClr val="222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Logo - United Healthcare"/>
          <p:cNvPicPr/>
          <p:nvPr/>
        </p:nvPicPr>
        <p:blipFill>
          <a:blip r:embed="rId1"/>
          <a:stretch/>
        </p:blipFill>
        <p:spPr>
          <a:xfrm>
            <a:off x="946080" y="2558880"/>
            <a:ext cx="2151000" cy="422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4008600" y="5281560"/>
            <a:ext cx="468756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 Ho, M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ve Vice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ef Medical Offi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edHealth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1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3504960"/>
            <a:ext cx="8019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HRQ 2009 Annual Conference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to Reform—Achieving Health System Change</a:t>
            </a:r>
            <a:endParaRPr b="1" lang="en-US" sz="18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03" name="Slide Number Placeholder 1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20DB-F338-49FF-9211-A9DB79BB5EA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90640" y="123480"/>
            <a:ext cx="5553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4c58"/>
                </a:solidFill>
                <a:latin typeface="Arial"/>
              </a:rPr>
              <a:t>Research Informing Health System Change</a:t>
            </a: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2880" y="790560"/>
            <a:ext cx="789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8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 Plan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18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age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18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p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18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18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18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18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al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18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and Diseas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18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and Cos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imbur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18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 fo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18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-based Contra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02720" indent="-140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, Costs, and Consumer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-18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tion and Bundled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4F14-667B-4CEC-A933-D1D4EE4A2A5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4c58"/>
                </a:solidFill>
                <a:latin typeface="Arial"/>
              </a:rPr>
              <a:t>Concerns Related to Research</a:t>
            </a: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32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 and IRB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tory Review and Certificates of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ding, Formatting, Transmission,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Care Quality and Cost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Care and Admin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ibute &amp; Learn Best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 Har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ntended Con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C7F1-AB2B-42FF-B7C6-A15A95940C6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4c58"/>
                </a:solidFill>
                <a:latin typeface="Arial"/>
              </a:rPr>
              <a:t>Innovation - Diabetes Health Plan</a:t>
            </a: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0954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Diabetic and Diabet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entives to join plan, enroll in registry, and manage clinical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costs to enrollee and to empl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-based benefit plan design—zero or lower co-p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s individual coaching, incentives and online tools to manage the conditions consistent with ADA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onic case management to help manage A1C, Cholesterol and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 to compl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ndard health plan benefits as disincen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 is prevention of disease onset, unnecessary ER visits and inpatient st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is currently in pilot phase with 6 large national emplo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7D9F-98FF-4A8F-85E9-0E0445E8DD6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e4c58"/>
                </a:solidFill>
                <a:latin typeface="Arial"/>
              </a:rPr>
              <a:t>Almost 10 Years After IOM’s “Chasm” Report </a:t>
            </a:r>
            <a:endParaRPr b="1" lang="en-US" sz="18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5760" y="1333080"/>
            <a:ext cx="859788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RBRVS-based system is fla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s volume and not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s procedures &gt; cognitiv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s to promote preventive and we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s to reward care coordination, efficiency, or quality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s specialists &gt; primary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n’t reward IOM’s quality aims of: patient-centered care, safety, effectiveness, efficiency, timeliness (access) or equitable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get what you pay for, and you don’t get what you don’t pay f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build a new system on current plat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ing what doesn’t wor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know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BFF5-5A7D-4942-97A5-E071C818062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4c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e4c58"/>
                </a:solidFill>
                <a:latin typeface="Arial"/>
              </a:rPr>
              <a:t>Pay for Performance is Widespread</a:t>
            </a: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1800" y="126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ies of programs across all types of payers document nearly 150 pay-for-performance program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national survey, 52% of HMOs (covering 81% of enrollees) report using pay for performanc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re to implement hospital pay for performance (delayed from FY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orous (controlled) studies of pay-for-performance in health care are f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 findings are mixed: many null results even for large dollar am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findings from Medicare demo, National Health Service GP Contract, IHA suggest modest improvements in many but not all measures and some “gaming”—No Breakthroug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23800" y="6067440"/>
            <a:ext cx="800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Leapfrog Group and MedVantage, 200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osenthal MB, et al. Pay-for-Performance in Commercial HMOs.  New England Journal of Medicine, November 2,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10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E6E4-70F1-405F-9C83-6DD4997C51C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04960" y="132840"/>
            <a:ext cx="5753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4c58"/>
                </a:solidFill>
                <a:latin typeface="Arial"/>
              </a:rPr>
              <a:t>Can Payment Drive Delivery System Reform?</a:t>
            </a: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$ must be directed to patient-centered, effectiveness and efficiency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Os meet “5 criteria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challenges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nationally endorsed measur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special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efficiency measures, as well as quality and patient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use and over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se the bar for “attain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ally reward “improve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e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e data aggregation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significant incentives that impact upside/downside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ndle payments—e.g., PCMH, capitation w/ fixed/variabl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01FB-D8CE-419E-ADDC-5D883F1584B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4c58"/>
                </a:solidFill>
                <a:latin typeface="Arial"/>
              </a:rPr>
              <a:t>Innovation—</a:t>
            </a:r>
            <a:br>
              <a:rPr sz="2000"/>
            </a:br>
            <a:r>
              <a:rPr b="1" lang="en-US" sz="2000" spc="-1" strike="noStrike">
                <a:solidFill>
                  <a:srgbClr val="3e4c58"/>
                </a:solidFill>
                <a:latin typeface="Arial"/>
              </a:rPr>
              <a:t>UHC Patient-Centered Medical  Home</a:t>
            </a: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1720" y="1233360"/>
            <a:ext cx="7804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primary care physicians to provide coordinated care to enroll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s in AZ, RI, CO, OH, and 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esigned payment program focused on quality and cost outcomes, and not just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 to improve access, health care quality, costs and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physicians transform their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unnecessary hospitalizations, ED visits, specialty referrals, lab tests, and R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B77A-7828-4A68-9ED6-199525BF16B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457200" y="1165320"/>
            <a:ext cx="8445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852480" y="1441440"/>
            <a:ext cx="78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55560" y="1884240"/>
            <a:ext cx="742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55520" y="5630760"/>
            <a:ext cx="87804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c80"/>
                </a:solidFill>
                <a:latin typeface="Arial"/>
              </a:rPr>
              <a:t>PCMH pilots have demonstrated 29% fewer emergency room visits, 11% fewer hospitalizations that primary care can prevent, and 6% fewer in-person visits</a:t>
            </a:r>
            <a:r>
              <a:rPr b="1" lang="en-US" sz="2400" spc="-1" strike="noStrike">
                <a:solidFill>
                  <a:srgbClr val="222c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42920" y="5676840"/>
            <a:ext cx="8734320" cy="723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4c58"/>
                </a:solidFill>
                <a:latin typeface="Arial"/>
              </a:rPr>
              <a:t>Innovation--PCMH and Bundled Payments</a:t>
            </a:r>
            <a:endParaRPr b="1" lang="en-US" sz="2000" spc="-1" strike="noStrike">
              <a:solidFill>
                <a:srgbClr val="3e4c5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dled payments (Patient-Centered Medical H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pre-payment 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FS payment for medical and preventiv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 for future performance-based contr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F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1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8399-B791-4802-A698-8B85E514025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20:10:06Z</dcterms:created>
  <dc:creator>Sam Ho, MD</dc:creator>
  <dc:description/>
  <dc:language>en-US</dc:language>
  <cp:lastModifiedBy>Steve</cp:lastModifiedBy>
  <dcterms:modified xsi:type="dcterms:W3CDTF">2009-11-05T15:56:07Z</dcterms:modified>
  <cp:revision>261</cp:revision>
  <dc:subject/>
  <dc:title>PowerPoint Presentation</dc:title>
</cp:coreProperties>
</file>