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77075" cy="8956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77600" cy="89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7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2"/>
          </p:nvPr>
        </p:nvSpPr>
        <p:spPr>
          <a:xfrm>
            <a:off x="4008240" y="0"/>
            <a:ext cx="3066840" cy="447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99960" y="671040"/>
            <a:ext cx="4476600" cy="335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4c58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07760" y="4254480"/>
            <a:ext cx="5661000" cy="4029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3"/>
          </p:nvPr>
        </p:nvSpPr>
        <p:spPr>
          <a:xfrm>
            <a:off x="0" y="8505720"/>
            <a:ext cx="3067200" cy="447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4"/>
          </p:nvPr>
        </p:nvSpPr>
        <p:spPr>
          <a:xfrm>
            <a:off x="4008240" y="8505720"/>
            <a:ext cx="3066840" cy="447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3094F91-C17D-4A0A-AD7D-B872A25B3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4008600" y="8505720"/>
            <a:ext cx="3066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FB26C1E-1770-41C4-853A-3A5C52E0E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300320" y="673200"/>
            <a:ext cx="4476600" cy="33573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7760" y="4254480"/>
            <a:ext cx="5661000" cy="40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4008600" y="8505720"/>
            <a:ext cx="3066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5617F89-B3D8-49FB-A41A-5354D4E47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300320" y="671400"/>
            <a:ext cx="4476600" cy="33577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07760" y="4254480"/>
            <a:ext cx="56610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151D4-FD61-4838-AE04-080985FF93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1CADD-B7B3-4FF8-AF37-16C86041FB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E9A04-091C-48B0-8BD6-3813E043CE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8E9AF-F3AB-403D-8740-74D5C77769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E48DD-AD3F-454E-AF99-89966A6AEF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580920" y="151920"/>
            <a:ext cx="5334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D9E86-27B4-499F-BAEC-56213BB621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953C8-08E2-4387-8780-067906447D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FCE9C-CB67-43FF-8EAD-F4C197DCAB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54F47-ECD6-4A10-B438-218D5FF35A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F87EF-C121-4FC7-ADE1-0DC92422E7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F53CC-8CC9-4B90-B459-D894B4DE78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766FF-E79F-4C5A-BDCF-DB76E83515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580920" y="151920"/>
            <a:ext cx="5334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3b5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579600" y="0"/>
            <a:ext cx="2962080" cy="3298680"/>
          </a:xfrm>
          <a:prstGeom prst="rect">
            <a:avLst/>
          </a:prstGeom>
          <a:solidFill>
            <a:srgbClr val="3e4c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576360" y="3733920"/>
            <a:ext cx="795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576360" y="5257800"/>
            <a:ext cx="73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1"/>
          <p:cNvSpPr/>
          <p:nvPr/>
        </p:nvSpPr>
        <p:spPr>
          <a:xfrm>
            <a:off x="144360" y="6535800"/>
            <a:ext cx="607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dential property of UnitedHealth Group. Do not distribute or reproduce without the express permission of UnitedHealth Grou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2" descr="UHC_Logo_stacked_bug-rev"/>
          <p:cNvPicPr/>
          <p:nvPr/>
        </p:nvPicPr>
        <p:blipFill>
          <a:blip r:embed="rId2"/>
          <a:stretch/>
        </p:blipFill>
        <p:spPr>
          <a:xfrm>
            <a:off x="950760" y="2558880"/>
            <a:ext cx="2151360" cy="42228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3"/>
          <p:cNvSpPr/>
          <p:nvPr/>
        </p:nvSpPr>
        <p:spPr>
          <a:xfrm>
            <a:off x="0" y="0"/>
            <a:ext cx="533520" cy="3298680"/>
          </a:xfrm>
          <a:prstGeom prst="rect">
            <a:avLst/>
          </a:prstGeom>
          <a:solidFill>
            <a:srgbClr val="222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4"/>
          <p:cNvSpPr/>
          <p:nvPr/>
        </p:nvSpPr>
        <p:spPr>
          <a:xfrm>
            <a:off x="3581280" y="0"/>
            <a:ext cx="5562720" cy="3298680"/>
          </a:xfrm>
          <a:prstGeom prst="rect">
            <a:avLst/>
          </a:prstGeom>
          <a:solidFill>
            <a:srgbClr val="222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1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C6A7-F32E-458A-B2EF-0674B2F1A830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a3b5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579600" y="0"/>
            <a:ext cx="2962080" cy="914400"/>
          </a:xfrm>
          <a:prstGeom prst="rect">
            <a:avLst/>
          </a:prstGeom>
          <a:solidFill>
            <a:srgbClr val="3e4c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0"/>
            <a:ext cx="533520" cy="914400"/>
          </a:xfrm>
          <a:prstGeom prst="rect">
            <a:avLst/>
          </a:prstGeom>
          <a:solidFill>
            <a:srgbClr val="222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144360" y="6535800"/>
            <a:ext cx="607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dential property of UnitedHealth Group. Do not distribute or reproduce without the express permission of UnitedHealth Grou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4c58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pic>
        <p:nvPicPr>
          <p:cNvPr id="51" name="Picture 16" descr="UHC_Logo_stacked_bug-rev"/>
          <p:cNvPicPr/>
          <p:nvPr/>
        </p:nvPicPr>
        <p:blipFill>
          <a:blip r:embed="rId2"/>
          <a:stretch/>
        </p:blipFill>
        <p:spPr>
          <a:xfrm>
            <a:off x="946080" y="230040"/>
            <a:ext cx="2151000" cy="42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3b5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579600" y="0"/>
            <a:ext cx="2962080" cy="3298680"/>
          </a:xfrm>
          <a:prstGeom prst="rect">
            <a:avLst/>
          </a:prstGeom>
          <a:solidFill>
            <a:srgbClr val="3e4c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44360" y="6535800"/>
            <a:ext cx="607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dential property of UnitedHealth Group. Do not distribute or reproduce without the express permission of UnitedHealth Grou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0"/>
            <a:ext cx="533520" cy="3298680"/>
          </a:xfrm>
          <a:prstGeom prst="rect">
            <a:avLst/>
          </a:prstGeom>
          <a:solidFill>
            <a:srgbClr val="222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581280" y="0"/>
            <a:ext cx="5562720" cy="3298680"/>
          </a:xfrm>
          <a:prstGeom prst="rect">
            <a:avLst/>
          </a:prstGeom>
          <a:solidFill>
            <a:srgbClr val="222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Logo - United Healthcare"/>
          <p:cNvPicPr/>
          <p:nvPr/>
        </p:nvPicPr>
        <p:blipFill>
          <a:blip r:embed="rId1"/>
          <a:stretch/>
        </p:blipFill>
        <p:spPr>
          <a:xfrm>
            <a:off x="946080" y="2558880"/>
            <a:ext cx="2151000" cy="422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9"/>
          <p:cNvSpPr/>
          <p:nvPr/>
        </p:nvSpPr>
        <p:spPr>
          <a:xfrm>
            <a:off x="4008600" y="5281560"/>
            <a:ext cx="468756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 Ho, M.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ive Vice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ef Medical Offi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tedHealth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 1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3504960"/>
            <a:ext cx="8019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HRQ 2009 Annual Conference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arch to Reform—Achieving Health System Change</a:t>
            </a:r>
            <a:endParaRPr b="1" lang="en-US" sz="18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103" name="Slide Number Placeholder 1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90D5-5F9A-45C3-9F48-DCF435C0619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90640" y="123480"/>
            <a:ext cx="5553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4c58"/>
                </a:solidFill>
                <a:latin typeface="Arial"/>
              </a:rPr>
              <a:t>Research Informing Health System Change</a:t>
            </a: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42880" y="790560"/>
            <a:ext cx="789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18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efit Plan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8720" indent="-18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age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720" indent="-18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-p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720" indent="-18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720" indent="-18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720" indent="-18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720" indent="-18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havioral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8720" indent="-18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and Diseas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720" indent="-18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and Cost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imburs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8720" indent="-18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 for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720" indent="-18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-based Contra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02720" indent="-140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, Costs, and Consumer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720" indent="-18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itation and Bundled 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9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5567-1FA0-497A-BDAB-E300BB16FD2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4c58"/>
                </a:solidFill>
                <a:latin typeface="Arial"/>
              </a:rPr>
              <a:t>Concerns Related to Research</a:t>
            </a: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360" y="1324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I and IRB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tory Review and Certificates of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Coding, Formatting, Transmission, and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Care Quality and Cost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Care and Admin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ibute &amp; Learn Best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 Har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ntended Con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9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0E0B-8529-43AF-BA6D-C370D523C54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4c58"/>
                </a:solidFill>
                <a:latin typeface="Arial"/>
              </a:rPr>
              <a:t>Innovation - Diabetes Health Plan</a:t>
            </a: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09548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Diabetic and Diabetic 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entives to join plan, enroll in registry, and manage clinical 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costs to enrollee and to emplo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-based benefit plan design—zero or lower co-p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s individual coaching, incentives and online tools to manage the conditions consistent with ADA guide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onic case management to help manage A1C, Cholesterol and 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ure to compl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ndard health plan benefits as disincen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 is prevention of disease onset, unnecessary ER visits and inpatient st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is currently in pilot phase with 6 large national emplo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9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E27C-ADF1-4739-ABC8-55D2145FA4B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e4c58"/>
                </a:solidFill>
                <a:latin typeface="Arial"/>
              </a:rPr>
              <a:t>Almost 10 Years After IOM’s “Chasm” Report </a:t>
            </a:r>
            <a:endParaRPr b="1" lang="en-US" sz="18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5760" y="1333080"/>
            <a:ext cx="8597880" cy="496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urrent RBRVS-based system is fla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ards volume and not 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ards procedures &gt; cognitiv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s to promote preventive and we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s to reward care coordination, efficiency, or quality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ards specialists &gt; primary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n’t reward IOM’s quality aims of: patient-centered care, safety, effectiveness, efficiency, timeliness (access) or equitable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get what you pay for, and you don’t get what you don’t pay fo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build a new system on current platfor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ing what doesn’t wor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know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9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B18B-C63E-428B-9C1F-878329FF1D9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4c5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e4c58"/>
                </a:solidFill>
                <a:latin typeface="Arial"/>
              </a:rPr>
              <a:t>Pay for Performance is Widespread</a:t>
            </a: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61800" y="126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ies of programs across all types of payers document nearly 150 pay-for-performance program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 national survey, 52% of HMOs (covering 81% of enrollees) report using pay for performanc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re to implement hospital pay for performance (delayed from FY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orous (controlled) studies of pay-for-performance in health care are f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all findings are mixed: many null results even for large dollar am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nt findings from Medicare demo, National Health Service GP Contract, IHA suggest modest improvements in many but not all measures and some “gaming”—No Breakthroug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23800" y="6067440"/>
            <a:ext cx="8001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 Leapfrog Group and MedVantage, 200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osenthal MB, et al. Pay-for-Performance in Commercial HMOs.  New England Journal of Medicine, November 2, 20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10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5FAD-797C-4C8A-A614-6FB9C3B56AA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04960" y="132840"/>
            <a:ext cx="5753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4c58"/>
                </a:solidFill>
                <a:latin typeface="Arial"/>
              </a:rPr>
              <a:t>Can Payment Drive Delivery System Reform?</a:t>
            </a: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$ must be directed to patient-centered, effectiveness and efficiency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Os meet “5 criteria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challenges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 nationally endorsed measur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special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efficiency measures, as well as quality and patient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priate use and over-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se the bar for “attainm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mentally reward “improvem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lerate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ize data aggregation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significant incentives that impact upside/downside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ndle payments—e.g., PCMH, capitation w/ fixed/variable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9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C035-5BAD-42C7-BCB1-247E69CA467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4c58"/>
                </a:solidFill>
                <a:latin typeface="Arial"/>
              </a:rPr>
              <a:t>Innovation—</a:t>
            </a:r>
            <a:br>
              <a:rPr sz="2000"/>
            </a:br>
            <a:r>
              <a:rPr b="1" lang="en-US" sz="2000" spc="-1" strike="noStrike">
                <a:solidFill>
                  <a:srgbClr val="3e4c58"/>
                </a:solidFill>
                <a:latin typeface="Arial"/>
              </a:rPr>
              <a:t>UHC Patient-Centered Medical  Home</a:t>
            </a: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1720" y="1233360"/>
            <a:ext cx="7804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primary care physicians to provide coordinated care to enroll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ots in AZ, RI, CO, OH, and 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esigned payment program focused on quality and cost outcomes, and not just 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s to improve access, health care quality, costs and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physicians transform their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d unnecessary hospitalizations, ED visits, specialty referrals, lab tests, and R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9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5914-5B3E-408E-88C5-ACD13AA1D5E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457200" y="1165320"/>
            <a:ext cx="844560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2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852480" y="1441440"/>
            <a:ext cx="780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55560" y="1884240"/>
            <a:ext cx="742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55520" y="5630760"/>
            <a:ext cx="87804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2c80"/>
                </a:solidFill>
                <a:latin typeface="Arial"/>
              </a:rPr>
              <a:t>PCMH pilots have demonstrated 29% fewer emergency room visits, 11% fewer hospitalizations that primary care can prevent, and 6% fewer in-person visits</a:t>
            </a:r>
            <a:r>
              <a:rPr b="1" lang="en-US" sz="2400" spc="-1" strike="noStrike">
                <a:solidFill>
                  <a:srgbClr val="222c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42920" y="5676840"/>
            <a:ext cx="8734320" cy="723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4c58"/>
                </a:solidFill>
                <a:latin typeface="Arial"/>
              </a:rPr>
              <a:t>Innovation--PCMH and Bundled Payments</a:t>
            </a: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95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ndled payments (Patient-Centered Medical H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 pre-payment f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FS payment for medical and preventiv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pa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late for future performance-based contrac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FS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1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0AAC-9B67-4066-9073-6267AD9B8C0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20:10:06Z</dcterms:created>
  <dc:creator>Sam Ho, MD</dc:creator>
  <dc:description/>
  <dc:language>en-US</dc:language>
  <cp:lastModifiedBy>Steve</cp:lastModifiedBy>
  <dcterms:modified xsi:type="dcterms:W3CDTF">2009-11-05T15:56:07Z</dcterms:modified>
  <cp:revision>261</cp:revision>
  <dc:subject/>
  <dc:title>PowerPoint Presentation</dc:title>
</cp:coreProperties>
</file>