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1AF2-B1D7-4A2A-96CC-5CA6246A5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DAEC-AAD9-4F2E-A709-06BF3B1D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4A7-DAE6-4710-B7ED-340D8655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13D-1F3E-4685-A925-4F676754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1C203-1169-47C4-9082-78EDCCCF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0E99A-D415-410A-9DAD-108A99A8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A6974-B5CC-4E98-B740-143CA808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D3FB6-9BAA-494B-B224-A012FA4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CDA50-C514-4923-9587-42A26604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B795F-A423-4F15-AD35-22790E6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A412A-6451-40F5-988A-6F77DD13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097B8-9151-42E6-B6F0-B79A0140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8A69C-F00E-45D7-A9DF-D7038FDE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86CE8-93C2-4378-B31F-92A40F75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958-931B-49F1-AA02-89B7F1EC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2AAD6-58FA-4225-AEF7-53246196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FBF19-EEC1-47D6-A2B0-2140640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A8093-0D51-4A26-BA0A-783DCC66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66370-97BE-45D4-A7FF-176ED96B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7F43F-91B4-48A4-AEEB-36CA3FFD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1B8AD-7E32-4502-96B2-2883B7CF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484B8-BCC6-4375-A517-E6439E15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C2D57-BE33-4818-89F8-24E83027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44BC1-D3CE-4052-9156-E6581850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2215F-B22A-45F1-926E-3713146E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0CA-2E2B-44DB-981B-408A5C13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B7A43-BB39-47AE-8F7D-4C662499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FD4CA-F437-438A-802C-3CF949CE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02E3F-BA24-4C79-8D74-38EB9687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B9197-B77A-4778-8D5B-D163D88D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D51C7-700F-444E-87C5-5D979943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D6134-1C4B-4251-BBBB-512AA4CF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B6F39-C9D2-4C63-A3E3-EE473D86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C81C5-D1BD-447B-B2C3-E0D211F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03802-49DE-489A-83AE-1959A424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C5421-477C-4D36-809F-719D5EE8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B2EF4-F5DD-4391-89A4-06DFB285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D1889-C494-48EF-987E-FAA7F8E7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D9591-5271-4CF4-9CCC-E90BC459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6FC87-F94C-447A-92B6-99FE1827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B226D-DAD4-4EF6-9A9E-C2855FA3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7122B-62F3-4184-B83B-98B673A2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04281-0FEC-4037-819E-A0CEB7B1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99717-CB6E-4E2D-890B-07C831F2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4AE23-8709-4BDF-A567-EF4F88C8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CE769-ECC7-4138-912D-2BAD6993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6463C-1338-4745-8715-E4020A68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85F2E-03F5-4710-9A04-0F403813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F8062-BF88-422E-AF1D-51FC618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C4650-4012-49CD-BCC1-C7DDB0BB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8A71F-9AA6-430F-A6B5-BC4D3AE8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66616-6AB8-40F3-B176-D71E3FBA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53C86-38AB-4153-BCEB-9EE84EB3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A7FA5-B320-4023-9AE6-A1B8FF99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C9059-F4B3-4035-B8D0-EDFC28F4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B9730-603F-4FB6-9C79-393D1546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FA801-AB65-4B6E-AE0E-2F3B086E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B95DE-BDF7-4378-A665-4F6BDAB5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A31-0CE6-46B9-B4FA-3A2DE521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DCC4E-ED1A-4992-8BD9-B1011395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4A648-8585-4084-8FED-71CDB386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350E9-7771-40BA-A410-BB590605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B3CB8-C05B-4AB5-B55E-720353EB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EE727-2D09-4A14-A918-3D664BF0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A7D9-51C6-4D22-90E2-27A33565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D286B-D7BB-4FA6-8187-7549F79F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5163-22D8-41BE-8BC0-018564EC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C3B4-4E8E-4066-B73C-5C9B1EB7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EC6B-907F-4CBC-B510-102C6281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C56-0852-4DE9-BC0D-991B30EF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677DE-7C6E-4F8B-BC7B-1592EDDE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64E3-98F1-4396-9A43-2BEAA8F6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D1359-7FE2-4F29-BEB0-27A2026D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06AB6-DB02-4213-B838-3973C47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6682-8EFA-4FCC-8271-26FD9645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CFB2-BA5E-42B3-AFE8-84FCE0BD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19D41-40AE-45DE-B696-F99B3BBB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0F62-81D7-4B1F-B697-E9AE512C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D4EB-9A2D-41C7-AA63-14DD5B82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F7CB3-AF94-49E1-BF4E-D43A55E0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A25-C1FF-40F4-94FE-E91A5499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866A5-C1A5-4656-9D12-51828E7B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D13E-4B26-4177-9C48-3C40855C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4C52-46E1-44AD-98E1-2DC3CF05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C782-BFFD-4598-A3D8-DC252F25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BF59-47D5-4B66-96E0-B517015D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C80D-805F-4446-85DB-A884A1F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C197-F421-4B3B-8C53-38957437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232A-A9CA-466E-BC14-6303197B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A45AB-9CBF-45AF-915D-687850EA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B61AE-87DE-4E1A-BE6B-68296103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F27-FD68-443F-A9C0-927B2176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2E514-C797-45C6-AE90-BD71DBBB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816F6-EA93-4653-9FAA-E40C3FD3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0464B-5CE9-47A6-9E1C-2F1F1FAF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D64D8-68AC-4C20-92DE-09FDDE7B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82E71-E386-4594-BFF3-6353319C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CE379-505E-437B-8276-C6985A4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8421B-C877-4887-9D21-490FBD9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1E52-3BF0-41EB-927B-513EE3F5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2C82-F57D-4B6B-9D36-5DAE27A5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C9282-522E-4B6A-B5A1-A9D8C896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A0B-A02B-46A5-A964-C0C023F7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F7D66-9E68-4D5A-A3FA-C7B75F96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A9BFF-DACE-4684-9DAA-8707934A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11808-3309-4C59-AEBF-8DADC7E3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0CFD-4C93-4CB4-99F1-D9E5DB90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CE95-E506-4FA0-BE3B-0F7F57D8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1957A-5AC8-421A-906C-06DFA86F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29B12-BAC3-47FD-A15A-FA945F15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17EFB-FAE1-487E-8EB1-7F560700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7D201-AED4-4CC6-9314-60A7358A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1510A-BC90-4C41-BAB3-AE8E514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856-88AB-4CDA-8820-1BEDCA7A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EDD07-8CEC-41AD-B3F8-AA8AC25D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0ED56-99F9-4923-B17D-49922D77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82C2-A321-4DD9-BC42-A4DA9741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10D51-E7F8-4FAF-8F30-3CEBAD02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DD896-94AD-4EE0-B922-B7391E68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7C76A-7670-44CF-A7CC-58636952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A374E-8F97-4406-9849-D0DE6BEE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A5CA0-C19D-496E-8E84-E0B0A386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B1B70-E835-4444-BBC3-F80F747C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8EEF1-8D90-4483-8F9A-F070611E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28A-0D96-45AF-B3DC-697A831D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F4DF5-8AF7-4C68-9D2A-ACC7F9B6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25D62-C056-4D7B-BCF6-DC767D6C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0B5C1-9C00-4472-B265-397ACE2A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4B2C4-5AAD-4570-99C9-CF157921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D13E8-68E5-48E6-9944-001725E3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50EDD-9443-472D-9559-F3395E8A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92ABE-5E0B-479A-9A2D-7ACC0EA6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31055-53BF-4055-B737-F098FBDD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D4B02-DAAE-4F35-987E-A0960374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160F1-AA77-4095-9619-53487325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B70-D5FF-4C42-8EAF-41FD67EC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A2ABA-C469-44F9-83C7-B8257DDD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9C4E3-90F6-42EE-9308-5D317C0C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5ADB8-BAC1-48D7-BC90-31DFC8FB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CAD2E-6DBC-4573-A0C8-344359C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C99AC-B72D-469B-B9BA-B6862BBA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571AD-DF10-4540-9CC7-5F8F9F8F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3F5B5-569D-4432-95B3-4882BDA1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D912D-B5E7-4BCD-9CE0-16B34D6F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BBFE2-EDCF-4F19-8EB1-11C5D971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E3FDE-86A5-4917-A125-896FEFD7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1923-FDFE-4E40-B8D5-0D18C74A5CA5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0492-975D-49B3-A214-89BD43230353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D41C-D6BC-4276-A1B2-61EF88A9852D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1BC0-9D63-45F7-ADCE-FB7CAB185112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9D19-D2E1-4A11-9B18-B91522F3876E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4DEB-0F8F-4ECB-905E-2D45FC728720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54A5-B62F-401E-ABA4-59B7E4039E78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6299-6E2F-472D-B1BD-BB43EBE38CC5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ooter_no-logo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858000" y="645156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538840" y="5954760"/>
            <a:ext cx="43956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BBDA-8E90-42BE-BD0D-40B486683B0F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693360" y="5257440"/>
            <a:ext cx="131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E728-4E4F-4508-9112-3E281D8409FB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9569-82F7-49D9-8C64-607FC9D7B88E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0518-339A-4F9B-950A-08D47F7909FA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A816-9391-417D-AB24-94DA34612BD7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6F5A-3990-432A-8A30-CF144986A993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553C-5A19-441C-AFE4-563F55631F5E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8F67-574F-4019-9128-39EF45A35B86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9EB-DEEF-49EF-94EC-29684BDFA15E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271D-7395-4410-B6F4-F54E7EA0CFEB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6E76-8064-41B2-B59B-360400526E98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B221-B07F-4FD8-84F4-872D65E7A5FD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A496-58DB-4A37-9207-03FF5A6C2DE1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857-57E3-4F06-A9EA-7FDDF42C0E41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1EF9-FE94-4BD0-8CF6-8AC7B02A7689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EE70-D24D-4B25-A676-3AF800B1A21D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Linda.greenberg@ahrq.hhs.gov" TargetMode="External"/><Relationship Id="rId2" Type="http://schemas.openxmlformats.org/officeDocument/2006/relationships/hyperlink" Target="mailto:mhalpern@rti.org" TargetMode="External"/><Relationship Id="rId3" Type="http://schemas.openxmlformats.org/officeDocument/2006/relationships/hyperlink" Target="mailto:mhalpern@rti.org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6"/>
          <p:cNvSpPr/>
          <p:nvPr/>
        </p:nvSpPr>
        <p:spPr>
          <a:xfrm>
            <a:off x="8539200" y="5954760"/>
            <a:ext cx="439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D7F4-069B-4038-A117-E4D34A196176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9" descr="banner_slogan"/>
          <p:cNvPicPr/>
          <p:nvPr/>
        </p:nvPicPr>
        <p:blipFill>
          <a:blip r:embed="rId1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0"/>
          <p:cNvSpPr/>
          <p:nvPr/>
        </p:nvSpPr>
        <p:spPr>
          <a:xfrm>
            <a:off x="1911240" y="5275440"/>
            <a:ext cx="5175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c4c8dd"/>
                </a:solidFill>
                <a:latin typeface="Arial"/>
              </a:rPr>
              <a:t>RTI International is a trade name of Research Triangle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1" descr="RTI_rgb3inPC"/>
          <p:cNvPicPr/>
          <p:nvPr/>
        </p:nvPicPr>
        <p:blipFill>
          <a:blip r:embed="rId2"/>
          <a:stretch/>
        </p:blipFill>
        <p:spPr>
          <a:xfrm>
            <a:off x="4037040" y="4695840"/>
            <a:ext cx="1101600" cy="5112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38480"/>
            <a:ext cx="85914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view of the AHRQ Project “Designing Consumer Reporting Systems for Patient Safety Events” 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hael T. Halpern, M.D., Ph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ior Fell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 of Health Services and Social Policy Research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pt. 14, 2009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A913-B387-466E-857A-4D35CF8856E3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liminary Consensus Poi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First TEP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87240"/>
            <a:ext cx="7848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urpose of consumer reporting system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ment of health care and development of safer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ystem ownership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dependent, to avoid conflicts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ystem governanc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rong representation by consumers, but open to all stakeholders, using a commission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ystem desig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llowing submission of consumer reports by multiple modalities (e.g., phone, email, fax, etc.) and providing real-time (24/7) response capa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evel of operatio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 multiple levels, from local to national or interna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D7AF-1926-40A6-B849-0EA80FD2DD91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, Third, &amp; Fourth TEP Meet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506600"/>
            <a:ext cx="784872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TEP meet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ec. 2 &amp; 3) will focus on parameters and consensus recommendations for TWIS, including potentially feasible approaches and barri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TEP meet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ebinar) and will focus on completion of TWIS specifications, final list of recommend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ations from third meeting and the draft final report will undergo external review by at least three patient safety experts; recommendations will also be reviewed by consumer and caregiver focus grou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TEP mee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webinar) - TEP members will review  feedback received from the external review process and develop the final list of recommend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4516-ADCA-4A02-8E3D-14649B92423B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 Scan and Literature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8487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: explore technical feasibility and design elements for consumer reporting systems identified from Delphi questionnaires, first TEP meeting, and initial consumer focus grou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focus on technically possible options for consumer reporting sys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e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challenges for implemen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interviews with 9 key inform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5833-D7A3-4459-BD28-471A2F120705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 Groups with Consum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84872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first-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cus groups will be conducted with patients and/or caregivers who have experienced near miss or adverse ev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focus groups held in Denver in June to provide ideas and input for developing consumer reporting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re held in early September in Houston to provide additional ideas and inputs.  Two additional focus group meetings scheduled for Bost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CE8A-F564-4846-A875-CE2E5D2A28E7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Round Focus Groups with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-round focus groups will be held after second TEP meeting, to gather additional feedback on system design issues and recommendations from TE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from focus groups will be shared with the TEP for incorporation in final recommend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977D-47CF-4799-BA7D-E58F89DA0E85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views with Key Stakeholder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key stakeholders identified to participate in telephone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group of individuals who can provide information on the design of consumer reporting systems for patient safety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interviews completed to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from interviews will be shared with TEP members without identifying 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4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2129-DE61-4394-9057-FCC8AA0EC61C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44440" y="2019240"/>
            <a:ext cx="1722600" cy="1483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oretical Ideal and Ultimate Ideal System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Three-round Delphi Question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view of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2392200" y="1990800"/>
            <a:ext cx="1967040" cy="23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cally Workable Ideal Systems (TWIS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P Meeting (in-pers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Focus Groups with Consu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nvironmental Scan and Literatur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800600" y="1989000"/>
            <a:ext cx="1967040" cy="2828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tion of Specifications of TWI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terviews with 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P Meeting (in-pers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round Focus Groups with Consu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P Meeting (webin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7196040" y="2014560"/>
            <a:ext cx="1744920" cy="146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mmended System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External Peer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P Meeting (webin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3"/>
          <p:cNvSpPr/>
          <p:nvPr/>
        </p:nvSpPr>
        <p:spPr>
          <a:xfrm flipV="1">
            <a:off x="1959120" y="2371320"/>
            <a:ext cx="4251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04"/>
          <p:cNvSpPr/>
          <p:nvPr/>
        </p:nvSpPr>
        <p:spPr>
          <a:xfrm flipV="1">
            <a:off x="4356000" y="2368080"/>
            <a:ext cx="4572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05"/>
          <p:cNvSpPr/>
          <p:nvPr/>
        </p:nvSpPr>
        <p:spPr>
          <a:xfrm flipV="1">
            <a:off x="6767640" y="2368080"/>
            <a:ext cx="4251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9843-44A7-4D00-A05B-40F0F02922DB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semination Pl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formation Dissemination Plan Report will be prepared that will present outreach strategies to disseminate the project’s key fin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indings will be disseminated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-reviewed journal artic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 briefs in newslett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eb sites of major health care delivery organizations, patient advocacy organiz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esentations at conferen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rief publications in trade journal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media outreach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6C0B-F2A3-4887-8C77-EE8AE6A36393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ject Person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: Linda Greenberg, James Ba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I: Michael Halpern, Amy Roussel, Linda Lux, Patrick Nerz, Katherine Treiman, Asta Sor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S: Marty Hatlie, Sue Sheri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8A50-EEE0-4AC5-B493-E78BA868FEA8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More Information 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354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HRQ: Linda G. Greenberg, PhD at:  </a:t>
            </a:r>
            <a:r>
              <a:rPr b="0" lang="en-US" sz="22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Linda.greenberg@ahrq.hhs.go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I: Michael T. Halpern, MD, PhD at: </a:t>
            </a:r>
            <a:r>
              <a:rPr b="0" lang="en-US" sz="22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mhalpern</a:t>
            </a:r>
            <a:r>
              <a:rPr b="0" lang="en-US" sz="22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@rti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very mu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8124-58FE-4B96-B525-F4B702F17C30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706400"/>
            <a:ext cx="784872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99, 25+ states have passed legislation or created regulations on hospital reporting of adverse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urrent event reporting systems are aimed at health care providers – don’t facilitate input from patients and their families on experiences with c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input is needed - may facilitate detection of patterns of patient safety events, highlight system flaws, and reveal information not necessarily observed or reported by provider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820A-E70B-4806-B3ED-8F959DB1B7D6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er Reporting Systems for Patient Safety Ev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81200"/>
            <a:ext cx="78487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and family members are in a unique position to view continuum of care and identify gaps that may contribute to adverse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including patient reports will complement information from health care providers collected through other reporting mechanisms such as PS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reporting systems may improve understanding of medical errors and enhance  methods for improving quality and preventing patient ha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D716-4C7E-4D95-9638-48C0F60AD2D8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HRQ Project: Designing Consumer Reporting Systems for Patient Safety Ev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778040"/>
            <a:ext cx="7848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recommendations for consumer reporting systems, AHRQ awarded a 2-year contract in Sept. 2008 to RTI International and Consumers Advancing Patient Safety (CAP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nvolves an iterative consensus-building proces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echnical expert pane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mer focus group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s with key stakeholders;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vironment scan and literature review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E36B-6DBC-4E93-BECD-C1F027777F74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ject Framework – IDEALS Concep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“Ideal Design of Effective and Logical Systems” (IDEALS) design concept (Nadler, 196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oncept, a recommended system evolves through three s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heoretical system capturing a vision of an ideal syste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ultimate ideal system built on the theoretical ideal system but contains achievable operational and practical goals;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echnologically workable ideal system (TWIS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3A5A-6309-44E6-B604-419E304155E0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chnical Expert Panel (TEP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provide input on featur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ems, technically workable ideal systems, and recommended systems for consumer reporting systems for patient safety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 comprised of 18 individuals selected to include experts in patient safety, event reporting systems, health care delivery, quality improvement, patient-centered care, and patient advoca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generated through Delphi questionnaires and TEP meet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D593-D904-43FB-AA5A-919728C56E5D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DEALS Concep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3" descr="Conceptual Model"/>
          <p:cNvPicPr/>
          <p:nvPr/>
        </p:nvPicPr>
        <p:blipFill>
          <a:blip r:embed="rId1"/>
          <a:stretch/>
        </p:blipFill>
        <p:spPr>
          <a:xfrm>
            <a:off x="604800" y="1849320"/>
            <a:ext cx="7493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DF41-7A71-42D1-B4C6-E4B7C3D8C7A0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lphi Questionnai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72840" y="1696680"/>
            <a:ext cx="784836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rounds of questionnaires, with anonymous respo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 focused on 5 open-ended questions collecting information on functions, features, and characteristics of consumer reporting systems from an ideal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nd third round questionnaires asked participants to rate and rank suggestions provided from the round 1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ound results described the ideal attributes of a consumer reporting system for patient safety events and formed the basis for the first TEP mee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3612-AD7D-4223-B7C3-58BE254CFE3C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TEP Mee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meeting held at AHRQ headquarters June 24, to discuss questionnaire results, provide more detail on design features of ideal reporting systems, and form  initial set of recommend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facilitated using Nominal Group Technique (NGT), which allows TEP members to generate items on priorities individually and then share and discuss these with other TEP mem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7:50:02Z</dcterms:created>
  <dc:creator/>
  <dc:description>©  Research Triangle Institute. RTI International is a trade name of Research Triangle Institute.</dc:description>
  <dc:language>en-US</dc:language>
  <cp:lastModifiedBy>Rasa</cp:lastModifiedBy>
  <dcterms:modified xsi:type="dcterms:W3CDTF">2009-10-26T03:25:07Z</dcterms:modified>
  <cp:revision>131</cp:revision>
  <dc:subject/>
  <dc:title>RTI ppt template</dc:title>
</cp:coreProperties>
</file>