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BAEF-3753-4A68-BCDE-B038BC245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E993-9730-4110-BFB8-460F9C8D9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252-E7E7-4CE7-B020-BC8E5783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587-620B-41FB-8DBB-1F791A7C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3AF4F-5630-49A1-9BF5-7EAEDDBD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98952-BE0F-45E6-BBD6-03351EA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2B82B-1457-4430-A1F1-8FF3A414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6CD91-73CE-4103-80D3-BF127A4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56AA9-A5B8-4E8E-BA1E-0B55B938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FD207-DBEC-4C48-A7F7-D14CC97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40824-253F-4A5B-BA50-B38BAFC8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1B9C4-AC7D-4F5D-A321-F4584CD6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4C5C1-5159-49D5-AB17-3F896D3C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D6669-CBD6-40DB-BA54-AA489D7D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815-0491-4DB9-BA0D-C2925987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BD554-E547-4293-B791-C19B7FAE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A8229-B57A-46A5-B703-54CB4D14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DE7DB-C065-469B-8DD9-6C0B94F2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99FB5-CA2E-4456-AD30-52CC08E2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85CB2-8451-43F4-838F-76420107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086FF-1763-491E-8465-1C942390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EAB88-481D-4534-92CA-5AC7EBBD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F7EF3-B774-4CE6-AC7E-1685C90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86151-0A1D-4AC1-AD50-245293C1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6465F-9478-4A29-9518-4E68EFB8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253-87F7-457F-A93D-005B5C3E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73AEF-2E52-4AFB-B694-0C3C8DD5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A0A60-5877-4312-8D7A-4C417CE8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E6A34-F194-436C-98DD-545AAB65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E46B5-A58A-42CB-ABF3-0726560A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DCC59-A506-4E51-B307-967AEA91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0F24C-08EA-4DFF-B918-7F729306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F055B-2160-434B-AA3A-89D41A9B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717F8-6D16-4B1A-B2C5-AD87B485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7A9D4-A37F-48A8-B077-1A9F482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77DCD-5AA8-4371-900F-4478AC1A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51892-E1AF-486E-9BD1-945CC6E7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B15B1-87C7-4EAF-8D97-BBDB6774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34904-3C8F-482E-9E5D-5BCE7CC1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8BD1F-E19C-48EC-A89C-D88458F4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4E187-E62B-4DC7-8181-8B37B109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F4594-01BD-4E03-B118-FA9A14A4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17426-F95E-4D3F-9A32-5FFD3399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4F9AA-F03B-41E5-A01D-0BE86DE3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A4C0E-C42C-4FD8-8BBD-1683E868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BFA3A-561E-4926-BB0E-34A600A9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DE121-8A5A-4A99-99C2-20363A3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93A5E-3F34-43EF-A6C9-093DA56A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81CA4-8AB0-485B-9978-C3B6800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C532B-AC70-422E-BF0D-1307E626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E9D84-32C3-485E-8299-6B947B09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676AB-18EC-4F72-B7F2-61E79547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3B8A2-9D34-4C8D-8791-8926DFBE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F5920-67DD-4754-98DB-26B4F529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AE452-71D3-4346-8FE4-4E569BED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0DE61-16BD-4FC0-BE80-A6B58EEA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71FB2-2AF4-44FD-9734-E1CC2C05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C19F9-7152-46DE-B10A-DFD18D9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A36-0172-4D0D-9F89-609743AE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7AE93-83E8-4A2C-85FD-36740C61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09CBA-F19C-403E-B52D-10DFC1F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E4C9A-B55E-4ECB-A432-15C1A43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A8EB9-95C9-4147-8DAB-0D0BE2BA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9AD36-1B6F-4F7C-ACD1-BEE08A8A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349C-E043-49BB-95DB-2848E1F5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2F91-8012-48E8-8EF5-600B5A84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2CA2-51A0-4315-A482-3423BDD5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32A5-23A6-4BB9-93D1-4FA413A1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7174B-0CE9-44FF-BC6D-3BCBA9A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2EE-1DFD-44E6-B81D-7E792F11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B73F-8976-4C06-81AA-CBABB013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29E4-7F48-4274-B3A1-00B705B4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19C0-91AD-4689-B3F5-98F2296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6BD5-B554-468B-AC74-65E406A9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5B84-A014-455F-955C-62A8FC00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5EE5-FEAE-45A8-B3E0-83BB6A79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54CF-4ED1-4D29-BD27-118050CB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4897F-F1AF-48B9-B1FB-74226E67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703A9-620A-46BB-919A-B28AB01C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24E3-0EAC-4BA1-A1EE-B2618D43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886-7984-40E2-8D75-832ADC3E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EE394-164F-4D7B-9F53-77B126ED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75B4-B965-4F8C-9CF9-532D557C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5D4D-FD55-486C-BF15-F62FE158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0FF2-E0C3-42EF-9FFB-FE801F86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C209-9514-4B18-8C5D-B34BD088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8F646-7BE8-4AD7-8FBE-AC82830C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BA2E-EEA0-467A-BE34-44BAF409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1D55E-B053-4D47-8A36-02719A68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3927-892B-4900-88D3-8EE96598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F3D10-796D-4762-8F91-0A6E1341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6E9-650B-488E-A78A-D4E8BCC5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AD93D-5E39-44FF-8F36-4FDEB7F2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5C530-1DBF-4671-9D5A-2B13A7C7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463EB-A5DD-4270-9B98-F708AC03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4E573-F4C7-4687-91E7-C229B114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8B7BB-AF4E-401C-B9B7-EDB33AC4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6281-329A-44B7-92C4-9EFDA5B5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260F-00B5-475E-8DF6-B2A979BD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15B28-FE3A-429E-A45C-5802C7EF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772AD-B32F-4D1D-8E10-E5388366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35506-FDC9-45B2-981D-0304E62A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26B-B395-4AA1-B2EE-1AA87E75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E172F-3577-4A05-9D77-E285C03A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7AE6C-CAFB-4C61-9AFC-E7529C6A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AC34F-3802-4DAA-840A-8E199B04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9EEA-2390-4285-9A82-4E6DF80C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FED3-4DD9-4B33-9825-414DAFD3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4D7B-37E4-42BC-8260-0713B5C7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1BCAB-38AB-4E61-A0DE-484D5837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D1DE9-C9B9-4EA7-B066-4A0BD91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F3CEC-85EB-4AF1-B9B7-046F70E0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A7A8A-CDB0-4274-AEB0-C623C766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589-6023-4BD1-A451-0B3FAB2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83ED0-5D9A-4E5E-8C77-153A716E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1957B-D5DA-47F9-9726-65C628A4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A0D08-C70D-466A-9FFC-1D39A694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E4459-8FD7-405C-BAD7-7C15EF6C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75D48-E0EC-4532-80DD-B75AD27F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BF7DC-D163-4FA8-8219-2AAD031A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9F40C-FE20-4016-A059-CD76B6C6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2B94E-41BC-495C-B034-686C47D9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D8CCC-E250-4C5F-BAC3-1C85EE22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CFE5C-6ECA-4EF1-91FE-E84E11E9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4DC-B5A0-4952-9E98-3787E15C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3A755-C63B-4DE1-8EDB-E7A6609A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B0F7-1DC8-4499-82B3-3AD3CAB6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21A33-A86A-4623-8415-32B67070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DFF24-96BC-4B68-9977-F1681C45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86CC0-F4DE-44EF-B555-9FD96CE8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87475-D19E-43F7-AA3A-1E1EE851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BFB80-AD36-42C3-97BF-8ACDC348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457C1-5B65-45CC-9B39-CB4F6FDF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355EF-5375-444B-810C-A730665E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29FE3-EEB8-470C-B6CB-19171A2F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BF4-508E-4260-88F0-9D17FAB2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56BB0-6ECE-42BB-83EC-BD6E0080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8FA4E-4990-4F7D-AA6A-E5FBFA2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F74D3-F4DE-40F9-A64B-8D4C3B09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2BF7-EDE1-4DCD-ABD9-CCFE6C9C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1A13E-32A9-4A9D-A248-B6C1B341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60A6-4F9A-4691-B483-448549A7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F2F25-410F-4315-94E8-F40B5597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283B7-0AAF-4925-9F5E-3BCBF664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7ADA8-2D93-47BD-8A61-3E226CCD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7DAD9-2B9A-45CE-ABBC-89E0D334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51C1-3A07-4A54-A812-214706A508CB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669D-F0D9-4A34-A043-94BCADC1D97F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19DC-0134-47D0-8F9F-53FDA9E3045D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DDD2-EA9A-4B6C-B757-78B74089EFB3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5464-ED9B-45A7-8561-E6617F647D40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52A1-27F5-4488-A638-1D3DBF5659F7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CFB9-A2A0-4205-A72B-4EED5BD4E99A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3122-E6C6-4B8C-8B25-CE62F7CF2FCD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ooter_no-logo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858000" y="645156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538840" y="5954760"/>
            <a:ext cx="43956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0A39-0191-4865-81DD-D91A2B870302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693360" y="5257440"/>
            <a:ext cx="131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84B3-AF58-4787-A271-4C02F4A1BDAE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77E1-EFBD-4D1D-B635-53913F1BA73C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640D-6034-4134-8F51-081A643A5C6B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0723-3C23-45BC-B8F3-4AE7C4AE5867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328B-143A-49BE-ACEE-B9D87822218D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D94E-02CD-4EB3-8B1D-CBE439304A80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5528-13A1-4669-B484-8A7B4DA397B6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4857-D804-4642-AF74-F398B4E79819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84E7-66BC-4997-AAF9-9C19A9D1541A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63FF-6AB9-4749-AFC3-6BB2EBFA836F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73EB-79C8-4AB9-8FD9-776E83D9FA08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1C33-7B94-4BCC-A696-634A4978F6CB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8788-5036-44CF-AA37-0D89933BEEA4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9" descr="footer5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banner_globe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EF16-1377-4252-AAB1-9C2180B495CE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RTI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1E78-81A1-49D1-8FB9-825EE58DF82A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Linda.greenberg@ahrq.hhs.gov" TargetMode="External"/><Relationship Id="rId2" Type="http://schemas.openxmlformats.org/officeDocument/2006/relationships/hyperlink" Target="mailto:mhalpern@rti.org" TargetMode="External"/><Relationship Id="rId3" Type="http://schemas.openxmlformats.org/officeDocument/2006/relationships/hyperlink" Target="mailto:mhalpern@rti.org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6"/>
          <p:cNvSpPr/>
          <p:nvPr/>
        </p:nvSpPr>
        <p:spPr>
          <a:xfrm>
            <a:off x="8539200" y="5954760"/>
            <a:ext cx="439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AFEA-09B8-49DB-92BD-FC771C6B4E21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9" descr="banner_slogan"/>
          <p:cNvPicPr/>
          <p:nvPr/>
        </p:nvPicPr>
        <p:blipFill>
          <a:blip r:embed="rId1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0"/>
          <p:cNvSpPr/>
          <p:nvPr/>
        </p:nvSpPr>
        <p:spPr>
          <a:xfrm>
            <a:off x="1911240" y="5275440"/>
            <a:ext cx="5175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c4c8dd"/>
                </a:solidFill>
                <a:latin typeface="Arial"/>
              </a:rPr>
              <a:t>RTI International is a trade name of Research Triangle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1" descr="RTI_rgb3inPC"/>
          <p:cNvPicPr/>
          <p:nvPr/>
        </p:nvPicPr>
        <p:blipFill>
          <a:blip r:embed="rId2"/>
          <a:stretch/>
        </p:blipFill>
        <p:spPr>
          <a:xfrm>
            <a:off x="4037040" y="4695840"/>
            <a:ext cx="1101600" cy="5112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38480"/>
            <a:ext cx="85914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view of the AHRQ Project “Designing Consumer Reporting Systems for Patient Safety Events” 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hael T. Halpern, M.D., Ph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ior Fell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sion of Health Services and Social Policy Research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pt. 14, 2009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B8BF-6217-4C5D-A7D0-2B676732A5B6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liminary Consensus Poi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First TEP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587240"/>
            <a:ext cx="7848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urpose of consumer reporting system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ment of health care and development of safer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ystem ownership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dependent, to avoid conflicts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ystem governanc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rong representation by consumers, but open to all stakeholders, using a commission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ystem desig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llowing submission of consumer reports by multiple modalities (e.g., phone, email, fax, etc.) and providing real-time (24/7) response capa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evel of operatio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 multiple levels, from local to national or interna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2907-B409-4DAB-A8F1-B4DB21AD1B3A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, Third, &amp; Fourth TEP Meet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506600"/>
            <a:ext cx="784872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TEP meet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ec. 2 &amp; 3) will focus on parameters and consensus recommendations for TWIS, including potentially feasible approaches and barri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TEP meet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ebinar) and will focus on completion of TWIS specifications, final list of recommend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ations from third meeting and the draft final report will undergo external review by at least three patient safety experts; recommendations will also be reviewed by consumer and caregiver focus grou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TEP mee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webinar) - TEP members will review  feedback received from the external review process and develop the final list of recommend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F277-1948-4D59-8F89-03B92B518615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 Scan and Literature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7000"/>
            <a:ext cx="78487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: explore technical feasibility and design elements for consumer reporting systems identified from Delphi questionnaires, first TEP meeting, and initial consumer focus grou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focus on technically possible options for consumer reporting sys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e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challenges for implement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interviews with 9 key inform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35F1-B802-401C-BE61-EA06A84986F4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 Groups with Consum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84872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first-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cus groups will be conducted with patients and/or caregivers who have experienced near miss or adverse ev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focus groups held in Denver in June to provide ideas and input for developing consumer reporting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re held in early September in Houston to provide additional ideas and inputs.  Two additional focus group meetings scheduled for Bost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0972-D294-478A-B532-3F896601CC1A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Round Focus Groups with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-round focus groups will be held after second TEP meeting, to gather additional feedback on system design issues and recommendations from TE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from focus groups will be shared with the TEP for incorporation in final recommend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7FA3-0558-4447-86D7-A35BF4D2EBFA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views with Key Stakeholder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key stakeholders identified to participate in telephone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group of individuals who can provide information on the design of consumer reporting systems for patient safety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interviews completed to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s from interviews will be shared with TEP members without identifying 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4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9C28-C4FC-4A9C-9A7B-395E99D0B37D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44440" y="2019240"/>
            <a:ext cx="1722600" cy="1483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oretical Ideal and Ultimate Ideal System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Three-round Delphi Question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view of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2392200" y="1990800"/>
            <a:ext cx="1967040" cy="23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cally Workable Ideal Systems (TWIS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P Meeting (in-pers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Focus Groups with Consu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Environmental Scan and Literatur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800600" y="1989000"/>
            <a:ext cx="1967040" cy="2828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tion of Specifications of TWI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Interviews with 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P Meeting (in-pers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round Focus Groups with Consu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P Meeting (webin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7196040" y="2014560"/>
            <a:ext cx="1744920" cy="146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mmended System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External Peer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EP Meeting (webin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3"/>
          <p:cNvSpPr/>
          <p:nvPr/>
        </p:nvSpPr>
        <p:spPr>
          <a:xfrm flipV="1">
            <a:off x="1959120" y="2371320"/>
            <a:ext cx="4251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04"/>
          <p:cNvSpPr/>
          <p:nvPr/>
        </p:nvSpPr>
        <p:spPr>
          <a:xfrm flipV="1">
            <a:off x="4356000" y="2368080"/>
            <a:ext cx="4572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05"/>
          <p:cNvSpPr/>
          <p:nvPr/>
        </p:nvSpPr>
        <p:spPr>
          <a:xfrm flipV="1">
            <a:off x="6767640" y="2368080"/>
            <a:ext cx="4251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9F0-DCB9-4DB5-B4BE-027DFD06B269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semination Pl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formation Dissemination Plan Report will be prepared that will present outreach strategies to disseminate the project’s key find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indings will be disseminated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-reviewed journal artic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 briefs in newslett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eb sites of major health care delivery organizations, patient advocacy organiz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esentations at conferen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rief publications in trade journal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ther media outreach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05C3-5987-4334-93D9-A9A56E368F8C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ject Person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: Linda Greenberg, James Ba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I: Michael Halpern, Amy Roussel, Linda Lux, Patrick Nerz, Katherine Treiman, Asta Sor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S: Marty Hatlie, Sue Sheri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CAF5-AC39-4916-82EA-4DEE2CB9DD7D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More Information 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354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HRQ: Linda G. Greenberg, PhD at:  </a:t>
            </a:r>
            <a:r>
              <a:rPr b="0" lang="en-US" sz="22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Linda.greenberg@ahrq.hhs.go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I: Michael T. Halpern, MD, PhD at: </a:t>
            </a:r>
            <a:r>
              <a:rPr b="0" lang="en-US" sz="22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mhalpern</a:t>
            </a:r>
            <a:r>
              <a:rPr b="0" lang="en-US" sz="22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@rti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very mu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BA8D-5BBB-4F64-835E-1080F925097B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706400"/>
            <a:ext cx="784872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99, 25+ states have passed legislation or created regulations on hospital reporting of adverse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urrent event reporting systems are aimed at health care providers – don’t facilitate input from patients and their families on experiences with c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input is needed - may facilitate detection of patterns of patient safety events, highlight system flaws, and reveal information not necessarily observed or reported by provider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65AB-0F59-4976-A1C6-DF8E179636BB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er Reporting Systems for Patient Safety Ev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81200"/>
            <a:ext cx="78487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and family members are in a unique position to view continuum of care and identify gaps that may contribute to adverse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including patient reports will complement information from health care providers collected through other reporting mechanisms such as PS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reporting systems may improve understanding of medical errors and enhance  methods for improving quality and preventing patient ha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30A7-B7B1-4D37-8F28-7CBD4DAC2E84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HRQ Project: Designing Consumer Reporting Systems for Patient Safety Ev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778040"/>
            <a:ext cx="7848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recommendations for consumer reporting systems, AHRQ awarded a 2-year contract in Sept. 2008 to RTI International and Consumers Advancing Patient Safety (CAP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nvolves an iterative consensus-building proces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echnical expert pane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mer focus group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s with key stakeholders;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vironment scan and literature review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E7A7-E6DF-4415-8860-D9B47AD6DD88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ject Framework – IDEALS Concep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“Ideal Design of Effective and Logical Systems” (IDEALS) design concept (Nadler, 196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oncept, a recommended system evolves through three s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heoretical system capturing a vision of an ideal syste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ultimate ideal system built on the theoretical ideal system but contains achievable operational and practical goals;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1100"/>
              </a:spcBef>
              <a:buClr>
                <a:srgbClr val="8e9a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echnologically workable ideal system (TWIS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5153-AA70-42F3-BC76-BC2819D1EE14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chnical Expert Panel (TEP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provide input on featur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ems, technically workable ideal systems, and recommended systems for consumer reporting systems for patient safety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 comprised of 18 individuals selected to include experts in patient safety, event reporting systems, health care delivery, quality improvement, patient-centered care, and patient advoca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generated through Delphi questionnaires and TEP meet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61F0-2E91-4AC0-80A9-BD8ECC732EC5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DEALS Concep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Picture 3" descr="Conceptual Model"/>
          <p:cNvPicPr/>
          <p:nvPr/>
        </p:nvPicPr>
        <p:blipFill>
          <a:blip r:embed="rId1"/>
          <a:stretch/>
        </p:blipFill>
        <p:spPr>
          <a:xfrm>
            <a:off x="604800" y="1849320"/>
            <a:ext cx="7493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699D-6D70-4CB7-BE9D-B94BB20DED9A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lphi Questionnai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72840" y="1696680"/>
            <a:ext cx="784836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rounds of questionnaires, with anonymous respo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 focused on 5 open-ended questions collecting information on functions, features, and characteristics of consumer reporting systems from an ideal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nd third round questionnaires asked participants to rate and rank suggestions provided from the round 1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ound results described the ideal attributes of a consumer reporting system for patient safety events and formed the basis for the first TEP mee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8593200" y="5956200"/>
            <a:ext cx="398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056C-2DAB-4B35-96C9-30D7FDD922B0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TEP Mee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meeting held at AHRQ headquarters June 24, to discuss questionnaire results, provide more detail on design features of ideal reporting systems, and form  initial set of recommend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facilitated using Nominal Group Technique (NGT), which allows TEP members to generate items on priorities individually and then share and discuss these with other TEP mem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7:50:02Z</dcterms:created>
  <dc:creator/>
  <dc:description>©  Research Triangle Institute. RTI International is a trade name of Research Triangle Institute.</dc:description>
  <dc:language>en-US</dc:language>
  <cp:lastModifiedBy>Rasa</cp:lastModifiedBy>
  <dcterms:modified xsi:type="dcterms:W3CDTF">2009-10-26T03:25:07Z</dcterms:modified>
  <cp:revision>131</cp:revision>
  <dc:subject/>
  <dc:title>RTI ppt template</dc:title>
</cp:coreProperties>
</file>