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134ADDE-FAE0-458C-828B-6600CA062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350BF61-0811-4F78-9AD4-8BC96314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3945D15-CCE5-41E8-AE07-8611CFEA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38515-89DE-4E4A-A459-5955F4F167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6F97-344E-4C09-9A7B-330D92DB3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8E8D-3817-4E74-B22E-CD069D8D0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078D-CF5E-4629-9115-D12C624AE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0413-3919-4270-9CE3-33F817866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1C36-9CB5-41B8-9606-D1CABC931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8477-77EE-4D1B-9BD6-84A9D0DD2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B634-86DA-4A81-B174-457DCD993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0F0D-C8FC-4ED2-BA64-60D9F16D3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216C-48E1-4501-8903-BA4DA4852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9AE1-3FA9-4FFE-8B9E-0DF93738F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9379-5746-4DFB-85C6-9FD80794E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4A2E-C78D-4D5D-9DC2-B7A4C7DDB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11DA-385B-41E4-865E-4C4DC194398F}" type="slidenum"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2438280" y="6305040"/>
            <a:ext cx="472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ms.hhs.gov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752480"/>
            <a:ext cx="716292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AHRQ PSIs and IQIs 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in National Pay for Reporting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3962160"/>
            <a:ext cx="7086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September 14, 2009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AHRQ QI Confer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Shaheen Halim, Ph.D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Centers for Medicare &amp; Medicaid Servic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Mortality for Selected Procedure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08 In-Hosp Mort Esophageal Resec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09 In-Hosp Mort Pancreatic Resec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1 In-Hosp Mort AAA Repai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2 In-Hosp Mort CAB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3 In-Hosp Mort Craniotom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4 In-Hosp Mort Hip Replaceme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30 In-Hosp Mort PTC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31 In-Hosp Mort Carotid Endarterectom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C61C-9CF2-44D5-A31F-B60C6EB9CA4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Mortality for Selected Condition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5 In-Hosp Mort AM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6 In-Hosp Mort CHF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7 In-Hosp Mort Strok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8 In-Hosp Mort GI Hemorrha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9 In-Hosp Mort Hip Fractur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20 In-Hosp Mort Pneumonia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7645-14EF-4A88-BAF8-41B69EE2A69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S conducts “Dry run” for claims-based measures to provide methodology information about the measures prior to formal implementatio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 hospitals with an opportunity to provide CMS with feedback to inform implementatio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pportunity to answer questions regarding measure methodology and calculations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369A-B8DB-428B-B73B-38DBE31D648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spital-Specific Reports were generated and released to hospitals via their QualityNet accounts on February 27, 2009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spital Specific Performa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tional, State, and Regional summary statistic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ock-report and Summary Statistics made available for download on QualityNet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egan 30-day question and comment period to end April 2, 2009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ebinars to provide further information and to answer frequently asked questions about the dry ru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00B8-3023-4D7E-9776-C6E84BE6137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2006 Inpatient Medicare claims (100% file)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Data obtained from Dartmouth Medical School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10 diagnostic and 6 procedural codes were reported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No age restriction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AHRQ PSI and IQI software v3.2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Excludes claims missing Age or Sex from all analyse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Excludes claims missing other variables (e.g. Admission Source, Admission Type, Disposition Status, DRG, LOS, etc.) from the denominators of specific measure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3M™ APR™-DRG V3.2 Limited License Grouper software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AHRQ PSI and IQI software use this for risk adjustment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APR-DRG software downloaded from the AHRQ website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418D-6F71-4248-A608-2BC4005B734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difications to our claims data were required because the AHRQ software was designed for use with HCUP, not Medicare claims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levels for some categorical variables required reassignment (e.g. Admission Source, Race, etc.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r example, Hispanic = 5 in our data, AHRQ software specifies that Hispanic = 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3399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DC (Major Diagnostic Category) was assigned using the  CMS DRG version 23 and 24 Relative Weights fi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C795-4800-4764-AB69-63044999FC8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264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HRQ PSI and IQI software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fines the inclusion and exclusion criteria for each indicat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rates the numerator, denominator, observed, expected, risk-adjusted and smoothed rates for each indicat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dicators were reported as rates per 1000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te = 200 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(per 1000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te calculated by multiplying      x 1000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00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 (per 1000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1D36-385E-40C6-A93C-0B46D66186B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opulation reference: national rates based upon the HCUP State Inpatient Database (SID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cludes 90 million discharges in 2002, 2003, and 2004 from the 38 states participating in the HCUP S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99cc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Equal weight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ption applied for the Composite Score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this case, each component indicator is assigned an identical weight based on the number of indicators. That is, the weight equals 1 divided by the number of indicators in the composi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r example, 1/8 = 0.125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190B-3632-4BE2-A29C-4DE0845851A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spital Specific Reports provided Observed, Expected, Risk Adjusted and Smoothed Rat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d definitions for each of the 4 rates and guidance on how to interpret and use them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tate, National and Regional (HHS Region) summary statistics provided for comparis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6605-EC2D-46DC-8AEB-F9C0CA317B6A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010 Implementatio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display 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ntatively scheduled for January 2010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ill be calculated using Medicare claims spanning July 1, 2007 to June 30, 2008 for the FY 2010 payment determin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spital preview reports tentatively scheduled for November/December 2009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porting on Hospital Compare tentatively scheduled for June 2010 using calculations spanning July 1, 2008 to June 30, 2009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32B5-0B4B-49B1-9AF9-FBD3EEB15F13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93AE-8E5B-40DF-A22F-C1FCE36095B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’ Office of Clinical Standards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nd Quality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ead on quality and clinical issues and policies for the Agency’s programs. Coordinates with external organizations and Agenci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mote and monitor quality and quality improvement for the Agency’s programs. Evaluates the success of intervention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velop, evaluate, adopt and support performance measurement systems (quality indicators) to evaluate care provided to CMS beneficiarie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Future Implementatio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264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ude Observed Numerator and Denominator in hospital preview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ude Confidence Intervals for rat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sumer testing to inform future display and language for the AHRQ PSIs and IQIs on Hospital Compa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ossible display of composites similar to current bucket approach for 30-day mortality and 30-day readmissio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22C-666E-487B-8BBB-6C31D826DC5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68680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D14D-8FF9-4C4B-AB3C-2BACEE69F36D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Example Display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pic>
        <p:nvPicPr>
          <p:cNvPr id="149" name="Picture 3" descr="Updated readmissions table"/>
          <p:cNvPicPr/>
          <p:nvPr/>
        </p:nvPicPr>
        <p:blipFill>
          <a:blip r:embed="rId1"/>
          <a:stretch/>
        </p:blipFill>
        <p:spPr>
          <a:xfrm>
            <a:off x="990720" y="12193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Future Issue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xamine POA for future u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mall N threshol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ich rate (predicted or smoothed) for consumer displa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9CBE-B35A-45C5-942A-91A7D8468FB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813B-64BC-42F6-8F69-8FC06A73251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OCSQ’s Quality Measurement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nd Health Assessment Group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ead for measure development and public reporting of quality measures: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spital Inpatient and Outpati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hysicia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ursing Ho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me Health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SR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ebsites available o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are.gov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849F-B97F-4D4A-9DE7-A55F9FDDE213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Hospital Pay for Reporting Program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porting Hospital Quality for Annual Payment Update (RHQDAPU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MA 2003:  .4% APU to report 10 measure starter se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RA 2005:   2% APU to report expanded measure set … 44 measures for the 2010 payment determin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spital Outpatient Quality Data Reporting Program (HOP QDRP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HCA 2006:  2%  2009 APU for 7 measures,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11 measures for 2010 APU, including 4 claims-based measures on Imaging Efficienc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RHQDAPU Over the Year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4:  10 process measures (AMI, HF, PN, SCIP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6:  21 process measures  (11 added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7:  30-day mortality measures, HCAHP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8:  30-day readmission, AHRQ measures, structural meas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9:  2 structural measu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urrently 46 measures in RHQDAPU Program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7 process, 15 claims-based outcome measures, 3 structural, HCAHP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sire to expand outcomes measurement in RHQDAP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5AF9-30F6-4F4A-9D75-FCB085D675D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HRQ PSIs and IQIs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in RHQDAPU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9 AHRQ Indicators were adopted into CMS’ Reporting Hospital Quality Data for Annual Payment Update Program (RHQDAPU) in FY 2009 IPPS Ru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lows expansion of RHQDAPU program topics to include Patient Safety, Complications, and In-hospital mortalit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7339-2C99-4127-B81E-F288CC4D230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Patient Safety Indicator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32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HRQ Patient Safety Indicators adopted: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4: Death among surgical patients with serious, treatable complica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6: Iatrogenic Pneumothorax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14: Postoperative Wound Dehisce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15: Accidental Puncture or Lacer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Composite: Complications/Patient Safety for Selected Indicat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CC20-E372-461A-ACF6-716955A8A24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omplication/patient safety for selected indicators</a:t>
            </a:r>
            <a:br>
              <a:rPr sz="3200"/>
            </a:b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2640" y="1447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3 Decubitus Ulc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6 Iatrogenic Pneumothorax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7 Infection Due To Medical Ca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8 Postop Hip Fract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9 Postop Hemorrhage or Hematom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0 PostopPhysioMetabolDerangm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1 Postop Respiratory Fail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2 Postop PE Or DV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3 Postop Sepsi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4 Postop Wound Dehisce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5 Accidental Puncture/Lacer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0323-8247-4B1D-BDD4-0C59ACAD12B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Inpatient Quality Indicators 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HRQ Inpatient Quality Indicators adopted: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11: Abdominal Aortic Aneurysm (AAA) Repair Mortality R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19: Hip Fracture Mortality R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Composite: Mortality for Selected Procedu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Composite: Mortality for Selected Condi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E36F-BA50-4A48-AD10-D16BCEF6E4A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2:23:09Z</dcterms:created>
  <dc:creator>CMS</dc:creator>
  <dc:description/>
  <dc:language>en-US</dc:language>
  <cp:lastModifiedBy> </cp:lastModifiedBy>
  <dcterms:modified xsi:type="dcterms:W3CDTF">2010-03-02T15:43:54Z</dcterms:modified>
  <cp:revision>190</cp:revision>
  <dc:subject/>
  <dc:title>Title of presentation</dc:title>
</cp:coreProperties>
</file>