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6E12A3-3B7E-478D-AC92-31FC247C7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49DAA52-778A-491E-9488-0DEEC0AB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A109380-39E9-4E73-98FF-48485D13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FA2B3-9337-48C1-ACBA-9ED84BA24A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EEA3-C99F-4EE1-BF31-81953541C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6566-055A-4201-AE28-431036D1B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1EF4-483B-4FE0-A81F-0580CAF15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548D-4E73-4FF1-8D39-280EAAD20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9A51-F264-4561-8A65-D1C52BC0D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9360" y="19807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6632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284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9360" y="4090320"/>
            <a:ext cx="2453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16AE-49D3-4A8E-926F-048FBC4FF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DEC9-E214-4BF1-9BFC-A1191A3DF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0B1A-52FF-48AE-AC10-8443BDC52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9E0C-B306-4497-A6D4-CEE5816F3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0A4D-B3EA-44ED-9C0F-A1021CCE8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40903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9E09-CA1A-4C8A-8F20-FAA64D93C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980720"/>
            <a:ext cx="37184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90320"/>
            <a:ext cx="7620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5B53-2936-4DFB-988C-2295B159E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85640" y="6305040"/>
            <a:ext cx="525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16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B75F-28C4-4436-91B8-2B0555DD1DE1}" type="slidenum"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2438280" y="6305040"/>
            <a:ext cx="4724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ms.hhs.gov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icare.gov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752480"/>
            <a:ext cx="716292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AHRQ PSIs and IQIs 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in National Pay for Reporting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3962160"/>
            <a:ext cx="7086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September 14, 2009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AHRQ QI Confer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Shaheen Halim, Ph.D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Centers for Medicare &amp; Medicaid Servic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Mortality for Selected Procedure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08 In-Hosp Mort Esophageal Resec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09 In-Hosp Mort Pancreatic Resec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1 In-Hosp Mort AAA Repai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2 In-Hosp Mort CAB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3 In-Hosp Mort Craniotom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4 In-Hosp Mort Hip Replaceme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30 In-Hosp Mort PTC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31 In-Hosp Mort Carotid Endarterectom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6D2-0B43-4D8A-B84C-96F62F6637EA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Mortality for Selected Condition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5 In-Hosp Mort AM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6 In-Hosp Mort CHF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7 In-Hosp Mort Strok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8 In-Hosp Mort GI Hemorrha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19 In-Hosp Mort Hip Fractur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#20 In-Hosp Mort Pneumonia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3A7F-8DE4-4F56-9521-02D6B8200691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S conducts “Dry run” for claims-based measures to provide methodology information about the measures prior to formal implementatio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 hospitals with an opportunity to provide CMS with feedback to inform implementatio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pportunity to answer questions regarding measure methodology and calculations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98A1-066F-412F-A138-3BF7734264E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spital-Specific Reports were generated and released to hospitals via their QualityNet accounts on February 27, 2009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spital Specific Performa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tional, State, and Regional summary statistic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ock-report and Summary Statistics made available for download on QualityNet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egan 30-day question and comment period to end April 2, 2009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ebinars to provide further information and to answer frequently asked questions about the dry ru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98FE-FFC8-4789-80A7-F84CE509D39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2006 Inpatient Medicare claims (100% file)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Data obtained from Dartmouth Medical School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10 diagnostic and 6 procedural codes were reported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No age restriction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AHRQ PSI and IQI software v3.2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Excludes claims missing Age or Sex from all analyse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Excludes claims missing other variables (e.g. Admission Source, Admission Type, Disposition Status, DRG, LOS, etc.) from the denominators of specific measure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SzPct val="15673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3M™ APR™-DRG V3.2 Limited License Grouper software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AHRQ PSI and IQI software use this for risk adjustment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76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APR-DRG software downloaded from the AHRQ website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68F0-0B47-4E84-8FB2-B93F5C45106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difications to our claims data were required because the AHRQ software was designed for use with HCUP, not Medicare claims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levels for some categorical variables required reassignment (e.g. Admission Source, Race, etc.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r example, Hispanic = 5 in our data, AHRQ software specifies that Hispanic = 3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3399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DC (Major Diagnostic Category) was assigned using the  CMS DRG version 23 and 24 Relative Weights fi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3DB0-0FFF-4E38-839F-8B867C759C8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264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AHRQ PSI and IQI software 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fines the inclusion and exclusion criteria for each indicat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rates the numerator, denominator, observed, expected, risk-adjusted and smoothed rates for each indicat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dicators were reported as rates per 1000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te = 200 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(per 1000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te calculated by multiplying      x 1000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00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 (per 1000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6C9B-3FEC-498D-9C19-D8B5F285553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opulation reference: national rates based upon the HCUP State Inpatient Database (SID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cludes 90 million discharges in 2002, 2003, and 2004 from the 38 states participating in the HCUP S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99cc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Equal weight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ption applied for the Composite Score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this case, each component indicator is assigned an identical weight based on the number of indicators. That is, the weight equals 1 divided by the number of indicators in the composi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r example, 1/8 = 0.125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D80-E099-497C-962D-DACC9FCE3B3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 2009 Dry Ru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spital Specific Reports provided Observed, Expected, Risk Adjusted and Smoothed Rat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d definitions for each of the 4 rates and guidance on how to interpret and use them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tate, National and Regional (HHS Region) summary statistics provided for comparis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BE30-2098-4774-BFBD-1640E0855D7F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2010 Implementatio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display 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ntatively scheduled for January 2010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ill be calculated using Medicare claims spanning July 1, 2007 to June 30, 2008 for the FY 2010 payment determin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Hospital preview reports tentatively scheduled for November/December 2009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Reporting on Hospital Compare tentatively scheduled for June 2010 using calculations spanning July 1, 2008 to June 30, 2009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D774-6023-4033-8688-B68E189886C7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7690-62C6-429C-B057-3EE5BAA93B82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MS’ Office of Clinical Standards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nd Quality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ead on quality and clinical issues and policies for the Agency’s programs. Coordinates with external organizations and Agenci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mote and monitor quality and quality improvement for the Agency’s programs. Evaluates the success of intervention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velop, evaluate, adopt and support performance measurement systems (quality indicators) to evaluate care provided to CMS beneficiarie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Future Implementation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264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ude Observed Numerator and Denominator in hospital preview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lude Confidence Intervals for rat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nsumer testing to inform future display and language for the AHRQ PSIs and IQIs on Hospital Compa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ossible display of composites similar to current bucket approach for 30-day mortality and 30-day readmissio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E4A7-F718-41C0-90B0-C08E9592D1DA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68680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520A-ED3F-4280-8DC6-D304653D8F1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Example Display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pic>
        <p:nvPicPr>
          <p:cNvPr id="149" name="Picture 3" descr="Updated readmissions table"/>
          <p:cNvPicPr/>
          <p:nvPr/>
        </p:nvPicPr>
        <p:blipFill>
          <a:blip r:embed="rId1"/>
          <a:stretch/>
        </p:blipFill>
        <p:spPr>
          <a:xfrm>
            <a:off x="990720" y="12193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Future Issue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xamine POA for future us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mall N threshol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hich rate (predicted or smoothed) for consumer displa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70DB-5704-4115-B412-7E2737F3A2E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68A9-FEF7-4102-AF9C-D9D889EBF1CE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OCSQ’s Quality Measurement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nd Health Assessment Group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ead for measure development and public reporting of quality measures: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spital Inpatient and Outpati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hysicia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ursing Ho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me Health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SR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Websites available o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are.gov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2B60-BF41-4248-A4CB-1BAF3C67DE89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Hospital Pay for Reporting Program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porting Hospital Quality for Annual Payment Update (RHQDAPU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MA 2003:  .4% APU to report 10 measure starter se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RA 2005:   2% APU to report expanded measure set … 44 measures for the 2010 payment determin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ospital Outpatient Quality Data Reporting Program (HOP QDRP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HCA 2006:  2%  2009 APU for 7 measures,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11 measures for 2010 APU, including 4 claims-based measures on Imaging Efficienc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RHQDAPU Over the Year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4:  10 process measures (AMI, HF, PN, SCIP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6:  21 process measures  (11 added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7:  30-day mortality measures, HCAHP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8:  30-day readmission, AHRQ measures, structural meas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9:  2 structural measu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urrently 46 measures in RHQDAPU Program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7 process, 15 claims-based outcome measures, 3 structural, HCAHP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sire to expand outcomes measurement in RHQDAPU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79CB-F509-47EA-955F-AF3512BE5A44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AHRQ PSIs and IQIs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in RHQDAPU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9 AHRQ Indicators were adopted into CMS’ Reporting Hospital Quality Data for Annual Payment Update Program (RHQDAPU) in FY 2009 IPPS Ru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llows expansion of RHQDAPU program topics to include Patient Safety, Complications, and In-hospital mortalit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70BF-617B-47D6-AEE0-341561660248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Patient Safety Indicators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32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HRQ Patient Safety Indicators adopted: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4: Death among surgical patients with serious, treatable complica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6: Iatrogenic Pneumothorax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14: Postoperative Wound Dehisce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15: Accidental Puncture or Lacer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Composite: Complications/Patient Safety for Selected Indicat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194A-C075-479C-A565-EB5E105D12D5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Complication/patient safety for selected indicators</a:t>
            </a:r>
            <a:br>
              <a:rPr sz="3200"/>
            </a:b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2640" y="1447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3 Decubitus Ulc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6 Iatrogenic Pneumothorax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7 Infection Due To Medical Ca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8 Postop Hip Fract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09 Postop Hemorrhage or Hematom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0 PostopPhysioMetabolDerangm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1 Postop Respiratory Failur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2 Postop PE Or DV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3 Postop Sepsi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4 Postop Wound Dehisce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SI #15 Accidental Puncture/Lacer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D585-D383-42F2-B6C6-6E5921E82380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Rounded MT Bold"/>
              </a:rPr>
              <a:t>Inpatient Quality Indicators </a:t>
            </a:r>
            <a:endParaRPr b="1" lang="en-US" sz="3200" spc="-1" strike="noStrike">
              <a:solidFill>
                <a:srgbClr val="003399"/>
              </a:solidFill>
              <a:latin typeface="Arial Rounded MT Bol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07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HRQ Inpatient Quality Indicators adopted: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11: Abdominal Aortic Aneurysm (AAA) Repair Mortality R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19: Hip Fracture Mortality R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Composite: Mortality for Selected Procedu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QI Composite: Mortality for Selected Condition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8534520" y="6384960"/>
            <a:ext cx="533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F0B-5C1F-4058-9A0D-40882D72DC7D}" type="slidenum">
              <a:rPr b="1" lang="en-US" sz="16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2:23:09Z</dcterms:created>
  <dc:creator>CMS</dc:creator>
  <dc:description/>
  <dc:language>en-US</dc:language>
  <cp:lastModifiedBy> </cp:lastModifiedBy>
  <dcterms:modified xsi:type="dcterms:W3CDTF">2010-03-02T15:43:54Z</dcterms:modified>
  <cp:revision>190</cp:revision>
  <dc:subject/>
  <dc:title>Title of presentation</dc:title>
</cp:coreProperties>
</file>