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6565-146E-4996-BA8E-21917576E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4FD7-33AA-43BD-9BB3-B4CDE47B8E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831E-7FD5-480D-A2F5-7E075064B9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FD4E-07D4-4637-832D-97B17B5FE5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2BF2-E46B-45BF-AB5D-7084086E4A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66FD-636D-4F49-9DFB-F78AA90DC0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BFC4-810D-4608-9F46-5375D6D04A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I 3, 11 and 13 were the areas where we most frequently exceeded the AHRQ rate and we began to really drill down into th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5C98-3378-4BFD-BDF2-A737DBAF69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AEAA-9AD4-40A3-8CF6-712A62212C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6840" y="5313240"/>
            <a:ext cx="2652840" cy="33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8967-63D4-476B-9F91-B0A7F9EE6A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C96-EADB-4DD9-8B20-526B3ADB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283-4427-4073-B0FD-D6E97D37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9AD-FE7D-41C3-851C-7FD9B6DB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096-B806-4595-B444-C0172F10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D1F-BFCA-4395-8914-848523A4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99E-4BF2-4F90-9308-3A8CA391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4497-468F-43BD-B5D1-07772FEB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674-E883-48E6-AFA4-AF4DC982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594E-2E25-4BFA-B174-53C21CB2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C12-3F6E-47A4-9BF0-9E5677FC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239-89E2-4F20-9491-715A309A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0E4-509F-44B5-9D5B-FE296762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58DB-3142-410A-9017-82700F2555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Utilizing the Patient Safety Indicators for Improvement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ta Gottlieb, MA, APN, CPH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. Joseph’s Mercy Health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Springs, Arkan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St. Joseph's Mercy Health Center logo"/>
          <p:cNvPicPr/>
          <p:nvPr/>
        </p:nvPicPr>
        <p:blipFill>
          <a:blip r:embed="rId2"/>
          <a:stretch/>
        </p:blipFill>
        <p:spPr>
          <a:xfrm>
            <a:off x="3657600" y="5791320"/>
            <a:ext cx="2057400" cy="79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1447920" y="152280"/>
            <a:ext cx="3047400" cy="838440"/>
            <a:chOff x="1447920" y="152280"/>
            <a:chExt cx="3047400" cy="838440"/>
          </a:xfrm>
        </p:grpSpPr>
        <p:grpSp>
          <p:nvGrpSpPr>
            <p:cNvPr id="88" name="Group 3"/>
            <p:cNvGrpSpPr/>
            <p:nvPr/>
          </p:nvGrpSpPr>
          <p:grpSpPr>
            <a:xfrm>
              <a:off x="1447920" y="152280"/>
              <a:ext cx="3047400" cy="838440"/>
              <a:chOff x="1447920" y="152280"/>
              <a:chExt cx="3047400" cy="838440"/>
            </a:xfrm>
          </p:grpSpPr>
          <p:sp>
            <p:nvSpPr>
              <p:cNvPr id="89" name="Freeform 4"/>
              <p:cNvSpPr/>
              <p:nvPr/>
            </p:nvSpPr>
            <p:spPr>
              <a:xfrm>
                <a:off x="1447920" y="152280"/>
                <a:ext cx="3033000" cy="831600"/>
              </a:xfrm>
              <a:prstGeom prst="pie">
                <a:avLst/>
              </a:prstGeom>
              <a:solidFill>
                <a:srgbClr val="9999ff"/>
              </a:solidFill>
              <a:ln w="0">
                <a:noFill/>
              </a:ln>
              <a:effectLst>
                <a:outerShdw dist="107932" dir="2700000" blurRad="0" rotWithShape="0">
                  <a:srgbClr val="ee94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5"/>
              <p:cNvSpPr/>
              <p:nvPr/>
            </p:nvSpPr>
            <p:spPr>
              <a:xfrm>
                <a:off x="1447920" y="152280"/>
                <a:ext cx="3047400" cy="838440"/>
              </a:xfrm>
              <a:prstGeom prst="pie">
                <a:avLst/>
              </a:prstGeom>
              <a:solidFill>
                <a:srgbClr val="9999ff"/>
              </a:solidFill>
              <a:ln w="0">
                <a:noFill/>
              </a:ln>
              <a:effectLst>
                <a:outerShdw dist="107932" dir="2700000" blurRad="0" rotWithShape="0">
                  <a:srgbClr val="ee94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Rectangle 6"/>
            <p:cNvSpPr/>
            <p:nvPr/>
          </p:nvSpPr>
          <p:spPr>
            <a:xfrm>
              <a:off x="2209680" y="228600"/>
              <a:ext cx="1738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43400" y="609480"/>
            <a:ext cx="45720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7e7ff"/>
                </a:solidFill>
                <a:latin typeface="Arial"/>
              </a:rPr>
              <a:t>Improvement strate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8" descr="The template presents in detail the action steps to support the reduction in pressure ulcers bases on the me . It is very specific and measurable. These have been implemented and the project has gone house wide. &#13;&#10;"/>
          <p:cNvPicPr/>
          <p:nvPr/>
        </p:nvPicPr>
        <p:blipFill>
          <a:blip r:embed="rId2"/>
          <a:stretch/>
        </p:blipFill>
        <p:spPr>
          <a:xfrm>
            <a:off x="304920" y="1600200"/>
            <a:ext cx="8458200" cy="5105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are the Financial Result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cost reduction after the Six Sigma project and it was directly associated with the length of st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ductions relates to both direct cost and supp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7" descr="money sign"/>
          <p:cNvPicPr/>
          <p:nvPr/>
        </p:nvPicPr>
        <p:blipFill>
          <a:blip r:embed="rId2"/>
          <a:stretch/>
        </p:blipFill>
        <p:spPr>
          <a:xfrm>
            <a:off x="7313760" y="5257800"/>
            <a:ext cx="140004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68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4920" y="1143000"/>
            <a:ext cx="8553240" cy="5276880"/>
            <a:chOff x="304920" y="1143000"/>
            <a:chExt cx="8553240" cy="5276880"/>
          </a:xfrm>
        </p:grpSpPr>
        <p:pic>
          <p:nvPicPr>
            <p:cNvPr id="99" name="Picture 2" descr="goldie_8"/>
            <p:cNvPicPr/>
            <p:nvPr/>
          </p:nvPicPr>
          <p:blipFill>
            <a:blip r:embed="rId1"/>
            <a:srcRect l="28577" t="0" r="14288" b="42492"/>
            <a:stretch/>
          </p:blipFill>
          <p:spPr>
            <a:xfrm>
              <a:off x="304920" y="4419720"/>
              <a:ext cx="2082600" cy="18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4" descr=""/>
            <p:cNvPicPr/>
            <p:nvPr/>
          </p:nvPicPr>
          <p:blipFill>
            <a:blip r:embed="rId2"/>
            <a:stretch/>
          </p:blipFill>
          <p:spPr>
            <a:xfrm>
              <a:off x="685800" y="1143000"/>
              <a:ext cx="629280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5" descr=""/>
            <p:cNvPicPr/>
            <p:nvPr/>
          </p:nvPicPr>
          <p:blipFill>
            <a:blip r:embed="rId3"/>
            <a:stretch/>
          </p:blipFill>
          <p:spPr>
            <a:xfrm>
              <a:off x="2209680" y="3886200"/>
              <a:ext cx="6648480" cy="253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6" descr=""/>
          <p:cNvPicPr/>
          <p:nvPr/>
        </p:nvPicPr>
        <p:blipFill>
          <a:blip r:embed="rId4"/>
          <a:stretch/>
        </p:blipFill>
        <p:spPr>
          <a:xfrm>
            <a:off x="228600" y="609480"/>
            <a:ext cx="584352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SI – 11: Post Operative Respiratory Failur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Picture 8" descr="Mountainous Landscape Behind Saint-Paul Hospital"/>
          <p:cNvPicPr/>
          <p:nvPr/>
        </p:nvPicPr>
        <p:blipFill>
          <a:blip r:embed="rId2"/>
          <a:stretch/>
        </p:blipFill>
        <p:spPr>
          <a:xfrm>
            <a:off x="2819520" y="2666880"/>
            <a:ext cx="2819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SI – 11: Post Operative Respiratory Failur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5374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ed all cases listed in PSI for Respiratory Fail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respiratory varied per physic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rs were given exclusion PSI criteria and  implemented use of documents Review Specialist for querying the phys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provided to physicians regarding definitions of Respiratory Fail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SI-13:Postop Sepsis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Picture 10" descr="sunflowers"/>
          <p:cNvPicPr/>
          <p:nvPr/>
        </p:nvPicPr>
        <p:blipFill>
          <a:blip r:embed="rId2"/>
          <a:stretch/>
        </p:blipFill>
        <p:spPr>
          <a:xfrm>
            <a:off x="2971800" y="1981080"/>
            <a:ext cx="2895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SI-13:Postop Sepsis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ed all cases and diagnosis for sepsis were not meeting the “Surviving Sepsis Campaign” definition and guidel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facilities rate for Sepsis over all was greater than other hospitals in ou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d some of “Sepsis” cases were being admitted to the acute units – not IC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vious Sepsis Six Sigma Project on Sepsis had been focused on Length of St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Hot Springs Six Sigma Sepsis LOS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d processes for referral and evaluation for transfer to SNF/LTAC/Hosp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ed providing antibiotics within three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d barrier to tubing blood cultures and implemented tracking of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LOS by .92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time for blood cultures to lab by 126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financial benefit – X 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SI Data – January2009/ 200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2280" y="1676520"/>
          <a:ext cx="8839440" cy="4800600"/>
        </p:xfrm>
        <a:graphic>
          <a:graphicData uri="http://schemas.openxmlformats.org/drawingml/2006/table">
            <a:tbl>
              <a:tblPr/>
              <a:tblGrid>
                <a:gridCol w="2362320"/>
                <a:gridCol w="1346040"/>
                <a:gridCol w="1320840"/>
                <a:gridCol w="1828800"/>
                <a:gridCol w="1981440"/>
              </a:tblGrid>
              <a:tr h="14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AR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s (09/0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ominator Ca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9/0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-03 Decubitus Ulc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8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(1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33cc33"/>
                          </a:solidFill>
                          <a:uFillTx/>
                          <a:latin typeface="Arial"/>
                        </a:rPr>
                        <a:t>337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(35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-11:Post-op Respiratory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(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33cc33"/>
                          </a:solidFill>
                          <a:uFillTx/>
                          <a:latin typeface="Arial"/>
                        </a:rPr>
                        <a:t>42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(147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-13:Postop Sep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(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33cc33"/>
                          </a:solidFill>
                          <a:uFillTx/>
                          <a:latin typeface="Arial"/>
                        </a:rPr>
                        <a:t>16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(4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on “Present on Admission” prior to October 2008 was impact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Sigma tools have impacted positively on cost savings and quality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take small steps – it will take time and must continue monitoring to sus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at things are not done by impulse, but by a series of small things brought together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945400" y="182880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ncent Van Go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2" descr="sunflower painting"/>
          <p:cNvPicPr/>
          <p:nvPr/>
        </p:nvPicPr>
        <p:blipFill>
          <a:blip r:embed="rId2"/>
          <a:stretch/>
        </p:blipFill>
        <p:spPr>
          <a:xfrm>
            <a:off x="3124080" y="3200400"/>
            <a:ext cx="2190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’s destination is never a place but rather a new way of looking at thing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nry Mi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9" descr="field of flowers"/>
          <p:cNvPicPr/>
          <p:nvPr/>
        </p:nvPicPr>
        <p:blipFill>
          <a:blip r:embed="rId2"/>
          <a:stretch/>
        </p:blipFill>
        <p:spPr>
          <a:xfrm>
            <a:off x="2743200" y="3429000"/>
            <a:ext cx="3124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1828800" cy="639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process: Beginning Step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2005 began reviewing PSI indicators using an interdisciplinary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ship focused on da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Quality Committee of the Boar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Board and System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d on areas where we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xcee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AHRQ population rate as areas for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SI Data – January 200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1676520"/>
          <a:ext cx="8839440" cy="4419360"/>
        </p:xfrm>
        <a:graphic>
          <a:graphicData uri="http://schemas.openxmlformats.org/drawingml/2006/table">
            <a:tbl>
              <a:tblPr/>
              <a:tblGrid>
                <a:gridCol w="2362320"/>
                <a:gridCol w="1346040"/>
                <a:gridCol w="1320840"/>
                <a:gridCol w="1828800"/>
                <a:gridCol w="1981440"/>
              </a:tblGrid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RQ 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y 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ominator Ca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-03 Decubitus Ulc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-11:Post-op Respiratory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-13:Postop Sep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SI – 03: Decubitus Ulc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5" descr="twelve sunflowers in a vase"/>
          <p:cNvPicPr/>
          <p:nvPr/>
        </p:nvPicPr>
        <p:blipFill>
          <a:blip r:embed="rId2"/>
          <a:stretch/>
        </p:blipFill>
        <p:spPr>
          <a:xfrm>
            <a:off x="2057400" y="1752480"/>
            <a:ext cx="4572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SI – 03: Decubitus Ulc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all cases listed in PSI for Decubitius Ulcer and found that present on admissions were not excluded especially for nursing home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with exclusion of present on admission we still frequently exceeded the AHRQ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provement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 Six Sigma Proje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 Clinical Skin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owdown on Skin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s purpose:  Prevent Nosocomial Decubitus Ul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ocomial Decubitus Ulcers patients have a longer length of stay than those patients that do not acquire a Decubitus Ulcer while hospit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gth of Stay was the common Me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re’s Geometric Length of Stay for each DRG was the standard that we used to compare both the Ulcer Group and the Non-Ulcer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219320" y="1295280"/>
            <a:ext cx="6892920" cy="12193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4d4d4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’s causing most of our vari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ily Performance of Braden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sure Ulcer Risk Level at Ad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5486400" y="990720"/>
            <a:ext cx="3047400" cy="838080"/>
            <a:chOff x="5486400" y="990720"/>
            <a:chExt cx="3047400" cy="838080"/>
          </a:xfrm>
        </p:grpSpPr>
        <p:grpSp>
          <p:nvGrpSpPr>
            <p:cNvPr id="70" name="Group 4"/>
            <p:cNvGrpSpPr/>
            <p:nvPr/>
          </p:nvGrpSpPr>
          <p:grpSpPr>
            <a:xfrm>
              <a:off x="5486400" y="990720"/>
              <a:ext cx="3047400" cy="838080"/>
              <a:chOff x="5486400" y="990720"/>
              <a:chExt cx="3047400" cy="838080"/>
            </a:xfrm>
          </p:grpSpPr>
          <p:sp>
            <p:nvSpPr>
              <p:cNvPr id="71" name="Freeform 5"/>
              <p:cNvSpPr/>
              <p:nvPr/>
            </p:nvSpPr>
            <p:spPr>
              <a:xfrm>
                <a:off x="5486400" y="990720"/>
                <a:ext cx="3033000" cy="831240"/>
              </a:xfrm>
              <a:prstGeom prst="pie">
                <a:avLst/>
              </a:prstGeom>
              <a:solidFill>
                <a:srgbClr val="9999ff"/>
              </a:solidFill>
              <a:ln w="0">
                <a:noFill/>
              </a:ln>
              <a:effectLst>
                <a:outerShdw dist="107932" dir="2700000" blurRad="0" rotWithShape="0">
                  <a:srgbClr val="ee94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6"/>
              <p:cNvSpPr/>
              <p:nvPr/>
            </p:nvSpPr>
            <p:spPr>
              <a:xfrm>
                <a:off x="5486400" y="990720"/>
                <a:ext cx="3047400" cy="838080"/>
              </a:xfrm>
              <a:prstGeom prst="pie">
                <a:avLst/>
              </a:prstGeom>
              <a:solidFill>
                <a:srgbClr val="9999ff"/>
              </a:solidFill>
              <a:ln w="0">
                <a:noFill/>
              </a:ln>
              <a:effectLst>
                <a:outerShdw dist="107932" dir="2700000" blurRad="0" rotWithShape="0">
                  <a:srgbClr val="ee94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Rectangle 7"/>
            <p:cNvSpPr/>
            <p:nvPr/>
          </p:nvSpPr>
          <p:spPr>
            <a:xfrm>
              <a:off x="6248160" y="1066680"/>
              <a:ext cx="1738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Text Box 8"/>
          <p:cNvSpPr/>
          <p:nvPr/>
        </p:nvSpPr>
        <p:spPr>
          <a:xfrm>
            <a:off x="685800" y="3962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124080"/>
            <a:ext cx="8610480" cy="2971800"/>
            <a:chOff x="304920" y="3124080"/>
            <a:chExt cx="8610480" cy="2971800"/>
          </a:xfrm>
        </p:grpSpPr>
        <p:graphicFrame>
          <p:nvGraphicFramePr>
            <p:cNvPr id="76" name=""/>
            <p:cNvGraphicFramePr/>
            <p:nvPr/>
          </p:nvGraphicFramePr>
          <p:xfrm>
            <a:off x="304920" y="3124080"/>
            <a:ext cx="4190760" cy="2971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3124080"/>
                      <a:ext cx="4190760" cy="2971800"/>
                    </a:xfrm>
                    <a:prstGeom prst="rect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78" name="Picture 10" descr=""/>
            <p:cNvPicPr/>
            <p:nvPr/>
          </p:nvPicPr>
          <p:blipFill>
            <a:blip r:embed="rId4"/>
            <a:stretch/>
          </p:blipFill>
          <p:spPr>
            <a:xfrm>
              <a:off x="4724280" y="3124080"/>
              <a:ext cx="4191120" cy="297180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</p:grpSp>
      <p:sp>
        <p:nvSpPr>
          <p:cNvPr id="79" name="Text Box 11"/>
          <p:cNvSpPr/>
          <p:nvPr/>
        </p:nvSpPr>
        <p:spPr>
          <a:xfrm>
            <a:off x="2590920" y="2590920"/>
            <a:ext cx="2971800" cy="36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aphical Analysis of X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2209680" y="6172200"/>
            <a:ext cx="5181840" cy="53352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Means appear in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d;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Medians appear in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Down on Skin – Six Sigma Project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7e7ff"/>
                </a:solidFill>
                <a:latin typeface="Arial"/>
              </a:rPr>
              <a:t>Before &amp; After Pilot Comparis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1219320"/>
            <a:ext cx="8458200" cy="51814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4d4d4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y using the Braden Scale, we compared the “Gold” Standard auditor’s scores to how the RN’s rated the Patients.  We noted a significant  improvement with the changes we implemen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Not just getting the Braden done but getting it done correctly by the RN doing the assessment was a key to improvement. The percentage of accuracy in the RN assessment using the scale increased from 65% to 94% after the training occurred. The training included scenarios and pictures of pressures ulcers with an opportunity to practice their assessment skills.&#13;&#10;"/>
          <p:cNvPicPr/>
          <p:nvPr/>
        </p:nvPicPr>
        <p:blipFill>
          <a:blip r:embed="rId2"/>
          <a:stretch/>
        </p:blipFill>
        <p:spPr>
          <a:xfrm>
            <a:off x="1523880" y="2743200"/>
            <a:ext cx="5391360" cy="35146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5"/>
          <p:cNvSpPr/>
          <p:nvPr/>
        </p:nvSpPr>
        <p:spPr>
          <a:xfrm>
            <a:off x="6324480" y="2743200"/>
            <a:ext cx="2590920" cy="243828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556560 h 2438280"/>
              <a:gd name="textAreaBottom" fmla="*/ 18817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705720" y="3200400"/>
            <a:ext cx="198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9% Improvement in Accuracy of the Braden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22:43Z</dcterms:created>
  <dc:creator>agottlieb</dc:creator>
  <dc:description/>
  <dc:language>en-US</dc:language>
  <cp:lastModifiedBy>Rasa</cp:lastModifiedBy>
  <dcterms:modified xsi:type="dcterms:W3CDTF">2009-10-28T16:55:11Z</dcterms:modified>
  <cp:revision>22</cp:revision>
  <dc:subject/>
  <dc:title>Slide 1</dc:title>
</cp:coreProperties>
</file>