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70080" y="253800"/>
            <a:ext cx="104774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736200"/>
            <a:ext cx="10477440" cy="420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0080" y="5016600"/>
            <a:ext cx="10477440" cy="2946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6000"/>
          </a:bodyPr>
          <a:p>
            <a:pPr marL="191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1" marL="191880" indent="-191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91880" indent="-191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3" marL="191880" indent="-191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4" marL="191880" indent="-191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5" marL="191880" indent="-191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6" marL="191880" indent="-191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269720" y="2768760"/>
            <a:ext cx="504180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5000"/>
          </a:bodyPr>
          <a:p>
            <a:pPr marL="390960" indent="-25056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1" marL="613800" indent="-25056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836640" indent="-25056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3" marL="1067760" indent="-25056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4" marL="1290960" indent="-25056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5" marL="1290960" indent="-25056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6" marL="1290960" indent="-25056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10477440" cy="676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640080" indent="-43056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1" marL="973080" indent="-43092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305360" indent="-43056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3" marL="1650600" indent="-43056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4" marL="1983240" indent="-43092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5" marL="1983240" indent="-43092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6" marL="1983240" indent="-43092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8400" indent="-44424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1041480" indent="-44460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2" marL="1384200" indent="-44424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3" marL="1739880" indent="-44460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4" marL="2082960" indent="-44460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5" marL="2082960" indent="-444600">
              <a:spcBef>
                <a:spcPts val="95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6" marL="2082960" indent="-444600">
              <a:spcBef>
                <a:spcPts val="95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35040" y="4915080"/>
            <a:ext cx="5867280" cy="4419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4000"/>
          </a:bodyPr>
          <a:p>
            <a:pPr marL="28800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288000" indent="-288000" algn="ctr">
              <a:spcBef>
                <a:spcPts val="1001"/>
              </a:spcBef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288000" indent="-288000" algn="ctr">
              <a:spcBef>
                <a:spcPts val="10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288000" indent="-288000" algn="ctr">
              <a:spcBef>
                <a:spcPts val="1001"/>
              </a:spcBef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288000" indent="-288000" algn="ctr">
              <a:spcBef>
                <a:spcPts val="1001"/>
              </a:spcBef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288000" indent="-288000" algn="ctr">
              <a:spcBef>
                <a:spcPts val="1001"/>
              </a:spcBef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288000" indent="-288000" algn="ctr">
              <a:spcBef>
                <a:spcPts val="1001"/>
              </a:spcBef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35040" y="153684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0080" y="7365600"/>
            <a:ext cx="10477440" cy="1714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0080" y="2984400"/>
            <a:ext cx="10477440" cy="381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4902120" cy="6337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2000"/>
          </a:bodyPr>
          <a:p>
            <a:pPr marL="475200" indent="-3196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722160" indent="-32004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969120" indent="-3196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225080" indent="-3196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1472040" indent="-32004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1472040" indent="-32004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1472040" indent="-32004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603840" y="2768760"/>
            <a:ext cx="514368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8000"/>
          </a:bodyPr>
          <a:p>
            <a:pPr marL="408960" indent="-2620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1" marL="642240" indent="-2620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875160" indent="-2620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3" marL="1117080" indent="-2620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4" marL="1350360" indent="-2620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5" marL="1350360" indent="-2620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6" marL="1350360" indent="-262080">
              <a:spcBef>
                <a:spcPts val="2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4440" y="786960"/>
            <a:ext cx="11849400" cy="420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Barriers &amp; Drivers to </a:t>
            </a:r>
            <a:br>
              <a:rPr sz="6400"/>
            </a:b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Use of Health IT by the </a:t>
            </a:r>
            <a:br>
              <a:rPr sz="6400"/>
            </a:b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Elderly, Chronically, &amp; Underserved</a:t>
            </a:r>
            <a:br>
              <a:rPr sz="6400"/>
            </a:b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5371920"/>
            <a:ext cx="6121440" cy="405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4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repared by Oreg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Evidence Based Practice Cent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Holly Jimison, Paul Gorman, Susan Woods, Peggy Nygren, Miranda Walker, Susan Norris, William Hersh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2"/>
          <a:srcRect l="8104" t="25308" r="8239" b="9052"/>
          <a:stretch/>
        </p:blipFill>
        <p:spPr>
          <a:xfrm>
            <a:off x="6527880" y="5372280"/>
            <a:ext cx="6121440" cy="40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1270080" y="2768760"/>
            <a:ext cx="10477440" cy="6006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ublished literature since 1990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MEDLIN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sychINF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ochrane Controlled Trials Register and Database of Systematic Reviews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ERIC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ARP Agelin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0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Grey literature: conferences, technical reports,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Literature Search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"/>
          <p:cNvSpPr/>
          <p:nvPr/>
        </p:nvSpPr>
        <p:spPr>
          <a:xfrm>
            <a:off x="4876920" y="2031840"/>
            <a:ext cx="303516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  <a:ea typeface="Gill Sans"/>
              </a:rPr>
              <a:t>8522 abstracts/titles screen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Results: Literature Search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876920" y="4788000"/>
            <a:ext cx="303516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  <a:ea typeface="Gill Sans"/>
              </a:rPr>
              <a:t>56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  <a:ea typeface="Gill Sans"/>
              </a:rPr>
              <a:t>paper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  <a:ea typeface="Gill Sans"/>
              </a:rPr>
              <a:t>review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4876920" y="7543800"/>
            <a:ext cx="303516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  <a:ea typeface="Gill Sans"/>
              </a:rPr>
              <a:t>129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  <a:ea typeface="Gill Sans"/>
              </a:rPr>
              <a:t>studies includ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Line 5"/>
          <p:cNvSpPr/>
          <p:nvPr/>
        </p:nvSpPr>
        <p:spPr>
          <a:xfrm flipV="1">
            <a:off x="6399360" y="3975120"/>
            <a:ext cx="1440" cy="6271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Line 6"/>
          <p:cNvSpPr/>
          <p:nvPr/>
        </p:nvSpPr>
        <p:spPr>
          <a:xfrm flipV="1">
            <a:off x="6400800" y="6730920"/>
            <a:ext cx="0" cy="6271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270080" y="2768400"/>
            <a:ext cx="10477440" cy="676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8000"/>
          </a:bodyPr>
          <a:p>
            <a:pPr marL="614520" indent="-390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Many studies of use of interactive HIT in populations of interest: rural, elders, underserved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17880" indent="-390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but no comparison to general popul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14520" indent="-390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Use of interactive HIT higher if perceived health benefit and trusted advice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14520" indent="-390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ccess, ease of use, convenience key to wider us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14520" indent="-390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Most frequently used functions are online peer group support and disease self-management tool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14520" indent="-390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onymity, nonjudgmental nature of computer system an advantage with sensitive disorder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Major Findings: Use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Major Findings: Impac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477440" cy="676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8000"/>
          </a:bodyPr>
          <a:p>
            <a:pPr marL="580680" indent="-390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Effective HIT Provided Complete Loop: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1" marL="916200" indent="-390960">
              <a:spcBef>
                <a:spcPts val="1500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Monitoring of current patient statu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916200" indent="-390960">
              <a:spcBef>
                <a:spcPts val="1500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Transmission of patient data to clinic or system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916200" indent="-390960">
              <a:spcBef>
                <a:spcPts val="1500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Interpretation by clinician, comparison to goal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916200" indent="-390960">
              <a:spcBef>
                <a:spcPts val="1500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Adjustment of management plan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916200" indent="-390960">
              <a:spcBef>
                <a:spcPts val="1500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Communication back to pati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lvl="1" marL="916200" indent="-390960">
              <a:spcBef>
                <a:spcPts val="1500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Repeat cycle at intervals appropriate to condi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1257480" y="2286000"/>
          <a:ext cx="10486800" cy="7234200"/>
        </p:xfrm>
        <a:graphic>
          <a:graphicData uri="http://schemas.openxmlformats.org/drawingml/2006/table">
            <a:tbl>
              <a:tblPr/>
              <a:tblGrid>
                <a:gridCol w="1747800"/>
                <a:gridCol w="1747800"/>
                <a:gridCol w="1747800"/>
                <a:gridCol w="1747800"/>
                <a:gridCol w="1747800"/>
                <a:gridCol w="1747800"/>
              </a:tblGrid>
              <a:tr h="1006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da531"/>
                          </a:solidFill>
                          <a:latin typeface="Gill Sans"/>
                        </a:rPr>
                        <a:t>stu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da531"/>
                          </a:solidFill>
                          <a:latin typeface="Gill Sans"/>
                        </a:rPr>
                        <a:t>condi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da531"/>
                          </a:solidFill>
                          <a:latin typeface="Gill Sans"/>
                        </a:rPr>
                        <a:t>monitor tim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da531"/>
                          </a:solidFill>
                          <a:latin typeface="Gill Sans"/>
                        </a:rPr>
                        <a:t>feedback tim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da531"/>
                          </a:solidFill>
                          <a:latin typeface="Gill Sans"/>
                        </a:rPr>
                        <a:t>feedback 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da531"/>
                          </a:solidFill>
                          <a:latin typeface="Gill Sans"/>
                        </a:rPr>
                        <a:t>nature of inform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ho 20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R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iabe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ai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emi week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linician ema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 specif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Kim 2007 R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iabe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week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week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urse S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 specif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Green 2008 R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HT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ai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iweek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armac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 specif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Kashem 2006 R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H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week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week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urse, doctor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 specif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aFramboise 2003 R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H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ai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ai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urs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 specif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Rasmussen 2005 R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sth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week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Lucida Grande"/>
                        </a:rPr>
                        <a:t>week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ician with CD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 specif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Impact of Interactive HIT</a:t>
            </a:r>
            <a:br>
              <a:rPr sz="7200"/>
            </a:b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Example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70080" y="2768400"/>
            <a:ext cx="10477440" cy="676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62856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or Patients and Clinician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se systems can help achieve better outcomes in chronic condition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2856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or Developers and Researcher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Usability issues must be resolved prior to trial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eed clarity, consistency of methods, measure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2856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For Policymaker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se systems help achieve better outcome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ractice environment does not support us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Implications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270080" y="2768400"/>
            <a:ext cx="10477440" cy="676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684360" indent="-435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Questions about technology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356480" indent="-435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Optimal frequency of use by patie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56480" indent="-435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Optimal frequency of interaction with clinicia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56480" indent="-435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hether success requires revision of managment plan or just reminding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84360" indent="-435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Questions about population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356480" indent="-435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irect comparison of elderly, underserved, chronically ill with general popul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Recommendations for                           Future Research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70080" y="736200"/>
            <a:ext cx="10477440" cy="420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5016600"/>
            <a:ext cx="10477440" cy="2946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gormanp at ohsu.edu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368280" y="517680"/>
          <a:ext cx="12242880" cy="9307440"/>
        </p:xfrm>
        <a:graphic>
          <a:graphicData uri="http://schemas.openxmlformats.org/drawingml/2006/table">
            <a:tbl>
              <a:tblPr/>
              <a:tblGrid>
                <a:gridCol w="2894040"/>
                <a:gridCol w="9348840"/>
              </a:tblGrid>
              <a:tr h="77220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sic Rese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40458c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 Basic principles observed and repo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asibi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40458c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Technology Concept or Application formula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64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nology Develop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40458c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 Analytical and experimental function and/or characteristic proof-of-conce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 Component and/or breadboard validation in laborato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nology Demonst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40458c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 Component and/or breadboard validation in relevant enviro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 System/subsystem model or prototype demonstration in relevant enviro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ystem Develop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40458c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 System prototype demonstration in space enviro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ystem Test &amp; Oper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40458c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 Actual system completed and ‘flight qualified’ through test and demonstr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 Actual system ‘flight-proven’ through successful mission oper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Rectangle 62"/>
          <p:cNvSpPr/>
          <p:nvPr/>
        </p:nvSpPr>
        <p:spPr>
          <a:xfrm>
            <a:off x="1775880" y="210600"/>
            <a:ext cx="9427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NASA Techology Readiness Levels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"/>
          <p:cNvPicPr/>
          <p:nvPr/>
        </p:nvPicPr>
        <p:blipFill>
          <a:blip r:embed="rId1"/>
          <a:stretch/>
        </p:blipFill>
        <p:spPr>
          <a:xfrm>
            <a:off x="482760" y="1270080"/>
            <a:ext cx="12052080" cy="72421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36560" y="139320"/>
            <a:ext cx="115063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ill Sans"/>
              </a:rPr>
              <a:t>Systematic Review is a Satellite View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411120" y="8714880"/>
            <a:ext cx="12207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Let’s you see the forest, obscures the tree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Background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477440" cy="6730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62856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Better outcomes w/ self managemen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iabetes - DCCT trial; warfarin; asthma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2856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echnologies facilitate proces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home CBG, BP, INR, expanding array of health I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2856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hich Conditions? Which patients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hich Technologies?  especially HI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245600" indent="-39960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hat are barriers and drivers of use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2031840" y="2755800"/>
            <a:ext cx="8934480" cy="6705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68280" y="253800"/>
            <a:ext cx="1238256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On The Ground </a:t>
            </a:r>
            <a:br>
              <a:rPr sz="6400"/>
            </a:b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You Need to Focus On the Tree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" descr=""/>
          <p:cNvPicPr/>
          <p:nvPr/>
        </p:nvPicPr>
        <p:blipFill>
          <a:blip r:embed="rId1"/>
          <a:srcRect l="24962" t="0" r="25008" b="0"/>
          <a:stretch/>
        </p:blipFill>
        <p:spPr>
          <a:xfrm>
            <a:off x="6959520" y="1828800"/>
            <a:ext cx="4581720" cy="6108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14" name="Picture 2" descr=""/>
          <p:cNvPicPr/>
          <p:nvPr/>
        </p:nvPicPr>
        <p:blipFill>
          <a:blip r:embed="rId2"/>
          <a:srcRect l="24124" t="0" r="30478" b="0"/>
          <a:stretch/>
        </p:blipFill>
        <p:spPr>
          <a:xfrm>
            <a:off x="6362640" y="266760"/>
            <a:ext cx="6529320" cy="92106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1600" y="1511280"/>
            <a:ext cx="5867640" cy="7391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Driving to Surprise Lake</a:t>
            </a:r>
            <a:br>
              <a:rPr sz="7000"/>
            </a:br>
            <a:br>
              <a:rPr sz="7000"/>
            </a:b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Satellite View Shows the 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Fores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10917360" y="2711520"/>
            <a:ext cx="1774800" cy="3384000"/>
            <a:chOff x="10917360" y="2711520"/>
            <a:chExt cx="1774800" cy="3384000"/>
          </a:xfrm>
        </p:grpSpPr>
        <p:sp>
          <p:nvSpPr>
            <p:cNvPr id="517" name="Rectangle 5"/>
            <p:cNvSpPr/>
            <p:nvPr/>
          </p:nvSpPr>
          <p:spPr>
            <a:xfrm>
              <a:off x="10917360" y="2711520"/>
              <a:ext cx="177480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urprise Lake</a:t>
              </a:r>
              <a:endParaRPr b="0" lang="en-US" sz="2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 flipV="1">
              <a:off x="11809440" y="3182400"/>
              <a:ext cx="0" cy="291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19" name="Line 7"/>
          <p:cNvSpPr/>
          <p:nvPr/>
        </p:nvSpPr>
        <p:spPr>
          <a:xfrm>
            <a:off x="8826480" y="63882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1600" y="1511280"/>
            <a:ext cx="5867640" cy="7391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Hiking to Surprise Lake</a:t>
            </a:r>
            <a:br>
              <a:rPr sz="7000"/>
            </a:br>
            <a:br>
              <a:rPr sz="7000"/>
            </a:b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Sometimes You Need to See 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the Trees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5797440" y="274680"/>
            <a:ext cx="6888240" cy="9182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Key Question 2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23" name="Group 2"/>
          <p:cNvGrpSpPr/>
          <p:nvPr/>
        </p:nvGrpSpPr>
        <p:grpSpPr>
          <a:xfrm>
            <a:off x="482760" y="1871640"/>
            <a:ext cx="12064320" cy="7468920"/>
            <a:chOff x="482760" y="1871640"/>
            <a:chExt cx="12064320" cy="7468920"/>
          </a:xfrm>
        </p:grpSpPr>
        <p:sp>
          <p:nvSpPr>
            <p:cNvPr id="524" name="AutoShape 3"/>
            <p:cNvSpPr/>
            <p:nvPr/>
          </p:nvSpPr>
          <p:spPr>
            <a:xfrm>
              <a:off x="3864600" y="4510080"/>
              <a:ext cx="2224080" cy="203364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se of Consumer HIT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7093800" y="4419720"/>
              <a:ext cx="2224080" cy="203508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ntermediate Outcom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self-efficacy, physiologic measures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26" name="AutoShape 5"/>
            <p:cNvSpPr/>
            <p:nvPr/>
          </p:nvSpPr>
          <p:spPr>
            <a:xfrm>
              <a:off x="10323000" y="4419720"/>
              <a:ext cx="2224080" cy="203508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atient Outcom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QoL, Cost, Satisfaction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6291360" y="5513400"/>
              <a:ext cx="601560" cy="14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 flipV="1">
              <a:off x="9520920" y="5436720"/>
              <a:ext cx="601560" cy="18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529" name="Group 8"/>
            <p:cNvGrpSpPr/>
            <p:nvPr/>
          </p:nvGrpSpPr>
          <p:grpSpPr>
            <a:xfrm>
              <a:off x="482760" y="4649760"/>
              <a:ext cx="3181320" cy="2033640"/>
              <a:chOff x="482760" y="4649760"/>
              <a:chExt cx="3181320" cy="2033640"/>
            </a:xfrm>
          </p:grpSpPr>
          <p:sp>
            <p:nvSpPr>
              <p:cNvPr id="530" name="AutoShape 9"/>
              <p:cNvSpPr/>
              <p:nvPr/>
            </p:nvSpPr>
            <p:spPr>
              <a:xfrm>
                <a:off x="482760" y="4649760"/>
                <a:ext cx="2224080" cy="20336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Patien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age, gender, health status, literacy, etc.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31" name="Line 10"/>
              <p:cNvSpPr/>
              <p:nvPr/>
            </p:nvSpPr>
            <p:spPr>
              <a:xfrm flipH="1" flipV="1">
                <a:off x="2928960" y="5605560"/>
                <a:ext cx="735120" cy="14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532" name="Group 11"/>
            <p:cNvGrpSpPr/>
            <p:nvPr/>
          </p:nvGrpSpPr>
          <p:grpSpPr>
            <a:xfrm>
              <a:off x="1365480" y="1871640"/>
              <a:ext cx="3282840" cy="2463840"/>
              <a:chOff x="1365480" y="1871640"/>
              <a:chExt cx="3282840" cy="2463840"/>
            </a:xfrm>
          </p:grpSpPr>
          <p:sp>
            <p:nvSpPr>
              <p:cNvPr id="533" name="AutoShape 12"/>
              <p:cNvSpPr/>
              <p:nvPr/>
            </p:nvSpPr>
            <p:spPr>
              <a:xfrm>
                <a:off x="1365480" y="1871640"/>
                <a:ext cx="2230560" cy="20336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Technology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email, PDA, cellphone, monitoring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34" name="Line 13"/>
              <p:cNvSpPr/>
              <p:nvPr/>
            </p:nvSpPr>
            <p:spPr>
              <a:xfrm flipH="1" flipV="1">
                <a:off x="3729600" y="3365640"/>
                <a:ext cx="918720" cy="969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35" name="Freeform 14"/>
            <p:cNvSpPr/>
            <p:nvPr/>
          </p:nvSpPr>
          <p:spPr>
            <a:xfrm rot="33600">
              <a:off x="5578560" y="3066840"/>
              <a:ext cx="5221800" cy="1252440"/>
            </a:xfrm>
            <a:prstGeom prst="pie">
              <a:avLst/>
            </a:prstGeom>
            <a:noFill/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536" name="Group 15"/>
            <p:cNvGrpSpPr/>
            <p:nvPr/>
          </p:nvGrpSpPr>
          <p:grpSpPr>
            <a:xfrm>
              <a:off x="1359000" y="6708600"/>
              <a:ext cx="3286080" cy="2631960"/>
              <a:chOff x="1359000" y="6708600"/>
              <a:chExt cx="3286080" cy="2631960"/>
            </a:xfrm>
          </p:grpSpPr>
          <p:sp>
            <p:nvSpPr>
              <p:cNvPr id="537" name="AutoShape 16"/>
              <p:cNvSpPr/>
              <p:nvPr/>
            </p:nvSpPr>
            <p:spPr>
              <a:xfrm>
                <a:off x="1359000" y="7299720"/>
                <a:ext cx="2225160" cy="20408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Setting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access to care, internet, reimbursement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38" name="Line 17"/>
              <p:cNvSpPr/>
              <p:nvPr/>
            </p:nvSpPr>
            <p:spPr>
              <a:xfrm flipH="1">
                <a:off x="3711240" y="6708600"/>
                <a:ext cx="933840" cy="95580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539" name="Oval 18"/>
          <p:cNvSpPr/>
          <p:nvPr/>
        </p:nvSpPr>
        <p:spPr>
          <a:xfrm>
            <a:off x="4064040" y="2870280"/>
            <a:ext cx="762120" cy="761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Rectangle 19"/>
          <p:cNvSpPr/>
          <p:nvPr/>
        </p:nvSpPr>
        <p:spPr>
          <a:xfrm>
            <a:off x="4889520" y="6883560"/>
            <a:ext cx="77216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520" tIns="0" bIns="0" anchor="t">
            <a:noAutofit/>
          </a:bodyPr>
          <a:p>
            <a:pPr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Among elderly, chronically ill, and underserved populations,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949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types of HIT are most useful and easy to use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949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How useful are various types of interactive HIT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949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are usability factors associated with HIT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Key Question 3 &amp; 4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42" name="Group 2"/>
          <p:cNvGrpSpPr/>
          <p:nvPr/>
        </p:nvGrpSpPr>
        <p:grpSpPr>
          <a:xfrm>
            <a:off x="482760" y="1871640"/>
            <a:ext cx="12064320" cy="7468920"/>
            <a:chOff x="482760" y="1871640"/>
            <a:chExt cx="12064320" cy="7468920"/>
          </a:xfrm>
        </p:grpSpPr>
        <p:sp>
          <p:nvSpPr>
            <p:cNvPr id="543" name="AutoShape 3"/>
            <p:cNvSpPr/>
            <p:nvPr/>
          </p:nvSpPr>
          <p:spPr>
            <a:xfrm>
              <a:off x="3864600" y="4510080"/>
              <a:ext cx="2224080" cy="203364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se of Consumer HIT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4" name="AutoShape 4"/>
            <p:cNvSpPr/>
            <p:nvPr/>
          </p:nvSpPr>
          <p:spPr>
            <a:xfrm>
              <a:off x="7093800" y="4419720"/>
              <a:ext cx="2224080" cy="203508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ntermediate Outcom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self-efficacy, physiologic measures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5" name="AutoShape 5"/>
            <p:cNvSpPr/>
            <p:nvPr/>
          </p:nvSpPr>
          <p:spPr>
            <a:xfrm>
              <a:off x="10323000" y="4419720"/>
              <a:ext cx="2224080" cy="203508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atient Outcom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QoL, Cost, Satisfaction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 flipH="1" flipV="1">
              <a:off x="6291360" y="5513400"/>
              <a:ext cx="601560" cy="14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7" name="Line 7"/>
            <p:cNvSpPr/>
            <p:nvPr/>
          </p:nvSpPr>
          <p:spPr>
            <a:xfrm flipH="1" flipV="1">
              <a:off x="9520920" y="5436720"/>
              <a:ext cx="601560" cy="18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548" name="Group 8"/>
            <p:cNvGrpSpPr/>
            <p:nvPr/>
          </p:nvGrpSpPr>
          <p:grpSpPr>
            <a:xfrm>
              <a:off x="482760" y="4649760"/>
              <a:ext cx="3181320" cy="2033640"/>
              <a:chOff x="482760" y="4649760"/>
              <a:chExt cx="3181320" cy="2033640"/>
            </a:xfrm>
          </p:grpSpPr>
          <p:sp>
            <p:nvSpPr>
              <p:cNvPr id="549" name="AutoShape 9"/>
              <p:cNvSpPr/>
              <p:nvPr/>
            </p:nvSpPr>
            <p:spPr>
              <a:xfrm>
                <a:off x="482760" y="4649760"/>
                <a:ext cx="2224080" cy="20336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Patien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age, gender, health status, literacy, etc.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50" name="Line 10"/>
              <p:cNvSpPr/>
              <p:nvPr/>
            </p:nvSpPr>
            <p:spPr>
              <a:xfrm flipH="1" flipV="1">
                <a:off x="2928960" y="5605560"/>
                <a:ext cx="735120" cy="14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551" name="Group 11"/>
            <p:cNvGrpSpPr/>
            <p:nvPr/>
          </p:nvGrpSpPr>
          <p:grpSpPr>
            <a:xfrm>
              <a:off x="1365480" y="1871640"/>
              <a:ext cx="3282840" cy="2463840"/>
              <a:chOff x="1365480" y="1871640"/>
              <a:chExt cx="3282840" cy="2463840"/>
            </a:xfrm>
          </p:grpSpPr>
          <p:sp>
            <p:nvSpPr>
              <p:cNvPr id="552" name="AutoShape 12"/>
              <p:cNvSpPr/>
              <p:nvPr/>
            </p:nvSpPr>
            <p:spPr>
              <a:xfrm>
                <a:off x="1365480" y="1871640"/>
                <a:ext cx="2230560" cy="20336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Technology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email, PDA, cellphone, monitoring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53" name="Line 13"/>
              <p:cNvSpPr/>
              <p:nvPr/>
            </p:nvSpPr>
            <p:spPr>
              <a:xfrm flipH="1" flipV="1">
                <a:off x="3729600" y="3365640"/>
                <a:ext cx="918720" cy="969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54" name="Freeform 14"/>
            <p:cNvSpPr/>
            <p:nvPr/>
          </p:nvSpPr>
          <p:spPr>
            <a:xfrm rot="33600">
              <a:off x="5578560" y="3066840"/>
              <a:ext cx="5221800" cy="1252440"/>
            </a:xfrm>
            <a:prstGeom prst="pie">
              <a:avLst/>
            </a:prstGeom>
            <a:noFill/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555" name="Group 15"/>
            <p:cNvGrpSpPr/>
            <p:nvPr/>
          </p:nvGrpSpPr>
          <p:grpSpPr>
            <a:xfrm>
              <a:off x="1359000" y="6708600"/>
              <a:ext cx="3286080" cy="2631960"/>
              <a:chOff x="1359000" y="6708600"/>
              <a:chExt cx="3286080" cy="2631960"/>
            </a:xfrm>
          </p:grpSpPr>
          <p:sp>
            <p:nvSpPr>
              <p:cNvPr id="556" name="AutoShape 16"/>
              <p:cNvSpPr/>
              <p:nvPr/>
            </p:nvSpPr>
            <p:spPr>
              <a:xfrm>
                <a:off x="1359000" y="7299720"/>
                <a:ext cx="2225160" cy="20408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Setting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access to care, internet, reimbursement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57" name="Line 17"/>
              <p:cNvSpPr/>
              <p:nvPr/>
            </p:nvSpPr>
            <p:spPr>
              <a:xfrm flipH="1">
                <a:off x="3711240" y="6708600"/>
                <a:ext cx="933840" cy="95580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558" name="Oval 18"/>
          <p:cNvSpPr/>
          <p:nvPr/>
        </p:nvSpPr>
        <p:spPr>
          <a:xfrm>
            <a:off x="3378240" y="6566040"/>
            <a:ext cx="762120" cy="761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3,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Rectangle 19"/>
          <p:cNvSpPr/>
          <p:nvPr/>
        </p:nvSpPr>
        <p:spPr>
          <a:xfrm>
            <a:off x="4889520" y="6883560"/>
            <a:ext cx="77216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520" tIns="0" bIns="0" anchor="t">
            <a:noAutofit/>
          </a:bodyPr>
          <a:p>
            <a:pPr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Among elderly, chronically ill, and underserved populations,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949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barriers and drivers affect use of interactive HIT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949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How do these factors vary by population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949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How do these factors vary by type of HIT application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AHRQ Evidence Repor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477440" cy="676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reate analytic framework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Define key question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Define inclusion, exclusion criteria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omprehensive literature search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Quality assessment of studie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ynthesis of result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Analytic Framework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AutoShape 2"/>
          <p:cNvSpPr/>
          <p:nvPr/>
        </p:nvSpPr>
        <p:spPr>
          <a:xfrm>
            <a:off x="3695760" y="4521240"/>
            <a:ext cx="2222280" cy="2031840"/>
          </a:xfrm>
          <a:prstGeom prst="roundRect">
            <a:avLst>
              <a:gd name="adj" fmla="val 9375"/>
            </a:avLst>
          </a:prstGeom>
          <a:gradFill rotWithShape="0">
            <a:gsLst>
              <a:gs pos="0">
                <a:srgbClr val="0033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Use of Consumer H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6921360" y="4432320"/>
            <a:ext cx="2222640" cy="2031840"/>
          </a:xfrm>
          <a:prstGeom prst="roundRect">
            <a:avLst>
              <a:gd name="adj" fmla="val 9375"/>
            </a:avLst>
          </a:prstGeom>
          <a:gradFill rotWithShape="0">
            <a:gsLst>
              <a:gs pos="0">
                <a:srgbClr val="0033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Intermediate Outcom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(self-efficacy, physiologic measur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10147320" y="4432320"/>
            <a:ext cx="2222640" cy="2031840"/>
          </a:xfrm>
          <a:prstGeom prst="roundRect">
            <a:avLst>
              <a:gd name="adj" fmla="val 9375"/>
            </a:avLst>
          </a:prstGeom>
          <a:gradFill rotWithShape="0">
            <a:gsLst>
              <a:gs pos="0">
                <a:srgbClr val="0033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Patient Outcom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(QoL, Cost, Satisfacti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 flipH="1" flipV="1">
            <a:off x="6121440" y="5522400"/>
            <a:ext cx="598320" cy="180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Line 6"/>
          <p:cNvSpPr/>
          <p:nvPr/>
        </p:nvSpPr>
        <p:spPr>
          <a:xfrm flipH="1">
            <a:off x="9346680" y="5448240"/>
            <a:ext cx="59868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89" name="Group 7"/>
          <p:cNvGrpSpPr/>
          <p:nvPr/>
        </p:nvGrpSpPr>
        <p:grpSpPr>
          <a:xfrm>
            <a:off x="317520" y="4660920"/>
            <a:ext cx="3176280" cy="2031840"/>
            <a:chOff x="317520" y="4660920"/>
            <a:chExt cx="3176280" cy="2031840"/>
          </a:xfrm>
        </p:grpSpPr>
        <p:sp>
          <p:nvSpPr>
            <p:cNvPr id="390" name="AutoShape 8"/>
            <p:cNvSpPr/>
            <p:nvPr/>
          </p:nvSpPr>
          <p:spPr>
            <a:xfrm>
              <a:off x="317520" y="4660920"/>
              <a:ext cx="2222640" cy="2031840"/>
            </a:xfrm>
            <a:prstGeom prst="roundRect">
              <a:avLst>
                <a:gd name="adj" fmla="val 9375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atient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age, gender, health status, literacy, etc.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H="1">
              <a:off x="2761920" y="5616720"/>
              <a:ext cx="73188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392" name="Group 10"/>
          <p:cNvGrpSpPr/>
          <p:nvPr/>
        </p:nvGrpSpPr>
        <p:grpSpPr>
          <a:xfrm>
            <a:off x="1198440" y="1884240"/>
            <a:ext cx="3279600" cy="2461680"/>
            <a:chOff x="1198440" y="1884240"/>
            <a:chExt cx="3279600" cy="2461680"/>
          </a:xfrm>
        </p:grpSpPr>
        <p:sp>
          <p:nvSpPr>
            <p:cNvPr id="393" name="AutoShape 11"/>
            <p:cNvSpPr/>
            <p:nvPr/>
          </p:nvSpPr>
          <p:spPr>
            <a:xfrm>
              <a:off x="1198440" y="1884240"/>
              <a:ext cx="2230200" cy="2033280"/>
            </a:xfrm>
            <a:prstGeom prst="roundRect">
              <a:avLst>
                <a:gd name="adj" fmla="val 9375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echnology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email, PDA, cellphone, monitoring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 flipV="1">
              <a:off x="3562200" y="3377160"/>
              <a:ext cx="915840" cy="9687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95" name="Freeform 13"/>
          <p:cNvSpPr/>
          <p:nvPr/>
        </p:nvSpPr>
        <p:spPr>
          <a:xfrm rot="33600">
            <a:off x="5408280" y="3079440"/>
            <a:ext cx="5214960" cy="12510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96" name="Group 14"/>
          <p:cNvGrpSpPr/>
          <p:nvPr/>
        </p:nvGrpSpPr>
        <p:grpSpPr>
          <a:xfrm>
            <a:off x="1193760" y="6718320"/>
            <a:ext cx="3281040" cy="2628360"/>
            <a:chOff x="1193760" y="6718320"/>
            <a:chExt cx="3281040" cy="2628360"/>
          </a:xfrm>
        </p:grpSpPr>
        <p:sp>
          <p:nvSpPr>
            <p:cNvPr id="397" name="AutoShape 15"/>
            <p:cNvSpPr/>
            <p:nvPr/>
          </p:nvSpPr>
          <p:spPr>
            <a:xfrm>
              <a:off x="1193760" y="7308720"/>
              <a:ext cx="2222640" cy="2037960"/>
            </a:xfrm>
            <a:prstGeom prst="roundRect">
              <a:avLst>
                <a:gd name="adj" fmla="val 9375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Setting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access to care, internet, reimbursement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H="1">
              <a:off x="3542760" y="6718320"/>
              <a:ext cx="932040" cy="9532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Key Question 1 - 4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00" name="Group 2"/>
          <p:cNvGrpSpPr/>
          <p:nvPr/>
        </p:nvGrpSpPr>
        <p:grpSpPr>
          <a:xfrm>
            <a:off x="482760" y="1871640"/>
            <a:ext cx="12064320" cy="7468920"/>
            <a:chOff x="482760" y="1871640"/>
            <a:chExt cx="12064320" cy="7468920"/>
          </a:xfrm>
        </p:grpSpPr>
        <p:sp>
          <p:nvSpPr>
            <p:cNvPr id="401" name="AutoShape 3"/>
            <p:cNvSpPr/>
            <p:nvPr/>
          </p:nvSpPr>
          <p:spPr>
            <a:xfrm>
              <a:off x="3864600" y="4510080"/>
              <a:ext cx="2224080" cy="203364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se of Consumer HIT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7093800" y="4419720"/>
              <a:ext cx="2224080" cy="203508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ntermediate Outcom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self-efficacy, physiologic measures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3" name="AutoShape 5"/>
            <p:cNvSpPr/>
            <p:nvPr/>
          </p:nvSpPr>
          <p:spPr>
            <a:xfrm>
              <a:off x="10323000" y="4419720"/>
              <a:ext cx="2224080" cy="203508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atient Outcom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QoL, Cost, Satisfaction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4" name="Line 6"/>
            <p:cNvSpPr/>
            <p:nvPr/>
          </p:nvSpPr>
          <p:spPr>
            <a:xfrm flipH="1" flipV="1">
              <a:off x="6291360" y="5513400"/>
              <a:ext cx="601560" cy="14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 flipH="1" flipV="1">
              <a:off x="9520920" y="5436720"/>
              <a:ext cx="601560" cy="18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406" name="Group 8"/>
            <p:cNvGrpSpPr/>
            <p:nvPr/>
          </p:nvGrpSpPr>
          <p:grpSpPr>
            <a:xfrm>
              <a:off x="482760" y="4649760"/>
              <a:ext cx="3181320" cy="2033640"/>
              <a:chOff x="482760" y="4649760"/>
              <a:chExt cx="3181320" cy="2033640"/>
            </a:xfrm>
          </p:grpSpPr>
          <p:sp>
            <p:nvSpPr>
              <p:cNvPr id="407" name="AutoShape 9"/>
              <p:cNvSpPr/>
              <p:nvPr/>
            </p:nvSpPr>
            <p:spPr>
              <a:xfrm>
                <a:off x="482760" y="4649760"/>
                <a:ext cx="2224080" cy="20336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Patien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age, gender, health status, literacy, etc.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08" name="Line 10"/>
              <p:cNvSpPr/>
              <p:nvPr/>
            </p:nvSpPr>
            <p:spPr>
              <a:xfrm flipH="1" flipV="1">
                <a:off x="2928960" y="5605560"/>
                <a:ext cx="735120" cy="14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409" name="Group 11"/>
            <p:cNvGrpSpPr/>
            <p:nvPr/>
          </p:nvGrpSpPr>
          <p:grpSpPr>
            <a:xfrm>
              <a:off x="1365480" y="1871640"/>
              <a:ext cx="3282840" cy="2463840"/>
              <a:chOff x="1365480" y="1871640"/>
              <a:chExt cx="3282840" cy="2463840"/>
            </a:xfrm>
          </p:grpSpPr>
          <p:sp>
            <p:nvSpPr>
              <p:cNvPr id="410" name="AutoShape 12"/>
              <p:cNvSpPr/>
              <p:nvPr/>
            </p:nvSpPr>
            <p:spPr>
              <a:xfrm>
                <a:off x="1365480" y="1871640"/>
                <a:ext cx="2230560" cy="20336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Technology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email, PDA, cellphone, monitoring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11" name="Line 13"/>
              <p:cNvSpPr/>
              <p:nvPr/>
            </p:nvSpPr>
            <p:spPr>
              <a:xfrm flipH="1" flipV="1">
                <a:off x="3729600" y="3365640"/>
                <a:ext cx="918720" cy="969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12" name="Freeform 14"/>
            <p:cNvSpPr/>
            <p:nvPr/>
          </p:nvSpPr>
          <p:spPr>
            <a:xfrm rot="33600">
              <a:off x="5578560" y="3066840"/>
              <a:ext cx="5221800" cy="1252440"/>
            </a:xfrm>
            <a:prstGeom prst="pie">
              <a:avLst/>
            </a:prstGeom>
            <a:noFill/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413" name="Group 15"/>
            <p:cNvGrpSpPr/>
            <p:nvPr/>
          </p:nvGrpSpPr>
          <p:grpSpPr>
            <a:xfrm>
              <a:off x="1359000" y="6708600"/>
              <a:ext cx="3286080" cy="2631960"/>
              <a:chOff x="1359000" y="6708600"/>
              <a:chExt cx="3286080" cy="2631960"/>
            </a:xfrm>
          </p:grpSpPr>
          <p:sp>
            <p:nvSpPr>
              <p:cNvPr id="414" name="AutoShape 16"/>
              <p:cNvSpPr/>
              <p:nvPr/>
            </p:nvSpPr>
            <p:spPr>
              <a:xfrm>
                <a:off x="1359000" y="7299720"/>
                <a:ext cx="2225160" cy="20408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Setting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access to care, internet, reimbursement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15" name="Line 17"/>
              <p:cNvSpPr/>
              <p:nvPr/>
            </p:nvSpPr>
            <p:spPr>
              <a:xfrm flipH="1">
                <a:off x="3711240" y="6708600"/>
                <a:ext cx="933840" cy="95580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416" name="Oval 18"/>
          <p:cNvSpPr/>
          <p:nvPr/>
        </p:nvSpPr>
        <p:spPr>
          <a:xfrm>
            <a:off x="2895480" y="4495680"/>
            <a:ext cx="76212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4889520" y="6883560"/>
            <a:ext cx="7721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520" tIns="0" bIns="0" anchor="t">
            <a:noAutofit/>
          </a:bodyPr>
          <a:p>
            <a:pPr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Among elderly, chronically ill, and underserved populations,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is the current level of use of health IT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types are most useful and usable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barriers hinder use of interactive health IT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What drivers facilitate use of interactive health IT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4076640" y="2933640"/>
            <a:ext cx="76212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Oval 21"/>
          <p:cNvSpPr/>
          <p:nvPr/>
        </p:nvSpPr>
        <p:spPr>
          <a:xfrm>
            <a:off x="3378240" y="6566040"/>
            <a:ext cx="762120" cy="761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3,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Key Question 5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21" name="Group 2"/>
          <p:cNvGrpSpPr/>
          <p:nvPr/>
        </p:nvGrpSpPr>
        <p:grpSpPr>
          <a:xfrm>
            <a:off x="482760" y="1871640"/>
            <a:ext cx="12064320" cy="7468920"/>
            <a:chOff x="482760" y="1871640"/>
            <a:chExt cx="12064320" cy="7468920"/>
          </a:xfrm>
        </p:grpSpPr>
        <p:sp>
          <p:nvSpPr>
            <p:cNvPr id="422" name="AutoShape 3"/>
            <p:cNvSpPr/>
            <p:nvPr/>
          </p:nvSpPr>
          <p:spPr>
            <a:xfrm>
              <a:off x="3864600" y="4510080"/>
              <a:ext cx="2224080" cy="203364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se of Consumer HIT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23" name="AutoShape 4"/>
            <p:cNvSpPr/>
            <p:nvPr/>
          </p:nvSpPr>
          <p:spPr>
            <a:xfrm>
              <a:off x="7093800" y="4419720"/>
              <a:ext cx="2224080" cy="203508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ntermediate Outcom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self-efficacy, physiologic measures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10323000" y="4419720"/>
              <a:ext cx="2224080" cy="2035080"/>
            </a:xfrm>
            <a:prstGeom prst="roundRect">
              <a:avLst>
                <a:gd name="adj" fmla="val 9361"/>
              </a:avLst>
            </a:prstGeom>
            <a:gradFill rotWithShape="0">
              <a:gsLst>
                <a:gs pos="0">
                  <a:srgbClr val="0033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atient Outcom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(QoL, Cost, Satisfaction)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25" name="Line 6"/>
            <p:cNvSpPr/>
            <p:nvPr/>
          </p:nvSpPr>
          <p:spPr>
            <a:xfrm flipH="1" flipV="1">
              <a:off x="6291360" y="5513400"/>
              <a:ext cx="601560" cy="14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 flipH="1" flipV="1">
              <a:off x="9520920" y="5436720"/>
              <a:ext cx="601560" cy="18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427" name="Group 8"/>
            <p:cNvGrpSpPr/>
            <p:nvPr/>
          </p:nvGrpSpPr>
          <p:grpSpPr>
            <a:xfrm>
              <a:off x="482760" y="4649760"/>
              <a:ext cx="3181320" cy="2033640"/>
              <a:chOff x="482760" y="4649760"/>
              <a:chExt cx="3181320" cy="2033640"/>
            </a:xfrm>
          </p:grpSpPr>
          <p:sp>
            <p:nvSpPr>
              <p:cNvPr id="428" name="AutoShape 9"/>
              <p:cNvSpPr/>
              <p:nvPr/>
            </p:nvSpPr>
            <p:spPr>
              <a:xfrm>
                <a:off x="482760" y="4649760"/>
                <a:ext cx="2224080" cy="20336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Patien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age, gender, health status, literacy, etc.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29" name="Line 10"/>
              <p:cNvSpPr/>
              <p:nvPr/>
            </p:nvSpPr>
            <p:spPr>
              <a:xfrm flipH="1" flipV="1">
                <a:off x="2928960" y="5605560"/>
                <a:ext cx="735120" cy="14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430" name="Group 11"/>
            <p:cNvGrpSpPr/>
            <p:nvPr/>
          </p:nvGrpSpPr>
          <p:grpSpPr>
            <a:xfrm>
              <a:off x="1365480" y="1871640"/>
              <a:ext cx="3282840" cy="2463840"/>
              <a:chOff x="1365480" y="1871640"/>
              <a:chExt cx="3282840" cy="2463840"/>
            </a:xfrm>
          </p:grpSpPr>
          <p:sp>
            <p:nvSpPr>
              <p:cNvPr id="431" name="AutoShape 12"/>
              <p:cNvSpPr/>
              <p:nvPr/>
            </p:nvSpPr>
            <p:spPr>
              <a:xfrm>
                <a:off x="1365480" y="1871640"/>
                <a:ext cx="2230560" cy="20336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Technology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email, PDA, cellphone, monitoring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32" name="Line 13"/>
              <p:cNvSpPr/>
              <p:nvPr/>
            </p:nvSpPr>
            <p:spPr>
              <a:xfrm flipH="1" flipV="1">
                <a:off x="3729600" y="3365640"/>
                <a:ext cx="918720" cy="969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33" name="Freeform 14"/>
            <p:cNvSpPr/>
            <p:nvPr/>
          </p:nvSpPr>
          <p:spPr>
            <a:xfrm rot="33600">
              <a:off x="5578560" y="3066840"/>
              <a:ext cx="5221800" cy="1252440"/>
            </a:xfrm>
            <a:prstGeom prst="pie">
              <a:avLst/>
            </a:prstGeom>
            <a:noFill/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434" name="Group 15"/>
            <p:cNvGrpSpPr/>
            <p:nvPr/>
          </p:nvGrpSpPr>
          <p:grpSpPr>
            <a:xfrm>
              <a:off x="1359000" y="6708600"/>
              <a:ext cx="3286080" cy="2631960"/>
              <a:chOff x="1359000" y="6708600"/>
              <a:chExt cx="3286080" cy="2631960"/>
            </a:xfrm>
          </p:grpSpPr>
          <p:sp>
            <p:nvSpPr>
              <p:cNvPr id="435" name="AutoShape 16"/>
              <p:cNvSpPr/>
              <p:nvPr/>
            </p:nvSpPr>
            <p:spPr>
              <a:xfrm>
                <a:off x="1359000" y="7299720"/>
                <a:ext cx="2225160" cy="2040840"/>
              </a:xfrm>
              <a:prstGeom prst="roundRect">
                <a:avLst>
                  <a:gd name="adj" fmla="val 9361"/>
                </a:avLst>
              </a:prstGeom>
              <a:gradFill rotWithShape="0">
                <a:gsLst>
                  <a:gs pos="0">
                    <a:srgbClr val="0033ff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Setting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(access to care, internet, reimbursement)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36" name="Line 17"/>
              <p:cNvSpPr/>
              <p:nvPr/>
            </p:nvSpPr>
            <p:spPr>
              <a:xfrm flipH="1">
                <a:off x="3711240" y="6708600"/>
                <a:ext cx="933840" cy="95580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437" name="Oval 18"/>
          <p:cNvSpPr/>
          <p:nvPr/>
        </p:nvSpPr>
        <p:spPr>
          <a:xfrm>
            <a:off x="7620120" y="2222640"/>
            <a:ext cx="761760" cy="761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4889520" y="6883560"/>
            <a:ext cx="77216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520" tIns="0" bIns="0" anchor="t">
            <a:noAutofit/>
          </a:bodyPr>
          <a:p>
            <a:pPr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Among elderly, chronically ill, and underserved populations,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949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Is interactive consumer health IT effective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949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How does effectiveness vary among these popula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601"/>
              </a:spcBef>
              <a:buClr>
                <a:srgbClr val="949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How does effectiveness differ from general population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Oval 20"/>
          <p:cNvSpPr/>
          <p:nvPr/>
        </p:nvSpPr>
        <p:spPr>
          <a:xfrm>
            <a:off x="6134040" y="4495680"/>
            <a:ext cx="76212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Inclusion: Populations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861840" y="2425680"/>
          <a:ext cx="11290320" cy="6675480"/>
        </p:xfrm>
        <a:graphic>
          <a:graphicData uri="http://schemas.openxmlformats.org/drawingml/2006/table">
            <a:tbl>
              <a:tblPr/>
              <a:tblGrid>
                <a:gridCol w="2316240"/>
                <a:gridCol w="2417760"/>
                <a:gridCol w="6556320"/>
              </a:tblGrid>
              <a:tr h="52848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lder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lder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ver 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functional elder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y life experience, health concer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508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hronically i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hronic con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asting more than one year 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enefits from ongoing 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impairment, limi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impairment in body structure or fun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roblems participating in life situ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168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underserv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underserved 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ureau of Health Professions HRSA designated underserved population, re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underserved re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where individuals are inhibited in ability to receive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70080" y="253800"/>
            <a:ext cx="104774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Inclusion: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Technologies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2971440"/>
            <a:ext cx="10477440" cy="64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irect active use by patie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842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ot just wearing a devic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omputer does some processing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842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not just a conduit for inform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atient receives tailored inform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842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dvice, education, feedbac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Excluded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384200" indent="-444240">
              <a:spcBef>
                <a:spcPts val="15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elemonitoring, videoconferencing, general websites, FAQ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rcRect l="8239" t="12887" r="2192" b="9637"/>
          <a:stretch/>
        </p:blipFill>
        <p:spPr>
          <a:xfrm>
            <a:off x="8051760" y="76320"/>
            <a:ext cx="488952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1"/>
          <p:cNvSpPr/>
          <p:nvPr/>
        </p:nvSpPr>
        <p:spPr>
          <a:xfrm flipH="1">
            <a:off x="2666880" y="8458200"/>
            <a:ext cx="84204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Line 2"/>
          <p:cNvSpPr/>
          <p:nvPr/>
        </p:nvSpPr>
        <p:spPr>
          <a:xfrm>
            <a:off x="2692440" y="1803240"/>
            <a:ext cx="0" cy="6642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14280" y="1469880"/>
            <a:ext cx="2095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ormation Provided to Cli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0880640" y="82263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ormation Gathered from Cli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Rectangle 5"/>
          <p:cNvSpPr/>
          <p:nvPr/>
        </p:nvSpPr>
        <p:spPr>
          <a:xfrm rot="19800000">
            <a:off x="1347840" y="8067600"/>
            <a:ext cx="1117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non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Line 6"/>
          <p:cNvSpPr/>
          <p:nvPr/>
        </p:nvSpPr>
        <p:spPr>
          <a:xfrm flipV="1">
            <a:off x="2409840" y="7827480"/>
            <a:ext cx="28584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Rectangle 7"/>
          <p:cNvSpPr/>
          <p:nvPr/>
        </p:nvSpPr>
        <p:spPr>
          <a:xfrm rot="19800000">
            <a:off x="542520" y="707184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general knowledg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Line 8"/>
          <p:cNvSpPr/>
          <p:nvPr/>
        </p:nvSpPr>
        <p:spPr>
          <a:xfrm flipV="1">
            <a:off x="2409840" y="6748560"/>
            <a:ext cx="28584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Rectangle 9"/>
          <p:cNvSpPr/>
          <p:nvPr/>
        </p:nvSpPr>
        <p:spPr>
          <a:xfrm rot="19800000">
            <a:off x="175680" y="608796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population specific information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2409840" y="5668560"/>
            <a:ext cx="28584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Rectangle 11"/>
          <p:cNvSpPr/>
          <p:nvPr/>
        </p:nvSpPr>
        <p:spPr>
          <a:xfrm rot="19800000">
            <a:off x="282600" y="4982760"/>
            <a:ext cx="2260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disease specific recommendatio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Line 12"/>
          <p:cNvSpPr/>
          <p:nvPr/>
        </p:nvSpPr>
        <p:spPr>
          <a:xfrm flipV="1">
            <a:off x="2409840" y="4589640"/>
            <a:ext cx="28584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Rectangle 13"/>
          <p:cNvSpPr/>
          <p:nvPr/>
        </p:nvSpPr>
        <p:spPr>
          <a:xfrm rot="19800000">
            <a:off x="353520" y="3897000"/>
            <a:ext cx="218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patient specific advi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Line 14"/>
          <p:cNvSpPr/>
          <p:nvPr/>
        </p:nvSpPr>
        <p:spPr>
          <a:xfrm flipV="1">
            <a:off x="2409840" y="3522240"/>
            <a:ext cx="28584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Rectangle 15"/>
          <p:cNvSpPr/>
          <p:nvPr/>
        </p:nvSpPr>
        <p:spPr>
          <a:xfrm rot="19800000">
            <a:off x="175680" y="283680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state specific instruc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2409840" y="2417400"/>
            <a:ext cx="28584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Rectangle 17"/>
          <p:cNvSpPr/>
          <p:nvPr/>
        </p:nvSpPr>
        <p:spPr>
          <a:xfrm rot="19800000">
            <a:off x="2498400" y="8648640"/>
            <a:ext cx="851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non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3310920" y="8475840"/>
            <a:ext cx="28548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Rectangle 19"/>
          <p:cNvSpPr/>
          <p:nvPr/>
        </p:nvSpPr>
        <p:spPr>
          <a:xfrm rot="19800000">
            <a:off x="3004920" y="8876880"/>
            <a:ext cx="1765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demographi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Line 20"/>
          <p:cNvSpPr/>
          <p:nvPr/>
        </p:nvSpPr>
        <p:spPr>
          <a:xfrm flipV="1">
            <a:off x="4682520" y="8475840"/>
            <a:ext cx="28548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Rectangle 21"/>
          <p:cNvSpPr/>
          <p:nvPr/>
        </p:nvSpPr>
        <p:spPr>
          <a:xfrm rot="19800000">
            <a:off x="4378320" y="876096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habits and risk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Line 22"/>
          <p:cNvSpPr/>
          <p:nvPr/>
        </p:nvSpPr>
        <p:spPr>
          <a:xfrm flipV="1">
            <a:off x="6092280" y="8475840"/>
            <a:ext cx="28548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Rectangle 23"/>
          <p:cNvSpPr/>
          <p:nvPr/>
        </p:nvSpPr>
        <p:spPr>
          <a:xfrm rot="19800000">
            <a:off x="5730840" y="8776800"/>
            <a:ext cx="189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health conditio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Line 24"/>
          <p:cNvSpPr/>
          <p:nvPr/>
        </p:nvSpPr>
        <p:spPr>
          <a:xfrm flipV="1">
            <a:off x="7514640" y="8475840"/>
            <a:ext cx="28548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Rectangle 25"/>
          <p:cNvSpPr/>
          <p:nvPr/>
        </p:nvSpPr>
        <p:spPr>
          <a:xfrm rot="19800000">
            <a:off x="7211880" y="8755200"/>
            <a:ext cx="180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anagement pla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Line 26"/>
          <p:cNvSpPr/>
          <p:nvPr/>
        </p:nvSpPr>
        <p:spPr>
          <a:xfrm flipV="1">
            <a:off x="8912160" y="8475840"/>
            <a:ext cx="28584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Rectangle 27"/>
          <p:cNvSpPr/>
          <p:nvPr/>
        </p:nvSpPr>
        <p:spPr>
          <a:xfrm rot="19800000">
            <a:off x="9040680" y="8659440"/>
            <a:ext cx="142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current stat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Line 28"/>
          <p:cNvSpPr/>
          <p:nvPr/>
        </p:nvSpPr>
        <p:spPr>
          <a:xfrm flipV="1">
            <a:off x="10388520" y="8475840"/>
            <a:ext cx="28584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2705040" y="2425680"/>
            <a:ext cx="7950240" cy="12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Line 30"/>
          <p:cNvSpPr/>
          <p:nvPr/>
        </p:nvSpPr>
        <p:spPr>
          <a:xfrm flipV="1">
            <a:off x="10655280" y="2425320"/>
            <a:ext cx="0" cy="6032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Oval 31"/>
          <p:cNvSpPr/>
          <p:nvPr/>
        </p:nvSpPr>
        <p:spPr>
          <a:xfrm>
            <a:off x="2743200" y="6273720"/>
            <a:ext cx="1714680" cy="1143000"/>
          </a:xfrm>
          <a:prstGeom prst="ellipse">
            <a:avLst/>
          </a:prstGeom>
          <a:solidFill>
            <a:srgbClr val="656565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websit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Oval 32"/>
          <p:cNvSpPr/>
          <p:nvPr/>
        </p:nvSpPr>
        <p:spPr>
          <a:xfrm>
            <a:off x="4483080" y="3035160"/>
            <a:ext cx="1714680" cy="1143000"/>
          </a:xfrm>
          <a:prstGeom prst="ellipse">
            <a:avLst/>
          </a:prstGeom>
          <a:solidFill>
            <a:srgbClr val="d8d8d8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sk calculator tailored advic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Oval 33"/>
          <p:cNvSpPr/>
          <p:nvPr/>
        </p:nvSpPr>
        <p:spPr>
          <a:xfrm>
            <a:off x="4483080" y="5181480"/>
            <a:ext cx="1714680" cy="1143000"/>
          </a:xfrm>
          <a:prstGeom prst="ellipse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sk calculator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l advic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Oval 34"/>
          <p:cNvSpPr/>
          <p:nvPr/>
        </p:nvSpPr>
        <p:spPr>
          <a:xfrm>
            <a:off x="8204040" y="3035160"/>
            <a:ext cx="1714680" cy="1143000"/>
          </a:xfrm>
          <a:prstGeom prst="ellipse">
            <a:avLst/>
          </a:prstGeom>
          <a:solidFill>
            <a:srgbClr val="d8d8d8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ilored reminding system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Oval 35"/>
          <p:cNvSpPr/>
          <p:nvPr/>
        </p:nvSpPr>
        <p:spPr>
          <a:xfrm>
            <a:off x="9829800" y="7238880"/>
            <a:ext cx="1714680" cy="1143000"/>
          </a:xfrm>
          <a:prstGeom prst="ellipse">
            <a:avLst/>
          </a:prstGeom>
          <a:solidFill>
            <a:srgbClr val="656565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 monitoring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Rectangle 36"/>
          <p:cNvSpPr/>
          <p:nvPr/>
        </p:nvSpPr>
        <p:spPr>
          <a:xfrm>
            <a:off x="1151640" y="596520"/>
            <a:ext cx="10156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pectrum of Information Interventions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Oval 37"/>
          <p:cNvSpPr/>
          <p:nvPr/>
        </p:nvSpPr>
        <p:spPr>
          <a:xfrm>
            <a:off x="6794640" y="3759120"/>
            <a:ext cx="1714320" cy="825480"/>
          </a:xfrm>
          <a:prstGeom prst="ellipse">
            <a:avLst/>
          </a:prstGeom>
          <a:solidFill>
            <a:srgbClr val="d8d8d8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 foru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6794640" y="4394160"/>
            <a:ext cx="1714320" cy="901800"/>
          </a:xfrm>
          <a:prstGeom prst="ellipse">
            <a:avLst/>
          </a:prstGeom>
          <a:solidFill>
            <a:srgbClr val="d8d8d8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ve educ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Oval 39"/>
          <p:cNvSpPr/>
          <p:nvPr/>
        </p:nvSpPr>
        <p:spPr>
          <a:xfrm>
            <a:off x="6794640" y="5105520"/>
            <a:ext cx="1714320" cy="888840"/>
          </a:xfrm>
          <a:prstGeom prst="ellipse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 FAQ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Oval 40"/>
          <p:cNvSpPr/>
          <p:nvPr/>
        </p:nvSpPr>
        <p:spPr>
          <a:xfrm>
            <a:off x="2743200" y="1854360"/>
            <a:ext cx="1714680" cy="1143000"/>
          </a:xfrm>
          <a:prstGeom prst="ellipse">
            <a:avLst/>
          </a:prstGeom>
          <a:solidFill>
            <a:srgbClr val="656565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ce guidelin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Oval 41"/>
          <p:cNvSpPr/>
          <p:nvPr/>
        </p:nvSpPr>
        <p:spPr>
          <a:xfrm>
            <a:off x="9829800" y="1854360"/>
            <a:ext cx="17146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f management system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.</dc:creator>
  <dc:description/>
  <cp:keywords/>
  <dc:language>en-US</dc:language>
  <cp:lastModifiedBy>Paul Gorman</cp:lastModifiedBy>
  <dcterms:modified xsi:type="dcterms:W3CDTF">2009-09-14T11:20:25Z</dcterms:modified>
  <cp:revision>2</cp:revision>
  <dc:subject/>
  <dc:title>Remote Health Coaching System for Elders in a Home Environment</dc:title>
</cp:coreProperties>
</file>