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12179300" cy="9132888"/>
  <p:notesSz cx="9601200" cy="1508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9601200" cy="1508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0880" cy="75420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4"/>
          </p:nvPr>
        </p:nvSpPr>
        <p:spPr>
          <a:xfrm>
            <a:off x="5438880" y="-360"/>
            <a:ext cx="4160880" cy="75420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176E-CAE2-4491-B946-D8178C0E8A65}" type="datetime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028520" y="1131840"/>
            <a:ext cx="7543800" cy="565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41120" rIns="141120" tIns="70560" bIns="70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5"/>
          </p:nvPr>
        </p:nvSpPr>
        <p:spPr>
          <a:xfrm>
            <a:off x="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6"/>
          </p:nvPr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B16D-1899-443D-AD2E-A05899E9246D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5438880" y="14330520"/>
            <a:ext cx="4160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120" rIns="141120" tIns="70560" bIns="70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C05C-F33B-4982-BFD2-384CC6B34C1D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028880" y="1131840"/>
            <a:ext cx="7543800" cy="5657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60480" y="7165440"/>
            <a:ext cx="7680240" cy="67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E3B-8A5B-4AF8-B567-6072D27A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A20-99D6-4A6E-B061-26B945D5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A048C3-B0BE-46A9-B5FD-DB752D17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4D0B6F-CBAD-460A-A060-051E9E55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F96CF7-5C7A-413F-921A-71080667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B3712F-99D4-4F3F-8CF1-D3387DE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79F605-3A5F-43EA-966B-7CB5E5D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ACC6A0-BC54-4A08-A689-DC193D48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00D17D-DBA3-4E00-BDBD-9A51874C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610A26-0DF4-45B6-8B08-43043512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5B884F-FA81-4098-A389-05FC0643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F54A7-9797-4503-96DB-512C1307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976-FD3E-4F3E-8813-AF62BC5C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D098B-F2FB-4571-AA81-24ACCA95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4D15F-0D77-4FAC-A4F6-91D3095C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B4780-A0CC-48CA-9D17-9BECD87A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9214B-090A-4EC3-8A60-A4B1A28C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EAC1B-086D-484B-8970-120D5F8E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2F8BA-F33F-40F4-8AD0-75B079CE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C6FCD-86D0-4092-BC53-6701660D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1240D-53A2-491E-A2D6-A8704583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C0E1E-57DA-4E14-9DC0-07E3DE9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1B137-E366-49E4-9411-F762CBC3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692-7EBD-4190-8C87-5CBD1CFF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1BE00-AD45-4B5A-B057-9D36A22B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7C9C-1A39-4223-A144-CB0E7C35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DE68D-FBD7-47FC-A409-76F673C3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F420E-3822-4D88-A9E6-1E990045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8BDE9-AABD-4D0A-B524-6B1E31AF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8FFFF-A279-49D1-B7A2-1C81B804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185F3-1F77-4E39-A117-9957501E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1C6AB-8D5D-44B7-AA8B-D72BC6DA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75679-A6CE-4CCA-9735-00B1D791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FBDF-10C4-4676-95B1-00CA20BE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D2B87-ECB5-4B3E-A2B4-92212194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21664-FE4E-4097-804F-CB7ED540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7D813-6BF5-4685-AFF9-0F8383DE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BCC46-14E2-401F-A99C-EE466782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B5222-F4C5-460D-85DD-24F319D7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3A29-8002-416C-A64C-A2A4C5DD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3A11-03AD-42E6-B173-B9AB726E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4265-3A5F-4691-9A42-E7501D1F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3B41-A5F4-4120-A0D6-F7138E54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6FF3-7563-48D9-AF3F-8ACB54D0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559-1DEC-4DDA-820A-902E133D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A42B-A241-4AFC-AC72-D0750D44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BE6B-55D9-47DE-9DE3-065CA2EE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240D-EF65-4987-B916-512B5932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5DF6-C222-4FE6-AF73-224E7C78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010A-B94A-4CD3-A226-9692B566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27C1-9602-492F-9156-84C60903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AFEC-C371-49E2-890D-E4EBD554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EBE2-F6DF-432D-91E4-10E1CF7C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2FB6-7C2C-4BA1-8701-C6D848BC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ABC88-7EBF-4C31-A2BD-309BD138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E92-842F-46CB-A6C9-7723C2BC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01B5-CA61-4FCF-957E-7BD8498A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B555-A951-48D2-B26C-8E315BE1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3D0B-5865-4B19-B150-B0FCA4E6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21968-8DE1-4D3F-A003-CC4E932A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EBA1-3053-4358-A87C-24855D47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74707-C938-445D-BA51-2A556C31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D9DAB-E4BA-4483-82B2-EAB8D71C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F2DAC-6072-4FE2-8C3B-E750CD53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76E8C-7FCB-4D17-93F4-984EC7B4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1DCF-187D-46E4-BC66-44187447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27F-F4E4-4757-B21E-280C617A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BEFF-35C2-4DC8-8448-E023C90D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115F-7905-4378-9FB1-3FA0F725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25553-9D40-4770-985F-D7AE31B1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421CD-CF52-454D-BEE3-1E926F67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445FF-8F67-4801-B7A8-E8E1E41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BCA06-3013-4C77-9AC1-60BA149A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09FD5-DEBF-4C6D-9309-142C5BB8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49676-61FA-4CE9-A812-6A054B04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2EEB-E40F-4F46-A5EC-CE51528C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8B4A9-7E2F-4362-A5CD-2622926B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EFE-31B1-49B9-AA9E-934C2439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CBCA8-6703-4B08-9DF4-179C1C2C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70D53-62E7-4B14-9B59-FFE30C8A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C63CD-7BCD-404D-B4BF-C31515F7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C6A3C-DB3A-4BDB-AF81-19829EA0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BB4CB-E5DA-4661-B3BF-CEFF40FB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51B8E-1A31-4A79-8530-566525F6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9C960-4949-4493-928E-352A6B6E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88560-3048-4162-9214-B7E2134C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A8998-AF8F-4C72-BA63-F99D083C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96BA4-A115-44E9-8F80-AC565711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6D4-74B4-4C2E-863A-7C386593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CDD40-E979-44D1-A1CC-4412B4B3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FDD71-1A10-41C5-B02E-853845AE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F48D1-D139-4410-BF59-CFF697AB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B455C-C034-48ED-A8D4-BD8DE3D1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8F57-0B84-4B5C-90B7-32E9B2FB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B3F37-C381-4480-8AAF-81202B92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5A10-D668-4DAF-ADBD-24246FD3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89AC9-2847-4C88-9EE5-EEFE3705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3327C-1824-4730-98C1-921F785B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EB31F-1170-4E2F-8A90-342A637C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32B-5972-42DF-BE6B-E095F357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E88E8-135B-4CDA-AFA8-F03CDAA7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30ACC-52E9-400D-81F6-CC828B3C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9DE14-58FB-4D8A-9DBA-F42D54CD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A0FCB-F864-494D-80B9-6A75BD19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8BA2E-FA24-4A1E-BBB6-F01DFC6F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A9CEA-10BA-4C5C-9ABF-B86A4838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94771-EF58-434F-ACEC-E1DF50E5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AAC48-F050-40CF-BC00-BD8500F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F927D-FB9C-418F-832E-74E4DCD5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6BD66-B5B5-4A21-A51A-1DAE41B7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4B7-B145-4521-8269-FE0504D6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2C202-112F-4D70-B2FD-D4625B0A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2EF7C-3CDA-4A94-B1E4-4FC93064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B85A5-5365-4EF1-890B-445BAB31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AC610-4317-4FD4-A0F3-C14C94DD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03B09-425B-4F1A-8470-67C1FB8B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3965C-CCFA-4C19-970B-BE9BAE62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C5EB1-A127-4CDB-B7E4-4B40EEDE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B1A02-76B3-4784-9063-07884FAD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02B46-782F-4A09-8C94-6D428ED1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03540-8B5B-48AF-B13C-7E16B3D2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E2B-2C31-4035-B51D-4E5FE054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74760" y="299520"/>
            <a:ext cx="116172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E73BB-2305-493C-B0E3-13FCB514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5C717-BC20-4E88-878C-081E0BC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C2BD5-0C66-45C7-8A10-399AF00B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B4D76-FA34-46EC-9FB7-568631B5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02680" y="5431680"/>
            <a:ext cx="1177308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366E9-5790-474E-BB87-CE02C2A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5560" y="182700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0268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235560" y="5431680"/>
            <a:ext cx="574524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E96E3-C3C9-42FE-AE61-46490E83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8356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164080" y="182700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2026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18356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164080" y="5431680"/>
            <a:ext cx="3790800" cy="329148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4B6D7-5CC3-40D0-BA89-EBDA021D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149C9A-FD4A-4A84-B223-B1D172AF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010158-C711-448C-AF66-2A79600A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892F97-D1A2-45CD-B1C1-48439AE9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128B-80EC-496F-8AF9-35826CBA7E32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3F49-BA5E-4535-AB2E-35E66AB765F3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VUMC-Buzz-Saw-with-Lens-Fla.gif"/>
          <p:cNvPicPr/>
          <p:nvPr/>
        </p:nvPicPr>
        <p:blipFill>
          <a:blip r:embed="rId3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0"/>
          <p:cNvSpPr/>
          <p:nvPr/>
        </p:nvSpPr>
        <p:spPr>
          <a:xfrm>
            <a:off x="8790120" y="0"/>
            <a:ext cx="61920" cy="913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8854920" y="0"/>
            <a:ext cx="3349800" cy="913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14F0-8B6B-410C-8A1E-F26F6C9BB79D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516480" y="8493120"/>
            <a:ext cx="5109840" cy="4874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20E9-3947-44E6-88B8-4AC0C05D9863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VUMC-Buzz-Saw-with-Lens-Fla.gif"/>
          <p:cNvPicPr/>
          <p:nvPr/>
        </p:nvPicPr>
        <p:blipFill>
          <a:blip r:embed="rId2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8" descr="VUMC-Buzz-Saw-with-Lens-Fla.gif"/>
          <p:cNvPicPr/>
          <p:nvPr/>
        </p:nvPicPr>
        <p:blipFill>
          <a:blip r:embed="rId2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609480" y="8465760"/>
            <a:ext cx="2841840" cy="48564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9238-7BBC-46EC-ABB4-9EC6745C35E6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© 2009, Mark Fris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B060-498F-487B-8174-13DFD9A3E2E2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6829560"/>
            <a:ext cx="12179160" cy="61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VUMC-Buzz-Saw-with-Lens-Fla.gif"/>
          <p:cNvPicPr/>
          <p:nvPr/>
        </p:nvPicPr>
        <p:blipFill>
          <a:blip r:embed="rId2"/>
          <a:stretch/>
        </p:blipFill>
        <p:spPr>
          <a:xfrm>
            <a:off x="749160" y="676440"/>
            <a:ext cx="1231920" cy="1231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DBC9-622D-47F7-92D6-F41014717EFB}" type="datetime">
              <a:rPr b="0" lang="en-US" sz="11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8BCF-9EF3-4908-A566-5ED006F9DEB3}" type="slidenum">
              <a:rPr b="0" lang="en-US" sz="13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0" y="3465360"/>
            <a:ext cx="12179160" cy="61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5D6D-4530-42C8-9798-0E72D833ECB7}" type="datetime">
              <a:rPr b="0" lang="en-US" sz="11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FC66-EB72-4BDA-85DF-9D57FDD72769}" type="slidenum">
              <a:rPr b="0" lang="en-US" sz="13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VUMC-Buzz-Saw-with-Lens-Fla.gif"/>
          <p:cNvPicPr/>
          <p:nvPr/>
        </p:nvPicPr>
        <p:blipFill>
          <a:blip r:embed="rId2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10"/>
          <p:cNvSpPr/>
          <p:nvPr/>
        </p:nvSpPr>
        <p:spPr>
          <a:xfrm>
            <a:off x="203040" y="2859120"/>
            <a:ext cx="5784840" cy="1440"/>
          </a:xfrm>
          <a:prstGeom prst="line">
            <a:avLst/>
          </a:prstGeom>
          <a:ln cap="rnd" w="381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1"/>
          <p:cNvSpPr/>
          <p:nvPr/>
        </p:nvSpPr>
        <p:spPr>
          <a:xfrm>
            <a:off x="6191280" y="2841480"/>
            <a:ext cx="5784840" cy="1800"/>
          </a:xfrm>
          <a:prstGeom prst="line">
            <a:avLst/>
          </a:prstGeom>
          <a:ln cap="rnd" w="381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771F-E959-4889-89CB-A09CC5F9036D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0651-5F0D-4123-B7D3-A6E4C81889C3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B23E-1474-4181-9315-1DA0D134E3A5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A1F0-26F4-49FB-BE82-3D3AB072CC0E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086-E878-436D-BE17-2DC4C688EDB8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975F-5EC9-4F8F-84CB-1641324D0B1C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a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80760" y="8768880"/>
            <a:ext cx="284148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577B-E9A2-4A55-BB9E-FB7D5F42D5AD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587400" y="8768880"/>
            <a:ext cx="733572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A706-EFD2-4080-ADE1-F110DC6C43AA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VUMC-Buzz-Saw-with-Lens-Fla.gif"/>
          <p:cNvPicPr/>
          <p:nvPr/>
        </p:nvPicPr>
        <p:blipFill>
          <a:blip r:embed="rId2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0"/>
          <p:cNvSpPr/>
          <p:nvPr/>
        </p:nvSpPr>
        <p:spPr>
          <a:xfrm>
            <a:off x="3247920" y="1784520"/>
            <a:ext cx="60480" cy="743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700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681120" y="8768880"/>
            <a:ext cx="2566800" cy="36540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03B8-DF57-48D5-850F-823D9C577979}" type="datetime">
              <a:rPr b="0" lang="en-US" sz="1100" spc="-1" strike="noStrike">
                <a:solidFill>
                  <a:srgbClr val="595959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349800" y="8768880"/>
            <a:ext cx="7611840" cy="365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fbfb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10999800" y="8768880"/>
            <a:ext cx="976320" cy="36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88C4-7740-47FF-A19E-CA5BDE45CEB8}" type="slidenum">
              <a:rPr b="1" lang="en-US" sz="13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9"/>
          <p:cNvSpPr/>
          <p:nvPr/>
        </p:nvSpPr>
        <p:spPr>
          <a:xfrm>
            <a:off x="0" y="1725480"/>
            <a:ext cx="12179160" cy="6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8" descr="VUMC-Buzz-Saw-with-Lens-Fla.gif"/>
          <p:cNvPicPr/>
          <p:nvPr/>
        </p:nvPicPr>
        <p:blipFill>
          <a:blip r:embed="rId2"/>
          <a:stretch/>
        </p:blipFill>
        <p:spPr>
          <a:xfrm>
            <a:off x="11264760" y="8143920"/>
            <a:ext cx="725760" cy="7189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0"/>
          <p:cNvSpPr/>
          <p:nvPr/>
        </p:nvSpPr>
        <p:spPr>
          <a:xfrm>
            <a:off x="3770280" y="1784520"/>
            <a:ext cx="60480" cy="743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700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f0ad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40404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393480" y="8866080"/>
            <a:ext cx="3362040" cy="268560"/>
          </a:xfrm>
          <a:prstGeom prst="rect">
            <a:avLst/>
          </a:prstGeom>
          <a:noFill/>
          <a:ln w="0">
            <a:noFill/>
          </a:ln>
        </p:spPr>
        <p:txBody>
          <a:bodyPr lIns="146160" rIns="6084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1D89-F297-49E8-A967-4201B8A64440}" type="datetime">
              <a:rPr b="0" lang="en-US" sz="1100" spc="-1" strike="noStrike">
                <a:solidFill>
                  <a:srgbClr val="595959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6"/>
          </p:nvPr>
        </p:nvSpPr>
        <p:spPr>
          <a:xfrm>
            <a:off x="11133000" y="8866080"/>
            <a:ext cx="976320" cy="2685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3DB7-3866-4846-9CB1-FE959345F8CE}" type="slidenum">
              <a:rPr b="1" lang="en-US" sz="13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7"/>
          </p:nvPr>
        </p:nvSpPr>
        <p:spPr>
          <a:xfrm>
            <a:off x="3881520" y="8866080"/>
            <a:ext cx="7207200" cy="26856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6084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conomics.pomona.edu/kuehlwein/Econ164/Dynamo%20and%20Computer%20Presentation.ppt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7600" y="4470120"/>
            <a:ext cx="10758600" cy="1011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Arial"/>
                <a:ea typeface="Arial"/>
              </a:rPr>
              <a:t>Memphis: Year 5 Report</a:t>
            </a:r>
            <a:endParaRPr b="0" lang="en-US" sz="6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507600" y="2435040"/>
            <a:ext cx="10758600" cy="1998360"/>
          </a:xfrm>
          <a:prstGeom prst="rect">
            <a:avLst/>
          </a:prstGeom>
          <a:noFill/>
          <a:ln w="0">
            <a:noFill/>
          </a:ln>
        </p:spPr>
        <p:txBody>
          <a:bodyPr lIns="158400" rIns="6084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tate and Regional Demonstration Projects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042D-5917-4D89-B055-7CE1C7EDB950}" type="datetime">
              <a:rPr b="0" lang="en-US" sz="11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D7C4-364E-493B-ABF6-724D35E29F61}" type="slidenum">
              <a:rPr b="0" lang="en-US" sz="13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ubtitle 2"/>
          <p:cNvSpPr/>
          <p:nvPr/>
        </p:nvSpPr>
        <p:spPr>
          <a:xfrm>
            <a:off x="603360" y="5634000"/>
            <a:ext cx="10529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6084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ptember, 2009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rk Frisse, repor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cord locator services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02680" y="1827000"/>
            <a:ext cx="11773080" cy="6900840"/>
          </a:xfrm>
          <a:prstGeom prst="rect">
            <a:avLst/>
          </a:prstGeom>
          <a:ln w="0">
            <a:noFill/>
          </a:ln>
        </p:spPr>
      </p:pic>
      <p:sp>
        <p:nvSpPr>
          <p:cNvPr id="568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AD10-6730-40EB-8588-C433EA24FCAA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3E53-5985-4869-946C-98582C7F1E65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Screen shot - record locator services - Recent Registrations at St. Francis Hospital."/>
          <p:cNvPicPr/>
          <p:nvPr/>
        </p:nvPicPr>
        <p:blipFill>
          <a:blip r:embed="rId2"/>
          <a:stretch/>
        </p:blipFill>
        <p:spPr>
          <a:xfrm>
            <a:off x="527040" y="1824120"/>
            <a:ext cx="10526760" cy="70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 lot like the first transistor radio.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2E97-32F6-4713-AA8E-C13DEDF93F98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B369-5DB7-4939-A875-C35EAB908504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Screen shot - patient health record"/>
          <p:cNvPicPr/>
          <p:nvPr/>
        </p:nvPicPr>
        <p:blipFill>
          <a:blip r:embed="rId1"/>
          <a:stretch/>
        </p:blipFill>
        <p:spPr>
          <a:xfrm>
            <a:off x="298440" y="1817640"/>
            <a:ext cx="1027908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LOINC: an example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02680" y="1827000"/>
            <a:ext cx="11773080" cy="6900840"/>
          </a:xfrm>
          <a:prstGeom prst="rect">
            <a:avLst/>
          </a:prstGeom>
          <a:ln w="0">
            <a:noFill/>
          </a:ln>
        </p:spPr>
      </p:pic>
      <p:sp>
        <p:nvSpPr>
          <p:cNvPr id="579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6D1B-CD3A-46F6-BB41-A6F0BDCE97A9}" type="datetime">
              <a:rPr b="0" lang="en-US" sz="11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Corbe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748C-FF90-4EC2-ADC8-8391CCB6EE22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Screen shot - LOINC example"/>
          <p:cNvPicPr/>
          <p:nvPr/>
        </p:nvPicPr>
        <p:blipFill>
          <a:blip r:embed="rId2"/>
          <a:stretch/>
        </p:blipFill>
        <p:spPr>
          <a:xfrm>
            <a:off x="603360" y="1595520"/>
            <a:ext cx="10591560" cy="724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02680" y="1827000"/>
            <a:ext cx="11773080" cy="690084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Medication hub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85" name="Group 7"/>
          <p:cNvGrpSpPr/>
          <p:nvPr/>
        </p:nvGrpSpPr>
        <p:grpSpPr>
          <a:xfrm>
            <a:off x="711360" y="1623960"/>
            <a:ext cx="9681840" cy="7182000"/>
            <a:chOff x="711360" y="1623960"/>
            <a:chExt cx="9681840" cy="7182000"/>
          </a:xfrm>
        </p:grpSpPr>
        <p:pic>
          <p:nvPicPr>
            <p:cNvPr id="586" name="Picture 2" descr=""/>
            <p:cNvPicPr/>
            <p:nvPr/>
          </p:nvPicPr>
          <p:blipFill>
            <a:blip r:embed="rId2"/>
            <a:stretch/>
          </p:blipFill>
          <p:spPr>
            <a:xfrm>
              <a:off x="1217520" y="3346200"/>
              <a:ext cx="9175680" cy="54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3" descr=""/>
            <p:cNvPicPr/>
            <p:nvPr/>
          </p:nvPicPr>
          <p:blipFill>
            <a:blip r:embed="rId3"/>
            <a:stretch/>
          </p:blipFill>
          <p:spPr>
            <a:xfrm>
              <a:off x="711360" y="1623960"/>
              <a:ext cx="8097840" cy="172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TextBox 6"/>
          <p:cNvSpPr/>
          <p:nvPr/>
        </p:nvSpPr>
        <p:spPr>
          <a:xfrm>
            <a:off x="8626320" y="8766000"/>
            <a:ext cx="294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7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E7C1-2C44-4878-A600-A387F576A619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% of overall patient visits include detailed acc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age ranges from 1% to 1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nsive workflow evaluation taking pl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onomic Valu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gorous evaluation shows decreased utilization in the range of hundreds of thousands of dollars (i.e. can offset less than 50% of system cost); impact on transitions in care not complete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ease-specific utiliz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llaborating with TN Hospital Associ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ressing specific areas including abdominal pain, back pain, and headac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94DC-65DA-4A7A-A322-CFCA3B3811A7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4CA4-9ABF-4798-84B2-678565F60DA1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e impact is very real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 ANECDOT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fesaving” impact on a patient with a ruptured ectopic pregnanc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treated active tuberculosis patient who presents for minor c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inally-ill patient seeking second opin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itoring treatment of specific chronic condi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efficient follow-up when discharged patients present to ambulatory care clinics for follow-up c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 FINDING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rs have learned that putting the patient first does not adversely impact their “business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a sharing is not a threat to income and only a positive to c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9802-4E62-4743-ACC6-6C2634333EDC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7A4B-2B8D-46A0-AA7F-9AAA79833609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117180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Potential: transitions in Care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01" name="Picture 2" descr="Figure of vertical bar graph - HealthLoop vs. CCHS"/>
          <p:cNvPicPr/>
          <p:nvPr/>
        </p:nvPicPr>
        <p:blipFill>
          <a:blip r:embed="rId1"/>
          <a:stretch/>
        </p:blipFill>
        <p:spPr>
          <a:xfrm>
            <a:off x="2435400" y="2131920"/>
            <a:ext cx="7472160" cy="44989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3"/>
          <p:cNvSpPr/>
          <p:nvPr/>
        </p:nvSpPr>
        <p:spPr>
          <a:xfrm>
            <a:off x="516600" y="7408800"/>
            <a:ext cx="7169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 time” query: when  and where do patients seen in the Med 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k follow-up care in a safety net clinic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4"/>
          <p:cNvSpPr/>
          <p:nvPr/>
        </p:nvSpPr>
        <p:spPr>
          <a:xfrm>
            <a:off x="711360" y="8423280"/>
            <a:ext cx="29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1462-33AD-4905-89FE-5E0B5CBDC0E2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02680" y="1827000"/>
            <a:ext cx="11773080" cy="69008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Potential: surveillance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07" name="Picture 2" descr="Figure of vertical bar graph - Influenza A Tests Resulted (2008 and 2009). Also, google search index for &quot;swine flu&quot; (2009)"/>
          <p:cNvPicPr/>
          <p:nvPr/>
        </p:nvPicPr>
        <p:blipFill>
          <a:blip r:embed="rId2"/>
          <a:stretch/>
        </p:blipFill>
        <p:spPr>
          <a:xfrm>
            <a:off x="304920" y="1827360"/>
            <a:ext cx="11618640" cy="6557760"/>
          </a:xfrm>
          <a:prstGeom prst="rect">
            <a:avLst/>
          </a:prstGeom>
          <a:ln w="0">
            <a:noFill/>
          </a:ln>
        </p:spPr>
      </p:pic>
      <p:sp>
        <p:nvSpPr>
          <p:cNvPr id="608" name="TextBox 4"/>
          <p:cNvSpPr/>
          <p:nvPr/>
        </p:nvSpPr>
        <p:spPr>
          <a:xfrm>
            <a:off x="711360" y="8423280"/>
            <a:ext cx="29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01A0-77C3-43A0-AB69-F43293031B3C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How we did it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over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ercion &amp; mone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cused inclu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imal burden on participa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 data sharing agreements (Markl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chnolog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 our approach on the Vanderbilt model- a “Version 1.0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ssumed standards would evol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took data “as we got it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ick wi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aningful metric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2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72CB-B6BA-4CBC-9272-95CA371C1D62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8A99-F9DC-4319-887E-0866C1B3BF1C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Lessons from HIE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adership essenti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asib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expens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 scop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evol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mpered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36400" indent="-360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licting priorit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36400" indent="-360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siness percep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36400" indent="-360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chnical limitations and cos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36400" indent="-360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ivacy concer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36400" indent="-3603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I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711360" y="8423280"/>
            <a:ext cx="29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4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0D31-4D45-4754-B954-0CEFC1EC9643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21960" y="223560"/>
            <a:ext cx="11084040" cy="14000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e environment (2004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202680" y="1827360"/>
            <a:ext cx="11773080" cy="60926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ON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HITE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dominant exchange models: Indiana, Santa Barbar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one seemed to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edicare Part 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Prescribing nasc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reScripts (pharmacies) and RxHub (PBM) comp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inical labs comp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pitation stall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e factionalism among hospit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consensus on health care refor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7521-B6C3-4BA5-8CE4-8BCCCD7700C7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33BE-F1FF-41C3-BF4F-0EBD742067DD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Paul David: The dynamo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20" name="Picture 3" descr="Image - The dynamo and the computer"/>
          <p:cNvPicPr/>
          <p:nvPr/>
        </p:nvPicPr>
        <p:blipFill>
          <a:blip r:embed="rId1"/>
          <a:stretch/>
        </p:blipFill>
        <p:spPr>
          <a:xfrm>
            <a:off x="4871880" y="4465800"/>
            <a:ext cx="6293160" cy="3462120"/>
          </a:xfrm>
          <a:prstGeom prst="rect">
            <a:avLst/>
          </a:prstGeom>
          <a:ln w="0">
            <a:noFill/>
          </a:ln>
        </p:spPr>
      </p:pic>
      <p:sp>
        <p:nvSpPr>
          <p:cNvPr id="621" name="TextBox 6"/>
          <p:cNvSpPr/>
          <p:nvPr/>
        </p:nvSpPr>
        <p:spPr>
          <a:xfrm>
            <a:off x="1014480" y="8018640"/>
            <a:ext cx="103536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avid, P.A. The Dynamo and the Computer : An Historical Perspective on the Modern Productivity Paradox (Powerpoint presentation).  1990  Available from: </a:t>
            </a:r>
            <a:r>
              <a:rPr b="0" lang="en-US" sz="1300" spc="-1" strike="noStrike" u="sng">
                <a:solidFill>
                  <a:srgbClr val="168bba"/>
                </a:solidFill>
                <a:uFillTx/>
                <a:latin typeface="Arial"/>
                <a:ea typeface="Arial"/>
                <a:hlinkClick r:id="rId2"/>
              </a:rPr>
              <a:t>http://www.economics.pomona.edu/kuehlwein/Econ164/Dynamo%20and%20Computer%20Presentation.pp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7"/>
          <p:cNvSpPr/>
          <p:nvPr/>
        </p:nvSpPr>
        <p:spPr>
          <a:xfrm>
            <a:off x="711360" y="1928880"/>
            <a:ext cx="9843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ransformation of industrial processes by the new electric power technology was a long-delayed and far from automatic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8"/>
          <p:cNvSpPr/>
          <p:nvPr/>
        </p:nvSpPr>
        <p:spPr>
          <a:xfrm>
            <a:off x="8524800" y="8766000"/>
            <a:ext cx="294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9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8AAF-05AB-4749-8903-AE803BBDD724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Part of a remarkable team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vernor Phil Bredesen, David Goetz, Melissa Hargis, Peter Greav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bert Gordon, Steve Burkett, Al King, Rodney Holmes, Jim Bailey, Rebecca Pope, George Hripcsak (TAP), Ed Hammond (TAP), Betsy Humphreys (TAP), John Quinn (TAP) and many oth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nderbi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cki Est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Fris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net 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. William St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ll 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rah Stewar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meson Por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chael Ass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nhong T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m Coffm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vin Y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da David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vin John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ndy Gad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3A3C-304D-4BD1-9DCC-029EF5386FA6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634C-85F9-40D6-8ECC-7688CF71E055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-dated ON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ntioned NHII, Santa Barbara, IO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lvl="1" marL="360360" indent="-24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contract seeks to identify and suppor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tewi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sharing and interoperability activities aimed at improving the quality, safety, efficiency and effectiveness of health care for patients and populations on a discrete state or regional level.  It is expected that measurable improvements in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alit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fet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icienc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/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fectivene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f care shall result from the proposed data sharing and interoperability measur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AHRQ SRDs (2004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711360" y="8423280"/>
            <a:ext cx="29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7BE4-6F7A-450F-8569-48AA1DEB2A80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07560" y="376200"/>
            <a:ext cx="11084040" cy="11714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e environment (2009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C, version 3.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TECH – a bill, a plan, but major unresolved issu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ple exchange mod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features and “winners” are slowly emerg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dicare Part 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Prescribing on the uptak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reScripts (pharmacies) and RxHub (PBM) merg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pitation stall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uarded cooperation among hospitals and ambulatory si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consensus on health care refor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9325-B0EF-4B87-AB78-F843045EFEB5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1709-6BED-4D09-9B69-565DEDDB09E5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BAE2-0346-42A5-AB91-64ECB519E903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1889-43C4-4DF9-BD3C-0A10F99AFC8A}" type="slidenum">
              <a:rPr b="0" lang="en-US" sz="13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Screen shot 2009-09-13 at 8.48.10 AM.jpg"/>
          <p:cNvPicPr/>
          <p:nvPr/>
        </p:nvPicPr>
        <p:blipFill>
          <a:blip r:embed="rId1"/>
          <a:stretch/>
        </p:blipFill>
        <p:spPr>
          <a:xfrm>
            <a:off x="857160" y="655560"/>
            <a:ext cx="10464840" cy="7823160"/>
          </a:xfrm>
          <a:prstGeom prst="rect">
            <a:avLst/>
          </a:prstGeom>
          <a:ln w="0">
            <a:noFill/>
          </a:ln>
        </p:spPr>
      </p:pic>
      <p:sp>
        <p:nvSpPr>
          <p:cNvPr id="541" name="TextBox 7"/>
          <p:cNvSpPr/>
          <p:nvPr/>
        </p:nvSpPr>
        <p:spPr>
          <a:xfrm>
            <a:off x="3041640" y="845352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cGraw and M. Tripathi, Health Information Exchange Workgroup (PowerPoint). HIT Policy Committee, August 14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74760" y="299520"/>
            <a:ext cx="11617200" cy="30492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ength of health exchange objectives in current version of MU rises substantially by 2013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2120" y="376200"/>
            <a:ext cx="1178424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Unrealized potential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rehensive prescription medication histories largely unavail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-the-counter drugs (e.g., aspirin) have been largely ignor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systematic allergy report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systematic laboratory information – from office to commerci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ims data rema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gua franc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y state initiatives are not really state-wi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dicaid systems – few common features across stat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siness models are not consistent with the interests of individual patients and do not support “data liquidity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erns over “ROI” make little sense when the entire “system” is failing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C52A-442E-4B75-8960-8929E235F938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92CF-9602-48A4-976F-FDA7BC5D043F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6440" y="811080"/>
            <a:ext cx="11468160" cy="81288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  <a:ea typeface="Arial"/>
              </a:rPr>
              <a:t>The Memphis Exchange</a:t>
            </a:r>
            <a:endParaRPr b="0" lang="en-US" sz="4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1760" y="2195280"/>
            <a:ext cx="6705720" cy="693900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ptist Memorial Health Care Corp.  (4 facilitie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rist Community Heal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4 primary care clinic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ist Healthc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7 facilities including Le Bonheur Children’s Medical Center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gional Medical Center (The MED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int Francis Hospital &amp; St. Francis Bartlett (Tenet Healthcare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. Jude Children’s Research 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elby County/Health Loop Clinics (11 primary care clinic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T Medical Group (300+ clinician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phis Managed Care/TLC (MCO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50" name="Picture 4" descr="Screen shot - Midsouth Health Alliance Homepage"/>
          <p:cNvPicPr/>
          <p:nvPr/>
        </p:nvPicPr>
        <p:blipFill>
          <a:blip r:embed="rId1"/>
          <a:stretch/>
        </p:blipFill>
        <p:spPr>
          <a:xfrm>
            <a:off x="6865920" y="1900080"/>
            <a:ext cx="5313240" cy="68011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4"/>
          <p:cNvSpPr/>
          <p:nvPr/>
        </p:nvSpPr>
        <p:spPr>
          <a:xfrm>
            <a:off x="1116000" y="8626320"/>
            <a:ext cx="294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© 2009, Mark Fr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4C56-6EA3-4390-BCA2-B10D4B28A7E5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e Memphis SRD - 2009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202680" y="1827000"/>
            <a:ext cx="11773080" cy="6900840"/>
          </a:xfrm>
          <a:prstGeom prst="rect">
            <a:avLst/>
          </a:prstGeom>
          <a:noFill/>
          <a:ln w="0">
            <a:noFill/>
          </a:ln>
        </p:spPr>
        <p:txBody>
          <a:bodyPr lIns="73080" rIns="121680" tIns="121680" bIns="6084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4 facilities; over 400 us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2 million unique patients with clinical dat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40,000 monthly encoun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4,000monthly ICD-9 admission codes (chief complaint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4 million laboratory tests month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6,000 monthly microbiology repor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5,000 monthly chest x-ray repor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tal costs: $2.5 million per ye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FD1B-E5CB-4C56-A74A-251B8272E2F7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4A1D-64AB-49ED-9F7C-D93491C15EF6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7"/>
          <p:cNvSpPr/>
          <p:nvPr/>
        </p:nvSpPr>
        <p:spPr>
          <a:xfrm>
            <a:off x="298440" y="6014880"/>
            <a:ext cx="1037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 all milestones – was operational in a year; full production in 20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tal annual operational costs are less than $2.5 mill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1760" y="528480"/>
            <a:ext cx="11084040" cy="1038240"/>
          </a:xfrm>
          <a:prstGeom prst="rect">
            <a:avLst/>
          </a:prstGeom>
          <a:noFill/>
          <a:ln w="0">
            <a:noFill/>
          </a:ln>
        </p:spPr>
        <p:txBody>
          <a:bodyPr lIns="121680" rIns="60840" tIns="60840" bIns="60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he technical model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02680" y="1827000"/>
            <a:ext cx="11773080" cy="6900840"/>
          </a:xfrm>
          <a:prstGeom prst="rect">
            <a:avLst/>
          </a:prstGeom>
          <a:ln w="0">
            <a:noFill/>
          </a:ln>
        </p:spPr>
      </p:pic>
      <p:sp>
        <p:nvSpPr>
          <p:cNvPr id="561" name="Date Placeholder 3"/>
          <p:cNvSpPr/>
          <p:nvPr/>
        </p:nvSpPr>
        <p:spPr>
          <a:xfrm>
            <a:off x="681120" y="8769240"/>
            <a:ext cx="284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6084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05C-9972-4E84-91E3-7DC1E0BE5EA0}" type="datetime">
              <a:rPr b="0" lang="en-US" sz="11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587760" y="8769240"/>
            <a:ext cx="733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bfbf"/>
                </a:solidFill>
                <a:latin typeface="Arial"/>
                <a:ea typeface="Arial"/>
              </a:rPr>
              <a:t>Vanderbilt Center for Better Health :: Accelerating Change in Healthc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10999800" y="8769240"/>
            <a:ext cx="9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B1BB-112A-440C-B3C2-2BFA99532151}" type="slidenum">
              <a:rPr b="0" lang="en-US" sz="13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Object 2"/>
          <p:cNvGraphicFramePr/>
          <p:nvPr/>
        </p:nvGraphicFramePr>
        <p:xfrm>
          <a:off x="298440" y="1976400"/>
          <a:ext cx="11557080" cy="624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5" name="Object 2" descr="Flowchart - Volunteer eHealth Initiative Data Bank, Health Care Entity Internal Systems (hospital, clinic, pharmacy, laboratory thru process to fax server, web user, printer).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" y="1976400"/>
                    <a:ext cx="1155708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1:13:52Z</dcterms:created>
  <dc:creator>Frisse</dc:creator>
  <dc:description/>
  <dc:language>en-US</dc:language>
  <cp:lastModifiedBy>Char</cp:lastModifiedBy>
  <cp:lastPrinted>2009-06-08T13:50:13Z</cp:lastPrinted>
  <dcterms:modified xsi:type="dcterms:W3CDTF">2009-10-27T21:32:35Z</dcterms:modified>
  <cp:revision>15</cp:revision>
  <dc:subject/>
  <dc:title>Memphis: Year 5 Report</dc:title>
</cp:coreProperties>
</file>