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12179300" cy="9132888"/>
  <p:notesSz cx="9601200" cy="1508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601200" cy="150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75420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4"/>
          </p:nvPr>
        </p:nvSpPr>
        <p:spPr>
          <a:xfrm>
            <a:off x="5438880" y="-360"/>
            <a:ext cx="4160880" cy="75420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308C-6B6D-4CBF-8103-804C37BF5937}" type="datetime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028520" y="1131840"/>
            <a:ext cx="7543800" cy="565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41120" rIns="141120" tIns="70560" bIns="70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5"/>
          </p:nvPr>
        </p:nvSpPr>
        <p:spPr>
          <a:xfrm>
            <a:off x="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6"/>
          </p:nvPr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18B-CD5B-4BF5-927A-4C9FC863D01C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5034-1BEB-48BA-97CB-E9FFD613453B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4B4-14D5-40A5-A387-61C78CA4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0A3-D663-4EB0-B5CD-8C271C1E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A16E8-E97F-49A4-AAA3-F95AB77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B7F95-4BE2-4D5A-A14E-60D6D42A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320400-0EE1-4C61-A830-C45079E2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88879-AF66-4DCB-9B23-341B448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9BC6E-7524-49C3-9482-E3F7865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BD018-5341-45EC-895C-BCE723C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5560A-A54C-4547-A7CA-C1E1F8E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CE4CA-D2E8-4077-97E5-8818B06D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6CEE9-9366-4435-B24A-B360A752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41E4C-91B5-4926-91FE-7F2156C9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81D-A934-4E12-8A7E-44B12AE8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7AF7C-BFE2-4435-B6ED-AE578DF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2C0CC-9E3E-46CA-B1F5-73AFB4F4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D3871-FBF3-4E5F-B0AB-544EC7D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08D03-2DF2-4A05-9404-057098F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7CABB-DF70-4B0B-9A34-C6FDC62A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5B4DE-D79B-449C-9E23-6ED77838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EC471-EFF9-4AAB-873F-8566679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39CA9-220A-41DF-ADE5-123500E3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5A54-F0A4-4A51-B6C4-8ED3A70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F4763-8AFD-43C0-A04A-B0F65AD3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453-66DF-4044-8633-66593F61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80C64-F04C-4A11-8110-9FF5B3D9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9A0-327E-4D9F-AB2C-25B2A828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83CA6-E06A-4CE0-972C-8F830D28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DE3B-3F04-42B3-9740-81F3AEF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51E7-794F-4094-8C85-99103731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9BCC-74F2-4F43-BCD2-EA857548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D4715-8E0B-41D5-80B3-08BFC06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AAF22-F85C-4E85-8605-5141D284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7C0E1-0298-4244-B3F1-E9AE08C9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E23A-C61A-481A-AD10-D5C18F1F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B5E0D-A094-4203-AE76-9A55402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B26B7-3B6F-40E5-A2A4-0EB5FCB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7AD9B-951E-4F9A-A341-BBC70B1A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3445-9A9A-4567-B182-7568CF6B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5BD2-3419-4599-AA14-8FC10150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CCDC-8395-43E9-9643-61AC2387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04F2-032B-4881-A3A1-D38ABBBB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7D7-443F-406E-85A9-0194FAB0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7BEF-8F82-4599-A74F-A0DF0828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B018-EBA4-4858-B58B-02B49423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861-3384-4E34-B341-3D2A44A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80B7-E071-4B07-8BF8-1C3FD10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9D96-ACAE-4FB7-9BA1-841D5EA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6C00-B4F5-45B8-AAEC-FD6BBB1B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92C-3675-4C91-9D1A-AF86ED12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EB2-3F5D-4A1B-97EC-717100D2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5C1C-8022-429F-84F4-D240DF58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DBD0-5FE8-496B-86E2-D55AF38E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323E-2638-45A7-A679-DFFDFA9C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2B7C-88AA-4D9F-9FDE-AC51702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CF86-C2C7-48DD-8B4A-90F337F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2B-148D-4B87-81FD-A82454F4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1EF6-B931-4C0E-AEF2-8B9456C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2E24-BB63-4C80-9D77-6AAD1D3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1A4E-5FE4-4548-AFE8-61B15A0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2A1A-2867-49A4-90EF-1621E31A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77C5-B7ED-44F3-A625-7AB921D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B935-2FFE-4938-BC57-A170D1AB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FEB4-4546-457E-B98D-C4606913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3083-A146-4351-BF30-22127546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46B3-1301-4418-95EB-5120167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22C3-B4DC-40DF-BD64-348783F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7A2-02E2-4082-A696-AE7D5BA0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EB52-7EFA-480E-8AD3-18A6096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30B8-0173-4821-812A-FA3C6F79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C2CE-FDB6-4633-8FD9-7456699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369F-A58A-463E-AED1-45A95B8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A445-6AA9-4C46-8649-FB2A29E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F8B1-70DE-44FC-ACEE-16E97C8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3A08-48A1-450D-A56A-BE708380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1542-6EE2-4133-A872-835FBC24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2BFC7-3235-4F16-B97C-64A273C5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DEEED-1BF3-43C6-BDB8-2BF24824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8CF-59D1-4EDF-8EF4-5020F3B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FD2A-8292-49DE-91BE-65D3C53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09EB-32AE-4186-9637-515C134C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83CC-02AF-4A8C-BF4F-196FAADC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5C89-0975-4396-8E66-896CAD8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65F0-4BD9-4C25-BF29-5002E27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B35A4-DE7E-405B-B8D8-5973676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5DD4-2D9D-4370-9746-702C23E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79D0-164E-41BA-8800-5CAC0046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CEEE-0671-431D-B5CA-12125F1A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5302-EB45-442F-A426-C4BBD940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4E5-A98F-474E-8D4C-3F0216C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0DB4-B41D-480F-A682-CD527950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4D24-C1F8-4EB3-A0A3-C5CCB989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E9A3-8895-4A71-B9AF-46A838C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0C06-FD8B-499B-B8C8-299BDE30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FA78-1BD5-48B2-8D7D-A905A49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B8A2-328F-49AD-A771-969106F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914A-FA9F-4B10-B482-1902FE08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F156-E0A7-440A-A110-1FFC617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EED5-1312-4797-9E97-71AB5EC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1F0FF-206A-4E7E-8416-E3726A5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FFF-9A5D-4080-9892-6D1900B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85CC-1C62-4F3A-A064-A3DA873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B043-1186-4D7A-81BB-90DB1AC8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0398-E268-40D1-8AB1-8A8F10FF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8E6D-7DB5-4BF4-9CD0-C2FE5FF0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1523-3E52-4EB6-9D28-32E9C7D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14996-24C1-461F-A5D7-8CFE7EF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0E343-E14F-4EAC-A434-FAF5B98D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325F-4D91-4D21-B2CF-C13FDFCF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3C90-A7C3-4136-94E9-DAC466AD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E60CF-BBB5-4452-9045-E54E40A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5F9-77C4-4E7F-AA25-5A64440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80FAA-4382-4DC1-992E-C512BFB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7AFF-F847-4EB4-B258-DAC1B22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414AA-8721-4538-89C7-BCD61158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3134-C069-4FCC-8142-32E37B80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8F3E-039A-40DE-ABBD-AAE472CE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8F600-AA43-497E-852B-AD3BCED7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EDC49-1C6D-4911-AF62-E3055464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A42E8-3832-44C7-AE86-CF308FB2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282C7-748E-4A7E-BBA6-2213A8DA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AEAA-F9F9-4B0A-94A4-A2668B73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AF4-C85E-473A-BA09-1A1B444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3A81-C5F3-42EE-8FC0-AE13AAB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77BEF-B052-4050-AB0B-F936567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84B01-9128-4498-ACE8-FD9BD14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714CE-A984-4625-AF50-6FF0079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AC35-8FE6-46EF-82D7-DBDDE2FB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DD1A8-08DB-4932-8116-D11C0668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C54DA-9047-4BD1-954E-349063E1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8FF34-3665-4A94-811B-95A57F72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B31E7-9AA1-4F1B-A82D-7E3343E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7B3EA-F524-4408-BCBC-E2A212CE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711-7E41-4916-981D-A5E69B4DDF4A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E32D-A244-4617-9FE1-4004290137D8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VUMC-Buzz-Saw-with-Lens-Fla.gif"/>
          <p:cNvPicPr/>
          <p:nvPr/>
        </p:nvPicPr>
        <p:blipFill>
          <a:blip r:embed="rId3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8790120" y="0"/>
            <a:ext cx="61920" cy="913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8854920" y="0"/>
            <a:ext cx="3349800" cy="913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9977-C51C-4693-8EF7-5B0C7C6CEC98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516480" y="8493120"/>
            <a:ext cx="5109840" cy="4874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F8A-9247-4863-B7CA-F88FE962A0F8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7B15-FA79-4D68-A574-D2D08BFD274B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© 2009, Mark Fri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67F-40C5-475C-BE60-5638690A02AE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6829560"/>
            <a:ext cx="12179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VUMC-Buzz-Saw-with-Lens-Fla.gif"/>
          <p:cNvPicPr/>
          <p:nvPr/>
        </p:nvPicPr>
        <p:blipFill>
          <a:blip r:embed="rId2"/>
          <a:stretch/>
        </p:blipFill>
        <p:spPr>
          <a:xfrm>
            <a:off x="749160" y="676440"/>
            <a:ext cx="1231920" cy="1231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BF3-1A2E-4FA4-A530-33F06A31483D}" type="datetime">
              <a:rPr b="0" lang="en-US" sz="11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F39-30B4-4643-8947-8AE1D36C4020}" type="slidenum">
              <a:rPr b="0" lang="en-US" sz="13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3465360"/>
            <a:ext cx="12179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0A22-1919-4A34-8470-DB3D908ECAF5}" type="datetime">
              <a:rPr b="0" lang="en-US" sz="11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ECA-F822-4BBD-B440-E6C69D56E526}" type="slidenum">
              <a:rPr b="0" lang="en-US" sz="13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10"/>
          <p:cNvSpPr/>
          <p:nvPr/>
        </p:nvSpPr>
        <p:spPr>
          <a:xfrm>
            <a:off x="203040" y="2859120"/>
            <a:ext cx="5784840" cy="1440"/>
          </a:xfrm>
          <a:prstGeom prst="line">
            <a:avLst/>
          </a:prstGeom>
          <a:ln cap="rnd" w="381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1"/>
          <p:cNvSpPr/>
          <p:nvPr/>
        </p:nvSpPr>
        <p:spPr>
          <a:xfrm>
            <a:off x="6191280" y="2841480"/>
            <a:ext cx="5784840" cy="1800"/>
          </a:xfrm>
          <a:prstGeom prst="line">
            <a:avLst/>
          </a:prstGeom>
          <a:ln cap="rnd" w="381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4CE-0C3B-46BA-8AA5-04864D4BCC41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6E4F-0FFE-47BB-A9EC-991E7F1BDBD1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B235-B36A-404F-A67C-2B586A2E8F5C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EC0-2A91-47F4-B6C7-2B9A087227F0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E261-016A-409B-AB26-64EF854D8851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4CE-1CEE-476D-B349-94FD2428C1BC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a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D04-8538-41B8-B5A8-D2B5682E5660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718F-974C-4251-A2E4-B1821FC87A75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3247920" y="1784520"/>
            <a:ext cx="60480" cy="743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700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81120" y="8768880"/>
            <a:ext cx="256680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EA31-8748-4153-8464-3ADB9EE41C65}" type="datetime">
              <a:rPr b="0" lang="en-US" sz="1100" spc="-1" strike="noStrike">
                <a:solidFill>
                  <a:srgbClr val="595959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349800" y="8768880"/>
            <a:ext cx="761184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5D1-20B7-4E85-B89F-DCFA621FC585}" type="slidenum">
              <a:rPr b="1" lang="en-US" sz="13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0"/>
          <p:cNvSpPr/>
          <p:nvPr/>
        </p:nvSpPr>
        <p:spPr>
          <a:xfrm>
            <a:off x="3770280" y="1784520"/>
            <a:ext cx="60480" cy="743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700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93480" y="8866080"/>
            <a:ext cx="3362040" cy="26856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1D0-1DC7-472B-99A9-18ACDD89D8A5}" type="datetime">
              <a:rPr b="0" lang="en-US" sz="1100" spc="-1" strike="noStrike">
                <a:solidFill>
                  <a:srgbClr val="595959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6"/>
          </p:nvPr>
        </p:nvSpPr>
        <p:spPr>
          <a:xfrm>
            <a:off x="11133000" y="8866080"/>
            <a:ext cx="976320" cy="2685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BF5-5442-4E44-B346-AD8271C077FA}" type="slidenum">
              <a:rPr b="1" lang="en-US" sz="13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7"/>
          </p:nvPr>
        </p:nvSpPr>
        <p:spPr>
          <a:xfrm>
            <a:off x="3881520" y="8866080"/>
            <a:ext cx="7207200" cy="26856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conomics.pomona.edu/kuehlwein/Econ164/Dynamo%20and%20Computer%20Presentation.ppt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600" y="4470120"/>
            <a:ext cx="10758600" cy="1011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  <a:ea typeface="Arial"/>
              </a:rPr>
              <a:t>Memphis: Year 5 Report</a:t>
            </a:r>
            <a:endParaRPr b="0" lang="en-US" sz="6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507600" y="2435040"/>
            <a:ext cx="10758600" cy="1998360"/>
          </a:xfrm>
          <a:prstGeom prst="rect">
            <a:avLst/>
          </a:prstGeom>
          <a:noFill/>
          <a:ln w="0">
            <a:noFill/>
          </a:ln>
        </p:spPr>
        <p:txBody>
          <a:bodyPr lIns="158400" rIns="6084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tate and Regional Demonstration Projects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C8B9-4E5A-424F-9BEF-444B7C8EA1AF}" type="datetime">
              <a:rPr b="0" lang="en-US" sz="11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0C1-ED96-489E-B0A6-5D2548940525}" type="slidenum">
              <a:rPr b="0" lang="en-US" sz="13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ubtitle 2"/>
          <p:cNvSpPr/>
          <p:nvPr/>
        </p:nvSpPr>
        <p:spPr>
          <a:xfrm>
            <a:off x="603360" y="5634000"/>
            <a:ext cx="10529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6084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ptember, 2009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rk Frisse, repor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cord locator services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68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4C1D-A560-4779-B6B7-03773EB35800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778-89C4-4BE6-968E-61DD052ADA95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Screen shot - record locator services - Recent Registrations at St. Francis Hospital."/>
          <p:cNvPicPr/>
          <p:nvPr/>
        </p:nvPicPr>
        <p:blipFill>
          <a:blip r:embed="rId2"/>
          <a:stretch/>
        </p:blipFill>
        <p:spPr>
          <a:xfrm>
            <a:off x="527040" y="1824120"/>
            <a:ext cx="1052676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 lot like the first transistor radio.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6028-B6FD-48B0-8F97-3F7AD1473073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B0BC-EEE4-4740-95E7-642CCAF0AD17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Screen shot - patient health record"/>
          <p:cNvPicPr/>
          <p:nvPr/>
        </p:nvPicPr>
        <p:blipFill>
          <a:blip r:embed="rId1"/>
          <a:stretch/>
        </p:blipFill>
        <p:spPr>
          <a:xfrm>
            <a:off x="298440" y="1817640"/>
            <a:ext cx="1027908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LOINC: an exampl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79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8758-959E-4698-822A-82CAD8DB0E56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FBCC-A6D8-422C-9F23-8E4925070E27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Screen shot - LOINC example"/>
          <p:cNvPicPr/>
          <p:nvPr/>
        </p:nvPicPr>
        <p:blipFill>
          <a:blip r:embed="rId2"/>
          <a:stretch/>
        </p:blipFill>
        <p:spPr>
          <a:xfrm>
            <a:off x="603360" y="1595520"/>
            <a:ext cx="10591560" cy="72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Medication hub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5" name="Group 7"/>
          <p:cNvGrpSpPr/>
          <p:nvPr/>
        </p:nvGrpSpPr>
        <p:grpSpPr>
          <a:xfrm>
            <a:off x="711360" y="1623960"/>
            <a:ext cx="9681840" cy="7182000"/>
            <a:chOff x="711360" y="1623960"/>
            <a:chExt cx="9681840" cy="7182000"/>
          </a:xfrm>
        </p:grpSpPr>
        <p:pic>
          <p:nvPicPr>
            <p:cNvPr id="586" name="Picture 2" descr=""/>
            <p:cNvPicPr/>
            <p:nvPr/>
          </p:nvPicPr>
          <p:blipFill>
            <a:blip r:embed="rId2"/>
            <a:stretch/>
          </p:blipFill>
          <p:spPr>
            <a:xfrm>
              <a:off x="1217520" y="3346200"/>
              <a:ext cx="9175680" cy="54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3" descr=""/>
            <p:cNvPicPr/>
            <p:nvPr/>
          </p:nvPicPr>
          <p:blipFill>
            <a:blip r:embed="rId3"/>
            <a:stretch/>
          </p:blipFill>
          <p:spPr>
            <a:xfrm>
              <a:off x="711360" y="1623960"/>
              <a:ext cx="8097840" cy="172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TextBox 6"/>
          <p:cNvSpPr/>
          <p:nvPr/>
        </p:nvSpPr>
        <p:spPr>
          <a:xfrm>
            <a:off x="8626320" y="8766000"/>
            <a:ext cx="294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7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BA2-F0CF-432A-A3F0-76107F3B2FDD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% of overall patient visits include detailed acc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age ranges from 1% to 1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nsive workflow evaluation taking pl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 Val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gorous evaluation shows decreased utilization in the range of hundreds of thousands of dollars (i.e. can offset less than 50% of system cost); impact on transitions in care not complet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ease-specific util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aborating with TN Hospital Associ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ing specific areas including abdominal pain, back pain, and headac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526-16FA-4BAD-8DD3-4F23964F6650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2C86-1ED9-4482-BD20-EE645F49AE42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impact is very rea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ANECDOT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saving” impact on a patient with a ruptured ectopic pregnan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treated active tuberculosis patient who presents for minor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ally-ill patient seeking second opin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itoring treatment of specific chronic condi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efficient follow-up when discharged patients present to ambulatory care clinics for follow-up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FINDING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rs have learned that putting the patient first does not adversely impact their “busines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sharing is not a threat to income and only a positive to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3444-1675-4A6D-9D10-8DBD7C74A757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AFED-9CC4-462E-A7EC-7AF4F699E31B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otential: transitions in Car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01" name="Picture 2" descr="Figure of vertical bar graph - HealthLoop vs. CCHS"/>
          <p:cNvPicPr/>
          <p:nvPr/>
        </p:nvPicPr>
        <p:blipFill>
          <a:blip r:embed="rId1"/>
          <a:stretch/>
        </p:blipFill>
        <p:spPr>
          <a:xfrm>
            <a:off x="2435400" y="2131920"/>
            <a:ext cx="7472160" cy="44989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3"/>
          <p:cNvSpPr/>
          <p:nvPr/>
        </p:nvSpPr>
        <p:spPr>
          <a:xfrm>
            <a:off x="516600" y="7408800"/>
            <a:ext cx="7169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time” query: when  and where do patients seen in the Med 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 follow-up care in a safety net clini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67C-DBA1-4287-ADDD-61C8BFA5B15D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otential: surveillanc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07" name="Picture 2" descr="Figure of vertical bar graph - Influenza A Tests Resulted (2008 and 2009). Also, google search index for &quot;swine flu&quot; (2009)"/>
          <p:cNvPicPr/>
          <p:nvPr/>
        </p:nvPicPr>
        <p:blipFill>
          <a:blip r:embed="rId2"/>
          <a:stretch/>
        </p:blipFill>
        <p:spPr>
          <a:xfrm>
            <a:off x="304920" y="1827360"/>
            <a:ext cx="11618640" cy="65577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4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21D1-D660-4D73-B847-791ED2720C5D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How we did i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over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ercion &amp; mon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i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al burden on participa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 data sharing agreements (Mark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olog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 our approach on the Vanderbilt model- a “Version 1.0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ssumed standards would evol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took data “as we got it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ck wi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ingful metr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0E6-1AAC-42ED-94D6-8C07BD7B5E76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5472-78C2-45E6-8053-DCFF87D8FF34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Lessons from HI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adership essenti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s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expens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 sco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evol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mpered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licting prior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iness percep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chnical limitations and co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vacy concer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I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DB67-3850-4A39-953C-89CBD1A2B240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1960" y="223560"/>
            <a:ext cx="11084040" cy="14000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environment (2004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02680" y="1827360"/>
            <a:ext cx="11773080" cy="60926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ON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HITE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dominant exchange models: Indiana, Santa Barbar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one seemed to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edicare Part 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Prescribing nasc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reScripts (pharmacies) and RxHub (PBM) comp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nical labs comp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pitation stall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e factionalism among hospit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onsensus on health care refo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A0E-EE46-4AE5-9C4A-4BDE3FFA2108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44D-3814-46A1-A91C-F96B19CB2609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aul David: The dynamo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20" name="Picture 3" descr="Image - The dynamo and the computer"/>
          <p:cNvPicPr/>
          <p:nvPr/>
        </p:nvPicPr>
        <p:blipFill>
          <a:blip r:embed="rId1"/>
          <a:stretch/>
        </p:blipFill>
        <p:spPr>
          <a:xfrm>
            <a:off x="4871880" y="4465800"/>
            <a:ext cx="6293160" cy="34621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6"/>
          <p:cNvSpPr/>
          <p:nvPr/>
        </p:nvSpPr>
        <p:spPr>
          <a:xfrm>
            <a:off x="1014480" y="8018640"/>
            <a:ext cx="103536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avid, P.A. The Dynamo and the Computer : An Historical Perspective on the Modern Productivity Paradox (Powerpoint presentation).  1990  Available from: </a:t>
            </a:r>
            <a:r>
              <a:rPr b="0" lang="en-US" sz="1300" spc="-1" strike="noStrike" u="sng">
                <a:solidFill>
                  <a:srgbClr val="168bba"/>
                </a:solidFill>
                <a:uFillTx/>
                <a:latin typeface="Arial"/>
                <a:ea typeface="Arial"/>
                <a:hlinkClick r:id="rId2"/>
              </a:rPr>
              <a:t>http://www.economics.pomona.edu/kuehlwein/Econ164/Dynamo%20and%20Computer%20Presentation.pp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711360" y="1928880"/>
            <a:ext cx="9843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ransformation of industrial processes by the new electric power technology was a long-delayed and far from automatic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8524800" y="8766000"/>
            <a:ext cx="294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9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E8D1-5281-40C7-8575-0DAFBD9DA89F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art of a remarkable team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or Phil Bredesen, David Goetz, Melissa Hargis, Peter Greav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bert Gordon, Steve Burkett, Al King, Rodney Holmes, Jim Bailey, Rebecca Pope, George Hripcsak (TAP), Ed Hammond (TAP), Betsy Humphreys (TAP), John Quinn (TAP) and many oth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nderbi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ki Est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Fris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et 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. William St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 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rah Stewa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meson Por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hael Ass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nhong T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 Coffm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vin Y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da David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vin John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ndy Gad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E41-3382-4661-A89F-C803AA4CE306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062-59E8-4848-B781-97710D1F4CC8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dated ON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ioned NHII, Santa Barbara, I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lvl="1" marL="360360" indent="-24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ontract seeks to identify and suppor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tew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sharing and interoperability activities aimed at improving the quality, safety, efficiency and effectiveness of health care for patients and populations on a discrete state or regional level.  It is expected that measurable improvements i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fe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icienc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/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iven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care shall result from the proposed data sharing and interoperability measu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HRQ SRDs (2004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7AA2-79A9-4886-BA03-DC9282263527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07560" y="376200"/>
            <a:ext cx="11084040" cy="11714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environment (2009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C, version 3.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TECH – a bill, a plan, but major unresolved iss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e exchange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eatures and “winners” are slowly emerg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care Part 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Prescribing on the uptak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reScripts (pharmacies) and RxHub (PBM) merg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pitation stall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arded cooperation among hospitals and ambulatory si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onsensus on health care refo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C016-1F88-4239-A431-009636587A72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B484-396B-4076-A7A3-18401E468F52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F79-588E-4179-AE53-69CFD284F1E8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0B5B-D89A-49E1-9061-EA5BCA38F786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Screen shot 2009-09-13 at 8.48.10 AM.jpg"/>
          <p:cNvPicPr/>
          <p:nvPr/>
        </p:nvPicPr>
        <p:blipFill>
          <a:blip r:embed="rId1"/>
          <a:stretch/>
        </p:blipFill>
        <p:spPr>
          <a:xfrm>
            <a:off x="857160" y="655560"/>
            <a:ext cx="10464840" cy="78231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3041640" y="845352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cGraw and M. Tripathi, Health Information Exchange Workgroup (PowerPoint). HIT Policy Committee, August 14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30492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ength of health exchange objectives in current version of MU rises substantially by 2013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2120" y="376200"/>
            <a:ext cx="1178424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Unrealized potentia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rehensive prescription medication histories largely unavai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-the-counter drugs (e.g., aspirin) have been largely igno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ystematic allergy repor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ystematic laboratory information – from office to commerci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ims data rema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gua franc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y state initiatives are not really state-wi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caid systems – few common features across stat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 models are not consistent with the interests of individual patients and do not support “data liquidity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erns over “ROI” make little sense when the entire “system” is failing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E64-834F-4E71-854A-8B2921A1D293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0371-D04B-4AA5-99F8-8D8157417D03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440" y="811080"/>
            <a:ext cx="11468160" cy="81288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Arial"/>
              </a:rPr>
              <a:t>The Memphis Exchange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1760" y="2195280"/>
            <a:ext cx="6705720" cy="693900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ptist Memorial Health Care Corp.  (4 facilitie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ist Community Heal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4 primary care clinic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ist Healthc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7 facilities including Le Bonheur Children’s Medical Center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gional Medical Center (The MED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int Francis Hospital &amp; St. Francis Bartlett (Tenet Healthcar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. Jude Children’s Research 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lby County/Health Loop Clinics (11 primary care clinic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 Medical Group (300+ clinician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phis Managed Care/TLC (MCO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0" name="Picture 4" descr="Screen shot - Midsouth Health Alliance Homepage"/>
          <p:cNvPicPr/>
          <p:nvPr/>
        </p:nvPicPr>
        <p:blipFill>
          <a:blip r:embed="rId1"/>
          <a:stretch/>
        </p:blipFill>
        <p:spPr>
          <a:xfrm>
            <a:off x="6865920" y="1900080"/>
            <a:ext cx="5313240" cy="68011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1116000" y="8626320"/>
            <a:ext cx="294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34F-80F7-4470-A90A-23DEEAA086A7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Memphis SRD - 2009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4 facilities; over 400 us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2 million unique patients with clinical da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40,000 monthly encoun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4,000monthly ICD-9 admission codes (chief complaint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4 million laboratory tests month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6,000 monthly microbiology repor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5,000 monthly chest x-ray repor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costs: $2.5 million per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056A-9153-47D3-849F-3838327E38CD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40AC-379E-43FA-AFAA-D113D708732A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"/>
          <p:cNvSpPr/>
          <p:nvPr/>
        </p:nvSpPr>
        <p:spPr>
          <a:xfrm>
            <a:off x="298440" y="6014880"/>
            <a:ext cx="1037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 all milestones – was operational in a year; full production in 20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tal annual operational costs are less than $2.5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technical mode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61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330A-3219-4048-B313-3F8158659CBE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771D-112A-4A64-84CA-4F2ADC355430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298440" y="1976400"/>
          <a:ext cx="11557080" cy="624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5" name="Object 2" descr="Flowchart - Volunteer eHealth Initiative Data Bank, Health Care Entity Internal Systems (hospital, clinic, pharmacy, laboratory thru process to fax server, web user, printer).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1976400"/>
                    <a:ext cx="1155708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1:13:52Z</dcterms:created>
  <dc:creator>Frisse</dc:creator>
  <dc:description/>
  <dc:language>en-US</dc:language>
  <cp:lastModifiedBy>Char</cp:lastModifiedBy>
  <cp:lastPrinted>2009-06-08T13:50:13Z</cp:lastPrinted>
  <dcterms:modified xsi:type="dcterms:W3CDTF">2009-10-27T21:32:35Z</dcterms:modified>
  <cp:revision>15</cp:revision>
  <dc:subject/>
  <dc:title>Memphis: Year 5 Report</dc:title>
</cp:coreProperties>
</file>