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8288000" cy="146304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5272200" y="-360"/>
            <a:ext cx="40320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008160" y="526680"/>
            <a:ext cx="3291120" cy="263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6667560"/>
            <a:ext cx="403236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132666-B787-44E8-B586-262633E30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8620A2-F99D-46D6-A00F-918280EBF2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91AD72-6DEE-466A-ADDD-12116F5F26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2663C4-7E67-46EF-B1C0-D4FE85AF6E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946D1A-72C3-4EB8-8F3E-BA72C0EA45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9CDC90-AF5A-4B1B-AB63-4453BF7161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C1E593-7A43-41B9-A6DF-409690AA5A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CA6EEE-C7FE-49D5-A928-3343B18640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8F95BF-0756-47C0-8FDC-D78AA92E30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272200" y="6667560"/>
            <a:ext cx="4032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1D3EA2-0017-40FF-92EB-AE93FC48AA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008160" y="527040"/>
            <a:ext cx="3291120" cy="26319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6803280"/>
            <a:ext cx="1598616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680328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411120" y="680328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4360" y="357660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029400" y="357660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680328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624360" y="680328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2029400" y="680328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895480" y="487440"/>
            <a:ext cx="13395600" cy="8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19320" y="680328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11120" y="680328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6803280"/>
            <a:ext cx="1598616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19320" y="6803280"/>
            <a:ext cx="1598616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9320" y="680328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411120" y="680328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4360" y="357660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029400" y="357660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19320" y="680328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624360" y="680328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12029400" y="6803280"/>
            <a:ext cx="514728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95480" y="487440"/>
            <a:ext cx="13395600" cy="86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680328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11120" y="680328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411120" y="3576600"/>
            <a:ext cx="780120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6803280"/>
            <a:ext cx="15986160" cy="29462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2962440" indent="-7192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3666960" indent="-469800">
              <a:lnSpc>
                <a:spcPct val="90000"/>
              </a:lnSpc>
              <a:spcBef>
                <a:spcPts val="1500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4371840" indent="-469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5" marL="4371840" indent="-469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6" marL="4371840" indent="-469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2844720"/>
            <a:ext cx="15972840" cy="40680"/>
            <a:chOff x="0" y="2844720"/>
            <a:chExt cx="15972840" cy="40680"/>
          </a:xfrm>
        </p:grpSpPr>
        <p:sp>
          <p:nvSpPr>
            <p:cNvPr id="3" name="Line 5"/>
            <p:cNvSpPr/>
            <p:nvPr/>
          </p:nvSpPr>
          <p:spPr>
            <a:xfrm>
              <a:off x="11160" y="2885400"/>
              <a:ext cx="1596168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2844720"/>
              <a:ext cx="1596168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285840" y="974880"/>
          <a:ext cx="2000160" cy="113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974880"/>
                    <a:ext cx="200016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"/>
          <p:cNvGrpSpPr/>
          <p:nvPr/>
        </p:nvGrpSpPr>
        <p:grpSpPr>
          <a:xfrm>
            <a:off x="0" y="8250120"/>
            <a:ext cx="15972840" cy="39240"/>
            <a:chOff x="0" y="8250120"/>
            <a:chExt cx="15972840" cy="39240"/>
          </a:xfrm>
        </p:grpSpPr>
        <p:sp>
          <p:nvSpPr>
            <p:cNvPr id="44" name="Line 5"/>
            <p:cNvSpPr/>
            <p:nvPr/>
          </p:nvSpPr>
          <p:spPr>
            <a:xfrm>
              <a:off x="11160" y="8289360"/>
              <a:ext cx="1596168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Line 6"/>
            <p:cNvSpPr/>
            <p:nvPr/>
          </p:nvSpPr>
          <p:spPr>
            <a:xfrm>
              <a:off x="0" y="8250120"/>
              <a:ext cx="1596168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1663560" y="812880"/>
          <a:ext cx="10215720" cy="241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3560" y="812880"/>
                    <a:ext cx="1021572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2962440" indent="-7192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3666960" indent="-469800">
              <a:lnSpc>
                <a:spcPct val="90000"/>
              </a:lnSpc>
              <a:spcBef>
                <a:spcPts val="1500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4371840" indent="-469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5" marL="4371840" indent="-469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6" marL="4371840" indent="-469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733560"/>
            <a:ext cx="15239880" cy="42670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400" spc="-1" strike="noStrike">
                <a:solidFill>
                  <a:srgbClr val="ffff00"/>
                </a:solidFill>
                <a:latin typeface="Arial"/>
              </a:rPr>
              <a:t>Hospital Readmissions:</a:t>
            </a:r>
            <a:br>
              <a:rPr sz="6400"/>
            </a:br>
            <a:r>
              <a:rPr b="1" lang="en-US" sz="6400" spc="-1" strike="noStrike">
                <a:solidFill>
                  <a:srgbClr val="ffff00"/>
                </a:solidFill>
                <a:latin typeface="Arial"/>
              </a:rPr>
              <a:t> in search of potentially</a:t>
            </a:r>
            <a:br>
              <a:rPr sz="6400"/>
            </a:br>
            <a:r>
              <a:rPr b="1" lang="en-US" sz="6400" spc="-1" strike="noStrike">
                <a:solidFill>
                  <a:srgbClr val="ffff00"/>
                </a:solidFill>
                <a:latin typeface="Arial"/>
              </a:rPr>
              <a:t> avoidable costs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8763120"/>
            <a:ext cx="16830720" cy="44956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rnard Friedman, Ph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enter for Delivery, Organization, and Mark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HRQ Conference, 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98344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risk adjustment and control for selection bias (predictors for joining an Advantage plan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uscript available on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 patients ar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ne third more likely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have a readmission (in 30 days, 13% vs. 10%;  in 90 days, 30.5% vs. 22.5%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reconcile with incenti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ybe we did something wrong.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rollees have no comparative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FS more discharges to LTC and other facil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vantage plans might be spending less o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utpati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rvice and quality than we expect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4954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3581280"/>
            <a:ext cx="15986160" cy="1005840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ple uses of readmission da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of inpatient c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ectiveness of management of chronic illness outside the hospit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iciency in arrangements for post-hospital c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untability for health plans:  consumer choice and P4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urement choices depend on mo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es of index admisssion, length of follow-up, eligible readmis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cking readmissions for the NHQR – it’s evol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ent research project:  Contrast Medicare FFS vs. Advantage plan pati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Some AHRQ Published Studies on Readmission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 fontScale="65000"/>
          </a:bodyPr>
          <a:p>
            <a:pPr marL="622080" indent="-6220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)   Joanna Jiang was the lead author at AHRQ on several published studies of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abetes discharg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22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305000" indent="-5299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finding was that half of the discharges or hospital costs in a year are for people with multiple discharges for diabetes and its complic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2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22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22080" indent="-6220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)   I examined (with Joy Basu) all readmissions within 6 months for people with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6 Potentially Preventable initial admiss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22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305000" indent="-5299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rge variety of principal diagnoses for the RE-admi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2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305000" indent="-5299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st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-admissions in the 16 categories of potentially preventab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ithin 6 months had a projected national cost of about $1.4 Billion in 2008$.  This covered only 4  states with 15% of the U.S. popul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2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Readmissions and Quality of Inpatient Car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 fontScale="80000"/>
          </a:bodyPr>
          <a:p>
            <a:pPr marL="765720" indent="-7657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)  William. Encinosa and Fred Hellinger recently published “The Impact of Medical Errors on 90 Day Costs and Outcomes:  An Examination of Surgical Patients”.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ealth Services Researc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008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65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606320" indent="-6523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 $1.5 billion of cost in 3 months subsequent to the initial discharge due to safety events.  Some of that was readmissions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65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65720" indent="-7657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)  B. Friedman, J. Jiang, W. Encinosa, R. Mutter, “Do patient safety events contribute to readmissions?”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edical Car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009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65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606320" indent="-6523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sk of a readmission within 1 month or 3 months after a surgical admission was raised about 20% by a safety ev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65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65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Effective Management of Chronic Condition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3576240"/>
            <a:ext cx="15986160" cy="930132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marL="957240" indent="-9572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)  B. Friedman, with Joanna Jiang and Anne Elixhauser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stly Hospital Readmissions and Complex Chronic Illness”,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Inquiry,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nter, 2008/200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 5 million adults were covered by the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ws importance of the number of different chronic conditions in predicting readmission rates and annual cost.  (“complexity”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easily “fixed” with disease-specific management protocols.  But there is literature on demonstrations of other approach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% of the hospital costs for adults could be saved if you could bring down the extra readmissions for the 25% of hospitalized adulsts with 5 or more chronic condi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have been a couple dozen demonstration projects of how to do that.  It isn’t free, of cour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NHQR 2008 Readmission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 fontScale="67000"/>
          </a:bodyPr>
          <a:p>
            <a:pPr marL="641160" indent="-6411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cking system quality and system efficien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1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1160" indent="-6411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gestive Heart Failure, readmission for sa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1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1160" indent="-6411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mission within 30 days (to any hospita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345320" indent="-546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rt enough to implicate the discharge planning, handoff, patient couns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345320" indent="-546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 apportioning blame  (could be other factor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1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1160" indent="-6411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tional burden of readmissions:  one person can have more than one readmit during the year qualifying to be counted (30 days from previous admit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1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1160" indent="-6411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arison of states within age groups  (big difference between states, but not between age group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hoices for future years NHQR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ggestions should go to Ernie Moy or Ryan or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sibilities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index admissions, with statistical contr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mission after elective treatment, after deliv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e or area rates with risk adjust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o Medicare Advantage Patients Have Fewer Readmissions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authors:  B. Friedman, J. Jiang, John Bott, Claudia Steiner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tabase:  5 states in HCUP with breakdown of type of Medicare coverage and with person identifi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ory:  superficially, it seems that the Advantage plans have both the motive (capitated revenue) and the means to reduce readmissions in comparison to FFS Medica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95480" y="487440"/>
            <a:ext cx="13395600" cy="186984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raw comparison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3576600"/>
            <a:ext cx="15986160" cy="6176880"/>
          </a:xfrm>
          <a:prstGeom prst="rect">
            <a:avLst/>
          </a:prstGeom>
          <a:noFill/>
          <a:ln w="0">
            <a:noFill/>
          </a:ln>
        </p:spPr>
        <p:txBody>
          <a:bodyPr lIns="186120" rIns="186120" tIns="91440" bIns="91440" anchor="t">
            <a:normAutofit/>
          </a:bodyPr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e 1-month rate of readmission (10%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what lower 3-month readmission rate (21% vs. 22.5%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957240" indent="-9572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ever, Advantage patients tend to b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little youn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 severely ill even when hospitaliz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008080" indent="-81576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 likely to have a major operative proced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572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2:44:01Z</dcterms:created>
  <dc:creator>Frances Eisel</dc:creator>
  <dc:description/>
  <dc:language>en-US</dc:language>
  <cp:lastModifiedBy>Graham</cp:lastModifiedBy>
  <dcterms:modified xsi:type="dcterms:W3CDTF">2009-10-19T15:18:29Z</dcterms:modified>
  <cp:revision>48</cp:revision>
  <dc:subject/>
  <dc:title>No Slide Title</dc:title>
</cp:coreProperties>
</file>