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C76-AFFA-4D57-8CBB-793816FE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E97-B3F3-4FE3-9835-A149D68E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180-17C7-4E41-8ECD-534DEF41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3D6-20F0-45BE-9267-B29B4C8F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D85-A71A-4BF6-A908-8767ECE1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989-9073-4222-82FB-D6DC77DB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2AC-6637-419E-B3A8-A31C0035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7C8C-052E-44ED-A7EF-B0CA02CF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9153-E771-4881-88C2-ABFFFAC1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39F-4231-4031-B849-001C52AF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FC1A-4223-47CE-ABE0-E9800476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9A5-2AA9-44C6-ABD6-6F89DE47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B737-A876-47D3-9062-585B24EE1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76320" y="5562720"/>
            <a:ext cx="1066680" cy="1011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8153280" y="4800600"/>
            <a:ext cx="938160" cy="1981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mplementing GRADE in Guideline Development: Real-World Experienc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NIAID Guidelines for the Diagnosis and Management of Food All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. Matthew Fe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thma Allergy &amp; Inflammation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IT, NIAID, N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ood Allergy Guidelines: 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79856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y 2007 workshop assessed the need for clinical guidelines that could be used by health care providers across various medical special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30 professional organizations, federal agencies, and advocacy groups unanimously agreed that NIAID should develop the guide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lines should be developed using both evidence-based data and expert opi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 dissemination of the guidelines by participating organizations would be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ood Allergy Guidelines: Process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 Review and Evidence Grading (RAND Corp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sive literature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s evidence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es quality of body of evidence using 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Panel (Chair: Dr. Joshua Bo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s the guidelines based on RAND’s literature review and expert clinical opi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s both knowledge gaps and areas of agreement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ing, Review and Final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lines draft prepared by the Expert Panel to be edited based on Coordinating Committe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view and public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cross medical special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e comprised of professional organizations, Federal agencies, and advocacy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uidelines Tim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2007: Meeting highlighting the need for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2008: First meeting of the Coordinating Committee &amp; award of RAND contract for evidence based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2009: First draft of RAND report given to Expert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009: Expert Panel meets to review first draft of the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 2009: Final draft of Expert Panel guidelines to be completed and forwarded to the Coordinat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-Feb 2010: 60 day public com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10: Final guidelines document ready for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ood Allergy Guidelines: Implementing G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the Expert Panel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emination of papers from the GRADE Working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presentation at March 18, 2009 Expert Panel Kick Off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discussion to refine recommendations for grading/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 provides additional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ood Allergy Guidelines: Implementing GRADE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Scoring 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distinct writing groups to prepare guidelines “chapt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mall group will propose the strength of a recommendation based on RAND evidence and expert opinion using GR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by entire EP upon integration will determine final grading str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1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plan to assess agreement by Panel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ection of the guidelines will contain a “agreement” score to compliment the evidence grade and recommendation 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 (100% agree), Substantial majority (80%), majority (50-80%), No agreement (&lt;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 will be assessed upon integration of the 5 guideline chapters using the GRADE gr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ood Allergy Guidelines &amp; GRADE: Potential Difficul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of food allergy and state of the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DBPC clinical trials (ethical iss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xisting treatments for food all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ly few population-based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ed trials use different end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population &amp; environmental 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ood Allergy Guidelines &amp; GRADE: Potential Difficul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rate some evidence highly, leading to a lack of strong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Oral food challenge as a study end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l food challenges, the gold standard for food allergy diagnosis, can be very risky for those with severe food aller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linical trials use oral preparations to desensitize patients, but, to minimize risk, do not use oral food challenge as the endpoint to test the success of the inter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studies are not considered the highest quality, due to lack of the gold standard end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GRADE work where the body of evidence is considered weak, but expert opinion is stro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1:06:36Z</dcterms:created>
  <dc:creator>schwaningerj</dc:creator>
  <dc:description/>
  <dc:language>en-US</dc:language>
  <cp:lastModifiedBy>Graham</cp:lastModifiedBy>
  <dcterms:modified xsi:type="dcterms:W3CDTF">2009-10-26T21:19:13Z</dcterms:modified>
  <cp:revision>25</cp:revision>
  <dc:subject/>
  <dc:title>NIAID Clinical Practice Guidelines for the Diagnosis and Management of Food Allergy</dc:title>
</cp:coreProperties>
</file>