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307-625F-4B58-A0C5-BD132847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0ED-F30B-4D01-B323-15D144B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3A1-9FEE-4B80-87D0-102C05AF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A43-B612-408B-935F-8B74B776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4C0-F529-48BC-B835-95D13099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E30-B70E-429E-B5D7-B82E1DF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2D9-B374-40AC-A324-BE44BF9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DF9-2500-4C7D-A4AC-F27026B6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AC9-D224-4C11-B4B0-8B10A41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C50-8F1A-483C-9171-0B84AB6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2ED-8651-421D-BF88-CC45529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7BA-41D7-4247-B18C-B690B18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A268-574B-4FC3-A93D-A54DCE92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76320" y="5562720"/>
            <a:ext cx="1066680" cy="1011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8153280" y="4800600"/>
            <a:ext cx="938160" cy="198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mplementing GRADE in Guideline Development: Real-World Experienc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IAID Guidelines for the Diagnosis and Management of Food All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Matthew Fe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thma Allergy &amp; Inflammation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T, NIAID, 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2007 workshop assessed the need for clinical guidelines that could be used by health care providers across various medical special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0 professional organizations, federal agencies, and advocacy groups unanimously agreed that NIAID should develop the guide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should be developed using both evidence-based data and expert opi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dissemination of the guidelines by participating organizations would be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Proces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Review and Evidence Grading (RAND Cor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literature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s evidenc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es quality of body of evidence using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Panel (Chair: Dr. Joshua Bo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s the guidelines based on RAND’s literature review and expert clinic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both knowledge gaps and areas of agreeme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ing, Review and Fin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draft prepared by the Expert Panel to be edited based on Coordinating Committe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iew and public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cross medical specia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 comprised of professional organizations, Federal agencies, and advocac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uidelines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7: Meeting highlighting the need fo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008: First meeting of the Coordinating Committee &amp; award of RAND contract for evidence base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9: First draft of RAND report given to Expert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009: Expert Panel meets to review first draft of th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2009: Final draft of Expert Panel guidelines to be completed and forwarded to the Coordinat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-Feb 2010: 60 day public com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10: Final guidelines document ready fo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Implementing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the Expert Panel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mination of papers from the GRADE Working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presentation at March 18, 2009 Expert Panel Kick O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scussion to refine recommendations for grading/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 provides addition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Implementing GRADE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Scoring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distinct writing groups to prepare guidelines “chapt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mall group will propose the strength of a recommendation based on RAND evidence and expert opinion using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by entire EP upon integration will determine final grading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plan to assess agreement by Panel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ection of the guidelines will contain a “agreement” score to compliment the evidence grade and recommendation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(100% agree), Substantial majority (80%), majority (50-80%), No agreement (&lt;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will be assessed upon integration of the 5 guideline chapters using the GRADE g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 &amp; GRADE: Potential Difficu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food allergy and state of th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DBPC clinical trials (ethical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isting treatments for food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few population-based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trials use differen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opulation &amp; environmental 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 &amp; GRADE: Potential Difficu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rate some evidence highly, leading to a lack of strong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ral food challenge as a study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food challenges, the gold standard for food allergy diagnosis, can be very risky for those with severe food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linical trials use oral preparations to desensitize patients, but, to minimize risk, do not use oral food challenge as the endpoint to test the success of the 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studies are not considered the highest quality, due to lack of the gold standard en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GRADE work where the body of evidence is considered weak, but expert opinion is str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1:06:36Z</dcterms:created>
  <dc:creator>schwaningerj</dc:creator>
  <dc:description/>
  <dc:language>en-US</dc:language>
  <cp:lastModifiedBy>Graham</cp:lastModifiedBy>
  <dcterms:modified xsi:type="dcterms:W3CDTF">2009-10-26T21:19:13Z</dcterms:modified>
  <cp:revision>25</cp:revision>
  <dc:subject/>
  <dc:title>NIAID Clinical Practice Guidelines for the Diagnosis and Management of Food Allergy</dc:title>
</cp:coreProperties>
</file>