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86829-8CFB-42AE-9118-E8ECDE33D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627AD-5D23-47D0-9518-D5D702D927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1840" y="67320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F419C-2053-4037-8844-281639C02B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1840" y="67320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7800" y="4265280"/>
            <a:ext cx="53499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5A412-6621-44CD-992B-CBDEC9BEE2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1840" y="67320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331-41D6-4A52-9833-6B726C4B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15D-9B59-4F01-88B8-163C1256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372-2911-4C45-A035-FEA8EB2D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C53-B0A7-4DC1-9C6E-92E849D4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8EAD-0C92-4D12-BEFE-DF071531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8412-3AF8-4C35-97DC-3090BD46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9C86-92DE-4FCC-A241-6690637B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B87-8AFF-427B-A0B6-AED70ECC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22CA-D2FA-4379-9385-05736F87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84A5-06F4-48AE-9C11-24A3DAF5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23EF-422B-4874-B8DE-08D1B1FC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CB7-406D-4FF1-9080-68971AC6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DEFF-EB97-4EEA-9894-685E82D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FD63-7E39-41DF-8699-18C334B0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D529-27C0-4B50-AA6A-384CBBCF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93B6-D198-4D6E-B32A-A9930057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295A-C8C1-49EA-B2E4-E86ACEC7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466-08A0-4963-A22E-5FA03893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5BC-86A5-483C-92EF-D31AAC5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730-6563-4211-88C1-967C1636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A4A-1F72-4F98-9AEE-A9DD8703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3E1-C8D4-442A-86F4-C9DB2997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7D4-B5AC-45E0-9434-4B86E35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7F4-C86E-43C5-8A4B-1D561EA6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8F07B-AAFC-4BFC-BB4D-A39BCE8F3CF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67017-4CB1-4531-9D64-DEB23F82667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bdoebbel@iupui.edu" TargetMode="External"/><Relationship Id="rId3" Type="http://schemas.openxmlformats.org/officeDocument/2006/relationships/hyperlink" Target="mailto:doebbeling@comcast.net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554040" y="566640"/>
            <a:ext cx="8182080" cy="2919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7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Brad Doebbeling, MD,  MSc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Director, IU Center for Health Services Research,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HSR Director, Regenstrief Institute, 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Senior Scientist, VA HSR&amp;D Center of Excellence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Med. Dept. Professor of Health Services Research, IU School of Medicine, Indianapolis, IN 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doebbel@iupui.edu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doebbeling@comcast.ne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schoke@iupui.edu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ar graph of admission culture compliance for study units"/>
          <p:cNvPicPr/>
          <p:nvPr/>
        </p:nvPicPr>
        <p:blipFill>
          <a:blip r:embed="rId1"/>
          <a:stretch/>
        </p:blipFill>
        <p:spPr>
          <a:xfrm>
            <a:off x="252360" y="471600"/>
            <a:ext cx="86392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bar graph of hand hygiene compliance for study units"/>
          <p:cNvPicPr/>
          <p:nvPr/>
        </p:nvPicPr>
        <p:blipFill>
          <a:blip r:embed="rId1"/>
          <a:stretch/>
        </p:blipFill>
        <p:spPr>
          <a:xfrm>
            <a:off x="252360" y="471600"/>
            <a:ext cx="86392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bar graph of contact isolation compliance for study units"/>
          <p:cNvPicPr/>
          <p:nvPr/>
        </p:nvPicPr>
        <p:blipFill>
          <a:blip r:embed="rId1"/>
          <a:stretch/>
        </p:blipFill>
        <p:spPr>
          <a:xfrm>
            <a:off x="252360" y="471600"/>
            <a:ext cx="86392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907920" y="268200"/>
            <a:ext cx="7785360" cy="152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04560" y="1752480"/>
            <a:ext cx="464796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Infection control is a regional problem, requiring a coordinated effor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Created a citywide electronic notification system to prospectively track all known patients with MRS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Currently track 17,000 patients with a history of MRSA infection or colonization across Indianapolis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Since May 2007, delivered 2698 admission alerts on patients with a history of MRSA, 19 percent based on data from another institution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20 infection control providers (ICPs) spanning 16 hospital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4004280" y="624852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Kho, Lemmon, Dexter, Doebbeling AMIA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bar graphs of alets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Significant improvement in process measure adherence to 80-&gt;95%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Pre and post intervention results for first three hospitals suggest average of 60% reduction on study units over 9-12 month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~ 20% reduction MRSA infections hospital wid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Reduction in level of MRSA among S. aureu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Reduction in associated BSIs and UTI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Our success led to a follow-up contract funded by AHRQ and CD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reading the successful intervention of Phase One to more units in Indianapol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cruited 4 Indy and 3 other hospital system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niversity Health Network, Toronto, Ontari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. Patrick’s Health, Missoula, Montan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aine Medical System, Providence, Main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ining and Coaching Using Experienced Integrated Positive Deviance with Lean Engineering Princip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at is Positive Devianc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echnique to engage front line staff in owning &amp; improving processes and sustaining chan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ased on identification of practices of used by ‘positively deviant’ staff/department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ritical for staff involvement</a:t>
            </a:r>
            <a:r>
              <a:rPr b="0" lang="en-US" sz="3200" spc="-1" strike="noStrike">
                <a:solidFill>
                  <a:srgbClr val="c9c2d1"/>
                </a:solidFill>
                <a:latin typeface="Calibri"/>
                <a:ea typeface="Calibri"/>
              </a:rPr>
              <a:t>/buy-i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833480" y="4460760"/>
            <a:ext cx="1613160" cy="9115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vel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uture State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59040" y="5610240"/>
            <a:ext cx="1579320" cy="9414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Process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trate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851120" y="2266920"/>
            <a:ext cx="1611360" cy="7891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Baseline Current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836720" y="3346560"/>
            <a:ext cx="1638360" cy="81756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dentif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Operational Barr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828800" y="1371600"/>
            <a:ext cx="1641600" cy="6127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fine the Probl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08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3657600" y="1523880"/>
            <a:ext cx="609480" cy="2514600"/>
          </a:xfrm>
          <a:custGeom>
            <a:avLst/>
            <a:gdLst>
              <a:gd name="textAreaLeft" fmla="*/ 0 w 609480"/>
              <a:gd name="textAreaRight" fmla="*/ 219960 w 6094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4889160" y="2405160"/>
            <a:ext cx="21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Lucida Sans"/>
              </a:rPr>
              <a:t>Disco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3581280" y="4038480"/>
            <a:ext cx="609840" cy="2438640"/>
          </a:xfrm>
          <a:custGeom>
            <a:avLst/>
            <a:gdLst>
              <a:gd name="textAreaLeft" fmla="*/ 0 w 609840"/>
              <a:gd name="textAreaRight" fmla="*/ 220320 w 6098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816080" y="5105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nsolas"/>
              </a:rPr>
              <a:t>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Title 1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41200" y="1766880"/>
            <a:ext cx="8445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l meetings held with front line staff to discuss the current status of the proc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orporate as much front line staff as possib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oal is to ‘discover’ the issues and potential solutions and then take ‘action’ as rapidly as possib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easier to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ct your way into a new way of thinking”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an to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think your way into a new way to acting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lvl="1" marL="980640" indent="-528120"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980640" indent="-528120"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340080" y="6632640"/>
            <a:ext cx="1219320" cy="22536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382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’s different in Phase Two besides spread to new system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arning Collaborative: Teams from hospitals connect with teams from other hospitals employing the MRSA Intervention Bundle to foster learning and innov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re extensive activities to train interdisciplinary teams within each of the participating health systems  (compared with first study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unding from AHRQ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Geneva"/>
              </a:rPr>
              <a:t>Testing Techniques to Radically Reduce Antibiotic Resistant Bacteria HHSA2902006000131 (Completed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althcare Associated Infections (HAI) Initiative Assessment Program HHSA290200600013I (Cur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Geneva"/>
              </a:rPr>
              <a:t>Implementing and Improving the Integration of Decision Support into Outpatient Clinical WorkflowHSA2902006000131(Cur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Geneva"/>
              </a:rPr>
              <a:t>Funding from AHRQ and CD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sting Spread and Implementation of Novel MRSA-Reducing Practices HHSA290200600013 (Cur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Geneva"/>
              </a:rPr>
              <a:t>Thanks to our collaborators, partners, providers, patients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600760" cy="115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Leadership engagement critical in times of financial and H1N1 challe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Data collection for research rigor may be too intensive for most community hospit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Hospitals need and desire regular feedback on impact of interven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Need a better electronic data collection infrastructure relating to displaying intervention success (outcome dat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Need better solutions to support long-distance collaboration, coaching, mentor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Need new mechanisms for academic achievement, paper writing, publishing of redesign papers, new journals, new toolk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System redesign approach of training, consultation and coaching front-line staff seems to be strong, sustained approa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Importance of buy-in from highest institutional levels cruci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Enthusiasm builds from within because redesign teams own i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Informatics tool helpful in identifying great cross-over of MRSA patients in hospit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364600" cy="1439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spital Acquired Infections Collaboratory has identified many important barriers, facilitators and positive deviant practices to reduce HAI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ability assessments, including enthnographic observation, structured interviews and usability testing of prototypes valuable for improving CDS!</a:t>
            </a:r>
            <a:br>
              <a:rPr sz="2800"/>
            </a:b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--see Haggstrom et al, Saleem et al at AMIA 2009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AHRQ funded proposal to reduce MRSA in hospitals over 18 months through the ACTION collaborative funding mechanis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Our interventions were based on the Pittsburgh VAMC model as specified by AHRQ, using lean, organizational change and informatics (data exchange, reporting):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Conduct active surveillance of all incoming pts. in ICU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Improve rates of contact isolation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Improve hand hygiene rat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Organizational chang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Environmental decontamin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Indianapolis has unique health information exchange (RHIO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Indiana Network for Patient Care (INPC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Includes nearly all of the healthcare systems in Indianapoli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Spans &gt;95% of all of the inpatient care in the city, expanding regionally.  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The five competing health care systems have agreed to share information on their patients, to ensure safe and quality health care.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5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MRSA Burd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5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lbertus Medium"/>
              </a:rPr>
              <a:t>Over 126,000 persons are infected by MRSA in hospitals annually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5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lbertus Medium"/>
              </a:rPr>
              <a:t>~ 4 MRSA infections per 1,000 hospital discharge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5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lbertus Medium"/>
              </a:rPr>
              <a:t>Over 5,000 die as a result of these infection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5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lbertus Medium"/>
              </a:rPr>
              <a:t>Over $2.5 billion excess healthcare cost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1/3 patients acquiring MRSA will become infected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5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edium"/>
              </a:rPr>
              <a:t>Colonized</a:t>
            </a: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 patients, </a:t>
            </a:r>
            <a:r>
              <a:rPr b="1" lang="en-US" sz="2400" spc="-1" strike="noStrike">
                <a:solidFill>
                  <a:srgbClr val="ffffff"/>
                </a:solidFill>
                <a:latin typeface="Albertus Medium"/>
              </a:rPr>
              <a:t>NOT just  infected patients</a:t>
            </a: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, can transmit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AR pathogens to healthcare workers and other patient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1752480" y="3352680"/>
            <a:ext cx="4953240" cy="2357640"/>
          </a:xfrm>
          <a:prstGeom prst="pie">
            <a:avLst/>
          </a:prstGeom>
          <a:solidFill>
            <a:srgbClr val="ceb9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90920" y="4648320"/>
            <a:ext cx="236196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Unidentified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 Antiqua"/>
              </a:rPr>
              <a:t>Colonized</a:t>
            </a: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962520"/>
            <a:ext cx="9144000" cy="152280"/>
          </a:xfrm>
          <a:prstGeom prst="pie">
            <a:avLst/>
          </a:prstGeom>
          <a:noFill/>
          <a:ln w="57240">
            <a:solidFill>
              <a:srgbClr val="6967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486400" y="3124080"/>
            <a:ext cx="38098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Clinical Cultures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lbertus Medium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History of MRSA</a:t>
            </a:r>
            <a:r>
              <a:rPr b="0" lang="en-US" sz="24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H="1">
            <a:off x="4494960" y="3505320"/>
            <a:ext cx="972360" cy="310320"/>
          </a:xfrm>
          <a:prstGeom prst="straightConnector1">
            <a:avLst/>
          </a:prstGeom>
          <a:ln w="2844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arge body of consistent evidence that control is highly cost effective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Gould 2006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rganizational Change initiatives (Lean, PD) effective reductions of MRSA 50-85%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Pittsburg, Indy, RWJ Beta 2008-9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ctive interventions to eliminate MRSA transmission shown to save money and lives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van Rijen &amp;  Kluytmans, 2009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novative approaches to engage hospital staff to intervene and improve healthcare processes effective in reducing MRSA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Cooper 2005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xternal pressure on hospitals to implement universal active MRSA surveillance.  Several states and the VA mandated screening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Graham, 2007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Our health care engineers partnered with and trained front-line workers to use lean-six sigma and positive deviance approach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Focused on sharing evidence and methods, coaching front-line staff teams to lead instituting systems changes to systematize processes and sustain practic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Emphasized regular measurement and feedback of adherence to enhance adoption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Weekly meeting of all hospital teams to identify barriers &amp; facilitators, review and reinforce progress, share best practices, strategize about spread and solution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320840" y="507960"/>
            <a:ext cx="5951520" cy="635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28600" y="425880"/>
            <a:ext cx="816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Lean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51200" y="4549680"/>
            <a:ext cx="1612800" cy="91116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ture State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976400" y="5699160"/>
            <a:ext cx="1579680" cy="9414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968480" y="2355840"/>
            <a:ext cx="1611360" cy="7891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eline Current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954080" y="3435480"/>
            <a:ext cx="1638360" cy="81756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rational Barr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957320" y="1474920"/>
            <a:ext cx="1641600" cy="6127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ine the Probl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078520" y="3036960"/>
            <a:ext cx="1565280" cy="70956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s Observation Workshe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5067360" y="3784680"/>
            <a:ext cx="1565280" cy="52524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ghetti Dia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5038560" y="4768920"/>
            <a:ext cx="1565280" cy="49680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n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5068800" y="2384280"/>
            <a:ext cx="1565280" cy="31284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s M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070600" y="2716200"/>
            <a:ext cx="1565280" cy="31284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ck she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051520" y="5799240"/>
            <a:ext cx="1565280" cy="49680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s Control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5024520" y="1714680"/>
            <a:ext cx="1565280" cy="31248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ject Char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3832200" y="2570040"/>
            <a:ext cx="1103400" cy="1406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bc0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3889440" y="1770120"/>
            <a:ext cx="944640" cy="334800"/>
          </a:xfrm>
          <a:prstGeom prst="rightArrow">
            <a:avLst>
              <a:gd name="adj1" fmla="val 50000"/>
              <a:gd name="adj2" fmla="val 70538"/>
            </a:avLst>
          </a:prstGeom>
          <a:solidFill>
            <a:srgbClr val="abc0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3875040" y="4846680"/>
            <a:ext cx="944640" cy="334800"/>
          </a:xfrm>
          <a:prstGeom prst="rightArrow">
            <a:avLst>
              <a:gd name="adj1" fmla="val 50000"/>
              <a:gd name="adj2" fmla="val 70538"/>
            </a:avLst>
          </a:prstGeom>
          <a:solidFill>
            <a:srgbClr val="abc0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3860640" y="5891040"/>
            <a:ext cx="944640" cy="335160"/>
          </a:xfrm>
          <a:prstGeom prst="rightArrow">
            <a:avLst>
              <a:gd name="adj1" fmla="val 50000"/>
              <a:gd name="adj2" fmla="val 70462"/>
            </a:avLst>
          </a:prstGeom>
          <a:solidFill>
            <a:srgbClr val="abc0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5:51:20Z</dcterms:created>
  <dc:creator>Shawn Hoke</dc:creator>
  <dc:description/>
  <dc:language>en-US</dc:language>
  <cp:lastModifiedBy> </cp:lastModifiedBy>
  <dcterms:modified xsi:type="dcterms:W3CDTF">2010-03-01T21:35:02Z</dcterms:modified>
  <cp:revision>24</cp:revision>
  <dc:subject/>
  <dc:title> Redesigning Hospital Care for Quality and Efficiency : Applications of Positive Deviance and Lean in Reducing MRSA </dc:title>
</cp:coreProperties>
</file>