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57A2A-16B5-4CAF-B9E5-49A8A3DF2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E4FEB-401D-4128-9AC0-5B16C3C965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E8897-3039-4655-80D6-38875B805F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7800" y="4265280"/>
            <a:ext cx="5349960" cy="40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90A51-081B-41FB-B602-4AC95966AC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1840" y="67320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A88-B248-4B29-8390-752AA82B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ED9-25D5-4FD6-9FAC-865EB34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D9F-7882-4F02-9262-009CF697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3AD-620E-4543-B689-44F40D10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84C7-37B2-4938-9DC2-2A674A9E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4B9E-7C07-4DA1-94A9-B989982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FEF-8C89-4B72-9651-DFCFC52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747C-35DC-4F64-8A8B-836C7AA1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97D0-1528-43B0-BBF3-0486F17C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09A6-EB50-41EE-B0F8-16FD9ED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1BB1-F710-4C80-A22E-F89E4A2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E34-FF10-40E7-B596-AAF3394F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980A-2A79-4D29-B5EA-8A16C78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40CF-1D4B-42DC-B4B8-3C3A19FC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BDEB-5547-479A-9AC6-A726D09A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C343-D3F5-498A-BA1A-7610C029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88AC-F51B-43FA-A653-3E2AC17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C60-C88D-4270-9F87-97AEFF7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18B-0A7C-434D-9209-0FA44843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71A-15C9-4C34-AF35-2AF15EC1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359-9A63-4AA8-8599-50882D1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3BA-02FE-4950-88B7-EFA307B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460-1F3D-431E-861C-FD54116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03A-8B7E-4BC6-9A5C-747E08C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2C6DC-8CB3-4EE9-9837-4EF1C320804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9B747-13B1-4F5A-9EA1-52DBAB2AE0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bdoebbel@iupui.edu" TargetMode="External"/><Relationship Id="rId3" Type="http://schemas.openxmlformats.org/officeDocument/2006/relationships/hyperlink" Target="mailto:doebbeling@comcast.ne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54040" y="566640"/>
            <a:ext cx="8182080" cy="2919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7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Brad Doebbeling, MD,  MSc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irector, IU Center for Health Services Research,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HSR Director, Regenstrief Institute,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enior Scientist, VA HSR&amp;D Center of Excellence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Med. Dept. Professor of Health Services Research, IU School of Medicine, Indianapolis, IN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doebbel@iupui.edu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doebbeling@comcast.ne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choke@iupui.edu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ar graph of admission culture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bar graph of hand hygiene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ar graph of contact isolation compliance for study units"/>
          <p:cNvPicPr/>
          <p:nvPr/>
        </p:nvPicPr>
        <p:blipFill>
          <a:blip r:embed="rId1"/>
          <a:stretch/>
        </p:blipFill>
        <p:spPr>
          <a:xfrm>
            <a:off x="252360" y="471600"/>
            <a:ext cx="8639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907920" y="268200"/>
            <a:ext cx="7785360" cy="152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4560" y="1752480"/>
            <a:ext cx="464796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Infection control is a regional problem, requiring a coordinated effo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Created a citywide electronic notification system to prospectively track all known patients with MRS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Currently track 17,000 patients with a history of MRSA infection or colonization across Indianapolis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Since May 2007, delivered 2698 admission alerts on patients with a history of MRSA, 19 percent based on data from another institution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20 infection control providers (ICPs) spanning 16 hospital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004280" y="624852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Kho, Lemmon, Dexter, Doebbeling AMIA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bar graphs of alets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Significant improvement in process measure adherence to 80-&gt;95%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Pre and post intervention results for first three hospitals suggest average of 60% reduction on study units over 9-12 month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~ 20% reduction MRSA infections hospital wid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Reduction in level of MRSA among S. aureu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Reduction in associated BSIs and UTI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lbertus Medium"/>
              </a:rPr>
              <a:t>Our success led to a follow-up contract funded by AHRQ and CDC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reading the successful intervention of Phase One to more units in Indianapol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cruited 4 Indy and 3 other hospital system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ty Health Network, Toronto, Ontar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. Patrick’s Health, Missoula, Montan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aine Medical System, Providence, Main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ining and Coaching Using Experienced Integrated Positive Deviance with Lean Engineering Princip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at is Positive Deviance?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chnique to engage front line staff in owning &amp; improving processes and sustaining chan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sed on identification of practices of used by ‘positively deviant’ staff/department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ritical for staff involvement</a:t>
            </a:r>
            <a:r>
              <a:rPr b="0" lang="en-US" sz="3200" spc="-1" strike="noStrike">
                <a:solidFill>
                  <a:srgbClr val="c9c2d1"/>
                </a:solidFill>
                <a:latin typeface="Calibri"/>
                <a:ea typeface="Calibri"/>
              </a:rPr>
              <a:t>/buy-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833480" y="4460760"/>
            <a:ext cx="1613160" cy="9115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vel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uture State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59040" y="5610240"/>
            <a:ext cx="1579320" cy="9414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trate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851120" y="2266920"/>
            <a:ext cx="1611360" cy="7891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Baseline Current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836720" y="3346560"/>
            <a:ext cx="1638360" cy="8175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perational B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828800" y="1371600"/>
            <a:ext cx="1641600" cy="612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efine the Probl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088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3657600" y="1523880"/>
            <a:ext cx="609480" cy="2514600"/>
          </a:xfrm>
          <a:custGeom>
            <a:avLst/>
            <a:gdLst>
              <a:gd name="textAreaLeft" fmla="*/ 0 w 609480"/>
              <a:gd name="textAreaRight" fmla="*/ 219960 w 6094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4889160" y="2405160"/>
            <a:ext cx="21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Lucida Sans"/>
              </a:rPr>
              <a:t>Discov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3581280" y="4038480"/>
            <a:ext cx="609840" cy="2438640"/>
          </a:xfrm>
          <a:custGeom>
            <a:avLst/>
            <a:gdLst>
              <a:gd name="textAreaLeft" fmla="*/ 0 w 609840"/>
              <a:gd name="textAreaRight" fmla="*/ 220320 w 6098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816080" y="5105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nsolas"/>
              </a:rPr>
              <a:t>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Title 1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41200" y="1766880"/>
            <a:ext cx="8445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meetings held with front line staff to discuss the current status of the proc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corporate as much front line staff as possi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oal is to ‘discover’ the issues and potential solutions and then take ‘action’ as rapidly as possi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easier to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ct your way into a new way of thinking”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an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“think your way into a new way to acting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80640" indent="-528120">
              <a:spcBef>
                <a:spcPts val="499"/>
              </a:spcBef>
              <a:buClr>
                <a:srgbClr val="ffffff"/>
              </a:buClr>
              <a:buSzPct val="8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3360" indent="-60336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340080" y="6632640"/>
            <a:ext cx="1219320" cy="22536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382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’s different in Phase Two besides spread to new system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ing Collaborative: Teams from hospitals connect with teams from other hospitals employing the MRSA Intervention Bundle to foster learning and innov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re extensive activities to train interdisciplinary teams within each of the participating health systems  (compared with first study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nding from AHRQ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Geneva"/>
              </a:rPr>
              <a:t>Testing Techniques to Radically Reduce Antibiotic Resistant Bacteria HHSA2902006000131 (Completed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althcare Associated Infections (HAI) Initiative Assessment Program HHSA290200600013I 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Geneva"/>
              </a:rPr>
              <a:t>Implementing and Improving the Integration of Decision Support into Outpatient Clinical WorkflowHSA2902006000131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Geneva"/>
              </a:rPr>
              <a:t>Funding from AHRQ and CD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sting Spread and Implementation of Novel MRSA-Reducing Practices HHSA290200600013 (Cur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Geneva"/>
              </a:rPr>
              <a:t>Thanks to our collaborators, partners, providers, patient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6007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Leadership engagement critical in times of financial and H1N1 challe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Data collection for research rigor may be too intensive for most community hospit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Hospitals need and desire regular feedback on impact of interven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a better electronic data collection infrastructure relating to displaying intervention success (outcome dat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better solutions to support long-distance collaboration, coaching, mentor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Need new mechanisms for academic achievement, paper writing, publishing of redesign papers, new journals, new toolki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System redesign approach of training, consultation and coaching front-line staff seems to be strong, sustained approa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mportance of buy-in from highest institutional levels cruci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Enthusiasm builds from within because redesign teams own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nformatics tool helpful in identifying great cross-over of MRSA patients in hospit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364600" cy="143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spital Acquired Infections Collaboratory has identified many important barriers, facilitators and positive deviant practices to reduce HAI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ability assessments, including enthnographic observation, structured interviews and usability testing of prototypes valuable for improving CDS!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--see Haggstrom et al, Saleem et al at AMIA 2009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AHRQ funded proposal to reduce MRSA in hospitals over 18 months through the ACTION collaborative funding mechan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ur interventions were based on the Pittsburgh VAMC model as specified by AHRQ, using lean, organizational change and informatics (data exchange, reporting):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Conduct active surveillance of all incoming pts. in ICU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Improve rates of contact isolation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Improve hand hygiene rat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rganizational chang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Environmental decontamina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Indianapolis has unique health information exchange (RHIO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Indiana Network for Patient Care (INPC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Includes nearly all of the healthcare systems in Indianapoli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Spans &gt;95% of all of the inpatient care in the city, expanding regionally.  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lbertus Medium"/>
              </a:rPr>
              <a:t>The five competing health care systems have agreed to share information on their patients, to ensure safe and quality health care.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MRSA Burd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126,000 persons are infected by MRSA in hospitals annuall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~ 4 MRSA infections per 1,000 hospital discharge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5,000 die as a result of these infection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5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lbertus Medium"/>
              </a:rPr>
              <a:t>Over $2.5 billion excess healthcare cost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1/3 patients acquiring MRSA will become inf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edium"/>
              </a:rPr>
              <a:t>Colonized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 patients, </a:t>
            </a:r>
            <a:r>
              <a:rPr b="1" lang="en-US" sz="2400" spc="-1" strike="noStrike">
                <a:solidFill>
                  <a:srgbClr val="ffffff"/>
                </a:solidFill>
                <a:latin typeface="Albertus Medium"/>
              </a:rPr>
              <a:t>NOT just  infected patients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, can transmit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AR pathogens to healthcare workers and other patie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1752480" y="3352680"/>
            <a:ext cx="4953240" cy="2357640"/>
          </a:xfrm>
          <a:prstGeom prst="pie">
            <a:avLst/>
          </a:prstGeom>
          <a:solidFill>
            <a:srgbClr val="ceb9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90920" y="4648320"/>
            <a:ext cx="23619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Unidentified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Book Antiqua"/>
              </a:rPr>
              <a:t>Colonized</a:t>
            </a:r>
            <a:r>
              <a:rPr b="1" lang="en-US" sz="1600" spc="-1" strike="noStrike">
                <a:solidFill>
                  <a:srgbClr val="ff0000"/>
                </a:solidFill>
                <a:latin typeface="Book Antiqua"/>
              </a:rPr>
              <a:t>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962520"/>
            <a:ext cx="9144000" cy="152280"/>
          </a:xfrm>
          <a:prstGeom prst="pie">
            <a:avLst/>
          </a:prstGeom>
          <a:noFill/>
          <a:ln w="57240">
            <a:solidFill>
              <a:srgbClr val="69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486400" y="3124080"/>
            <a:ext cx="38098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Clinical Cultures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lbertus Medium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lbertus Medium"/>
              </a:rPr>
              <a:t>History of MRSA</a:t>
            </a: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H="1">
            <a:off x="4494960" y="3505320"/>
            <a:ext cx="972360" cy="310320"/>
          </a:xfrm>
          <a:prstGeom prst="straightConnector1">
            <a:avLst/>
          </a:prstGeom>
          <a:ln w="2844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Large body of consistent evidence that control is highly cost effective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Gould 2006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rganizational Change initiatives (Lean, PD) effective reductions of MRSA 50-85%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Pittsburg, Indy, RWJ Beta 2008-9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ctive interventions to eliminate MRSA transmission shown to save money and lives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van Rijen &amp;  Kluytmans, 2009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novative approaches to engage hospital staff to intervene and improve healthcare processes effective in reducing MRSA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Cooper 2005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xternal pressure on hospitals to implement universal active MRSA surveillance.  Several states and the VA mandated screening 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(Graham, 2007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Our health care engineers partnered with and trained front-line workers to use lean-six sigma and positive deviance approach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Focused on sharing evidence and methods, coaching front-line staff teams to lead instituting systems changes to systematize processes and sustain practic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Emphasized regular measurement and feedback of adherence to enhance adoptio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lbertus Medium"/>
              </a:rPr>
              <a:t>Weekly meeting of all hospital teams to identify barriers &amp; facilitators, review and reinforce progress, share best practices, strategize about spread and solution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320840" y="507960"/>
            <a:ext cx="5951520" cy="635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425880"/>
            <a:ext cx="816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ean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51200" y="4549680"/>
            <a:ext cx="1612800" cy="9111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ture State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76400" y="5699160"/>
            <a:ext cx="1579680" cy="94140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968480" y="2355840"/>
            <a:ext cx="1611360" cy="7891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line Current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954080" y="3435480"/>
            <a:ext cx="1638360" cy="81756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rational B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957320" y="1474920"/>
            <a:ext cx="1641600" cy="6127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ine the Probl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78520" y="3036960"/>
            <a:ext cx="1565280" cy="70956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Observation Workshe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5067360" y="3784680"/>
            <a:ext cx="1565280" cy="5252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ghetti Dia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038560" y="4768920"/>
            <a:ext cx="1565280" cy="49680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n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5068800" y="2384280"/>
            <a:ext cx="1565280" cy="3128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M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070600" y="2716200"/>
            <a:ext cx="1565280" cy="31284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ck she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051520" y="5799240"/>
            <a:ext cx="1565280" cy="49680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cess Control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5024520" y="1714680"/>
            <a:ext cx="1565280" cy="312480"/>
          </a:xfrm>
          <a:prstGeom prst="rect">
            <a:avLst/>
          </a:prstGeom>
          <a:solidFill>
            <a:srgbClr val="ff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ject Cha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3832200" y="2570040"/>
            <a:ext cx="1103400" cy="1406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3889440" y="1770120"/>
            <a:ext cx="944640" cy="334800"/>
          </a:xfrm>
          <a:prstGeom prst="rightArrow">
            <a:avLst>
              <a:gd name="adj1" fmla="val 50000"/>
              <a:gd name="adj2" fmla="val 70538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3875040" y="4846680"/>
            <a:ext cx="944640" cy="334800"/>
          </a:xfrm>
          <a:prstGeom prst="rightArrow">
            <a:avLst>
              <a:gd name="adj1" fmla="val 50000"/>
              <a:gd name="adj2" fmla="val 70538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3860640" y="5891040"/>
            <a:ext cx="944640" cy="335160"/>
          </a:xfrm>
          <a:prstGeom prst="rightArrow">
            <a:avLst>
              <a:gd name="adj1" fmla="val 50000"/>
              <a:gd name="adj2" fmla="val 70462"/>
            </a:avLst>
          </a:prstGeom>
          <a:solidFill>
            <a:srgbClr val="abc0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5:51:20Z</dcterms:created>
  <dc:creator>Shawn Hoke</dc:creator>
  <dc:description/>
  <dc:language>en-US</dc:language>
  <cp:lastModifiedBy> </cp:lastModifiedBy>
  <dcterms:modified xsi:type="dcterms:W3CDTF">2010-03-01T21:35:02Z</dcterms:modified>
  <cp:revision>24</cp:revision>
  <dc:subject/>
  <dc:title> Redesigning Hospital Care for Quality and Efficiency : Applications of Positive Deviance and Lean in Reducing MRSA </dc:title>
</cp:coreProperties>
</file>