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2569-99E2-452F-92A2-D8053F251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EA21-0657-4F95-BFA2-C68130965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6ECB-2D91-4239-9F75-6C3ED09F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1864-EAE2-4AC7-8762-55E02F228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FFD-430B-4877-9E14-3CCB35E62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84FB-16EE-43C1-A6E9-83DE78B82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0147-53DE-4BBC-8F3E-774956340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A224-DBFD-48E3-9B83-F32704C9F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FD8F-5FC0-40BB-B96F-3E9382B33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AE12-FD56-4450-AF55-01E05E319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9975-4625-4623-9605-552C07C2A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35B9-FE34-4695-986E-B7DA8C4EA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52A5-D9A1-49C0-B7A0-4A2312084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9A39-D597-475A-8803-9B1741197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A177-1295-49BB-A0F1-8CCF66310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7E90-F692-4C40-9B8A-7BB0BFD93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53AD-F2C9-4A91-8417-EF58F2FC2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3066-A817-4FBD-A57D-191913E32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D0E6-9288-406A-8B0B-D8E34DF12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7AC1-080D-4AD4-A1EF-D9115FE34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s a summary of w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dentified 219 candidate tools.  Many tools were focused on health literacy training for providers and were generally repetitive in  terms of their content. a few tools had recommended system changes, many tools were different types of educational media for patients or instructions on how to improve educational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er number of tools were related to community linkages and othe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target audience, most tools were targeted for providers and staff to improve their attention toward health literacy issues.  Some were targeted toward patients, and often these were tools to encourage patients to ask questions or specific educa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ategory often included policymakers or researchers that might be the target audi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3BFE-7A66-470A-9269-00FEEF37F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FF98-218D-490D-A91F-955165509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A2DDD-CB0A-4A07-9161-AE3B02715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D953-5EBC-4EC3-8085-A5D6E3049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55460-0B83-4352-8BAF-B6EDBA12D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C6E33-9A3C-46FD-A0F2-4AEF1F623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DAFF-659C-4062-B835-87EA08754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25CE-787B-45E7-9113-55FAF0CA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15E2B-2F9D-485F-B5BE-9EFA6634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DA60-3C36-4386-B132-4ECC8CE8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8243-B3C2-4054-A8AC-D7FC7CAE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10F4-6A3C-47AD-9C83-DE4000A7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E1BC-7508-4C19-94B5-0701EA712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FC2B-50A1-44CB-B3B7-C8D32A7B6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1931-2C3A-4054-895B-975C69705D4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FBEE-8018-4B89-802A-A1F62288075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 Health Literacy Universal Precautions Toolkit</a:t>
            </a:r>
            <a:endParaRPr b="0" lang="en-US" sz="4400" spc="-1" strike="noStrike">
              <a:solidFill>
                <a:srgbClr val="ffff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Walt DA, Hawk V, Broucksou K, Hink A, Brach C, Callahan LF</a:t>
            </a: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HRQ Annual Meeting 2009</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681D-8058-4539-9FAF-E9093B839A5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77" name="Picture 4" descr="Here’s an example of tool number five using the teach back method helping your patients understand. For each of our tools we give a brief background, the aim of the tool, and implementation.  For implementation.  The first step is to learn what to teach back method is&#13;&#10;"/>
          <p:cNvPicPr/>
          <p:nvPr/>
        </p:nvPicPr>
        <p:blipFill>
          <a:blip r:embed="rId2"/>
          <a:stretch/>
        </p:blipFill>
        <p:spPr>
          <a:xfrm>
            <a:off x="1600200" y="0"/>
            <a:ext cx="5551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E052-5CDD-4477-BB7B-E23DD54E706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79" name="Picture 4" descr="Using the Teach-Back Method Tool 5&#13;&#10;"/>
          <p:cNvPicPr/>
          <p:nvPr/>
        </p:nvPicPr>
        <p:blipFill>
          <a:blip r:embed="rId2"/>
          <a:stretch/>
        </p:blipFill>
        <p:spPr>
          <a:xfrm>
            <a:off x="1523880" y="0"/>
            <a:ext cx="556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184C-FF4A-43EE-BE8D-64D8E14A04F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81" name="Picture 4" descr="each tool ends with some specific references.  Many of the other tools have links to Internet sites and books that will help them.  But, the contents of the toolkit can stand alone.&#13;&#10;"/>
          <p:cNvPicPr/>
          <p:nvPr/>
        </p:nvPicPr>
        <p:blipFill>
          <a:blip r:embed="rId2"/>
          <a:stretch/>
        </p:blipFill>
        <p:spPr>
          <a:xfrm>
            <a:off x="1600200" y="0"/>
            <a:ext cx="5505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9AA-848C-4DBC-AAA7-52CE1DBB902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est Individual Tools</a:t>
            </a:r>
            <a:endParaRPr b="0" lang="en-US" sz="4400" spc="-1" strike="noStrike">
              <a:solidFill>
                <a:srgbClr val="ffff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tool” or “implementation guidance” was tested in 2-4 practi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actices reviewed the tool and attempted implementation on a small sca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viewed feedback by conference call</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ceived feedback from Advisory Boar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9F19-CBB5-4020-85D0-3AB4617F04A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reate Prototype Toolkit</a:t>
            </a:r>
            <a:endParaRPr b="0" lang="en-US" sz="4400" spc="-1" strike="noStrike">
              <a:solidFill>
                <a:srgbClr val="ffff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veloped the framework for the toolkit</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tting Started</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m a team</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sess your practice</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aising awareness in your practice</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ilt in tutorial for Model for Improve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ed examples of practices doing this work</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AC43-5DC2-45F5-8847-719B0E71D59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kit Organization</a:t>
            </a:r>
            <a:endParaRPr b="0" lang="en-US" sz="4400" spc="-1" strike="noStrike">
              <a:solidFill>
                <a:srgbClr val="ffff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 and getting start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sessment of practice</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 Key Changes</a:t>
            </a:r>
            <a:endParaRPr b="0" lang="en-US" sz="28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ffective Oral Communication</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teach back method</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ffective Written Communication</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forms, education materials</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lf-Management and Empowerment</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action plans, encouraging questions</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ortive Systems</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community resources, supportive system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33B6-C7CA-400F-9695-66D9516BC08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Final List of Tools</a:t>
            </a:r>
            <a:endParaRPr b="0" lang="en-US" sz="4000" spc="-1" strike="noStrike">
              <a:solidFill>
                <a:srgbClr val="ffff00"/>
              </a:solidFill>
              <a:latin typeface="Calibri"/>
            </a:endParaRPr>
          </a:p>
        </p:txBody>
      </p:sp>
      <p:sp>
        <p:nvSpPr>
          <p:cNvPr id="93" name="PlaceHolder 2"/>
          <p:cNvSpPr>
            <a:spLocks noGrp="1"/>
          </p:cNvSpPr>
          <p:nvPr>
            <p:ph/>
          </p:nvPr>
        </p:nvSpPr>
        <p:spPr>
          <a:xfrm>
            <a:off x="228240" y="1066680"/>
            <a:ext cx="4267080" cy="54864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etting Started</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ming a team</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ing your practice</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aising awareness</a:t>
            </a:r>
            <a:endParaRPr b="0" lang="en-US" sz="1800" spc="-1" strike="noStrike">
              <a:solidFill>
                <a:srgbClr val="ffffff"/>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ffective Oral Communication</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unicating Clearly with patient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the teach back method</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llowing-up with patient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ing telephone communicatio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the brown bag review</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dressing language difference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Knowing your patients: understanding differences</a:t>
            </a:r>
            <a:endParaRPr b="0" lang="en-US" sz="1800" spc="-1" strike="noStrike">
              <a:solidFill>
                <a:srgbClr val="ffffff"/>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 name="PlaceHolder 3"/>
          <p:cNvSpPr>
            <a:spLocks noGrp="1"/>
          </p:cNvSpPr>
          <p:nvPr>
            <p:ph/>
          </p:nvPr>
        </p:nvSpPr>
        <p:spPr>
          <a:xfrm>
            <a:off x="4648320" y="1066680"/>
            <a:ext cx="4495680" cy="548640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ffective Written Communication</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signing easy to understand form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effective health education </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king your practice easy to navigate</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eating a welcoming front desk</a:t>
            </a:r>
            <a:endParaRPr b="0" lang="en-US" sz="1800" spc="-1" strike="noStrike">
              <a:solidFill>
                <a:srgbClr val="ffffff"/>
              </a:solidFill>
              <a:latin typeface="Calibri"/>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lf-Management and empowerment</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ouraging question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ction plan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ing medication adherence</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btaining patient feedback</a:t>
            </a:r>
            <a:endParaRPr b="0" lang="en-US" sz="1800" spc="-1" strike="noStrike">
              <a:solidFill>
                <a:srgbClr val="ffffff"/>
              </a:solidFill>
              <a:latin typeface="Calibri"/>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pportive systems</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ding support for patient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tting patients the medications they need</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health resources in your community</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Literacy Resources in your community</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2CE9-3E05-45A0-8D98-6F380B0B403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grpSp>
        <p:nvGrpSpPr>
          <p:cNvPr id="96" name=""/>
          <p:cNvGrpSpPr/>
          <p:nvPr/>
        </p:nvGrpSpPr>
        <p:grpSpPr>
          <a:xfrm>
            <a:off x="0" y="0"/>
            <a:ext cx="9383760" cy="7000560"/>
            <a:chOff x="0" y="0"/>
            <a:chExt cx="9383760" cy="7000560"/>
          </a:xfrm>
        </p:grpSpPr>
        <p:pic>
          <p:nvPicPr>
            <p:cNvPr id="97" name="Picture 9" descr=""/>
            <p:cNvPicPr/>
            <p:nvPr/>
          </p:nvPicPr>
          <p:blipFill>
            <a:blip r:embed="rId2"/>
            <a:stretch/>
          </p:blipFill>
          <p:spPr>
            <a:xfrm rot="1026600">
              <a:off x="4876920" y="761760"/>
              <a:ext cx="3733560" cy="5817960"/>
            </a:xfrm>
            <a:prstGeom prst="rect">
              <a:avLst/>
            </a:prstGeom>
            <a:ln w="0">
              <a:noFill/>
            </a:ln>
          </p:spPr>
        </p:pic>
        <p:pic>
          <p:nvPicPr>
            <p:cNvPr id="98" name="Picture 8" descr=""/>
            <p:cNvPicPr/>
            <p:nvPr/>
          </p:nvPicPr>
          <p:blipFill>
            <a:blip r:embed="rId3"/>
            <a:stretch/>
          </p:blipFill>
          <p:spPr>
            <a:xfrm rot="606000">
              <a:off x="2743200" y="304560"/>
              <a:ext cx="3733920" cy="5790960"/>
            </a:xfrm>
            <a:prstGeom prst="rect">
              <a:avLst/>
            </a:prstGeom>
            <a:ln w="0">
              <a:noFill/>
            </a:ln>
          </p:spPr>
        </p:pic>
        <p:pic>
          <p:nvPicPr>
            <p:cNvPr id="99" name="Picture 6" descr=""/>
            <p:cNvPicPr/>
            <p:nvPr/>
          </p:nvPicPr>
          <p:blipFill>
            <a:blip r:embed="rId4"/>
            <a:stretch/>
          </p:blipFill>
          <p:spPr>
            <a:xfrm>
              <a:off x="0" y="0"/>
              <a:ext cx="3722760" cy="5796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F72F-24F4-40B7-96CD-4E803FA6BDF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Feasibility Testing in Process</a:t>
            </a:r>
            <a:endParaRPr b="0" lang="en-US" sz="4400" spc="-1" strike="noStrike">
              <a:solidFill>
                <a:srgbClr val="ffff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 practices (pediatrics, family medicine, internal medici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practice performs an assess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practice chooses 5 tools to try to implement in 3 month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up phone calls to be completed end of September</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AF1A-A2F2-46BB-B493-C63BF8CB0E9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are we learning?</a:t>
            </a:r>
            <a:endParaRPr b="0" lang="en-US" sz="4400" spc="-1" strike="noStrike">
              <a:solidFill>
                <a:srgbClr val="ffff00"/>
              </a:solidFill>
              <a:latin typeface="Calibri"/>
            </a:endParaRPr>
          </a:p>
        </p:txBody>
      </p:sp>
      <p:sp>
        <p:nvSpPr>
          <p:cNvPr id="105"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actices start from very different level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ealth literacy expertis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actice change expertise</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ed to grab the attention of practice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deo help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t entire practice involved (not just clinician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sessment results helpful</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actices want </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real life” example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Quick start guide</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olume of tools is a bit overwhelming</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st be easy to navigate the toolki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8796-72D4-4228-882B-F49CC870C0B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in Process</a:t>
            </a:r>
            <a:endParaRPr b="0" lang="en-US" sz="4400" spc="-1" strike="noStrike">
              <a:solidFill>
                <a:srgbClr val="ffff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iona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totyp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asibility</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B1B9-D070-407D-AF8C-D5948C6835F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onclusion</a:t>
            </a:r>
            <a:endParaRPr b="0" lang="en-US" sz="4400" spc="-1" strike="noStrike">
              <a:solidFill>
                <a:srgbClr val="ffff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ducted a thorough search for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xtaposed toolkit with chronic care model/medical ho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signed from perspective of making incremental chan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whelming for some practi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s close attention and hard work, just like any reliable practice chan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9B75-ABE2-4ECC-92D7-AA23674F04A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Acknowledgements</a:t>
            </a:r>
            <a:endParaRPr b="0" lang="en-US" sz="4400" spc="-1" strike="noStrike">
              <a:solidFill>
                <a:srgbClr val="ffff00"/>
              </a:solidFill>
              <a:latin typeface="Calibri"/>
            </a:endParaRPr>
          </a:p>
        </p:txBody>
      </p:sp>
      <p:sp>
        <p:nvSpPr>
          <p:cNvPr id="111" name="PlaceHolder 2"/>
          <p:cNvSpPr>
            <a:spLocks noGrp="1"/>
          </p:cNvSpPr>
          <p:nvPr>
            <p:ph/>
          </p:nvPr>
        </p:nvSpPr>
        <p:spPr>
          <a:xfrm>
            <a:off x="228240" y="1600200"/>
            <a:ext cx="441972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hors</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arren DeWalt, M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igh Callahan, PhD</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ictoria Hawk, R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Kimberly Broucksou, MSW, MP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shley Hink,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ima Rudd, ScD</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indy Brach, MPP</a:t>
            </a:r>
            <a:endParaRPr b="0" lang="en-US" sz="2000" spc="-1" strike="noStrike">
              <a:solidFill>
                <a:srgbClr val="ffffff"/>
              </a:solidFill>
              <a:latin typeface="Calibri"/>
            </a:endParaRPr>
          </a:p>
        </p:txBody>
      </p:sp>
      <p:sp>
        <p:nvSpPr>
          <p:cNvPr id="112"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dvisory Panel</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Barr, MD, MB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ni Cordell</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il Neilsen, RTR, BSHCA, SAHR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Paasche-Orlow, M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d Wagner, MD, MPH</a:t>
            </a:r>
            <a:endParaRPr b="0" lang="en-US" sz="2000" spc="-1" strike="noStrike">
              <a:solidFill>
                <a:srgbClr val="ffffff"/>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orth Carolina Network Consortium</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B0FA-D9F6-4A27-BFAC-1DA4A492FC0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Rationale</a:t>
            </a:r>
            <a:endParaRPr b="0" lang="en-US" sz="4400" spc="-1" strike="noStrike">
              <a:solidFill>
                <a:srgbClr val="ffff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health literacy is comm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do not have good strategies for knowing who is struggling with health inform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lth literacy universal precautions 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ructuring the delivery of care in the practice as if every patient may have limited health literacy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2132-332C-4A19-9749-02845DEDD6A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cess</a:t>
            </a:r>
            <a:endParaRPr b="0" lang="en-US" sz="4400" spc="-1" strike="noStrike">
              <a:solidFill>
                <a:srgbClr val="ffff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and review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gap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velop plan for toolkit organiz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eate implementation guida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 individual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eate “toolkit” as unified approac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ilot test toolkit in practic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76CF-700D-40CD-8335-79A0D01D811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 identification and review</a:t>
            </a:r>
            <a:endParaRPr b="0" lang="en-US" sz="4400" spc="-1" strike="noStrike">
              <a:solidFill>
                <a:srgbClr val="ffff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arched the internet via Google (health literacy, health communication, health education material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rected inquiries: Advisory Board, Health Literacy List Serve, primary care practices in PBR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ducted conference calls with practices in NC and across the country with a reputation for working on health literacy universal precautions</a:t>
            </a:r>
            <a:endParaRPr b="0" lang="en-US" sz="2800" spc="-1" strike="noStrike">
              <a:solidFill>
                <a:srgbClr val="ffffff"/>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08A6-E775-4653-914B-52063C0BE5C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 Review</a:t>
            </a:r>
            <a:endParaRPr b="0" lang="en-US" sz="4400" spc="-1" strike="noStrike">
              <a:solidFill>
                <a:srgbClr val="ffff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alogued tools</a:t>
            </a:r>
            <a:endParaRPr b="0" lang="en-US" sz="28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aining for clinicians and staff</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ystem changes in practices</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 of educational media</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nections with community organizations</a:t>
            </a:r>
            <a:endParaRPr b="0" lang="en-US" sz="2400" spc="-1" strike="noStrike">
              <a:solidFill>
                <a:srgbClr val="ffffff"/>
              </a:solidFill>
              <a:latin typeface="Calibri"/>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de assessment of how tool could be used in primary care</a:t>
            </a:r>
            <a:endParaRPr b="0" lang="en-US" sz="28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se of use</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cumented experience or research on tool</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mat (book, internet, video, etc)</a:t>
            </a:r>
            <a:endParaRPr b="0" lang="en-US" sz="2400" spc="-1" strike="noStrike">
              <a:solidFill>
                <a:srgbClr val="ffffff"/>
              </a:solidFill>
              <a:latin typeface="Calibri"/>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voided creating a catalog of patient education material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58C8-9D92-473F-912F-02D478048CA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Results</a:t>
            </a:r>
            <a:endParaRPr b="0" lang="en-US" sz="4400" spc="-1" strike="noStrike">
              <a:solidFill>
                <a:srgbClr val="ffff00"/>
              </a:solidFill>
              <a:latin typeface="Calibri"/>
            </a:endParaRPr>
          </a:p>
        </p:txBody>
      </p:sp>
      <p:graphicFrame>
        <p:nvGraphicFramePr>
          <p:cNvPr id="68" name=""/>
          <p:cNvGraphicFramePr/>
          <p:nvPr/>
        </p:nvGraphicFramePr>
        <p:xfrm>
          <a:off x="1219320" y="1371600"/>
          <a:ext cx="6896160" cy="4602240"/>
        </p:xfrm>
        <a:graphic>
          <a:graphicData uri="http://schemas.openxmlformats.org/drawingml/2006/table">
            <a:tbl>
              <a:tblPr/>
              <a:tblGrid>
                <a:gridCol w="2011320"/>
                <a:gridCol w="3417840"/>
                <a:gridCol w="1467000"/>
              </a:tblGrid>
              <a:tr h="3841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Number</a:t>
                      </a:r>
                      <a:endParaRPr b="0" lang="en-US" sz="1800" spc="-1" strike="noStrike">
                        <a:solidFill>
                          <a:srgbClr val="000000"/>
                        </a:solidFill>
                        <a:latin typeface="Arial"/>
                      </a:endParaRPr>
                    </a:p>
                  </a:txBody>
                  <a:tcPr anchor="t" marL="90000" marR="90000">
                    <a:lnL>
                      <a:noFill/>
                    </a:lnL>
                    <a:lnR>
                      <a:noFill/>
                    </a:lnR>
                    <a:lnT w="13680">
                      <a:solidFill>
                        <a:srgbClr val="ffffff"/>
                      </a:solidFill>
                    </a:lnT>
                    <a:lnB w="13680">
                      <a:solidFill>
                        <a:srgbClr val="ffffff"/>
                      </a:solidFill>
                    </a:lnB>
                    <a:noFill/>
                  </a:tcPr>
                </a:tc>
              </a:tr>
              <a:tr h="382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 number of tool candidates identified</a:t>
                      </a:r>
                      <a:endParaRPr b="0" lang="en-US" sz="18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19</a:t>
                      </a:r>
                      <a:endParaRPr b="0" lang="en-US" sz="18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84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 number tool candidates by category*</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1 -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Health literacy train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10</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2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System chang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63</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3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Educational med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79</a:t>
                      </a:r>
                      <a:endParaRPr b="0" lang="en-US" sz="1800" spc="-1" strike="noStrike">
                        <a:solidFill>
                          <a:srgbClr val="000000"/>
                        </a:solidFill>
                        <a:latin typeface="Arial"/>
                      </a:endParaRPr>
                    </a:p>
                  </a:txBody>
                  <a:tcPr anchor="t" marL="90000" marR="90000">
                    <a:lnL>
                      <a:noFill/>
                    </a:lnL>
                    <a:lnR>
                      <a:noFill/>
                    </a:lnR>
                    <a:lnT>
                      <a:noFill/>
                    </a:lnT>
                    <a:lnB>
                      <a:no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4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Community link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8</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5 -</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Other</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82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arget Audience*</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Patien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Providers &amp; Staff</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63</a:t>
                      </a:r>
                      <a:endParaRPr b="0" lang="en-US" sz="1800" spc="-1" strike="noStrike">
                        <a:solidFill>
                          <a:srgbClr val="000000"/>
                        </a:solidFill>
                        <a:latin typeface="Arial"/>
                      </a:endParaRPr>
                    </a:p>
                  </a:txBody>
                  <a:tcPr anchor="t" marL="90000" marR="90000">
                    <a:lnL>
                      <a:noFill/>
                    </a:lnL>
                    <a:lnR>
                      <a:noFill/>
                    </a:lnR>
                    <a:lnT>
                      <a:noFill/>
                    </a:lnT>
                    <a:lnB>
                      <a:no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Other</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4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69" name="Rectangle 898"/>
          <p:cNvSpPr/>
          <p:nvPr/>
        </p:nvSpPr>
        <p:spPr>
          <a:xfrm>
            <a:off x="1295280" y="5866920"/>
            <a:ext cx="7162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Some tools are classified in more than 1 category and target more than one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AA5B-C7F0-4532-A580-795673BB98C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Gaps to Fill</a:t>
            </a:r>
            <a:endParaRPr b="0" lang="en-US" sz="4400" spc="-1" strike="noStrike">
              <a:solidFill>
                <a:srgbClr val="ffff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actice assessment for primary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tools (form templates for practices, patient follow-up procedures, et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lementation guidanc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9009-E2F8-4DB9-B8E2-D6F43BDC8EA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Implementation Guidance</a:t>
            </a:r>
            <a:endParaRPr b="0" lang="en-US" sz="4400" spc="-1" strike="noStrike">
              <a:solidFill>
                <a:srgbClr val="ffff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 we take an idea and get it implemented reliably and sustainably in practi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s for implement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ame in the Model for Improvement (PDS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ow others have done i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ys to track progre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56:14Z</dcterms:created>
  <dc:creator>Darren DeWalt</dc:creator>
  <dc:description/>
  <dc:language>en-US</dc:language>
  <cp:lastModifiedBy>william.hyde</cp:lastModifiedBy>
  <dcterms:modified xsi:type="dcterms:W3CDTF">2009-12-10T21:41:29Z</dcterms:modified>
  <cp:revision>38</cp:revision>
  <dc:subject/>
  <dc:title>Developing a Health Literacy Universal Precautions Toolkit</dc:title>
</cp:coreProperties>
</file>