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2960" y="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608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7240" y="4424400"/>
            <a:ext cx="548352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4700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2960" y="8847000"/>
            <a:ext cx="29736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7605266-4DDA-42DA-8B25-1F499B52E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2960" y="884700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4B1BFA7-4CA8-41FA-99EE-D16ED2E79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27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7240" y="4424400"/>
            <a:ext cx="5483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2960" y="8847000"/>
            <a:ext cx="2973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AD7423E-7D00-4594-9CC3-E234969B8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7240" y="4424400"/>
            <a:ext cx="5483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350-2FC6-40F9-BA43-F65A37EA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426-0795-4DB2-B971-47C5C354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FBD-D29C-4A88-9208-34FC64DA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66A-C88F-4260-95DF-BE63419C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ED8B-69CF-4BBD-B04A-87B41983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6B6B-F3FF-403D-B3AE-245A0A7B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5264-8FBC-40E6-B092-1DC9BE1F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A0F7-85CF-4B30-AD3A-8DF5F77C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C9FA-AEB8-45A0-A07F-EB104902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47920" y="2743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05D7-0A81-4160-9354-9AC96111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D8B5-6A45-4C92-8EE8-A1CCEBCE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8E9-37F0-4E61-9074-B43E6E46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FBAB-9AD6-40A0-8483-225DCF8E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327B-542E-4346-B2D2-1AF2BBCC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BD42-D8D8-4F24-B9B3-F9F3B417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0275-35CD-45ED-B85A-A3205F2D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2771-2333-40B3-8DC1-468204CC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812-4984-46A5-9947-0E022E4B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1C0-8E5B-4F5B-884C-F744672F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FD3-DB74-405D-AAE1-D08C0339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743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D5D-B52E-44F2-BE34-07776DA4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CDE-F830-4A77-B4CB-206D801D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D3F-CD5C-4861-A413-E6096F45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7B3-598B-4889-9CED-31B4C37A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608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em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360C-C39E-4E08-B98B-D21521D32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160" y="6095520"/>
            <a:ext cx="609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788E-21D8-422C-92FB-E8E517A08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2485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76320" y="2590920"/>
            <a:ext cx="2133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608b"/>
                </a:solidFill>
                <a:latin typeface="Arial"/>
              </a:rPr>
              <a:t>7351 Lowry Boulevard, Suite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608b"/>
                </a:solidFill>
                <a:latin typeface="Arial"/>
              </a:rPr>
              <a:t>Denver, CO  802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608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em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BBC4-2E6B-4153-A52C-D1C953C08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90560" y="6094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nnecting Communities: Lessons From Six State Health Information Exchange Demons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hur Davidson, MD, MS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16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y for Healthcare Research and Qu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Co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534520" y="6095880"/>
            <a:ext cx="609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9309-CFD8-42BC-83EC-89CFEF1CE8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n opportunity for several State and Regional Demonstration Projects to talk about their suc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how HIE can impact health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bjectives</a:t>
            </a:r>
            <a:endParaRPr b="0" lang="en-US" sz="3200" spc="-1" strike="noStrike">
              <a:solidFill>
                <a:srgbClr val="2560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8534520" y="6095880"/>
            <a:ext cx="609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0BB0-75BE-4F76-9850-68F42BC745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tate and Regional Demonstration (SRD) Projects</a:t>
            </a:r>
            <a:endParaRPr b="0" lang="en-US" sz="3200" spc="-1" strike="noStrike">
              <a:solidFill>
                <a:srgbClr val="25608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8440" y="2057040"/>
            <a:ext cx="6095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year contrac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M total direct/indirec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to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534520" y="6095880"/>
            <a:ext cx="609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FA01-0E00-4421-984A-F79FB4B787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440" y="21337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reform is still poorly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gree with three basic health reform 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quali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acces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co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cus of sess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at impact have the SRD had on these goals through health information exchange (HI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ntext</a:t>
            </a:r>
            <a:endParaRPr b="0" lang="en-US" sz="3200" spc="-1" strike="noStrike">
              <a:solidFill>
                <a:srgbClr val="2560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8534520" y="6095880"/>
            <a:ext cx="609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B341-D415-427A-A93C-AB710881FD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520" y="20570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4 large healthcare provide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Denver Health, Kaiser Permanente, The Children’s Hospital and University of Colorado Hospit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toward a comprehensiv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wi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ealth information ex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: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aluable patient identity management serv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eMPI) for proper record merging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cross/with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tner instit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HIO i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er/collaborator and technical service provider/bro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Designated Ent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ys major role building quality improvement focus (re: HITECH and meaningful use functional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s CORHIO continues to evolve to a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linical messaging servic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 key demonstration lessons (e.g., usability and data integrity) are being incorporated in newer technology solutions (being solici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aiting for health reform,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RHIO focused o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 sustainability mode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ays to address meaningful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ke progress toward 2 of the 3 goal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mprove quality and reduced cos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CORHIO Impact</a:t>
            </a:r>
            <a:endParaRPr b="0" lang="en-US" sz="3200" spc="-1" strike="noStrike">
              <a:solidFill>
                <a:srgbClr val="2560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534520" y="6095880"/>
            <a:ext cx="609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2F80-5D6D-464A-9C4C-B444726960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5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na Pere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: Delaware Health Information Network (DH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IE plays a role in meaningful u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some success stories of D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ecdotal information about successes DHIN has had improving care and reducing cos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Fri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N: Midsouth eHealth Alliance (MSe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from the Vanderbilt evaluation team working across emergency departments in Memphis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 Overh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N: Indiana Health Information Exchange (IH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improvement performed by Regenstrief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reduction in duplicated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RD Representatives</a:t>
            </a:r>
            <a:endParaRPr b="0" lang="en-US" sz="3200" spc="-1" strike="noStrike">
              <a:solidFill>
                <a:srgbClr val="25608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13:43:45Z</dcterms:created>
  <dc:creator>Davidson</dc:creator>
  <dc:description/>
  <dc:language>en-US</dc:language>
  <cp:lastModifiedBy>Char</cp:lastModifiedBy>
  <dcterms:modified xsi:type="dcterms:W3CDTF">2009-10-27T21:15:20Z</dcterms:modified>
  <cp:revision>45</cp:revision>
  <dc:subject/>
  <dc:title>Connecting Communities: Lessons From Six State Health Information Exchange Demonstarations</dc:title>
</cp:coreProperties>
</file>