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608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7240" y="4424400"/>
            <a:ext cx="548352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4700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2960" y="884700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17BCFFA-F238-4B4B-A4AF-C86A56998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2960" y="884700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74E72A5-DD26-4DC0-95F5-9D8C80904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7240" y="4424400"/>
            <a:ext cx="5483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2960" y="884700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EDD8CCB-6668-4641-9985-D67FB3866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7240" y="4424400"/>
            <a:ext cx="5483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F07-DE14-4D3B-ADF1-02043F81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736-81B4-4178-AFC9-2CAF27DF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220-EEFD-4F10-86D0-E815F7FC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BAA-E706-41BF-8793-38C32CA9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4A78-1E01-4578-8605-CDAC3BFA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7C76-946C-4696-89CC-879C4C17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9C00-B8A0-4681-8B83-1151F6FF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2571-398E-4643-867B-52AD0CE0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A411-6CC2-42CA-B608-40ACCF90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47920" y="2743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15CB-6DED-4520-8C3E-EED2935B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1AC7-42F8-4AA4-87DA-5A85EF1C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9F8-F99B-464C-A01E-908832BA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8F09-0C6C-4998-9E4C-3CAB3FEA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C55A-1D59-4121-ADC4-594D5E40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5E11-44B0-4A6E-A5E7-2795146C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67A7-B73E-4AB5-800B-925E5FB9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155B-A589-4B6B-8145-ADECB563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4FD-44BC-4995-AFC0-9183C4DC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1F9-01CD-4640-A6A2-04E62A8B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494-CFF7-4AA3-BAAB-9417CC5F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743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1CF-8FD6-4F26-8D11-9BF75B1E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016-E729-4329-8D36-75D4D4EC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0BA-9ABF-40F0-94ED-0C774976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CF1-F1EB-42FB-82FE-941DC59B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608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em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DAFD-8CC0-4CAE-ACF5-94CE6C1FC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160" y="6095520"/>
            <a:ext cx="609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B3DA-2ACE-4BD6-A32F-B1EE0AD55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2485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76320" y="2590920"/>
            <a:ext cx="2133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608b"/>
                </a:solidFill>
                <a:latin typeface="Arial"/>
              </a:rPr>
              <a:t>7351 Lowry Boulevard, Suite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608b"/>
                </a:solidFill>
                <a:latin typeface="Arial"/>
              </a:rPr>
              <a:t>Denver, CO  802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608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em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F5F3-CC7C-4764-BA80-EAACD35B8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90560" y="6094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nnecting Communities: Lessons From Six State Health Information Exchange Demons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hur Davidson, MD, MS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16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y for Healthcare Research and Qu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Co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534520" y="6095880"/>
            <a:ext cx="609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0B45-BC70-47AA-80B5-4DDBF00983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n opportunity for several State and Regional Demonstration Projects to talk about their 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how HIE can impact health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bjectives</a:t>
            </a:r>
            <a:endParaRPr b="0" lang="en-US" sz="3200" spc="-1" strike="noStrike">
              <a:solidFill>
                <a:srgbClr val="2560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8534520" y="6095880"/>
            <a:ext cx="609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130B-E9B5-47A9-A739-B72D3BD946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tate and Regional Demonstration (SRD) Projects</a:t>
            </a:r>
            <a:endParaRPr b="0" lang="en-US" sz="32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8440" y="2057040"/>
            <a:ext cx="6095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year contrac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M total direct/indirec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to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534520" y="6095880"/>
            <a:ext cx="609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61FD-697D-45B2-AAA6-BA48C1F44E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440" y="21337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reform is still poorly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gree with three basic health reform 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quali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acces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co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cus of sess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at impact have the SRD had on these goals through health information exchange (HI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ntext</a:t>
            </a:r>
            <a:endParaRPr b="0" lang="en-US" sz="3200" spc="-1" strike="noStrike">
              <a:solidFill>
                <a:srgbClr val="2560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8534520" y="6095880"/>
            <a:ext cx="609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70C4-44EB-405B-AEB2-19537373EF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52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4 large healthcare provide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Denver Health, Kaiser Permanente, The Children’s Hospital and University of Colorado Hospit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toward a comprehensiv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wi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ealth information ex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: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aluable patient identity management serv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eMPI) for proper record merging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cross/with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tner instit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HIO i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er/collaborator and technical service provider/bro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Designated Ent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ys major role building quality improvement focus (re: HITECH and meaningful use functional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s CORHIO continues to evolve to a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linical messaging servic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 key demonstration lessons (e.g., usability and data integrity) are being incorporated in newer technology solutions (being solici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aiting for health reform,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RHIO focused o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 sustainability mode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ays to address meaningfu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ke progress toward 2 of the 3 goal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mprove quality and reduced cos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RHIO Impact</a:t>
            </a:r>
            <a:endParaRPr b="0" lang="en-US" sz="3200" spc="-1" strike="noStrike">
              <a:solidFill>
                <a:srgbClr val="2560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534520" y="6095880"/>
            <a:ext cx="609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875E-1851-465D-BCBB-6D85677139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5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na Per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: Delaware Health Information Network (DH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IE plays a role in meaningful u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some success stories of D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ecdotal information about successes DHIN has had improving care and reducing cos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Fri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N: Midsouth eHealth Alliance (MSe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from the Vanderbilt evaluation team working across emergency departments in Memphis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 Overh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N: Indiana Health Information Exchange (IH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improvement performed by Regenstrief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reduction in duplicated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RD Representatives</a:t>
            </a:r>
            <a:endParaRPr b="0" lang="en-US" sz="3200" spc="-1" strike="noStrike">
              <a:solidFill>
                <a:srgbClr val="2560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13:43:45Z</dcterms:created>
  <dc:creator>Davidson</dc:creator>
  <dc:description/>
  <dc:language>en-US</dc:language>
  <cp:lastModifiedBy>Char</cp:lastModifiedBy>
  <dcterms:modified xsi:type="dcterms:W3CDTF">2009-10-27T21:15:20Z</dcterms:modified>
  <cp:revision>45</cp:revision>
  <dc:subject/>
  <dc:title>Connecting Communities: Lessons From Six State Health Information Exchange Demonstarations</dc:title>
</cp:coreProperties>
</file>