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6012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944880"/>
            <a:ext cx="27021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94488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944880"/>
            <a:ext cx="8393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34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4672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8296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Line 2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8170920" y="6335640"/>
            <a:ext cx="1201680" cy="369720"/>
            <a:chOff x="8170920" y="6335640"/>
            <a:chExt cx="1201680" cy="369720"/>
          </a:xfrm>
        </p:grpSpPr>
        <p:sp>
          <p:nvSpPr>
            <p:cNvPr id="6" name="Freeform 45"/>
            <p:cNvSpPr/>
            <p:nvPr/>
          </p:nvSpPr>
          <p:spPr>
            <a:xfrm>
              <a:off x="8514000" y="6410160"/>
              <a:ext cx="283680" cy="26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8207280" y="6335640"/>
              <a:ext cx="33084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8294400" y="6428520"/>
              <a:ext cx="1188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8267040" y="6471720"/>
              <a:ext cx="122400" cy="3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8170920" y="6630840"/>
              <a:ext cx="1314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790840" y="6410160"/>
              <a:ext cx="2653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9175680" y="6565680"/>
              <a:ext cx="19692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9046440" y="6391800"/>
              <a:ext cx="302040" cy="30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8199360" y="5986440"/>
            <a:ext cx="952560" cy="4460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Picture 61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62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794-3AEC-4A60-B567-2387769D0AD8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7396200" y="380880"/>
            <a:ext cx="1671120" cy="848880"/>
            <a:chOff x="7396200" y="380880"/>
            <a:chExt cx="1671120" cy="848880"/>
          </a:xfrm>
        </p:grpSpPr>
        <p:grpSp>
          <p:nvGrpSpPr>
            <p:cNvPr id="54" name="Group 52"/>
            <p:cNvGrpSpPr/>
            <p:nvPr/>
          </p:nvGrpSpPr>
          <p:grpSpPr>
            <a:xfrm>
              <a:off x="7402680" y="393480"/>
              <a:ext cx="1664640" cy="836280"/>
              <a:chOff x="7402680" y="393480"/>
              <a:chExt cx="1664640" cy="83628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7562160" y="393480"/>
                <a:ext cx="1319400" cy="6170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7877520" y="820440"/>
                <a:ext cx="393480" cy="3736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7453800" y="717480"/>
                <a:ext cx="457920" cy="4766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7574040" y="846360"/>
                <a:ext cx="164160" cy="334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7535160" y="906120"/>
                <a:ext cx="170280" cy="464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7402680" y="1126800"/>
                <a:ext cx="182160" cy="7236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8262000" y="820440"/>
                <a:ext cx="367920" cy="3769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8794440" y="1036440"/>
                <a:ext cx="272880" cy="1933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8614800" y="794520"/>
                <a:ext cx="419040" cy="4237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7552440" y="380880"/>
              <a:ext cx="1318680" cy="61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7396200" y="695520"/>
              <a:ext cx="1665000" cy="511200"/>
              <a:chOff x="7396200" y="695520"/>
              <a:chExt cx="1665000" cy="51120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7871760" y="798480"/>
                <a:ext cx="393120" cy="3722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7446600" y="695520"/>
                <a:ext cx="458280" cy="475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7567560" y="824040"/>
                <a:ext cx="164520" cy="3348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7529400" y="883440"/>
                <a:ext cx="169560" cy="471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7396200" y="1103400"/>
                <a:ext cx="182160" cy="723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8255520" y="798480"/>
                <a:ext cx="367560" cy="3758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8788320" y="1013760"/>
                <a:ext cx="272880" cy="1929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8609400" y="773280"/>
                <a:ext cx="418320" cy="42156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4095720"/>
            <a:ext cx="8386560" cy="19080"/>
            <a:chOff x="0" y="4095720"/>
            <a:chExt cx="8386560" cy="19080"/>
          </a:xfrm>
        </p:grpSpPr>
        <p:sp>
          <p:nvSpPr>
            <p:cNvPr id="75" name="Line 73"/>
            <p:cNvSpPr/>
            <p:nvPr/>
          </p:nvSpPr>
          <p:spPr>
            <a:xfrm>
              <a:off x="5760" y="411480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409572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" name="Picture 80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56520" indent="-3884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34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74672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82960" indent="-2239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82960" indent="-223920"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so.ahrq.gov/index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ProviderNotification@ahrq.hhs.go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soppc.org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qualityforum.org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o.ahrq.gov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so.ahrq.gov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ing Safety and Quality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pporting Patient Safety Organizations and Reducing Risks to Pati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B. Munier, MD, M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 Helwig, MD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e Cousins, 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enter for Quality Improvement and Patient Safet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ptember 14 &amp; 16 AHRQ Annual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NewLogo_PSO"/>
          <p:cNvPicPr/>
          <p:nvPr/>
        </p:nvPicPr>
        <p:blipFill>
          <a:blip r:embed="rId1"/>
          <a:stretch/>
        </p:blipFill>
        <p:spPr>
          <a:xfrm>
            <a:off x="396252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Statu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504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ause of provisions in the statute, reflected in the final rule, PSOs develop spontaneously; no master plan can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are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r participation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 matter covered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to the NPSD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conditions limit what AHRQ can expect in terms of PSO coverage &amp; utility of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Can be a PSO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938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igible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ublic or private entity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for-profit or not-for-profit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938"/>
              </a:spcBef>
              <a:spcAft>
                <a:spcPts val="938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eligible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surance issuers or their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rediting &amp; licensing 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that regulate providers, including their agents (e.g., QI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public repor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4920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Becoming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ies seeking listing must complete a “Certification for Initial Listing”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AHRQ’s PSO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0"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/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: a simple process of atte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 with requirements ensured by spot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ies subject to penalties for false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ing: for 3-year renewable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ing: no Federal funding from AHRQ, but technical assistance without 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00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 Choice of PSO: voluntary, marketplac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NewLogo_PSO"/>
          <p:cNvPicPr/>
          <p:nvPr/>
        </p:nvPicPr>
        <p:blipFill>
          <a:blip r:embed="rId2"/>
          <a:stretch/>
        </p:blipFill>
        <p:spPr>
          <a:xfrm>
            <a:off x="83059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of the First PS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UHC Clinical Practice Advancement Cent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CRI Institute PS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lorida Patient Safety Corpor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stitute for Safe Medication Practices (ISMP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Kentucky Institute for Patient Safety and Qual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alifornia Hospital Patient Safety Organiz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spcBef>
                <a:spcPts val="726"/>
              </a:spcBef>
              <a:spcAft>
                <a:spcPts val="726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remier Patient Safety Organiz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ct, analyze patient safety (PS)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st providers to improve quality &amp; safe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&amp; disseminate PS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courage culture of safety &amp; minimize patient r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feedback to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tain confidentiality &amp; security of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Concer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 to other reporting requir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stat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C’s NHSN for healthcare-associated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A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ire for one-time reporting &amp; the elusive “interoperabilit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Concer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inherent in patient safety repor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ven detection /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ed populations: denomin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cultures / styles of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efinitions, scope,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with PSO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discrete geograph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, spontaneo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4520" y="41904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Providers Benefi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Working With A PSO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uniform Federal confidentiality &amp; privilege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protection for analysis beyond the initial report (e.g., root cause analy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vider’s patient safety evaluation system or the PSO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learning within the provider’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 from ag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O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O to PSO analysis &amp;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Questions Provider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ould Ask A PSO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the PSO specialize or limit to a specific content area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ic specialization (e.g., medical devices, medications, pediatric anesthesia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ical foc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types of analysis &amp; service does the PSO provide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the PSO use consultants or services of another PSO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 be consulted before the PSO shares my patient safety data with external consultan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Questions Provider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uld Ask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ll the PSO help me set up a patient safety evaluation system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ill my patient safety work product be protected at the PSO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 the PSO work with the NPSD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 Safety A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Oper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Notification of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 Change in Stat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HRQ has established a process to notify health care providers when the status of a listed PSO changes (e.g., delist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request notification about a change in status of a specific PSO, please send an e-mail to </a:t>
            </a:r>
            <a:r>
              <a:rPr b="0" lang="en-US" sz="3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ProviderNotification@ahrq.hhs.g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the PSO(s) about which you would like to be no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8560" y="2895120"/>
            <a:ext cx="77882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mon Format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11"/>
          <p:cNvSpPr/>
          <p:nvPr/>
        </p:nvSpPr>
        <p:spPr>
          <a:xfrm>
            <a:off x="479520" y="5181480"/>
            <a:ext cx="1520640" cy="914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S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49200"/>
            <a:ext cx="8204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ata Flow: Provider to PSO to NPSD to User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 flipV="1" rot="1794600">
            <a:off x="1892160" y="3467520"/>
            <a:ext cx="889200" cy="87480"/>
          </a:xfrm>
          <a:prstGeom prst="leftRightArrow">
            <a:avLst>
              <a:gd name="adj1" fmla="val 50000"/>
              <a:gd name="adj2" fmla="val 20235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15"/>
          <p:cNvSpPr/>
          <p:nvPr/>
        </p:nvSpPr>
        <p:spPr>
          <a:xfrm rot="15454800">
            <a:off x="485640" y="2400120"/>
            <a:ext cx="455760" cy="74520"/>
          </a:xfrm>
          <a:prstGeom prst="leftRightArrow">
            <a:avLst>
              <a:gd name="adj1" fmla="val 50000"/>
              <a:gd name="adj2" fmla="val 1217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16"/>
          <p:cNvSpPr/>
          <p:nvPr/>
        </p:nvSpPr>
        <p:spPr>
          <a:xfrm flipV="1">
            <a:off x="2057400" y="419040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7"/>
          <p:cNvSpPr/>
          <p:nvPr/>
        </p:nvSpPr>
        <p:spPr>
          <a:xfrm flipV="1" rot="19030800">
            <a:off x="1981080" y="4952520"/>
            <a:ext cx="1041480" cy="87480"/>
          </a:xfrm>
          <a:prstGeom prst="leftRightArrow">
            <a:avLst>
              <a:gd name="adj1" fmla="val 50000"/>
              <a:gd name="adj2" fmla="val 2370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3962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5257800" y="5029200"/>
            <a:ext cx="685800" cy="609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20"/>
          <p:cNvSpPr/>
          <p:nvPr/>
        </p:nvSpPr>
        <p:spPr>
          <a:xfrm rot="19494600">
            <a:off x="6553080" y="2971800"/>
            <a:ext cx="1052640" cy="76320"/>
          </a:xfrm>
          <a:prstGeom prst="rightArrow">
            <a:avLst>
              <a:gd name="adj1" fmla="val 50000"/>
              <a:gd name="adj2" fmla="val 34481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21"/>
          <p:cNvSpPr/>
          <p:nvPr/>
        </p:nvSpPr>
        <p:spPr>
          <a:xfrm flipV="1" rot="20989200">
            <a:off x="6705360" y="3657240"/>
            <a:ext cx="747720" cy="76320"/>
          </a:xfrm>
          <a:prstGeom prst="rightArrow">
            <a:avLst>
              <a:gd name="adj1" fmla="val 50000"/>
              <a:gd name="adj2" fmla="val 2449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22"/>
          <p:cNvSpPr/>
          <p:nvPr/>
        </p:nvSpPr>
        <p:spPr>
          <a:xfrm flipV="1" rot="1350600">
            <a:off x="6705720" y="4342320"/>
            <a:ext cx="747720" cy="76320"/>
          </a:xfrm>
          <a:prstGeom prst="rightArrow">
            <a:avLst>
              <a:gd name="adj1" fmla="val 50000"/>
              <a:gd name="adj2" fmla="val 2449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23"/>
          <p:cNvSpPr/>
          <p:nvPr/>
        </p:nvSpPr>
        <p:spPr>
          <a:xfrm rot="2560200">
            <a:off x="6400800" y="4952520"/>
            <a:ext cx="1052640" cy="76320"/>
          </a:xfrm>
          <a:prstGeom prst="rightArrow">
            <a:avLst>
              <a:gd name="adj1" fmla="val 50000"/>
              <a:gd name="adj2" fmla="val 34481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2280" y="1600200"/>
            <a:ext cx="9075960" cy="4800600"/>
            <a:chOff x="152280" y="1600200"/>
            <a:chExt cx="9075960" cy="4800600"/>
          </a:xfrm>
        </p:grpSpPr>
        <p:sp>
          <p:nvSpPr>
            <p:cNvPr id="176" name="Rectangle 2"/>
            <p:cNvSpPr/>
            <p:nvPr/>
          </p:nvSpPr>
          <p:spPr>
            <a:xfrm>
              <a:off x="2879640" y="3505320"/>
              <a:ext cx="960480" cy="9144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PC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3"/>
            <p:cNvSpPr/>
            <p:nvPr/>
          </p:nvSpPr>
          <p:spPr>
            <a:xfrm>
              <a:off x="457200" y="2590920"/>
              <a:ext cx="1519200" cy="9144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S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479520" y="3886200"/>
              <a:ext cx="1520640" cy="9144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</a:rPr>
                <a:t>PS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5040360" y="3505320"/>
              <a:ext cx="1600200" cy="914400"/>
            </a:xfrm>
            <a:prstGeom prst="rect">
              <a:avLst/>
            </a:prstGeom>
            <a:solidFill>
              <a:srgbClr val="97ed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Times New Roman"/>
                </a:rPr>
                <a:t>NPS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6"/>
            <p:cNvSpPr/>
            <p:nvPr/>
          </p:nvSpPr>
          <p:spPr>
            <a:xfrm>
              <a:off x="3657600" y="5410080"/>
              <a:ext cx="1508040" cy="9907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Othe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Qualified 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ource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7467480" y="1752480"/>
              <a:ext cx="1760760" cy="76212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HRQ National 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Quality Report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7467480" y="5257800"/>
              <a:ext cx="1758960" cy="76212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archers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7467480" y="2971800"/>
              <a:ext cx="1758960" cy="762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O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7467480" y="4114800"/>
              <a:ext cx="1758960" cy="7621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er: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AutoShape 13"/>
            <p:cNvSpPr/>
            <p:nvPr/>
          </p:nvSpPr>
          <p:spPr>
            <a:xfrm>
              <a:off x="152280" y="1600200"/>
              <a:ext cx="80496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>
              <a:off x="990720" y="1600200"/>
              <a:ext cx="80460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AutoShape 25"/>
            <p:cNvSpPr/>
            <p:nvPr/>
          </p:nvSpPr>
          <p:spPr>
            <a:xfrm>
              <a:off x="1828800" y="1600200"/>
              <a:ext cx="804960" cy="60948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AutoShape 26"/>
          <p:cNvSpPr/>
          <p:nvPr/>
        </p:nvSpPr>
        <p:spPr>
          <a:xfrm rot="16440600">
            <a:off x="1142640" y="2361600"/>
            <a:ext cx="379440" cy="74880"/>
          </a:xfrm>
          <a:prstGeom prst="leftRightArrow">
            <a:avLst>
              <a:gd name="adj1" fmla="val 50000"/>
              <a:gd name="adj2" fmla="val 10087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27"/>
          <p:cNvSpPr/>
          <p:nvPr/>
        </p:nvSpPr>
        <p:spPr>
          <a:xfrm rot="18396600">
            <a:off x="1652400" y="2430360"/>
            <a:ext cx="533520" cy="75960"/>
          </a:xfrm>
          <a:prstGeom prst="leftRightArrow">
            <a:avLst>
              <a:gd name="adj1" fmla="val 50000"/>
              <a:gd name="adj2" fmla="val 13982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8" descr="NewLogo_PSO"/>
          <p:cNvPicPr/>
          <p:nvPr/>
        </p:nvPicPr>
        <p:blipFill>
          <a:blip r:embed="rId1"/>
          <a:stretch/>
        </p:blipFill>
        <p:spPr>
          <a:xfrm>
            <a:off x="1066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9" descr="NewLogo_PSO"/>
          <p:cNvPicPr/>
          <p:nvPr/>
        </p:nvPicPr>
        <p:blipFill>
          <a:blip r:embed="rId2"/>
          <a:stretch/>
        </p:blipFill>
        <p:spPr>
          <a:xfrm>
            <a:off x="10666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NewLogo_PSO"/>
          <p:cNvPicPr/>
          <p:nvPr/>
        </p:nvPicPr>
        <p:blipFill>
          <a:blip r:embed="rId3"/>
          <a:stretch/>
        </p:blipFill>
        <p:spPr>
          <a:xfrm>
            <a:off x="10666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31"/>
          <p:cNvSpPr/>
          <p:nvPr/>
        </p:nvSpPr>
        <p:spPr>
          <a:xfrm rot="15992400">
            <a:off x="1066680" y="3657600"/>
            <a:ext cx="379440" cy="74520"/>
          </a:xfrm>
          <a:prstGeom prst="leftRightArrow">
            <a:avLst>
              <a:gd name="adj1" fmla="val 50000"/>
              <a:gd name="adj2" fmla="val 10136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&amp; providers analyze patient safety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are required to collect information that allows comparison of “similar events among similar provid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” have been made available by AHRQ, acting for the Secretary of HHS, to assist PSOs to meet this requ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recertification, PSOs will be required to state how they meet the requir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6066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the patient safety event information col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language &amp;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zed rules for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regional, &amp; nationa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exchange of information,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NewCommonFormats image"/>
          <p:cNvPicPr/>
          <p:nvPr/>
        </p:nvPicPr>
        <p:blipFill>
          <a:blip r:embed="rId1"/>
          <a:stretch/>
        </p:blipFill>
        <p:spPr>
          <a:xfrm>
            <a:off x="6705720" y="2162160"/>
            <a:ext cx="266688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 driven by envisioned 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use at point-of-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451"/>
              </a:spcBef>
              <a:spcAft>
                <a:spcPts val="45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l up to PSO, regional, national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d on evidence; scientifically suppor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actical, intuitive, &amp; usef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 short &amp; simple as possi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mit controlled expansion / re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561"/>
              </a:spcBef>
              <a:spcAft>
                <a:spcPts val="56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orm, where possible, with accepted wisdom (e.g., CDC for HAIs, WHO-ICP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amework and Sco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 initial scope to safety: preventing harm to patients from the delivery of health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for specific delivery settings; begin with hospit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 with first phase of improvement cycle – the initial re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truct in mod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 Sco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 Formats apply to all patient safety conc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ts – patient safety events that reached the patient, whether or not there was h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r misses (or close calls) – patient safety events that did not reach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afe conditions – any circumstance that increases the probability of a patient safety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352080"/>
            <a:ext cx="815328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206" name="AutoShape 6"/>
          <p:cNvCxnSpPr>
            <a:stCxn id="207" idx="2"/>
            <a:endCxn id="208" idx="0"/>
          </p:cNvCxnSpPr>
          <p:nvPr/>
        </p:nvCxnSpPr>
        <p:spPr>
          <a:xfrm>
            <a:off x="4920840" y="2752560"/>
            <a:ext cx="2823480" cy="705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AutoShape 12"/>
          <p:cNvCxnSpPr/>
          <p:nvPr/>
        </p:nvCxnSpPr>
        <p:spPr>
          <a:xfrm flipH="1">
            <a:off x="4876200" y="2743200"/>
            <a:ext cx="76680" cy="1991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AutoShape 13"/>
          <p:cNvCxnSpPr>
            <a:stCxn id="207" idx="2"/>
            <a:endCxn id="211" idx="0"/>
          </p:cNvCxnSpPr>
          <p:nvPr/>
        </p:nvCxnSpPr>
        <p:spPr>
          <a:xfrm flipH="1">
            <a:off x="1585080" y="2752560"/>
            <a:ext cx="3336120" cy="696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2" name=""/>
          <p:cNvGrpSpPr/>
          <p:nvPr/>
        </p:nvGrpSpPr>
        <p:grpSpPr>
          <a:xfrm>
            <a:off x="560520" y="1000080"/>
            <a:ext cx="8354160" cy="5628600"/>
            <a:chOff x="560520" y="1000080"/>
            <a:chExt cx="8354160" cy="5628600"/>
          </a:xfrm>
        </p:grpSpPr>
        <p:grpSp>
          <p:nvGrpSpPr>
            <p:cNvPr id="213" name="Group 3"/>
            <p:cNvGrpSpPr/>
            <p:nvPr/>
          </p:nvGrpSpPr>
          <p:grpSpPr>
            <a:xfrm>
              <a:off x="6800760" y="3457440"/>
              <a:ext cx="2113920" cy="1571400"/>
              <a:chOff x="6800760" y="3457440"/>
              <a:chExt cx="2113920" cy="1571400"/>
            </a:xfrm>
          </p:grpSpPr>
          <p:sp>
            <p:nvSpPr>
              <p:cNvPr id="214" name="Rectangle 4"/>
              <p:cNvSpPr/>
              <p:nvPr/>
            </p:nvSpPr>
            <p:spPr>
              <a:xfrm>
                <a:off x="7028280" y="3624120"/>
                <a:ext cx="1886400" cy="14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5"/>
              <p:cNvSpPr/>
              <p:nvPr/>
            </p:nvSpPr>
            <p:spPr>
              <a:xfrm>
                <a:off x="6800760" y="3457440"/>
                <a:ext cx="1886040" cy="14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Summary of Initial Report (SIR)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Assessment of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preventability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Final narrative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Contributing factor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ncoding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7"/>
            <p:cNvGrpSpPr/>
            <p:nvPr/>
          </p:nvGrpSpPr>
          <p:grpSpPr>
            <a:xfrm>
              <a:off x="4000680" y="4734000"/>
              <a:ext cx="2218680" cy="1894680"/>
              <a:chOff x="4000680" y="4734000"/>
              <a:chExt cx="2218680" cy="1894680"/>
            </a:xfrm>
          </p:grpSpPr>
          <p:sp>
            <p:nvSpPr>
              <p:cNvPr id="216" name="Rectangle 8"/>
              <p:cNvSpPr/>
              <p:nvPr/>
            </p:nvSpPr>
            <p:spPr>
              <a:xfrm>
                <a:off x="4565160" y="5230800"/>
                <a:ext cx="1654200" cy="139788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9"/>
              <p:cNvSpPr/>
              <p:nvPr/>
            </p:nvSpPr>
            <p:spPr>
              <a:xfrm>
                <a:off x="4365360" y="5064840"/>
                <a:ext cx="1654200" cy="139788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10"/>
              <p:cNvSpPr/>
              <p:nvPr/>
            </p:nvSpPr>
            <p:spPr>
              <a:xfrm>
                <a:off x="4164840" y="4899240"/>
                <a:ext cx="1654560" cy="13978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11"/>
              <p:cNvSpPr/>
              <p:nvPr/>
            </p:nvSpPr>
            <p:spPr>
              <a:xfrm>
                <a:off x="4000680" y="4734000"/>
                <a:ext cx="1654200" cy="139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Event-specific forms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ight types of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events, e.g.,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Fall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HAI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Medication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14"/>
            <p:cNvGrpSpPr/>
            <p:nvPr/>
          </p:nvGrpSpPr>
          <p:grpSpPr>
            <a:xfrm>
              <a:off x="560520" y="3448080"/>
              <a:ext cx="2763360" cy="1590480"/>
              <a:chOff x="560520" y="3448080"/>
              <a:chExt cx="2763360" cy="1590480"/>
            </a:xfrm>
          </p:grpSpPr>
          <p:sp>
            <p:nvSpPr>
              <p:cNvPr id="221" name="Rectangle 15"/>
              <p:cNvSpPr/>
              <p:nvPr/>
            </p:nvSpPr>
            <p:spPr>
              <a:xfrm>
                <a:off x="1273320" y="3752640"/>
                <a:ext cx="20505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916560" y="3600360"/>
                <a:ext cx="20509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17"/>
              <p:cNvSpPr/>
              <p:nvPr/>
            </p:nvSpPr>
            <p:spPr>
              <a:xfrm>
                <a:off x="560520" y="3448080"/>
                <a:ext cx="20505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400" spc="-1" strike="noStrike">
                    <a:solidFill>
                      <a:srgbClr val="00279f"/>
                    </a:solidFill>
                    <a:latin typeface="Arial"/>
                  </a:rPr>
                  <a:t>Patient information Form (PIF)</a:t>
                </a: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Demographic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Harm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100" spc="-1" strike="noStrike">
                    <a:solidFill>
                      <a:srgbClr val="00279f"/>
                    </a:solidFill>
                    <a:latin typeface="Arial"/>
                  </a:rPr>
                  <a:t>Interventions</a:t>
                </a:r>
                <a:endParaRPr b="1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" name="Group 18"/>
              <p:cNvGrpSpPr/>
              <p:nvPr/>
            </p:nvGrpSpPr>
            <p:grpSpPr>
              <a:xfrm>
                <a:off x="2942640" y="3757680"/>
                <a:ext cx="352080" cy="246240"/>
                <a:chOff x="2942640" y="3757680"/>
                <a:chExt cx="352080" cy="246240"/>
              </a:xfrm>
            </p:grpSpPr>
            <p:sp>
              <p:nvSpPr>
                <p:cNvPr id="224" name="Oval 19"/>
                <p:cNvSpPr/>
                <p:nvPr/>
              </p:nvSpPr>
              <p:spPr>
                <a:xfrm>
                  <a:off x="2998440" y="379080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Text Box 20"/>
                <p:cNvSpPr/>
                <p:nvPr/>
              </p:nvSpPr>
              <p:spPr>
                <a:xfrm>
                  <a:off x="2942640" y="375768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21"/>
              <p:cNvGrpSpPr/>
              <p:nvPr/>
            </p:nvGrpSpPr>
            <p:grpSpPr>
              <a:xfrm>
                <a:off x="2219400" y="3452760"/>
                <a:ext cx="352080" cy="246240"/>
                <a:chOff x="2219400" y="3452760"/>
                <a:chExt cx="352080" cy="246240"/>
              </a:xfrm>
            </p:grpSpPr>
            <p:sp>
              <p:nvSpPr>
                <p:cNvPr id="227" name="Oval 22"/>
                <p:cNvSpPr/>
                <p:nvPr/>
              </p:nvSpPr>
              <p:spPr>
                <a:xfrm>
                  <a:off x="2275200" y="348588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Text Box 23"/>
                <p:cNvSpPr/>
                <p:nvPr/>
              </p:nvSpPr>
              <p:spPr>
                <a:xfrm>
                  <a:off x="2219400" y="345276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24"/>
              <p:cNvGrpSpPr/>
              <p:nvPr/>
            </p:nvGrpSpPr>
            <p:grpSpPr>
              <a:xfrm>
                <a:off x="2580840" y="3605040"/>
                <a:ext cx="352080" cy="246240"/>
                <a:chOff x="2580840" y="3605040"/>
                <a:chExt cx="352080" cy="246240"/>
              </a:xfrm>
            </p:grpSpPr>
            <p:sp>
              <p:nvSpPr>
                <p:cNvPr id="230" name="Oval 25"/>
                <p:cNvSpPr/>
                <p:nvPr/>
              </p:nvSpPr>
              <p:spPr>
                <a:xfrm>
                  <a:off x="2636640" y="3638160"/>
                  <a:ext cx="2962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Text Box 26"/>
                <p:cNvSpPr/>
                <p:nvPr/>
              </p:nvSpPr>
              <p:spPr>
                <a:xfrm>
                  <a:off x="2580840" y="360504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1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" name="Rectangle 27"/>
            <p:cNvSpPr/>
            <p:nvPr/>
          </p:nvSpPr>
          <p:spPr>
            <a:xfrm>
              <a:off x="3679920" y="1000080"/>
              <a:ext cx="248112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spcAft>
                  <a:spcPts val="88"/>
                </a:spcAft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Healthcare Event Reporting Form (HERF)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Identity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Date, Time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Location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Reporter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Narrative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Link to other forms</a:t>
              </a:r>
              <a:endParaRPr b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vising and Ref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0.1 Beta released August 2008 (prior to listing of first P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Quality Forum (NQF) process established to solicit comments &amp; provide ad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900 comments received by NQ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QF Expert Panel analyzed comments, provided advice to AHRQ during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revised &amp; refined Common Formats based upon advice from NQF &amp; DHHS agencies; Version 1.0 released on September 2,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0400" y="457200"/>
            <a:ext cx="7261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20600" y="1676520"/>
            <a:ext cx="71118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s “Patient Safety Organizations” (P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“Network of Patient Safety Databases” (NP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establishment of “Common Formats” for reporting patient safety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8400" indent="-3567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reporting of findings annually in AHRQ’s National Health Quality / Disparities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picture of the congressional building"/>
          <p:cNvPicPr/>
          <p:nvPr/>
        </p:nvPicPr>
        <p:blipFill>
          <a:blip r:embed="rId1"/>
          <a:stretch/>
        </p:blipFill>
        <p:spPr>
          <a:xfrm>
            <a:off x="-554040" y="1600200"/>
            <a:ext cx="45608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inement of 0.1 Beta based upon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14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Descriptions added to clarify content &amp; enable consistent approach to future re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simp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stream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element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ing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tion of Serious Reportabl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now at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ppc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Descrip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per forms to allow immediate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sers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Gui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population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4876920" y="2819520"/>
            <a:ext cx="685800" cy="609480"/>
          </a:xfrm>
          <a:custGeom>
            <a:avLst/>
            <a:gdLst>
              <a:gd name="textAreaLeft" fmla="*/ 156600 w 685800"/>
              <a:gd name="textAreaRight" fmla="*/ 529200 w 685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962520" y="42670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 Highligh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lines the precise information to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es the information desired for a particular even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, Scope, Risk Assessment / Preventive Actions, &amp; Circum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easy location of content &amp; comparison across different event specific categ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s the comment process for consideration of content for future ver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multiple types of Common Formats implem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4343400" y="1523880"/>
            <a:ext cx="685800" cy="685800"/>
          </a:xfrm>
          <a:custGeom>
            <a:avLst/>
            <a:gdLst>
              <a:gd name="textAreaLeft" fmla="*/ 156600 w 685800"/>
              <a:gd name="textAreaRight" fmla="*/ 529200 w 68580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ghlights of Cha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ent Specific Catego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lood or Blood Produ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ice or Medical / Surgical Supp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lthcare-Associated Inf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tion or Other Sub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ina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ure Ulc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gery or Anesthes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1.0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pport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rs Guid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background information &amp; guidance on use of paper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ick Gu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directions for completing the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al demonstration of module assembly for complet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edback Process fo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 Evolution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HRQ seeing feedback to refine 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ational Quality Foru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tool to gather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qualityforum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t panel to provide ad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s will be a continuing one, guiding periodic updates of the Common Forma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0504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xt Step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4846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list new PS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technical assi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ld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nual Meeting of PS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eduled for September 16-18, 2009 Rockville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PSO logo"/>
          <p:cNvPicPr/>
          <p:nvPr/>
        </p:nvPicPr>
        <p:blipFill>
          <a:blip r:embed="rId1"/>
          <a:stretch/>
        </p:blipFill>
        <p:spPr>
          <a:xfrm>
            <a:off x="6172200" y="20574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4846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ion 1.0 technical specif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expansion to other settings (e.g., long term c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extension to other improvement cycle phases (e.g., root cause analysi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ing NQF assi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NewCommonFormats"/>
          <p:cNvPicPr/>
          <p:nvPr/>
        </p:nvPicPr>
        <p:blipFill>
          <a:blip r:embed="rId1"/>
          <a:stretch/>
        </p:blipFill>
        <p:spPr>
          <a:xfrm>
            <a:off x="6172200" y="20574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orting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rst-level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pulation reports; can be used at local, PSO, regional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-level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aggrega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33876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hoc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safety experts, resear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atient Safety 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ims to improve safety by address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malpractice li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dequate protection by stat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aggregate data on a large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ends AHRQ’s enabling legisl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dministers th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for Civil Rights handles enfor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is volu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6222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PSD: 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ormation will be submitted using the Common Formats (PSOs &amp; other sourc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identifiable PSWP scheduled to be accepted in 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ings from NPSD will be published in AHRQ’s annual National Healthcare Quality &amp; Disparities Rep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npsd_logo_horiz_rgb"/>
          <p:cNvPicPr/>
          <p:nvPr/>
        </p:nvPicPr>
        <p:blipFill>
          <a:blip r:embed="rId1"/>
          <a:stretch/>
        </p:blipFill>
        <p:spPr>
          <a:xfrm>
            <a:off x="7467480" y="152280"/>
            <a:ext cx="1905120" cy="10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Fu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experience to date, Common Formats are likely to be widely adopted in the US (&amp; in some other count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to improve Formats will ensure that they are cutting-edge &amp; provide both clinical &amp; electronic 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01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H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601"/>
              </a:spcBef>
              <a:spcAft>
                <a:spcPts val="3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repor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ggregation, analysis, &amp; learning will be markedly accelerated, potentiating ability to make &amp; measure progress in reducing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lear parallel exists between AHRQ’s patient safety activities &amp; those that characterize PSOs’ long-term relationships with their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risks &amp; haz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, test new safe practices / create new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 safe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080" indent="-3805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vigil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6880320" y="6245280"/>
            <a:ext cx="224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ndings will be analyzed at PSO &amp; Network of Patient Safety Databases levels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patient safety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research in neede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 will be disseminated &amp; implemented actively through the PSO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data can contribute significantly to understanding the nature of risks &amp; successful risk-reduction strate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’t support establishment of rates, true benchmarking, or tr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experience gained from providers &amp; PSOs is interoperable &amp; can be gen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&amp; their providers can enhance the culture of safety, accelerate learning, &amp; support safer, higher quality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illustration of microphone"/>
          <p:cNvPicPr/>
          <p:nvPr/>
        </p:nvPicPr>
        <p:blipFill>
          <a:blip r:embed="rId1"/>
          <a:stretch/>
        </p:blipFill>
        <p:spPr>
          <a:xfrm>
            <a:off x="2743200" y="2608200"/>
            <a:ext cx="2819520" cy="2565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our question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ignment with AHRQ’s Vi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PSO program is integrated with other AHRQ responsi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 operations align with the spectrum of AHRQ’s patient safety / quality improvement research, tools, &amp; initiative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SOs represent a unique opportunity for both “real world” input into AHRQ’s work &amp; a potentially significant “effector” arm for AHRQ’s tools, training programs, &amp; research find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00160" y="2895480"/>
            <a:ext cx="568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</a:rPr>
              <a:t>PSO Operation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sting PS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4040" y="1676160"/>
            <a:ext cx="4079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HRQ began listing PSOs under Interim Guidance - Oct 20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al rule published in the Nov 2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2008 Federal Register; effective Jan 1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8 PSOs “listed” by AHRQ as of Sept 16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 complete list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Politics and Medicine"/>
          <p:cNvPicPr/>
          <p:nvPr/>
        </p:nvPicPr>
        <p:blipFill>
          <a:blip r:embed="rId2"/>
          <a:stretch/>
        </p:blipFill>
        <p:spPr>
          <a:xfrm>
            <a:off x="5486400" y="1752480"/>
            <a:ext cx="2743200" cy="19306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32" name="Picture 5" descr="Patient Safety Organization Logo"/>
          <p:cNvPicPr/>
          <p:nvPr/>
        </p:nvPicPr>
        <p:blipFill>
          <a:blip r:embed="rId3"/>
          <a:stretch/>
        </p:blipFill>
        <p:spPr>
          <a:xfrm>
            <a:off x="6019920" y="4267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s in 26 States and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ct of Columbi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usmap of 66 PSOs"/>
          <p:cNvPicPr/>
          <p:nvPr/>
        </p:nvPicPr>
        <p:blipFill>
          <a:blip r:embed="rId1"/>
          <a:stretch/>
        </p:blipFill>
        <p:spPr>
          <a:xfrm>
            <a:off x="1523880" y="1371600"/>
            <a:ext cx="64008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905120" y="224784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am Interest is Hig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arly 22,000 subscribers to AHRQ’s PSO Listser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,500 + visits to the AHRQ PSO Web site on average each mo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5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5000"/>
              </a:lnSpc>
              <a:spcBef>
                <a:spcPts val="7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illustration of building"/>
          <p:cNvPicPr/>
          <p:nvPr/>
        </p:nvPicPr>
        <p:blipFill>
          <a:blip r:embed="rId2"/>
          <a:stretch/>
        </p:blipFill>
        <p:spPr>
          <a:xfrm>
            <a:off x="5715000" y="3886200"/>
            <a:ext cx="1874880" cy="182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21:33Z</dcterms:created>
  <dc:creator>Munier</dc:creator>
  <dc:description>Presented at the 2009 AHRQ Annual Conference 14Sep09.</dc:description>
  <cp:keywords/>
  <dc:language>en-US</dc:language>
  <cp:lastModifiedBy>DHHS</cp:lastModifiedBy>
  <cp:lastPrinted>2003-01-21T20:19:23Z</cp:lastPrinted>
  <dcterms:modified xsi:type="dcterms:W3CDTF">2009-12-04T18:48:17Z</dcterms:modified>
  <cp:revision>885</cp:revision>
  <dc:subject/>
  <dc:title>Patient Safety Organizations</dc:title>
</cp:coreProperties>
</file>