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51D6B00-5305-4F2A-9F5F-08472283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95AC4E5-447A-4935-969D-74E2055C8C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9E60675-3172-4FF7-8C3A-A5AEF84B8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6CCA8C26-326D-43AB-ADF3-BD0F23AF0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A3995B8-E501-43F4-9BB5-367902A23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22B2ADE-604B-48FF-B7A0-0B3E38AA0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626EAC2-421F-47C1-A7DF-A191BB1500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13AC7ED-E4C4-4347-BEEB-4D15445FB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36994ED0-3B00-4E9F-9DD4-81E5FE4DA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7E5-A4F0-4E96-920C-1151005D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5D6-6AFE-4966-9A2F-A854D41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23C-277C-445B-B779-0C9EFC57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D02-6645-4921-B17B-6FE747DE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1BD-4F0A-4D3D-BD26-CF91302E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0730-60EB-42D5-A5DC-BFC1DF0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5C26-7CA5-4145-97B8-ABE3DAE6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B51-0FC7-472B-BE0D-C0C2056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B330-1DCA-40D3-9D8D-1D23923C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F3C-9055-434B-A80E-897A55D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7BBC-B0E7-4903-8C9D-0D65BE2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4D9-F510-4D39-ABB7-CA52830C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E8D-A067-4320-8333-463ACF0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ECCC-3858-48EE-8BD6-3D75A1C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B543-CA02-45F8-A840-22B81A73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528-13A2-44C8-939D-FEB1AC71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903-7CD3-48FF-88E6-498F9124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DB3-6A36-42E2-ADCF-6B1A6E58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1EB-633A-4030-AFB3-B7AC1A53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25C-632F-4831-9A70-AB533CA9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D4A-E7FA-4FFF-BF79-4879264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53B-B5F8-4B79-9AD3-FFC82ED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38A-8CFB-4F6C-BAD0-AE2E529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B49-A02B-4C14-A54F-4CC8B53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E85C-424A-4B49-BCA3-A9CFC0491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696-48D5-4F63-B8A9-EAC2CE3AC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aboration Between Researchers and State Policymakers: Models for Achieving Evidence-Informed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95280" y="2742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w Coburn, Ph.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kie School of Public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Southern 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52480" y="4800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hesda, M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16, 20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Facilitates Research Use In Policy Decision-making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of using evidence are understood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are partners in generating evidenc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is relevant, timely, and methodologically uncontest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support political ideologies, are convenient and uncontentio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have high degree of certainty (error and risk), are robust in implementation, and involve low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es, Nutley, Smith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hat Works? Evidence ba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licy and practice in public serv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55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apacity for EIDM is limited: how can we accelerate move to “rapid learning” in Medicaid and other state health polic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using multiple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demonstrate resul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60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09896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251240" y="300816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62120" y="3429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Researchers Are From Mars; Policy Makers Are From Venu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281760" y="4800600"/>
            <a:ext cx="52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. Feldman et al. (2001)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erontologi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1:312-3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63200" y="251784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perspectiv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178" name="TextBox 10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Box 11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Can We Expand The Use Of Health Services Research In State Health Polic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idence-Informed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ystematic application of the best available evidence to the evaluation of options and to decision-making in clinical, management, and policy settings.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adian Health Services Research Foundation. (2001) Health Services Research and Evidence-Based Decision-Making. Ott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184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228600"/>
            <a:ext cx="9906120" cy="6689160"/>
            <a:chOff x="0" y="228600"/>
            <a:chExt cx="9906120" cy="6689160"/>
          </a:xfrm>
        </p:grpSpPr>
        <p:sp>
          <p:nvSpPr>
            <p:cNvPr id="187" name="TextBox 3"/>
            <p:cNvSpPr/>
            <p:nvPr/>
          </p:nvSpPr>
          <p:spPr>
            <a:xfrm>
              <a:off x="3733920" y="1066680"/>
              <a:ext cx="16002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Polic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Box 4"/>
            <p:cNvSpPr/>
            <p:nvPr/>
          </p:nvSpPr>
          <p:spPr>
            <a:xfrm>
              <a:off x="3505320" y="5678640"/>
              <a:ext cx="2361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Polic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Box 5"/>
            <p:cNvSpPr/>
            <p:nvPr/>
          </p:nvSpPr>
          <p:spPr>
            <a:xfrm>
              <a:off x="0" y="22860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Box 6"/>
            <p:cNvSpPr/>
            <p:nvPr/>
          </p:nvSpPr>
          <p:spPr>
            <a:xfrm>
              <a:off x="5943600" y="1579680"/>
              <a:ext cx="182880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dentify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oblem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Box 7"/>
            <p:cNvSpPr/>
            <p:nvPr/>
          </p:nvSpPr>
          <p:spPr>
            <a:xfrm>
              <a:off x="5949000" y="2341440"/>
              <a:ext cx="188748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Review evidence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nd solution op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Box 8"/>
            <p:cNvSpPr/>
            <p:nvPr/>
          </p:nvSpPr>
          <p:spPr>
            <a:xfrm>
              <a:off x="5872320" y="3103560"/>
              <a:ext cx="216504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stakehol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nterests and concer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9"/>
            <p:cNvSpPr/>
            <p:nvPr/>
          </p:nvSpPr>
          <p:spPr>
            <a:xfrm>
              <a:off x="5871960" y="3886200"/>
              <a:ext cx="217404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risks and costs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to implement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Box 10"/>
            <p:cNvSpPr/>
            <p:nvPr/>
          </p:nvSpPr>
          <p:spPr>
            <a:xfrm>
              <a:off x="5948280" y="4780080"/>
              <a:ext cx="19609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ospects for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successful outcom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Box 11"/>
            <p:cNvSpPr/>
            <p:nvPr/>
          </p:nvSpPr>
          <p:spPr>
            <a:xfrm>
              <a:off x="1295280" y="4724280"/>
              <a:ext cx="1905120" cy="5504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Track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Implement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Box 12"/>
            <p:cNvSpPr/>
            <p:nvPr/>
          </p:nvSpPr>
          <p:spPr>
            <a:xfrm>
              <a:off x="1295280" y="3886200"/>
              <a:ext cx="1905120" cy="5504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Evaluation against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objectiv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Box 13"/>
            <p:cNvSpPr/>
            <p:nvPr/>
          </p:nvSpPr>
          <p:spPr>
            <a:xfrm>
              <a:off x="1295280" y="304812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Disseminate bes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practi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Box 14"/>
            <p:cNvSpPr/>
            <p:nvPr/>
          </p:nvSpPr>
          <p:spPr>
            <a:xfrm>
              <a:off x="1295280" y="228600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policy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effectivenes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Box 15"/>
            <p:cNvSpPr/>
            <p:nvPr/>
          </p:nvSpPr>
          <p:spPr>
            <a:xfrm>
              <a:off x="1295280" y="1523880"/>
              <a:ext cx="1905120" cy="55044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Assess less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e6b"/>
                  </a:solidFill>
                  <a:latin typeface="Arial"/>
                </a:rPr>
                <a:t>learn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43"/>
            <p:cNvSpPr/>
            <p:nvPr/>
          </p:nvSpPr>
          <p:spPr>
            <a:xfrm>
              <a:off x="5638680" y="12193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Straight Arrow Connector 45"/>
            <p:cNvCxnSpPr/>
            <p:nvPr/>
          </p:nvCxnSpPr>
          <p:spPr>
            <a:xfrm flipH="1">
              <a:off x="6779520" y="1220400"/>
              <a:ext cx="396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2" name="Straight Connector 47"/>
            <p:cNvSpPr/>
            <p:nvPr/>
          </p:nvSpPr>
          <p:spPr>
            <a:xfrm>
              <a:off x="7010280" y="5486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3" name="Straight Arrow Connector 49"/>
            <p:cNvCxnSpPr/>
            <p:nvPr/>
          </p:nvCxnSpPr>
          <p:spPr>
            <a:xfrm flipH="1" flipV="1">
              <a:off x="6095520" y="6019560"/>
              <a:ext cx="91512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4" name="Straight Connector 51"/>
            <p:cNvSpPr/>
            <p:nvPr/>
          </p:nvSpPr>
          <p:spPr>
            <a:xfrm flipH="1">
              <a:off x="2133720" y="6019920"/>
              <a:ext cx="1218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Straight Arrow Connector 53"/>
            <p:cNvCxnSpPr/>
            <p:nvPr/>
          </p:nvCxnSpPr>
          <p:spPr>
            <a:xfrm flipV="1">
              <a:off x="2133720" y="5486040"/>
              <a:ext cx="2160" cy="534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06" name="Straight Connector 62"/>
            <p:cNvSpPr/>
            <p:nvPr/>
          </p:nvSpPr>
          <p:spPr>
            <a:xfrm flipV="1">
              <a:off x="2209680" y="12189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7" name="Straight Arrow Connector 64"/>
            <p:cNvCxnSpPr/>
            <p:nvPr/>
          </p:nvCxnSpPr>
          <p:spPr>
            <a:xfrm>
              <a:off x="2209320" y="1219320"/>
              <a:ext cx="12963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208" name="Group 12"/>
            <p:cNvGrpSpPr/>
            <p:nvPr/>
          </p:nvGrpSpPr>
          <p:grpSpPr>
            <a:xfrm>
              <a:off x="6248520" y="6172200"/>
              <a:ext cx="3657600" cy="745560"/>
              <a:chOff x="6248520" y="6172200"/>
              <a:chExt cx="3657600" cy="745560"/>
            </a:xfrm>
          </p:grpSpPr>
          <p:sp>
            <p:nvSpPr>
              <p:cNvPr id="209" name="TextBox 26"/>
              <p:cNvSpPr/>
              <p:nvPr/>
            </p:nvSpPr>
            <p:spPr>
              <a:xfrm>
                <a:off x="6248520" y="6367320"/>
                <a:ext cx="28195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dobe Garamond Pro"/>
                  </a:rPr>
                  <a:t>Muskie School of Public Servic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Box 27"/>
              <p:cNvSpPr/>
              <p:nvPr/>
            </p:nvSpPr>
            <p:spPr>
              <a:xfrm>
                <a:off x="6248520" y="61722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UNIVERSITY OF SOUTHERN MAIN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ey Stages of EI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228600"/>
            <a:ext cx="9906120" cy="6689160"/>
            <a:chOff x="0" y="228600"/>
            <a:chExt cx="9906120" cy="6689160"/>
          </a:xfrm>
        </p:grpSpPr>
        <p:sp>
          <p:nvSpPr>
            <p:cNvPr id="213" name="TextBox 3"/>
            <p:cNvSpPr/>
            <p:nvPr/>
          </p:nvSpPr>
          <p:spPr>
            <a:xfrm>
              <a:off x="0" y="22860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3352680" y="1066680"/>
              <a:ext cx="236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efining questions and hypothe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Box 5"/>
            <p:cNvSpPr/>
            <p:nvPr/>
          </p:nvSpPr>
          <p:spPr>
            <a:xfrm>
              <a:off x="3505320" y="5526000"/>
              <a:ext cx="2361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Knowledge summary/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Box 6"/>
            <p:cNvSpPr/>
            <p:nvPr/>
          </p:nvSpPr>
          <p:spPr>
            <a:xfrm>
              <a:off x="6019920" y="2173320"/>
              <a:ext cx="2361960" cy="6426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Casual model based on the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Box 7"/>
            <p:cNvSpPr/>
            <p:nvPr/>
          </p:nvSpPr>
          <p:spPr>
            <a:xfrm>
              <a:off x="5943600" y="3925800"/>
              <a:ext cx="236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Analysis and evaluation of fi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Box 8"/>
            <p:cNvSpPr/>
            <p:nvPr/>
          </p:nvSpPr>
          <p:spPr>
            <a:xfrm>
              <a:off x="685800" y="4038480"/>
              <a:ext cx="236232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Communication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Box 9"/>
            <p:cNvSpPr/>
            <p:nvPr/>
          </p:nvSpPr>
          <p:spPr>
            <a:xfrm>
              <a:off x="380880" y="3087720"/>
              <a:ext cx="335304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Dissemination/knowledge trans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Box 10"/>
            <p:cNvSpPr/>
            <p:nvPr/>
          </p:nvSpPr>
          <p:spPr>
            <a:xfrm>
              <a:off x="609480" y="2021040"/>
              <a:ext cx="2362320" cy="6426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3366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Re-assessment of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e6b"/>
                  </a:solidFill>
                  <a:latin typeface="Arial"/>
                </a:rPr>
                <a:t>Question/probl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21"/>
            <p:cNvSpPr/>
            <p:nvPr/>
          </p:nvSpPr>
          <p:spPr>
            <a:xfrm>
              <a:off x="6095880" y="1371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Straight Arrow Connector 25"/>
            <p:cNvCxnSpPr/>
            <p:nvPr/>
          </p:nvCxnSpPr>
          <p:spPr>
            <a:xfrm flipH="1">
              <a:off x="7160400" y="1373040"/>
              <a:ext cx="3960" cy="610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223" name="Straight Arrow Connector 27"/>
            <p:cNvCxnSpPr/>
            <p:nvPr/>
          </p:nvCxnSpPr>
          <p:spPr>
            <a:xfrm flipH="1">
              <a:off x="7160400" y="2972880"/>
              <a:ext cx="3960" cy="686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4" name="Straight Connector 29"/>
            <p:cNvSpPr/>
            <p:nvPr/>
          </p:nvSpPr>
          <p:spPr>
            <a:xfrm>
              <a:off x="7162920" y="51055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5" name="Straight Arrow Connector 31"/>
            <p:cNvCxnSpPr/>
            <p:nvPr/>
          </p:nvCxnSpPr>
          <p:spPr>
            <a:xfrm flipH="1" flipV="1">
              <a:off x="6171840" y="5866560"/>
              <a:ext cx="99144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6" name="Straight Connector 33"/>
            <p:cNvSpPr/>
            <p:nvPr/>
          </p:nvSpPr>
          <p:spPr>
            <a:xfrm flipH="1">
              <a:off x="1828800" y="586728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7" name="Straight Arrow Connector 35"/>
            <p:cNvCxnSpPr/>
            <p:nvPr/>
          </p:nvCxnSpPr>
          <p:spPr>
            <a:xfrm flipV="1">
              <a:off x="1827360" y="4954320"/>
              <a:ext cx="3600" cy="915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28" name="Straight Connector 37"/>
            <p:cNvSpPr/>
            <p:nvPr/>
          </p:nvSpPr>
          <p:spPr>
            <a:xfrm flipV="1">
              <a:off x="1752480" y="13716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9" name="Straight Arrow Connector 39"/>
            <p:cNvCxnSpPr/>
            <p:nvPr/>
          </p:nvCxnSpPr>
          <p:spPr>
            <a:xfrm>
              <a:off x="1752120" y="1371600"/>
              <a:ext cx="129636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230" name="Group 12"/>
            <p:cNvGrpSpPr/>
            <p:nvPr/>
          </p:nvGrpSpPr>
          <p:grpSpPr>
            <a:xfrm>
              <a:off x="6248520" y="6172200"/>
              <a:ext cx="3657600" cy="745560"/>
              <a:chOff x="6248520" y="6172200"/>
              <a:chExt cx="3657600" cy="745560"/>
            </a:xfrm>
          </p:grpSpPr>
          <p:sp>
            <p:nvSpPr>
              <p:cNvPr id="231" name="TextBox 22"/>
              <p:cNvSpPr/>
              <p:nvPr/>
            </p:nvSpPr>
            <p:spPr>
              <a:xfrm>
                <a:off x="6248520" y="6367320"/>
                <a:ext cx="28195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00"/>
                    </a:solidFill>
                    <a:latin typeface="Adobe Garamond Pro"/>
                  </a:rPr>
                  <a:t>Muskie School of Public Servic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Box 23"/>
              <p:cNvSpPr/>
              <p:nvPr/>
            </p:nvSpPr>
            <p:spPr>
              <a:xfrm>
                <a:off x="6248520" y="61722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UNIVERSITY OF SOUTHERN MAIN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y Stages in the Research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for Linking Research to Policy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er-Push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semination, translation, KT, research synthesi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er-Pull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issioned research, rapid response units, data and trends analysis, research 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er-User Exchange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earch-policy networks, informal policy-researcher exchange, “embedded” resear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ganizational Excellence”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ganizational strategy using multiple, integrated approaches to linking and using ev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37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Image: Graphic depiction of Factors Influencing the Policy Process"/>
          <p:cNvPicPr/>
          <p:nvPr/>
        </p:nvPicPr>
        <p:blipFill>
          <a:blip r:embed="rId1"/>
          <a:srcRect l="2648" t="1908" r="2648" b="0"/>
          <a:stretch/>
        </p:blipFill>
        <p:spPr>
          <a:xfrm>
            <a:off x="1903320" y="915840"/>
            <a:ext cx="5413320" cy="5081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371600" y="6032520"/>
            <a:ext cx="687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J. Loma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mproving Research Dissemination and Uptake in the Health Sector: Beyond the Sound of One Hand Clapp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,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s Influencing the Policy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se of Evidence in Policy Decision 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s has been on promoting greater access to research through dissemination and knowledge transf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s tendency to view research and policy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45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Use of Evidence in Policy Decision Mak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eptu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of evidence: tendency is to focus on how evidence influences specific decisions, underplaying the role of evidence in influencing general knowledge, thinking, and cultur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12"/>
          <p:cNvGrpSpPr/>
          <p:nvPr/>
        </p:nvGrpSpPr>
        <p:grpSpPr>
          <a:xfrm>
            <a:off x="6248520" y="6172200"/>
            <a:ext cx="3657600" cy="745560"/>
            <a:chOff x="6248520" y="6172200"/>
            <a:chExt cx="3657600" cy="745560"/>
          </a:xfrm>
        </p:grpSpPr>
        <p:sp>
          <p:nvSpPr>
            <p:cNvPr id="250" name="TextBox 9"/>
            <p:cNvSpPr/>
            <p:nvPr/>
          </p:nvSpPr>
          <p:spPr>
            <a:xfrm>
              <a:off x="6248520" y="636732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Adobe Garamond Pro"/>
                </a:rPr>
                <a:t>Muskie School of Public Servic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6248520" y="6172200"/>
              <a:ext cx="36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ff00"/>
                  </a:solidFill>
                  <a:uFillTx/>
                  <a:latin typeface="Arial"/>
                </a:rPr>
                <a:t>UNIVERSITY OF SOUTHERN MA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4:41:39Z</dcterms:created>
  <dc:creator>University of Southern Maine</dc:creator>
  <dc:description/>
  <dc:language>en-US</dc:language>
  <cp:lastModifiedBy>Tanya</cp:lastModifiedBy>
  <dcterms:modified xsi:type="dcterms:W3CDTF">2009-10-29T01:48:24Z</dcterms:modified>
  <cp:revision>44</cp:revision>
  <dc:subject/>
  <dc:title>Making Evidenced Policy Evidence Based: What Works?</dc:title>
</cp:coreProperties>
</file>