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dt" idx="5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EF27-86C4-4BC1-95E9-9753B883E0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move the slide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ftr" idx="5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 type="sldNum" idx="5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5A9D-0A9D-45BE-89E0-8C1D259B6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DC9F-AF22-40D5-B348-E1AEEA45DF75}" type="slidenum">
              <a:rPr b="0" lang="en-US" sz="1200" spc="-1" strike="noStrike">
                <a:solidFill>
                  <a:srgbClr val="351a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67C4-FA6A-4BA8-992C-FC953C151C55}" type="slidenum">
              <a:rPr b="0" lang="en-US" sz="1200" spc="-1" strike="noStrike">
                <a:solidFill>
                  <a:srgbClr val="351a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5067-FEE5-464B-96EB-A2DC93EE8048}" type="slidenum">
              <a:rPr b="0" lang="en-US" sz="1200" spc="-1" strike="noStrike">
                <a:solidFill>
                  <a:srgbClr val="351a0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B226-8C4F-4638-A72B-E30D9788D339}" type="slidenum">
              <a:rPr b="0" lang="en-US" sz="1200" spc="-1" strike="noStrike">
                <a:solidFill>
                  <a:srgbClr val="351a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7A4D-C91C-4A5E-BD58-3FAD00B1F9AF}" type="slidenum">
              <a:rPr b="0" lang="en-US" sz="1200" spc="-1" strike="noStrike">
                <a:solidFill>
                  <a:srgbClr val="351a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9E4C-BD62-494C-B62B-A3D674372C2B}" type="slidenum">
              <a:rPr b="0" lang="en-US" sz="1200" spc="-1" strike="noStrike">
                <a:solidFill>
                  <a:srgbClr val="351a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7BCA-0321-4622-98A8-48AF844BC65B}" type="slidenum">
              <a:rPr b="0" lang="en-US" sz="1200" spc="-1" strike="noStrike">
                <a:solidFill>
                  <a:srgbClr val="351a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BECB-D9EE-4B2E-A81F-2D63568E9207}" type="slidenum">
              <a:rPr b="0" lang="en-US" sz="1200" spc="-1" strike="noStrike">
                <a:solidFill>
                  <a:srgbClr val="351a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C021-BA1F-473B-81AD-82D57E38DD14}" type="slidenum">
              <a:rPr b="0" lang="en-US" sz="1200" spc="-1" strike="noStrike">
                <a:solidFill>
                  <a:srgbClr val="351a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764D-9D7A-4196-AB0A-A965B01C3FE0}" type="slidenum">
              <a:rPr b="0" lang="en-US" sz="1200" spc="-1" strike="noStrike">
                <a:solidFill>
                  <a:srgbClr val="351a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C1A6-8312-4345-9BC4-BA47099C4472}" type="slidenum">
              <a:rPr b="0" lang="en-US" sz="1200" spc="-1" strike="noStrike">
                <a:solidFill>
                  <a:srgbClr val="351a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FD1D-81C6-4142-BD6A-AE57F278BC10}" type="slidenum">
              <a:rPr b="0" lang="en-US" sz="1200" spc="-1" strike="noStrike">
                <a:solidFill>
                  <a:srgbClr val="351a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CD34-E6CD-42FE-9350-B5FF977DCC60}" type="slidenum">
              <a:rPr b="0" lang="en-US" sz="1200" spc="-1" strike="noStrike">
                <a:solidFill>
                  <a:srgbClr val="351a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A6D0-A36C-458B-A5CF-6C79C869225C}" type="slidenum">
              <a:rPr b="0" lang="en-US" sz="1200" spc="-1" strike="noStrike">
                <a:solidFill>
                  <a:srgbClr val="351a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7709D-56DA-44D1-8D33-1C6BE47C6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51F3F-9239-4C42-B963-8FF2BEA3966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1E402F-94F4-4B4B-B685-E70ACE29554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22A086-5D34-4670-860A-B21FDDF1F2C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14EBE5-5464-4B15-B092-ED43EA8BB1E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2A1743-7299-46ED-9716-AF2983D022A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C1D267-AFB8-4EB5-A675-6E013A58272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14DFC3-C015-4084-B7E5-3BB1A41A2FF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C91DD0-7829-4C17-B18D-0807E65C413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44FBC8-1CE5-4559-834C-4DAE9542C35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83674B-77AF-41AD-88CA-CADF71A1D8F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EEE356-84AE-4329-9AA2-BB3E6147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58F75-B82F-46AE-A91A-427B0D2C115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097821-7282-4E25-BAE0-3FE55B38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CD717F-9D1B-4E04-88FB-214C96DC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E03BA0-3B00-444E-8E6A-3F06B0E3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9AA2F2-F333-4264-9A2E-E8E1D33A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CDD26E-C456-456E-AC4F-4CD7B82E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1EF90C-4C0F-4393-B929-C25B41BE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E1569C-2FF9-4F76-AE17-E30EA458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53D86B-DFFE-41F3-BBAA-BB84E0C2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09EA2F-773C-4974-AD20-1106BCB8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A5CFC1-7C0D-4C43-9A9A-731DC82A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F0EF6-838B-4D63-83B8-C9FC84BE6BF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246686-A85E-4A5B-9215-6DC89380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5ADE2E-0ADD-4070-A393-89209710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150320-898D-4780-8562-6233B727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023C5A-1BC9-4617-96D7-2145CAC3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D4E538-6F4D-4B27-8850-9CD6C41D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D1386E-33B0-4B06-B1DD-4BF108F6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D6BCA0-06FA-4A8D-8034-623846DC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5D5A6B-5F18-437C-BD87-49A37228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8F2CCD-A22F-4475-8843-0E27E3FD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F6FDF5-481A-4B08-8825-524CA0FB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10C9E-9062-4AAE-BD55-493530299CB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44EECF-40C5-46AE-8F0B-5C549879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089DAF-8026-4D26-8C64-2C7D16A7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5F3229-DE89-4653-88F5-70583B4B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EFD73-1C43-4A9E-8B99-70489081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D4B1F5-C3B9-4F49-B8D9-61665C4A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A67772-4AF3-41A4-8893-EEA3814C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A3AD9A-72DC-4DD4-9DEB-1AE904E9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DB055-B204-4034-AB9D-3CDD9C7D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1F96A-92D6-422D-BFD8-32C883BA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6756E-1078-4B36-AF39-9DB0E2FC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77B2A-5C6C-4EF5-8525-A038292FD02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1BDD45-52C9-4B28-8241-BE4CC5CC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BE0CC8-257E-44B2-A041-B9BAFD8B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6AFB1E-3315-473B-A4CF-22E23CC3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A01793-CE62-410C-A696-3AD6C693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F6C63-2CDD-4899-BABC-F3387785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860BC-9C62-43BE-90B0-75262741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48870-181E-4513-ABBB-95CB1DC4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1BE300-8A16-4425-876C-D5671F58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6060AB-6A9B-4FB2-81BE-4F04F8DD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C95402-D064-4EA3-A63F-D3CD7C3F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66ED8-FC55-40BA-90ED-840EC2DA22D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F2B033-3A8B-4D9B-99AE-70B4B7FF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FF30C-08B3-46A3-A14F-72A93615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10B1C-7E99-4C44-998F-B6078D98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675E98-0809-4FF4-8666-D441BBBF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FDBBB5-C9BD-48E0-8DF3-1939CFB6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2E0D59-7EE0-4BFD-A38C-2D590709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9518BC-2B1C-4C19-A232-D7760FC2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84B1D-C627-41E8-A55C-108BFA7046D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E449D-47E7-49C1-BE54-6B58C64FC30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2A7E5-FB34-461E-BFEE-1EF7C65EAF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AFDA2-334B-48AD-AA7F-35037EE7E61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72B0D-560B-43C2-BB7B-F3F3CEDA9A1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B3D10-2CB3-4D08-B580-C6ACE6F6785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2B6D4-F4B1-46F8-BFEC-4271C5A8595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4513B-A23A-4EDB-A38F-A3770EB541F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887C1-7EC9-470A-A9AB-D7FA988CF7C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21820-0326-4672-A88E-888F61229E8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A0EFF-AD14-4435-94C8-96185024634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27CD9-166C-42C3-B78A-BB062CB8A73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366BD-9C56-4701-A9B5-AA7A0E93BD1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CAA644-98CF-48F2-839E-D7C6EE1C41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8DBED-6EE5-4FD8-B4E1-05AF9F260A3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645D95-885E-4E13-8FCA-A094420998B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B458B8-F2AA-4989-A425-3E4E992D81A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8729F9-3537-4CBD-BAD6-CFD053143E7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677362-93C9-4E7F-8F3A-9E02DF3FC19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80143E-A44E-4A8E-90DC-D16048ADBD2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760610-FE54-4026-8EE0-AB839C7A4EB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1A283A-5D2A-456F-9CCB-6E2FB159EF9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F51AB7-48AD-4DDA-A098-CA9A16B5056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EBFD00-344F-4E9F-BAD2-5BE6EB0E4FB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9AD2B4-9A11-43A3-B65B-1F5A6170A2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9CE30-FAC1-474E-B27E-39916B63704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7870EF-BF25-4C9F-9472-5DCF16692FE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0493E-F1BD-4F1D-A839-A37B1095C8B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2523F7-BBB4-4F78-BABB-9D14C47B9C7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310685-2411-4C77-9DCC-F683A9556D7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6F1BD2-488A-44C0-8B57-5D5D37D4289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03DA9-51F6-4C35-8583-1641CAA0BD2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4897C7-508A-4FE1-AD20-286FEB3C54C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138FC5-0F3D-4610-8152-5E5060091A6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A7EEF8-3B2E-4337-901C-E6FDB95CCA5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DB0467-D810-4F01-A923-71641133E5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2D258-2DD7-4C5E-8F7D-128EA767A9F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409617-0158-4B9F-B74F-60F3A1689DB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5EFB15-E1A4-49A8-A153-5C187C433D2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5667A5-6C80-49EC-B078-2CC952F6A69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581B4-8F2C-4761-A090-577FB447304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D64A0-BA7D-420F-A999-C7A38B4B1DB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841FE-FCFD-46AF-B461-966EB19123C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59D9D-CFAC-4C37-BDB0-49FF354B13C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7C707-25CE-425D-87E9-72CC3DC5EEF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BF4BA-E77F-47DD-BD44-9C31E5AAD10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BA5E6-298C-43F9-B953-7C96E835CA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FF99E-0729-48D5-A9C3-D4FC5CB44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5F1C3-E63E-4407-AC68-727DFA48A78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8E720-C091-4F0C-8318-74CA48D47CA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D5D32-01A1-43E1-ADC9-F1D851664D1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5B02D-A6B8-4177-A822-597C4921D5D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96A62-42C2-483C-AB62-5686E267DD3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79FF6-F747-4868-8C2D-2E131F768E8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DC22AD-C9E3-4D55-9F95-F956649D56F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E71C39-1163-4359-8FBB-76F4AD2CA6B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3DB936-0142-4DC1-92B9-F3D7D7BB0ED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481D8B-5105-424C-AA87-0A437D079C2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FE86D7-2D98-4BCF-B7E1-66689F4233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FC1FD-367F-4BB9-A4A9-5F92739DE38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C71766-27FC-4731-A3F3-92273BD9305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C5781B-056D-4B0E-9FD8-5149FBB458A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CCDC2F-AA2C-40AC-AFC8-A5FA495D44E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BFB94D-BBC7-4A91-B50E-331004DAF85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FCC540-5460-40DB-8F37-659D1D185FE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8EFAE6-0304-4FDF-8AAF-463FF501FE5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7FB4D5-E1DC-4308-9A03-5760B1A58F6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27C72D2-370E-4303-B123-B611FAB7588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6985A0-AADB-4AC4-BECD-4DCACB586CB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CE14A08-18D7-4FF2-A385-CCC214A011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35059-1346-47EC-864B-7C3780C55FB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73CA960-C0EC-4539-A842-177A45B75E8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9B846DE-8C7D-4416-854B-1AB64687632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BB3DBE2-9B0D-4ED8-AFD4-06FEB7FE64A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6232CF-391F-4B67-B296-A4F5651D611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224EF69-33C8-4540-A7A7-CCD4FBDECB1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BAB131C-587F-41B9-88D3-BB5C02717D4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55BBBF6-581D-4085-813E-6E4BCDD3F3A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8A86C2C-FE43-42CC-9D27-D355AF3DA62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348B9ED-C1F2-4747-B2F6-43B0B1669C4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260E9A-7C84-43B5-9259-F8420328C1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82FA4-BD23-4BF6-89F2-FB0F6981AC3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1290E8-ED4C-494E-A2CA-0A44EADD3EB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820D7F-D858-4CD8-9B85-3B7199D74F2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CDB5DD-0E50-49C6-A767-739650926CA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CCE6B0-E20E-4E0D-A6FF-15981084FFF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473378-FAE1-40E7-8D4B-75F9246AFDA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E3D772-2E85-4962-BE97-3F6BA67C041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2D36A2-29BE-4D5B-9FFA-F11EC7AFEFB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258D94-23F0-43D2-A54B-263A9EE0F3D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82AD75-6051-4FA7-A888-EBBD4E5FC2B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A4CBDD-208F-4E13-AD80-FDD93803EA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B43C9-E06B-4016-8CD9-81F1499506B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187B91-3D6F-4609-A065-D0800E34974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67D3E8-5CFF-452C-ADE9-F0EA93CF415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8AC3DEF-08A7-404B-93AA-FCD7B1F7BF8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0FE6DE7-FA23-463B-947B-22D3139D5DD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7DA73D-A3EB-4193-BFA3-F75F6DF8AB2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C28C6C-A4C1-40AA-949F-C74EC9812F9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0B7E035-19BB-4BEB-9237-61C8C45CDC4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F8E6B1-9FEB-4DA2-B803-9BBD321C8D0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578B46-9416-48BD-A8D6-083A19C3E90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916FCC-1E90-4486-8A35-62831856A04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A763B68-952A-4955-8366-B67D2E67B2A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5D394BB-07E3-42FB-B00D-52CEE31F98B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D8790B-D9C0-4B61-A528-3EADA5675D8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CB08911-09B4-46A9-B939-232960D598A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1FF3862-3B86-4B69-9497-CA775CF0A32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C367F99-27BD-4DC6-9232-C01F34BEE46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2D1F1BF-5D44-4297-AEC8-E21D670278B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5AFA70B-455B-497F-9BB0-F5212ECD18D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DD72A9B-3D5E-4E99-9CA2-B54F17A4711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6435701-34AC-4876-A90A-A50052B5DC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1B3A747-D9A1-496D-843B-BA279CD6133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B49305C-8356-45AB-BF8D-5CDD48BAB01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11107C5-B574-4A50-9489-A05B9E5ABC3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1BA699A-5D43-4F57-B739-71A9A055E90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767DF73-0DEE-4090-9522-D67FFA8037B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A0C2B25-2B8E-4460-AC2F-5B8DC66D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1BFF5AC-3F45-46CE-8E0A-15DED802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61D6E56-080B-4A0B-92A9-00847165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A8D4447-5CC1-4FCA-91C5-4859999C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21CFCA9-21D8-4177-9957-F68866FF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F54E02B-F66B-4E31-A174-D6CFF90E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D0C3C1A-4F55-45AF-B6D0-AE17F0DB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897FF66-E450-43D7-8250-DBA0F32C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DD4C8EF-22D9-4F79-B3DB-D0E0E123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973A9F9-28E8-494E-A06D-3953B703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5E8ABAC-3148-467D-B0F7-D9D8BAEA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F2E8E59-AD53-4AEC-A81A-186ACA6B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81DCE0A-9DB6-44D9-AE57-1D8332AB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8BBA00E-B4C9-4DDD-A522-9B39E94F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050E620-1AD9-4837-BD66-015E54B4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CFA5891-E5D9-4653-B5EB-1DF4C986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B6DDA97-9DE7-4DB6-80C3-FE00BB2B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5037BF9-3AED-4276-AC3F-77CB4CA0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89DB7D6-0002-4A0A-BB36-E393ED64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8AAA1BD-AF82-4805-890F-13F8380E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117002F-9BD6-495E-94A5-AC1958EA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2FF9993-73F4-4880-9DA7-36A006DF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A47F5A6-768E-48AF-9556-13C38F3D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DECE153-C019-4F8E-9220-4BBE1908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E2FBF-77E1-4B0A-B0AB-13E3DB639D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1AC3-67E3-434C-83A1-4EA722E63B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0B6F-0610-4E6B-B7F5-55C12233F3A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2B4E-99B7-421F-B29C-224E3FCC3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8B136-E4F7-438E-8AC4-ACB6698754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1B53-C666-4C67-9DA6-3BAEC334B5C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3D1D-48E8-470F-BD3D-5AD68B9E2AA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DF5D-0F7C-4B57-A2C1-3B08E1C4FD2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C52D-779E-4077-BDE0-FB322B96885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475B-F6A2-4C39-BE51-FEA0EE58CF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CF56-4415-4F73-9C24-AB36152EED2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AB32-5245-4B75-8B5F-4A8A6A9E0B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E9AB-8126-4F0C-9E10-D61CABFB898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7935-8946-4BA4-8FCD-968C7C17034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5A1C2-334E-42F2-9BCA-E0F3EA27E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18BCC-E7D1-4FCF-9923-D8485464F1F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65A29-5DA4-4797-9780-3D505BF1BFF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99F6F-7BF0-4A0F-981B-61A49F7B506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0A2358-2FEE-450D-BCA0-D2E6F23263F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D0FE49-FDC6-4E37-8898-1A225244D82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A0A89-471C-44A8-A384-534B9D7A68E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A469A7-4223-4914-A748-6305A261936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98056C-6EE4-4FE0-89BE-0359AF92482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E92E3-DC80-4B92-AB5C-36C1BC2CAA4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761F2-B7F6-493D-9346-785B5D9C8FA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A2DBE-BCA3-421B-964F-A2023F817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A861B-9A5B-4B57-A2B6-5F1F64DF0E0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E6A09D-753C-47AC-AC8C-9FC06CE824D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6EF45E-1925-4F8F-B2F1-46C2772BB40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09DF00-F6CE-43ED-A8AC-0E9F2AF7D95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14EBE9-4338-40FD-BA1D-25EDE77535F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38D5D1-6C41-4F1E-B0ED-9C37FBD81FC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77778E-59A5-4D9C-88FC-8ABB12ACEA3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04535B-408E-47D4-AFBB-D53B45266EE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5B0F5D-3709-47FC-B7B5-AE0A2D3E2E2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B5EF32-0A0E-4146-AFF9-4D4C6633550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46914A-EE45-4851-A15A-21E16541A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446AB-62E2-4A6D-96CB-6FEE074760F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660AE6-3AAD-48DB-9004-2F960FA2D8C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579B98-2E6E-4EE0-B243-86865E6EEAF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DE9596-BCC1-45E3-8D9A-2DED611F915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A0211-05C5-4385-BAE5-63D126A6365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85EF9-A37F-4143-AB80-1A28A70A3B2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0BABA-C7C3-4DB1-B992-EC9DDA81C09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8FC25-3565-44C9-B726-2A88F351F46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9DB24-A926-4DF7-8BA9-C15B24D3576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0851A-2E10-4F1E-A795-47CC5310E26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84D20-D9FF-4971-B073-3ECA5BD9F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BD7B1-67DB-4659-894A-F45432D279F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568B0-1CB5-49B3-A5B0-92BC08B04FE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9B289-E4FF-43B8-8EBA-33464BFCAF3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A5720-24DA-4B13-840C-AB45E04FA67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06263-B104-46D7-A59B-500C5C11B67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2808A-CEE8-402C-B6A7-74E8A3347A0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F799EE-668F-42AB-A224-D4504A46FCB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9FAEAF-3EEB-4E80-A04A-370E9307AF7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05B156-F158-4DC1-ADB0-3ECC95DEBFD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80FB55-5B79-4FEA-8580-8697BBEF592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0EBADA-DFB6-4FEB-BD63-2D59D6607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D5FA7-1DB2-453A-8F95-673912090D5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20341C-6837-4FFA-9374-AAE3BD6BE2A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84226D-D607-4AD7-9486-139BF497A59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2F45C6-081E-4B43-8023-135DE6EB8E6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681EA2-5951-456B-9F61-6670CEA6299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8C44DB-05D1-4CFF-97C3-0B94617A19C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DF99C4-1E50-46F2-B37C-48CA6833CB6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D0A444-5F8D-4458-8D32-3A28574F16F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A6CBC9-D28D-46F4-B1AB-C472DC1394F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3D6B79-D8F8-4EA5-8CEC-465FA4631B3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91C9DA-1272-4F37-9BCE-13D2529EC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is an initiative of the Oregon Health Care Quality Corporation 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31DC-70CC-483C-BEC9-A61F0DA72F97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PARTNER color tag.jpg"/>
          <p:cNvPicPr/>
          <p:nvPr/>
        </p:nvPicPr>
        <p:blipFill>
          <a:blip r:embed="rId2"/>
          <a:stretch/>
        </p:blipFill>
        <p:spPr>
          <a:xfrm>
            <a:off x="304920" y="624852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5" name="Straight Connector 8"/>
          <p:cNvSpPr/>
          <p:nvPr/>
        </p:nvSpPr>
        <p:spPr>
          <a:xfrm>
            <a:off x="152280" y="6172200"/>
            <a:ext cx="876312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6" descr="PARTNER color tag.jpg"/>
          <p:cNvPicPr/>
          <p:nvPr/>
        </p:nvPicPr>
        <p:blipFill>
          <a:blip r:embed="rId2"/>
          <a:stretch/>
        </p:blipFill>
        <p:spPr>
          <a:xfrm>
            <a:off x="304920" y="624852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378" name="Straight Connector 8"/>
          <p:cNvSpPr/>
          <p:nvPr/>
        </p:nvSpPr>
        <p:spPr>
          <a:xfrm>
            <a:off x="152280" y="6172200"/>
            <a:ext cx="876312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18"/>
          </p:nvPr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Partner for Quality Care is an initiative of the Oregon Health Care Quality Corporation 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1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3862-04D8-4685-8A8D-B70BF22541A2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6" descr="PARTNER color tag.jpg"/>
          <p:cNvPicPr/>
          <p:nvPr/>
        </p:nvPicPr>
        <p:blipFill>
          <a:blip r:embed="rId2"/>
          <a:stretch/>
        </p:blipFill>
        <p:spPr>
          <a:xfrm>
            <a:off x="304920" y="624852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421" name="Straight Connector 8"/>
          <p:cNvSpPr/>
          <p:nvPr/>
        </p:nvSpPr>
        <p:spPr>
          <a:xfrm>
            <a:off x="152280" y="6172200"/>
            <a:ext cx="876312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1"/>
          </p:nvPr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Partner for Quality Care is an initiative of the Oregon Health Care Quality Corporation 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69CE-1A2D-42AB-A094-A3D84D1C7303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6" descr="PARTNER color tag.jpg"/>
          <p:cNvPicPr/>
          <p:nvPr/>
        </p:nvPicPr>
        <p:blipFill>
          <a:blip r:embed="rId2"/>
          <a:stretch/>
        </p:blipFill>
        <p:spPr>
          <a:xfrm>
            <a:off x="304920" y="624852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464" name="Straight Connector 8"/>
          <p:cNvSpPr/>
          <p:nvPr/>
        </p:nvSpPr>
        <p:spPr>
          <a:xfrm>
            <a:off x="152280" y="6172200"/>
            <a:ext cx="876312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4"/>
          </p:nvPr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Partner for Quality Care is an initiative of the Oregon Health Care Quality Corporation 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4582-6BAC-466A-A594-D4631ECAD0CF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6" descr="PARTNER color tag.jpg"/>
          <p:cNvPicPr/>
          <p:nvPr/>
        </p:nvPicPr>
        <p:blipFill>
          <a:blip r:embed="rId2"/>
          <a:stretch/>
        </p:blipFill>
        <p:spPr>
          <a:xfrm>
            <a:off x="304920" y="624852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507" name="Straight Connector 8"/>
          <p:cNvSpPr/>
          <p:nvPr/>
        </p:nvSpPr>
        <p:spPr>
          <a:xfrm>
            <a:off x="152280" y="6172200"/>
            <a:ext cx="876312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27"/>
          </p:nvPr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Partner for Quality Care is an initiative of the Oregon Health Care Quality Corporation 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2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3068-7B27-48A3-A540-0FEF49F4C06D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6" descr="PARTNER color tag.jpg"/>
          <p:cNvPicPr/>
          <p:nvPr/>
        </p:nvPicPr>
        <p:blipFill>
          <a:blip r:embed="rId2"/>
          <a:stretch/>
        </p:blipFill>
        <p:spPr>
          <a:xfrm>
            <a:off x="380880" y="617220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550" name="Straight Connector 8"/>
          <p:cNvSpPr/>
          <p:nvPr/>
        </p:nvSpPr>
        <p:spPr>
          <a:xfrm>
            <a:off x="228600" y="6170760"/>
            <a:ext cx="861048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pic>
        <p:nvPicPr>
          <p:cNvPr id="551" name="Picture 7" descr="PARTNER color tag.jpg"/>
          <p:cNvPicPr/>
          <p:nvPr/>
        </p:nvPicPr>
        <p:blipFill>
          <a:blip r:embed="rId3"/>
          <a:stretch/>
        </p:blipFill>
        <p:spPr>
          <a:xfrm>
            <a:off x="2666880" y="1905120"/>
            <a:ext cx="3810240" cy="23414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9" descr="Q-Corp Logo no tag line.tif"/>
          <p:cNvPicPr/>
          <p:nvPr/>
        </p:nvPicPr>
        <p:blipFill>
          <a:blip r:embed="rId4"/>
          <a:stretch/>
        </p:blipFill>
        <p:spPr>
          <a:xfrm>
            <a:off x="3332160" y="4913280"/>
            <a:ext cx="2382840" cy="1182600"/>
          </a:xfrm>
          <a:prstGeom prst="rect">
            <a:avLst/>
          </a:prstGeom>
          <a:ln w="0">
            <a:noFill/>
          </a:ln>
        </p:spPr>
      </p:pic>
      <p:sp>
        <p:nvSpPr>
          <p:cNvPr id="553" name="TextBox 10"/>
          <p:cNvSpPr/>
          <p:nvPr/>
        </p:nvSpPr>
        <p:spPr>
          <a:xfrm>
            <a:off x="3760200" y="434340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1a0d"/>
                </a:solidFill>
                <a:latin typeface="Avenir book"/>
              </a:rPr>
              <a:t>An initiative of: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ftr" idx="29"/>
          </p:nvPr>
        </p:nvSpPr>
        <p:spPr>
          <a:xfrm>
            <a:off x="15238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sldNum" idx="30"/>
          </p:nvPr>
        </p:nvSpPr>
        <p:spPr>
          <a:xfrm>
            <a:off x="7772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E129-BB06-4BD7-B4D1-F2EA3720A56E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6" descr="PARTNER color tag.jpg"/>
          <p:cNvPicPr/>
          <p:nvPr/>
        </p:nvPicPr>
        <p:blipFill>
          <a:blip r:embed="rId2"/>
          <a:stretch/>
        </p:blipFill>
        <p:spPr>
          <a:xfrm>
            <a:off x="380880" y="617220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595" name="Straight Connector 8"/>
          <p:cNvSpPr/>
          <p:nvPr/>
        </p:nvSpPr>
        <p:spPr>
          <a:xfrm>
            <a:off x="228600" y="6170760"/>
            <a:ext cx="861048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31"/>
          </p:nvPr>
        </p:nvSpPr>
        <p:spPr>
          <a:xfrm>
            <a:off x="15238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sldNum" idx="32"/>
          </p:nvPr>
        </p:nvSpPr>
        <p:spPr>
          <a:xfrm>
            <a:off x="7772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C95B-8C6B-43AD-BA0E-D5A1056EF9D6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6" descr="PARTNER color tag.jpg"/>
          <p:cNvPicPr/>
          <p:nvPr/>
        </p:nvPicPr>
        <p:blipFill>
          <a:blip r:embed="rId2"/>
          <a:stretch/>
        </p:blipFill>
        <p:spPr>
          <a:xfrm>
            <a:off x="380880" y="617220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637" name="Straight Connector 8"/>
          <p:cNvSpPr/>
          <p:nvPr/>
        </p:nvSpPr>
        <p:spPr>
          <a:xfrm>
            <a:off x="228600" y="6170760"/>
            <a:ext cx="861048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ftr" idx="33"/>
          </p:nvPr>
        </p:nvSpPr>
        <p:spPr>
          <a:xfrm>
            <a:off x="15238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sldNum" idx="34"/>
          </p:nvPr>
        </p:nvSpPr>
        <p:spPr>
          <a:xfrm>
            <a:off x="7772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3845-83F3-4ABE-A0D3-B36D6A40C071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6" descr="PARTNER color tag.jpg"/>
          <p:cNvPicPr/>
          <p:nvPr/>
        </p:nvPicPr>
        <p:blipFill>
          <a:blip r:embed="rId2"/>
          <a:stretch/>
        </p:blipFill>
        <p:spPr>
          <a:xfrm>
            <a:off x="380880" y="617220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679" name="Straight Connector 8"/>
          <p:cNvSpPr/>
          <p:nvPr/>
        </p:nvSpPr>
        <p:spPr>
          <a:xfrm>
            <a:off x="228600" y="6170760"/>
            <a:ext cx="861048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35"/>
          </p:nvPr>
        </p:nvSpPr>
        <p:spPr>
          <a:xfrm>
            <a:off x="15238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36"/>
          </p:nvPr>
        </p:nvSpPr>
        <p:spPr>
          <a:xfrm>
            <a:off x="7772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8F5E-E4CD-4E25-B252-E42A86AF12CB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6" descr="PARTNER color tag.jpg"/>
          <p:cNvPicPr/>
          <p:nvPr/>
        </p:nvPicPr>
        <p:blipFill>
          <a:blip r:embed="rId2"/>
          <a:stretch/>
        </p:blipFill>
        <p:spPr>
          <a:xfrm>
            <a:off x="380880" y="617220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721" name="Straight Connector 8"/>
          <p:cNvSpPr/>
          <p:nvPr/>
        </p:nvSpPr>
        <p:spPr>
          <a:xfrm>
            <a:off x="228600" y="6170760"/>
            <a:ext cx="861048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37"/>
          </p:nvPr>
        </p:nvSpPr>
        <p:spPr>
          <a:xfrm>
            <a:off x="15238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38"/>
          </p:nvPr>
        </p:nvSpPr>
        <p:spPr>
          <a:xfrm>
            <a:off x="7772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6DAE-3E68-4021-852D-41A0198478E2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6" descr="PARTNER color tag.jpg"/>
          <p:cNvPicPr/>
          <p:nvPr/>
        </p:nvPicPr>
        <p:blipFill>
          <a:blip r:embed="rId2"/>
          <a:stretch/>
        </p:blipFill>
        <p:spPr>
          <a:xfrm>
            <a:off x="380880" y="617220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763" name="Straight Connector 8"/>
          <p:cNvSpPr/>
          <p:nvPr/>
        </p:nvSpPr>
        <p:spPr>
          <a:xfrm>
            <a:off x="228600" y="6170760"/>
            <a:ext cx="861048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ftr" idx="39"/>
          </p:nvPr>
        </p:nvSpPr>
        <p:spPr>
          <a:xfrm>
            <a:off x="15238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sldNum" idx="40"/>
          </p:nvPr>
        </p:nvSpPr>
        <p:spPr>
          <a:xfrm>
            <a:off x="7772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61AE-57AB-41BA-9898-BCEB89C28A63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15238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is an initiative of the Oregon Health Care Quality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7772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8162-520B-4C45-9A01-8DCA70652B9D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PARTNER color tag.jpg"/>
          <p:cNvPicPr/>
          <p:nvPr/>
        </p:nvPicPr>
        <p:blipFill>
          <a:blip r:embed="rId2"/>
          <a:stretch/>
        </p:blipFill>
        <p:spPr>
          <a:xfrm>
            <a:off x="380880" y="617220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47" name="Straight Connector 8"/>
          <p:cNvSpPr/>
          <p:nvPr/>
        </p:nvSpPr>
        <p:spPr>
          <a:xfrm>
            <a:off x="228600" y="6170760"/>
            <a:ext cx="861048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6" descr="PARTNER color tag.jpg"/>
          <p:cNvPicPr/>
          <p:nvPr/>
        </p:nvPicPr>
        <p:blipFill>
          <a:blip r:embed="rId2"/>
          <a:stretch/>
        </p:blipFill>
        <p:spPr>
          <a:xfrm>
            <a:off x="380880" y="617220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805" name="Straight Connector 8"/>
          <p:cNvSpPr/>
          <p:nvPr/>
        </p:nvSpPr>
        <p:spPr>
          <a:xfrm>
            <a:off x="228600" y="6170760"/>
            <a:ext cx="861048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ftr" idx="41"/>
          </p:nvPr>
        </p:nvSpPr>
        <p:spPr>
          <a:xfrm>
            <a:off x="15238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sldNum" idx="42"/>
          </p:nvPr>
        </p:nvSpPr>
        <p:spPr>
          <a:xfrm>
            <a:off x="7772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45E6-ABD0-4E96-A022-ED8959896B41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Picture 6" descr="PARTNER color tag.jpg"/>
          <p:cNvPicPr/>
          <p:nvPr/>
        </p:nvPicPr>
        <p:blipFill>
          <a:blip r:embed="rId2"/>
          <a:stretch/>
        </p:blipFill>
        <p:spPr>
          <a:xfrm>
            <a:off x="380880" y="617220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847" name="Straight Connector 8"/>
          <p:cNvSpPr/>
          <p:nvPr/>
        </p:nvSpPr>
        <p:spPr>
          <a:xfrm>
            <a:off x="228600" y="6170760"/>
            <a:ext cx="861048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ftr" idx="43"/>
          </p:nvPr>
        </p:nvSpPr>
        <p:spPr>
          <a:xfrm>
            <a:off x="15238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sldNum" idx="44"/>
          </p:nvPr>
        </p:nvSpPr>
        <p:spPr>
          <a:xfrm>
            <a:off x="7772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097F-FCCF-479D-8217-8D8FB5AEC118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Picture 6" descr="PARTNER color tag.jpg"/>
          <p:cNvPicPr/>
          <p:nvPr/>
        </p:nvPicPr>
        <p:blipFill>
          <a:blip r:embed="rId2"/>
          <a:stretch/>
        </p:blipFill>
        <p:spPr>
          <a:xfrm>
            <a:off x="380880" y="617220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889" name="Straight Connector 8"/>
          <p:cNvSpPr/>
          <p:nvPr/>
        </p:nvSpPr>
        <p:spPr>
          <a:xfrm>
            <a:off x="228600" y="6170760"/>
            <a:ext cx="861048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ftr" idx="45"/>
          </p:nvPr>
        </p:nvSpPr>
        <p:spPr>
          <a:xfrm>
            <a:off x="15238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 type="sldNum" idx="46"/>
          </p:nvPr>
        </p:nvSpPr>
        <p:spPr>
          <a:xfrm>
            <a:off x="7772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A2E2-7BA7-4CC2-B8C1-0151AC4C8FB9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Picture 6" descr="PARTNER color tag.jpg"/>
          <p:cNvPicPr/>
          <p:nvPr/>
        </p:nvPicPr>
        <p:blipFill>
          <a:blip r:embed="rId2"/>
          <a:stretch/>
        </p:blipFill>
        <p:spPr>
          <a:xfrm>
            <a:off x="380880" y="617220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931" name="Straight Connector 8"/>
          <p:cNvSpPr/>
          <p:nvPr/>
        </p:nvSpPr>
        <p:spPr>
          <a:xfrm>
            <a:off x="228600" y="6170760"/>
            <a:ext cx="861048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dt" idx="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ftr" idx="48"/>
          </p:nvPr>
        </p:nvSpPr>
        <p:spPr>
          <a:xfrm>
            <a:off x="15238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Partner for Quality Care is an initiative of the Oregon Health Care Quality Corporation 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sldNum" idx="49"/>
          </p:nvPr>
        </p:nvSpPr>
        <p:spPr>
          <a:xfrm>
            <a:off x="7772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FE75-3B19-44F2-9FAD-6053240056C3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Picture 6" descr="PARTNER color tag.jpg"/>
          <p:cNvPicPr/>
          <p:nvPr/>
        </p:nvPicPr>
        <p:blipFill>
          <a:blip r:embed="rId2"/>
          <a:stretch/>
        </p:blipFill>
        <p:spPr>
          <a:xfrm>
            <a:off x="380880" y="617220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974" name="Straight Connector 8"/>
          <p:cNvSpPr/>
          <p:nvPr/>
        </p:nvSpPr>
        <p:spPr>
          <a:xfrm>
            <a:off x="228600" y="6170760"/>
            <a:ext cx="861048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dt" idx="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ftr" idx="51"/>
          </p:nvPr>
        </p:nvSpPr>
        <p:spPr>
          <a:xfrm>
            <a:off x="15238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Partner for Quality Care is an initiative of the Oregon Health Care Quality Corporation 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 type="sldNum" idx="52"/>
          </p:nvPr>
        </p:nvSpPr>
        <p:spPr>
          <a:xfrm>
            <a:off x="7772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0487-FAD1-44C7-A695-E7ECED9FC4B9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PARTNER color tag.jpg"/>
          <p:cNvPicPr/>
          <p:nvPr/>
        </p:nvPicPr>
        <p:blipFill>
          <a:blip r:embed="rId2"/>
          <a:stretch/>
        </p:blipFill>
        <p:spPr>
          <a:xfrm>
            <a:off x="3581280" y="3962520"/>
            <a:ext cx="1828800" cy="112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Q-Corp Logo no tag line.tif"/>
          <p:cNvPicPr/>
          <p:nvPr/>
        </p:nvPicPr>
        <p:blipFill>
          <a:blip r:embed="rId3"/>
          <a:stretch/>
        </p:blipFill>
        <p:spPr>
          <a:xfrm>
            <a:off x="3657600" y="5562720"/>
            <a:ext cx="1676520" cy="8316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0"/>
          <p:cNvSpPr/>
          <p:nvPr/>
        </p:nvSpPr>
        <p:spPr>
          <a:xfrm>
            <a:off x="3667320" y="510552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1a0d"/>
                </a:solidFill>
                <a:latin typeface="Arial"/>
              </a:rPr>
              <a:t>an initiative of 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PARTNER color tag.jpg"/>
          <p:cNvPicPr/>
          <p:nvPr/>
        </p:nvPicPr>
        <p:blipFill>
          <a:blip r:embed="rId2"/>
          <a:stretch/>
        </p:blipFill>
        <p:spPr>
          <a:xfrm>
            <a:off x="304920" y="624852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126" name="Straight Connector 8"/>
          <p:cNvSpPr/>
          <p:nvPr/>
        </p:nvSpPr>
        <p:spPr>
          <a:xfrm>
            <a:off x="152280" y="6172200"/>
            <a:ext cx="876312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BE24-B592-4468-92A8-B8673C989A54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PARTNER color tag.jpg"/>
          <p:cNvPicPr/>
          <p:nvPr/>
        </p:nvPicPr>
        <p:blipFill>
          <a:blip r:embed="rId2"/>
          <a:stretch/>
        </p:blipFill>
        <p:spPr>
          <a:xfrm>
            <a:off x="304920" y="624852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168" name="Straight Connector 8"/>
          <p:cNvSpPr/>
          <p:nvPr/>
        </p:nvSpPr>
        <p:spPr>
          <a:xfrm>
            <a:off x="152280" y="6172200"/>
            <a:ext cx="876312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7"/>
          </p:nvPr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ECC6-4206-4F88-A46D-DD6335C05BA5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PARTNER color tag.jpg"/>
          <p:cNvPicPr/>
          <p:nvPr/>
        </p:nvPicPr>
        <p:blipFill>
          <a:blip r:embed="rId2"/>
          <a:stretch/>
        </p:blipFill>
        <p:spPr>
          <a:xfrm>
            <a:off x="304920" y="624852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210" name="Straight Connector 8"/>
          <p:cNvSpPr/>
          <p:nvPr/>
        </p:nvSpPr>
        <p:spPr>
          <a:xfrm>
            <a:off x="152280" y="6172200"/>
            <a:ext cx="876312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9"/>
          </p:nvPr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0DE4-E4C9-4431-A9AF-1222F13DCEEF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PARTNER color tag.jpg"/>
          <p:cNvPicPr/>
          <p:nvPr/>
        </p:nvPicPr>
        <p:blipFill>
          <a:blip r:embed="rId2"/>
          <a:stretch/>
        </p:blipFill>
        <p:spPr>
          <a:xfrm>
            <a:off x="304920" y="624852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252" name="Straight Connector 8"/>
          <p:cNvSpPr/>
          <p:nvPr/>
        </p:nvSpPr>
        <p:spPr>
          <a:xfrm>
            <a:off x="152280" y="6172200"/>
            <a:ext cx="876312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1"/>
          </p:nvPr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F3D1-4524-4BFB-AE4A-46E2B9DC7F63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6" descr="PARTNER color tag.jpg"/>
          <p:cNvPicPr/>
          <p:nvPr/>
        </p:nvPicPr>
        <p:blipFill>
          <a:blip r:embed="rId2"/>
          <a:stretch/>
        </p:blipFill>
        <p:spPr>
          <a:xfrm>
            <a:off x="304920" y="624852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294" name="Straight Connector 8"/>
          <p:cNvSpPr/>
          <p:nvPr/>
        </p:nvSpPr>
        <p:spPr>
          <a:xfrm>
            <a:off x="152280" y="6172200"/>
            <a:ext cx="876312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13"/>
          </p:nvPr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E06D-6346-40F5-9C44-79D43DA17C1B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6" descr="PARTNER color tag.jpg"/>
          <p:cNvPicPr/>
          <p:nvPr/>
        </p:nvPicPr>
        <p:blipFill>
          <a:blip r:embed="rId2"/>
          <a:stretch/>
        </p:blipFill>
        <p:spPr>
          <a:xfrm>
            <a:off x="304920" y="624852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336" name="Straight Connector 8"/>
          <p:cNvSpPr/>
          <p:nvPr/>
        </p:nvSpPr>
        <p:spPr>
          <a:xfrm>
            <a:off x="152280" y="6172200"/>
            <a:ext cx="876312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15"/>
          </p:nvPr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1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2EB3-2DD9-42FC-900E-9EF6922DBE2A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1a0d"/>
                </a:solidFill>
                <a:latin typeface="Avenir Heavy"/>
              </a:rPr>
              <a:t>Regional Collaboratives as</a:t>
            </a:r>
            <a:br>
              <a:rPr sz="3200"/>
            </a:br>
            <a:r>
              <a:rPr b="1" lang="en-US" sz="3200" spc="-1" strike="noStrike">
                <a:solidFill>
                  <a:srgbClr val="351a0d"/>
                </a:solidFill>
                <a:latin typeface="Avenir Heavy"/>
              </a:rPr>
              <a:t>Catalysts for Quality Reporting and Improvement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446556"/>
                </a:solidFill>
                <a:latin typeface="Avenir Heavy"/>
              </a:rPr>
              <a:t>Engaging Consumers Engagingly</a:t>
            </a:r>
            <a:br>
              <a:rPr sz="3200"/>
            </a:br>
            <a:br>
              <a:rPr sz="3200"/>
            </a:br>
            <a:r>
              <a:rPr b="0" lang="en-US" sz="1800" spc="-1" strike="noStrike">
                <a:solidFill>
                  <a:srgbClr val="351a0d"/>
                </a:solidFill>
                <a:latin typeface="Avenir Heavy"/>
              </a:rPr>
              <a:t>AHRQ September 15, 2009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200" spc="-1" strike="noStrike">
                <a:solidFill>
                  <a:srgbClr val="c4b796"/>
                </a:solidFill>
                <a:latin typeface="Avenir Heavy"/>
              </a:rPr>
              <a:t>Partner for Quality Care is an initiative of the Oregon Health Care Quality Corporation</a:t>
            </a:r>
            <a:br>
              <a:rPr sz="1200"/>
            </a:br>
            <a:r>
              <a:rPr b="0" lang="en-US" sz="1200" spc="-1" strike="noStrike">
                <a:solidFill>
                  <a:srgbClr val="c4b796"/>
                </a:solidFill>
                <a:latin typeface="Avenir Heavy"/>
              </a:rPr>
              <a:t>http://www.PartnerForQualityCare.org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02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5DE9-A25F-4545-913E-25F5C0023FF6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685800" y="609480"/>
            <a:ext cx="8067600" cy="5861160"/>
            <a:chOff x="685800" y="609480"/>
            <a:chExt cx="8067600" cy="5861160"/>
          </a:xfrm>
        </p:grpSpPr>
        <p:pic>
          <p:nvPicPr>
            <p:cNvPr id="1054" name="Picture 2" descr="\\Staffdesktop\shareddocs\Prj P4QC\Pictures\Health Care Quality 101 event with AARP and Pt. Safety\_MG_7847.jpg"/>
            <p:cNvPicPr/>
            <p:nvPr/>
          </p:nvPicPr>
          <p:blipFill>
            <a:blip r:embed="rId1"/>
            <a:stretch/>
          </p:blipFill>
          <p:spPr>
            <a:xfrm>
              <a:off x="685800" y="609480"/>
              <a:ext cx="5029200" cy="335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Picture 3" descr="\\Staffdesktop\shareddocs\Prj P4QC\Pictures\Health Care Quality 101 event with AARP and Pt. Safety\_MG_7903.jpg"/>
            <p:cNvPicPr/>
            <p:nvPr/>
          </p:nvPicPr>
          <p:blipFill>
            <a:blip r:embed="rId2"/>
            <a:stretch/>
          </p:blipFill>
          <p:spPr>
            <a:xfrm>
              <a:off x="3733920" y="3124080"/>
              <a:ext cx="5019480" cy="334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095520" y="121896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1a0d"/>
                </a:solidFill>
                <a:latin typeface="Avenir Heavy"/>
              </a:rPr>
              <a:t>Have fun!</a:t>
            </a:r>
            <a:br>
              <a:rPr sz="2800"/>
            </a:br>
            <a:r>
              <a:rPr b="1" lang="en-US" sz="2800" spc="-1" strike="noStrike">
                <a:solidFill>
                  <a:srgbClr val="351a0d"/>
                </a:solidFill>
                <a:latin typeface="Avenir Heavy"/>
              </a:rPr>
              <a:t>The audience will do the work!</a:t>
            </a:r>
            <a:br>
              <a:rPr sz="2800"/>
            </a:br>
            <a:endParaRPr b="0" lang="en-US" sz="2800" spc="-1" strike="noStrike">
              <a:solidFill>
                <a:srgbClr val="351a0d"/>
              </a:solidFill>
              <a:latin typeface="Avenir Heav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51a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5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351a0d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5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351a0d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6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351a0d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6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351a0d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6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6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6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6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6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6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733320" y="5029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:  Suck it up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69" name="Text Box 15"/>
          <p:cNvSpPr/>
          <p:nvPr/>
        </p:nvSpPr>
        <p:spPr>
          <a:xfrm>
            <a:off x="533520" y="6039000"/>
            <a:ext cx="33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:  Work to improve things or find a new doc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70" name="Text Box 16"/>
          <p:cNvSpPr/>
          <p:nvPr/>
        </p:nvSpPr>
        <p:spPr>
          <a:xfrm>
            <a:off x="5110200" y="5029200"/>
            <a:ext cx="37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:  Stop going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71" name="Text Box 17"/>
          <p:cNvSpPr/>
          <p:nvPr/>
        </p:nvSpPr>
        <p:spPr>
          <a:xfrm>
            <a:off x="5024520" y="603900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:  Nothing, it might get better</a:t>
            </a:r>
            <a:endParaRPr b="0" lang="en-US" sz="20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7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7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7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75" name="Text Box 21"/>
          <p:cNvSpPr/>
          <p:nvPr/>
        </p:nvSpPr>
        <p:spPr>
          <a:xfrm>
            <a:off x="336600" y="410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7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77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78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79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80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81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82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83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351a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84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85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86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87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88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89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90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91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92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93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94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95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96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97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98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99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00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01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02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03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04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05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06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07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0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0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1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1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1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1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1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1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1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1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1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1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2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2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2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pic>
        <p:nvPicPr>
          <p:cNvPr id="112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2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2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2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2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2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2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pic>
        <p:nvPicPr>
          <p:cNvPr id="1130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1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venir Heavy"/>
              </a:rPr>
              <a:t>Health Care Teams:  What should you do if you don’t like your relationship with your doctor?</a:t>
            </a:r>
            <a:endParaRPr b="0" lang="en-US" sz="3200" spc="-1" strike="noStrike">
              <a:solidFill>
                <a:srgbClr val="351a0d"/>
              </a:solidFill>
              <a:latin typeface="Avenir Heav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1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8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"/>
          <p:cNvGrpSpPr/>
          <p:nvPr/>
        </p:nvGrpSpPr>
        <p:grpSpPr>
          <a:xfrm>
            <a:off x="457200" y="228600"/>
            <a:ext cx="8447040" cy="6062760"/>
            <a:chOff x="457200" y="228600"/>
            <a:chExt cx="8447040" cy="6062760"/>
          </a:xfrm>
        </p:grpSpPr>
        <p:pic>
          <p:nvPicPr>
            <p:cNvPr id="1134" name="Picture 3" descr="\\Staffdesktop\shareddocs\Prj P4QC\Pictures\Health Care Quality 101 event with AARP and Pt. Safety\_MG_8011.jpg"/>
            <p:cNvPicPr/>
            <p:nvPr/>
          </p:nvPicPr>
          <p:blipFill>
            <a:blip r:embed="rId1"/>
            <a:stretch/>
          </p:blipFill>
          <p:spPr>
            <a:xfrm>
              <a:off x="457200" y="838080"/>
              <a:ext cx="3143160" cy="47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5" name="Picture 5" descr="\\Staffdesktop\shareddocs\Prj P4QC\Pictures\Health Care Quality 101 event with AARP and Pt. Safety\_MG_8052.jpg"/>
            <p:cNvPicPr/>
            <p:nvPr/>
          </p:nvPicPr>
          <p:blipFill>
            <a:blip r:embed="rId2"/>
            <a:stretch/>
          </p:blipFill>
          <p:spPr>
            <a:xfrm>
              <a:off x="3352680" y="228600"/>
              <a:ext cx="4496040" cy="29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2" descr="\\Staffdesktop\shareddocs\Prj P4QC\Pictures\Health Care Quality 101 event with AARP and Pt. Safety\_MG_8098.jpg"/>
            <p:cNvPicPr/>
            <p:nvPr/>
          </p:nvPicPr>
          <p:blipFill>
            <a:blip r:embed="rId3"/>
            <a:stretch/>
          </p:blipFill>
          <p:spPr>
            <a:xfrm>
              <a:off x="3809880" y="2895480"/>
              <a:ext cx="5094360" cy="339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Why do this?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onsumers: “That’s what it’s all about”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“</a:t>
            </a: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I’m a consumer, too” is dead wrong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e product is much better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Wonderful unanticipated payoffs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Keeps me humbled, stretched and engaged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139" name="Footer Placeholder 3"/>
          <p:cNvSpPr/>
          <p:nvPr/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http://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61D6-4E2D-4E07-983E-15B0FF3C62C1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Is it working?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300 Oregonians down, 3,400,700 to go.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00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1a0d"/>
                </a:solidFill>
                <a:latin typeface="Avenir book"/>
              </a:rPr>
              <a:t>Is it possible to change the culture?</a:t>
            </a:r>
            <a:endParaRPr b="0" lang="en-US" sz="28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00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1a0d"/>
                </a:solidFill>
                <a:latin typeface="Avenir book"/>
              </a:rPr>
              <a:t>Spread?</a:t>
            </a:r>
            <a:endParaRPr b="0" lang="en-US" sz="2800" spc="-1" strike="noStrike">
              <a:solidFill>
                <a:srgbClr val="351a0d"/>
              </a:solidFill>
              <a:latin typeface="Avenir book"/>
            </a:endParaRPr>
          </a:p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Materials are wildly popular with all stakeholders.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00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1a0d"/>
                </a:solidFill>
                <a:latin typeface="Avenir book"/>
              </a:rPr>
              <a:t>Are they prompting conversations?</a:t>
            </a:r>
            <a:endParaRPr b="0" lang="en-US" sz="2800" spc="-1" strike="noStrike">
              <a:solidFill>
                <a:srgbClr val="351a0d"/>
              </a:solidFill>
              <a:latin typeface="Avenir book"/>
            </a:endParaRPr>
          </a:p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Will this translate to looking at data?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Quality Corp Mission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pic>
        <p:nvPicPr>
          <p:cNvPr id="1026" name="Picture 5" descr="Gra[phic shows stakeholders ( doctors, hospitals, purchasers and employers, consumers) holding hands to demonstrate cooperation&#13;&#10;"/>
          <p:cNvPicPr/>
          <p:nvPr/>
        </p:nvPicPr>
        <p:blipFill>
          <a:blip r:embed="rId1"/>
          <a:stretch/>
        </p:blipFill>
        <p:spPr>
          <a:xfrm>
            <a:off x="685800" y="2209680"/>
            <a:ext cx="3417840" cy="2435400"/>
          </a:xfrm>
          <a:prstGeom prst="rect">
            <a:avLst/>
          </a:prstGeom>
          <a:ln w="0">
            <a:noFill/>
          </a:ln>
        </p:spPr>
      </p:pic>
      <p:sp>
        <p:nvSpPr>
          <p:cNvPr id="1027" name=""/>
          <p:cNvSpPr txBox="1"/>
          <p:nvPr/>
        </p:nvSpPr>
        <p:spPr>
          <a:xfrm>
            <a:off x="4495680" y="2286000"/>
            <a:ext cx="4191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o measure &amp; improve the quality of health care in Oregon through collaboration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Our strategy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029" name="Footer Placeholder 3"/>
          <p:cNvSpPr/>
          <p:nvPr/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Partner for Quality Care is an initiative of the Oregon Health Care Quality Corporation http://www.PartnerForQualityCare.org</a:t>
            </a:r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3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3D0E-5F47-451C-AD44-8E8EE3DF6415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  <p:pic>
        <p:nvPicPr>
          <p:cNvPr id="1031" name="Diagram 6" descr="Three overlapping circles emphasize relatedness of measurment, improvement and consumer engagement&#13;&#10;"/>
          <p:cNvPicPr/>
          <p:nvPr/>
        </p:nvPicPr>
        <p:blipFill>
          <a:blip r:embed="rId1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onsumer Strategy:</a:t>
            </a:r>
            <a:br>
              <a:rPr sz="4400"/>
            </a:b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Help Consumers Understand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27920" indent="-280080">
              <a:spcBef>
                <a:spcPts val="700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1a0d"/>
                </a:solidFill>
                <a:latin typeface="Avenir book"/>
              </a:rPr>
              <a:t>What is quality?</a:t>
            </a:r>
            <a:endParaRPr b="0" lang="en-US" sz="2800" spc="-1" strike="noStrike">
              <a:solidFill>
                <a:srgbClr val="351a0d"/>
              </a:solidFill>
              <a:latin typeface="Avenir book"/>
            </a:endParaRPr>
          </a:p>
          <a:p>
            <a:pPr lvl="1" marL="727920" indent="-280080">
              <a:spcBef>
                <a:spcPts val="700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1a0d"/>
                </a:solidFill>
                <a:latin typeface="Avenir book"/>
              </a:rPr>
              <a:t>Why should you care?</a:t>
            </a:r>
            <a:endParaRPr b="0" lang="en-US" sz="2800" spc="-1" strike="noStrike">
              <a:solidFill>
                <a:srgbClr val="351a0d"/>
              </a:solidFill>
              <a:latin typeface="Avenir book"/>
            </a:endParaRPr>
          </a:p>
          <a:p>
            <a:pPr lvl="1" marL="727920" indent="-280080">
              <a:spcBef>
                <a:spcPts val="700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1a0d"/>
                </a:solidFill>
                <a:latin typeface="Avenir book"/>
              </a:rPr>
              <a:t>What can you do to get it?</a:t>
            </a:r>
            <a:endParaRPr b="0" lang="en-US" sz="2800" spc="-1" strike="noStrike">
              <a:solidFill>
                <a:srgbClr val="351a0d"/>
              </a:solidFill>
              <a:latin typeface="Avenir book"/>
            </a:endParaRPr>
          </a:p>
          <a:p>
            <a:pPr marL="335880" indent="-3358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ritical Principle: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27920" indent="-280080">
              <a:spcBef>
                <a:spcPts val="700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1a0d"/>
                </a:solidFill>
                <a:latin typeface="Avenir book"/>
              </a:rPr>
              <a:t>Encourage use of comparative information </a:t>
            </a:r>
            <a:r>
              <a:rPr b="1" lang="en-US" sz="2800" spc="-1" strike="noStrike">
                <a:solidFill>
                  <a:srgbClr val="db3013"/>
                </a:solidFill>
                <a:latin typeface="Avenir book"/>
              </a:rPr>
              <a:t>&amp;</a:t>
            </a:r>
            <a:endParaRPr b="0" lang="en-US" sz="2800" spc="-1" strike="noStrike">
              <a:solidFill>
                <a:srgbClr val="351a0d"/>
              </a:solidFill>
              <a:latin typeface="Avenir book"/>
            </a:endParaRPr>
          </a:p>
          <a:p>
            <a:pPr lvl="1" marL="727920" indent="-280080">
              <a:spcBef>
                <a:spcPts val="700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1a0d"/>
                </a:solidFill>
                <a:latin typeface="Avenir book"/>
              </a:rPr>
              <a:t>Make consumers partners with their provider </a:t>
            </a:r>
            <a:endParaRPr b="0" lang="en-US" sz="2800" spc="-1" strike="noStrike">
              <a:solidFill>
                <a:srgbClr val="351a0d"/>
              </a:solidFill>
              <a:latin typeface="Avenir book"/>
            </a:endParaRPr>
          </a:p>
          <a:p>
            <a:pPr marL="335880" indent="-3358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34" name="Footer Placeholder 2"/>
          <p:cNvSpPr/>
          <p:nvPr/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http://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394D-DC8A-423B-A03E-1B42B0EC894A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1a0d"/>
                </a:solidFill>
                <a:latin typeface="Avenir Heavy"/>
              </a:rPr>
              <a:t>Steps</a:t>
            </a:r>
            <a:endParaRPr b="0" lang="en-US" sz="40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a0d"/>
                </a:solidFill>
                <a:latin typeface="Avenir book"/>
              </a:rPr>
              <a:t>Recruit community “go to” partners </a:t>
            </a:r>
            <a:endParaRPr b="0" lang="en-US" sz="24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4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d"/>
                </a:solidFill>
                <a:latin typeface="Avenir book"/>
              </a:rPr>
              <a:t>AARP Oregon </a:t>
            </a:r>
            <a:endParaRPr b="0" lang="en-US" sz="20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4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d"/>
                </a:solidFill>
                <a:latin typeface="Avenir book"/>
              </a:rPr>
              <a:t>RWJF Consumer Voices for Coverage grantees – including Oregonians for Health Security and Oregon Action</a:t>
            </a:r>
            <a:endParaRPr b="0" lang="en-US" sz="2000" spc="-1" strike="noStrike">
              <a:solidFill>
                <a:srgbClr val="351a0d"/>
              </a:solidFill>
              <a:latin typeface="Avenir book"/>
            </a:endParaRPr>
          </a:p>
          <a:p>
            <a:pPr marL="343080" indent="-343080">
              <a:spcBef>
                <a:spcPts val="60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a0d"/>
                </a:solidFill>
                <a:latin typeface="Avenir book"/>
              </a:rPr>
              <a:t>Establish a clear, aligned messages</a:t>
            </a:r>
            <a:endParaRPr b="0" lang="en-US" sz="2400" spc="-1" strike="noStrike">
              <a:solidFill>
                <a:srgbClr val="351a0d"/>
              </a:solidFill>
              <a:latin typeface="Avenir book"/>
            </a:endParaRPr>
          </a:p>
          <a:p>
            <a:pPr marL="343080" indent="-343080">
              <a:spcBef>
                <a:spcPts val="4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a0d"/>
                </a:solidFill>
                <a:latin typeface="Avenir book"/>
              </a:rPr>
              <a:t>Develop a core set of materials</a:t>
            </a: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 </a:t>
            </a:r>
            <a:r>
              <a:rPr b="0" lang="en-US" sz="2000" spc="-1" strike="noStrike">
                <a:solidFill>
                  <a:srgbClr val="351a0d"/>
                </a:solidFill>
                <a:latin typeface="Avenir book"/>
              </a:rPr>
              <a:t>(scientifically vetted and consumer tested)</a:t>
            </a:r>
            <a:endParaRPr b="0" lang="en-US" sz="20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4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d"/>
                </a:solidFill>
                <a:latin typeface="Avenir book"/>
              </a:rPr>
              <a:t>Quality Action Packet with 5 inserts</a:t>
            </a:r>
            <a:endParaRPr b="0" lang="en-US" sz="20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4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d"/>
                </a:solidFill>
                <a:latin typeface="Avenir book"/>
              </a:rPr>
              <a:t>Web</a:t>
            </a:r>
            <a:endParaRPr b="0" lang="en-US" sz="2000" spc="-1" strike="noStrike">
              <a:solidFill>
                <a:srgbClr val="351a0d"/>
              </a:solidFill>
              <a:latin typeface="Avenir book"/>
            </a:endParaRPr>
          </a:p>
          <a:p>
            <a:pPr marL="343080" indent="-343080">
              <a:spcBef>
                <a:spcPts val="60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a0d"/>
                </a:solidFill>
                <a:latin typeface="Avenir book"/>
              </a:rPr>
              <a:t>Go where the partner wants to go</a:t>
            </a:r>
            <a:endParaRPr b="0" lang="en-US" sz="24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 txBox="1"/>
          <p:nvPr/>
        </p:nvSpPr>
        <p:spPr>
          <a:xfrm>
            <a:off x="4648320" y="685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a0d"/>
                </a:solidFill>
                <a:latin typeface="Avenir book"/>
              </a:rPr>
              <a:t>Quality care is safe, it works, it’s tailored to you</a:t>
            </a:r>
            <a:endParaRPr b="0" lang="en-US" sz="2400" spc="-1" strike="noStrike">
              <a:solidFill>
                <a:srgbClr val="351a0d"/>
              </a:solidFill>
              <a:latin typeface="Avenir book"/>
            </a:endParaRPr>
          </a:p>
          <a:p>
            <a:pPr marL="291600" indent="-291600">
              <a:spcBef>
                <a:spcPts val="60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venir book"/>
            </a:endParaRPr>
          </a:p>
          <a:p>
            <a:pPr marL="291600" indent="-291600">
              <a:spcBef>
                <a:spcPts val="60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a0d"/>
                </a:solidFill>
                <a:latin typeface="Avenir book"/>
              </a:rPr>
              <a:t>There are big variations in care quality</a:t>
            </a:r>
            <a:endParaRPr b="0" lang="en-US" sz="2400" spc="-1" strike="noStrike">
              <a:solidFill>
                <a:srgbClr val="351a0d"/>
              </a:solidFill>
              <a:latin typeface="Avenir book"/>
            </a:endParaRPr>
          </a:p>
          <a:p>
            <a:pPr marL="291600" indent="-291600">
              <a:spcBef>
                <a:spcPts val="60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venir book"/>
            </a:endParaRPr>
          </a:p>
          <a:p>
            <a:pPr marL="291600" indent="-291600">
              <a:spcBef>
                <a:spcPts val="60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a0d"/>
                </a:solidFill>
                <a:latin typeface="Avenir book"/>
              </a:rPr>
              <a:t>You need to be informed and involved</a:t>
            </a:r>
            <a:endParaRPr b="0" lang="en-US" sz="2400" spc="-1" strike="noStrike">
              <a:solidFill>
                <a:srgbClr val="351a0d"/>
              </a:solidFill>
              <a:latin typeface="Avenir book"/>
            </a:endParaRPr>
          </a:p>
          <a:p>
            <a:pPr lvl="1" marL="631440" indent="-242640">
              <a:spcBef>
                <a:spcPts val="601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a0d"/>
                </a:solidFill>
                <a:latin typeface="Avenir book"/>
              </a:rPr>
              <a:t>Talk to your provider about what quality means for you</a:t>
            </a:r>
            <a:endParaRPr b="0" lang="en-US" sz="2400" spc="-1" strike="noStrike">
              <a:solidFill>
                <a:srgbClr val="351a0d"/>
              </a:solidFill>
              <a:latin typeface="Avenir book"/>
            </a:endParaRPr>
          </a:p>
          <a:p>
            <a:pPr lvl="1" marL="631440" indent="-242640">
              <a:spcBef>
                <a:spcPts val="601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a0d"/>
                </a:solidFill>
                <a:latin typeface="Avenir book"/>
              </a:rPr>
              <a:t>Do your part to stay healthy</a:t>
            </a:r>
            <a:endParaRPr b="0" lang="en-US" sz="2400" spc="-1" strike="noStrike">
              <a:solidFill>
                <a:srgbClr val="351a0d"/>
              </a:solidFill>
              <a:latin typeface="Avenir book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1a0d"/>
              </a:solidFill>
              <a:latin typeface="Avenir book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304920" y="762120"/>
            <a:ext cx="4179600" cy="5410080"/>
            <a:chOff x="304920" y="762120"/>
            <a:chExt cx="4179600" cy="5410080"/>
          </a:xfrm>
        </p:grpSpPr>
        <p:pic>
          <p:nvPicPr>
            <p:cNvPr id="1040" name="" descr=""/>
            <p:cNvPicPr/>
            <p:nvPr/>
          </p:nvPicPr>
          <p:blipFill>
            <a:blip r:embed="rId1"/>
            <a:stretch/>
          </p:blipFill>
          <p:spPr>
            <a:xfrm>
              <a:off x="304920" y="762120"/>
              <a:ext cx="4179600" cy="5410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6" descr="Brochure shows graphics that accompany print message&#13;&#10;"/>
          <p:cNvPicPr/>
          <p:nvPr/>
        </p:nvPicPr>
        <p:blipFill>
          <a:blip r:embed="rId1"/>
          <a:stretch/>
        </p:blipFill>
        <p:spPr>
          <a:xfrm>
            <a:off x="533520" y="914400"/>
            <a:ext cx="3720960" cy="480060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 txBox="1"/>
          <p:nvPr/>
        </p:nvSpPr>
        <p:spPr>
          <a:xfrm>
            <a:off x="4648320" y="960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51a0d"/>
                </a:solidFill>
                <a:latin typeface="Avenir book"/>
              </a:rPr>
              <a:t>What’s quality/ How can you get it?</a:t>
            </a:r>
            <a:endParaRPr b="0" lang="en-US" sz="1800" spc="-1" strike="noStrike">
              <a:solidFill>
                <a:srgbClr val="351a0d"/>
              </a:solidFill>
              <a:latin typeface="Avenir book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1a0d"/>
              </a:solidFill>
              <a:latin typeface="Avenir book"/>
            </a:endParaRPr>
          </a:p>
          <a:p>
            <a:pPr marL="325800" indent="-325800">
              <a:spcBef>
                <a:spcPts val="45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51a0d"/>
                </a:solidFill>
                <a:latin typeface="Avenir book"/>
              </a:rPr>
              <a:t>How can you find trustworthy information on the web?</a:t>
            </a:r>
            <a:endParaRPr b="0" lang="en-US" sz="1800" spc="-1" strike="noStrike">
              <a:solidFill>
                <a:srgbClr val="351a0d"/>
              </a:solidFill>
              <a:latin typeface="Avenir book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1a0d"/>
              </a:solidFill>
              <a:latin typeface="Avenir book"/>
            </a:endParaRPr>
          </a:p>
          <a:p>
            <a:pPr marL="325800" indent="-325800">
              <a:spcBef>
                <a:spcPts val="45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51a0d"/>
                </a:solidFill>
                <a:latin typeface="Avenir book"/>
              </a:rPr>
              <a:t>Making the most of your medical appointments</a:t>
            </a:r>
            <a:endParaRPr b="0" lang="en-US" sz="1800" spc="-1" strike="noStrike">
              <a:solidFill>
                <a:srgbClr val="351a0d"/>
              </a:solidFill>
              <a:latin typeface="Avenir book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1a0d"/>
              </a:solidFill>
              <a:latin typeface="Avenir book"/>
            </a:endParaRPr>
          </a:p>
          <a:p>
            <a:pPr marL="325800" indent="-325800">
              <a:spcBef>
                <a:spcPts val="45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51a0d"/>
                </a:solidFill>
                <a:latin typeface="Avenir book"/>
              </a:rPr>
              <a:t>What is care that works?</a:t>
            </a:r>
            <a:endParaRPr b="0" lang="en-US" sz="1800" spc="-1" strike="noStrike">
              <a:solidFill>
                <a:srgbClr val="351a0d"/>
              </a:solidFill>
              <a:latin typeface="Avenir book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1a0d"/>
              </a:solidFill>
              <a:latin typeface="Avenir book"/>
            </a:endParaRPr>
          </a:p>
          <a:p>
            <a:pPr marL="325800" indent="-325800">
              <a:spcBef>
                <a:spcPts val="45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1a0d"/>
                </a:solidFill>
                <a:latin typeface="Avenir book"/>
              </a:rPr>
              <a:t>What is the right amount of care?</a:t>
            </a:r>
            <a:endParaRPr b="0" lang="en-US" sz="1800" spc="-1" strike="noStrike">
              <a:solidFill>
                <a:srgbClr val="351a0d"/>
              </a:solidFill>
              <a:latin typeface="Avenir book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1a0d"/>
              </a:solidFill>
              <a:latin typeface="Avenir book"/>
            </a:endParaRPr>
          </a:p>
          <a:p>
            <a:pPr marL="325800" indent="-325800">
              <a:spcBef>
                <a:spcPts val="45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1a0d"/>
                </a:solidFill>
                <a:latin typeface="Avenir book"/>
              </a:rPr>
              <a:t>How to avoid medication errors</a:t>
            </a:r>
            <a:endParaRPr b="0" lang="en-US" sz="1800" spc="-1" strike="noStrike">
              <a:solidFill>
                <a:srgbClr val="351a0d"/>
              </a:solidFill>
              <a:latin typeface="Avenir book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Footer Placeholder 3"/>
          <p:cNvSpPr/>
          <p:nvPr/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Partner for Quality Care is an initiative of the Oregon Health Care Quality Corporation http://www.PartnerForQualityCare.org</a:t>
            </a:r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4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2437-E5AF-4E2D-B45B-B6B09099F9CE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  <p:pic>
        <p:nvPicPr>
          <p:cNvPr id="1045" name="Picture 2" descr="Graphic shows web home page for consumers with two forms of navigation – scenarios and tabs.&#13;&#10;"/>
          <p:cNvPicPr/>
          <p:nvPr/>
        </p:nvPicPr>
        <p:blipFill>
          <a:blip r:embed="rId1"/>
          <a:stretch/>
        </p:blipFill>
        <p:spPr>
          <a:xfrm>
            <a:off x="533520" y="380880"/>
            <a:ext cx="761976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351a0d"/>
                </a:solidFill>
                <a:latin typeface="Avenir Heavy"/>
              </a:rPr>
              <a:t>Health Care Quality and Patient Safety 101</a:t>
            </a:r>
            <a:r>
              <a:rPr b="0" lang="en-US" sz="3600" spc="-1" strike="noStrike">
                <a:solidFill>
                  <a:srgbClr val="351a0d"/>
                </a:solidFill>
                <a:latin typeface="Avenir Heavy"/>
              </a:rPr>
              <a:t>	</a:t>
            </a:r>
            <a:endParaRPr b="0" lang="en-US" sz="3600" spc="-1" strike="noStrike">
              <a:solidFill>
                <a:srgbClr val="351a0d"/>
              </a:solidFill>
              <a:latin typeface="Avenir Heavy"/>
            </a:endParaRPr>
          </a:p>
        </p:txBody>
      </p:sp>
      <p:graphicFrame>
        <p:nvGraphicFramePr>
          <p:cNvPr id="1047" name=""/>
          <p:cNvGraphicFramePr/>
          <p:nvPr/>
        </p:nvGraphicFramePr>
        <p:xfrm>
          <a:off x="228600" y="2651040"/>
          <a:ext cx="8686800" cy="3152880"/>
        </p:xfrm>
        <a:graphic>
          <a:graphicData uri="http://schemas.openxmlformats.org/drawingml/2006/table">
            <a:tbl>
              <a:tblPr/>
              <a:tblGrid>
                <a:gridCol w="2057400"/>
                <a:gridCol w="66294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1a0d"/>
                          </a:solidFill>
                          <a:latin typeface="Avenir book"/>
                        </a:rPr>
                        <a:t>Building Skills </a:t>
                      </a:r>
                      <a:endParaRPr b="0" lang="en-US" sz="2000" spc="-1" strike="noStrike">
                        <a:solidFill>
                          <a:srgbClr val="351a0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f20000"/>
                        </a:buClr>
                        <a:buFont typeface="Wingdings 2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51a0d"/>
                          </a:solidFill>
                          <a:latin typeface="Avenir book"/>
                        </a:rPr>
                        <a:t>Patients and Health Care Teams: Building Successful Partnership</a:t>
                      </a:r>
                      <a:endParaRPr b="0" lang="en-US" sz="2000" spc="-1" strike="noStrike">
                        <a:solidFill>
                          <a:srgbClr val="351a0d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f20000"/>
                        </a:buClr>
                        <a:buFont typeface="Wingdings 2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51a0d"/>
                          </a:solidFill>
                          <a:latin typeface="Avenir book"/>
                        </a:rPr>
                        <a:t>Lots of time for questions and sharing of experiences</a:t>
                      </a:r>
                      <a:endParaRPr b="0" lang="en-US" sz="2000" spc="-1" strike="noStrike">
                        <a:solidFill>
                          <a:srgbClr val="351a0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1a0d"/>
                          </a:solidFill>
                          <a:latin typeface="Avenir book"/>
                        </a:rPr>
                        <a:t>Modeling Behavior </a:t>
                      </a:r>
                      <a:endParaRPr b="0" lang="en-US" sz="2000" spc="-1" strike="noStrike">
                        <a:solidFill>
                          <a:srgbClr val="351a0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f20000"/>
                        </a:buClr>
                        <a:buFont typeface="Wingdings 2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51a0d"/>
                          </a:solidFill>
                          <a:latin typeface="Avenir book"/>
                        </a:rPr>
                        <a:t>Patient/Provider skits – bad encounter / good encounter</a:t>
                      </a:r>
                      <a:endParaRPr b="0" lang="en-US" sz="2000" spc="-1" strike="noStrike">
                        <a:solidFill>
                          <a:srgbClr val="351a0d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f20000"/>
                        </a:buClr>
                        <a:buFont typeface="Wingdings 2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51a0d"/>
                          </a:solidFill>
                          <a:latin typeface="Avenir book"/>
                        </a:rPr>
                        <a:t>Facilitated debrief of the skits</a:t>
                      </a:r>
                      <a:endParaRPr b="0" lang="en-US" sz="2000" spc="-1" strike="noStrike">
                        <a:solidFill>
                          <a:srgbClr val="351a0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1a0d"/>
                          </a:solidFill>
                          <a:latin typeface="Avenir book"/>
                        </a:rPr>
                        <a:t>Re-enforcing Knowledge</a:t>
                      </a:r>
                      <a:endParaRPr b="0" lang="en-US" sz="2000" spc="-1" strike="noStrike">
                        <a:solidFill>
                          <a:srgbClr val="351a0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f20000"/>
                        </a:buClr>
                        <a:buFont typeface="Wingdings 2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51a0d"/>
                          </a:solidFill>
                          <a:latin typeface="Avenir book"/>
                        </a:rPr>
                        <a:t>Who Wants to be a Quality Millionaire game show</a:t>
                      </a:r>
                      <a:endParaRPr b="0" lang="en-US" sz="2000" spc="-1" strike="noStrike">
                        <a:solidFill>
                          <a:srgbClr val="351a0d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f20000"/>
                        </a:buClr>
                        <a:buFont typeface="Wingdings 2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51a0d"/>
                          </a:solidFill>
                          <a:latin typeface="Avenir book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351a0d"/>
                          </a:solidFill>
                          <a:latin typeface="Avenir book"/>
                        </a:rPr>
                        <a:t>What will you do next” table discussion </a:t>
                      </a:r>
                      <a:endParaRPr b="0" lang="en-US" sz="2000" spc="-1" strike="noStrike">
                        <a:solidFill>
                          <a:srgbClr val="351a0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1a0d"/>
                          </a:solidFill>
                          <a:latin typeface="Avenir book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351a0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f20000"/>
                        </a:buClr>
                        <a:buFont typeface="Wingdings 2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51a0d"/>
                          </a:solidFill>
                          <a:latin typeface="Avenir book"/>
                        </a:rPr>
                        <a:t>Questions from the PAM</a:t>
                      </a:r>
                      <a:endParaRPr b="0" lang="en-US" sz="2000" spc="-1" strike="noStrike">
                        <a:solidFill>
                          <a:srgbClr val="351a0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48" name=""/>
          <p:cNvGrpSpPr/>
          <p:nvPr/>
        </p:nvGrpSpPr>
        <p:grpSpPr>
          <a:xfrm>
            <a:off x="304920" y="1371600"/>
            <a:ext cx="8039160" cy="1170000"/>
            <a:chOff x="304920" y="1371600"/>
            <a:chExt cx="8039160" cy="1170000"/>
          </a:xfrm>
        </p:grpSpPr>
        <p:graphicFrame>
          <p:nvGraphicFramePr>
            <p:cNvPr id="1049" name="Object 2"/>
            <p:cNvGraphicFramePr/>
            <p:nvPr/>
          </p:nvGraphicFramePr>
          <p:xfrm>
            <a:off x="304920" y="1752480"/>
            <a:ext cx="2286000" cy="603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0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752480"/>
                      <a:ext cx="2286000" cy="60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51" name="Picture 3" descr="http://www.acumentra.org/images/ihi_images/PSC-50pct-150px.jpg"/>
            <p:cNvPicPr/>
            <p:nvPr/>
          </p:nvPicPr>
          <p:blipFill>
            <a:blip r:embed="rId3"/>
            <a:stretch/>
          </p:blipFill>
          <p:spPr>
            <a:xfrm>
              <a:off x="6858000" y="1523880"/>
              <a:ext cx="1486080" cy="9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0" descr="P4QC color tag.jpg"/>
            <p:cNvPicPr/>
            <p:nvPr/>
          </p:nvPicPr>
          <p:blipFill>
            <a:blip r:embed="rId4"/>
            <a:stretch/>
          </p:blipFill>
          <p:spPr>
            <a:xfrm>
              <a:off x="3581280" y="1371600"/>
              <a:ext cx="1905120" cy="117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7:02:57Z</dcterms:created>
  <dc:creator>Staff Desktop</dc:creator>
  <dc:description/>
  <dc:language>en-US</dc:language>
  <cp:lastModifiedBy>DHHS</cp:lastModifiedBy>
  <dcterms:modified xsi:type="dcterms:W3CDTF">2009-12-04T18:29:48Z</dcterms:modified>
  <cp:revision>93</cp:revision>
  <dc:subject/>
  <dc:title>Slide 1</dc:title>
</cp:coreProperties>
</file>