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dt" idx="5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D297-5A46-4E37-B271-1AAD4F18F6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move the slide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ftr" idx="5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 type="sldNum" idx="5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AC84-0B32-4F71-A341-BAB6CEEE9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78ED-97CA-4126-BC12-32A745A17CE4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AE76-90E3-40A3-B05F-A806281F79F9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B7D6-A539-408C-919E-E1D73E104776}" type="slidenum">
              <a:rPr b="0" lang="en-US" sz="1200" spc="-1" strike="noStrike">
                <a:solidFill>
                  <a:srgbClr val="351a0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EB39-490A-45BE-8477-643E76E25D74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DE97-3FB8-4F83-B265-F8B45AAD05A5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1FB5-7EDF-45A2-974C-D62B5C9BBEB9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0CE3-C5C3-46BE-BA79-45BD8FA778EE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A46A-56BB-430C-A95A-0D0C55EA7EB6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A544-0DC1-4525-93A7-84ADFB288292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00D0-A133-4F85-854E-B0C14CA9DDC7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EC52-11EE-49FB-9B33-F7AE9A39C793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9A9F-E3A6-4360-A86F-25D5C8D5110C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316C-8EAF-4747-B495-47508A42F272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BA7C-4BF1-4FA6-908E-93ABD6C18F9B}" type="slidenum">
              <a:rPr b="0" lang="en-US" sz="1200" spc="-1" strike="noStrike">
                <a:solidFill>
                  <a:srgbClr val="351a0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B2D68-339E-43EF-8CEA-8D0F759BF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151E-13E8-4A2C-8829-DADD8BB449B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B9BD99-FBB6-4D2D-A7F0-3467D3DECD6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010EB6-DE41-4808-B791-3257D33B876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7FBCCC-4CE9-43D8-B14C-A055598A78D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5A8A40-65D9-4801-8D3F-05BCF29E65B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A7483A-6F36-47B2-9A63-74A49E5C822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22B3D2-55AD-4F0E-985A-3ECA17C0D9C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23E32B-1258-45F5-B6CC-62EFABE3FD4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BAB037-C2A0-4D51-AA0B-5E5694DA152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897803-3471-459D-8881-90DB1C7AA8E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BC4F47-6B1A-4F49-BBDA-3D7947A6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D84CE-EA29-4E75-A319-4E64DB65255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73DE38-4738-4F8B-A262-8F5B2590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869D35-90CF-44E0-BFB9-C5E377C0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647FC5-D462-4101-BFE7-8327488F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AEA463-7B24-41BC-8220-83CA5A3B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A87D60-BA44-4AE6-ABF8-BA2F6DD3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35C5A7-A6DE-4BBC-8B22-70E67C3E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24B46F-3BDD-4B49-BD66-0C5B08B6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CAC431-D363-48D8-AB8D-4E41946C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A1A907-4127-4DFB-8E8F-1D586328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EBDC92-0E73-405D-93B2-98A9A433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6B19B-FAF6-4448-97C3-104DF608402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E42176-26F6-44DD-A837-9FE18317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C36979-8B67-43A9-AD0A-D977FA32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D9627E-D1DA-443F-8F2D-20D955CF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3F3C66-6174-4693-A442-9E1B93A9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03B62F-F1D4-4C9B-8942-31276EB2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E4C584-E877-4D88-AEE8-5332BA2B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844D82-D696-4B52-BCFE-F0755F63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46ADBD-F8A9-4D9B-A347-D508F82A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1617F6-BE21-4A9C-9B36-67640B61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4B2585-709F-4519-AA85-E5D7AEA5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60BFB-38BA-4F71-B652-D263746D76E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CB6B91-8A8D-4AC4-8CB8-4E8D6B10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C69536-9237-460B-8DD4-ADD54C54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AC617D-3F14-4E1D-877F-C3A4A1AC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A4F85-8530-4C2E-8000-9D35D397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720CD-0A9A-4ED5-87CC-BBA36148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9103F-A25A-44F1-AC4F-3DDE8669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7BFF1-D563-49C7-80CC-A10BC01B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33C98-DB0A-4231-9ED6-F0603BD0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172BC-0AAD-43AF-AF3B-CD697A6F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7A74B-D968-4DAE-8794-ED16217C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7874B-2204-49A7-B52C-383E38E1EF3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DBF63-1BBF-416E-84BA-25BC5FF2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CC4CE-9DF4-4D26-B8AE-B91EB6D1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85B8B-C9EE-45DB-AC7C-2B0CE3B9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A2041F-8E18-48CF-93E8-0C9B1527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44AB8-5ED9-4F49-A0C4-ED0937EB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191E7-AF32-4392-BBF4-34C242B5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E3248-3FCF-4A16-B856-0B494B17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B2D29-55F1-449C-95AF-85927DCF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6113E-49CE-4932-8CF6-7565696C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444D2-3E04-4237-A5F4-CB2D2672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ED477-911E-4528-B585-5D3FCD3BC62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DDB15-29B3-4B99-B67C-986C377C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67E06-D8A6-477E-97D5-65221CC7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F45A8-BB6B-4C69-8100-8DA62B60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32E46-D751-4750-BAC8-DC89C780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A6D97-D355-47F1-A4C6-5E28308F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F0B1E0-268C-4A49-8020-8D6BEE4F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0F32EF-9966-4756-BB3F-6333A28D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B1BA1-8C9A-4CE4-9A4D-0610D734E94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A1350-498F-49AF-9D51-B4FC72CA1E2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069EC-68E6-4EE1-9CEF-5CFAAF9881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B2F7F-3E40-4E02-BB78-58BBFB4B951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38FA2-889E-48ED-8E19-CA8488025C8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05AE2-C944-49C0-8B91-D9A869F6C43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37EA6-F206-4DE1-81B6-CD998029F48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0F009-BC90-40EB-A6DC-FE53A2DBBA8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DD84C-315B-403A-8825-49F96029EB2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240EC-26A1-4F26-A7DB-55566BC8A8D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510EE-6D7D-4E69-9CA5-1D28F99A5A0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D96C4-11CE-47BF-8007-6225C56C82F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51720-1B1D-445E-BDF8-E6438A8970D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5F0D68-B5FF-4906-B680-B74FEF4206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950F2-AA1C-43DA-8F2F-18980B1BC9D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CB6468-DD1B-419C-9548-419BF855436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A96976-CB5D-4E2F-8842-F40553DF5D5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4304D3-42BE-4D3C-8E4A-17DEF2B7FA0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389A29-95C2-49E5-AE99-1627FD6BFB1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4577DC-495D-4457-9FC7-ABF03053A22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1DDDD7-1124-4C24-AB3B-275E3964E7C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BCCC50-270C-48C6-AF78-F5D8D2013B4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4932FE-766B-4CC3-A69D-2F249D0DE64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8A200B-1383-4E59-AB28-8368A58F68B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F03E54-43FB-40B6-AC68-2A34FFB174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8DDA2-4890-456E-AF07-0FD4FBEBD55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681A80-DFCC-45B1-85CF-425D384E82B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5F75C-3575-4775-B6C7-285766DB771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76D98-73D2-4D27-BDE3-EB054A5723E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F69F2-F41D-4356-8E86-A0E1830C8B8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C4CFC-4F26-4AF4-9618-CBED3219BDF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9FED7-B7D8-4D9A-BC52-83BA5812DA2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C9CC1-8AFF-4336-B567-069158F0E25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3B10F-E78A-4187-B544-7F16E4A8710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AC155-CF22-473F-8B45-70747C60EB1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8E888-1477-43A0-B569-8D6F0D3518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15BDD-B6C4-46A8-B2E7-5CA35E5D4FA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9E076-7713-459D-B8A6-876E1D2B97E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E2B53-1C39-41D2-B0EF-26C6FFF91DF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B3E1C2-D810-4ED6-B701-2AE197F68A3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B6C5D-567F-4CB4-8185-33FC171D0A7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979F3-94D7-4E41-8A44-242FE10A6E2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12C86-EFCC-442E-9432-D72DDF38523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C243C-75D7-4048-AE4D-516F5C2F9F9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50D49-D39D-4751-BEBE-C3BD60ABA86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D984C-5EB4-4ABC-BA0D-093D8785D9B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CEA4E-FE65-468D-8438-DC2144E386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9C4B9-2D55-4B83-9324-E450D4B94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F09FF-02BE-4F01-A213-8A1CAACF811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BA842-8C0E-44D5-AD18-735AC2C9EF3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F2736-B37E-40A8-A803-708EB1CD836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DBD1A-0873-4BB1-81E1-6B072ACB74B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2CD73-82A6-49F8-AAC7-82A5C667C7E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5834E-D5EE-4B47-98D6-1B5CFC7C98F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B1DF3D-64F4-4A55-ADEE-E5EAD9A908E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6316A8-9957-4C0B-A0A7-AB66FCFBCDB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5D1E3A-E66D-456B-833F-05194AC5989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41E824-AAF2-48C4-8355-36D027BCEB7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651C7A-7DA8-4594-9C91-4B2F462347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7AB8E-CC42-46E8-9165-63EF4B1DB39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5D0C5D-8906-4377-B75D-6D6BF16C5AD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837CDE-216A-4129-9143-EEB4FD19A09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4DF879-5A27-4C9F-94A8-A4820F171D4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C4D9FB-B960-499D-A356-DA9F378D8C7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621C22-1111-4537-8F05-F3F16C73072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62B32F-C383-43C6-A498-3C224DFABBC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61ADAA-7E08-4AF0-9363-A962784BE3D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BE3FB5-A24C-4CAC-8151-773D563A829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1CF0F87-CFAE-41BB-AD3E-479D0372A45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4A2FA6A-28DD-41E9-A1E3-6CD3721A8D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07840-0CBB-4B10-8E68-E6741B68389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880A66E-A548-41EA-A724-58115473964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BE1092F-6E1D-42EA-834C-BB8F5001DBB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831F72-060B-49F9-9305-DC510DC6F59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FE62BE-9BDE-4F80-98EF-5BEDF99BB9B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DA5638-F0DB-4CAD-BC3C-93C708CD099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24BE856-A5A0-4182-8735-B50825F6EF4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9207F3D-E20F-4733-AA43-9FF211A716F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AA0547-8B2C-4503-9B21-ACCD36C733B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5AC22C4-2017-40A4-99B1-3847E5A5DC6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0C05F-577E-4B31-8966-23B3CBD3CF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528E8-69D4-4F57-B42D-B3ABBCA5782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17D2CB-CA9C-4175-B446-98277CB41AC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A2A41-5C64-4B48-A450-9B364E09BB2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48E450-2ED7-4BB8-8D2D-AEB6CD57CB2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7E9E74-9CC6-4E41-AB1B-825BEC02053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54D3D2-B7EC-470D-BA79-7E17756BE3E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981AE-0E54-4E46-807E-F4D9A018D83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FDBF7-F902-465E-8896-C6C6F0FE452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89D4C1-9D07-4E51-B856-DABC38FD372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90BD5-7947-413E-938D-2F77E144FDD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A98B0E-CFEE-4948-ADC5-97DB228095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A247B-4A5E-4515-9CB3-F3B66F3A743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B6EB0-B36B-4A2E-B03E-CDF8AC86B14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84A710-4E24-4A6C-8608-6F7C0411625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4067B1-FC6A-4815-A7A4-BC787F3AC14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A3AA9C-A2C6-4DDF-A588-4B57338FC95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85F0F4-030C-4877-B147-1A2D62FEE7D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B4BD66-100E-4CD3-89B7-61FCCBEA28B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A3BD4A-3EB2-440A-9372-4BC0CF9BCB1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311EA4-57B7-467B-80C4-61663D0DC7B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9AEC1B-1B4D-4C92-8078-C05D4374C8A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E381D9-AE9D-4AAC-938F-96D8ED1029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02946D-B3F5-4190-B948-228CF1479D4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C254C7-B226-4A7F-A74B-0197E2AFC25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D8D6C9-F302-48EF-B06D-D43EB13193E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3D95448-5C27-4409-81BB-1A1BF6BA10D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4D659F-9760-4CE9-B5E8-69C85D50162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741D69-9BBF-40C7-93E0-45835E0859E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F9DE3F1-CADA-4303-8E46-1C0D2336AC9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3CBCFA6-4A54-4BE3-95E7-7404A576247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4CF2230-2C9E-4C71-8BE4-904A3DC3D6D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3F18F1-E7E9-4343-8399-AAEE7334C8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A3DB85-B760-4D5A-9A33-44B2CEBD7C2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9FFF62D-700D-4460-B343-E1BAD93332A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BAB5DA-B237-44D1-9E17-EB1E6610098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FC10819-7179-4B53-8807-6DCDC2E2BAD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B3C8BDF-C238-4B1F-9AD4-A6DFA89C870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BC8DDDA-1203-4B79-826B-B871C36C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00DB8DC-4D54-46D5-8F1A-A7A73CE8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BD1305-30A4-43BC-ADAB-217B0067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043979E-4D7E-40F1-872B-82D869D2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0CFA907-5904-414D-A7E3-8F6A64B5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560617C-52A3-4FDA-935A-B9A8E726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D5E2610-4605-4879-8F52-94C52994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5B2DDEB-1262-47C7-B57C-43CC5D02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3F0D3D9-BAFC-4CF3-9ECE-514F74F3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3E93E54-6783-4EAD-9201-F95FF773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AD0FE2A-DAF9-485A-9B8C-CE64D4B1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F15D63A-F092-4127-9362-788975B6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8D006C-CEB6-4CEE-AE5F-EDD360C5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B7D41FE-1E42-414D-A8E5-5444D028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1CCCD2D-790E-4750-A07E-A07DCE48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7979BB7-00EB-4710-9744-07A83876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B360099-4A4B-4316-A27D-4032BEC7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04881E5-9E20-4029-A06B-0F7614A0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BFDA177-809C-4ECD-99BC-0F9D862B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07CBE3B-57E5-4F24-AE11-682D3E9E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C90A76C-9ADC-4720-BBA7-D57ECE3E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398C8EB-39BF-4F29-918C-FCDFDB81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EEFA8AF-A6B3-4042-A991-B8F3F126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48B3F10-0D14-42B6-B565-E40D23CC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E675-0B1A-4C88-B8F4-2BC02E9378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0BC6-2268-4124-A698-0629626BE5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015D-ABBB-4FA0-8A1F-1FB5E03AD26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2012-E769-41D7-AA56-17086D89F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235C0-75BA-4802-BDB3-4231E7FBAA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1D78-206B-4B1E-8666-0A98458723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F7E1-A5C5-40C4-9949-0222880FC9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9608-C78E-4D9A-A344-0277D0AF47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C8E1-0BB7-4BEF-BA1A-70CD8BC6C2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D09F-7889-47DF-8706-D1E45D1379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221F-BD5C-4648-B291-E9DCE72A66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F747-C252-43B3-9C54-848A14862C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201D-3E8A-4A85-9C17-8B0FAA0C5F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44D0-6EA7-4C34-9B43-1BD6915A325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AF88B-535D-4BC5-8022-CC230960B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B925-4A9C-47DE-A948-FA2B4FCF3C1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1C9F2-980D-421E-A6D4-0FE089D712D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95D17-62A8-4638-BCD8-9F0F8E2F01B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9B8EE-C411-467F-B9A5-2D284CBE2A6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A0C51-054A-4FE7-96CD-E5683A299AB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38A7E-47C6-4C8D-A548-0E731FC2DC5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44A58-5799-4E1E-9C49-925237635FE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3A443-38C8-4C83-BFC1-6F860E0EB46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F906C-81FE-4DC2-A1B9-E881061E160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85E99-57C1-4C5C-83C6-FF8508022CB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51FD8-2E39-4B7C-9372-DA2B39D03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B7010-B278-4050-8F2E-2DA28C9129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196AA-1627-4DF9-BB47-2342194B8F8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1B1145-50C2-4678-BBEB-49281CF522E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67468B-87AA-4A06-A26C-BCE3107ADF0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84B565-4AF3-4EA2-AD25-D14DD958803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53EF43-909F-45FF-A5D8-79D873EE3A7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CFEDEC-DAE4-4AA9-8E7E-573C0E53E9E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70C97C-BC41-4BCC-8905-CFDD4E2997F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D2ABE7-DDA8-43D1-A903-0EF35172D9B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9BB9FD-E39F-4EA7-8D28-7D0488CBFC6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AA9EBD-E34B-4105-B20B-8E8146D9B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7FC7B-9DC0-4141-9DFA-C38624EF1A1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E87364-07B7-489B-8116-A3FAA5ABB57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EE0851-2A86-47A9-A6BE-E0BD4E64DE7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448E53-5588-4508-8D2C-0DC2BB57CDC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55B71-1150-4B33-BDD0-3209C3E2183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282F1-492A-4698-AF05-2724766136C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A366D-0C60-479D-B29F-0FC2E8BF7A8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500EC-B008-4CBB-961E-44F2FBB3F41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281BD-EB07-4A0D-9746-BA244D61E95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FBED8-BF5C-464F-86CA-6C21992DA4F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004C2-5119-429B-BDA9-F700BC76B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AD93-6475-4FCA-A5A1-0479BADD971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FBCAC-F23E-42B5-ADB4-35F18B0EED3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46C2B-4AD6-4633-88C0-09EB9387A82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38071-DAC7-4CB6-9512-D096ED8060B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81B24-324C-4458-A789-5F9F9D1DF7C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5E671-FE06-4E34-B896-8E438EC21C9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431FA9-8C2C-46AF-88FC-CA6A5D22DAD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7DE64-2390-4DC3-B880-7537D92B6B7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25187-0E87-4787-B1A8-888EF944EC3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DF864A-F062-4619-AE08-E94F9D287C8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90AB81-FA52-4E7C-AB99-0F1C59DD7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051F-C57F-4A5D-9F70-7523F0FE785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999918-B9ED-4A9D-9708-8C8321DD3DD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6D2BA-47CD-41F0-B6B0-F2EB6A59BC6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20D97-8C05-4901-971F-872A091BB1E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DD5127-97EA-442F-B197-CD50ED6B566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D0CD9-BDB3-4717-93F5-78182E5F3D3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61AC1-A320-4BFF-A927-A02733608F4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2EED8-FE84-4630-B254-E141D397BF1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F23C42-AE45-41B0-80A0-1B05EAE6F7E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8930C6-1EAD-4A3A-AA16-FCE27F47182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CF133F-A5B1-4C32-9906-A4BB95B9F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 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3409-BEE8-419E-8763-2DFA1704DA0A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378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18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 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1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2ADE-C337-4927-A7A1-C8E87ADAD261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421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1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 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96F5-8D6C-4B9F-8C54-B88A97A34A72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464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4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 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A6D4-723B-4B3F-A7C7-66FC4DC38B13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507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7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 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2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2B87-2E24-443B-AC50-B70CCB3C921C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550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pic>
        <p:nvPicPr>
          <p:cNvPr id="551" name="Picture 7" descr="PARTNER color tag.jpg"/>
          <p:cNvPicPr/>
          <p:nvPr/>
        </p:nvPicPr>
        <p:blipFill>
          <a:blip r:embed="rId3"/>
          <a:stretch/>
        </p:blipFill>
        <p:spPr>
          <a:xfrm>
            <a:off x="2666880" y="1905120"/>
            <a:ext cx="3810240" cy="23414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Q-Corp Logo no tag line.tif"/>
          <p:cNvPicPr/>
          <p:nvPr/>
        </p:nvPicPr>
        <p:blipFill>
          <a:blip r:embed="rId4"/>
          <a:stretch/>
        </p:blipFill>
        <p:spPr>
          <a:xfrm>
            <a:off x="3332160" y="4913280"/>
            <a:ext cx="2382840" cy="1182600"/>
          </a:xfrm>
          <a:prstGeom prst="rect">
            <a:avLst/>
          </a:prstGeom>
          <a:ln w="0">
            <a:noFill/>
          </a:ln>
        </p:spPr>
      </p:pic>
      <p:sp>
        <p:nvSpPr>
          <p:cNvPr id="553" name="TextBox 10"/>
          <p:cNvSpPr/>
          <p:nvPr/>
        </p:nvSpPr>
        <p:spPr>
          <a:xfrm>
            <a:off x="3760200" y="434340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1a0d"/>
                </a:solidFill>
                <a:latin typeface="Avenir book"/>
              </a:rPr>
              <a:t>An initiative of: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ftr" idx="29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sldNum" idx="30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261B-0685-49DC-8281-21BE79B012C7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595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31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sldNum" idx="32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2BF9-42F1-4D91-AAB5-47B11A58E168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637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ftr" idx="33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sldNum" idx="34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2EE3-C9DD-4D4C-8E1B-07368E83DE85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679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35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6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CA72-9AE6-4341-BC46-E0ACDCBD94FB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721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37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38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3F0C-941C-489A-B8A6-9328FD4214F3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763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ftr" idx="39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40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58BB-A3E5-43BC-9CEB-7D82B18FE751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3EAD-0219-4827-9222-E748B7472EAA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805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ftr" idx="41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sldNum" idx="42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FB4B-C264-4BF7-9A54-636C857DB2F0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847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ftr" idx="43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sldNum" idx="44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5BBF-C9C1-46A5-84CE-CDA16791A43D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889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ftr" idx="45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sldNum" idx="46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5A2C-8528-4C18-80FC-03FDFD3ABD4A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931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dt" idx="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ftr" idx="48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 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sldNum" idx="49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A0E5-DE2D-4EBC-8E78-A5BA83678F52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Picture 6" descr="PARTNER color tag.jpg"/>
          <p:cNvPicPr/>
          <p:nvPr/>
        </p:nvPicPr>
        <p:blipFill>
          <a:blip r:embed="rId2"/>
          <a:stretch/>
        </p:blipFill>
        <p:spPr>
          <a:xfrm>
            <a:off x="380880" y="617220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974" name="Straight Connector 8"/>
          <p:cNvSpPr/>
          <p:nvPr/>
        </p:nvSpPr>
        <p:spPr>
          <a:xfrm>
            <a:off x="228600" y="6170760"/>
            <a:ext cx="861048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ftr" idx="51"/>
          </p:nvPr>
        </p:nvSpPr>
        <p:spPr>
          <a:xfrm>
            <a:off x="1523880" y="6356520"/>
            <a:ext cx="609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 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sldNum" idx="52"/>
          </p:nvPr>
        </p:nvSpPr>
        <p:spPr>
          <a:xfrm>
            <a:off x="7772400" y="635652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45CA-1375-4B0C-BA2E-BB28328AC823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PARTNER color tag.jpg"/>
          <p:cNvPicPr/>
          <p:nvPr/>
        </p:nvPicPr>
        <p:blipFill>
          <a:blip r:embed="rId2"/>
          <a:stretch/>
        </p:blipFill>
        <p:spPr>
          <a:xfrm>
            <a:off x="3581280" y="3962520"/>
            <a:ext cx="1828800" cy="112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Q-Corp Logo no tag line.tif"/>
          <p:cNvPicPr/>
          <p:nvPr/>
        </p:nvPicPr>
        <p:blipFill>
          <a:blip r:embed="rId3"/>
          <a:stretch/>
        </p:blipFill>
        <p:spPr>
          <a:xfrm>
            <a:off x="3657600" y="5562720"/>
            <a:ext cx="1676520" cy="8316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0"/>
          <p:cNvSpPr/>
          <p:nvPr/>
        </p:nvSpPr>
        <p:spPr>
          <a:xfrm>
            <a:off x="3667320" y="510552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1a0d"/>
                </a:solidFill>
                <a:latin typeface="Arial"/>
              </a:rPr>
              <a:t>an initiative of 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126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E4F2-EFFF-4981-87EC-7D5817871433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168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7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ED15-3E52-4AE6-8BEA-9354F2DC54AC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9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2194-F87E-4534-B34D-081BC00CD04C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252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1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A280-DD5E-4A2A-AA0D-82B04DE6D0D9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294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3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D6E5-DBFD-483D-84AC-28ED1D176C27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6" descr="PARTNER color tag.jpg"/>
          <p:cNvPicPr/>
          <p:nvPr/>
        </p:nvPicPr>
        <p:blipFill>
          <a:blip r:embed="rId2"/>
          <a:stretch/>
        </p:blipFill>
        <p:spPr>
          <a:xfrm>
            <a:off x="304920" y="6248520"/>
            <a:ext cx="992160" cy="609480"/>
          </a:xfrm>
          <a:prstGeom prst="rect">
            <a:avLst/>
          </a:prstGeom>
          <a:ln w="0">
            <a:noFill/>
          </a:ln>
        </p:spPr>
      </p:pic>
      <p:sp>
        <p:nvSpPr>
          <p:cNvPr id="336" name="Straight Connector 8"/>
          <p:cNvSpPr/>
          <p:nvPr/>
        </p:nvSpPr>
        <p:spPr>
          <a:xfrm>
            <a:off x="152280" y="6172200"/>
            <a:ext cx="8763120" cy="1440"/>
          </a:xfrm>
          <a:prstGeom prst="line">
            <a:avLst/>
          </a:prstGeom>
          <a:ln w="9360">
            <a:solidFill>
              <a:srgbClr val="588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lick to edit the title text format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lick to edit the outline text format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con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2" marL="1143000" indent="-22860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ird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3" marL="1600200" indent="-228600">
              <a:spcBef>
                <a:spcPts val="7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our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4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Fif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5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ix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6" marL="2057400" indent="-228600">
              <a:spcBef>
                <a:spcPts val="799"/>
              </a:spcBef>
              <a:buClr>
                <a:srgbClr val="351a0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Seventh Outline Level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15"/>
          </p:nvPr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1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8b8a"/>
                </a:solidFill>
                <a:latin typeface="Avenir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13A2-0295-4CF5-8ADC-4E9A97C0B3DF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2971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1a0d"/>
                </a:solidFill>
                <a:latin typeface="Avenir Heavy"/>
              </a:rPr>
              <a:t>Regional Collaboratives as</a:t>
            </a:r>
            <a:br>
              <a:rPr sz="3200"/>
            </a:br>
            <a:r>
              <a:rPr b="1" lang="en-US" sz="3200" spc="-1" strike="noStrike">
                <a:solidFill>
                  <a:srgbClr val="351a0d"/>
                </a:solidFill>
                <a:latin typeface="Avenir Heavy"/>
              </a:rPr>
              <a:t>Catalysts for Quality Reporting and Improvement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446556"/>
                </a:solidFill>
                <a:latin typeface="Avenir Heavy"/>
              </a:rPr>
              <a:t>Engaging Consumers Engagingly</a:t>
            </a:r>
            <a:br>
              <a:rPr sz="3200"/>
            </a:br>
            <a:br>
              <a:rPr sz="3200"/>
            </a:br>
            <a:r>
              <a:rPr b="0" lang="en-US" sz="1800" spc="-1" strike="noStrike">
                <a:solidFill>
                  <a:srgbClr val="351a0d"/>
                </a:solidFill>
                <a:latin typeface="Avenir Heavy"/>
              </a:rPr>
              <a:t>AHRQ September 15, 2009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200" spc="-1" strike="noStrike">
                <a:solidFill>
                  <a:srgbClr val="c4b796"/>
                </a:solidFill>
                <a:latin typeface="Avenir Heavy"/>
              </a:rPr>
              <a:t>Partner for Quality Care is an initiative of the Oregon Health Care Quality Corporation</a:t>
            </a:r>
            <a:br>
              <a:rPr sz="1200"/>
            </a:br>
            <a:r>
              <a:rPr b="0" lang="en-US" sz="1200" spc="-1" strike="noStrike">
                <a:solidFill>
                  <a:srgbClr val="c4b796"/>
                </a:solidFill>
                <a:latin typeface="Avenir Heavy"/>
              </a:rPr>
              <a:t>http://www.PartnerForQualityCare.org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2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0283-B70D-4492-BA7F-424D5EA38398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685800" y="609480"/>
            <a:ext cx="8067600" cy="5861160"/>
            <a:chOff x="685800" y="609480"/>
            <a:chExt cx="8067600" cy="5861160"/>
          </a:xfrm>
        </p:grpSpPr>
        <p:pic>
          <p:nvPicPr>
            <p:cNvPr id="1054" name="Picture 2" descr="\\Staffdesktop\shareddocs\Prj P4QC\Pictures\Health Care Quality 101 event with AARP and Pt. Safety\_MG_7847.jpg"/>
            <p:cNvPicPr/>
            <p:nvPr/>
          </p:nvPicPr>
          <p:blipFill>
            <a:blip r:embed="rId1"/>
            <a:stretch/>
          </p:blipFill>
          <p:spPr>
            <a:xfrm>
              <a:off x="685800" y="609480"/>
              <a:ext cx="5029200" cy="335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Picture 3" descr="\\Staffdesktop\shareddocs\Prj P4QC\Pictures\Health Care Quality 101 event with AARP and Pt. Safety\_MG_7903.jpg"/>
            <p:cNvPicPr/>
            <p:nvPr/>
          </p:nvPicPr>
          <p:blipFill>
            <a:blip r:embed="rId2"/>
            <a:stretch/>
          </p:blipFill>
          <p:spPr>
            <a:xfrm>
              <a:off x="3733920" y="3124080"/>
              <a:ext cx="5019480" cy="33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095520" y="121896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1a0d"/>
                </a:solidFill>
                <a:latin typeface="Avenir Heavy"/>
              </a:rPr>
              <a:t>Have fun!</a:t>
            </a:r>
            <a:br>
              <a:rPr sz="2800"/>
            </a:br>
            <a:r>
              <a:rPr b="1" lang="en-US" sz="2800" spc="-1" strike="noStrike">
                <a:solidFill>
                  <a:srgbClr val="351a0d"/>
                </a:solidFill>
                <a:latin typeface="Avenir Heavy"/>
              </a:rPr>
              <a:t>The audience will do the work!</a:t>
            </a:r>
            <a:br>
              <a:rPr sz="2800"/>
            </a:br>
            <a:endParaRPr b="0" lang="en-US" sz="2800" spc="-1" strike="noStrike">
              <a:solidFill>
                <a:srgbClr val="351a0d"/>
              </a:solidFill>
              <a:latin typeface="Avenir Heav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51a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351a0d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351a0d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351a0d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351a0d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7333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:  Suck it up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69" name="Text Box 15"/>
          <p:cNvSpPr/>
          <p:nvPr/>
        </p:nvSpPr>
        <p:spPr>
          <a:xfrm>
            <a:off x="533520" y="6039000"/>
            <a:ext cx="33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:  Work to improve things or find a new doc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0" name="Text Box 16"/>
          <p:cNvSpPr/>
          <p:nvPr/>
        </p:nvSpPr>
        <p:spPr>
          <a:xfrm>
            <a:off x="5110200" y="5029200"/>
            <a:ext cx="37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:  Stop going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1" name="Text Box 17"/>
          <p:cNvSpPr/>
          <p:nvPr/>
        </p:nvSpPr>
        <p:spPr>
          <a:xfrm>
            <a:off x="5024520" y="60390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:  Nothing, it might get better</a:t>
            </a:r>
            <a:endParaRPr b="0" lang="en-US" sz="20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5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7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8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79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0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1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2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3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351a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4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5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6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7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8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89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0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1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2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3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4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5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6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7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8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99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0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1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2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3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4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5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6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7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0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1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2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2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2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pic>
        <p:nvPicPr>
          <p:cNvPr id="112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2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2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2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2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2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2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rial"/>
            </a:endParaRPr>
          </a:p>
        </p:txBody>
      </p:sp>
      <p:pic>
        <p:nvPicPr>
          <p:cNvPr id="1130" name="MacOS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1" name="MacOS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venir Heavy"/>
              </a:rPr>
              <a:t>Health Care Teams:  What should you do if you don’t like your relationship with your doctor?</a:t>
            </a:r>
            <a:endParaRPr b="0" lang="en-US" sz="3200" spc="-1" strike="noStrike">
              <a:solidFill>
                <a:srgbClr val="351a0d"/>
              </a:solidFill>
              <a:latin typeface="Avenir Heav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1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"/>
          <p:cNvGrpSpPr/>
          <p:nvPr/>
        </p:nvGrpSpPr>
        <p:grpSpPr>
          <a:xfrm>
            <a:off x="457200" y="228600"/>
            <a:ext cx="8447040" cy="6062760"/>
            <a:chOff x="457200" y="228600"/>
            <a:chExt cx="8447040" cy="6062760"/>
          </a:xfrm>
        </p:grpSpPr>
        <p:pic>
          <p:nvPicPr>
            <p:cNvPr id="1134" name="Picture 3" descr="\\Staffdesktop\shareddocs\Prj P4QC\Pictures\Health Care Quality 101 event with AARP and Pt. Safety\_MG_8011.jpg"/>
            <p:cNvPicPr/>
            <p:nvPr/>
          </p:nvPicPr>
          <p:blipFill>
            <a:blip r:embed="rId1"/>
            <a:stretch/>
          </p:blipFill>
          <p:spPr>
            <a:xfrm>
              <a:off x="457200" y="838080"/>
              <a:ext cx="3143160" cy="47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Picture 5" descr="\\Staffdesktop\shareddocs\Prj P4QC\Pictures\Health Care Quality 101 event with AARP and Pt. Safety\_MG_8052.jpg"/>
            <p:cNvPicPr/>
            <p:nvPr/>
          </p:nvPicPr>
          <p:blipFill>
            <a:blip r:embed="rId2"/>
            <a:stretch/>
          </p:blipFill>
          <p:spPr>
            <a:xfrm>
              <a:off x="3352680" y="228600"/>
              <a:ext cx="4496040" cy="29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2" descr="\\Staffdesktop\shareddocs\Prj P4QC\Pictures\Health Care Quality 101 event with AARP and Pt. Safety\_MG_8098.jpg"/>
            <p:cNvPicPr/>
            <p:nvPr/>
          </p:nvPicPr>
          <p:blipFill>
            <a:blip r:embed="rId3"/>
            <a:stretch/>
          </p:blipFill>
          <p:spPr>
            <a:xfrm>
              <a:off x="3809880" y="2895480"/>
              <a:ext cx="5094360" cy="339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Why do this?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onsumers: “That’s what it’s all about”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“</a:t>
            </a: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I’m a consumer, too” is dead wrong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he product is much better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Wonderful unanticipated payoffs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Keeps me humbled, stretched and engaged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139" name="Footer Placeholder 3"/>
          <p:cNvSpPr/>
          <p:nvPr/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http://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AAD7-3B73-4B3E-98FD-8F4B5C518A87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Is it working?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300 Oregonians down, 3,400,700 to go.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00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1a0d"/>
                </a:solidFill>
                <a:latin typeface="Avenir book"/>
              </a:rPr>
              <a:t>Is it possible to change the culture?</a:t>
            </a: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00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1a0d"/>
                </a:solidFill>
                <a:latin typeface="Avenir book"/>
              </a:rPr>
              <a:t>Spread?</a:t>
            </a: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Materials are wildly popular with all stakeholders.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700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1a0d"/>
                </a:solidFill>
                <a:latin typeface="Avenir book"/>
              </a:rPr>
              <a:t>Are they prompting conversations?</a:t>
            </a: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Will this translate to looking at data?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Quality Corp Mission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pic>
        <p:nvPicPr>
          <p:cNvPr id="1026" name="Picture 5" descr="Gra[phic shows stakeholders ( doctors, hospitals, purchasers and employers, consumers) holding hands to demonstrate cooperation&#13;&#10;"/>
          <p:cNvPicPr/>
          <p:nvPr/>
        </p:nvPicPr>
        <p:blipFill>
          <a:blip r:embed="rId1"/>
          <a:stretch/>
        </p:blipFill>
        <p:spPr>
          <a:xfrm>
            <a:off x="685800" y="2209680"/>
            <a:ext cx="3417840" cy="243540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 txBox="1"/>
          <p:nvPr/>
        </p:nvSpPr>
        <p:spPr>
          <a:xfrm>
            <a:off x="4495680" y="2286000"/>
            <a:ext cx="4191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To measure &amp; improve the quality of health care in Oregon through collaboration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Our strategy</a:t>
            </a: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29" name="Footer Placeholder 3"/>
          <p:cNvSpPr/>
          <p:nvPr/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 http://www.PartnerForQualityCare.org</a:t>
            </a:r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3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A776-847E-4591-9E6C-0FAB55B3AFB2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  <p:pic>
        <p:nvPicPr>
          <p:cNvPr id="1031" name="Diagram 6" descr="Three overlapping circles emphasize relatedness of measurment, improvement and consumer engagement&#13;&#10;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0d"/>
                </a:solidFill>
                <a:latin typeface="Avenir Heavy"/>
              </a:rPr>
              <a:t>Consumer Strategy:</a:t>
            </a:r>
            <a:br>
              <a:rPr sz="4400"/>
            </a:br>
            <a:endParaRPr b="0" lang="en-US" sz="44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Help Consumers Understand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27920" indent="-280080">
              <a:spcBef>
                <a:spcPts val="700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1a0d"/>
                </a:solidFill>
                <a:latin typeface="Avenir book"/>
              </a:rPr>
              <a:t>What is quality?</a:t>
            </a: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  <a:p>
            <a:pPr lvl="1" marL="727920" indent="-280080">
              <a:spcBef>
                <a:spcPts val="700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1a0d"/>
                </a:solidFill>
                <a:latin typeface="Avenir book"/>
              </a:rPr>
              <a:t>Why should you care?</a:t>
            </a: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  <a:p>
            <a:pPr lvl="1" marL="727920" indent="-280080">
              <a:spcBef>
                <a:spcPts val="700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1a0d"/>
                </a:solidFill>
                <a:latin typeface="Avenir book"/>
              </a:rPr>
              <a:t>What can you do to get it?</a:t>
            </a: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  <a:p>
            <a:pPr marL="335880" indent="-3358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Critical Principle:</a:t>
            </a: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  <a:p>
            <a:pPr lvl="1" marL="727920" indent="-280080">
              <a:spcBef>
                <a:spcPts val="700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1a0d"/>
                </a:solidFill>
                <a:latin typeface="Avenir book"/>
              </a:rPr>
              <a:t>Encourage use of comparative information </a:t>
            </a:r>
            <a:r>
              <a:rPr b="1" lang="en-US" sz="2800" spc="-1" strike="noStrike">
                <a:solidFill>
                  <a:srgbClr val="db3013"/>
                </a:solidFill>
                <a:latin typeface="Avenir book"/>
              </a:rPr>
              <a:t>&amp;</a:t>
            </a: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  <a:p>
            <a:pPr lvl="1" marL="727920" indent="-280080">
              <a:spcBef>
                <a:spcPts val="700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1a0d"/>
                </a:solidFill>
                <a:latin typeface="Avenir book"/>
              </a:rPr>
              <a:t>Make consumers partners with their provider </a:t>
            </a: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  <a:p>
            <a:pPr marL="335880" indent="-335880">
              <a:spcBef>
                <a:spcPts val="7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51a0d"/>
              </a:solidFill>
              <a:latin typeface="Avenir book"/>
            </a:endParaRPr>
          </a:p>
        </p:txBody>
      </p:sp>
      <p:sp>
        <p:nvSpPr>
          <p:cNvPr id="1034" name="Footer Placeholder 2"/>
          <p:cNvSpPr/>
          <p:nvPr/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Partner for Quality Care 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is an initiative of the </a:t>
            </a:r>
            <a:r>
              <a:rPr b="0" i="1" lang="en-US" sz="1200" spc="-1" strike="noStrike">
                <a:solidFill>
                  <a:srgbClr val="8f8b8a"/>
                </a:solidFill>
                <a:latin typeface="Avenir book"/>
              </a:rPr>
              <a:t>Oregon Health Care Quality Corporation http://</a:t>
            </a: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www.PartnerForQualityCare.org</a:t>
            </a:r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9E17-5583-4212-A442-812CD6F13B85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1a0d"/>
                </a:solidFill>
                <a:latin typeface="Avenir Heavy"/>
              </a:rPr>
              <a:t>Steps</a:t>
            </a:r>
            <a:endParaRPr b="0" lang="en-US" sz="4000" spc="-1" strike="noStrike">
              <a:solidFill>
                <a:srgbClr val="351a0d"/>
              </a:solidFill>
              <a:latin typeface="Avenir Heavy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a0d"/>
                </a:solidFill>
                <a:latin typeface="Avenir book"/>
              </a:rPr>
              <a:t>Recruit community “go to” partners </a:t>
            </a: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4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d"/>
                </a:solidFill>
                <a:latin typeface="Avenir book"/>
              </a:rPr>
              <a:t>AARP Oregon </a:t>
            </a:r>
            <a:endParaRPr b="0" lang="en-US" sz="20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4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d"/>
                </a:solidFill>
                <a:latin typeface="Avenir book"/>
              </a:rPr>
              <a:t>RWJF Consumer Voices for Coverage grantees – including Oregonians for Health Security and Oregon Action</a:t>
            </a:r>
            <a:endParaRPr b="0" lang="en-US" sz="20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60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a0d"/>
                </a:solidFill>
                <a:latin typeface="Avenir book"/>
              </a:rPr>
              <a:t>Establish a clear, aligned messages</a:t>
            </a: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499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a0d"/>
                </a:solidFill>
                <a:latin typeface="Avenir book"/>
              </a:rPr>
              <a:t>Develop a core set of materials</a:t>
            </a:r>
            <a:r>
              <a:rPr b="0" lang="en-US" sz="3200" spc="-1" strike="noStrike">
                <a:solidFill>
                  <a:srgbClr val="351a0d"/>
                </a:solidFill>
                <a:latin typeface="Avenir book"/>
              </a:rPr>
              <a:t> </a:t>
            </a:r>
            <a:r>
              <a:rPr b="0" lang="en-US" sz="2000" spc="-1" strike="noStrike">
                <a:solidFill>
                  <a:srgbClr val="351a0d"/>
                </a:solidFill>
                <a:latin typeface="Avenir book"/>
              </a:rPr>
              <a:t>(scientifically vetted and consumer tested)</a:t>
            </a:r>
            <a:endParaRPr b="0" lang="en-US" sz="20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4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d"/>
                </a:solidFill>
                <a:latin typeface="Avenir book"/>
              </a:rPr>
              <a:t>Quality Action Packet with 5 inserts</a:t>
            </a:r>
            <a:endParaRPr b="0" lang="en-US" sz="2000" spc="-1" strike="noStrike">
              <a:solidFill>
                <a:srgbClr val="351a0d"/>
              </a:solidFill>
              <a:latin typeface="Avenir book"/>
            </a:endParaRPr>
          </a:p>
          <a:p>
            <a:pPr lvl="1" marL="743040" indent="-285840">
              <a:spcBef>
                <a:spcPts val="499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d"/>
                </a:solidFill>
                <a:latin typeface="Avenir book"/>
              </a:rPr>
              <a:t>Web</a:t>
            </a:r>
            <a:endParaRPr b="0" lang="en-US" sz="2000" spc="-1" strike="noStrike">
              <a:solidFill>
                <a:srgbClr val="351a0d"/>
              </a:solidFill>
              <a:latin typeface="Avenir book"/>
            </a:endParaRPr>
          </a:p>
          <a:p>
            <a:pPr marL="343080" indent="-343080">
              <a:spcBef>
                <a:spcPts val="60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a0d"/>
                </a:solidFill>
                <a:latin typeface="Avenir book"/>
              </a:rPr>
              <a:t>Go where the partner wants to go</a:t>
            </a: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 txBox="1"/>
          <p:nvPr/>
        </p:nvSpPr>
        <p:spPr>
          <a:xfrm>
            <a:off x="4648320" y="68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a0d"/>
                </a:solidFill>
                <a:latin typeface="Avenir book"/>
              </a:rPr>
              <a:t>Quality care is safe, it works, it’s tailored to you</a:t>
            </a: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  <a:p>
            <a:pPr marL="291600" indent="-291600">
              <a:spcBef>
                <a:spcPts val="60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  <a:p>
            <a:pPr marL="291600" indent="-291600">
              <a:spcBef>
                <a:spcPts val="60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a0d"/>
                </a:solidFill>
                <a:latin typeface="Avenir book"/>
              </a:rPr>
              <a:t>There are big variations in care quality</a:t>
            </a: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  <a:p>
            <a:pPr marL="291600" indent="-291600">
              <a:spcBef>
                <a:spcPts val="60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  <a:p>
            <a:pPr marL="291600" indent="-291600">
              <a:spcBef>
                <a:spcPts val="60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a0d"/>
                </a:solidFill>
                <a:latin typeface="Avenir book"/>
              </a:rPr>
              <a:t>You need to be informed and involved</a:t>
            </a: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  <a:p>
            <a:pPr lvl="1" marL="631440" indent="-242640">
              <a:spcBef>
                <a:spcPts val="601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a0d"/>
                </a:solidFill>
                <a:latin typeface="Avenir book"/>
              </a:rPr>
              <a:t>Talk to your provider about what quality means for you</a:t>
            </a: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  <a:p>
            <a:pPr lvl="1" marL="631440" indent="-242640">
              <a:spcBef>
                <a:spcPts val="601"/>
              </a:spcBef>
              <a:buClr>
                <a:srgbClr val="351a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1a0d"/>
                </a:solidFill>
                <a:latin typeface="Avenir book"/>
              </a:rPr>
              <a:t>Do your part to stay healthy</a:t>
            </a:r>
            <a:endParaRPr b="0" lang="en-US" sz="2400" spc="-1" strike="noStrike">
              <a:solidFill>
                <a:srgbClr val="351a0d"/>
              </a:solidFill>
              <a:latin typeface="Avenir book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304920" y="762120"/>
            <a:ext cx="4179600" cy="5410080"/>
            <a:chOff x="304920" y="762120"/>
            <a:chExt cx="4179600" cy="5410080"/>
          </a:xfrm>
        </p:grpSpPr>
        <p:pic>
          <p:nvPicPr>
            <p:cNvPr id="1040" name="" descr=""/>
            <p:cNvPicPr/>
            <p:nvPr/>
          </p:nvPicPr>
          <p:blipFill>
            <a:blip r:embed="rId1"/>
            <a:stretch/>
          </p:blipFill>
          <p:spPr>
            <a:xfrm>
              <a:off x="304920" y="762120"/>
              <a:ext cx="4179600" cy="5410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6" descr="Brochure shows graphics that accompany print message&#13;&#10;"/>
          <p:cNvPicPr/>
          <p:nvPr/>
        </p:nvPicPr>
        <p:blipFill>
          <a:blip r:embed="rId1"/>
          <a:stretch/>
        </p:blipFill>
        <p:spPr>
          <a:xfrm>
            <a:off x="533520" y="914400"/>
            <a:ext cx="3720960" cy="480060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 txBox="1"/>
          <p:nvPr/>
        </p:nvSpPr>
        <p:spPr>
          <a:xfrm>
            <a:off x="4648320" y="960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1a0d"/>
                </a:solidFill>
                <a:latin typeface="Avenir book"/>
              </a:rPr>
              <a:t>What’s quality/ How can you get it?</a:t>
            </a: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1a0d"/>
                </a:solidFill>
                <a:latin typeface="Avenir book"/>
              </a:rPr>
              <a:t>How can you find trustworthy information on the web?</a:t>
            </a: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1a0d"/>
                </a:solidFill>
                <a:latin typeface="Avenir book"/>
              </a:rPr>
              <a:t>Making the most of your medical appointments</a:t>
            </a: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1a0d"/>
                </a:solidFill>
                <a:latin typeface="Avenir book"/>
              </a:rPr>
              <a:t>What is care that works?</a:t>
            </a: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1a0d"/>
                </a:solidFill>
                <a:latin typeface="Avenir book"/>
              </a:rPr>
              <a:t>What is the right amount of care?</a:t>
            </a: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buClr>
                <a:srgbClr val="351a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1a0d"/>
                </a:solidFill>
                <a:latin typeface="Avenir book"/>
              </a:rPr>
              <a:t>How to avoid medication errors</a:t>
            </a: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51a0d"/>
              </a:solidFill>
              <a:latin typeface="Avenir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Footer Placeholder 3"/>
          <p:cNvSpPr/>
          <p:nvPr/>
        </p:nvSpPr>
        <p:spPr>
          <a:xfrm>
            <a:off x="152388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8b8a"/>
                </a:solidFill>
                <a:latin typeface="Avenir book"/>
              </a:rPr>
              <a:t>Partner for Quality Care is an initiative of the Oregon Health Care Quality Corporation http://www.PartnerForQualityCare.org</a:t>
            </a:r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  <p:sp>
        <p:nvSpPr>
          <p:cNvPr id="104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3D7E-4874-4829-8C75-47ACAE1024C6}" type="slidenum">
              <a:rPr b="0" lang="en-US" sz="1200" spc="-1" strike="noStrike">
                <a:solidFill>
                  <a:srgbClr val="8f8b8a"/>
                </a:solidFill>
                <a:latin typeface="Avenir book"/>
              </a:rPr>
              <a:t>&lt;number&gt;</a:t>
            </a:fld>
            <a:endParaRPr b="0" lang="en-US" sz="1200" spc="-1" strike="noStrike">
              <a:solidFill>
                <a:srgbClr val="351a0d"/>
              </a:solidFill>
              <a:latin typeface="Arial"/>
            </a:endParaRPr>
          </a:p>
        </p:txBody>
      </p:sp>
      <p:pic>
        <p:nvPicPr>
          <p:cNvPr id="1045" name="Picture 2" descr="Graphic shows web home page for consumers with two forms of navigation – scenarios and tabs.&#13;&#10;"/>
          <p:cNvPicPr/>
          <p:nvPr/>
        </p:nvPicPr>
        <p:blipFill>
          <a:blip r:embed="rId1"/>
          <a:stretch/>
        </p:blipFill>
        <p:spPr>
          <a:xfrm>
            <a:off x="533520" y="380880"/>
            <a:ext cx="761976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351a0d"/>
                </a:solidFill>
                <a:latin typeface="Avenir Heavy"/>
              </a:rPr>
              <a:t>Health Care Quality and Patient Safety 101</a:t>
            </a:r>
            <a:r>
              <a:rPr b="0" lang="en-US" sz="3600" spc="-1" strike="noStrike">
                <a:solidFill>
                  <a:srgbClr val="351a0d"/>
                </a:solidFill>
                <a:latin typeface="Avenir Heavy"/>
              </a:rPr>
              <a:t>	</a:t>
            </a:r>
            <a:endParaRPr b="0" lang="en-US" sz="3600" spc="-1" strike="noStrike">
              <a:solidFill>
                <a:srgbClr val="351a0d"/>
              </a:solidFill>
              <a:latin typeface="Avenir Heavy"/>
            </a:endParaRPr>
          </a:p>
        </p:txBody>
      </p:sp>
      <p:graphicFrame>
        <p:nvGraphicFramePr>
          <p:cNvPr id="1047" name=""/>
          <p:cNvGraphicFramePr/>
          <p:nvPr/>
        </p:nvGraphicFramePr>
        <p:xfrm>
          <a:off x="228600" y="2651040"/>
          <a:ext cx="8686800" cy="3152880"/>
        </p:xfrm>
        <a:graphic>
          <a:graphicData uri="http://schemas.openxmlformats.org/drawingml/2006/table">
            <a:tbl>
              <a:tblPr/>
              <a:tblGrid>
                <a:gridCol w="2057400"/>
                <a:gridCol w="66294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Building Skills 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f20000"/>
                        </a:buClr>
                        <a:buFont typeface="Wingdings 2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Patients and Health Care Teams: Building Successful Partnership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f20000"/>
                        </a:buClr>
                        <a:buFont typeface="Wingdings 2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Lots of time for questions and sharing of experiences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Modeling Behavior 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f20000"/>
                        </a:buClr>
                        <a:buFont typeface="Wingdings 2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Patient/Provider skits – bad encounter / good encounter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f20000"/>
                        </a:buClr>
                        <a:buFont typeface="Wingdings 2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Facilitated debrief of the skits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Re-enforcing Knowledge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f20000"/>
                        </a:buClr>
                        <a:buFont typeface="Wingdings 2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Who Wants to be a Quality Millionaire game show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f20000"/>
                        </a:buClr>
                        <a:buFont typeface="Wingdings 2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What will you do next” table discussion 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Evaluation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f20000"/>
                        </a:buClr>
                        <a:buFont typeface="Wingdings 2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51a0d"/>
                          </a:solidFill>
                          <a:latin typeface="Avenir book"/>
                        </a:rPr>
                        <a:t>Questions from the PAM</a:t>
                      </a:r>
                      <a:endParaRPr b="0" lang="en-US" sz="2000" spc="-1" strike="noStrike">
                        <a:solidFill>
                          <a:srgbClr val="351a0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48" name=""/>
          <p:cNvGrpSpPr/>
          <p:nvPr/>
        </p:nvGrpSpPr>
        <p:grpSpPr>
          <a:xfrm>
            <a:off x="304920" y="1371600"/>
            <a:ext cx="8039160" cy="1170000"/>
            <a:chOff x="304920" y="1371600"/>
            <a:chExt cx="8039160" cy="1170000"/>
          </a:xfrm>
        </p:grpSpPr>
        <p:graphicFrame>
          <p:nvGraphicFramePr>
            <p:cNvPr id="1049" name="Object 2"/>
            <p:cNvGraphicFramePr/>
            <p:nvPr/>
          </p:nvGraphicFramePr>
          <p:xfrm>
            <a:off x="304920" y="1752480"/>
            <a:ext cx="2286000" cy="60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752480"/>
                      <a:ext cx="2286000" cy="60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51" name="Picture 3" descr="http://www.acumentra.org/images/ihi_images/PSC-50pct-150px.jpg"/>
            <p:cNvPicPr/>
            <p:nvPr/>
          </p:nvPicPr>
          <p:blipFill>
            <a:blip r:embed="rId3"/>
            <a:stretch/>
          </p:blipFill>
          <p:spPr>
            <a:xfrm>
              <a:off x="6858000" y="1523880"/>
              <a:ext cx="148608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0" descr="P4QC color tag.jpg"/>
            <p:cNvPicPr/>
            <p:nvPr/>
          </p:nvPicPr>
          <p:blipFill>
            <a:blip r:embed="rId4"/>
            <a:stretch/>
          </p:blipFill>
          <p:spPr>
            <a:xfrm>
              <a:off x="3581280" y="1371600"/>
              <a:ext cx="1905120" cy="11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02:57Z</dcterms:created>
  <dc:creator>Staff Desktop</dc:creator>
  <dc:description/>
  <dc:language>en-US</dc:language>
  <cp:lastModifiedBy>DHHS</cp:lastModifiedBy>
  <dcterms:modified xsi:type="dcterms:W3CDTF">2009-12-04T18:29:48Z</dcterms:modified>
  <cp:revision>93</cp:revision>
  <dc:subject/>
  <dc:title>Slide 1</dc:title>
</cp:coreProperties>
</file>