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-360" y="6948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BAA44F-89CC-4B8F-8F0A-0A56D8DA19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0" y="69516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8378C-DEC1-4035-889C-EA1C93D4DD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EB0D-2A7D-481F-811E-6AFE5B87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DACB-7831-4BD6-88B2-C46F4FC4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602-B655-430B-BFA9-B626D86D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383-DEE5-4F93-A1F6-D4F82FEA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56C-983E-416D-88E1-4384A710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699-D199-46E8-93F6-1FE032D3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FB24-9532-4594-8C22-29CA077B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B95-4DDB-4864-A4E9-42C0DFE3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B6F-2447-40AC-A18E-993034E1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62B-E153-4BE4-8F45-13B09589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82C-2F90-4073-B138-E1E4697E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607-3E0F-4082-9CB7-A7D9C1AF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EB52E-64C7-4001-8166-DF7E700749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hyperlink" Target="mailto:rdc@case.edu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etterhealthcleveland.org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census.gov/" TargetMode="External"/><Relationship Id="rId6" Type="http://schemas.openxmlformats.org/officeDocument/2006/relationships/hyperlink" Target="http://www.census.gov/" TargetMode="External"/><Relationship Id="rId7" Type="http://schemas.openxmlformats.org/officeDocument/2006/relationships/hyperlink" Target="http://www.census.gov/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3"/>
          <p:cNvGraphicFramePr/>
          <p:nvPr/>
        </p:nvGraphicFramePr>
        <p:xfrm>
          <a:off x="7772400" y="5719680"/>
          <a:ext cx="1371600" cy="11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3" descr="Center for Health Care Research &amp; Policy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5719680"/>
                    <a:ext cx="13716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4" descr="Case logo"/>
          <p:cNvPicPr/>
          <p:nvPr/>
        </p:nvPicPr>
        <p:blipFill>
          <a:blip r:embed="rId3"/>
          <a:stretch/>
        </p:blipFill>
        <p:spPr>
          <a:xfrm>
            <a:off x="0" y="6067440"/>
            <a:ext cx="2590920" cy="790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Better Health Greater Cleveland logo"/>
          <p:cNvPicPr/>
          <p:nvPr/>
        </p:nvPicPr>
        <p:blipFill>
          <a:blip r:embed="rId4"/>
          <a:stretch/>
        </p:blipFill>
        <p:spPr>
          <a:xfrm>
            <a:off x="3048120" y="6095880"/>
            <a:ext cx="3746520" cy="71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HRQ 2009 Annual Conferenc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earch to Refor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09320"/>
            <a:ext cx="8228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-61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goe UI"/>
              </a:rPr>
              <a:t>Improving Care and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goe UI"/>
              </a:rPr>
              <a:t>in Uninsured Popul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egoe UI"/>
              </a:rPr>
              <a:t>The Invisible Disp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ctr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ndall D. Cebul, M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ctr"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Arial"/>
                <a:ea typeface="ＭＳ Ｐゴシック"/>
                <a:hlinkClick r:id="rId5"/>
              </a:rPr>
              <a:t>rdc@case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560" indent="-61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table"/>
          <p:cNvPicPr/>
          <p:nvPr/>
        </p:nvPicPr>
        <p:blipFill>
          <a:blip r:embed="rId1"/>
          <a:stretch/>
        </p:blipFill>
        <p:spPr>
          <a:xfrm>
            <a:off x="1295280" y="1295280"/>
            <a:ext cx="6553440" cy="5349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8077320" y="0"/>
            <a:ext cx="1036440" cy="1312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% Increase in Uninsured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7 to 2008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HEDIS. Uninsured do o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compared to Medic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12840" y="1066680"/>
          <a:ext cx="8534160" cy="5369040"/>
        </p:xfrm>
        <a:graphic>
          <a:graphicData uri="http://schemas.openxmlformats.org/drawingml/2006/table">
            <a:tbl>
              <a:tblPr/>
              <a:tblGrid>
                <a:gridCol w="1842840"/>
                <a:gridCol w="1013040"/>
                <a:gridCol w="1116000"/>
                <a:gridCol w="1357200"/>
                <a:gridCol w="1096920"/>
                <a:gridCol w="1208160"/>
                <a:gridCol w="900000"/>
              </a:tblGrid>
              <a:tr h="565200">
                <a:tc grid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GIONAL ACHIEVEMENT (2008) COMPARED TO NATIONWIDE HEALTH PLAN AVERAGES (2007) ON HEDIS COMPREHENSIVE DIABETES CARE MEASU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75f6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Medic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ommerc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Medica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Uninsur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HbA1c test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95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88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9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88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91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77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90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93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Poor HbA1c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ontrol (&gt;9)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2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29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8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29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47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5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9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Eye Exa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9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62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2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55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4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49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8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1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LDL-C Sc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9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85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9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83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75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70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77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6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LDL-C Control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(&lt;1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1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46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3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43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8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31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6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3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Monitoring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Nephropath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91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85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9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80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6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74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7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9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Blood Pressur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ontrol (&lt;130/8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8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31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8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32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6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29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1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7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Blood Pressur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ontrol (&lt;140/9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6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58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71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63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59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55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2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7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4"/>
          <p:cNvSpPr/>
          <p:nvPr/>
        </p:nvSpPr>
        <p:spPr>
          <a:xfrm>
            <a:off x="407520" y="6400800"/>
            <a:ext cx="38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*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Lower rates are better for this measu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6" descr="BHGC reduced height w tag 300dpi.jpg"/>
          <p:cNvPicPr/>
          <p:nvPr/>
        </p:nvPicPr>
        <p:blipFill>
          <a:blip r:embed="rId1"/>
          <a:stretch/>
        </p:blipFill>
        <p:spPr>
          <a:xfrm>
            <a:off x="7162920" y="76320"/>
            <a:ext cx="18856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all, we’re improving on ou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site mea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BHGC Vertical 300dpi.jpg"/>
          <p:cNvPicPr/>
          <p:nvPr/>
        </p:nvPicPr>
        <p:blipFill>
          <a:blip r:embed="rId1"/>
          <a:stretch/>
        </p:blipFill>
        <p:spPr>
          <a:xfrm>
            <a:off x="8077320" y="0"/>
            <a:ext cx="1036440" cy="131292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1530360" y="1371600"/>
            <a:ext cx="6084720" cy="5375160"/>
            <a:chOff x="1530360" y="1371600"/>
            <a:chExt cx="6084720" cy="537516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530360" y="1371600"/>
              <a:ext cx="6084720" cy="537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And most practices have better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outcomes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better care processes</a:t>
            </a:r>
            <a:br>
              <a:rPr sz="32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bar graph"/>
          <p:cNvPicPr/>
          <p:nvPr/>
        </p:nvPicPr>
        <p:blipFill>
          <a:blip r:embed="rId1"/>
          <a:stretch/>
        </p:blipFill>
        <p:spPr>
          <a:xfrm>
            <a:off x="1828800" y="1143000"/>
            <a:ext cx="55180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BHGC Vertical 300dpi.jpg"/>
          <p:cNvPicPr/>
          <p:nvPr/>
        </p:nvPicPr>
        <p:blipFill>
          <a:blip r:embed="rId2"/>
          <a:stretch/>
        </p:blipFill>
        <p:spPr>
          <a:xfrm>
            <a:off x="8077320" y="0"/>
            <a:ext cx="10364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our Uninsured are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mpro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bar graph"/>
          <p:cNvPicPr/>
          <p:nvPr/>
        </p:nvPicPr>
        <p:blipFill>
          <a:blip r:embed="rId1"/>
          <a:stretch/>
        </p:blipFill>
        <p:spPr>
          <a:xfrm>
            <a:off x="1728720" y="1276200"/>
            <a:ext cx="5721480" cy="558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BHGC Vertical 300dpi.jpg"/>
          <p:cNvPicPr/>
          <p:nvPr/>
        </p:nvPicPr>
        <p:blipFill>
          <a:blip r:embed="rId2"/>
          <a:stretch/>
        </p:blipFill>
        <p:spPr>
          <a:xfrm>
            <a:off x="76320" y="5638680"/>
            <a:ext cx="901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762120" y="28951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t our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http://www.betterhealthcleveland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BHGC Executive Summary FINAL TO DUKE 1"/>
          <p:cNvPicPr/>
          <p:nvPr/>
        </p:nvPicPr>
        <p:blipFill>
          <a:blip r:embed="rId2"/>
          <a:stretch/>
        </p:blipFill>
        <p:spPr>
          <a:xfrm>
            <a:off x="2743200" y="4572000"/>
            <a:ext cx="36529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: Quality of Car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ong the Unins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 claims or EMRs, the quality of care and outcomes of the uninsured are largely invisi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t we know they fare more poo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tice records-based measurement and public reporting are important for improving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Rs are useful: timely, granular, enable C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 (interoperable EMRs) would be even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 to regional QI/consumer engagement (CE)/payment reform, better st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WJF is supporting 15 communities to measure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ort perform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ndert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gional Q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Better Health greater Clevland logo"/>
          <p:cNvPicPr/>
          <p:nvPr/>
        </p:nvPicPr>
        <p:blipFill>
          <a:blip r:embed="rId1"/>
          <a:stretch/>
        </p:blipFill>
        <p:spPr>
          <a:xfrm>
            <a:off x="3048120" y="6095880"/>
            <a:ext cx="3746520" cy="7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23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4440" y="1312920"/>
            <a:ext cx="8729640" cy="4957560"/>
            <a:chOff x="244440" y="1312920"/>
            <a:chExt cx="8729640" cy="4957560"/>
          </a:xfrm>
        </p:grpSpPr>
        <p:pic>
          <p:nvPicPr>
            <p:cNvPr id="55" name="Picture 3" descr=""/>
            <p:cNvPicPr/>
            <p:nvPr/>
          </p:nvPicPr>
          <p:blipFill>
            <a:blip r:embed="rId1"/>
            <a:stretch/>
          </p:blipFill>
          <p:spPr>
            <a:xfrm>
              <a:off x="244440" y="1312920"/>
              <a:ext cx="4335480" cy="24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" descr=""/>
            <p:cNvPicPr/>
            <p:nvPr/>
          </p:nvPicPr>
          <p:blipFill>
            <a:blip r:embed="rId2"/>
            <a:stretch/>
          </p:blipFill>
          <p:spPr>
            <a:xfrm>
              <a:off x="4627440" y="1324080"/>
              <a:ext cx="4335480" cy="24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5" descr=""/>
            <p:cNvPicPr/>
            <p:nvPr/>
          </p:nvPicPr>
          <p:blipFill>
            <a:blip r:embed="rId3"/>
            <a:stretch/>
          </p:blipFill>
          <p:spPr>
            <a:xfrm>
              <a:off x="250920" y="3794040"/>
              <a:ext cx="4335480" cy="24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6" descr=""/>
            <p:cNvPicPr/>
            <p:nvPr/>
          </p:nvPicPr>
          <p:blipFill>
            <a:blip r:embed="rId4"/>
            <a:stretch/>
          </p:blipFill>
          <p:spPr>
            <a:xfrm>
              <a:off x="4638600" y="3805200"/>
              <a:ext cx="4335480" cy="246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TextBox 7"/>
          <p:cNvSpPr/>
          <p:nvPr/>
        </p:nvSpPr>
        <p:spPr>
          <a:xfrm>
            <a:off x="2434320" y="632448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d2611c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Arial"/>
                <a:hlinkClick r:id="rId6"/>
              </a:rPr>
              <a:t>www.census.gov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>
                <a:solidFill>
                  <a:srgbClr val="f6d037"/>
                </a:solidFill>
                <a:latin typeface="Arial"/>
              </a:rPr>
              <a:t> accessed 9-12-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know how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nsured there are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.4% (46M), growing: 26% if publicly insured are exclude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know some of the financial and   health consequences – to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57200" y="157644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bill problems/paying off medical debt climbed from 34 percent to 41 percent in the U.S. between 2005 and 2007... 72 million (Commonwealth Fun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costs are the leading cause of personal bankruptcies (Himmelstei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mJM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200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Gothic"/>
              </a:rPr>
              <a:t>roughly half of all bankruptcy filers (‘07) had OOP medical costs &gt; $5000 before filing; 3/4 had insurance cover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insurance leads to foregoing necessary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 Gothic"/>
              </a:rPr>
              <a:t>IOM: 20,000 premature deaths annual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NE OF THESE ARE VERY ACTIONABLE STATI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or Glycemic Control” Among Diabetics:  The Uninsured do Wo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bar graphs"/>
          <p:cNvPicPr/>
          <p:nvPr/>
        </p:nvPicPr>
        <p:blipFill>
          <a:blip r:embed="rId1"/>
          <a:stretch/>
        </p:blipFill>
        <p:spPr>
          <a:xfrm>
            <a:off x="3728880" y="1625760"/>
            <a:ext cx="525780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560" y="1600200"/>
            <a:ext cx="382428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843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MR-based system, same P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nsured: 64% higher odds (95% CI: 1.32-2.03) of poo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ed for ASR, co-morbidities, smoking, show rates, income,   site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5867280" y="1905120"/>
            <a:ext cx="6858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423720" y="6400800"/>
            <a:ext cx="85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Arial"/>
              </a:rPr>
              <a:t>Supported by grant: R01 HS-015123, Agency for Healthcare Research and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maps"/>
          <p:cNvPicPr/>
          <p:nvPr/>
        </p:nvPicPr>
        <p:blipFill>
          <a:blip r:embed="rId1"/>
          <a:stretch/>
        </p:blipFill>
        <p:spPr>
          <a:xfrm>
            <a:off x="1096920" y="1158840"/>
            <a:ext cx="7056360" cy="54770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igning Forces for Quality - 200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HGC Horizontal with tag 300dpi"/>
          <p:cNvPicPr/>
          <p:nvPr/>
        </p:nvPicPr>
        <p:blipFill>
          <a:blip r:embed="rId1"/>
          <a:stretch/>
        </p:blipFill>
        <p:spPr>
          <a:xfrm>
            <a:off x="2641680" y="5977080"/>
            <a:ext cx="3746520" cy="715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BHGC Executive Summary FINAL TO DUKE 1"/>
          <p:cNvPicPr/>
          <p:nvPr/>
        </p:nvPicPr>
        <p:blipFill>
          <a:blip r:embed="rId2"/>
          <a:stretch/>
        </p:blipFill>
        <p:spPr>
          <a:xfrm>
            <a:off x="4876920" y="189000"/>
            <a:ext cx="3652560" cy="20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0" y="2514600"/>
          <a:ext cx="9144000" cy="3473280"/>
        </p:xfrm>
        <a:graphic>
          <a:graphicData uri="http://schemas.openxmlformats.org/drawingml/2006/table">
            <a:tbl>
              <a:tblPr/>
              <a:tblGrid>
                <a:gridCol w="576360"/>
                <a:gridCol w="279360"/>
                <a:gridCol w="8288280"/>
              </a:tblGrid>
              <a:tr h="45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2060"/>
                      </a:solidFill>
                    </a:lnL>
                    <a:lnR>
                      <a:noFill/>
                    </a:lnR>
                    <a:lnT w="9360">
                      <a:solidFill>
                        <a:srgbClr val="00206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6c0a"/>
                          </a:solidFill>
                          <a:latin typeface="Arial"/>
                          <a:ea typeface="Times New Roman"/>
                        </a:rPr>
                        <a:t>OUR MISS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2060"/>
                      </a:solidFill>
                    </a:lnR>
                    <a:lnT w="9360">
                      <a:solidFill>
                        <a:srgbClr val="00206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8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206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Better Health </a:t>
                      </a:r>
                      <a:r>
                        <a:rPr b="1" i="1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Greater</a:t>
                      </a: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 Cleveland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 is a multi-stakeholder partnership that improves the health and value of health care provided to people with chronic medical conditions in Northeast Ohi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We are committed t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206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206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Bef>
                          <a:spcPts val="601"/>
                        </a:spcBef>
                        <a:buClr>
                          <a:srgbClr val="e36c0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84807"/>
                          </a:solidFill>
                          <a:latin typeface="Arial"/>
                          <a:ea typeface="Times New Roman"/>
                        </a:rPr>
                        <a:t>improving care and outcomes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 of all people with chronic condi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e36c0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84807"/>
                          </a:solidFill>
                          <a:latin typeface="Arial"/>
                          <a:ea typeface="Times New Roman"/>
                        </a:rPr>
                        <a:t>eliminating disparities 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in health observed among disadvantaged populations by insurance, race, education and income; 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601"/>
                        </a:spcAft>
                        <a:buClr>
                          <a:srgbClr val="e36c0a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84807"/>
                          </a:solidFill>
                          <a:latin typeface="Arial"/>
                          <a:ea typeface="Times New Roman"/>
                        </a:rPr>
                        <a:t>transparency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Arial"/>
                          <a:ea typeface="Times New Roman"/>
                        </a:rPr>
                        <a:t> across collaborating organizations, and, through public reporting of patient care data, with our communit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2060"/>
                      </a:solidFill>
                    </a:lnR>
                    <a:lnT>
                      <a:noFill/>
                    </a:lnT>
                    <a:lnB w="9360">
                      <a:solidFill>
                        <a:srgbClr val="00206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267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AF4Q in Northeast</a:t>
            </a:r>
            <a:br>
              <a:rPr sz="3200"/>
            </a:b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Ohi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Ma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914400"/>
            <a:ext cx="86868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reports every 6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QF endorsed, locally vette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e practice organizations and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Alliance to Cleveland Clin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organizations, 54 sites (42 reporting), 500+ PCPs (361 reporting) – virtually all SNPs, all FQH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-based practices manually abstracted ..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-wide Achievement and Chang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(M’care, commercial, M’caid, uninsured),         Race (W, B, H, Other), Income and Education (addresses geo-linked to cens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site achievement and change by in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57200" y="0"/>
            <a:ext cx="822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2" descr="table"/>
          <p:cNvPicPr/>
          <p:nvPr/>
        </p:nvPicPr>
        <p:blipFill>
          <a:blip r:embed="rId1"/>
          <a:srcRect l="2588" t="1839" r="3881" b="3678"/>
          <a:stretch/>
        </p:blipFill>
        <p:spPr>
          <a:xfrm>
            <a:off x="398520" y="690480"/>
            <a:ext cx="8339040" cy="592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76320" y="0"/>
            <a:ext cx="3133440" cy="615960"/>
          </a:xfrm>
          <a:prstGeom prst="rect">
            <a:avLst/>
          </a:prstGeom>
          <a:ln w="0">
            <a:noFill/>
          </a:ln>
        </p:spPr>
      </p:pic>
      <p:sp>
        <p:nvSpPr>
          <p:cNvPr id="80" name="Oval 4"/>
          <p:cNvSpPr/>
          <p:nvPr/>
        </p:nvSpPr>
        <p:spPr>
          <a:xfrm>
            <a:off x="3048120" y="1600200"/>
            <a:ext cx="838080" cy="1447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5"/>
          <p:cNvSpPr/>
          <p:nvPr/>
        </p:nvSpPr>
        <p:spPr>
          <a:xfrm>
            <a:off x="6019920" y="4038480"/>
            <a:ext cx="281916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6019920" y="5486400"/>
            <a:ext cx="281916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7"/>
          <p:cNvSpPr/>
          <p:nvPr/>
        </p:nvSpPr>
        <p:spPr>
          <a:xfrm>
            <a:off x="6019920" y="6248520"/>
            <a:ext cx="281916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3040" y="-15120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Diabetes - 200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20:07:53Z</dcterms:created>
  <dc:creator>rcebul</dc:creator>
  <dc:description/>
  <dc:language>en-US</dc:language>
  <cp:lastModifiedBy>DHHS</cp:lastModifiedBy>
  <dcterms:modified xsi:type="dcterms:W3CDTF">2009-12-04T18:04:27Z</dcterms:modified>
  <cp:revision>27</cp:revision>
  <dc:subject/>
  <dc:title>Attacking Chronic Disease in Greater Cleveland: Good News and Challenges</dc:title>
</cp:coreProperties>
</file>