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539AB-9BBA-4EB6-BE45-5288EEBA21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6C35A-28E4-451A-A892-31C28C8869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A9F-15BF-4A48-84FE-763E1444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7EE-B3C9-4461-93EF-6EB08B1F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16F-5CF6-4825-ABC7-C0BD1200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541-D8D1-4BE0-9952-53F9523D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936-2B90-4F2E-AC4E-77C109E2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71C-E293-4F2B-990A-E8884C8B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EAE-8ECB-4097-80B2-8157825A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CB0-BDED-4369-821B-ACE31475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702-3295-4647-AC5C-0739CB48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28B-5797-40C4-BEAA-2F5E9D3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C6F-70CB-46A5-9AFA-EB33A0BC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F81-4560-408D-BFDA-91B02F01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48FEF-3A06-4A70-A204-2CEF56FB95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mailto:rdc@case.edu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tterhealthcleveland.org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census.gov/" TargetMode="External"/><Relationship Id="rId6" Type="http://schemas.openxmlformats.org/officeDocument/2006/relationships/hyperlink" Target="http://www.census.gov/" TargetMode="External"/><Relationship Id="rId7" Type="http://schemas.openxmlformats.org/officeDocument/2006/relationships/hyperlink" Target="http://www.census.gov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3"/>
          <p:cNvGraphicFramePr/>
          <p:nvPr/>
        </p:nvGraphicFramePr>
        <p:xfrm>
          <a:off x="7772400" y="5719680"/>
          <a:ext cx="13716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Center for Health Care Research &amp; Policy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57196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4" descr="Case logo"/>
          <p:cNvPicPr/>
          <p:nvPr/>
        </p:nvPicPr>
        <p:blipFill>
          <a:blip r:embed="rId3"/>
          <a:stretch/>
        </p:blipFill>
        <p:spPr>
          <a:xfrm>
            <a:off x="0" y="6067440"/>
            <a:ext cx="2590920" cy="79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Better Health Greater Cleveland logo"/>
          <p:cNvPicPr/>
          <p:nvPr/>
        </p:nvPicPr>
        <p:blipFill>
          <a:blip r:embed="rId4"/>
          <a:stretch/>
        </p:blipFill>
        <p:spPr>
          <a:xfrm>
            <a:off x="3048120" y="6095880"/>
            <a:ext cx="3746520" cy="71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HRQ 2009 Annual Confere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arch to Refor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09320"/>
            <a:ext cx="822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UI"/>
              </a:rPr>
              <a:t>Improving Care and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UI"/>
              </a:rPr>
              <a:t>in Uninsured Popu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UI"/>
              </a:rPr>
              <a:t>The Invisible Disp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dall D. Cebul, M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Arial"/>
                <a:ea typeface="ＭＳ Ｐゴシック"/>
                <a:hlinkClick r:id="rId5"/>
              </a:rPr>
              <a:t>rdc@case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able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5349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8077320" y="0"/>
            <a:ext cx="1036440" cy="1312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% Increase in Uninsur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 to 200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HEDIS. Uninsured do o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compared to 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2840" y="1066680"/>
          <a:ext cx="8534160" cy="5369040"/>
        </p:xfrm>
        <a:graphic>
          <a:graphicData uri="http://schemas.openxmlformats.org/drawingml/2006/table">
            <a:tbl>
              <a:tblPr/>
              <a:tblGrid>
                <a:gridCol w="1842840"/>
                <a:gridCol w="1013040"/>
                <a:gridCol w="1116000"/>
                <a:gridCol w="1357200"/>
                <a:gridCol w="1096920"/>
                <a:gridCol w="1208160"/>
                <a:gridCol w="900000"/>
              </a:tblGrid>
              <a:tr h="56520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GIONAL ACHIEVEMENT (2008) COMPARED TO NATIONWIDE HEALTH PLAN AVERAGES (2007) ON HEDIS COMPREHENSIVE DIABETES CARE MEASU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5f6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edi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edic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Uninsur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HbA1c test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8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8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1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77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oor HbA1c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ontrol (&gt;9)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2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8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2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5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9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ye Exa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2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2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4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1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LDL-C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5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3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7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7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LDL-C Control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&lt;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3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3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6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onitoring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Nephropath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1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5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0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6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7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9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Blood Pressur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ontrol (&lt;130/8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1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29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1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Blood Pressur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ontrol (&lt;140/9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3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9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"/>
          <p:cNvSpPr/>
          <p:nvPr/>
        </p:nvSpPr>
        <p:spPr>
          <a:xfrm>
            <a:off x="407520" y="6400800"/>
            <a:ext cx="38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*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Lower rates are better for this meas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6" descr="BHGC reduced height w tag 300dpi.jpg"/>
          <p:cNvPicPr/>
          <p:nvPr/>
        </p:nvPicPr>
        <p:blipFill>
          <a:blip r:embed="rId1"/>
          <a:stretch/>
        </p:blipFill>
        <p:spPr>
          <a:xfrm>
            <a:off x="7162920" y="76320"/>
            <a:ext cx="18856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ll, we’re improving on ou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te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BHGC Vertical 300dpi.jpg"/>
          <p:cNvPicPr/>
          <p:nvPr/>
        </p:nvPicPr>
        <p:blipFill>
          <a:blip r:embed="rId1"/>
          <a:stretch/>
        </p:blipFill>
        <p:spPr>
          <a:xfrm>
            <a:off x="8077320" y="0"/>
            <a:ext cx="10364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530360" y="1371600"/>
            <a:ext cx="6084720" cy="5375160"/>
            <a:chOff x="1530360" y="1371600"/>
            <a:chExt cx="6084720" cy="537516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530360" y="1371600"/>
              <a:ext cx="6084720" cy="537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d most practices have bett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utcomes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better care processes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bar graph"/>
          <p:cNvPicPr/>
          <p:nvPr/>
        </p:nvPicPr>
        <p:blipFill>
          <a:blip r:embed="rId1"/>
          <a:stretch/>
        </p:blipFill>
        <p:spPr>
          <a:xfrm>
            <a:off x="1828800" y="1143000"/>
            <a:ext cx="55180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BHGC Vertical 300dpi.jpg"/>
          <p:cNvPicPr/>
          <p:nvPr/>
        </p:nvPicPr>
        <p:blipFill>
          <a:blip r:embed="rId2"/>
          <a:stretch/>
        </p:blipFill>
        <p:spPr>
          <a:xfrm>
            <a:off x="8077320" y="0"/>
            <a:ext cx="10364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our Uninsured ar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mpro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bar graph"/>
          <p:cNvPicPr/>
          <p:nvPr/>
        </p:nvPicPr>
        <p:blipFill>
          <a:blip r:embed="rId1"/>
          <a:stretch/>
        </p:blipFill>
        <p:spPr>
          <a:xfrm>
            <a:off x="1728720" y="1276200"/>
            <a:ext cx="5721480" cy="558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BHGC Vertical 300dpi.jpg"/>
          <p:cNvPicPr/>
          <p:nvPr/>
        </p:nvPicPr>
        <p:blipFill>
          <a:blip r:embed="rId2"/>
          <a:stretch/>
        </p:blipFill>
        <p:spPr>
          <a:xfrm>
            <a:off x="76320" y="5638680"/>
            <a:ext cx="901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28951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our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http://www.betterhealthcleveland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BHGC Executive Summary FINAL TO DUKE 1"/>
          <p:cNvPicPr/>
          <p:nvPr/>
        </p:nvPicPr>
        <p:blipFill>
          <a:blip r:embed="rId2"/>
          <a:stretch/>
        </p:blipFill>
        <p:spPr>
          <a:xfrm>
            <a:off x="2743200" y="4572000"/>
            <a:ext cx="3652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: Quality of Ca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ng the Unin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 claims or EMRs, the quality of care and outcomes of the uninsured are largely invisi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 we know they fare more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 records-based measurement and public reporting are important for improving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Rs are useful: timely, granular, enable C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 (interoperable EMRs) would be even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to regional QI/consumer engagement (CE)/payment reform, better st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WJF is supporting 15 communities to measure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ort perform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ndert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ional Q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etter Health greater Clevland logo"/>
          <p:cNvPicPr/>
          <p:nvPr/>
        </p:nvPicPr>
        <p:blipFill>
          <a:blip r:embed="rId1"/>
          <a:stretch/>
        </p:blipFill>
        <p:spPr>
          <a:xfrm>
            <a:off x="3048120" y="6095880"/>
            <a:ext cx="374652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4440" y="1312920"/>
            <a:ext cx="8729640" cy="4957560"/>
            <a:chOff x="244440" y="1312920"/>
            <a:chExt cx="8729640" cy="495756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>
              <a:off x="244440" y="1312920"/>
              <a:ext cx="4335480" cy="24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4627440" y="1324080"/>
              <a:ext cx="4335480" cy="24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5" descr=""/>
            <p:cNvPicPr/>
            <p:nvPr/>
          </p:nvPicPr>
          <p:blipFill>
            <a:blip r:embed="rId3"/>
            <a:stretch/>
          </p:blipFill>
          <p:spPr>
            <a:xfrm>
              <a:off x="250920" y="3794040"/>
              <a:ext cx="4335480" cy="24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6" descr=""/>
            <p:cNvPicPr/>
            <p:nvPr/>
          </p:nvPicPr>
          <p:blipFill>
            <a:blip r:embed="rId4"/>
            <a:stretch/>
          </p:blipFill>
          <p:spPr>
            <a:xfrm>
              <a:off x="4638600" y="3805200"/>
              <a:ext cx="4335480" cy="246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Box 7"/>
          <p:cNvSpPr/>
          <p:nvPr/>
        </p:nvSpPr>
        <p:spPr>
          <a:xfrm>
            <a:off x="2434320" y="63244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6"/>
              </a:rPr>
              <a:t>www.census.gov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>
                <a:solidFill>
                  <a:srgbClr val="f6d037"/>
                </a:solidFill>
                <a:latin typeface="Arial"/>
              </a:rPr>
              <a:t> accessed 9-12-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know h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nsured there are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4% (46M), growing: 26% if publicly insured are exclud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know some of the financial and   health consequences – to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57644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bill problems/paying off medical debt climbed from 34 percent to 41 percent in the U.S. between 2005 and 2007... 72 million (Commonwealth Fu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costs are the leading cause of personal bankruptcies (Himmelste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JM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20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Gothic"/>
              </a:rPr>
              <a:t>roughly half of all bankruptcy filers (‘07) had OOP medical costs &gt; $5000 before filing; 3/4 had insurance cover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surance leads to foregoing necessar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Gothic"/>
              </a:rPr>
              <a:t>IOM: 20,000 premature deaths annual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NE OF THESE ARE VERY ACTIONABLE STATI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r Glycemic Control” Among Diabetics:  The Uninsured do Wo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bar graphs"/>
          <p:cNvPicPr/>
          <p:nvPr/>
        </p:nvPicPr>
        <p:blipFill>
          <a:blip r:embed="rId1"/>
          <a:stretch/>
        </p:blipFill>
        <p:spPr>
          <a:xfrm>
            <a:off x="3728880" y="1625760"/>
            <a:ext cx="52578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" y="1600200"/>
            <a:ext cx="382428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843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MR-based system, same P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sured: 64% higher odds (95% CI: 1.32-2.03) of po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ed for ASR, co-morbidities, smoking, show rates, income,   site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867280" y="1905120"/>
            <a:ext cx="6858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23720" y="6400800"/>
            <a:ext cx="85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Supported by grant: R01 HS-015123, Agency for Healthcare Research and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s"/>
          <p:cNvPicPr/>
          <p:nvPr/>
        </p:nvPicPr>
        <p:blipFill>
          <a:blip r:embed="rId1"/>
          <a:stretch/>
        </p:blipFill>
        <p:spPr>
          <a:xfrm>
            <a:off x="1096920" y="1158840"/>
            <a:ext cx="7056360" cy="54770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igning Forces for Quality - 200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HGC Horizontal with tag 300dpi"/>
          <p:cNvPicPr/>
          <p:nvPr/>
        </p:nvPicPr>
        <p:blipFill>
          <a:blip r:embed="rId1"/>
          <a:stretch/>
        </p:blipFill>
        <p:spPr>
          <a:xfrm>
            <a:off x="2641680" y="5977080"/>
            <a:ext cx="3746520" cy="715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BHGC Executive Summary FINAL TO DUKE 1"/>
          <p:cNvPicPr/>
          <p:nvPr/>
        </p:nvPicPr>
        <p:blipFill>
          <a:blip r:embed="rId2"/>
          <a:stretch/>
        </p:blipFill>
        <p:spPr>
          <a:xfrm>
            <a:off x="4876920" y="189000"/>
            <a:ext cx="365256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0" y="2514600"/>
          <a:ext cx="9144000" cy="3473280"/>
        </p:xfrm>
        <a:graphic>
          <a:graphicData uri="http://schemas.openxmlformats.org/drawingml/2006/table">
            <a:tbl>
              <a:tblPr/>
              <a:tblGrid>
                <a:gridCol w="576360"/>
                <a:gridCol w="279360"/>
                <a:gridCol w="828828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2060"/>
                      </a:solidFill>
                    </a:lnL>
                    <a:lnR>
                      <a:noFill/>
                    </a:lnR>
                    <a:lnT w="936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OUR MIS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206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etter Health </a:t>
                      </a:r>
                      <a:r>
                        <a:rPr b="1" i="1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Greater</a:t>
                      </a: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Cleveland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is a multi-stakeholder partnership that improves the health and value of health care provided to people with chronic medical conditions in Northeast Ohi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We are committed t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206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206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e36c0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improving care and outcomes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of all people with chronic cond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36c0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eliminating disparities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n health observed among disadvantaged populations by insurance, race, education and income; 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e36c0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transparency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across collaborating organizations, and, through public reporting of patient care data, with our commun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2060"/>
                      </a:solidFill>
                    </a:lnR>
                    <a:lnT>
                      <a:noFill/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67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AF4Q in Northeast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Oh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Ma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14400"/>
            <a:ext cx="8686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reports every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QF endorsed, locally vette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practice organizations and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Alliance to Cleveland Clin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organizations, 54 sites (42 reporting), 500+ PCPs (361 reporting) – virtually all SNPs, all FQH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-based practices manually abstracted .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-wide Achievement and Chang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(M’care, commercial, M’caid, uninsured),         Race (W, B, H, Other), Income and Education (addresses geo-linked to cens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site achievement and change by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table"/>
          <p:cNvPicPr/>
          <p:nvPr/>
        </p:nvPicPr>
        <p:blipFill>
          <a:blip r:embed="rId1"/>
          <a:srcRect l="2588" t="1839" r="3881" b="3678"/>
          <a:stretch/>
        </p:blipFill>
        <p:spPr>
          <a:xfrm>
            <a:off x="398520" y="690480"/>
            <a:ext cx="8339040" cy="592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76320" y="0"/>
            <a:ext cx="3133440" cy="615960"/>
          </a:xfrm>
          <a:prstGeom prst="rect">
            <a:avLst/>
          </a:prstGeom>
          <a:ln w="0">
            <a:noFill/>
          </a:ln>
        </p:spPr>
      </p:pic>
      <p:sp>
        <p:nvSpPr>
          <p:cNvPr id="80" name="Oval 4"/>
          <p:cNvSpPr/>
          <p:nvPr/>
        </p:nvSpPr>
        <p:spPr>
          <a:xfrm>
            <a:off x="3048120" y="1600200"/>
            <a:ext cx="83808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6019920" y="4038480"/>
            <a:ext cx="281916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6019920" y="5486400"/>
            <a:ext cx="281916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6019920" y="6248520"/>
            <a:ext cx="281916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3040" y="-1512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Diabetes - 200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20:07:53Z</dcterms:created>
  <dc:creator>rcebul</dc:creator>
  <dc:description/>
  <dc:language>en-US</dc:language>
  <cp:lastModifiedBy>DHHS</cp:lastModifiedBy>
  <dcterms:modified xsi:type="dcterms:W3CDTF">2009-12-04T18:04:27Z</dcterms:modified>
  <cp:revision>27</cp:revision>
  <dc:subject/>
  <dc:title>Attacking Chronic Disease in Greater Cleveland: Good News and Challenges</dc:title>
</cp:coreProperties>
</file>