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5BB2-2234-433F-9EC3-6AF1A7090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14F8-39A5-497D-B4C1-209EA3C5E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1AFA-6150-4707-8D96-318929821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4D06-17C3-4030-94ED-2E72D3D5E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95AD-8CED-4F2B-9A47-F3F62CFB9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3E1D-356E-4CCA-B4F9-4AF9A9FC8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172E-17E1-4A47-9FC1-AEC93A18D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FC5F-5358-48A6-A342-A3B828CC2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74E7-9AC9-4EC3-B173-89D9EA505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8111-54BB-4841-9C9F-67B858C69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CB2F-EAE5-4C3A-9245-7B7CF7C4D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9C56-F97D-49C2-9DA2-588B5AD7D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0840" indent="-146160"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5633-8F85-4658-8CA9-3D735A53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5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0840" indent="-146160"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novations.ahrq.gov/resources/resources.aspx" TargetMode="External"/><Relationship Id="rId2" Type="http://schemas.openxmlformats.org/officeDocument/2006/relationships/hyperlink" Target="http://www.innovations.ahrq.gov/resources/resources.aspx" TargetMode="External"/><Relationship Id="rId3" Type="http://schemas.openxmlformats.org/officeDocument/2006/relationships/hyperlink" Target="http://www.innovations.ahrq.gov/resources/resources.asp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E85-7260-44A4-AECC-D2DA4ED01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6697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ing a Patient Safety Mentor Progra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23" descr="This is the logo for the Christiana Care Health System."/>
          <p:cNvPicPr/>
          <p:nvPr/>
        </p:nvPicPr>
        <p:blipFill>
          <a:blip r:embed="rId1"/>
          <a:stretch/>
        </p:blipFill>
        <p:spPr>
          <a:xfrm>
            <a:off x="0" y="0"/>
            <a:ext cx="6019920" cy="131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2225160" y="4646520"/>
            <a:ext cx="47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ele Campbell, RN, MSM, CPHQ FA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Dir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Safety and Accredi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a Care Healt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A83-68BC-4C97-8D09-837392BCD0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649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baseline data to evaluate succ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ulture survey instrument strateg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impact selection of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mentors’ insights and perceptions promote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that safety culture is local,  multidimensional, and still evol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data at local and organizational levels can drive improv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45720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FB3D-EEAE-47C1-8779-63239136F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649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of culture survey instrument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survey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and understanding of staff affected data 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time peer-to-peer feedback depended on comfort level of staff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e of progress affected by turnover of front line staff who were safety men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708-F428-4808-A749-4AA01A5E11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42840" y="343080"/>
            <a:ext cx="48769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xt Steps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Journe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“On Boarding” and formalize recognitio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 “Fair and Just Culture” concep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progress using results from 200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HRQ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pital Survey on Patient Safety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frequency of measures for future validation of our suc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78A-849C-4812-AF8F-BE33DE279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496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Impetus for Safety </a:t>
            </a:r>
            <a:br>
              <a:rPr sz="3900"/>
            </a:b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Mentor Program</a:t>
            </a: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39840" y="1816200"/>
            <a:ext cx="2680920" cy="4704840"/>
            <a:chOff x="339840" y="1816200"/>
            <a:chExt cx="2680920" cy="4704840"/>
          </a:xfrm>
        </p:grpSpPr>
        <p:sp>
          <p:nvSpPr>
            <p:cNvPr id="92" name="Rectangle 5"/>
            <p:cNvSpPr/>
            <p:nvPr/>
          </p:nvSpPr>
          <p:spPr>
            <a:xfrm>
              <a:off x="480960" y="430308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80960" y="551304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480960" y="309312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480960" y="188316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339840" y="181620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Landmark</a:t>
              </a:r>
              <a:r>
                <a:rPr b="0" lang="en-US" sz="1800" spc="-1" strike="noStrike">
                  <a:solidFill>
                    <a:srgbClr val="00cc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339840" y="302616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Cultur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urve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339840" y="423612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Focu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Groups/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Cultur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Debriefin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ession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339840" y="544608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ty First Learning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 Data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2651400" y="1807920"/>
            <a:ext cx="1019520" cy="4585680"/>
            <a:chOff x="2651400" y="1807920"/>
            <a:chExt cx="1019520" cy="4585680"/>
          </a:xfrm>
        </p:grpSpPr>
        <p:sp>
          <p:nvSpPr>
            <p:cNvPr id="101" name="AutoShape 15"/>
            <p:cNvSpPr/>
            <p:nvPr/>
          </p:nvSpPr>
          <p:spPr>
            <a:xfrm rot="13693800">
              <a:off x="2791080" y="310860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rot="13693800">
              <a:off x="2791080" y="431892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 rot="13693800">
              <a:off x="2791440" y="1965600"/>
              <a:ext cx="73944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AutoShape 18"/>
            <p:cNvSpPr/>
            <p:nvPr/>
          </p:nvSpPr>
          <p:spPr>
            <a:xfrm rot="13693800">
              <a:off x="2791080" y="552924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Text Box 19"/>
          <p:cNvSpPr/>
          <p:nvPr/>
        </p:nvSpPr>
        <p:spPr>
          <a:xfrm>
            <a:off x="3809880" y="1905120"/>
            <a:ext cx="53341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rr is Human (IOM, 19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unitive response to err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ments made as a result of reportin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uctance to report err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ing an error was difficult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and severity of events and near mis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0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7FA-C531-40C8-B530-4EAC3D215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1724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als:  Safety Mentor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frontline staff to serve as ambassad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peer-to-peer feedback and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and promote error reporting, including near mi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e harm to our patie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2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85C-EED9-478E-9007-0EBC04AE4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5173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 of the Safety Mentor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organizational buy-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safety mentor r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educational and training nee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frequency and content of mee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d implement data collection plan/too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how to evaluate inno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415-6772-4613-BEEA-9426F35F8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ations for Adop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entors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protected time for data col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on front-lin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l it Work Her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cisionmaker’s Guide to Adopting Inno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ww.innovations.ahrq.gov/resources/resources.a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C_Health System_Logo_Color"/>
          <p:cNvPicPr/>
          <p:nvPr/>
        </p:nvPicPr>
        <p:blipFill>
          <a:blip r:embed="rId4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5BAC-E1E7-4528-BA9D-23FD39691E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4" descr="This is a graph showing that there was a 17 percent increase in total events reported after the implementation of the safety mentor program in 2004 and the redesign of the reporting webform in July 2007."/>
          <p:cNvPicPr/>
          <p:nvPr/>
        </p:nvPicPr>
        <p:blipFill>
          <a:blip r:embed="rId1"/>
          <a:stretch/>
        </p:blipFill>
        <p:spPr>
          <a:xfrm>
            <a:off x="444600" y="2100240"/>
            <a:ext cx="820872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C_Health System_Logo_Color"/>
          <p:cNvPicPr/>
          <p:nvPr/>
        </p:nvPicPr>
        <p:blipFill>
          <a:blip r:embed="rId2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F70-89FF-4B8E-A44C-A8ABE501C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021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d reporting o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tion-related near mis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This is a bar graph depicting a 107 percent increase in reporting of medication-related near misses between 2003 and 2007."/>
          <p:cNvPicPr/>
          <p:nvPr/>
        </p:nvPicPr>
        <p:blipFill>
          <a:blip r:embed="rId1"/>
          <a:stretch/>
        </p:blipFill>
        <p:spPr>
          <a:xfrm>
            <a:off x="601560" y="2616120"/>
            <a:ext cx="783288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C_Health System_Logo_Color"/>
          <p:cNvPicPr/>
          <p:nvPr/>
        </p:nvPicPr>
        <p:blipFill>
          <a:blip r:embed="rId2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E9D3-D26F-4D66-972C-31506D9A4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wer events with major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ments in safety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matic decline in f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disciplinary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ception of improved patient safety an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8CF-E61B-4F5B-99F5-A68191609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1904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Uses Of Quantitative and Qualitative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506520" y="1981080"/>
            <a:ext cx="2680920" cy="4705560"/>
            <a:chOff x="506520" y="1981080"/>
            <a:chExt cx="2680920" cy="4705560"/>
          </a:xfrm>
        </p:grpSpPr>
        <p:sp>
          <p:nvSpPr>
            <p:cNvPr id="135" name="Rectangle 4"/>
            <p:cNvSpPr/>
            <p:nvPr/>
          </p:nvSpPr>
          <p:spPr>
            <a:xfrm>
              <a:off x="647640" y="446796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647640" y="567828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647640" y="325800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647640" y="204804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506520" y="198108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 Practic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Behavior Monitor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506520" y="319104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ty First 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506520" y="440100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Effectiveness of Saf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Mentor meeting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506520" y="561096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Focus Groups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2803680" y="1960200"/>
            <a:ext cx="1019520" cy="4585680"/>
            <a:chOff x="2803680" y="1960200"/>
            <a:chExt cx="1019520" cy="4585680"/>
          </a:xfrm>
        </p:grpSpPr>
        <p:sp>
          <p:nvSpPr>
            <p:cNvPr id="144" name="AutoShape 13"/>
            <p:cNvSpPr/>
            <p:nvPr/>
          </p:nvSpPr>
          <p:spPr>
            <a:xfrm rot="13693800">
              <a:off x="2943360" y="326088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14"/>
            <p:cNvSpPr/>
            <p:nvPr/>
          </p:nvSpPr>
          <p:spPr>
            <a:xfrm rot="13693800">
              <a:off x="2943360" y="447120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AutoShape 15"/>
            <p:cNvSpPr/>
            <p:nvPr/>
          </p:nvSpPr>
          <p:spPr>
            <a:xfrm rot="13693800">
              <a:off x="2943720" y="2117880"/>
              <a:ext cx="73944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6"/>
            <p:cNvSpPr/>
            <p:nvPr/>
          </p:nvSpPr>
          <p:spPr>
            <a:xfrm rot="13693800">
              <a:off x="2943360" y="568152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Text Box 17"/>
          <p:cNvSpPr/>
          <p:nvPr/>
        </p:nvSpPr>
        <p:spPr>
          <a:xfrm>
            <a:off x="3933720" y="2044800"/>
            <a:ext cx="528660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iew ques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e of completion and navigatio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da i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ments and suggestion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 feedback on safety  project design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and strategie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18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20:00:54Z</dcterms:created>
  <dc:creator>Campbell</dc:creator>
  <dc:description/>
  <cp:keywords>innovation data evidence</cp:keywords>
  <dc:language>en-US</dc:language>
  <cp:lastModifiedBy>cglenden</cp:lastModifiedBy>
  <dcterms:modified xsi:type="dcterms:W3CDTF">2009-10-28T17:53:51Z</dcterms:modified>
  <cp:revision>79</cp:revision>
  <dc:subject>Webcast for Innovations Exchange</dc:subject>
  <dc:title>Improving Innovations</dc:title>
</cp:coreProperties>
</file>