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C75E-F6D2-4358-A4A6-DBFA897AB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7063-BDB4-4717-84DF-09A5465E0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09E6-3363-4179-9C4D-F7AED88B3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3E33-F5AA-41D2-9DAC-E7868C3C2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F71A-BEA3-4573-8A0D-EACF3339E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A7D5-CE1C-4351-8C00-8AB5F7963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C481-65DD-4FB8-B8D9-86BAEF835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8121-86E5-4F7C-ABB9-4180DC261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FDBC-4AC5-4014-A4D9-D877E33E6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9BB2-535C-484C-9998-91B23A922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C250-53DA-46BC-A2BD-F939D4BC8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6112-D3B3-4309-9872-8053229FD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40840" indent="-146160"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D9E6-F2B1-4586-A682-5B4C40B33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3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5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40840" indent="-146160"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60440" indent="-14616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novations.ahrq.gov/resources/resources.aspx" TargetMode="External"/><Relationship Id="rId2" Type="http://schemas.openxmlformats.org/officeDocument/2006/relationships/hyperlink" Target="http://www.innovations.ahrq.gov/resources/resources.aspx" TargetMode="External"/><Relationship Id="rId3" Type="http://schemas.openxmlformats.org/officeDocument/2006/relationships/hyperlink" Target="http://www.innovations.ahrq.gov/resources/resources.aspx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A4CE-34A7-4889-95CA-B2D468470D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6697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ing a Patient Safety Mentor Progra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23" descr="This is the logo for the Christiana Care Health System."/>
          <p:cNvPicPr/>
          <p:nvPr/>
        </p:nvPicPr>
        <p:blipFill>
          <a:blip r:embed="rId1"/>
          <a:stretch/>
        </p:blipFill>
        <p:spPr>
          <a:xfrm>
            <a:off x="0" y="0"/>
            <a:ext cx="6019920" cy="131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5"/>
          <p:cNvSpPr/>
          <p:nvPr/>
        </p:nvSpPr>
        <p:spPr>
          <a:xfrm>
            <a:off x="2225160" y="4646520"/>
            <a:ext cx="47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hele Campbell, RN, MSM, CPHQ FA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Dire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 Safety and Accredi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istiana Care Health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7F64-100E-41AF-B77D-90AF07F398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6496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sons Learn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baseline data to evaluate succ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culture survey instrument strategic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impact selection of meas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ty mentors’ insights and perceptions promote lea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e that safety culture is local,  multidimensional, and still evolv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ing data at local and organizational levels can drive improv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5" descr="CC_Health System_Logo_Color"/>
          <p:cNvPicPr/>
          <p:nvPr/>
        </p:nvPicPr>
        <p:blipFill>
          <a:blip r:embed="rId1"/>
          <a:stretch/>
        </p:blipFill>
        <p:spPr>
          <a:xfrm>
            <a:off x="0" y="45720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7B77-8989-4907-B9D1-C4919E87C7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6496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ty of culture survey instruments uti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surveys utiliz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lls and understanding of staff affected data integr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time peer-to-peer feedback depended on comfort level of staff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e of progress affected by turnover of front line staff who were safety men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CC_Health System_Logo_Color"/>
          <p:cNvPicPr/>
          <p:nvPr/>
        </p:nvPicPr>
        <p:blipFill>
          <a:blip r:embed="rId1"/>
          <a:stretch/>
        </p:blipFill>
        <p:spPr>
          <a:xfrm>
            <a:off x="0" y="38088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F10D-A3C6-48ED-9145-5225C139C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42840" y="343080"/>
            <a:ext cx="48769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xt Steps i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Journe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“On Boarding” and formalize recognition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 “Fair and Just Culture” concep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 progress using results from 200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AHRQ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pital Survey on Patient Safety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frequency of measures for future validation of our suc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CC_Health System_Logo_Color"/>
          <p:cNvPicPr/>
          <p:nvPr/>
        </p:nvPicPr>
        <p:blipFill>
          <a:blip r:embed="rId1"/>
          <a:stretch/>
        </p:blipFill>
        <p:spPr>
          <a:xfrm>
            <a:off x="0" y="38088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40DB-831A-44F1-966C-7F107C404A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64960" y="34308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Arial"/>
              </a:rPr>
              <a:t>Impetus for Safety </a:t>
            </a:r>
            <a:br>
              <a:rPr sz="3900"/>
            </a:br>
            <a:r>
              <a:rPr b="1" lang="en-US" sz="3900" spc="-1" strike="noStrike">
                <a:solidFill>
                  <a:srgbClr val="ffff00"/>
                </a:solidFill>
                <a:latin typeface="Arial"/>
              </a:rPr>
              <a:t>Mentor Program</a:t>
            </a:r>
            <a:endParaRPr b="1" lang="en-US" sz="39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39840" y="1816200"/>
            <a:ext cx="2680920" cy="4704840"/>
            <a:chOff x="339840" y="1816200"/>
            <a:chExt cx="2680920" cy="4704840"/>
          </a:xfrm>
        </p:grpSpPr>
        <p:sp>
          <p:nvSpPr>
            <p:cNvPr id="92" name="Rectangle 5"/>
            <p:cNvSpPr/>
            <p:nvPr/>
          </p:nvSpPr>
          <p:spPr>
            <a:xfrm>
              <a:off x="480960" y="4303080"/>
              <a:ext cx="2539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480960" y="5513040"/>
              <a:ext cx="2539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480960" y="3093120"/>
              <a:ext cx="2539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480960" y="1883160"/>
              <a:ext cx="2539800" cy="100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>
              <a:off x="339840" y="1816200"/>
              <a:ext cx="2539800" cy="10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Landmark</a:t>
              </a:r>
              <a:r>
                <a:rPr b="0" lang="en-US" sz="1800" spc="-1" strike="noStrike">
                  <a:solidFill>
                    <a:srgbClr val="00cc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Report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339840" y="3026160"/>
              <a:ext cx="2539800" cy="10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Cultur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urve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339840" y="4236120"/>
              <a:ext cx="2539800" cy="10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Focu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Groups/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Cultur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Debriefin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ession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339840" y="5446080"/>
              <a:ext cx="2539800" cy="10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afety First Learning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Report Data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2651400" y="1807920"/>
            <a:ext cx="1019520" cy="4585680"/>
            <a:chOff x="2651400" y="1807920"/>
            <a:chExt cx="1019520" cy="4585680"/>
          </a:xfrm>
        </p:grpSpPr>
        <p:sp>
          <p:nvSpPr>
            <p:cNvPr id="101" name="AutoShape 15"/>
            <p:cNvSpPr/>
            <p:nvPr/>
          </p:nvSpPr>
          <p:spPr>
            <a:xfrm rot="13693800">
              <a:off x="2791080" y="310860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AutoShape 16"/>
            <p:cNvSpPr/>
            <p:nvPr/>
          </p:nvSpPr>
          <p:spPr>
            <a:xfrm rot="13693800">
              <a:off x="2791080" y="431892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AutoShape 17"/>
            <p:cNvSpPr/>
            <p:nvPr/>
          </p:nvSpPr>
          <p:spPr>
            <a:xfrm rot="13693800">
              <a:off x="2791440" y="1965600"/>
              <a:ext cx="73944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AutoShape 18"/>
            <p:cNvSpPr/>
            <p:nvPr/>
          </p:nvSpPr>
          <p:spPr>
            <a:xfrm rot="13693800">
              <a:off x="2791080" y="552924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Text Box 19"/>
          <p:cNvSpPr/>
          <p:nvPr/>
        </p:nvSpPr>
        <p:spPr>
          <a:xfrm>
            <a:off x="3809880" y="1905120"/>
            <a:ext cx="53341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rr is Human (IOM, 199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punitive response to erro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ments made as a result of reporting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uctance to report err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ing an error was difficult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me and severity of events and near mis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0" descr="CC_Health System_Logo_Color"/>
          <p:cNvPicPr/>
          <p:nvPr/>
        </p:nvPicPr>
        <p:blipFill>
          <a:blip r:embed="rId1"/>
          <a:stretch/>
        </p:blipFill>
        <p:spPr>
          <a:xfrm>
            <a:off x="0" y="38088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F596-3B70-435B-819F-92849D0A17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17240" y="34308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als:  Safety Mentor Progra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 frontline staff to serve as ambassad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peer-to-peer feedback and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and promote error reporting, including near mi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igate harm to our patie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2" descr="CC_Health System_Logo_Color"/>
          <p:cNvPicPr/>
          <p:nvPr/>
        </p:nvPicPr>
        <p:blipFill>
          <a:blip r:embed="rId1"/>
          <a:stretch/>
        </p:blipFill>
        <p:spPr>
          <a:xfrm>
            <a:off x="0" y="38088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D7B0-F86E-423E-808B-4BAC0FC1B0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5173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sign of the Safety Mentor Progra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e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organizational buy-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safety mentor r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educational and training nee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frequency and content of mee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nd implement data collection plan/too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how to evaluate inno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CC_Health System_Logo_Color"/>
          <p:cNvPicPr/>
          <p:nvPr/>
        </p:nvPicPr>
        <p:blipFill>
          <a:blip r:embed="rId1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3227-3EF2-4B0F-9816-3388794298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5097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iderations for Adopt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mentors carefu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protected time for data coll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on front-line in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ll it Work Her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ecisionmaker’s Guide to Adopting Innov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ww.innovations.ahrq.gov/resources/resources.a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CC_Health System_Logo_Color"/>
          <p:cNvPicPr/>
          <p:nvPr/>
        </p:nvPicPr>
        <p:blipFill>
          <a:blip r:embed="rId4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9ED-2CE3-4C75-B870-C2BD3627B2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5097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alidation Of Our Suc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Picture 4" descr="This is a graph showing that there was a 17 percent increase in total events reported after the implementation of the safety mentor program in 2004 and the redesign of the reporting webform in July 2007."/>
          <p:cNvPicPr/>
          <p:nvPr/>
        </p:nvPicPr>
        <p:blipFill>
          <a:blip r:embed="rId1"/>
          <a:stretch/>
        </p:blipFill>
        <p:spPr>
          <a:xfrm>
            <a:off x="444600" y="2100240"/>
            <a:ext cx="8208720" cy="363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C_Health System_Logo_Color"/>
          <p:cNvPicPr/>
          <p:nvPr/>
        </p:nvPicPr>
        <p:blipFill>
          <a:blip r:embed="rId2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C16D-95D0-4035-B11B-2C8653DA88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5021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alidation Of Our Suc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roved reporting o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tion-related near mis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This is a bar graph depicting a 107 percent increase in reporting of medication-related near misses between 2003 and 2007."/>
          <p:cNvPicPr/>
          <p:nvPr/>
        </p:nvPicPr>
        <p:blipFill>
          <a:blip r:embed="rId1"/>
          <a:stretch/>
        </p:blipFill>
        <p:spPr>
          <a:xfrm>
            <a:off x="601560" y="2616120"/>
            <a:ext cx="7832880" cy="3595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C_Health System_Logo_Color"/>
          <p:cNvPicPr/>
          <p:nvPr/>
        </p:nvPicPr>
        <p:blipFill>
          <a:blip r:embed="rId2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A95D-0C39-447D-A2FE-BF64D3FE5E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5097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alidation Of Our Succ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wer events with major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rovements in safety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amatic decline in f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 disciplinary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ception of improved patient safety an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C_Health System_Logo_Color"/>
          <p:cNvPicPr/>
          <p:nvPr/>
        </p:nvPicPr>
        <p:blipFill>
          <a:blip r:embed="rId1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F778-1B02-45CC-8B37-9787D98FFF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419040"/>
            <a:ext cx="6095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ther Uses Of Quantitative and Qualitative Dat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506520" y="1981080"/>
            <a:ext cx="2680920" cy="4705560"/>
            <a:chOff x="506520" y="1981080"/>
            <a:chExt cx="2680920" cy="4705560"/>
          </a:xfrm>
        </p:grpSpPr>
        <p:sp>
          <p:nvSpPr>
            <p:cNvPr id="135" name="Rectangle 4"/>
            <p:cNvSpPr/>
            <p:nvPr/>
          </p:nvSpPr>
          <p:spPr>
            <a:xfrm>
              <a:off x="647640" y="4467960"/>
              <a:ext cx="2539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5"/>
            <p:cNvSpPr/>
            <p:nvPr/>
          </p:nvSpPr>
          <p:spPr>
            <a:xfrm>
              <a:off x="647640" y="5678280"/>
              <a:ext cx="2539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647640" y="3258000"/>
              <a:ext cx="2539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647640" y="2048040"/>
              <a:ext cx="2539800" cy="1008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8"/>
            <p:cNvSpPr/>
            <p:nvPr/>
          </p:nvSpPr>
          <p:spPr>
            <a:xfrm>
              <a:off x="506520" y="1981080"/>
              <a:ext cx="2539800" cy="100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afe Practic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Behavior Monitor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9"/>
            <p:cNvSpPr/>
            <p:nvPr/>
          </p:nvSpPr>
          <p:spPr>
            <a:xfrm>
              <a:off x="506520" y="3191040"/>
              <a:ext cx="2539800" cy="100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afety First Learn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Report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506520" y="4401000"/>
              <a:ext cx="2539800" cy="100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Effectiveness of Saf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Mentor meeting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>
              <a:off x="506520" y="5610960"/>
              <a:ext cx="2539800" cy="100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Focus Groups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2803680" y="1960200"/>
            <a:ext cx="1019520" cy="4585680"/>
            <a:chOff x="2803680" y="1960200"/>
            <a:chExt cx="1019520" cy="4585680"/>
          </a:xfrm>
        </p:grpSpPr>
        <p:sp>
          <p:nvSpPr>
            <p:cNvPr id="144" name="AutoShape 13"/>
            <p:cNvSpPr/>
            <p:nvPr/>
          </p:nvSpPr>
          <p:spPr>
            <a:xfrm rot="13693800">
              <a:off x="2943360" y="326088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AutoShape 14"/>
            <p:cNvSpPr/>
            <p:nvPr/>
          </p:nvSpPr>
          <p:spPr>
            <a:xfrm rot="13693800">
              <a:off x="2943360" y="447120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AutoShape 15"/>
            <p:cNvSpPr/>
            <p:nvPr/>
          </p:nvSpPr>
          <p:spPr>
            <a:xfrm rot="13693800">
              <a:off x="2943720" y="2117880"/>
              <a:ext cx="73944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16"/>
            <p:cNvSpPr/>
            <p:nvPr/>
          </p:nvSpPr>
          <p:spPr>
            <a:xfrm rot="13693800">
              <a:off x="2943360" y="5681520"/>
              <a:ext cx="739800" cy="70632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Text Box 17"/>
          <p:cNvSpPr/>
          <p:nvPr/>
        </p:nvSpPr>
        <p:spPr>
          <a:xfrm>
            <a:off x="3933720" y="2044800"/>
            <a:ext cx="5286600" cy="52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iew ques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e of completion and navigatio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nda i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ments and suggestions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litative feedback on safety  project design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and strategies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18" descr="CC_Health System_Logo_Color"/>
          <p:cNvPicPr/>
          <p:nvPr/>
        </p:nvPicPr>
        <p:blipFill>
          <a:blip r:embed="rId1"/>
          <a:stretch/>
        </p:blipFill>
        <p:spPr>
          <a:xfrm>
            <a:off x="0" y="365040"/>
            <a:ext cx="25146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20:00:54Z</dcterms:created>
  <dc:creator>Campbell</dc:creator>
  <dc:description/>
  <cp:keywords>innovation data evidence</cp:keywords>
  <dc:language>en-US</dc:language>
  <cp:lastModifiedBy>cglenden</cp:lastModifiedBy>
  <dcterms:modified xsi:type="dcterms:W3CDTF">2009-10-28T17:53:51Z</dcterms:modified>
  <cp:revision>79</cp:revision>
  <dc:subject>Webcast for Innovations Exchange</dc:subject>
  <dc:title>Improving Innovations</dc:title>
</cp:coreProperties>
</file>