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8682-D7A2-4D2A-BF39-03EB907D6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E5A9-BED7-43E4-889F-0EE22D56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4098-877D-4ADA-A484-C5E511FE8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3012-890E-4BED-8354-489DA9B3E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78C9-093C-428D-A2AD-4B68D61B6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7DF4-6806-4BB3-83C0-1A3F5946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263C-8102-400D-8C76-49D564B8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C40E-A8A3-4820-9BD5-737E1AB6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1EE8-954B-4B1D-8CA1-4C42E59C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DDB9-BE50-4BB2-BC29-BDE49A77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D90F-E400-4B14-A710-1159B658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5932-16F6-4036-B4E0-1B67A8FA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F9AC-53F1-4096-8AEA-9FF6ED04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B8F6-3AC5-4757-B6DD-CA8F8D7A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BD98-5719-47B8-83FD-CB1BFC1C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BD36-66F3-4EA4-A360-990BB60BF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BE62-C968-44F3-B8E3-D0DCCE5DA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57F3-F4E2-4C7B-B1A1-EAC80ABF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4AF6-DB18-4D02-A729-9D863A09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1D2B-ABFF-43BA-9F37-15161F67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0843-82D4-4F78-85DD-4E9A1FEF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840D-49B9-4B00-9DF3-A34BFBDF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2A80-CD81-41D7-8BEF-7DF59BC7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A432-17A1-445A-829F-4C7FB167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2881-794A-4AE2-90C3-DBF6EE689C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2CD0-3177-494F-B31C-CDA5B72909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-aap.net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iaid.nih.gov/newsroom/focuson/asthma01/default.htm" TargetMode="External"/><Relationship Id="rId2" Type="http://schemas.openxmlformats.org/officeDocument/2006/relationships/hyperlink" Target="http://www.niaid.nih.gov/newsroom/focuson/asthma01/basics.htm#stats" TargetMode="External"/><Relationship Id="rId3" Type="http://schemas.openxmlformats.org/officeDocument/2006/relationships/hyperlink" Target="http://www.lungusa.org/asthma/aduasthmfac99.html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corporating an electronic Asthma Action Plan (e-AAP) into an Electronic Health Record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-or-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ringing clinical guidelines to the point of care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335232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il M Brottman M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or, Pediatric Pulmonary Medicine.  Hennepin County Medical Ce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-PI HIT Asthma Pro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105520"/>
            <a:ext cx="9144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iscah Bracha, 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earch Director, Center for Urban Health. Mpls Medical Research Fou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ct Director HIT Asthma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ritten AAP: Part of the EH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rtant chronic care docu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meds for asthma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ient actions in response to increased symptoms &amp; respiratory dist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nic &amp; provider names &amp; telephone nu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llow-up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thma registry cre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ates asthma QI and population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ummary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-AAP: A novel technology that brings clinical guidelines to the point of c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ment identified key issues for guideline dissemination in the “Age of EHR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-AAP has good potential to improve patient-provider communication and patient activation, but further evaluation i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r more information go to our website: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e-aap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7391520" y="632448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T Asthma Te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ime contractor: 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enver Health and Hospital Associ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ubcontractor: 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inneapolis Medical Research Foundation.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ject site: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Hennepin County Medical Center, Mpls M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HRQ Contract No.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HSA290200600020, Task Order No. 5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0481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4520" indent="-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Tahoma"/>
                <a:ea typeface="ＭＳ Ｐゴシック"/>
              </a:rPr>
              <a:t>Staff and contractors – Minneapolis Medical Research Fou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Gail Brottman, M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(Director, Pediatric Pulmonology, HCM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Kevin Larsen, M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(Chief Medical Informatics Officer, HCM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Yiscah Bracha, M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(Research Director, Center for Urban Heal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Cherylee Sherry, MP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(Project Manager, Pediatric Research &amp; Advocacy HCMC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MaryAnn Jagodzinski, RN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Implementation Coordina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Touch Thou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(Administrative Manager, Center for Urban Heal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Angeline Carlson, Ph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(Principle, Data Intelligence In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133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4520" indent="-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Tahoma"/>
                <a:ea typeface="ＭＳ Ｐゴシック"/>
              </a:rPr>
              <a:t>Staff – Denver Health and Hospital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Sheri Eisert, Ph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(Director, Health Services Resear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Michael (Josh) Durfe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(Research Projects Coordinator, Health Services Resear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52578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4520" indent="-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Tahoma"/>
                <a:ea typeface="ＭＳ Ｐゴシック"/>
              </a:rPr>
              <a:t>Contributors of Ideas, Information &amp; Effo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5543640"/>
            <a:ext cx="914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452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ichael Barbouche </a:t>
            </a:r>
            <a:r>
              <a:rPr b="0" lang="en-US" sz="1600" spc="-1" strike="noStrike">
                <a:solidFill>
                  <a:srgbClr val="808080"/>
                </a:solidFill>
                <a:latin typeface="Tahoma"/>
                <a:ea typeface="ＭＳ Ｐゴシック"/>
              </a:rPr>
              <a:t>(University of Wisconsin Medical Foundation);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obert Grundmeier, MD </a:t>
            </a:r>
            <a:r>
              <a:rPr b="0" lang="en-US" sz="1600" spc="-1" strike="noStrike">
                <a:solidFill>
                  <a:srgbClr val="808080"/>
                </a:solidFill>
                <a:latin typeface="Tahoma"/>
                <a:ea typeface="ＭＳ Ｐゴシック"/>
              </a:rPr>
              <a:t>(Children’s Hospital of Philadelphia);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ichael Kahn, MD, PhD </a:t>
            </a:r>
            <a:r>
              <a:rPr b="0" lang="en-US" sz="1600" spc="-1" strike="noStrike">
                <a:solidFill>
                  <a:srgbClr val="808080"/>
                </a:solidFill>
                <a:latin typeface="Tahoma"/>
                <a:ea typeface="ＭＳ Ｐゴシック"/>
              </a:rPr>
              <a:t>(Denver Children’s Hospit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onald Uden, PharmD </a:t>
            </a:r>
            <a:r>
              <a:rPr b="0" lang="en-US" sz="1600" spc="-1" strike="noStrike">
                <a:solidFill>
                  <a:srgbClr val="808080"/>
                </a:solidFill>
                <a:latin typeface="Tahoma"/>
                <a:ea typeface="ＭＳ Ｐゴシック"/>
              </a:rPr>
              <a:t>(University of Minnesota)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aith Dohman, RN </a:t>
            </a:r>
            <a:r>
              <a:rPr b="0" lang="en-US" sz="1600" spc="-1" strike="noStrike">
                <a:solidFill>
                  <a:srgbClr val="808080"/>
                </a:solidFill>
                <a:latin typeface="Tahoma"/>
                <a:ea typeface="ＭＳ Ｐゴシック"/>
              </a:rPr>
              <a:t>(Hennepin Faculty Associates);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usan Ross, RN </a:t>
            </a:r>
            <a:r>
              <a:rPr b="0" lang="en-US" sz="1600" spc="-1" strike="noStrike">
                <a:solidFill>
                  <a:srgbClr val="808080"/>
                </a:solidFill>
                <a:latin typeface="Tahoma"/>
                <a:ea typeface="ＭＳ Ｐゴシック"/>
              </a:rPr>
              <a:t>(Minnesota Department of Healt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27040" y="304920"/>
            <a:ext cx="7793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Asthma: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n Important Chronic Diseas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m asthmatics in the US &amp; risin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year, asthmatics h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million emergency room visit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00,000 hospitalization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imated cos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$9.4 bill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rect $4.6 billi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thma mortality rates &gt; doubled: 1979-1990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5867280"/>
            <a:ext cx="868680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tional Institute of Allergy and Infectious Disease. Focus on Asthma.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niaid.nih.gov/newsroom/focuson/asthma01/default.htm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tional Institute of Allergy and Infectious Disease. Focus on Asthma.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niaid.nih.gov/newsroom/focuson/asthma01/basics.htm#stats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erican Lung Association Fact Sheet: Asthma in Adults. March 2003. Available at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lungusa.org/asthma/aduasthmfac99.html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People suffer with poorly controlled asthm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Daily impairment from asthma*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ssing school or work: 49% of children, 25% of adul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king with breathing problems at least weekly:  30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mited participation i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orts &amp; recreation (48%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physical exertion (36%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cial activities (25%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6172200"/>
            <a:ext cx="738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Researchers 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sthma in America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5331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 Achieve Asthma Control…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tients need 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oid asthma trigg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aily medication to reduce lung inflam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 what to do if developing increased asthma sympto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quick relie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oral corticosteroids if necess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ow do providers help patients achieve asthma control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EPP EPR-3 guidelines recommen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andardized approa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scribe daily meds based on symptom seve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ch patients about different asthma m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 controller is and when to ta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 reliever is and when to ta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w patients how to use an inha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 patients a written plan for what to do every day, what to in case of dist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NAEPP Asthma Guidelin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recent release in 2007 (EPR-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ngthy written docu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17 pages of narration &amp; refer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ed by topic rather than work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ations difficult to summar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usable summary inhibits implementation during patient c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e-AAP: 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sthma decision support from EH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lines “translated” into executabl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unched during patient encounter from EH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s &amp; assis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patient-provider commun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atment plan/medication se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ten (English or Spanish) chronic care document (Asthma Action Pla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ess note for provider docu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0" y="152280"/>
            <a:ext cx="9067680" cy="6705720"/>
            <a:chOff x="0" y="152280"/>
            <a:chExt cx="9067680" cy="670572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rcRect l="0" t="21878" r="12939" b="11754"/>
            <a:stretch/>
          </p:blipFill>
          <p:spPr>
            <a:xfrm>
              <a:off x="0" y="514440"/>
              <a:ext cx="9067680" cy="634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3124080" y="152280"/>
              <a:ext cx="5791320" cy="146232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50000">
                  <a:srgbClr val="fef3c5"/>
                </a:gs>
                <a:gs pos="100000">
                  <a:srgbClr val="ffcf0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Tahoma"/>
                </a:rPr>
                <a:t>Sample screen:  </a:t>
              </a:r>
              <a:br>
                <a:rPr sz="3200"/>
              </a:br>
              <a:r>
                <a:rPr b="0" lang="en-US" sz="3200" spc="-1" strike="noStrike">
                  <a:solidFill>
                    <a:srgbClr val="333399"/>
                  </a:solidFill>
                  <a:latin typeface="Tahoma"/>
                </a:rPr>
                <a:t>Assessing asthma contro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19560" y="6476760"/>
            <a:ext cx="296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ahoma"/>
              </a:rPr>
              <a:t>Sample screen: Assessing asthma control</a:t>
            </a: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Image: Graphic depicting asthma action plan for patient Frances Child."/>
          <p:cNvPicPr/>
          <p:nvPr/>
        </p:nvPicPr>
        <p:blipFill>
          <a:blip r:embed="rId1"/>
          <a:srcRect l="28871" t="10922" r="36220" b="41754"/>
          <a:stretch/>
        </p:blipFill>
        <p:spPr>
          <a:xfrm>
            <a:off x="7920" y="14400"/>
            <a:ext cx="9136080" cy="68436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14840" y="228240"/>
            <a:ext cx="1668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ahoma"/>
              </a:rPr>
              <a:t>My Asthma Action Plan</a:t>
            </a: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01:55:30Z</dcterms:created>
  <dc:creator>HIT Asthma Project</dc:creator>
  <dc:description/>
  <dc:language>en-US</dc:language>
  <cp:lastModifiedBy>Tanya</cp:lastModifiedBy>
  <dcterms:modified xsi:type="dcterms:W3CDTF">2009-10-28T23:18:56Z</dcterms:modified>
  <cp:revision>53</cp:revision>
  <dc:subject/>
  <dc:title>Incorporating the electronic Asthma Action Plan (e-AAP) into patient care</dc:title>
</cp:coreProperties>
</file>