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2F7-0BD4-41BB-958E-7AE4872B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EDF-4289-4C49-9F32-D35108F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CAF-64E0-4724-AF98-078891E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708-E89A-4D3D-B26E-DF86A65A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15F9-09BF-463D-A957-D159BED8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E152-0996-483E-AF1E-572A461F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140D-C641-4C7F-8E41-5B376922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04D-55BA-40EA-AA6F-03CBD062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CC87-E906-471F-AAA1-607876F7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B90C-2D9C-4E7F-BA1A-029204C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C9B-B523-4F79-A921-C0E0BA9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C7F-5822-4F54-BF80-F0426017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CE0C-ED3E-4C34-BECE-52724E4E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5D3-196B-4857-A1A9-3DE631A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5FF3-2F80-48D8-B2F5-6997A36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2D2-BE97-4608-9B47-DD358210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FCEB-DD5B-4678-8794-D5E98C02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2E3-B0CB-43BE-A197-7D52B66C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859-E056-4EA0-9B46-62CAEEA1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BAA-AF44-41A4-B9E7-D5D6452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1AB-64A9-4A04-A2A6-ABE30D9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25C-5E6C-488A-9785-E399803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FD8-7A36-4E0C-A962-4046CF7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9AE-4B9C-42D7-861D-3B1AB38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B0ED-FD84-443D-85C8-DDEE3757C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FC73-F657-4E6E-98CE-808FB883AB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-aap.net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aid.nih.gov/newsroom/focuson/asthma01/default.htm" TargetMode="External"/><Relationship Id="rId2" Type="http://schemas.openxmlformats.org/officeDocument/2006/relationships/hyperlink" Target="http://www.niaid.nih.gov/newsroom/focuson/asthma01/basics.htm#stats" TargetMode="External"/><Relationship Id="rId3" Type="http://schemas.openxmlformats.org/officeDocument/2006/relationships/hyperlink" Target="http://www.lungusa.org/asthma/aduasthmfac99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corporating an electronic Asthma Action Plan (e-AAP) into an Electronic Health Record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-or-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ringing clinical guidelines to the point of car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3352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il M Brottman M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, Pediatric Pulmonary Medicine.  Hennepin County Med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-PI HIT Asthma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055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iscah Bracha,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Director, Center for Urban Health. Mpls Medical Research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Director HIT Asthm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ritten AAP: Part of the EH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t chronic care docu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meds for asthma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actions in response to increased symptoms &amp; respiratory dist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nic &amp; provider names &amp; telephon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-up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hma registry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s asthma QI and population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AAP: A novel technology that brings clinical guidelines to the point of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identified key issues for guideline dissemination in the “Age of EHR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AAP has good potential to improve patient-provider communication and patient activation, but further evaluation i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more information go to our websit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e-aap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6324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T Asthma Te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me contractor: 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nver Health and Hospital Associ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bcontractor: 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nneapolis Medical Research Foundation.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ject site: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Hennepin County Medical Center, Mpls M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HRQ Contract No.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HSA290200600020, Task Order No. 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Staff and contractors – Minneapolis Medical Research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Gail Brottman, M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Director, Pediatric Pulmonology, HC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Kevin Larsen, M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Chief Medical Informatics Officer, HC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Yiscah Bracha, 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Research Director, Center for Urban Heal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herylee Sherry, MP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Project Manager, Pediatric Research &amp; Advocacy HCMC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aryAnn Jagodzinski, R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Implementation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Touch Thou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Administrative Manager, Center for Urban Heal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Angeline Carlson, Ph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Principle, Data Intelligence In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Staff – Denver Health and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Sheri Eisert, Ph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Director, Health Services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Michael (Josh) Durfe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(Research Projects Coordinator, Health Services Re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Tahoma"/>
                <a:ea typeface="ＭＳ Ｐゴシック"/>
              </a:rPr>
              <a:t>Contributors of Ideas, Information &amp; Eff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5436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chael Barbouche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University of Wisconsin Medical Foundation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obert Grundmeier, M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Children’s Hospital of Philadelphia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chael Kahn, MD, Ph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Denver Children’s Hospi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onald Uden, PharmD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University of Minnesota)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aith Dohman, RN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Hennepin Faculty Associates)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usan Ross, RN </a:t>
            </a:r>
            <a:r>
              <a:rPr b="0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(Minnesota Department of H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7040" y="304920"/>
            <a:ext cx="779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Asthma: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 Important Chronic Disea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m asthmatics in the US &amp; risin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year, asthmatics 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million emergency room visit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0,000 hospitalization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ted co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$9.4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$4.6 bill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thma mortality rates &gt; doubled: 1979-1990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86868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Allergy and Infectious Disease. Focus on Asthma.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niaid.nih.gov/newsroom/focuson/asthma01/default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Institute of Allergy and Infectious Disease. Focus on Asthma.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iaid.nih.gov/newsroom/focuson/asthma01/basics.htm#stats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Lung Association Fact Sheet: Asthma in Adults. March 2003. Available at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lungusa.org/asthma/aduasthmfac99.ht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eople suffer with poorly controlled asth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Daily impairment from asthma*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ng school or work: 49% of children, 25% of adul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king with breathing problems at least weekly:  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participation 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rts &amp; recreation (48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physical exertion (36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 activities (25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172200"/>
            <a:ext cx="738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esearchers 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thma in America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 Achieve Asthma Control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ients need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asthma trig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aily medication to reduce lung inflam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 what to do if developing increased asthma sympto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quick relie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oral corticosteroids if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do providers help patients achieve asthma control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EPP EPR-3 guidelines recommen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andardized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cribe daily meds based on symptom seve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 patients about different asthma m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 controller is and when to ta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 reliever is and when to ta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patients how to use an inha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patients a written plan for what to do every day, what to in case of di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NAEPP Asthma Guideli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cent release in 2007 (EPR-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y written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7 pages of narration &amp; 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d by topic rather than work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ations difficult to summar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usable summary inhibits implementation during patient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-AAP: 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sthma decision support from EH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lines “translated” into executabl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unched during patient encounter from E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s &amp; ass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patient-provider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ment plan/medication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(English or Spanish) chronic care document (Asthma Action Pl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ess note for provider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152280"/>
            <a:ext cx="9067680" cy="6705720"/>
            <a:chOff x="0" y="152280"/>
            <a:chExt cx="9067680" cy="67057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21878" r="12939" b="11754"/>
            <a:stretch/>
          </p:blipFill>
          <p:spPr>
            <a:xfrm>
              <a:off x="0" y="514440"/>
              <a:ext cx="9067680" cy="63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24080" y="152280"/>
              <a:ext cx="5791320" cy="146232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50000">
                  <a:srgbClr val="fef3c5"/>
                </a:gs>
                <a:gs pos="100000">
                  <a:srgbClr val="ffcf01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Sample screen:  </a:t>
              </a:r>
              <a:br>
                <a:rPr sz="3200"/>
              </a:br>
              <a:r>
                <a:rPr b="0" lang="en-US" sz="3200" spc="-1" strike="noStrike">
                  <a:solidFill>
                    <a:srgbClr val="333399"/>
                  </a:solidFill>
                  <a:latin typeface="Tahoma"/>
                </a:rPr>
                <a:t>Assessing asthma contr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19560" y="6476760"/>
            <a:ext cx="296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Sample screen: Assessing asthma control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Image: Graphic depicting asthma action plan for patient Frances Child."/>
          <p:cNvPicPr/>
          <p:nvPr/>
        </p:nvPicPr>
        <p:blipFill>
          <a:blip r:embed="rId1"/>
          <a:srcRect l="28871" t="10922" r="36220" b="41754"/>
          <a:stretch/>
        </p:blipFill>
        <p:spPr>
          <a:xfrm>
            <a:off x="7920" y="14400"/>
            <a:ext cx="9136080" cy="6843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4840" y="228240"/>
            <a:ext cx="1668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ahoma"/>
              </a:rPr>
              <a:t>My Asthma Action Plan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1:55:30Z</dcterms:created>
  <dc:creator>HIT Asthma Project</dc:creator>
  <dc:description/>
  <dc:language>en-US</dc:language>
  <cp:lastModifiedBy>Tanya</cp:lastModifiedBy>
  <dcterms:modified xsi:type="dcterms:W3CDTF">2009-10-28T23:18:56Z</dcterms:modified>
  <cp:revision>53</cp:revision>
  <dc:subject/>
  <dc:title>Incorporating the electronic Asthma Action Plan (e-AAP) into patient care</dc:title>
</cp:coreProperties>
</file>